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-3606840" y="0"/>
            <a:ext cx="21170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3"/>
          <a:stretch/>
        </p:blipFill>
        <p:spPr>
          <a:xfrm>
            <a:off x="-3606840" y="0"/>
            <a:ext cx="21170880" cy="9144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5481360" y="3359160"/>
            <a:ext cx="54316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edieval Theme</a:t>
            </a:r>
            <a:endParaRPr b="0" lang="en-US" sz="55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255920" y="4718160"/>
            <a:ext cx="831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 rot="2694600">
            <a:off x="6303600" y="1666800"/>
            <a:ext cx="5727600" cy="57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"/>
          <p:cNvSpPr/>
          <p:nvPr/>
        </p:nvSpPr>
        <p:spPr>
          <a:xfrm>
            <a:off x="1062000" y="4187880"/>
            <a:ext cx="592200" cy="595080"/>
          </a:xfrm>
          <a:prstGeom prst="ellipse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Line 2"/>
          <p:cNvSpPr/>
          <p:nvPr/>
        </p:nvSpPr>
        <p:spPr>
          <a:xfrm>
            <a:off x="1219320" y="4516560"/>
            <a:ext cx="13817520" cy="0"/>
          </a:xfrm>
          <a:prstGeom prst="line">
            <a:avLst/>
          </a:prstGeom>
          <a:ln w="38160">
            <a:solidFill>
              <a:srgbClr val="5e5a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Oval 3"/>
          <p:cNvSpPr/>
          <p:nvPr/>
        </p:nvSpPr>
        <p:spPr>
          <a:xfrm>
            <a:off x="14682960" y="4200480"/>
            <a:ext cx="591840" cy="595440"/>
          </a:xfrm>
          <a:prstGeom prst="ellipse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684520" y="4254480"/>
            <a:ext cx="473040" cy="47772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398600" y="3114720"/>
            <a:ext cx="3282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02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Oval 6"/>
          <p:cNvSpPr/>
          <p:nvPr/>
        </p:nvSpPr>
        <p:spPr>
          <a:xfrm>
            <a:off x="5875200" y="4270320"/>
            <a:ext cx="474840" cy="47772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180040" y="3114720"/>
            <a:ext cx="1822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8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Oval 8"/>
          <p:cNvSpPr/>
          <p:nvPr/>
        </p:nvSpPr>
        <p:spPr>
          <a:xfrm>
            <a:off x="7628040" y="4270320"/>
            <a:ext cx="473040" cy="47772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948360" y="3114720"/>
            <a:ext cx="1822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46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9972720" y="4270320"/>
            <a:ext cx="474480" cy="47772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9263160" y="3121200"/>
            <a:ext cx="1824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52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12939840" y="4254480"/>
            <a:ext cx="474480" cy="476280"/>
          </a:xfrm>
          <a:prstGeom prst="ellipse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2273120" y="3114720"/>
            <a:ext cx="1823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612</a:t>
            </a:r>
            <a:br>
              <a:rPr sz="1600"/>
            </a:br>
            <a:r>
              <a:rPr b="0" lang="en-US" sz="1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Year</a:t>
            </a:r>
            <a:endParaRPr b="0" lang="en-US" sz="1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11600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077840" y="1495440"/>
            <a:ext cx="140590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079640" y="5648400"/>
            <a:ext cx="140587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"/>
          <p:cNvSpPr/>
          <p:nvPr/>
        </p:nvSpPr>
        <p:spPr>
          <a:xfrm>
            <a:off x="1990800" y="4487760"/>
            <a:ext cx="10628280" cy="6480"/>
          </a:xfrm>
          <a:prstGeom prst="line">
            <a:avLst/>
          </a:prstGeom>
          <a:ln w="38160">
            <a:solidFill>
              <a:srgbClr val="5e5a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6" name="Oval 2"/>
          <p:cNvSpPr/>
          <p:nvPr/>
        </p:nvSpPr>
        <p:spPr>
          <a:xfrm>
            <a:off x="1782720" y="4268880"/>
            <a:ext cx="424080" cy="425520"/>
          </a:xfrm>
          <a:prstGeom prst="ellipse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476520" y="4275000"/>
            <a:ext cx="424080" cy="427320"/>
          </a:xfrm>
          <a:prstGeom prst="ellipse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5280120" y="4275000"/>
            <a:ext cx="423720" cy="427320"/>
          </a:xfrm>
          <a:prstGeom prst="ellipse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Oval 5"/>
          <p:cNvSpPr/>
          <p:nvPr/>
        </p:nvSpPr>
        <p:spPr>
          <a:xfrm>
            <a:off x="7083360" y="4262400"/>
            <a:ext cx="424080" cy="426960"/>
          </a:xfrm>
          <a:prstGeom prst="ellipse">
            <a:avLst/>
          </a:prstGeom>
          <a:solidFill>
            <a:srgbClr val="5e5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22200" y="3430440"/>
            <a:ext cx="151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75</a:t>
            </a: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%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978280" y="3429000"/>
            <a:ext cx="151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77</a:t>
            </a: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%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734000" y="3422520"/>
            <a:ext cx="151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78</a:t>
            </a: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%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489720" y="3419640"/>
            <a:ext cx="151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75</a:t>
            </a: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%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444680" y="4849920"/>
            <a:ext cx="1074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991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200400" y="4849920"/>
            <a:ext cx="1074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992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956120" y="4849920"/>
            <a:ext cx="1074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993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11840" y="4826160"/>
            <a:ext cx="1074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994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077840" y="5888160"/>
            <a:ext cx="715824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11600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11" name="Picture 17" descr=""/>
          <p:cNvPicPr/>
          <p:nvPr/>
        </p:nvPicPr>
        <p:blipFill>
          <a:blip r:embed="rId1"/>
          <a:stretch/>
        </p:blipFill>
        <p:spPr>
          <a:xfrm>
            <a:off x="7365960" y="2108160"/>
            <a:ext cx="873756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3"/>
          <p:cNvGrpSpPr/>
          <p:nvPr/>
        </p:nvGrpSpPr>
        <p:grpSpPr>
          <a:xfrm>
            <a:off x="679320" y="317520"/>
            <a:ext cx="236520" cy="8500680"/>
            <a:chOff x="679320" y="317520"/>
            <a:chExt cx="236520" cy="8500680"/>
          </a:xfrm>
        </p:grpSpPr>
        <p:sp>
          <p:nvSpPr>
            <p:cNvPr id="113" name="Line 1"/>
            <p:cNvSpPr/>
            <p:nvPr/>
          </p:nvSpPr>
          <p:spPr>
            <a:xfrm>
              <a:off x="684000" y="317520"/>
              <a:ext cx="0" cy="8500680"/>
            </a:xfrm>
            <a:prstGeom prst="line">
              <a:avLst/>
            </a:prstGeom>
            <a:ln w="25560">
              <a:solidFill>
                <a:srgbClr val="7c9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4" name="Rectangle 2"/>
            <p:cNvSpPr/>
            <p:nvPr/>
          </p:nvSpPr>
          <p:spPr>
            <a:xfrm>
              <a:off x="679320" y="3561120"/>
              <a:ext cx="236520" cy="6429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5630760" y="317520"/>
            <a:ext cx="237960" cy="8500680"/>
            <a:chOff x="5630760" y="317520"/>
            <a:chExt cx="237960" cy="8500680"/>
          </a:xfrm>
        </p:grpSpPr>
        <p:sp>
          <p:nvSpPr>
            <p:cNvPr id="116" name="Line 4"/>
            <p:cNvSpPr/>
            <p:nvPr/>
          </p:nvSpPr>
          <p:spPr>
            <a:xfrm>
              <a:off x="5632200" y="317520"/>
              <a:ext cx="0" cy="8500680"/>
            </a:xfrm>
            <a:prstGeom prst="line">
              <a:avLst/>
            </a:prstGeom>
            <a:ln w="25560">
              <a:solidFill>
                <a:srgbClr val="4752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5630760" y="3548520"/>
              <a:ext cx="237960" cy="64296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10447200" y="317520"/>
            <a:ext cx="237960" cy="8500680"/>
            <a:chOff x="10447200" y="317520"/>
            <a:chExt cx="237960" cy="8500680"/>
          </a:xfrm>
        </p:grpSpPr>
        <p:sp>
          <p:nvSpPr>
            <p:cNvPr id="119" name="Line 7"/>
            <p:cNvSpPr/>
            <p:nvPr/>
          </p:nvSpPr>
          <p:spPr>
            <a:xfrm>
              <a:off x="10450440" y="317520"/>
              <a:ext cx="0" cy="8500680"/>
            </a:xfrm>
            <a:prstGeom prst="line">
              <a:avLst/>
            </a:prstGeom>
            <a:ln w="25560">
              <a:solidFill>
                <a:srgbClr val="5e5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10447200" y="3548520"/>
              <a:ext cx="237960" cy="642960"/>
            </a:xfrm>
            <a:prstGeom prst="rect">
              <a:avLst/>
            </a:prstGeom>
            <a:solidFill>
              <a:srgbClr val="5e5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21" name="Rectangle 10"/>
          <p:cNvSpPr/>
          <p:nvPr/>
        </p:nvSpPr>
        <p:spPr>
          <a:xfrm>
            <a:off x="846000" y="4460760"/>
            <a:ext cx="43880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ecenas vitae ante quis, dapibus consectetur ipsum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rem ipsum dolor sit amet, consectetur adipiscing elit. Suspendisse hendrerit fermentum arcu, nec efficitur sem ultrices id. Praesent quis magna viverra turpis rutrum pellentesque in ac nulla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791320" y="4460760"/>
            <a:ext cx="438948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ecenas vitae ante quis, dapibus consectetur ipsum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rem ipsum dolor sit amet, consectetur adipiscing elit. Suspendisse hendrerit fermentum arcu, nec efficitur sem ultrices id. Praesent quis magna viverra turpis rutrum pellentesque in ac null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0636200" y="4460760"/>
            <a:ext cx="451476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ecenas vitae ante quis, dapibus consectetur ipsum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rem ipsum dolor sit amet, consectetur adipiscing elit. Suspendisse hendrerit fermentum arcu, nec efficitur sem ultrices id. Praesent quis magna viverra turpis rutrum pellentesque in ac null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074600" y="3668760"/>
            <a:ext cx="328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6032520" y="365616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10848960" y="3656160"/>
            <a:ext cx="328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848880" y="3565440"/>
            <a:ext cx="4056120" cy="3240"/>
          </a:xfrm>
          <a:prstGeom prst="line">
            <a:avLst/>
          </a:prstGeom>
          <a:ln w="25560">
            <a:solidFill>
              <a:srgbClr val="7c9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5790960" y="3551400"/>
            <a:ext cx="4141800" cy="4680"/>
          </a:xfrm>
          <a:prstGeom prst="line">
            <a:avLst/>
          </a:prstGeom>
          <a:ln w="25560">
            <a:solidFill>
              <a:srgbClr val="475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9" name="Line 18"/>
          <p:cNvSpPr/>
          <p:nvPr/>
        </p:nvSpPr>
        <p:spPr>
          <a:xfrm flipH="1" flipV="1">
            <a:off x="10604160" y="3556080"/>
            <a:ext cx="4809960" cy="7920"/>
          </a:xfrm>
          <a:prstGeom prst="line">
            <a:avLst/>
          </a:prstGeom>
          <a:ln w="25560">
            <a:solidFill>
              <a:srgbClr val="5e5a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30" name="Picture 19" descr=""/>
          <p:cNvPicPr/>
          <p:nvPr/>
        </p:nvPicPr>
        <p:blipFill>
          <a:blip r:embed="rId1"/>
          <a:stretch/>
        </p:blipFill>
        <p:spPr>
          <a:xfrm>
            <a:off x="2070000" y="10540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"/>
          <p:cNvPicPr/>
          <p:nvPr/>
        </p:nvPicPr>
        <p:blipFill>
          <a:blip r:embed="rId2"/>
          <a:stretch/>
        </p:blipFill>
        <p:spPr>
          <a:xfrm>
            <a:off x="11836440" y="11556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"/>
          <p:cNvPicPr/>
          <p:nvPr/>
        </p:nvPicPr>
        <p:blipFill>
          <a:blip r:embed="rId3"/>
          <a:stretch/>
        </p:blipFill>
        <p:spPr>
          <a:xfrm>
            <a:off x="7175520" y="10540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146240" y="3438360"/>
            <a:ext cx="90914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just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ivamus congue felis eget mauris convallis finibus. Duis pulvinar at massa imperdiet finibus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rem ipsum dolor sit amet, consectetur adipiscing elit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Aliquam a ullamcorper quam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Nulla scelerisque convallis malesuada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240680" y="2755800"/>
            <a:ext cx="101170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069920" y="7186680"/>
            <a:ext cx="14121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just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ailure is simply the opportunity to begin again, this time more intelligently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374920" y="4191120"/>
            <a:ext cx="2628720" cy="2412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>
            <a:off x="2374920" y="3568680"/>
            <a:ext cx="2628720" cy="444600"/>
          </a:xfrm>
          <a:prstGeom prst="roundRect">
            <a:avLst>
              <a:gd name="adj" fmla="val 4285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346720" y="4191120"/>
            <a:ext cx="5549760" cy="241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11239560" y="4191120"/>
            <a:ext cx="2628720" cy="24127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5346720" y="3568680"/>
            <a:ext cx="5549760" cy="444600"/>
          </a:xfrm>
          <a:prstGeom prst="roundRect">
            <a:avLst>
              <a:gd name="adj" fmla="val 4285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11239560" y="3568680"/>
            <a:ext cx="2628720" cy="444600"/>
          </a:xfrm>
          <a:prstGeom prst="roundRect">
            <a:avLst>
              <a:gd name="adj" fmla="val 42856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2035080" y="3419640"/>
            <a:ext cx="3365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ext 1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438960" y="3422520"/>
            <a:ext cx="3365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xt 2 goes here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0845720" y="3422520"/>
            <a:ext cx="3365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ext 3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1"/>
          <p:cNvSpPr/>
          <p:nvPr/>
        </p:nvSpPr>
        <p:spPr>
          <a:xfrm flipV="1">
            <a:off x="4068000" y="3683160"/>
            <a:ext cx="17640" cy="4551120"/>
          </a:xfrm>
          <a:prstGeom prst="line">
            <a:avLst/>
          </a:prstGeom>
          <a:ln w="25560">
            <a:solidFill>
              <a:srgbClr val="88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0" name="Line 2"/>
          <p:cNvSpPr/>
          <p:nvPr/>
        </p:nvSpPr>
        <p:spPr>
          <a:xfrm flipV="1">
            <a:off x="12111840" y="3580920"/>
            <a:ext cx="17640" cy="4551480"/>
          </a:xfrm>
          <a:prstGeom prst="line">
            <a:avLst/>
          </a:prstGeom>
          <a:ln w="25560">
            <a:solidFill>
              <a:srgbClr val="8881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738360" y="5089680"/>
            <a:ext cx="14987520" cy="9360"/>
          </a:xfrm>
          <a:prstGeom prst="line">
            <a:avLst/>
          </a:prstGeom>
          <a:ln cap="rnd" w="25560">
            <a:solidFill>
              <a:srgbClr val="9a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33560" y="527688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 Italic"/>
                <a:ea typeface="ＭＳ Ｐゴシック"/>
              </a:rPr>
              <a:t>Vitae ante quis, dap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33560" y="632448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oin ac nibh quis metus c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92240" y="5237280"/>
            <a:ext cx="2462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 Italic"/>
                <a:ea typeface="ＭＳ Ｐゴシック"/>
              </a:rPr>
              <a:t>Maecenas vitae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2792240" y="6284880"/>
            <a:ext cx="24620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oin ac nibh quis metus tristique sagittis ve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be the first to enter the cosmos, to engage, single-handed, in an unprecedented duel with nature—could one dream of anything more?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981000" y="590400"/>
            <a:ext cx="6503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Vector Icons and Mor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1"/>
          <a:stretch/>
        </p:blipFill>
        <p:spPr>
          <a:xfrm>
            <a:off x="2781360" y="2373480"/>
            <a:ext cx="10464840" cy="707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2"/>
          <a:stretch/>
        </p:blipFill>
        <p:spPr>
          <a:xfrm>
            <a:off x="13309560" y="3162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"/>
          <p:cNvPicPr/>
          <p:nvPr/>
        </p:nvPicPr>
        <p:blipFill>
          <a:blip r:embed="rId3"/>
          <a:stretch/>
        </p:blipFill>
        <p:spPr>
          <a:xfrm>
            <a:off x="1257480" y="347976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6515280" y="3146400"/>
            <a:ext cx="8839080" cy="507996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4"/>
          <p:cNvGrpSpPr/>
          <p:nvPr/>
        </p:nvGrpSpPr>
        <p:grpSpPr>
          <a:xfrm>
            <a:off x="12240" y="3556080"/>
            <a:ext cx="6413760" cy="1150560"/>
            <a:chOff x="12240" y="3556080"/>
            <a:chExt cx="6413760" cy="1150560"/>
          </a:xfrm>
        </p:grpSpPr>
        <p:sp>
          <p:nvSpPr>
            <p:cNvPr id="163" name="AutoShape 2"/>
            <p:cNvSpPr/>
            <p:nvPr/>
          </p:nvSpPr>
          <p:spPr>
            <a:xfrm>
              <a:off x="1549440" y="3689280"/>
              <a:ext cx="4876560" cy="1017360"/>
            </a:xfrm>
            <a:prstGeom prst="rightArrow">
              <a:avLst>
                <a:gd name="adj1" fmla="val 64148"/>
                <a:gd name="adj2" fmla="val 56144"/>
              </a:avLst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64" name="AutoShape 3"/>
            <p:cNvSpPr/>
            <p:nvPr/>
          </p:nvSpPr>
          <p:spPr>
            <a:xfrm flipH="1">
              <a:off x="11880" y="3556080"/>
              <a:ext cx="1539720" cy="96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6883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6e8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1728720" y="3914640"/>
            <a:ext cx="468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-360" y="4821120"/>
            <a:ext cx="9034920" cy="1141560"/>
            <a:chOff x="-360" y="4821120"/>
            <a:chExt cx="9034920" cy="1141560"/>
          </a:xfrm>
        </p:grpSpPr>
        <p:sp>
          <p:nvSpPr>
            <p:cNvPr id="167" name="AutoShape 6"/>
            <p:cNvSpPr/>
            <p:nvPr/>
          </p:nvSpPr>
          <p:spPr>
            <a:xfrm>
              <a:off x="1549440" y="4821120"/>
              <a:ext cx="7485120" cy="1015920"/>
            </a:xfrm>
            <a:prstGeom prst="rightArrow">
              <a:avLst>
                <a:gd name="adj1" fmla="val 64148"/>
                <a:gd name="adj2" fmla="val 56248"/>
              </a:avLst>
            </a:prstGeom>
            <a:solidFill>
              <a:srgbClr val="5e5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 flipH="1">
              <a:off x="-720" y="5003640"/>
              <a:ext cx="1546200" cy="95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14628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494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1728720" y="5048280"/>
            <a:ext cx="8834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Cambria Bold"/>
                <a:ea typeface="ＭＳ Ｐゴシック"/>
              </a:rPr>
              <a:t>Quis finibus quam venenatis quis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70" name="Group 12"/>
          <p:cNvGrpSpPr/>
          <p:nvPr/>
        </p:nvGrpSpPr>
        <p:grpSpPr>
          <a:xfrm>
            <a:off x="-360" y="6035760"/>
            <a:ext cx="7528320" cy="2036160"/>
            <a:chOff x="-360" y="6035760"/>
            <a:chExt cx="7528320" cy="2036160"/>
          </a:xfrm>
        </p:grpSpPr>
        <p:sp>
          <p:nvSpPr>
            <p:cNvPr id="171" name="AutoShape 10"/>
            <p:cNvSpPr/>
            <p:nvPr/>
          </p:nvSpPr>
          <p:spPr>
            <a:xfrm>
              <a:off x="1549440" y="6035760"/>
              <a:ext cx="5978520" cy="999000"/>
            </a:xfrm>
            <a:prstGeom prst="rightArrow">
              <a:avLst>
                <a:gd name="adj1" fmla="val 64148"/>
                <a:gd name="adj2" fmla="val 57185"/>
              </a:avLst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2" name="AutoShape 11"/>
            <p:cNvSpPr/>
            <p:nvPr/>
          </p:nvSpPr>
          <p:spPr>
            <a:xfrm flipH="1">
              <a:off x="-720" y="6207120"/>
              <a:ext cx="1546200" cy="18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21550" y="21600"/>
                  </a:lnTo>
                  <a:lnTo>
                    <a:pt x="0" y="7447"/>
                  </a:lnTo>
                  <a:lnTo>
                    <a:pt x="0" y="0"/>
                  </a:lnTo>
                  <a:lnTo>
                    <a:pt x="21600" y="355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26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73" name="Rectangle 13"/>
          <p:cNvSpPr/>
          <p:nvPr/>
        </p:nvSpPr>
        <p:spPr>
          <a:xfrm>
            <a:off x="1728720" y="6267600"/>
            <a:ext cx="468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065960" y="590400"/>
            <a:ext cx="3575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ata Arrow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2044800" y="1295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179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3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4" name="Rectangle 8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85" name="Rectangle 10"/>
          <p:cNvSpPr/>
          <p:nvPr/>
        </p:nvSpPr>
        <p:spPr>
          <a:xfrm>
            <a:off x="2044800" y="4089240"/>
            <a:ext cx="12150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Line 11"/>
          <p:cNvSpPr/>
          <p:nvPr/>
        </p:nvSpPr>
        <p:spPr>
          <a:xfrm flipV="1">
            <a:off x="1727280" y="3634920"/>
            <a:ext cx="12793680" cy="97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7" name="Line 12"/>
          <p:cNvSpPr/>
          <p:nvPr/>
        </p:nvSpPr>
        <p:spPr>
          <a:xfrm flipV="1">
            <a:off x="1828800" y="5219640"/>
            <a:ext cx="12793680" cy="79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50:19Z</dcterms:modified>
  <cp:revision>3</cp:revision>
  <dc:subject/>
  <dc:title>PowerPoint Presentation</dc:title>
</cp:coreProperties>
</file>