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E6AA-102A-481C-92A0-5700C4F671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C2B8-22BC-412D-9C5C-2DA0C2FB32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2881-68C2-419D-9894-FC5566AC9A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9A9F-220D-4AAD-997E-F478DE799F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169B-8AFD-4707-949F-2D4459375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D3BF-824E-4CCB-9C05-966D048E3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394E-6DB9-4C46-A418-829CD3C55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22E4-3959-450C-89E9-023774874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81F-C542-4FC8-8825-89F933430E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4650-60BF-4884-B7A1-DF4A24E41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F6E1-7AC1-4374-AD6E-1137EA73F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10C0-8F24-4F4A-B827-15BB0B228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640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6306920" cy="7251840"/>
          </a:xfrm>
          <a:prstGeom prst="rect">
            <a:avLst/>
          </a:prstGeom>
          <a:gradFill rotWithShape="0">
            <a:gsLst>
              <a:gs pos="0">
                <a:srgbClr val="a2f1fe"/>
              </a:gs>
              <a:gs pos="100000">
                <a:srgbClr val="80bb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-25560" y="7251840"/>
            <a:ext cx="16306920" cy="2019240"/>
          </a:xfrm>
          <a:prstGeom prst="rect">
            <a:avLst/>
          </a:prstGeom>
          <a:gradFill rotWithShape="0">
            <a:gsLst>
              <a:gs pos="0">
                <a:srgbClr val="fc7e08"/>
              </a:gs>
              <a:gs pos="100000">
                <a:srgbClr val="fdca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4388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0" y="0"/>
            <a:ext cx="16306920" cy="8508960"/>
          </a:xfrm>
          <a:prstGeom prst="rect">
            <a:avLst/>
          </a:prstGeom>
          <a:gradFill rotWithShape="0">
            <a:gsLst>
              <a:gs pos="0">
                <a:srgbClr val="a2f1fe"/>
              </a:gs>
              <a:gs pos="100000">
                <a:srgbClr val="80bb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-25560" y="8508960"/>
            <a:ext cx="16306920" cy="762120"/>
          </a:xfrm>
          <a:prstGeom prst="rect">
            <a:avLst/>
          </a:prstGeom>
          <a:gradFill rotWithShape="0">
            <a:gsLst>
              <a:gs pos="0">
                <a:srgbClr val="fc7e08"/>
              </a:gs>
              <a:gs pos="100000">
                <a:srgbClr val="fdca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1"/>
          </p:nvPr>
        </p:nvSpPr>
        <p:spPr>
          <a:xfrm>
            <a:off x="15665400" y="8660880"/>
            <a:ext cx="31104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98F-163C-406F-B1C0-A8C7ECE88904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330520" y="1085760"/>
            <a:ext cx="56314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Happy Easter!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002120" y="207648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483080" y="2806560"/>
            <a:ext cx="73659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024A-38CF-4721-91FD-B8E5E66FB8A1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069920" y="2479680"/>
            <a:ext cx="1412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041480" y="4660920"/>
            <a:ext cx="14262120" cy="31680"/>
          </a:xfrm>
          <a:prstGeom prst="line">
            <a:avLst/>
          </a:prstGeom>
          <a:ln w="38160">
            <a:solidFill>
              <a:srgbClr val="ff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324080" y="5019840"/>
            <a:ext cx="44686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cience has not yet mastered prophecy. We predict too much for the next year and yet far too little for the next 10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0293480" y="5019840"/>
            <a:ext cx="491148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, the final frontier. These are the voyages of the Starship Enterprise. Its five-year mission: to explore strange new worlds, to seek out new life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5321160" y="3683160"/>
            <a:ext cx="573588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75CB-8832-4D15-9646-1135CC8A25FB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1003320" y="5880240"/>
            <a:ext cx="4406760" cy="2717640"/>
          </a:xfrm>
          <a:prstGeom prst="roundRect">
            <a:avLst>
              <a:gd name="adj" fmla="val 700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0578960" y="5880240"/>
            <a:ext cx="4407120" cy="2717640"/>
          </a:xfrm>
          <a:prstGeom prst="roundRect">
            <a:avLst>
              <a:gd name="adj" fmla="val 700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186520" y="5883120"/>
            <a:ext cx="5619600" cy="271476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05080" y="623268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11200" y="687240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365880" y="622944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373800" y="6870600"/>
            <a:ext cx="3282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1298240" y="622764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304720" y="6865920"/>
            <a:ext cx="32828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042200" y="59040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4013280" y="3048120"/>
            <a:ext cx="77976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2151-D5A9-41A7-8034-C0B67F4FE844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AutoShape 1"/>
          <p:cNvSpPr/>
          <p:nvPr/>
        </p:nvSpPr>
        <p:spPr>
          <a:xfrm>
            <a:off x="3340080" y="3621240"/>
            <a:ext cx="4165560" cy="901440"/>
          </a:xfrm>
          <a:prstGeom prst="rightArrow">
            <a:avLst>
              <a:gd name="adj1" fmla="val 60824"/>
              <a:gd name="adj2" fmla="val 43022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3340080" y="4822920"/>
            <a:ext cx="11138040" cy="901440"/>
          </a:xfrm>
          <a:prstGeom prst="rightArrow">
            <a:avLst>
              <a:gd name="adj1" fmla="val 60824"/>
              <a:gd name="adj2" fmla="val 43017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340080" y="6037200"/>
            <a:ext cx="8166240" cy="901800"/>
          </a:xfrm>
          <a:prstGeom prst="rightArrow">
            <a:avLst>
              <a:gd name="adj1" fmla="val 60824"/>
              <a:gd name="adj2" fmla="val 43014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244680" y="3878280"/>
            <a:ext cx="3283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POWER!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82880" y="5041800"/>
            <a:ext cx="3283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POWER!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216320" y="6281640"/>
            <a:ext cx="32832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uper POWER!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568680" y="3040200"/>
            <a:ext cx="9398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557440" y="3146400"/>
            <a:ext cx="1041480" cy="12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2033640" y="4349880"/>
            <a:ext cx="2077560" cy="1202760"/>
            <a:chOff x="2033640" y="4349880"/>
            <a:chExt cx="2077560" cy="1202760"/>
          </a:xfrm>
        </p:grpSpPr>
        <p:sp>
          <p:nvSpPr>
            <p:cNvPr id="115" name="AutoShape 9"/>
            <p:cNvSpPr/>
            <p:nvPr/>
          </p:nvSpPr>
          <p:spPr>
            <a:xfrm>
              <a:off x="2292480" y="4349880"/>
              <a:ext cx="1558080" cy="60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3600" y="0"/>
                  </a:lnTo>
                  <a:lnTo>
                    <a:pt x="18000" y="0"/>
                  </a:lnTo>
                  <a:close/>
                  <a:moveTo>
                    <a:pt x="18000" y="0"/>
                  </a:moveTo>
                </a:path>
              </a:pathLst>
            </a:cu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6" name="AutoShape 10"/>
            <p:cNvSpPr/>
            <p:nvPr/>
          </p:nvSpPr>
          <p:spPr>
            <a:xfrm>
              <a:off x="2033640" y="4950360"/>
              <a:ext cx="2077560" cy="60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9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2700" y="0"/>
                  </a:lnTo>
                  <a:lnTo>
                    <a:pt x="18900" y="0"/>
                  </a:lnTo>
                  <a:close/>
                  <a:moveTo>
                    <a:pt x="18900" y="0"/>
                  </a:moveTo>
                </a:path>
              </a:pathLst>
            </a:cu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514520" y="5553000"/>
            <a:ext cx="3115800" cy="1201680"/>
            <a:chOff x="1514520" y="5553000"/>
            <a:chExt cx="3115800" cy="1201680"/>
          </a:xfrm>
        </p:grpSpPr>
        <p:sp>
          <p:nvSpPr>
            <p:cNvPr id="118" name="AutoShape 12"/>
            <p:cNvSpPr/>
            <p:nvPr/>
          </p:nvSpPr>
          <p:spPr>
            <a:xfrm>
              <a:off x="1773360" y="5553000"/>
              <a:ext cx="2598120" cy="60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44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2160" y="0"/>
                  </a:lnTo>
                  <a:lnTo>
                    <a:pt x="19440" y="0"/>
                  </a:lnTo>
                  <a:close/>
                  <a:moveTo>
                    <a:pt x="19440" y="0"/>
                  </a:moveTo>
                </a:path>
              </a:pathLst>
            </a:cu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514520" y="6153120"/>
              <a:ext cx="3115800" cy="60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800" y="0"/>
                  </a:lnTo>
                  <a:lnTo>
                    <a:pt x="19800" y="0"/>
                  </a:lnTo>
                  <a:close/>
                  <a:moveTo>
                    <a:pt x="19800" y="0"/>
                  </a:moveTo>
                </a:path>
              </a:pathLst>
            </a:cu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>
            <a:off x="4048200" y="4427640"/>
            <a:ext cx="988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hasellus nec dui accumsan. Lorem ipsum dolor sit amet, consectetur adipiscing elit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552920" y="5624640"/>
            <a:ext cx="9393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hasellus nec dui accumsan. Lorem ipsum dolor sit amet, consectetur adipiscing elit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1077840" y="7088040"/>
            <a:ext cx="1409220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ailure is simply the opportunity to begin again, this time more intelligentl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1099080" y="590400"/>
            <a:ext cx="28134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Hierarch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12890520" y="35686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2A6-544C-4770-8ACF-6E8E303B749D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1193760" y="3162240"/>
            <a:ext cx="4330440" cy="2501640"/>
            <a:chOff x="1193760" y="3162240"/>
            <a:chExt cx="4330440" cy="2501640"/>
          </a:xfrm>
        </p:grpSpPr>
        <p:sp>
          <p:nvSpPr>
            <p:cNvPr id="128" name="Rectangle 1"/>
            <p:cNvSpPr/>
            <p:nvPr/>
          </p:nvSpPr>
          <p:spPr>
            <a:xfrm>
              <a:off x="1193760" y="3162240"/>
              <a:ext cx="4330440" cy="21081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9" name="Rectangle 2"/>
            <p:cNvSpPr/>
            <p:nvPr/>
          </p:nvSpPr>
          <p:spPr>
            <a:xfrm>
              <a:off x="1193760" y="530532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0" name="Group 6"/>
          <p:cNvGrpSpPr/>
          <p:nvPr/>
        </p:nvGrpSpPr>
        <p:grpSpPr>
          <a:xfrm>
            <a:off x="6108840" y="3160800"/>
            <a:ext cx="4330440" cy="2501280"/>
            <a:chOff x="6108840" y="3160800"/>
            <a:chExt cx="4330440" cy="2501280"/>
          </a:xfrm>
        </p:grpSpPr>
        <p:sp>
          <p:nvSpPr>
            <p:cNvPr id="131" name="Rectangle 4"/>
            <p:cNvSpPr/>
            <p:nvPr/>
          </p:nvSpPr>
          <p:spPr>
            <a:xfrm>
              <a:off x="6108840" y="3160800"/>
              <a:ext cx="4328640" cy="21078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6108840" y="530352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3" name="Group 9"/>
          <p:cNvGrpSpPr/>
          <p:nvPr/>
        </p:nvGrpSpPr>
        <p:grpSpPr>
          <a:xfrm>
            <a:off x="11023560" y="3162240"/>
            <a:ext cx="4330800" cy="2500200"/>
            <a:chOff x="11023560" y="3162240"/>
            <a:chExt cx="4330800" cy="2500200"/>
          </a:xfrm>
        </p:grpSpPr>
        <p:sp>
          <p:nvSpPr>
            <p:cNvPr id="134" name="Rectangle 7"/>
            <p:cNvSpPr/>
            <p:nvPr/>
          </p:nvSpPr>
          <p:spPr>
            <a:xfrm>
              <a:off x="11023560" y="3162240"/>
              <a:ext cx="4330800" cy="2106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11023560" y="530388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36" name="Rectangle 10"/>
          <p:cNvSpPr/>
          <p:nvPr/>
        </p:nvSpPr>
        <p:spPr>
          <a:xfrm>
            <a:off x="1226160" y="723960"/>
            <a:ext cx="250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ortfolio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206360" y="1622520"/>
            <a:ext cx="139701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460520" y="3349800"/>
            <a:ext cx="34988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enean malesuada, arcu non mattis, massa dolor sollicitudin arcu, non ornare magna orci a nequ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362640" y="3378240"/>
            <a:ext cx="38163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11275920" y="3352680"/>
            <a:ext cx="38181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nteger tortor risus, tincidunt eu quam vel, pellentesque placerat feli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1" name="Picture 15" descr=""/>
          <p:cNvPicPr/>
          <p:nvPr/>
        </p:nvPicPr>
        <p:blipFill>
          <a:blip r:embed="rId1"/>
          <a:stretch/>
        </p:blipFill>
        <p:spPr>
          <a:xfrm>
            <a:off x="14312880" y="42163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2"/>
          <a:stretch/>
        </p:blipFill>
        <p:spPr>
          <a:xfrm>
            <a:off x="7810560" y="72896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"/>
          <p:cNvPicPr/>
          <p:nvPr/>
        </p:nvPicPr>
        <p:blipFill>
          <a:blip r:embed="rId3"/>
          <a:stretch/>
        </p:blipFill>
        <p:spPr>
          <a:xfrm>
            <a:off x="9461520" y="42800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4"/>
          <a:stretch/>
        </p:blipFill>
        <p:spPr>
          <a:xfrm>
            <a:off x="4546440" y="429264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1420920" y="6448320"/>
            <a:ext cx="13716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D91-FC5C-4751-B33A-C200AEC38BA7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25600" y="297648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20560" y="5477040"/>
            <a:ext cx="507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0679040" y="297648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658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0672920" y="5477040"/>
            <a:ext cx="507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089036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1"/>
          <a:srcRect l="17076" t="0" r="15141" b="0"/>
          <a:stretch/>
        </p:blipFill>
        <p:spPr>
          <a:xfrm>
            <a:off x="5575320" y="3048120"/>
            <a:ext cx="50925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FF48-AC9A-4F64-B226-E321797397B1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042200" y="59040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243080" y="3895560"/>
            <a:ext cx="3814560" cy="2471760"/>
          </a:xfrm>
          <a:prstGeom prst="roundRect">
            <a:avLst>
              <a:gd name="adj" fmla="val 4620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Rectangle 3"/>
          <p:cNvSpPr/>
          <p:nvPr/>
        </p:nvSpPr>
        <p:spPr>
          <a:xfrm flipH="1" rot="10800000">
            <a:off x="8128440" y="5082840"/>
            <a:ext cx="2806920" cy="5076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0891800" y="3886200"/>
            <a:ext cx="3814920" cy="2471760"/>
          </a:xfrm>
          <a:prstGeom prst="roundRect">
            <a:avLst>
              <a:gd name="adj" fmla="val 4620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1142720" y="3962520"/>
            <a:ext cx="3384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thing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Suspendisse hendrerit fermentum arcu, nec efficitur sem ultrices id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440000" y="3946680"/>
            <a:ext cx="3384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thing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Praesent quis magna viverra pellentesque in ac nulla. Nulla facilisi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035680" y="5100480"/>
            <a:ext cx="3022560" cy="5112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939960" y="6908760"/>
            <a:ext cx="141411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ok back over history, people have put their lives at stake to go out and explore … We believe in what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doing. Now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time to go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1"/>
          <a:stretch/>
        </p:blipFill>
        <p:spPr>
          <a:xfrm>
            <a:off x="7048440" y="431784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16D9-8A5A-47E7-B2A6-0AA1AB0F9ABC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927000" y="3517920"/>
            <a:ext cx="7086600" cy="4691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962280" y="60336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955880" y="2892600"/>
            <a:ext cx="5454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4608080" y="7518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12700080" y="28195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8813880" y="28065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8385120" y="473076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8393040" y="548496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8393040" y="6791400"/>
            <a:ext cx="32608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10961640" y="3247920"/>
            <a:ext cx="1219320" cy="762120"/>
          </a:xfrm>
          <a:prstGeom prst="rightArrow">
            <a:avLst>
              <a:gd name="adj1" fmla="val 60824"/>
              <a:gd name="adj2" fmla="val 50886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2020400" y="4726080"/>
            <a:ext cx="328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2026880" y="5479920"/>
            <a:ext cx="32846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12026880" y="6786720"/>
            <a:ext cx="32623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15665400" y="8661240"/>
            <a:ext cx="311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E87-68E9-4333-968C-F5EFB0F39E8E}" type="slidenum">
              <a:rPr b="0" lang="en-US" sz="1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96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02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3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47:29Z</dcterms:modified>
  <cp:revision>3</cp:revision>
  <dc:subject/>
  <dc:title>PowerPoint Presentation</dc:title>
</cp:coreProperties>
</file>