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keynotetemplate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keynotetemplate.com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9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64040" y="8702640"/>
            <a:ext cx="37116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Visi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mbria"/>
                <a:ea typeface="ＭＳ Ｐゴシック"/>
                <a:hlinkClick r:id="rId2"/>
              </a:rPr>
              <a:t>http://keynotetemplate.com</a:t>
            </a: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 for more free resources!</a:t>
            </a:r>
            <a:endParaRPr b="0" lang="en-US" sz="1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25560" y="25560"/>
            <a:ext cx="16217640" cy="9144000"/>
          </a:xfrm>
          <a:prstGeom prst="rect">
            <a:avLst/>
          </a:prstGeom>
          <a:solidFill>
            <a:srgbClr val="1c22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9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"/>
          <p:cNvSpPr/>
          <p:nvPr/>
        </p:nvSpPr>
        <p:spPr>
          <a:xfrm>
            <a:off x="438840" y="8702640"/>
            <a:ext cx="37116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Visi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mbria"/>
                <a:ea typeface="ＭＳ Ｐゴシック"/>
                <a:hlinkClick r:id="rId2"/>
              </a:rPr>
              <a:t>http://keynotetemplate.com</a:t>
            </a: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 for more free resources!</a:t>
            </a:r>
            <a:endParaRPr b="0" lang="en-US" sz="1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9" name="Rectangle 2"/>
          <p:cNvSpPr/>
          <p:nvPr/>
        </p:nvSpPr>
        <p:spPr>
          <a:xfrm>
            <a:off x="0" y="25560"/>
            <a:ext cx="16218000" cy="9144000"/>
          </a:xfrm>
          <a:prstGeom prst="rect">
            <a:avLst/>
          </a:prstGeom>
          <a:solidFill>
            <a:srgbClr val="1c22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  <a:p>
            <a:pPr lvl="1" marL="4316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878787"/>
              </a:solidFill>
              <a:latin typeface="Calibri"/>
            </a:endParaRPr>
          </a:p>
          <a:p>
            <a:pPr lvl="2" marL="863640" indent="5076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878787"/>
              </a:solidFill>
              <a:latin typeface="Calibri"/>
            </a:endParaRPr>
          </a:p>
          <a:p>
            <a:pPr lvl="3" marL="1282680" indent="88920" algn="ctr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4" marL="1714680" indent="114120" algn="ctr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5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6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1"/>
          <p:cNvSpPr/>
          <p:nvPr/>
        </p:nvSpPr>
        <p:spPr>
          <a:xfrm flipV="1">
            <a:off x="431640" y="4457520"/>
            <a:ext cx="15551280" cy="12600"/>
          </a:xfrm>
          <a:prstGeom prst="line">
            <a:avLst/>
          </a:prstGeom>
          <a:ln w="50760">
            <a:solidFill>
              <a:srgbClr val="262d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6031080" y="1060560"/>
            <a:ext cx="422928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Astronomy</a:t>
            </a:r>
            <a:endParaRPr b="0" lang="en-US" sz="6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002120" y="7156440"/>
            <a:ext cx="8312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Great presentation them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5740560" y="2273400"/>
            <a:ext cx="4762440" cy="45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"/>
          <p:cNvSpPr/>
          <p:nvPr/>
        </p:nvSpPr>
        <p:spPr>
          <a:xfrm>
            <a:off x="1066680" y="4000680"/>
            <a:ext cx="6807240" cy="2247840"/>
          </a:xfrm>
          <a:prstGeom prst="roundRect">
            <a:avLst>
              <a:gd name="adj" fmla="val 8472"/>
            </a:avLst>
          </a:prstGeom>
          <a:solidFill>
            <a:srgbClr val="fcae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3" name="Line 2"/>
          <p:cNvSpPr/>
          <p:nvPr/>
        </p:nvSpPr>
        <p:spPr>
          <a:xfrm flipV="1">
            <a:off x="1104840" y="6134040"/>
            <a:ext cx="11947680" cy="38160"/>
          </a:xfrm>
          <a:prstGeom prst="line">
            <a:avLst/>
          </a:prstGeom>
          <a:ln w="50760">
            <a:solidFill>
              <a:srgbClr val="8881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90680" y="4197240"/>
            <a:ext cx="6145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Vestibulum tristique mattis felis, quis finibus quam venenatis quis. Suspendisse blandit lorem hendrerit, bibendum metus quis, elementum magna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1054080" y="6108840"/>
            <a:ext cx="6819840" cy="2387520"/>
          </a:xfrm>
          <a:prstGeom prst="roundRect">
            <a:avLst>
              <a:gd name="adj" fmla="val 7977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258920" y="6524640"/>
            <a:ext cx="614376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Vestibulum tristique mattis felis, quis finibus quam venenatis quis. Suspendisse blandit lorem hendrerit, bibendum metus quis, elementum magna. Mauris eleifend, tellus sed 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055520" y="5883120"/>
            <a:ext cx="6820200" cy="546120"/>
          </a:xfrm>
          <a:prstGeom prst="rect">
            <a:avLst/>
          </a:prstGeom>
          <a:solidFill>
            <a:srgbClr val="888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208160" y="5724360"/>
            <a:ext cx="65610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header.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962280" y="590400"/>
            <a:ext cx="7443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Another Data Assessment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077840" y="1501920"/>
            <a:ext cx="141429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Spaceflights cannot be stopped. This is not the work of any one man or even a group of men. It is a historical process which mankind is carrying out in accordance with the natural laws of human development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1"/>
          <a:stretch/>
        </p:blipFill>
        <p:spPr>
          <a:xfrm>
            <a:off x="9931320" y="3606840"/>
            <a:ext cx="5283360" cy="5283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"/>
          <p:cNvGrpSpPr/>
          <p:nvPr/>
        </p:nvGrpSpPr>
        <p:grpSpPr>
          <a:xfrm>
            <a:off x="1079640" y="4443480"/>
            <a:ext cx="3536640" cy="3247560"/>
            <a:chOff x="1079640" y="4443480"/>
            <a:chExt cx="3536640" cy="3247560"/>
          </a:xfrm>
        </p:grpSpPr>
        <p:sp>
          <p:nvSpPr>
            <p:cNvPr id="93" name="Rectangle 1"/>
            <p:cNvSpPr/>
            <p:nvPr/>
          </p:nvSpPr>
          <p:spPr>
            <a:xfrm>
              <a:off x="1079640" y="4856400"/>
              <a:ext cx="3536640" cy="28346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94" name="Rectangle 2"/>
            <p:cNvSpPr/>
            <p:nvPr/>
          </p:nvSpPr>
          <p:spPr>
            <a:xfrm>
              <a:off x="1079640" y="4443480"/>
              <a:ext cx="3536640" cy="412920"/>
            </a:xfrm>
            <a:prstGeom prst="rect">
              <a:avLst/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95" name="Group 6"/>
          <p:cNvGrpSpPr/>
          <p:nvPr/>
        </p:nvGrpSpPr>
        <p:grpSpPr>
          <a:xfrm>
            <a:off x="11687040" y="4440240"/>
            <a:ext cx="3543480" cy="3251160"/>
            <a:chOff x="11687040" y="4440240"/>
            <a:chExt cx="3543480" cy="3251160"/>
          </a:xfrm>
        </p:grpSpPr>
        <p:sp>
          <p:nvSpPr>
            <p:cNvPr id="96" name="Rectangle 4"/>
            <p:cNvSpPr/>
            <p:nvPr/>
          </p:nvSpPr>
          <p:spPr>
            <a:xfrm>
              <a:off x="11687040" y="4853160"/>
              <a:ext cx="3543480" cy="2838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97" name="Rectangle 5"/>
            <p:cNvSpPr/>
            <p:nvPr/>
          </p:nvSpPr>
          <p:spPr>
            <a:xfrm>
              <a:off x="11687040" y="4440240"/>
              <a:ext cx="3543480" cy="412920"/>
            </a:xfrm>
            <a:prstGeom prst="rect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98" name="Rectangle 7"/>
          <p:cNvSpPr/>
          <p:nvPr/>
        </p:nvSpPr>
        <p:spPr>
          <a:xfrm>
            <a:off x="1247760" y="4287960"/>
            <a:ext cx="3284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1255680" y="4997520"/>
            <a:ext cx="326088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raesent, tempor ac sollicitudin sed, mattis vel arcu. Proin ac nibh quis metus tristique sagittis vel ac ligula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1879280" y="4284720"/>
            <a:ext cx="3282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1885760" y="4994280"/>
            <a:ext cx="326232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uam justo, tempor ac sollicitudin sed, mattis vel arcu. Proin ac nibh quis metus tristique sagittis ac ligula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1092600" y="590400"/>
            <a:ext cx="25070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Portfolio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1077840" y="1501920"/>
            <a:ext cx="141429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Spaceflights cannot be stopped. This is not the work of any one man or even a group of men. It is a historical process which mankind is carrying out in accordance with the natural laws of human development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1"/>
          <a:stretch/>
        </p:blipFill>
        <p:spPr>
          <a:xfrm>
            <a:off x="4635360" y="4076640"/>
            <a:ext cx="706140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63360" y="6031080"/>
            <a:ext cx="13551120" cy="1752480"/>
          </a:xfrm>
          <a:prstGeom prst="rect">
            <a:avLst/>
          </a:prstGeom>
          <a:solidFill>
            <a:srgbClr val="5e5a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1866680" y="4398840"/>
            <a:ext cx="3387240" cy="3386160"/>
            <a:chOff x="11866680" y="4398840"/>
            <a:chExt cx="3387240" cy="3386160"/>
          </a:xfrm>
        </p:grpSpPr>
        <p:sp>
          <p:nvSpPr>
            <p:cNvPr id="107" name="Oval 2"/>
            <p:cNvSpPr/>
            <p:nvPr/>
          </p:nvSpPr>
          <p:spPr>
            <a:xfrm>
              <a:off x="11866680" y="4398840"/>
              <a:ext cx="3387240" cy="3386160"/>
            </a:xfrm>
            <a:prstGeom prst="ellipse">
              <a:avLst/>
            </a:prstGeom>
            <a:solidFill>
              <a:srgbClr val="888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08" name="Oval 3"/>
            <p:cNvSpPr/>
            <p:nvPr/>
          </p:nvSpPr>
          <p:spPr>
            <a:xfrm>
              <a:off x="12281040" y="4803480"/>
              <a:ext cx="2540520" cy="2541600"/>
            </a:xfrm>
            <a:prstGeom prst="ellipse">
              <a:avLst/>
            </a:prstGeom>
            <a:solidFill>
              <a:srgbClr val="5e5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09" name="Rectangle 5"/>
          <p:cNvSpPr/>
          <p:nvPr/>
        </p:nvSpPr>
        <p:spPr>
          <a:xfrm>
            <a:off x="1021320" y="590400"/>
            <a:ext cx="51602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More Information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847800" y="6157800"/>
            <a:ext cx="3284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855720" y="6735600"/>
            <a:ext cx="3282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Italic"/>
                <a:ea typeface="ＭＳ Ｐゴシック"/>
              </a:rPr>
              <a:t>Maecenas vitae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We want to explore. We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re curious people. Look back over history, people have put their lives at stake to go out and explore …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368960" y="6156360"/>
            <a:ext cx="3282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368960" y="6730920"/>
            <a:ext cx="3282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Italic"/>
                <a:ea typeface="ＭＳ Ｐゴシック"/>
              </a:rPr>
              <a:t>Maecenas vitae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7886880" y="6156360"/>
            <a:ext cx="3282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7886880" y="6730920"/>
            <a:ext cx="3282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Italic"/>
                <a:ea typeface="ＭＳ Ｐゴシック"/>
              </a:rPr>
              <a:t>Maecenas vitae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3935520" y="6404040"/>
            <a:ext cx="1440" cy="11016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7454880" y="6350040"/>
            <a:ext cx="0" cy="11001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19" name="Group 29"/>
          <p:cNvGrpSpPr/>
          <p:nvPr/>
        </p:nvGrpSpPr>
        <p:grpSpPr>
          <a:xfrm>
            <a:off x="9156600" y="4610160"/>
            <a:ext cx="1205640" cy="1551960"/>
            <a:chOff x="9156600" y="4610160"/>
            <a:chExt cx="1205640" cy="1551960"/>
          </a:xfrm>
        </p:grpSpPr>
        <p:grpSp>
          <p:nvGrpSpPr>
            <p:cNvPr id="120" name="Group 21"/>
            <p:cNvGrpSpPr/>
            <p:nvPr/>
          </p:nvGrpSpPr>
          <p:grpSpPr>
            <a:xfrm>
              <a:off x="9810720" y="4614840"/>
              <a:ext cx="551520" cy="1547280"/>
              <a:chOff x="9810720" y="4614840"/>
              <a:chExt cx="551520" cy="1547280"/>
            </a:xfrm>
          </p:grpSpPr>
          <p:grpSp>
            <p:nvGrpSpPr>
              <p:cNvPr id="121" name="Group 17"/>
              <p:cNvGrpSpPr/>
              <p:nvPr/>
            </p:nvGrpSpPr>
            <p:grpSpPr>
              <a:xfrm>
                <a:off x="9875880" y="4614840"/>
                <a:ext cx="418320" cy="415800"/>
                <a:chOff x="9875880" y="4614840"/>
                <a:chExt cx="418320" cy="415800"/>
              </a:xfrm>
            </p:grpSpPr>
            <p:sp>
              <p:nvSpPr>
                <p:cNvPr id="122" name="Oval 15"/>
                <p:cNvSpPr/>
                <p:nvPr/>
              </p:nvSpPr>
              <p:spPr>
                <a:xfrm>
                  <a:off x="9875880" y="4614840"/>
                  <a:ext cx="418320" cy="415800"/>
                </a:xfrm>
                <a:prstGeom prst="ellipse">
                  <a:avLst/>
                </a:prstGeom>
                <a:solidFill>
                  <a:srgbClr val="7c93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600" spc="-1" strike="noStrike">
                    <a:solidFill>
                      <a:srgbClr val="595959"/>
                    </a:solidFill>
                    <a:latin typeface="Cambria"/>
                  </a:endParaRPr>
                </a:p>
              </p:txBody>
            </p:sp>
            <p:sp>
              <p:nvSpPr>
                <p:cNvPr id="123" name="Oval 16"/>
                <p:cNvSpPr/>
                <p:nvPr/>
              </p:nvSpPr>
              <p:spPr>
                <a:xfrm>
                  <a:off x="9928800" y="4676760"/>
                  <a:ext cx="311040" cy="289080"/>
                </a:xfrm>
                <a:prstGeom prst="ellipse">
                  <a:avLst/>
                </a:prstGeom>
                <a:solidFill>
                  <a:srgbClr val="ecbd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600" spc="-1" strike="noStrike">
                    <a:solidFill>
                      <a:srgbClr val="595959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24" name="Group 20"/>
              <p:cNvGrpSpPr/>
              <p:nvPr/>
            </p:nvGrpSpPr>
            <p:grpSpPr>
              <a:xfrm>
                <a:off x="9810720" y="4993200"/>
                <a:ext cx="551520" cy="1168920"/>
                <a:chOff x="9810720" y="4993200"/>
                <a:chExt cx="551520" cy="1168920"/>
              </a:xfrm>
            </p:grpSpPr>
            <p:sp>
              <p:nvSpPr>
                <p:cNvPr id="125" name="AutoShape 18"/>
                <p:cNvSpPr/>
                <p:nvPr/>
              </p:nvSpPr>
              <p:spPr>
                <a:xfrm>
                  <a:off x="9810720" y="5080680"/>
                  <a:ext cx="551520" cy="108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0699"/>
                      </a:moveTo>
                      <a:cubicBezTo>
                        <a:pt x="21600" y="11353"/>
                        <a:pt x="20918" y="11680"/>
                        <a:pt x="19554" y="11680"/>
                      </a:cubicBezTo>
                      <a:cubicBezTo>
                        <a:pt x="18189" y="11680"/>
                        <a:pt x="17507" y="11353"/>
                        <a:pt x="17507" y="10699"/>
                      </a:cubicBezTo>
                      <a:cubicBezTo>
                        <a:pt x="17507" y="3613"/>
                        <a:pt x="17507" y="3613"/>
                        <a:pt x="17507" y="3613"/>
                      </a:cubicBezTo>
                      <a:cubicBezTo>
                        <a:pt x="16598" y="3613"/>
                        <a:pt x="16598" y="3613"/>
                        <a:pt x="16598" y="3613"/>
                      </a:cubicBezTo>
                      <a:cubicBezTo>
                        <a:pt x="16598" y="20510"/>
                        <a:pt x="16598" y="20510"/>
                        <a:pt x="16598" y="20510"/>
                      </a:cubicBezTo>
                      <a:cubicBezTo>
                        <a:pt x="16598" y="21273"/>
                        <a:pt x="15688" y="21600"/>
                        <a:pt x="14097" y="21600"/>
                      </a:cubicBezTo>
                      <a:cubicBezTo>
                        <a:pt x="12278" y="21600"/>
                        <a:pt x="11368" y="21273"/>
                        <a:pt x="11368" y="20510"/>
                      </a:cubicBezTo>
                      <a:cubicBezTo>
                        <a:pt x="11368" y="10590"/>
                        <a:pt x="11368" y="10590"/>
                        <a:pt x="11368" y="10590"/>
                      </a:cubicBezTo>
                      <a:cubicBezTo>
                        <a:pt x="10232" y="10590"/>
                        <a:pt x="10232" y="10590"/>
                        <a:pt x="10232" y="10590"/>
                      </a:cubicBezTo>
                      <a:cubicBezTo>
                        <a:pt x="10232" y="20510"/>
                        <a:pt x="10232" y="20510"/>
                        <a:pt x="10232" y="20510"/>
                      </a:cubicBezTo>
                      <a:cubicBezTo>
                        <a:pt x="10232" y="21273"/>
                        <a:pt x="9322" y="21600"/>
                        <a:pt x="7503" y="21600"/>
                      </a:cubicBezTo>
                      <a:cubicBezTo>
                        <a:pt x="5912" y="21600"/>
                        <a:pt x="5002" y="21273"/>
                        <a:pt x="5002" y="20510"/>
                      </a:cubicBezTo>
                      <a:cubicBezTo>
                        <a:pt x="5002" y="3613"/>
                        <a:pt x="5002" y="3613"/>
                        <a:pt x="5002" y="3613"/>
                      </a:cubicBezTo>
                      <a:cubicBezTo>
                        <a:pt x="4093" y="3613"/>
                        <a:pt x="4093" y="3613"/>
                        <a:pt x="4093" y="3613"/>
                      </a:cubicBezTo>
                      <a:cubicBezTo>
                        <a:pt x="4093" y="10699"/>
                        <a:pt x="4093" y="10699"/>
                        <a:pt x="4093" y="10699"/>
                      </a:cubicBezTo>
                      <a:cubicBezTo>
                        <a:pt x="4093" y="11353"/>
                        <a:pt x="3411" y="11680"/>
                        <a:pt x="2046" y="11680"/>
                      </a:cubicBezTo>
                      <a:cubicBezTo>
                        <a:pt x="682" y="11680"/>
                        <a:pt x="0" y="11353"/>
                        <a:pt x="0" y="10699"/>
                      </a:cubicBezTo>
                      <a:cubicBezTo>
                        <a:pt x="0" y="2632"/>
                        <a:pt x="0" y="2632"/>
                        <a:pt x="0" y="2632"/>
                      </a:cubicBezTo>
                      <a:cubicBezTo>
                        <a:pt x="0" y="1324"/>
                        <a:pt x="340" y="0"/>
                        <a:pt x="3978" y="0"/>
                      </a:cubicBezTo>
                      <a:cubicBezTo>
                        <a:pt x="14664" y="0"/>
                        <a:pt x="17370" y="0"/>
                        <a:pt x="17370" y="0"/>
                      </a:cubicBezTo>
                      <a:cubicBezTo>
                        <a:pt x="21008" y="0"/>
                        <a:pt x="21600" y="1324"/>
                        <a:pt x="21600" y="2632"/>
                      </a:cubicBezTo>
                      <a:lnTo>
                        <a:pt x="21600" y="10699"/>
                      </a:lnTo>
                      <a:close/>
                      <a:moveTo>
                        <a:pt x="21600" y="10699"/>
                      </a:moveTo>
                    </a:path>
                  </a:pathLst>
                </a:custGeom>
                <a:solidFill>
                  <a:srgbClr val="7c93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4600" spc="-1" strike="noStrike">
                    <a:solidFill>
                      <a:srgbClr val="595959"/>
                    </a:solidFill>
                    <a:latin typeface="Cambria"/>
                  </a:endParaRPr>
                </a:p>
              </p:txBody>
            </p:sp>
            <p:sp>
              <p:nvSpPr>
                <p:cNvPr id="126" name="AutoShape 19"/>
                <p:cNvSpPr/>
                <p:nvPr/>
              </p:nvSpPr>
              <p:spPr>
                <a:xfrm>
                  <a:off x="10047600" y="4993200"/>
                  <a:ext cx="84240" cy="192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cubicBezTo>
                        <a:pt x="420" y="21080"/>
                        <a:pt x="234" y="21600"/>
                        <a:pt x="234" y="21600"/>
                      </a:cubicBezTo>
                      <a:lnTo>
                        <a:pt x="21600" y="21600"/>
                      </a:lnTo>
                      <a:lnTo>
                        <a:pt x="20806" y="0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</a:path>
                  </a:pathLst>
                </a:custGeom>
                <a:solidFill>
                  <a:srgbClr val="7c9304"/>
                </a:solidFill>
                <a:ln w="12600">
                  <a:solidFill>
                    <a:srgbClr val="000000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4600" spc="-1" strike="noStrike">
                    <a:solidFill>
                      <a:srgbClr val="595959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127" name="Group 28"/>
            <p:cNvGrpSpPr/>
            <p:nvPr/>
          </p:nvGrpSpPr>
          <p:grpSpPr>
            <a:xfrm>
              <a:off x="9156600" y="4610160"/>
              <a:ext cx="550800" cy="1545840"/>
              <a:chOff x="9156600" y="4610160"/>
              <a:chExt cx="550800" cy="1545840"/>
            </a:xfrm>
          </p:grpSpPr>
          <p:grpSp>
            <p:nvGrpSpPr>
              <p:cNvPr id="128" name="Group 24"/>
              <p:cNvGrpSpPr/>
              <p:nvPr/>
            </p:nvGrpSpPr>
            <p:grpSpPr>
              <a:xfrm>
                <a:off x="9221760" y="4610160"/>
                <a:ext cx="417240" cy="415800"/>
                <a:chOff x="9221760" y="4610160"/>
                <a:chExt cx="417240" cy="415800"/>
              </a:xfrm>
            </p:grpSpPr>
            <p:sp>
              <p:nvSpPr>
                <p:cNvPr id="129" name="Oval 22"/>
                <p:cNvSpPr/>
                <p:nvPr/>
              </p:nvSpPr>
              <p:spPr>
                <a:xfrm>
                  <a:off x="9221760" y="4610160"/>
                  <a:ext cx="417240" cy="415800"/>
                </a:xfrm>
                <a:prstGeom prst="ellipse">
                  <a:avLst/>
                </a:prstGeom>
                <a:solidFill>
                  <a:srgbClr val="7c93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600" spc="-1" strike="noStrike">
                    <a:solidFill>
                      <a:srgbClr val="595959"/>
                    </a:solidFill>
                    <a:latin typeface="Cambria"/>
                  </a:endParaRPr>
                </a:p>
              </p:txBody>
            </p:sp>
            <p:sp>
              <p:nvSpPr>
                <p:cNvPr id="130" name="Oval 23"/>
                <p:cNvSpPr/>
                <p:nvPr/>
              </p:nvSpPr>
              <p:spPr>
                <a:xfrm>
                  <a:off x="9274320" y="4672080"/>
                  <a:ext cx="310320" cy="289080"/>
                </a:xfrm>
                <a:prstGeom prst="ellipse">
                  <a:avLst/>
                </a:prstGeom>
                <a:solidFill>
                  <a:srgbClr val="ecbd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600" spc="-1" strike="noStrike">
                    <a:solidFill>
                      <a:srgbClr val="595959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31" name="Group 27"/>
              <p:cNvGrpSpPr/>
              <p:nvPr/>
            </p:nvGrpSpPr>
            <p:grpSpPr>
              <a:xfrm>
                <a:off x="9156600" y="4988160"/>
                <a:ext cx="550800" cy="1167840"/>
                <a:chOff x="9156600" y="4988160"/>
                <a:chExt cx="550800" cy="1167840"/>
              </a:xfrm>
            </p:grpSpPr>
            <p:sp>
              <p:nvSpPr>
                <p:cNvPr id="132" name="AutoShape 25"/>
                <p:cNvSpPr/>
                <p:nvPr/>
              </p:nvSpPr>
              <p:spPr>
                <a:xfrm>
                  <a:off x="9156600" y="5075640"/>
                  <a:ext cx="550800" cy="1080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0699"/>
                      </a:moveTo>
                      <a:cubicBezTo>
                        <a:pt x="21600" y="11353"/>
                        <a:pt x="20918" y="11680"/>
                        <a:pt x="19554" y="11680"/>
                      </a:cubicBezTo>
                      <a:cubicBezTo>
                        <a:pt x="18189" y="11680"/>
                        <a:pt x="17507" y="11353"/>
                        <a:pt x="17507" y="10699"/>
                      </a:cubicBezTo>
                      <a:cubicBezTo>
                        <a:pt x="17507" y="3613"/>
                        <a:pt x="17507" y="3613"/>
                        <a:pt x="17507" y="3613"/>
                      </a:cubicBezTo>
                      <a:cubicBezTo>
                        <a:pt x="16598" y="3613"/>
                        <a:pt x="16598" y="3613"/>
                        <a:pt x="16598" y="3613"/>
                      </a:cubicBezTo>
                      <a:cubicBezTo>
                        <a:pt x="16598" y="20510"/>
                        <a:pt x="16598" y="20510"/>
                        <a:pt x="16598" y="20510"/>
                      </a:cubicBezTo>
                      <a:cubicBezTo>
                        <a:pt x="16598" y="21273"/>
                        <a:pt x="15688" y="21600"/>
                        <a:pt x="14097" y="21600"/>
                      </a:cubicBezTo>
                      <a:cubicBezTo>
                        <a:pt x="12278" y="21600"/>
                        <a:pt x="11368" y="21273"/>
                        <a:pt x="11368" y="20510"/>
                      </a:cubicBezTo>
                      <a:cubicBezTo>
                        <a:pt x="11368" y="10590"/>
                        <a:pt x="11368" y="10590"/>
                        <a:pt x="11368" y="10590"/>
                      </a:cubicBezTo>
                      <a:cubicBezTo>
                        <a:pt x="10232" y="10590"/>
                        <a:pt x="10232" y="10590"/>
                        <a:pt x="10232" y="10590"/>
                      </a:cubicBezTo>
                      <a:cubicBezTo>
                        <a:pt x="10232" y="20510"/>
                        <a:pt x="10232" y="20510"/>
                        <a:pt x="10232" y="20510"/>
                      </a:cubicBezTo>
                      <a:cubicBezTo>
                        <a:pt x="10232" y="21273"/>
                        <a:pt x="9322" y="21600"/>
                        <a:pt x="7503" y="21600"/>
                      </a:cubicBezTo>
                      <a:cubicBezTo>
                        <a:pt x="5912" y="21600"/>
                        <a:pt x="5002" y="21273"/>
                        <a:pt x="5002" y="20510"/>
                      </a:cubicBezTo>
                      <a:cubicBezTo>
                        <a:pt x="5002" y="3613"/>
                        <a:pt x="5002" y="3613"/>
                        <a:pt x="5002" y="3613"/>
                      </a:cubicBezTo>
                      <a:cubicBezTo>
                        <a:pt x="4093" y="3613"/>
                        <a:pt x="4093" y="3613"/>
                        <a:pt x="4093" y="3613"/>
                      </a:cubicBezTo>
                      <a:cubicBezTo>
                        <a:pt x="4093" y="10699"/>
                        <a:pt x="4093" y="10699"/>
                        <a:pt x="4093" y="10699"/>
                      </a:cubicBezTo>
                      <a:cubicBezTo>
                        <a:pt x="4093" y="11353"/>
                        <a:pt x="3411" y="11680"/>
                        <a:pt x="2046" y="11680"/>
                      </a:cubicBezTo>
                      <a:cubicBezTo>
                        <a:pt x="682" y="11680"/>
                        <a:pt x="0" y="11353"/>
                        <a:pt x="0" y="10699"/>
                      </a:cubicBezTo>
                      <a:cubicBezTo>
                        <a:pt x="0" y="2632"/>
                        <a:pt x="0" y="2632"/>
                        <a:pt x="0" y="2632"/>
                      </a:cubicBezTo>
                      <a:cubicBezTo>
                        <a:pt x="0" y="1324"/>
                        <a:pt x="340" y="0"/>
                        <a:pt x="3978" y="0"/>
                      </a:cubicBezTo>
                      <a:cubicBezTo>
                        <a:pt x="14664" y="0"/>
                        <a:pt x="17370" y="0"/>
                        <a:pt x="17370" y="0"/>
                      </a:cubicBezTo>
                      <a:cubicBezTo>
                        <a:pt x="21008" y="0"/>
                        <a:pt x="21600" y="1324"/>
                        <a:pt x="21600" y="2632"/>
                      </a:cubicBezTo>
                      <a:lnTo>
                        <a:pt x="21600" y="10699"/>
                      </a:lnTo>
                      <a:close/>
                      <a:moveTo>
                        <a:pt x="21600" y="10699"/>
                      </a:moveTo>
                    </a:path>
                  </a:pathLst>
                </a:custGeom>
                <a:solidFill>
                  <a:srgbClr val="7c93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4600" spc="-1" strike="noStrike">
                    <a:solidFill>
                      <a:srgbClr val="595959"/>
                    </a:solidFill>
                    <a:latin typeface="Cambria"/>
                  </a:endParaRPr>
                </a:p>
              </p:txBody>
            </p:sp>
            <p:sp>
              <p:nvSpPr>
                <p:cNvPr id="133" name="AutoShape 26"/>
                <p:cNvSpPr/>
                <p:nvPr/>
              </p:nvSpPr>
              <p:spPr>
                <a:xfrm>
                  <a:off x="9393120" y="4988160"/>
                  <a:ext cx="84240" cy="19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cubicBezTo>
                        <a:pt x="420" y="21080"/>
                        <a:pt x="234" y="21600"/>
                        <a:pt x="234" y="21600"/>
                      </a:cubicBezTo>
                      <a:lnTo>
                        <a:pt x="21600" y="21600"/>
                      </a:lnTo>
                      <a:lnTo>
                        <a:pt x="20806" y="0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</a:path>
                  </a:pathLst>
                </a:custGeom>
                <a:solidFill>
                  <a:srgbClr val="7c9304"/>
                </a:solidFill>
                <a:ln w="12600">
                  <a:solidFill>
                    <a:srgbClr val="000000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4600" spc="-1" strike="noStrike">
                    <a:solidFill>
                      <a:srgbClr val="595959"/>
                    </a:solidFill>
                    <a:latin typeface="Cambria"/>
                  </a:endParaRPr>
                </a:p>
              </p:txBody>
            </p:sp>
          </p:grpSp>
        </p:grpSp>
      </p:grpSp>
      <p:grpSp>
        <p:nvGrpSpPr>
          <p:cNvPr id="134" name="Group 34"/>
          <p:cNvGrpSpPr/>
          <p:nvPr/>
        </p:nvGrpSpPr>
        <p:grpSpPr>
          <a:xfrm>
            <a:off x="3378240" y="3652920"/>
            <a:ext cx="1119240" cy="2515320"/>
            <a:chOff x="3378240" y="3652920"/>
            <a:chExt cx="1119240" cy="2515320"/>
          </a:xfrm>
        </p:grpSpPr>
        <p:sp>
          <p:nvSpPr>
            <p:cNvPr id="135" name="Line 30"/>
            <p:cNvSpPr/>
            <p:nvPr/>
          </p:nvSpPr>
          <p:spPr>
            <a:xfrm flipV="1">
              <a:off x="3940200" y="4758120"/>
              <a:ext cx="0" cy="1410120"/>
            </a:xfrm>
            <a:prstGeom prst="line">
              <a:avLst/>
            </a:prstGeom>
            <a:ln w="28440">
              <a:solidFill>
                <a:srgbClr val="ebbb27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grpSp>
          <p:nvGrpSpPr>
            <p:cNvPr id="136" name="Group 33"/>
            <p:cNvGrpSpPr/>
            <p:nvPr/>
          </p:nvGrpSpPr>
          <p:grpSpPr>
            <a:xfrm>
              <a:off x="3378240" y="3652920"/>
              <a:ext cx="1119240" cy="1129320"/>
              <a:chOff x="3378240" y="3652920"/>
              <a:chExt cx="1119240" cy="1129320"/>
            </a:xfrm>
          </p:grpSpPr>
          <p:sp>
            <p:nvSpPr>
              <p:cNvPr id="137" name="AutoShape 31"/>
              <p:cNvSpPr/>
              <p:nvPr/>
            </p:nvSpPr>
            <p:spPr>
              <a:xfrm>
                <a:off x="3378240" y="3652920"/>
                <a:ext cx="1119240" cy="1129320"/>
              </a:xfrm>
              <a:prstGeom prst="diamond">
                <a:avLst/>
              </a:prstGeom>
              <a:solidFill>
                <a:srgbClr val="ecbd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38" name="Rectangle 32"/>
              <p:cNvSpPr/>
              <p:nvPr/>
            </p:nvSpPr>
            <p:spPr>
              <a:xfrm>
                <a:off x="3691080" y="4026600"/>
                <a:ext cx="52488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1a1a"/>
                    </a:solidFill>
                    <a:latin typeface="Aller Bold"/>
                    <a:ea typeface="ＭＳ Ｐゴシック"/>
                  </a:rPr>
                  <a:t>2001</a:t>
                </a:r>
                <a:endParaRPr b="0" lang="en-US" sz="18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</p:grpSp>
      <p:grpSp>
        <p:nvGrpSpPr>
          <p:cNvPr id="139" name="Group 39"/>
          <p:cNvGrpSpPr/>
          <p:nvPr/>
        </p:nvGrpSpPr>
        <p:grpSpPr>
          <a:xfrm>
            <a:off x="6896160" y="3657600"/>
            <a:ext cx="1119240" cy="2515320"/>
            <a:chOff x="6896160" y="3657600"/>
            <a:chExt cx="1119240" cy="2515320"/>
          </a:xfrm>
        </p:grpSpPr>
        <p:sp>
          <p:nvSpPr>
            <p:cNvPr id="140" name="Line 35"/>
            <p:cNvSpPr/>
            <p:nvPr/>
          </p:nvSpPr>
          <p:spPr>
            <a:xfrm flipV="1">
              <a:off x="7458120" y="4762800"/>
              <a:ext cx="0" cy="1410120"/>
            </a:xfrm>
            <a:prstGeom prst="line">
              <a:avLst/>
            </a:prstGeom>
            <a:ln w="28440">
              <a:solidFill>
                <a:srgbClr val="ebbb27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grpSp>
          <p:nvGrpSpPr>
            <p:cNvPr id="141" name="Group 38"/>
            <p:cNvGrpSpPr/>
            <p:nvPr/>
          </p:nvGrpSpPr>
          <p:grpSpPr>
            <a:xfrm>
              <a:off x="6896160" y="3657600"/>
              <a:ext cx="1119240" cy="1129320"/>
              <a:chOff x="6896160" y="3657600"/>
              <a:chExt cx="1119240" cy="1129320"/>
            </a:xfrm>
          </p:grpSpPr>
          <p:sp>
            <p:nvSpPr>
              <p:cNvPr id="142" name="AutoShape 36"/>
              <p:cNvSpPr/>
              <p:nvPr/>
            </p:nvSpPr>
            <p:spPr>
              <a:xfrm>
                <a:off x="6896160" y="3657600"/>
                <a:ext cx="1119240" cy="1129320"/>
              </a:xfrm>
              <a:prstGeom prst="diamond">
                <a:avLst/>
              </a:prstGeom>
              <a:solidFill>
                <a:srgbClr val="ecbd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43" name="Rectangle 37"/>
              <p:cNvSpPr/>
              <p:nvPr/>
            </p:nvSpPr>
            <p:spPr>
              <a:xfrm>
                <a:off x="7209000" y="4031280"/>
                <a:ext cx="52488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1a1a"/>
                    </a:solidFill>
                    <a:latin typeface="Aller Bold"/>
                    <a:ea typeface="ＭＳ Ｐゴシック"/>
                  </a:rPr>
                  <a:t>2012</a:t>
                </a:r>
                <a:endParaRPr b="0" lang="en-US" sz="18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</p:grpSp>
      <p:pic>
        <p:nvPicPr>
          <p:cNvPr id="144" name="Picture 40" descr=""/>
          <p:cNvPicPr/>
          <p:nvPr/>
        </p:nvPicPr>
        <p:blipFill>
          <a:blip r:embed="rId1"/>
          <a:stretch/>
        </p:blipFill>
        <p:spPr>
          <a:xfrm>
            <a:off x="12433320" y="4940280"/>
            <a:ext cx="2260440" cy="2260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1" descr=""/>
          <p:cNvPicPr/>
          <p:nvPr/>
        </p:nvPicPr>
        <p:blipFill>
          <a:blip r:embed="rId2"/>
          <a:stretch/>
        </p:blipFill>
        <p:spPr>
          <a:xfrm>
            <a:off x="1422360" y="410220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2" descr=""/>
          <p:cNvPicPr/>
          <p:nvPr/>
        </p:nvPicPr>
        <p:blipFill>
          <a:blip r:embed="rId3"/>
          <a:stretch/>
        </p:blipFill>
        <p:spPr>
          <a:xfrm>
            <a:off x="4991040" y="466092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6014880" y="3382920"/>
            <a:ext cx="4292640" cy="37213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2"/>
          <p:cNvSpPr/>
          <p:nvPr/>
        </p:nvSpPr>
        <p:spPr>
          <a:xfrm>
            <a:off x="10885320" y="3382920"/>
            <a:ext cx="4292640" cy="3721320"/>
          </a:xfrm>
          <a:prstGeom prst="roundRect">
            <a:avLst>
              <a:gd name="adj" fmla="val 1704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0885320" y="3621240"/>
            <a:ext cx="4294440" cy="442800"/>
          </a:xfrm>
          <a:prstGeom prst="rect">
            <a:avLst/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1152360" y="3382920"/>
            <a:ext cx="4292640" cy="3721320"/>
          </a:xfrm>
          <a:prstGeom prst="roundRect">
            <a:avLst>
              <a:gd name="adj" fmla="val 1704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152360" y="3621240"/>
            <a:ext cx="4292640" cy="442800"/>
          </a:xfrm>
          <a:prstGeom prst="rect">
            <a:avLst/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405080" y="4143240"/>
            <a:ext cx="37875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assa dolor sollicitudin arcu, non ornare magna orci a neque. Etiam tortor mauris, sed augue lacinia vitae. 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1109240" y="4143240"/>
            <a:ext cx="3846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Etiam sollicitudin tortor mauris, sed condimentum augue lacinia vitae. 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844640" y="3419640"/>
            <a:ext cx="29019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Template 1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11598120" y="3419640"/>
            <a:ext cx="2903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Template 2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1023480" y="590400"/>
            <a:ext cx="39808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pecial Offer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We want to explore. We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re curious people. Look back over history, people have put their lives at stake to go out and explore …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1"/>
          <p:cNvSpPr/>
          <p:nvPr/>
        </p:nvSpPr>
        <p:spPr>
          <a:xfrm>
            <a:off x="-23760" y="4307040"/>
            <a:ext cx="15822720" cy="1180800"/>
          </a:xfrm>
          <a:prstGeom prst="rightArrow">
            <a:avLst>
              <a:gd name="adj1" fmla="val 65213"/>
              <a:gd name="adj2" fmla="val 60982"/>
            </a:avLst>
          </a:prstGeom>
          <a:solidFill>
            <a:srgbClr val="0f0f0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077840" y="694368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My mission in life is not merely to survive, but to thrive; and to do so with some passion, some compassion, some humor, and some styl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503360" y="5292720"/>
            <a:ext cx="2711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15960" y="5915160"/>
            <a:ext cx="26863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Maecenas, dapib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567320" y="5300640"/>
            <a:ext cx="2712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579920" y="5923080"/>
            <a:ext cx="26877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Mapibus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485120" y="5300640"/>
            <a:ext cx="271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7497720" y="5923080"/>
            <a:ext cx="2685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Vitae dapib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Darkness cannot drive out darkness; only light can do that. Hate cannot drive out hate; only love can do that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1042200" y="590400"/>
            <a:ext cx="4194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Plan Summary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8" name="Line 11"/>
          <p:cNvSpPr/>
          <p:nvPr/>
        </p:nvSpPr>
        <p:spPr>
          <a:xfrm>
            <a:off x="4444920" y="3949560"/>
            <a:ext cx="0" cy="2265480"/>
          </a:xfrm>
          <a:prstGeom prst="line">
            <a:avLst/>
          </a:prstGeom>
          <a:ln w="50760">
            <a:solidFill>
              <a:srgbClr val="0f0f0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7391520" y="3949560"/>
            <a:ext cx="0" cy="2265480"/>
          </a:xfrm>
          <a:prstGeom prst="line">
            <a:avLst/>
          </a:prstGeom>
          <a:ln w="50760">
            <a:solidFill>
              <a:srgbClr val="0f0f0d">
                <a:alpha val="6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10287000" y="3949560"/>
            <a:ext cx="0" cy="2265480"/>
          </a:xfrm>
          <a:prstGeom prst="line">
            <a:avLst/>
          </a:prstGeom>
          <a:ln w="50760">
            <a:solidFill>
              <a:srgbClr val="0f0f0d">
                <a:alpha val="6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71" name="Picture 14" descr=""/>
          <p:cNvPicPr/>
          <p:nvPr/>
        </p:nvPicPr>
        <p:blipFill>
          <a:blip r:embed="rId1"/>
          <a:stretch/>
        </p:blipFill>
        <p:spPr>
          <a:xfrm>
            <a:off x="5118120" y="347976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"/>
          <p:cNvPicPr/>
          <p:nvPr/>
        </p:nvPicPr>
        <p:blipFill>
          <a:blip r:embed="rId2"/>
          <a:stretch/>
        </p:blipFill>
        <p:spPr>
          <a:xfrm>
            <a:off x="8026560" y="347976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"/>
          <p:cNvPicPr/>
          <p:nvPr/>
        </p:nvPicPr>
        <p:blipFill>
          <a:blip r:embed="rId3"/>
          <a:stretch/>
        </p:blipFill>
        <p:spPr>
          <a:xfrm>
            <a:off x="2044800" y="3479760"/>
            <a:ext cx="162540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3048120" y="5092560"/>
            <a:ext cx="1440" cy="1128960"/>
          </a:xfrm>
          <a:prstGeom prst="line">
            <a:avLst/>
          </a:prstGeom>
          <a:ln w="25560">
            <a:solidFill>
              <a:srgbClr val="d88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1003320" y="5753160"/>
            <a:ext cx="4406760" cy="2717640"/>
          </a:xfrm>
          <a:prstGeom prst="roundRect">
            <a:avLst>
              <a:gd name="adj" fmla="val 7009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0578960" y="5753160"/>
            <a:ext cx="4407120" cy="2717640"/>
          </a:xfrm>
          <a:prstGeom prst="roundRect">
            <a:avLst>
              <a:gd name="adj" fmla="val 7009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186520" y="5756400"/>
            <a:ext cx="5619600" cy="2714400"/>
          </a:xfrm>
          <a:prstGeom prst="rect">
            <a:avLst/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405080" y="5927760"/>
            <a:ext cx="3282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411200" y="6491160"/>
            <a:ext cx="328320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365880" y="5924520"/>
            <a:ext cx="3284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6122880" y="6486480"/>
            <a:ext cx="377820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11298240" y="5908680"/>
            <a:ext cx="3282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11241000" y="6491160"/>
            <a:ext cx="32832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1204920" y="155268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Darkness cannot drive out darkness; only light can do that. Hate cannot drive out hate; only love can do that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042200" y="590400"/>
            <a:ext cx="4194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Plan Summary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12242880" y="4275000"/>
            <a:ext cx="612720" cy="1532160"/>
          </a:xfrm>
          <a:custGeom>
            <a:avLst/>
            <a:gdLst/>
            <a:ahLst/>
            <a:rect l="l" t="t" r="r" b="b"/>
            <a:pathLst>
              <a:path w="21387" h="21451">
                <a:moveTo>
                  <a:pt x="10767" y="3"/>
                </a:moveTo>
                <a:cubicBezTo>
                  <a:pt x="10163" y="-15"/>
                  <a:pt x="9173" y="50"/>
                  <a:pt x="8379" y="485"/>
                </a:cubicBezTo>
                <a:cubicBezTo>
                  <a:pt x="7869" y="770"/>
                  <a:pt x="7992" y="989"/>
                  <a:pt x="7147" y="1709"/>
                </a:cubicBezTo>
                <a:cubicBezTo>
                  <a:pt x="6047" y="2649"/>
                  <a:pt x="7909" y="2821"/>
                  <a:pt x="6636" y="3320"/>
                </a:cubicBezTo>
                <a:cubicBezTo>
                  <a:pt x="6113" y="3525"/>
                  <a:pt x="6502" y="3869"/>
                  <a:pt x="6502" y="3869"/>
                </a:cubicBezTo>
                <a:cubicBezTo>
                  <a:pt x="6394" y="3885"/>
                  <a:pt x="6207" y="3880"/>
                  <a:pt x="6099" y="3896"/>
                </a:cubicBezTo>
                <a:cubicBezTo>
                  <a:pt x="5550" y="3950"/>
                  <a:pt x="4864" y="4024"/>
                  <a:pt x="4314" y="4395"/>
                </a:cubicBezTo>
                <a:cubicBezTo>
                  <a:pt x="3537" y="4916"/>
                  <a:pt x="1662" y="6006"/>
                  <a:pt x="254" y="6893"/>
                </a:cubicBezTo>
                <a:cubicBezTo>
                  <a:pt x="241" y="6904"/>
                  <a:pt x="226" y="6914"/>
                  <a:pt x="212" y="6920"/>
                </a:cubicBezTo>
                <a:cubicBezTo>
                  <a:pt x="186" y="6941"/>
                  <a:pt x="160" y="6962"/>
                  <a:pt x="133" y="6978"/>
                </a:cubicBezTo>
                <a:cubicBezTo>
                  <a:pt x="-28" y="7113"/>
                  <a:pt x="-54" y="7253"/>
                  <a:pt x="120" y="7398"/>
                </a:cubicBezTo>
                <a:cubicBezTo>
                  <a:pt x="402" y="7629"/>
                  <a:pt x="494" y="7843"/>
                  <a:pt x="883" y="8241"/>
                </a:cubicBezTo>
                <a:cubicBezTo>
                  <a:pt x="1258" y="8633"/>
                  <a:pt x="2132" y="9064"/>
                  <a:pt x="2789" y="9483"/>
                </a:cubicBezTo>
                <a:cubicBezTo>
                  <a:pt x="2950" y="9591"/>
                  <a:pt x="2935" y="9681"/>
                  <a:pt x="3351" y="9923"/>
                </a:cubicBezTo>
                <a:cubicBezTo>
                  <a:pt x="3579" y="10057"/>
                  <a:pt x="3967" y="10040"/>
                  <a:pt x="3820" y="10040"/>
                </a:cubicBezTo>
                <a:cubicBezTo>
                  <a:pt x="4182" y="10051"/>
                  <a:pt x="4546" y="10004"/>
                  <a:pt x="4532" y="10025"/>
                </a:cubicBezTo>
                <a:cubicBezTo>
                  <a:pt x="4331" y="10627"/>
                  <a:pt x="4437" y="11347"/>
                  <a:pt x="4692" y="12094"/>
                </a:cubicBezTo>
                <a:cubicBezTo>
                  <a:pt x="4839" y="12561"/>
                  <a:pt x="6473" y="15069"/>
                  <a:pt x="6527" y="15493"/>
                </a:cubicBezTo>
                <a:cubicBezTo>
                  <a:pt x="6688" y="17357"/>
                  <a:pt x="7279" y="18781"/>
                  <a:pt x="7641" y="19603"/>
                </a:cubicBezTo>
                <a:cubicBezTo>
                  <a:pt x="7668" y="19651"/>
                  <a:pt x="7723" y="19673"/>
                  <a:pt x="7763" y="19673"/>
                </a:cubicBezTo>
                <a:cubicBezTo>
                  <a:pt x="7790" y="19673"/>
                  <a:pt x="7857" y="19684"/>
                  <a:pt x="7951" y="19700"/>
                </a:cubicBezTo>
                <a:cubicBezTo>
                  <a:pt x="7965" y="20098"/>
                  <a:pt x="8258" y="20001"/>
                  <a:pt x="7775" y="20313"/>
                </a:cubicBezTo>
                <a:cubicBezTo>
                  <a:pt x="7494" y="20495"/>
                  <a:pt x="6838" y="20688"/>
                  <a:pt x="6891" y="21026"/>
                </a:cubicBezTo>
                <a:cubicBezTo>
                  <a:pt x="6905" y="21150"/>
                  <a:pt x="6973" y="21215"/>
                  <a:pt x="7214" y="21307"/>
                </a:cubicBezTo>
                <a:cubicBezTo>
                  <a:pt x="7536" y="21419"/>
                  <a:pt x="8649" y="21585"/>
                  <a:pt x="9694" y="21268"/>
                </a:cubicBezTo>
                <a:cubicBezTo>
                  <a:pt x="10231" y="21107"/>
                  <a:pt x="9893" y="20801"/>
                  <a:pt x="10000" y="20672"/>
                </a:cubicBezTo>
                <a:cubicBezTo>
                  <a:pt x="10148" y="20511"/>
                  <a:pt x="10348" y="20420"/>
                  <a:pt x="10214" y="20027"/>
                </a:cubicBezTo>
                <a:cubicBezTo>
                  <a:pt x="10187" y="19947"/>
                  <a:pt x="10096" y="19803"/>
                  <a:pt x="10042" y="19690"/>
                </a:cubicBezTo>
                <a:cubicBezTo>
                  <a:pt x="10176" y="19669"/>
                  <a:pt x="10281" y="19642"/>
                  <a:pt x="10281" y="19609"/>
                </a:cubicBezTo>
                <a:cubicBezTo>
                  <a:pt x="10294" y="19174"/>
                  <a:pt x="10309" y="18942"/>
                  <a:pt x="10268" y="18287"/>
                </a:cubicBezTo>
                <a:cubicBezTo>
                  <a:pt x="10228" y="17798"/>
                  <a:pt x="10243" y="17454"/>
                  <a:pt x="10176" y="16944"/>
                </a:cubicBezTo>
                <a:cubicBezTo>
                  <a:pt x="10109" y="16390"/>
                  <a:pt x="10015" y="16449"/>
                  <a:pt x="9908" y="15896"/>
                </a:cubicBezTo>
                <a:cubicBezTo>
                  <a:pt x="9868" y="15660"/>
                  <a:pt x="9825" y="15434"/>
                  <a:pt x="9879" y="15193"/>
                </a:cubicBezTo>
                <a:cubicBezTo>
                  <a:pt x="9892" y="15101"/>
                  <a:pt x="9987" y="14456"/>
                  <a:pt x="10000" y="14365"/>
                </a:cubicBezTo>
                <a:cubicBezTo>
                  <a:pt x="10027" y="13312"/>
                  <a:pt x="10097" y="12899"/>
                  <a:pt x="10231" y="11852"/>
                </a:cubicBezTo>
                <a:cubicBezTo>
                  <a:pt x="10257" y="11766"/>
                  <a:pt x="10376" y="11717"/>
                  <a:pt x="10469" y="11803"/>
                </a:cubicBezTo>
                <a:cubicBezTo>
                  <a:pt x="11207" y="12464"/>
                  <a:pt x="11555" y="12812"/>
                  <a:pt x="12145" y="13452"/>
                </a:cubicBezTo>
                <a:cubicBezTo>
                  <a:pt x="12615" y="13962"/>
                  <a:pt x="13770" y="15290"/>
                  <a:pt x="13851" y="15532"/>
                </a:cubicBezTo>
                <a:cubicBezTo>
                  <a:pt x="13985" y="15978"/>
                  <a:pt x="14184" y="16417"/>
                  <a:pt x="14345" y="16965"/>
                </a:cubicBezTo>
                <a:cubicBezTo>
                  <a:pt x="14640" y="17948"/>
                  <a:pt x="15661" y="19270"/>
                  <a:pt x="15795" y="19517"/>
                </a:cubicBezTo>
                <a:cubicBezTo>
                  <a:pt x="15822" y="19565"/>
                  <a:pt x="15834" y="19592"/>
                  <a:pt x="15874" y="19630"/>
                </a:cubicBezTo>
                <a:cubicBezTo>
                  <a:pt x="15888" y="19640"/>
                  <a:pt x="16007" y="19658"/>
                  <a:pt x="16168" y="19663"/>
                </a:cubicBezTo>
                <a:cubicBezTo>
                  <a:pt x="16221" y="19851"/>
                  <a:pt x="16234" y="20173"/>
                  <a:pt x="15912" y="20420"/>
                </a:cubicBezTo>
                <a:cubicBezTo>
                  <a:pt x="15631" y="20641"/>
                  <a:pt x="16113" y="20946"/>
                  <a:pt x="16113" y="20946"/>
                </a:cubicBezTo>
                <a:cubicBezTo>
                  <a:pt x="16408" y="21042"/>
                  <a:pt x="16743" y="21091"/>
                  <a:pt x="17186" y="21080"/>
                </a:cubicBezTo>
                <a:cubicBezTo>
                  <a:pt x="17615" y="21075"/>
                  <a:pt x="17884" y="21161"/>
                  <a:pt x="17978" y="21187"/>
                </a:cubicBezTo>
                <a:cubicBezTo>
                  <a:pt x="18031" y="21204"/>
                  <a:pt x="18057" y="21209"/>
                  <a:pt x="18057" y="21209"/>
                </a:cubicBezTo>
                <a:cubicBezTo>
                  <a:pt x="18057" y="21209"/>
                  <a:pt x="19373" y="21440"/>
                  <a:pt x="20848" y="21344"/>
                </a:cubicBezTo>
                <a:cubicBezTo>
                  <a:pt x="21478" y="21317"/>
                  <a:pt x="21546" y="21161"/>
                  <a:pt x="21104" y="20946"/>
                </a:cubicBezTo>
                <a:cubicBezTo>
                  <a:pt x="20447" y="20618"/>
                  <a:pt x="19682" y="20571"/>
                  <a:pt x="19361" y="20367"/>
                </a:cubicBezTo>
                <a:cubicBezTo>
                  <a:pt x="18771" y="19991"/>
                  <a:pt x="18409" y="19910"/>
                  <a:pt x="18288" y="19620"/>
                </a:cubicBezTo>
                <a:cubicBezTo>
                  <a:pt x="18449" y="19598"/>
                  <a:pt x="18543" y="19583"/>
                  <a:pt x="18543" y="19583"/>
                </a:cubicBezTo>
                <a:cubicBezTo>
                  <a:pt x="18543" y="19583"/>
                  <a:pt x="18461" y="19087"/>
                  <a:pt x="18368" y="18765"/>
                </a:cubicBezTo>
                <a:cubicBezTo>
                  <a:pt x="18126" y="17922"/>
                  <a:pt x="18046" y="17332"/>
                  <a:pt x="17965" y="16870"/>
                </a:cubicBezTo>
                <a:cubicBezTo>
                  <a:pt x="17831" y="16053"/>
                  <a:pt x="17360" y="15671"/>
                  <a:pt x="17253" y="15402"/>
                </a:cubicBezTo>
                <a:cubicBezTo>
                  <a:pt x="16851" y="14452"/>
                  <a:pt x="16690" y="14372"/>
                  <a:pt x="16449" y="13378"/>
                </a:cubicBezTo>
                <a:cubicBezTo>
                  <a:pt x="16408" y="13195"/>
                  <a:pt x="16221" y="11911"/>
                  <a:pt x="15912" y="11159"/>
                </a:cubicBezTo>
                <a:cubicBezTo>
                  <a:pt x="15738" y="10734"/>
                  <a:pt x="15405" y="10370"/>
                  <a:pt x="15137" y="9967"/>
                </a:cubicBezTo>
                <a:cubicBezTo>
                  <a:pt x="15218" y="10096"/>
                  <a:pt x="15269" y="9913"/>
                  <a:pt x="15564" y="9886"/>
                </a:cubicBezTo>
                <a:cubicBezTo>
                  <a:pt x="16208" y="9832"/>
                  <a:pt x="16476" y="9686"/>
                  <a:pt x="16838" y="9498"/>
                </a:cubicBezTo>
                <a:cubicBezTo>
                  <a:pt x="17723" y="9020"/>
                  <a:pt x="20312" y="7812"/>
                  <a:pt x="20714" y="7469"/>
                </a:cubicBezTo>
                <a:cubicBezTo>
                  <a:pt x="20888" y="7318"/>
                  <a:pt x="21195" y="7000"/>
                  <a:pt x="21208" y="6839"/>
                </a:cubicBezTo>
                <a:cubicBezTo>
                  <a:pt x="21222" y="6646"/>
                  <a:pt x="20727" y="6421"/>
                  <a:pt x="20580" y="6292"/>
                </a:cubicBezTo>
                <a:cubicBezTo>
                  <a:pt x="20379" y="6120"/>
                  <a:pt x="19881" y="5825"/>
                  <a:pt x="19599" y="5669"/>
                </a:cubicBezTo>
                <a:cubicBezTo>
                  <a:pt x="18889" y="5277"/>
                  <a:pt x="18528" y="5179"/>
                  <a:pt x="17496" y="4690"/>
                </a:cubicBezTo>
                <a:cubicBezTo>
                  <a:pt x="17335" y="4615"/>
                  <a:pt x="16586" y="4008"/>
                  <a:pt x="15862" y="3884"/>
                </a:cubicBezTo>
                <a:cubicBezTo>
                  <a:pt x="15192" y="3766"/>
                  <a:pt x="13968" y="3767"/>
                  <a:pt x="13968" y="3767"/>
                </a:cubicBezTo>
                <a:cubicBezTo>
                  <a:pt x="14116" y="3536"/>
                  <a:pt x="13620" y="3418"/>
                  <a:pt x="13620" y="3149"/>
                </a:cubicBezTo>
                <a:cubicBezTo>
                  <a:pt x="13620" y="2607"/>
                  <a:pt x="15057" y="2853"/>
                  <a:pt x="13729" y="1365"/>
                </a:cubicBezTo>
                <a:cubicBezTo>
                  <a:pt x="13595" y="1220"/>
                  <a:pt x="13324" y="554"/>
                  <a:pt x="12426" y="334"/>
                </a:cubicBezTo>
                <a:cubicBezTo>
                  <a:pt x="12305" y="302"/>
                  <a:pt x="12051" y="279"/>
                  <a:pt x="11957" y="236"/>
                </a:cubicBezTo>
                <a:cubicBezTo>
                  <a:pt x="11796" y="172"/>
                  <a:pt x="11555" y="87"/>
                  <a:pt x="11219" y="38"/>
                </a:cubicBezTo>
                <a:cubicBezTo>
                  <a:pt x="11126" y="25"/>
                  <a:pt x="10968" y="9"/>
                  <a:pt x="10767" y="3"/>
                </a:cubicBezTo>
                <a:close/>
                <a:moveTo>
                  <a:pt x="15514" y="5645"/>
                </a:moveTo>
                <a:cubicBezTo>
                  <a:pt x="15647" y="5640"/>
                  <a:pt x="15796" y="5665"/>
                  <a:pt x="15967" y="5723"/>
                </a:cubicBezTo>
                <a:cubicBezTo>
                  <a:pt x="16731" y="5981"/>
                  <a:pt x="18812" y="6904"/>
                  <a:pt x="18812" y="7022"/>
                </a:cubicBezTo>
                <a:cubicBezTo>
                  <a:pt x="18812" y="7113"/>
                  <a:pt x="18490" y="7365"/>
                  <a:pt x="17806" y="7838"/>
                </a:cubicBezTo>
                <a:cubicBezTo>
                  <a:pt x="17350" y="8155"/>
                  <a:pt x="16894" y="8365"/>
                  <a:pt x="16264" y="8763"/>
                </a:cubicBezTo>
                <a:cubicBezTo>
                  <a:pt x="16224" y="8790"/>
                  <a:pt x="15967" y="8972"/>
                  <a:pt x="15686" y="8961"/>
                </a:cubicBezTo>
                <a:cubicBezTo>
                  <a:pt x="15686" y="8961"/>
                  <a:pt x="15299" y="8919"/>
                  <a:pt x="14923" y="8817"/>
                </a:cubicBezTo>
                <a:cubicBezTo>
                  <a:pt x="14575" y="8720"/>
                  <a:pt x="14186" y="8736"/>
                  <a:pt x="14186" y="8758"/>
                </a:cubicBezTo>
                <a:cubicBezTo>
                  <a:pt x="14186" y="8763"/>
                  <a:pt x="13824" y="8521"/>
                  <a:pt x="13851" y="8021"/>
                </a:cubicBezTo>
                <a:cubicBezTo>
                  <a:pt x="13891" y="7054"/>
                  <a:pt x="14277" y="6722"/>
                  <a:pt x="14559" y="6340"/>
                </a:cubicBezTo>
                <a:cubicBezTo>
                  <a:pt x="14861" y="5938"/>
                  <a:pt x="15116" y="5661"/>
                  <a:pt x="15514" y="5645"/>
                </a:cubicBezTo>
                <a:close/>
                <a:moveTo>
                  <a:pt x="5395" y="5887"/>
                </a:moveTo>
                <a:cubicBezTo>
                  <a:pt x="5545" y="5876"/>
                  <a:pt x="5689" y="5902"/>
                  <a:pt x="5722" y="6028"/>
                </a:cubicBezTo>
                <a:cubicBezTo>
                  <a:pt x="5749" y="6120"/>
                  <a:pt x="5832" y="6280"/>
                  <a:pt x="5886" y="6414"/>
                </a:cubicBezTo>
                <a:cubicBezTo>
                  <a:pt x="6060" y="6844"/>
                  <a:pt x="6366" y="6931"/>
                  <a:pt x="6393" y="7210"/>
                </a:cubicBezTo>
                <a:cubicBezTo>
                  <a:pt x="6527" y="8430"/>
                  <a:pt x="5806" y="8382"/>
                  <a:pt x="5404" y="8919"/>
                </a:cubicBezTo>
                <a:cubicBezTo>
                  <a:pt x="5337" y="8903"/>
                  <a:pt x="4707" y="8988"/>
                  <a:pt x="4130" y="9095"/>
                </a:cubicBezTo>
                <a:cubicBezTo>
                  <a:pt x="3419" y="8778"/>
                  <a:pt x="3068" y="7651"/>
                  <a:pt x="2559" y="7281"/>
                </a:cubicBezTo>
                <a:cubicBezTo>
                  <a:pt x="2291" y="7082"/>
                  <a:pt x="3164" y="6834"/>
                  <a:pt x="3807" y="6544"/>
                </a:cubicBezTo>
                <a:cubicBezTo>
                  <a:pt x="4304" y="6323"/>
                  <a:pt x="4516" y="6228"/>
                  <a:pt x="5052" y="5964"/>
                </a:cubicBezTo>
                <a:cubicBezTo>
                  <a:pt x="5092" y="5946"/>
                  <a:pt x="5246" y="5898"/>
                  <a:pt x="5395" y="5887"/>
                </a:cubicBezTo>
                <a:close/>
                <a:moveTo>
                  <a:pt x="5395" y="5887"/>
                </a:moveTo>
              </a:path>
            </a:pathLst>
          </a:cu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3173120" y="4275000"/>
            <a:ext cx="593640" cy="1532160"/>
          </a:xfrm>
          <a:custGeom>
            <a:avLst/>
            <a:gdLst/>
            <a:ahLst/>
            <a:rect l="l" t="t" r="r" b="b"/>
            <a:pathLst>
              <a:path w="21470" h="21502">
                <a:moveTo>
                  <a:pt x="10246" y="10"/>
                </a:moveTo>
                <a:cubicBezTo>
                  <a:pt x="9651" y="39"/>
                  <a:pt x="9052" y="142"/>
                  <a:pt x="8490" y="331"/>
                </a:cubicBezTo>
                <a:cubicBezTo>
                  <a:pt x="7409" y="697"/>
                  <a:pt x="7827" y="1471"/>
                  <a:pt x="7827" y="1471"/>
                </a:cubicBezTo>
                <a:cubicBezTo>
                  <a:pt x="7827" y="1471"/>
                  <a:pt x="7467" y="1472"/>
                  <a:pt x="7689" y="1837"/>
                </a:cubicBezTo>
                <a:cubicBezTo>
                  <a:pt x="7827" y="2069"/>
                  <a:pt x="7730" y="2122"/>
                  <a:pt x="8174" y="2197"/>
                </a:cubicBezTo>
                <a:cubicBezTo>
                  <a:pt x="8285" y="2477"/>
                  <a:pt x="8629" y="2493"/>
                  <a:pt x="8629" y="2983"/>
                </a:cubicBezTo>
                <a:cubicBezTo>
                  <a:pt x="8629" y="2988"/>
                  <a:pt x="8355" y="2978"/>
                  <a:pt x="8161" y="3134"/>
                </a:cubicBezTo>
                <a:cubicBezTo>
                  <a:pt x="8106" y="3177"/>
                  <a:pt x="8049" y="3322"/>
                  <a:pt x="7827" y="3359"/>
                </a:cubicBezTo>
                <a:cubicBezTo>
                  <a:pt x="6842" y="3542"/>
                  <a:pt x="4636" y="3731"/>
                  <a:pt x="4095" y="3941"/>
                </a:cubicBezTo>
                <a:cubicBezTo>
                  <a:pt x="3332" y="4237"/>
                  <a:pt x="185" y="6557"/>
                  <a:pt x="185" y="6783"/>
                </a:cubicBezTo>
                <a:cubicBezTo>
                  <a:pt x="185" y="7133"/>
                  <a:pt x="112" y="7369"/>
                  <a:pt x="306" y="7546"/>
                </a:cubicBezTo>
                <a:cubicBezTo>
                  <a:pt x="1138" y="8300"/>
                  <a:pt x="2140" y="9548"/>
                  <a:pt x="3388" y="10139"/>
                </a:cubicBezTo>
                <a:cubicBezTo>
                  <a:pt x="3555" y="10220"/>
                  <a:pt x="3874" y="10313"/>
                  <a:pt x="4290" y="10366"/>
                </a:cubicBezTo>
                <a:cubicBezTo>
                  <a:pt x="4706" y="10420"/>
                  <a:pt x="5414" y="10539"/>
                  <a:pt x="5400" y="10636"/>
                </a:cubicBezTo>
                <a:cubicBezTo>
                  <a:pt x="5261" y="11507"/>
                  <a:pt x="4984" y="13595"/>
                  <a:pt x="4775" y="14591"/>
                </a:cubicBezTo>
                <a:cubicBezTo>
                  <a:pt x="4637" y="15242"/>
                  <a:pt x="4526" y="15984"/>
                  <a:pt x="4429" y="16447"/>
                </a:cubicBezTo>
                <a:cubicBezTo>
                  <a:pt x="4262" y="17244"/>
                  <a:pt x="4221" y="18180"/>
                  <a:pt x="3666" y="19165"/>
                </a:cubicBezTo>
                <a:cubicBezTo>
                  <a:pt x="3416" y="19617"/>
                  <a:pt x="2972" y="20214"/>
                  <a:pt x="3250" y="20214"/>
                </a:cubicBezTo>
                <a:cubicBezTo>
                  <a:pt x="2833" y="20612"/>
                  <a:pt x="1236" y="20827"/>
                  <a:pt x="432" y="20913"/>
                </a:cubicBezTo>
                <a:cubicBezTo>
                  <a:pt x="154" y="20940"/>
                  <a:pt x="-25" y="21043"/>
                  <a:pt x="3" y="21156"/>
                </a:cubicBezTo>
                <a:lnTo>
                  <a:pt x="29" y="21225"/>
                </a:lnTo>
                <a:cubicBezTo>
                  <a:pt x="43" y="21311"/>
                  <a:pt x="324" y="21344"/>
                  <a:pt x="393" y="21344"/>
                </a:cubicBezTo>
                <a:cubicBezTo>
                  <a:pt x="837" y="21376"/>
                  <a:pt x="2207" y="21461"/>
                  <a:pt x="3206" y="21305"/>
                </a:cubicBezTo>
                <a:cubicBezTo>
                  <a:pt x="4371" y="21128"/>
                  <a:pt x="5857" y="21247"/>
                  <a:pt x="7008" y="21188"/>
                </a:cubicBezTo>
                <a:cubicBezTo>
                  <a:pt x="7355" y="21171"/>
                  <a:pt x="7398" y="20692"/>
                  <a:pt x="7259" y="20471"/>
                </a:cubicBezTo>
                <a:cubicBezTo>
                  <a:pt x="7218" y="20407"/>
                  <a:pt x="7134" y="20375"/>
                  <a:pt x="7134" y="20375"/>
                </a:cubicBezTo>
                <a:lnTo>
                  <a:pt x="7190" y="20412"/>
                </a:lnTo>
                <a:cubicBezTo>
                  <a:pt x="7773" y="20434"/>
                  <a:pt x="8367" y="17905"/>
                  <a:pt x="8742" y="15860"/>
                </a:cubicBezTo>
                <a:cubicBezTo>
                  <a:pt x="8908" y="14999"/>
                  <a:pt x="10033" y="13116"/>
                  <a:pt x="10394" y="12497"/>
                </a:cubicBezTo>
                <a:cubicBezTo>
                  <a:pt x="10421" y="12443"/>
                  <a:pt x="10630" y="12443"/>
                  <a:pt x="10658" y="12497"/>
                </a:cubicBezTo>
                <a:cubicBezTo>
                  <a:pt x="10880" y="12987"/>
                  <a:pt x="11168" y="14031"/>
                  <a:pt x="11473" y="14757"/>
                </a:cubicBezTo>
                <a:cubicBezTo>
                  <a:pt x="11542" y="14924"/>
                  <a:pt x="11753" y="15564"/>
                  <a:pt x="11781" y="15968"/>
                </a:cubicBezTo>
                <a:cubicBezTo>
                  <a:pt x="11892" y="17206"/>
                  <a:pt x="11572" y="19842"/>
                  <a:pt x="12002" y="20175"/>
                </a:cubicBezTo>
                <a:cubicBezTo>
                  <a:pt x="12002" y="20175"/>
                  <a:pt x="11906" y="20682"/>
                  <a:pt x="11490" y="21053"/>
                </a:cubicBezTo>
                <a:cubicBezTo>
                  <a:pt x="10908" y="21575"/>
                  <a:pt x="13763" y="21580"/>
                  <a:pt x="14568" y="21381"/>
                </a:cubicBezTo>
                <a:cubicBezTo>
                  <a:pt x="15608" y="21128"/>
                  <a:pt x="14986" y="20682"/>
                  <a:pt x="15028" y="20488"/>
                </a:cubicBezTo>
                <a:cubicBezTo>
                  <a:pt x="15125" y="20316"/>
                  <a:pt x="15333" y="20316"/>
                  <a:pt x="15444" y="19950"/>
                </a:cubicBezTo>
                <a:cubicBezTo>
                  <a:pt x="15763" y="18841"/>
                  <a:pt x="15485" y="17442"/>
                  <a:pt x="15513" y="16318"/>
                </a:cubicBezTo>
                <a:cubicBezTo>
                  <a:pt x="15527" y="15946"/>
                  <a:pt x="15886" y="15230"/>
                  <a:pt x="15886" y="14229"/>
                </a:cubicBezTo>
                <a:cubicBezTo>
                  <a:pt x="15886" y="13223"/>
                  <a:pt x="15888" y="12330"/>
                  <a:pt x="15721" y="11431"/>
                </a:cubicBezTo>
                <a:cubicBezTo>
                  <a:pt x="15610" y="10839"/>
                  <a:pt x="16110" y="10802"/>
                  <a:pt x="15652" y="10044"/>
                </a:cubicBezTo>
                <a:cubicBezTo>
                  <a:pt x="17247" y="10108"/>
                  <a:pt x="17453" y="10054"/>
                  <a:pt x="17967" y="9801"/>
                </a:cubicBezTo>
                <a:cubicBezTo>
                  <a:pt x="19312" y="9123"/>
                  <a:pt x="20798" y="7585"/>
                  <a:pt x="21062" y="7321"/>
                </a:cubicBezTo>
                <a:cubicBezTo>
                  <a:pt x="21575" y="7278"/>
                  <a:pt x="21546" y="6846"/>
                  <a:pt x="21296" y="6534"/>
                </a:cubicBezTo>
                <a:cubicBezTo>
                  <a:pt x="21226" y="6453"/>
                  <a:pt x="20909" y="6465"/>
                  <a:pt x="20854" y="6384"/>
                </a:cubicBezTo>
                <a:cubicBezTo>
                  <a:pt x="20424" y="5755"/>
                  <a:pt x="17691" y="4302"/>
                  <a:pt x="17247" y="3990"/>
                </a:cubicBezTo>
                <a:cubicBezTo>
                  <a:pt x="16859" y="3715"/>
                  <a:pt x="14264" y="3516"/>
                  <a:pt x="13376" y="3381"/>
                </a:cubicBezTo>
                <a:cubicBezTo>
                  <a:pt x="13237" y="3360"/>
                  <a:pt x="13085" y="3300"/>
                  <a:pt x="13029" y="3247"/>
                </a:cubicBezTo>
                <a:cubicBezTo>
                  <a:pt x="13001" y="3225"/>
                  <a:pt x="12988" y="3204"/>
                  <a:pt x="12960" y="3183"/>
                </a:cubicBezTo>
                <a:cubicBezTo>
                  <a:pt x="12724" y="2984"/>
                  <a:pt x="12392" y="2989"/>
                  <a:pt x="12392" y="2989"/>
                </a:cubicBezTo>
                <a:cubicBezTo>
                  <a:pt x="12350" y="2839"/>
                  <a:pt x="12319" y="2714"/>
                  <a:pt x="12444" y="2628"/>
                </a:cubicBezTo>
                <a:cubicBezTo>
                  <a:pt x="12610" y="2504"/>
                  <a:pt x="12750" y="2364"/>
                  <a:pt x="12847" y="2219"/>
                </a:cubicBezTo>
                <a:cubicBezTo>
                  <a:pt x="13041" y="2203"/>
                  <a:pt x="13196" y="2213"/>
                  <a:pt x="13376" y="1933"/>
                </a:cubicBezTo>
                <a:cubicBezTo>
                  <a:pt x="13445" y="1810"/>
                  <a:pt x="13748" y="1482"/>
                  <a:pt x="13276" y="1471"/>
                </a:cubicBezTo>
                <a:cubicBezTo>
                  <a:pt x="13373" y="1245"/>
                  <a:pt x="13679" y="444"/>
                  <a:pt x="12500" y="272"/>
                </a:cubicBezTo>
                <a:cubicBezTo>
                  <a:pt x="12153" y="223"/>
                  <a:pt x="12141" y="153"/>
                  <a:pt x="11989" y="126"/>
                </a:cubicBezTo>
                <a:cubicBezTo>
                  <a:pt x="11434" y="23"/>
                  <a:pt x="10841" y="-20"/>
                  <a:pt x="10246" y="10"/>
                </a:cubicBezTo>
                <a:close/>
                <a:moveTo>
                  <a:pt x="16042" y="6038"/>
                </a:moveTo>
                <a:cubicBezTo>
                  <a:pt x="16175" y="6060"/>
                  <a:pt x="16316" y="6123"/>
                  <a:pt x="16371" y="6147"/>
                </a:cubicBezTo>
                <a:cubicBezTo>
                  <a:pt x="17342" y="6567"/>
                  <a:pt x="18104" y="6825"/>
                  <a:pt x="18201" y="6955"/>
                </a:cubicBezTo>
                <a:cubicBezTo>
                  <a:pt x="18270" y="7186"/>
                  <a:pt x="18326" y="7449"/>
                  <a:pt x="18326" y="7449"/>
                </a:cubicBezTo>
                <a:cubicBezTo>
                  <a:pt x="18326" y="7449"/>
                  <a:pt x="17454" y="9005"/>
                  <a:pt x="17052" y="9124"/>
                </a:cubicBezTo>
                <a:cubicBezTo>
                  <a:pt x="16802" y="9205"/>
                  <a:pt x="15790" y="8946"/>
                  <a:pt x="15236" y="8972"/>
                </a:cubicBezTo>
                <a:cubicBezTo>
                  <a:pt x="15236" y="8703"/>
                  <a:pt x="15249" y="8450"/>
                  <a:pt x="15305" y="7950"/>
                </a:cubicBezTo>
                <a:cubicBezTo>
                  <a:pt x="15374" y="7347"/>
                  <a:pt x="15692" y="6443"/>
                  <a:pt x="15747" y="6174"/>
                </a:cubicBezTo>
                <a:cubicBezTo>
                  <a:pt x="15782" y="6034"/>
                  <a:pt x="15908" y="6016"/>
                  <a:pt x="16042" y="6038"/>
                </a:cubicBezTo>
                <a:close/>
                <a:moveTo>
                  <a:pt x="5001" y="6053"/>
                </a:moveTo>
                <a:cubicBezTo>
                  <a:pt x="5137" y="6043"/>
                  <a:pt x="5286" y="6074"/>
                  <a:pt x="5317" y="6131"/>
                </a:cubicBezTo>
                <a:cubicBezTo>
                  <a:pt x="5456" y="6389"/>
                  <a:pt x="5454" y="6740"/>
                  <a:pt x="5551" y="7133"/>
                </a:cubicBezTo>
                <a:cubicBezTo>
                  <a:pt x="5704" y="7752"/>
                  <a:pt x="5968" y="8369"/>
                  <a:pt x="5898" y="8735"/>
                </a:cubicBezTo>
                <a:cubicBezTo>
                  <a:pt x="5870" y="8918"/>
                  <a:pt x="5912" y="9091"/>
                  <a:pt x="5898" y="9107"/>
                </a:cubicBezTo>
                <a:cubicBezTo>
                  <a:pt x="5898" y="9107"/>
                  <a:pt x="5413" y="9295"/>
                  <a:pt x="5205" y="9322"/>
                </a:cubicBezTo>
                <a:cubicBezTo>
                  <a:pt x="4899" y="9355"/>
                  <a:pt x="4593" y="9462"/>
                  <a:pt x="4537" y="9430"/>
                </a:cubicBezTo>
                <a:cubicBezTo>
                  <a:pt x="4149" y="9150"/>
                  <a:pt x="3152" y="7622"/>
                  <a:pt x="3042" y="7385"/>
                </a:cubicBezTo>
                <a:cubicBezTo>
                  <a:pt x="3097" y="7251"/>
                  <a:pt x="3139" y="7062"/>
                  <a:pt x="3167" y="6965"/>
                </a:cubicBezTo>
                <a:cubicBezTo>
                  <a:pt x="3181" y="6922"/>
                  <a:pt x="3206" y="6884"/>
                  <a:pt x="3276" y="6852"/>
                </a:cubicBezTo>
                <a:cubicBezTo>
                  <a:pt x="3539" y="6701"/>
                  <a:pt x="4330" y="6260"/>
                  <a:pt x="4871" y="6077"/>
                </a:cubicBezTo>
                <a:cubicBezTo>
                  <a:pt x="4909" y="6063"/>
                  <a:pt x="4955" y="6057"/>
                  <a:pt x="5001" y="6053"/>
                </a:cubicBezTo>
                <a:close/>
                <a:moveTo>
                  <a:pt x="5001" y="6053"/>
                </a:moveTo>
              </a:path>
            </a:pathLst>
          </a:cu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88" name="Picture 15" descr=""/>
          <p:cNvPicPr/>
          <p:nvPr/>
        </p:nvPicPr>
        <p:blipFill>
          <a:blip r:embed="rId1"/>
          <a:stretch/>
        </p:blipFill>
        <p:spPr>
          <a:xfrm>
            <a:off x="10159920" y="661680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" descr=""/>
          <p:cNvPicPr/>
          <p:nvPr/>
        </p:nvPicPr>
        <p:blipFill>
          <a:blip r:embed="rId2"/>
          <a:stretch/>
        </p:blipFill>
        <p:spPr>
          <a:xfrm>
            <a:off x="7639200" y="740412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7" descr=""/>
          <p:cNvPicPr/>
          <p:nvPr/>
        </p:nvPicPr>
        <p:blipFill>
          <a:blip r:embed="rId3"/>
          <a:stretch/>
        </p:blipFill>
        <p:spPr>
          <a:xfrm>
            <a:off x="4483080" y="6464160"/>
            <a:ext cx="1473120" cy="1473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"/>
          <p:cNvPicPr/>
          <p:nvPr/>
        </p:nvPicPr>
        <p:blipFill>
          <a:blip r:embed="rId4"/>
          <a:stretch/>
        </p:blipFill>
        <p:spPr>
          <a:xfrm>
            <a:off x="2247840" y="364500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3"/>
          <p:cNvGrpSpPr/>
          <p:nvPr/>
        </p:nvGrpSpPr>
        <p:grpSpPr>
          <a:xfrm>
            <a:off x="12240" y="2451240"/>
            <a:ext cx="9766800" cy="2058840"/>
            <a:chOff x="12240" y="2451240"/>
            <a:chExt cx="9766800" cy="2058840"/>
          </a:xfrm>
        </p:grpSpPr>
        <p:sp>
          <p:nvSpPr>
            <p:cNvPr id="193" name="AutoShape 1"/>
            <p:cNvSpPr/>
            <p:nvPr/>
          </p:nvSpPr>
          <p:spPr>
            <a:xfrm>
              <a:off x="1549440" y="3511800"/>
              <a:ext cx="8229600" cy="998280"/>
            </a:xfrm>
            <a:prstGeom prst="rightArrow">
              <a:avLst>
                <a:gd name="adj1" fmla="val 64148"/>
                <a:gd name="adj2" fmla="val 57210"/>
              </a:avLst>
            </a:pr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94" name="AutoShape 2"/>
            <p:cNvSpPr/>
            <p:nvPr/>
          </p:nvSpPr>
          <p:spPr>
            <a:xfrm flipH="1">
              <a:off x="11880" y="2451240"/>
              <a:ext cx="1539720" cy="1879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1600"/>
                  </a:lnTo>
                  <a:lnTo>
                    <a:pt x="21550" y="0"/>
                  </a:lnTo>
                  <a:lnTo>
                    <a:pt x="0" y="14128"/>
                  </a:lnTo>
                  <a:lnTo>
                    <a:pt x="0" y="21600"/>
                  </a:lnTo>
                  <a:lnTo>
                    <a:pt x="21600" y="18062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c46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95" name="Rectangle 4"/>
          <p:cNvSpPr/>
          <p:nvPr/>
        </p:nvSpPr>
        <p:spPr>
          <a:xfrm>
            <a:off x="1728720" y="3657600"/>
            <a:ext cx="9215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Phasellus eget dolor eu lacus imperdiet lacinia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96" name="Group 7"/>
          <p:cNvGrpSpPr/>
          <p:nvPr/>
        </p:nvGrpSpPr>
        <p:grpSpPr>
          <a:xfrm>
            <a:off x="12240" y="4572000"/>
            <a:ext cx="6413760" cy="1150560"/>
            <a:chOff x="12240" y="4572000"/>
            <a:chExt cx="6413760" cy="1150560"/>
          </a:xfrm>
        </p:grpSpPr>
        <p:sp>
          <p:nvSpPr>
            <p:cNvPr id="197" name="AutoShape 5"/>
            <p:cNvSpPr/>
            <p:nvPr/>
          </p:nvSpPr>
          <p:spPr>
            <a:xfrm>
              <a:off x="1549440" y="4705200"/>
              <a:ext cx="4876560" cy="1017360"/>
            </a:xfrm>
            <a:prstGeom prst="rightArrow">
              <a:avLst>
                <a:gd name="adj1" fmla="val 64148"/>
                <a:gd name="adj2" fmla="val 56144"/>
              </a:avLst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98" name="AutoShape 6"/>
            <p:cNvSpPr/>
            <p:nvPr/>
          </p:nvSpPr>
          <p:spPr>
            <a:xfrm flipH="1">
              <a:off x="11880" y="4572000"/>
              <a:ext cx="1539720" cy="96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21600"/>
                  </a:lnTo>
                  <a:lnTo>
                    <a:pt x="21600" y="0"/>
                  </a:lnTo>
                  <a:lnTo>
                    <a:pt x="0" y="6883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6e8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99" name="Rectangle 8"/>
          <p:cNvSpPr/>
          <p:nvPr/>
        </p:nvSpPr>
        <p:spPr>
          <a:xfrm>
            <a:off x="1728720" y="4849920"/>
            <a:ext cx="4681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200" name="Group 11"/>
          <p:cNvGrpSpPr/>
          <p:nvPr/>
        </p:nvGrpSpPr>
        <p:grpSpPr>
          <a:xfrm>
            <a:off x="-360" y="5837400"/>
            <a:ext cx="9034920" cy="1140840"/>
            <a:chOff x="-360" y="5837400"/>
            <a:chExt cx="9034920" cy="1140840"/>
          </a:xfrm>
        </p:grpSpPr>
        <p:sp>
          <p:nvSpPr>
            <p:cNvPr id="201" name="AutoShape 9"/>
            <p:cNvSpPr/>
            <p:nvPr/>
          </p:nvSpPr>
          <p:spPr>
            <a:xfrm>
              <a:off x="1549440" y="5837400"/>
              <a:ext cx="7485120" cy="1015560"/>
            </a:xfrm>
            <a:prstGeom prst="rightArrow">
              <a:avLst>
                <a:gd name="adj1" fmla="val 64148"/>
                <a:gd name="adj2" fmla="val 56268"/>
              </a:avLst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02" name="AutoShape 10"/>
            <p:cNvSpPr/>
            <p:nvPr/>
          </p:nvSpPr>
          <p:spPr>
            <a:xfrm flipH="1">
              <a:off x="-720" y="6019560"/>
              <a:ext cx="1546200" cy="95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14628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c4a0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203" name="Rectangle 12"/>
          <p:cNvSpPr/>
          <p:nvPr/>
        </p:nvSpPr>
        <p:spPr>
          <a:xfrm>
            <a:off x="1728720" y="5983200"/>
            <a:ext cx="8834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Quis finibus quam venenatis quis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204" name="Picture 13" descr=""/>
          <p:cNvPicPr/>
          <p:nvPr/>
        </p:nvPicPr>
        <p:blipFill>
          <a:blip r:embed="rId1"/>
          <a:stretch/>
        </p:blipFill>
        <p:spPr>
          <a:xfrm>
            <a:off x="8483760" y="3086280"/>
            <a:ext cx="7670520" cy="525780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16"/>
          <p:cNvGrpSpPr/>
          <p:nvPr/>
        </p:nvGrpSpPr>
        <p:grpSpPr>
          <a:xfrm>
            <a:off x="-360" y="7051680"/>
            <a:ext cx="7528320" cy="2036520"/>
            <a:chOff x="-360" y="7051680"/>
            <a:chExt cx="7528320" cy="2036520"/>
          </a:xfrm>
        </p:grpSpPr>
        <p:sp>
          <p:nvSpPr>
            <p:cNvPr id="206" name="AutoShape 14"/>
            <p:cNvSpPr/>
            <p:nvPr/>
          </p:nvSpPr>
          <p:spPr>
            <a:xfrm>
              <a:off x="1549440" y="7051680"/>
              <a:ext cx="5978520" cy="999360"/>
            </a:xfrm>
            <a:prstGeom prst="rightArrow">
              <a:avLst>
                <a:gd name="adj1" fmla="val 64148"/>
                <a:gd name="adj2" fmla="val 57165"/>
              </a:avLst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07" name="AutoShape 15"/>
            <p:cNvSpPr/>
            <p:nvPr/>
          </p:nvSpPr>
          <p:spPr>
            <a:xfrm flipH="1">
              <a:off x="-720" y="7223040"/>
              <a:ext cx="1546200" cy="186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0"/>
                  </a:lnTo>
                  <a:lnTo>
                    <a:pt x="21550" y="21600"/>
                  </a:lnTo>
                  <a:lnTo>
                    <a:pt x="0" y="7447"/>
                  </a:lnTo>
                  <a:lnTo>
                    <a:pt x="0" y="0"/>
                  </a:lnTo>
                  <a:lnTo>
                    <a:pt x="21600" y="355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26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208" name="Rectangle 17"/>
          <p:cNvSpPr/>
          <p:nvPr/>
        </p:nvSpPr>
        <p:spPr>
          <a:xfrm>
            <a:off x="1728720" y="7202520"/>
            <a:ext cx="4681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1065960" y="590400"/>
            <a:ext cx="35755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Data Arrow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0" name="Rectangle 19"/>
          <p:cNvSpPr/>
          <p:nvPr/>
        </p:nvSpPr>
        <p:spPr>
          <a:xfrm>
            <a:off x="1077840" y="1498680"/>
            <a:ext cx="147528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Our greatest fear should not be of failure but of succeeding at things in life that don't really matter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2044800" y="2438280"/>
            <a:ext cx="1215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dcdcd"/>
                </a:solidFill>
                <a:latin typeface="Lora Bold"/>
                <a:ea typeface="ＭＳ Ｐゴシック"/>
              </a:rPr>
              <a:t>Visit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9ab737"/>
                </a:solidFill>
                <a:latin typeface="Lora Bold"/>
                <a:ea typeface="ＭＳ Ｐゴシック"/>
              </a:rPr>
              <a:t>bestpowerpointtemplates.com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6e6e6"/>
                </a:solidFill>
                <a:latin typeface="Lora Bold"/>
                <a:ea typeface="ＭＳ Ｐゴシック"/>
              </a:rPr>
              <a:t>for more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fa8c31"/>
                </a:solidFill>
                <a:latin typeface="Lora Bold"/>
                <a:ea typeface="ＭＳ Ｐゴシック"/>
              </a:rPr>
              <a:t>free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e6e6e6"/>
                </a:solidFill>
                <a:latin typeface="Lora Bold"/>
                <a:ea typeface="ＭＳ Ｐゴシック"/>
              </a:rPr>
              <a:t>resources!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603800" y="5905440"/>
            <a:ext cx="1303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Font Used: </a:t>
            </a: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Cambria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 | Size: </a:t>
            </a: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1280x720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 | Color Scheme: </a:t>
            </a: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Modern Ag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213" name="Group 9"/>
          <p:cNvGrpSpPr/>
          <p:nvPr/>
        </p:nvGrpSpPr>
        <p:grpSpPr>
          <a:xfrm>
            <a:off x="5842080" y="6794640"/>
            <a:ext cx="5473800" cy="787320"/>
            <a:chOff x="5842080" y="6794640"/>
            <a:chExt cx="5473800" cy="787320"/>
          </a:xfrm>
        </p:grpSpPr>
        <p:sp>
          <p:nvSpPr>
            <p:cNvPr id="214" name="Rectangle 3"/>
            <p:cNvSpPr/>
            <p:nvPr/>
          </p:nvSpPr>
          <p:spPr>
            <a:xfrm>
              <a:off x="5842080" y="6794640"/>
              <a:ext cx="914400" cy="787320"/>
            </a:xfrm>
            <a:prstGeom prst="rect">
              <a:avLst/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15" name="Rectangle 4"/>
            <p:cNvSpPr/>
            <p:nvPr/>
          </p:nvSpPr>
          <p:spPr>
            <a:xfrm>
              <a:off x="6756480" y="6794640"/>
              <a:ext cx="914400" cy="787320"/>
            </a:xfrm>
            <a:prstGeom prst="rect">
              <a:avLst/>
            </a:pr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16" name="Rectangle 5"/>
            <p:cNvSpPr/>
            <p:nvPr/>
          </p:nvSpPr>
          <p:spPr>
            <a:xfrm>
              <a:off x="7670880" y="6794640"/>
              <a:ext cx="914400" cy="78732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8585280" y="6794640"/>
              <a:ext cx="914400" cy="787320"/>
            </a:xfrm>
            <a:prstGeom prst="rect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9499680" y="6794640"/>
              <a:ext cx="914400" cy="787320"/>
            </a:xfrm>
            <a:prstGeom prst="rect">
              <a:avLst/>
            </a:prstGeom>
            <a:solidFill>
              <a:srgbClr val="d24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10401480" y="6794640"/>
              <a:ext cx="914400" cy="787320"/>
            </a:xfrm>
            <a:prstGeom prst="rect">
              <a:avLst/>
            </a:prstGeom>
            <a:solidFill>
              <a:srgbClr val="fdb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stas Mano</cp:lastModifiedBy>
  <dcterms:modified xsi:type="dcterms:W3CDTF">2019-12-05T05:43:50Z</dcterms:modified>
  <cp:revision>2</cp:revision>
  <dc:subject/>
  <dc:title>PowerPoint Presentation</dc:title>
</cp:coreProperties>
</file>