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00eb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00eb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6315120" y="3879720"/>
            <a:ext cx="544068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France Theme</a:t>
            </a:r>
            <a:endParaRPr b="0" lang="en-US" sz="6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890960" y="4870440"/>
            <a:ext cx="831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Great presentation theme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317840" y="392436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3600360" y="3352680"/>
            <a:ext cx="503568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header here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Iget dolor eu lacus imperdiet lacinia. Nunc tincidunt semper odio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600360" y="5292720"/>
            <a:ext cx="50356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header here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Nunc tincidunt semper odio ac tempus. Vivamus finibus eu metus. Vivamus felis eget mauris finibus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71720" y="7996320"/>
            <a:ext cx="14142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Positive thinking will let you do everything better than negative thinking will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207" name="Group 6"/>
          <p:cNvGrpSpPr/>
          <p:nvPr/>
        </p:nvGrpSpPr>
        <p:grpSpPr>
          <a:xfrm>
            <a:off x="9441000" y="2793960"/>
            <a:ext cx="5105160" cy="4597560"/>
            <a:chOff x="9441000" y="2793960"/>
            <a:chExt cx="5105160" cy="4597560"/>
          </a:xfrm>
        </p:grpSpPr>
        <p:pic>
          <p:nvPicPr>
            <p:cNvPr id="208" name="Picture 4" descr=""/>
            <p:cNvPicPr/>
            <p:nvPr/>
          </p:nvPicPr>
          <p:blipFill>
            <a:blip r:embed="rId1"/>
            <a:stretch/>
          </p:blipFill>
          <p:spPr>
            <a:xfrm>
              <a:off x="9441000" y="2793960"/>
              <a:ext cx="5105160" cy="45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" descr=""/>
            <p:cNvPicPr/>
            <p:nvPr/>
          </p:nvPicPr>
          <p:blipFill>
            <a:blip r:embed="rId2"/>
            <a:srcRect l="4168" t="0" r="4436" b="0"/>
            <a:stretch/>
          </p:blipFill>
          <p:spPr>
            <a:xfrm>
              <a:off x="9618480" y="3011400"/>
              <a:ext cx="4746240" cy="291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Group 11"/>
          <p:cNvGrpSpPr/>
          <p:nvPr/>
        </p:nvGrpSpPr>
        <p:grpSpPr>
          <a:xfrm>
            <a:off x="1517760" y="3333600"/>
            <a:ext cx="1488960" cy="1489320"/>
            <a:chOff x="1517760" y="3333600"/>
            <a:chExt cx="1488960" cy="1489320"/>
          </a:xfrm>
        </p:grpSpPr>
        <p:grpSp>
          <p:nvGrpSpPr>
            <p:cNvPr id="211" name="Group 9"/>
            <p:cNvGrpSpPr/>
            <p:nvPr/>
          </p:nvGrpSpPr>
          <p:grpSpPr>
            <a:xfrm>
              <a:off x="1517760" y="3333600"/>
              <a:ext cx="1488960" cy="1489320"/>
              <a:chOff x="1517760" y="3333600"/>
              <a:chExt cx="1488960" cy="1489320"/>
            </a:xfrm>
          </p:grpSpPr>
          <p:sp>
            <p:nvSpPr>
              <p:cNvPr id="212" name="AutoShape 7"/>
              <p:cNvSpPr/>
              <p:nvPr/>
            </p:nvSpPr>
            <p:spPr>
              <a:xfrm>
                <a:off x="1668600" y="3484440"/>
                <a:ext cx="1178280" cy="11797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  <a:moveTo>
                      <a:pt x="16796" y="2882"/>
                    </a:move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pic>
            <p:nvPicPr>
              <p:cNvPr id="213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7760" y="3333600"/>
                <a:ext cx="1488960" cy="1489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4" name="Picture 10" descr=""/>
            <p:cNvPicPr/>
            <p:nvPr/>
          </p:nvPicPr>
          <p:blipFill>
            <a:blip r:embed="rId4"/>
            <a:stretch/>
          </p:blipFill>
          <p:spPr>
            <a:xfrm>
              <a:off x="1739880" y="3560040"/>
              <a:ext cx="1036080" cy="10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Group 16"/>
          <p:cNvGrpSpPr/>
          <p:nvPr/>
        </p:nvGrpSpPr>
        <p:grpSpPr>
          <a:xfrm>
            <a:off x="1517760" y="5408640"/>
            <a:ext cx="1488960" cy="1488960"/>
            <a:chOff x="1517760" y="5408640"/>
            <a:chExt cx="1488960" cy="1488960"/>
          </a:xfrm>
        </p:grpSpPr>
        <p:grpSp>
          <p:nvGrpSpPr>
            <p:cNvPr id="216" name="Group 14"/>
            <p:cNvGrpSpPr/>
            <p:nvPr/>
          </p:nvGrpSpPr>
          <p:grpSpPr>
            <a:xfrm>
              <a:off x="1517760" y="5408640"/>
              <a:ext cx="1488960" cy="1488960"/>
              <a:chOff x="1517760" y="5408640"/>
              <a:chExt cx="1488960" cy="1488960"/>
            </a:xfrm>
          </p:grpSpPr>
          <p:sp>
            <p:nvSpPr>
              <p:cNvPr id="217" name="AutoShape 12"/>
              <p:cNvSpPr/>
              <p:nvPr/>
            </p:nvSpPr>
            <p:spPr>
              <a:xfrm>
                <a:off x="1668600" y="5559480"/>
                <a:ext cx="1178280" cy="117936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  <a:moveTo>
                      <a:pt x="16796" y="2882"/>
                    </a:move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pic>
            <p:nvPicPr>
              <p:cNvPr id="218" name="Pictur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1517760" y="5408640"/>
                <a:ext cx="1488960" cy="1488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9" name="Picture 15" descr=""/>
            <p:cNvPicPr/>
            <p:nvPr/>
          </p:nvPicPr>
          <p:blipFill>
            <a:blip r:embed="rId6"/>
            <a:srcRect l="0" t="0" r="257" b="257"/>
            <a:stretch/>
          </p:blipFill>
          <p:spPr>
            <a:xfrm>
              <a:off x="1739880" y="5632200"/>
              <a:ext cx="1033560" cy="10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Rectangle 17"/>
          <p:cNvSpPr/>
          <p:nvPr/>
        </p:nvSpPr>
        <p:spPr>
          <a:xfrm>
            <a:off x="990720" y="590400"/>
            <a:ext cx="43056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Cool Showcase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Look back over history, people have put their lives at stake to go out and explore …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6172200" y="2855880"/>
            <a:ext cx="12150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dcdcd"/>
                </a:solidFill>
                <a:latin typeface="Lora Bold"/>
                <a:ea typeface="ＭＳ Ｐゴシック"/>
              </a:rPr>
              <a:t>Visit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9ab737"/>
                </a:solidFill>
                <a:latin typeface="Lora Bold"/>
                <a:ea typeface="ＭＳ Ｐゴシック"/>
              </a:rPr>
              <a:t>bestpowerpointtemplates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6e6e6"/>
                </a:solidFill>
                <a:latin typeface="Lora Bold"/>
                <a:ea typeface="ＭＳ Ｐゴシック"/>
              </a:rPr>
              <a:t>for more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fa8c31"/>
                </a:solidFill>
                <a:latin typeface="Lora Bold"/>
                <a:ea typeface="ＭＳ Ｐゴシック"/>
              </a:rPr>
              <a:t>free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e6e6e6"/>
                </a:solidFill>
                <a:latin typeface="Lora Bold"/>
                <a:ea typeface="ＭＳ Ｐゴシック"/>
              </a:rPr>
              <a:t>resources!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6097680" y="6705720"/>
            <a:ext cx="5555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Color Scheme: </a:t>
            </a: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China Theme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6142680" y="6006960"/>
            <a:ext cx="3929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Font Used: </a:t>
            </a: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Cambria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225" name="Group 8"/>
          <p:cNvGrpSpPr/>
          <p:nvPr/>
        </p:nvGrpSpPr>
        <p:grpSpPr>
          <a:xfrm>
            <a:off x="6361200" y="5016600"/>
            <a:ext cx="3658320" cy="787320"/>
            <a:chOff x="6361200" y="5016600"/>
            <a:chExt cx="3658320" cy="787320"/>
          </a:xfrm>
        </p:grpSpPr>
        <p:sp>
          <p:nvSpPr>
            <p:cNvPr id="226" name="Rectangle 4"/>
            <p:cNvSpPr/>
            <p:nvPr/>
          </p:nvSpPr>
          <p:spPr>
            <a:xfrm>
              <a:off x="6361200" y="5016600"/>
              <a:ext cx="914400" cy="7873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227" name="Rectangle 5"/>
            <p:cNvSpPr/>
            <p:nvPr/>
          </p:nvSpPr>
          <p:spPr>
            <a:xfrm>
              <a:off x="7275600" y="5016600"/>
              <a:ext cx="914400" cy="787320"/>
            </a:xfrm>
            <a:prstGeom prst="rect">
              <a:avLst/>
            </a:prstGeom>
            <a:solidFill>
              <a:srgbClr val="163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228" name="Rectangle 6"/>
            <p:cNvSpPr/>
            <p:nvPr/>
          </p:nvSpPr>
          <p:spPr>
            <a:xfrm>
              <a:off x="8190360" y="5016600"/>
              <a:ext cx="914400" cy="787320"/>
            </a:xfrm>
            <a:prstGeom prst="rect">
              <a:avLst/>
            </a:prstGeom>
            <a:solidFill>
              <a:srgbClr val="ea1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9105120" y="5016600"/>
              <a:ext cx="914400" cy="787320"/>
            </a:xfrm>
            <a:prstGeom prst="rect">
              <a:avLst/>
            </a:prstGeom>
            <a:solidFill>
              <a:srgbClr val="fc8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828800" y="3035160"/>
            <a:ext cx="3251160" cy="3251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3"/>
          <p:cNvGrpSpPr/>
          <p:nvPr/>
        </p:nvGrpSpPr>
        <p:grpSpPr>
          <a:xfrm>
            <a:off x="1754280" y="5600880"/>
            <a:ext cx="2463840" cy="2463480"/>
            <a:chOff x="1754280" y="5600880"/>
            <a:chExt cx="2463840" cy="2463480"/>
          </a:xfrm>
        </p:grpSpPr>
        <p:sp>
          <p:nvSpPr>
            <p:cNvPr id="76" name="Rectangle 1"/>
            <p:cNvSpPr/>
            <p:nvPr/>
          </p:nvSpPr>
          <p:spPr>
            <a:xfrm flipH="1">
              <a:off x="1787760" y="5648040"/>
              <a:ext cx="2387520" cy="2387520"/>
            </a:xfrm>
            <a:prstGeom prst="rect">
              <a:avLst/>
            </a:prstGeom>
            <a:solidFill>
              <a:srgbClr val="b71e1f"/>
            </a:solidFill>
            <a:ln w="25560">
              <a:solidFill>
                <a:srgbClr val="34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77" name="Picture 2" descr=""/>
            <p:cNvPicPr/>
            <p:nvPr/>
          </p:nvPicPr>
          <p:blipFill>
            <a:blip r:embed="rId1"/>
            <a:srcRect l="338" t="0" r="32991" b="0"/>
            <a:stretch/>
          </p:blipFill>
          <p:spPr>
            <a:xfrm>
              <a:off x="1754280" y="5600880"/>
              <a:ext cx="2463840" cy="246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Group 6"/>
          <p:cNvGrpSpPr/>
          <p:nvPr/>
        </p:nvGrpSpPr>
        <p:grpSpPr>
          <a:xfrm>
            <a:off x="1755720" y="3067200"/>
            <a:ext cx="5003640" cy="2450880"/>
            <a:chOff x="1755720" y="3067200"/>
            <a:chExt cx="5003640" cy="2450880"/>
          </a:xfrm>
        </p:grpSpPr>
        <p:sp>
          <p:nvSpPr>
            <p:cNvPr id="79" name="Rectangle 4"/>
            <p:cNvSpPr/>
            <p:nvPr/>
          </p:nvSpPr>
          <p:spPr>
            <a:xfrm>
              <a:off x="1812960" y="3114360"/>
              <a:ext cx="2375640" cy="2374560"/>
            </a:xfrm>
            <a:prstGeom prst="rect">
              <a:avLst/>
            </a:prstGeom>
            <a:solidFill>
              <a:srgbClr val="cf5a6a"/>
            </a:solidFill>
            <a:ln w="25560">
              <a:solidFill>
                <a:srgbClr val="34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80" name="Picture 5" descr=""/>
            <p:cNvPicPr/>
            <p:nvPr/>
          </p:nvPicPr>
          <p:blipFill>
            <a:blip r:embed="rId2"/>
            <a:srcRect l="0" t="0" r="515" b="14599"/>
            <a:stretch/>
          </p:blipFill>
          <p:spPr>
            <a:xfrm>
              <a:off x="1755720" y="3067200"/>
              <a:ext cx="5003640" cy="245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Group 9"/>
          <p:cNvGrpSpPr/>
          <p:nvPr/>
        </p:nvGrpSpPr>
        <p:grpSpPr>
          <a:xfrm>
            <a:off x="4299120" y="5600880"/>
            <a:ext cx="2463480" cy="2463480"/>
            <a:chOff x="4299120" y="5600880"/>
            <a:chExt cx="2463480" cy="2463480"/>
          </a:xfrm>
        </p:grpSpPr>
        <p:sp>
          <p:nvSpPr>
            <p:cNvPr id="82" name="Rectangle 7"/>
            <p:cNvSpPr/>
            <p:nvPr/>
          </p:nvSpPr>
          <p:spPr>
            <a:xfrm flipH="1">
              <a:off x="4346280" y="5648040"/>
              <a:ext cx="2387520" cy="2387520"/>
            </a:xfrm>
            <a:prstGeom prst="rect">
              <a:avLst/>
            </a:prstGeom>
            <a:solidFill>
              <a:srgbClr val="9a566e"/>
            </a:solidFill>
            <a:ln w="25560">
              <a:solidFill>
                <a:srgbClr val="34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83" name="Picture 8" descr=""/>
            <p:cNvPicPr/>
            <p:nvPr/>
          </p:nvPicPr>
          <p:blipFill>
            <a:blip r:embed="rId3"/>
            <a:srcRect l="16552" t="0" r="16552" b="0"/>
            <a:stretch/>
          </p:blipFill>
          <p:spPr>
            <a:xfrm>
              <a:off x="4299120" y="5600880"/>
              <a:ext cx="2463480" cy="24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Rectangle 10"/>
          <p:cNvSpPr/>
          <p:nvPr/>
        </p:nvSpPr>
        <p:spPr>
          <a:xfrm>
            <a:off x="1073160" y="590400"/>
            <a:ext cx="55551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lides with pictures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s actually our duty to future generations and their quest to ensure the survival of the human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4"/>
          <a:srcRect l="15162" t="0" r="10165" b="0"/>
          <a:stretch/>
        </p:blipFill>
        <p:spPr>
          <a:xfrm>
            <a:off x="6858000" y="3060720"/>
            <a:ext cx="750564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"/>
          <p:cNvSpPr/>
          <p:nvPr/>
        </p:nvSpPr>
        <p:spPr>
          <a:xfrm>
            <a:off x="3306600" y="5578560"/>
            <a:ext cx="424080" cy="425520"/>
          </a:xfrm>
          <a:prstGeom prst="ellipse">
            <a:avLst/>
          </a:prstGeom>
          <a:solidFill>
            <a:srgbClr val="9a5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Line 2"/>
          <p:cNvSpPr/>
          <p:nvPr/>
        </p:nvSpPr>
        <p:spPr>
          <a:xfrm>
            <a:off x="-952560" y="5800680"/>
            <a:ext cx="17559360" cy="7920"/>
          </a:xfrm>
          <a:prstGeom prst="line">
            <a:avLst/>
          </a:prstGeom>
          <a:ln w="38160">
            <a:solidFill>
              <a:srgbClr val="7c9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8512200" y="3629160"/>
            <a:ext cx="1519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Year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0336320" y="3255840"/>
            <a:ext cx="429876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Suspendisse hendrerit fermentum arcu, nec efficitur sem ultrices id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8505720" y="6181560"/>
            <a:ext cx="361332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Suspendisse hendrerit fermentum arcu, nec efficitur sem ultrices id. Praesent quis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2296880" y="6939000"/>
            <a:ext cx="1517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Year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116000" y="590400"/>
            <a:ext cx="24811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Timeline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077840" y="1498680"/>
            <a:ext cx="147528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ositive thinking will let you do everything better than negative thinking will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12445920" y="5589720"/>
            <a:ext cx="1119240" cy="2177280"/>
            <a:chOff x="12445920" y="5589720"/>
            <a:chExt cx="1119240" cy="2177280"/>
          </a:xfrm>
        </p:grpSpPr>
        <p:sp>
          <p:nvSpPr>
            <p:cNvPr id="96" name="Oval 9"/>
            <p:cNvSpPr/>
            <p:nvPr/>
          </p:nvSpPr>
          <p:spPr>
            <a:xfrm>
              <a:off x="12779280" y="5589720"/>
              <a:ext cx="450720" cy="453960"/>
            </a:xfrm>
            <a:prstGeom prst="ellipse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grpSp>
          <p:nvGrpSpPr>
            <p:cNvPr id="97" name="Group 14"/>
            <p:cNvGrpSpPr/>
            <p:nvPr/>
          </p:nvGrpSpPr>
          <p:grpSpPr>
            <a:xfrm>
              <a:off x="12445920" y="5792760"/>
              <a:ext cx="1119240" cy="1974240"/>
              <a:chOff x="12445920" y="5792760"/>
              <a:chExt cx="1119240" cy="1974240"/>
            </a:xfrm>
          </p:grpSpPr>
          <p:sp>
            <p:nvSpPr>
              <p:cNvPr id="98" name="Line 10"/>
              <p:cNvSpPr/>
              <p:nvPr/>
            </p:nvSpPr>
            <p:spPr>
              <a:xfrm>
                <a:off x="13001400" y="5792760"/>
                <a:ext cx="0" cy="1354680"/>
              </a:xfrm>
              <a:prstGeom prst="line">
                <a:avLst/>
              </a:prstGeom>
              <a:ln w="28440">
                <a:solidFill>
                  <a:srgbClr val="fcc631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grpSp>
            <p:nvGrpSpPr>
              <p:cNvPr id="99" name="Group 13"/>
              <p:cNvGrpSpPr/>
              <p:nvPr/>
            </p:nvGrpSpPr>
            <p:grpSpPr>
              <a:xfrm>
                <a:off x="12445920" y="6631560"/>
                <a:ext cx="1119240" cy="1135440"/>
                <a:chOff x="12445920" y="6631560"/>
                <a:chExt cx="1119240" cy="1135440"/>
              </a:xfrm>
            </p:grpSpPr>
            <p:sp>
              <p:nvSpPr>
                <p:cNvPr id="100" name="AutoShape 11"/>
                <p:cNvSpPr/>
                <p:nvPr/>
              </p:nvSpPr>
              <p:spPr>
                <a:xfrm>
                  <a:off x="12445920" y="6631560"/>
                  <a:ext cx="1119240" cy="1135440"/>
                </a:xfrm>
                <a:prstGeom prst="pentagon">
                  <a:avLst/>
                </a:prstGeom>
                <a:solidFill>
                  <a:srgbClr val="ecbd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Cambria"/>
                  </a:endParaRPr>
                </a:p>
              </p:txBody>
            </p:sp>
            <p:sp>
              <p:nvSpPr>
                <p:cNvPr id="101" name="Rectangle 12"/>
                <p:cNvSpPr/>
                <p:nvPr/>
              </p:nvSpPr>
              <p:spPr>
                <a:xfrm>
                  <a:off x="12771720" y="7007400"/>
                  <a:ext cx="5248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1a1a"/>
                      </a:solidFill>
                      <a:latin typeface="Aller Bold"/>
                      <a:ea typeface="ＭＳ Ｐゴシック"/>
                    </a:rPr>
                    <a:t>2016</a:t>
                  </a:r>
                  <a:endParaRPr b="0" lang="en-US" sz="1800" spc="-1" strike="noStrike">
                    <a:solidFill>
                      <a:srgbClr val="ffffff"/>
                    </a:solidFill>
                    <a:latin typeface="Cambria"/>
                  </a:endParaRPr>
                </a:p>
              </p:txBody>
            </p:sp>
          </p:grpSp>
        </p:grpSp>
      </p:grpSp>
      <p:grpSp>
        <p:nvGrpSpPr>
          <p:cNvPr id="102" name="Group 20"/>
          <p:cNvGrpSpPr/>
          <p:nvPr/>
        </p:nvGrpSpPr>
        <p:grpSpPr>
          <a:xfrm>
            <a:off x="8712360" y="3403440"/>
            <a:ext cx="1118880" cy="2608200"/>
            <a:chOff x="8712360" y="3403440"/>
            <a:chExt cx="1118880" cy="2608200"/>
          </a:xfrm>
        </p:grpSpPr>
        <p:sp>
          <p:nvSpPr>
            <p:cNvPr id="103" name="Oval 16"/>
            <p:cNvSpPr/>
            <p:nvPr/>
          </p:nvSpPr>
          <p:spPr>
            <a:xfrm>
              <a:off x="9084960" y="5584680"/>
              <a:ext cx="423720" cy="426960"/>
            </a:xfrm>
            <a:prstGeom prst="ellipse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104" name="Line 17"/>
            <p:cNvSpPr/>
            <p:nvPr/>
          </p:nvSpPr>
          <p:spPr>
            <a:xfrm flipV="1">
              <a:off x="9299520" y="4399920"/>
              <a:ext cx="0" cy="1389240"/>
            </a:xfrm>
            <a:prstGeom prst="line">
              <a:avLst/>
            </a:prstGeom>
            <a:ln w="28440">
              <a:solidFill>
                <a:srgbClr val="ecbd08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105" name="AutoShape 18"/>
            <p:cNvSpPr/>
            <p:nvPr/>
          </p:nvSpPr>
          <p:spPr>
            <a:xfrm>
              <a:off x="8712360" y="3403440"/>
              <a:ext cx="1118880" cy="1112760"/>
            </a:xfrm>
            <a:prstGeom prst="pentagon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106" name="Rectangle 19"/>
            <p:cNvSpPr/>
            <p:nvPr/>
          </p:nvSpPr>
          <p:spPr>
            <a:xfrm>
              <a:off x="9037440" y="3797280"/>
              <a:ext cx="5248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1a"/>
                  </a:solidFill>
                  <a:latin typeface="Aller Bold"/>
                  <a:ea typeface="ＭＳ Ｐゴシック"/>
                </a:rPr>
                <a:t>2014</a:t>
              </a: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pic>
        <p:nvPicPr>
          <p:cNvPr id="107" name="Picture 21" descr=""/>
          <p:cNvPicPr/>
          <p:nvPr/>
        </p:nvPicPr>
        <p:blipFill>
          <a:blip r:embed="rId1"/>
          <a:stretch/>
        </p:blipFill>
        <p:spPr>
          <a:xfrm>
            <a:off x="1473120" y="3594240"/>
            <a:ext cx="5689800" cy="4152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969840" y="3816360"/>
            <a:ext cx="5532480" cy="642960"/>
          </a:xfrm>
          <a:prstGeom prst="roundRect">
            <a:avLst>
              <a:gd name="adj" fmla="val 35523"/>
            </a:avLst>
          </a:prstGeom>
          <a:solidFill>
            <a:srgbClr val="19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969840" y="4673520"/>
            <a:ext cx="4448160" cy="642960"/>
          </a:xfrm>
          <a:prstGeom prst="roundRect">
            <a:avLst>
              <a:gd name="adj" fmla="val 35523"/>
            </a:avLst>
          </a:prstGeom>
          <a:solidFill>
            <a:srgbClr val="e70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969840" y="5567400"/>
            <a:ext cx="7270920" cy="642960"/>
          </a:xfrm>
          <a:prstGeom prst="roundRect">
            <a:avLst>
              <a:gd name="adj" fmla="val 35523"/>
            </a:avLst>
          </a:prstGeom>
          <a:solidFill>
            <a:srgbClr val="d2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969840" y="6405480"/>
            <a:ext cx="5780160" cy="644760"/>
          </a:xfrm>
          <a:prstGeom prst="roundRect">
            <a:avLst>
              <a:gd name="adj" fmla="val 35523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947960" y="4708440"/>
            <a:ext cx="3198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0d15"/>
                </a:solidFill>
                <a:latin typeface="Cambria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947880" y="3780000"/>
            <a:ext cx="1517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65</a:t>
            </a:r>
            <a:r>
              <a:rPr b="0" lang="en-US" sz="1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47880" y="4641840"/>
            <a:ext cx="151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45</a:t>
            </a:r>
            <a:r>
              <a:rPr b="0" lang="en-US" sz="1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947880" y="5505480"/>
            <a:ext cx="1517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79</a:t>
            </a:r>
            <a:r>
              <a:rPr b="0" lang="en-US" sz="1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947880" y="6391440"/>
            <a:ext cx="1517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33</a:t>
            </a:r>
            <a:r>
              <a:rPr b="0" lang="en-US" sz="1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546280" y="3808440"/>
            <a:ext cx="3787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Crayon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1444680" y="4662360"/>
            <a:ext cx="3786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Com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4246560" y="5564160"/>
            <a:ext cx="3786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Flash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2746440" y="6418440"/>
            <a:ext cx="37861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Crayon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9298080" y="3216240"/>
            <a:ext cx="534168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oin ac nibh quis metus tristique sagittis vel ac ligula. Phasellus nec dui accumsan, dictum dolor elementum, volutpat turpis. Mante vestibulum, at mollis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1050840" y="590400"/>
            <a:ext cx="42292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The Difference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1077840" y="1463760"/>
            <a:ext cx="140842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ositive thinking will let you do everything better than negative thinking will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512640" y="3048120"/>
            <a:ext cx="5077080" cy="25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512640" y="3051000"/>
            <a:ext cx="5077080" cy="540000"/>
          </a:xfrm>
          <a:prstGeom prst="rect">
            <a:avLst/>
          </a:prstGeom>
          <a:solidFill>
            <a:srgbClr val="183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25600" y="2987640"/>
            <a:ext cx="5075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66720" y="3711600"/>
            <a:ext cx="48243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Vestibulum tristique mattis felis, quis finibus quam venenatis quis. Suspendisse blandit lorem hendrerit, bibendum metus quis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506520" y="5548320"/>
            <a:ext cx="5089320" cy="2506680"/>
          </a:xfrm>
          <a:prstGeom prst="rect">
            <a:avLst/>
          </a:prstGeom>
          <a:solidFill>
            <a:srgbClr val="e70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738360" y="5840280"/>
            <a:ext cx="46465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"/>
                <a:ea typeface="ＭＳ Ｐゴシック"/>
              </a:rPr>
              <a:t>Istique mattis felis, quis finibus quam venenatis quis. Suspendisse blandit lorem hendrerit, bibendum metus quis, elementum magna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0665000" y="3048120"/>
            <a:ext cx="5076720" cy="25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0665000" y="3051000"/>
            <a:ext cx="5076720" cy="540000"/>
          </a:xfrm>
          <a:prstGeom prst="rect">
            <a:avLst/>
          </a:prstGeom>
          <a:solidFill>
            <a:srgbClr val="183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10679040" y="2987640"/>
            <a:ext cx="5073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10820520" y="3711600"/>
            <a:ext cx="48225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Suspendisse blandit lorem hendrerit, bibendum metus quis, elementum magna. Mauris eleifend, tellus sed facilisis hendrerit, lacus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0658520" y="5548320"/>
            <a:ext cx="5089320" cy="2506680"/>
          </a:xfrm>
          <a:prstGeom prst="rect">
            <a:avLst/>
          </a:prstGeom>
          <a:solidFill>
            <a:srgbClr val="e70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10890360" y="5838840"/>
            <a:ext cx="464652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"/>
                <a:ea typeface="ＭＳ Ｐゴシック"/>
              </a:rPr>
              <a:t>Quam venenatis quis. Suspendisse blandit lorem hendrerit, bibendum metus quis, elementum magna. Mauris eleifend, tellus sed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962280" y="590400"/>
            <a:ext cx="7443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Another Data Assessment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1077840" y="150192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To go places and do things that have never been done before – that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s what living is all about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38" name="Group 19"/>
          <p:cNvGrpSpPr/>
          <p:nvPr/>
        </p:nvGrpSpPr>
        <p:grpSpPr>
          <a:xfrm>
            <a:off x="4711680" y="7331040"/>
            <a:ext cx="1119240" cy="1591560"/>
            <a:chOff x="4711680" y="7331040"/>
            <a:chExt cx="1119240" cy="1591560"/>
          </a:xfrm>
        </p:grpSpPr>
        <p:sp>
          <p:nvSpPr>
            <p:cNvPr id="139" name="Line 15"/>
            <p:cNvSpPr/>
            <p:nvPr/>
          </p:nvSpPr>
          <p:spPr>
            <a:xfrm>
              <a:off x="5267160" y="7331040"/>
              <a:ext cx="0" cy="1359720"/>
            </a:xfrm>
            <a:prstGeom prst="line">
              <a:avLst/>
            </a:prstGeom>
            <a:ln w="28440">
              <a:solidFill>
                <a:srgbClr val="f7f7f7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grpSp>
          <p:nvGrpSpPr>
            <p:cNvPr id="140" name="Group 18"/>
            <p:cNvGrpSpPr/>
            <p:nvPr/>
          </p:nvGrpSpPr>
          <p:grpSpPr>
            <a:xfrm>
              <a:off x="4711680" y="7782480"/>
              <a:ext cx="1119240" cy="1140120"/>
              <a:chOff x="4711680" y="7782480"/>
              <a:chExt cx="1119240" cy="1140120"/>
            </a:xfrm>
          </p:grpSpPr>
          <p:sp>
            <p:nvSpPr>
              <p:cNvPr id="141" name="AutoShape 16"/>
              <p:cNvSpPr/>
              <p:nvPr/>
            </p:nvSpPr>
            <p:spPr>
              <a:xfrm>
                <a:off x="4711680" y="7782480"/>
                <a:ext cx="1119240" cy="1140120"/>
              </a:xfrm>
              <a:prstGeom prst="pentagon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sp>
            <p:nvSpPr>
              <p:cNvPr id="142" name="Rectangle 17"/>
              <p:cNvSpPr/>
              <p:nvPr/>
            </p:nvSpPr>
            <p:spPr>
              <a:xfrm>
                <a:off x="4980240" y="8159760"/>
                <a:ext cx="52488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ller Bold"/>
                    <a:ea typeface="ＭＳ Ｐゴシック"/>
                  </a:rPr>
                  <a:t>1994</a:t>
                </a:r>
                <a:endParaRPr b="0" lang="en-US" sz="18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</p:grpSp>
      </p:grpSp>
      <p:grpSp>
        <p:nvGrpSpPr>
          <p:cNvPr id="143" name="Group 24"/>
          <p:cNvGrpSpPr/>
          <p:nvPr/>
        </p:nvGrpSpPr>
        <p:grpSpPr>
          <a:xfrm>
            <a:off x="14668560" y="7327800"/>
            <a:ext cx="1119240" cy="1593360"/>
            <a:chOff x="14668560" y="7327800"/>
            <a:chExt cx="1119240" cy="1593360"/>
          </a:xfrm>
        </p:grpSpPr>
        <p:sp>
          <p:nvSpPr>
            <p:cNvPr id="144" name="Line 20"/>
            <p:cNvSpPr/>
            <p:nvPr/>
          </p:nvSpPr>
          <p:spPr>
            <a:xfrm>
              <a:off x="15224040" y="7327800"/>
              <a:ext cx="0" cy="1361160"/>
            </a:xfrm>
            <a:prstGeom prst="line">
              <a:avLst/>
            </a:prstGeom>
            <a:ln w="28440">
              <a:solidFill>
                <a:srgbClr val="f7f7f7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grpSp>
          <p:nvGrpSpPr>
            <p:cNvPr id="145" name="Group 23"/>
            <p:cNvGrpSpPr/>
            <p:nvPr/>
          </p:nvGrpSpPr>
          <p:grpSpPr>
            <a:xfrm>
              <a:off x="14668560" y="7779960"/>
              <a:ext cx="1119240" cy="1141200"/>
              <a:chOff x="14668560" y="7779960"/>
              <a:chExt cx="1119240" cy="1141200"/>
            </a:xfrm>
          </p:grpSpPr>
          <p:sp>
            <p:nvSpPr>
              <p:cNvPr id="146" name="AutoShape 21"/>
              <p:cNvSpPr/>
              <p:nvPr/>
            </p:nvSpPr>
            <p:spPr>
              <a:xfrm>
                <a:off x="14668560" y="7779960"/>
                <a:ext cx="1119240" cy="1141200"/>
              </a:xfrm>
              <a:prstGeom prst="pentagon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sp>
            <p:nvSpPr>
              <p:cNvPr id="147" name="Rectangle 22"/>
              <p:cNvSpPr/>
              <p:nvPr/>
            </p:nvSpPr>
            <p:spPr>
              <a:xfrm>
                <a:off x="14937120" y="8138160"/>
                <a:ext cx="52488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ller Bold"/>
                    <a:ea typeface="ＭＳ Ｐゴシック"/>
                  </a:rPr>
                  <a:t>1997</a:t>
                </a:r>
                <a:endParaRPr b="0" lang="en-US" sz="18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</p:grpSp>
      </p:grpSp>
      <p:pic>
        <p:nvPicPr>
          <p:cNvPr id="148" name="Picture 25" descr=""/>
          <p:cNvPicPr/>
          <p:nvPr/>
        </p:nvPicPr>
        <p:blipFill>
          <a:blip r:embed="rId1"/>
          <a:stretch/>
        </p:blipFill>
        <p:spPr>
          <a:xfrm>
            <a:off x="6629400" y="3784680"/>
            <a:ext cx="3251160" cy="3251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1104840" y="590400"/>
            <a:ext cx="52898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Hierarchy Analysis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1087560" y="6653160"/>
            <a:ext cx="14147640" cy="1371600"/>
            <a:chOff x="1087560" y="6653160"/>
            <a:chExt cx="14147640" cy="1371600"/>
          </a:xfrm>
        </p:grpSpPr>
        <p:sp>
          <p:nvSpPr>
            <p:cNvPr id="151" name="Rectangle 2"/>
            <p:cNvSpPr/>
            <p:nvPr/>
          </p:nvSpPr>
          <p:spPr>
            <a:xfrm>
              <a:off x="1087560" y="6669000"/>
              <a:ext cx="14139720" cy="1355760"/>
            </a:xfrm>
            <a:prstGeom prst="rect">
              <a:avLst/>
            </a:prstGeom>
            <a:solidFill>
              <a:srgbClr val="7f0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152" name="Rectangle 3"/>
            <p:cNvSpPr/>
            <p:nvPr/>
          </p:nvSpPr>
          <p:spPr>
            <a:xfrm>
              <a:off x="1087560" y="6653160"/>
              <a:ext cx="14147640" cy="420840"/>
            </a:xfrm>
            <a:prstGeom prst="rect">
              <a:avLst/>
            </a:prstGeom>
            <a:solidFill>
              <a:srgbClr val="001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53" name="Rectangle 5"/>
          <p:cNvSpPr/>
          <p:nvPr/>
        </p:nvSpPr>
        <p:spPr>
          <a:xfrm>
            <a:off x="1487520" y="6516720"/>
            <a:ext cx="5646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487520" y="7126200"/>
            <a:ext cx="130795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"/>
                <a:ea typeface="ＭＳ Ｐゴシック"/>
              </a:rPr>
              <a:t>Praesent quam justo, tempor ac sollicitudin sed, mattis vel arcu. Proin ac nibh quis metus tristique sagittis vel ac ligulnean dichendrerit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077840" y="150192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To go places and do things that have never been done before – that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s what living is all about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9264600" y="3035160"/>
            <a:ext cx="5651640" cy="3619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2"/>
          <a:stretch/>
        </p:blipFill>
        <p:spPr>
          <a:xfrm>
            <a:off x="1130400" y="3137040"/>
            <a:ext cx="7454880" cy="3416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1981080" y="3548160"/>
            <a:ext cx="3070080" cy="4039200"/>
            <a:chOff x="1981080" y="3548160"/>
            <a:chExt cx="3070080" cy="4039200"/>
          </a:xfrm>
        </p:grpSpPr>
        <p:grpSp>
          <p:nvGrpSpPr>
            <p:cNvPr id="159" name="Group 3"/>
            <p:cNvGrpSpPr/>
            <p:nvPr/>
          </p:nvGrpSpPr>
          <p:grpSpPr>
            <a:xfrm>
              <a:off x="1981080" y="3555720"/>
              <a:ext cx="3070080" cy="4031640"/>
              <a:chOff x="1981080" y="3555720"/>
              <a:chExt cx="3070080" cy="4031640"/>
            </a:xfrm>
          </p:grpSpPr>
          <p:sp>
            <p:nvSpPr>
              <p:cNvPr id="160" name="Rectangle 1"/>
              <p:cNvSpPr/>
              <p:nvPr/>
            </p:nvSpPr>
            <p:spPr>
              <a:xfrm>
                <a:off x="1981080" y="4011480"/>
                <a:ext cx="3070080" cy="35758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sp>
            <p:nvSpPr>
              <p:cNvPr id="161" name="Rectangle 2"/>
              <p:cNvSpPr/>
              <p:nvPr/>
            </p:nvSpPr>
            <p:spPr>
              <a:xfrm>
                <a:off x="1981080" y="3555720"/>
                <a:ext cx="3070080" cy="455760"/>
              </a:xfrm>
              <a:prstGeom prst="rect">
                <a:avLst/>
              </a:prstGeom>
              <a:solidFill>
                <a:srgbClr val="ec1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</p:grpSp>
        <p:sp>
          <p:nvSpPr>
            <p:cNvPr id="162" name="Rectangle 4"/>
            <p:cNvSpPr/>
            <p:nvPr/>
          </p:nvSpPr>
          <p:spPr>
            <a:xfrm>
              <a:off x="2130480" y="3548160"/>
              <a:ext cx="280188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Some cool header.</a:t>
              </a:r>
              <a:endParaRPr b="0" lang="en-US" sz="20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163" name="Picture 5" descr=""/>
            <p:cNvPicPr/>
            <p:nvPr/>
          </p:nvPicPr>
          <p:blipFill>
            <a:blip r:embed="rId1"/>
            <a:srcRect l="21502" t="0" r="21769" b="0"/>
            <a:stretch/>
          </p:blipFill>
          <p:spPr>
            <a:xfrm>
              <a:off x="2084400" y="4120920"/>
              <a:ext cx="2852640" cy="336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Group 12"/>
          <p:cNvGrpSpPr/>
          <p:nvPr/>
        </p:nvGrpSpPr>
        <p:grpSpPr>
          <a:xfrm>
            <a:off x="5051520" y="3554280"/>
            <a:ext cx="3070080" cy="4033440"/>
            <a:chOff x="5051520" y="3554280"/>
            <a:chExt cx="3070080" cy="4033440"/>
          </a:xfrm>
        </p:grpSpPr>
        <p:grpSp>
          <p:nvGrpSpPr>
            <p:cNvPr id="165" name="Group 9"/>
            <p:cNvGrpSpPr/>
            <p:nvPr/>
          </p:nvGrpSpPr>
          <p:grpSpPr>
            <a:xfrm>
              <a:off x="5051520" y="3555720"/>
              <a:ext cx="3070080" cy="4032000"/>
              <a:chOff x="5051520" y="3555720"/>
              <a:chExt cx="3070080" cy="4032000"/>
            </a:xfrm>
          </p:grpSpPr>
          <p:sp>
            <p:nvSpPr>
              <p:cNvPr id="166" name="Rectangle 7"/>
              <p:cNvSpPr/>
              <p:nvPr/>
            </p:nvSpPr>
            <p:spPr>
              <a:xfrm>
                <a:off x="5051520" y="4011480"/>
                <a:ext cx="3070080" cy="35762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sp>
            <p:nvSpPr>
              <p:cNvPr id="167" name="Rectangle 8"/>
              <p:cNvSpPr/>
              <p:nvPr/>
            </p:nvSpPr>
            <p:spPr>
              <a:xfrm>
                <a:off x="5051520" y="3555720"/>
                <a:ext cx="3070080" cy="455760"/>
              </a:xfrm>
              <a:prstGeom prst="rect">
                <a:avLst/>
              </a:prstGeom>
              <a:solidFill>
                <a:srgbClr val="122e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</p:grpSp>
        <p:sp>
          <p:nvSpPr>
            <p:cNvPr id="168" name="Rectangle 10"/>
            <p:cNvSpPr/>
            <p:nvPr/>
          </p:nvSpPr>
          <p:spPr>
            <a:xfrm>
              <a:off x="5183280" y="3554280"/>
              <a:ext cx="28036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Some cool header.</a:t>
              </a:r>
              <a:endParaRPr b="0" lang="en-US" sz="20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169" name="Picture 11" descr=""/>
            <p:cNvPicPr/>
            <p:nvPr/>
          </p:nvPicPr>
          <p:blipFill>
            <a:blip r:embed="rId2"/>
            <a:srcRect l="21709" t="0" r="21842" b="0"/>
            <a:stretch/>
          </p:blipFill>
          <p:spPr>
            <a:xfrm>
              <a:off x="5170680" y="4125960"/>
              <a:ext cx="2852640" cy="336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Group 18"/>
          <p:cNvGrpSpPr/>
          <p:nvPr/>
        </p:nvGrpSpPr>
        <p:grpSpPr>
          <a:xfrm>
            <a:off x="8121600" y="3541680"/>
            <a:ext cx="3070080" cy="4050720"/>
            <a:chOff x="8121600" y="3541680"/>
            <a:chExt cx="3070080" cy="4050720"/>
          </a:xfrm>
        </p:grpSpPr>
        <p:grpSp>
          <p:nvGrpSpPr>
            <p:cNvPr id="171" name="Group 15"/>
            <p:cNvGrpSpPr/>
            <p:nvPr/>
          </p:nvGrpSpPr>
          <p:grpSpPr>
            <a:xfrm>
              <a:off x="8121600" y="3551040"/>
              <a:ext cx="3070080" cy="4041360"/>
              <a:chOff x="8121600" y="3551040"/>
              <a:chExt cx="3070080" cy="4041360"/>
            </a:xfrm>
          </p:grpSpPr>
          <p:sp>
            <p:nvSpPr>
              <p:cNvPr id="172" name="Rectangle 13"/>
              <p:cNvSpPr/>
              <p:nvPr/>
            </p:nvSpPr>
            <p:spPr>
              <a:xfrm>
                <a:off x="8121600" y="4006800"/>
                <a:ext cx="3070080" cy="35856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sp>
            <p:nvSpPr>
              <p:cNvPr id="173" name="Rectangle 14"/>
              <p:cNvSpPr/>
              <p:nvPr/>
            </p:nvSpPr>
            <p:spPr>
              <a:xfrm>
                <a:off x="8121600" y="3551040"/>
                <a:ext cx="3070080" cy="455760"/>
              </a:xfrm>
              <a:prstGeom prst="rect">
                <a:avLst/>
              </a:prstGeom>
              <a:solidFill>
                <a:srgbClr val="ec1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</p:grpSp>
        <p:sp>
          <p:nvSpPr>
            <p:cNvPr id="174" name="Rectangle 16"/>
            <p:cNvSpPr/>
            <p:nvPr/>
          </p:nvSpPr>
          <p:spPr>
            <a:xfrm>
              <a:off x="8280360" y="3541680"/>
              <a:ext cx="28036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Some cool header.</a:t>
              </a:r>
              <a:endParaRPr b="0" lang="en-US" sz="20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175" name="Picture 17" descr=""/>
            <p:cNvPicPr/>
            <p:nvPr/>
          </p:nvPicPr>
          <p:blipFill>
            <a:blip r:embed="rId3"/>
            <a:srcRect l="21757" t="157" r="21804" b="0"/>
            <a:stretch/>
          </p:blipFill>
          <p:spPr>
            <a:xfrm>
              <a:off x="8242200" y="4143240"/>
              <a:ext cx="2852640" cy="336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Group 24"/>
          <p:cNvGrpSpPr/>
          <p:nvPr/>
        </p:nvGrpSpPr>
        <p:grpSpPr>
          <a:xfrm>
            <a:off x="11192040" y="3544920"/>
            <a:ext cx="3070080" cy="4044240"/>
            <a:chOff x="11192040" y="3544920"/>
            <a:chExt cx="3070080" cy="4044240"/>
          </a:xfrm>
        </p:grpSpPr>
        <p:grpSp>
          <p:nvGrpSpPr>
            <p:cNvPr id="177" name="Group 21"/>
            <p:cNvGrpSpPr/>
            <p:nvPr/>
          </p:nvGrpSpPr>
          <p:grpSpPr>
            <a:xfrm>
              <a:off x="11192040" y="3551400"/>
              <a:ext cx="3070080" cy="4037760"/>
              <a:chOff x="11192040" y="3551400"/>
              <a:chExt cx="3070080" cy="4037760"/>
            </a:xfrm>
          </p:grpSpPr>
          <p:sp>
            <p:nvSpPr>
              <p:cNvPr id="178" name="Rectangle 19"/>
              <p:cNvSpPr/>
              <p:nvPr/>
            </p:nvSpPr>
            <p:spPr>
              <a:xfrm>
                <a:off x="11192040" y="4007160"/>
                <a:ext cx="3070080" cy="35820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sp>
            <p:nvSpPr>
              <p:cNvPr id="179" name="Rectangle 20"/>
              <p:cNvSpPr/>
              <p:nvPr/>
            </p:nvSpPr>
            <p:spPr>
              <a:xfrm>
                <a:off x="11192040" y="3551400"/>
                <a:ext cx="3070080" cy="455760"/>
              </a:xfrm>
              <a:prstGeom prst="rect">
                <a:avLst/>
              </a:prstGeom>
              <a:solidFill>
                <a:srgbClr val="122e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</p:grpSp>
        <p:sp>
          <p:nvSpPr>
            <p:cNvPr id="180" name="Rectangle 22"/>
            <p:cNvSpPr/>
            <p:nvPr/>
          </p:nvSpPr>
          <p:spPr>
            <a:xfrm>
              <a:off x="11330280" y="3544920"/>
              <a:ext cx="28018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Some cool header.</a:t>
              </a:r>
              <a:endParaRPr b="0" lang="en-US" sz="20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181" name="Picture 23" descr=""/>
            <p:cNvPicPr/>
            <p:nvPr/>
          </p:nvPicPr>
          <p:blipFill>
            <a:blip r:embed="rId4"/>
            <a:srcRect l="22567" t="0" r="22512" b="0"/>
            <a:stretch/>
          </p:blipFill>
          <p:spPr>
            <a:xfrm>
              <a:off x="11309400" y="4141800"/>
              <a:ext cx="2853000" cy="33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25"/>
          <p:cNvSpPr/>
          <p:nvPr/>
        </p:nvSpPr>
        <p:spPr>
          <a:xfrm>
            <a:off x="1073160" y="590400"/>
            <a:ext cx="55551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lides with pictures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Rectangle 26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s actually our duty to future generations and their quest to ensure the survival of the human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26000" y="590400"/>
            <a:ext cx="38710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Lorem Ipsum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077840" y="1501920"/>
            <a:ext cx="1414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069920" y="2479680"/>
            <a:ext cx="1412100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efe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600" spc="-1" strike="noStrike">
                <a:solidFill>
                  <a:srgbClr val="fffefe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efe"/>
                </a:solidFill>
                <a:latin typeface="Cambria"/>
                <a:ea typeface="Cambria"/>
              </a:rPr>
              <a:t>s actually our duty to future generations and their quest to ensure the survival of the human species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Zapf Dingbats" charset="2"/>
              <a:buChar char="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 Italic"/>
                <a:ea typeface="Cambria Ital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mbria Italic"/>
                <a:ea typeface="Cambria Italic"/>
              </a:rPr>
              <a:t>Curious that we spend more time congratulating people who have succeeded than encouraging people who have not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Zapf Dingbats" charset="2"/>
              <a:buChar char="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 Italic"/>
                <a:ea typeface="Cambria Ital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mbria Italic"/>
                <a:ea typeface="Cambria Italic"/>
              </a:rPr>
              <a:t>Here men from the planet Earth first set foot upon the Moon. July 1969 AD. We came in peace for all mankind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Zapf Dingbats" charset="2"/>
              <a:buChar char="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 Italic"/>
                <a:ea typeface="Cambria Ital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mbria Italic"/>
                <a:ea typeface="Cambria Italic"/>
              </a:rPr>
              <a:t>Many say exploration is part of our destiny, but i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mbria Italic"/>
                <a:ea typeface="Cambria Italic"/>
              </a:rPr>
              <a:t>s actually our duty to future generations and their quest to ensure the survival of the human species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Line 1"/>
          <p:cNvSpPr/>
          <p:nvPr/>
        </p:nvSpPr>
        <p:spPr>
          <a:xfrm flipV="1">
            <a:off x="1990800" y="4824000"/>
            <a:ext cx="12361680" cy="4680"/>
          </a:xfrm>
          <a:prstGeom prst="line">
            <a:avLst/>
          </a:prstGeom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Oval 2"/>
          <p:cNvSpPr/>
          <p:nvPr/>
        </p:nvSpPr>
        <p:spPr>
          <a:xfrm>
            <a:off x="1719360" y="4622760"/>
            <a:ext cx="423720" cy="4255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3527280" y="4616280"/>
            <a:ext cx="424080" cy="4273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Oval 4"/>
          <p:cNvSpPr/>
          <p:nvPr/>
        </p:nvSpPr>
        <p:spPr>
          <a:xfrm>
            <a:off x="12265200" y="4616280"/>
            <a:ext cx="423720" cy="4273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14084280" y="4616280"/>
            <a:ext cx="422280" cy="4273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222200" y="3809880"/>
            <a:ext cx="151956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b109"/>
                </a:solidFill>
                <a:latin typeface="Cambria"/>
                <a:ea typeface="ＭＳ Ｐゴシック"/>
              </a:rPr>
              <a:t>75%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978280" y="3808440"/>
            <a:ext cx="151920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b109"/>
                </a:solidFill>
                <a:latin typeface="Cambria"/>
                <a:ea typeface="ＭＳ Ｐゴシック"/>
              </a:rPr>
              <a:t>77%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11756880" y="3787920"/>
            <a:ext cx="151956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b109"/>
                </a:solidFill>
                <a:latin typeface="Cambria"/>
                <a:ea typeface="ＭＳ Ｐゴシック"/>
              </a:rPr>
              <a:t>83%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3512960" y="3784680"/>
            <a:ext cx="1519200" cy="579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b109"/>
                </a:solidFill>
                <a:latin typeface="Cambria"/>
                <a:ea typeface="ＭＳ Ｐゴシック"/>
              </a:rPr>
              <a:t>65%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1444680" y="5191200"/>
            <a:ext cx="1074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1991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3200400" y="5191200"/>
            <a:ext cx="1074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1992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11979360" y="5194440"/>
            <a:ext cx="1074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1997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13766760" y="5194440"/>
            <a:ext cx="1074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1998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1116000" y="590400"/>
            <a:ext cx="24811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Timeline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077840" y="1498680"/>
            <a:ext cx="147528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ositive thinking will let you do everything better than negative thinking will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1079640" y="7302600"/>
            <a:ext cx="147510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ositive thinking will let you do everything better than negative thinking will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203" name="Picture 17" descr=""/>
          <p:cNvPicPr/>
          <p:nvPr/>
        </p:nvPicPr>
        <p:blipFill>
          <a:blip r:embed="rId1"/>
          <a:stretch/>
        </p:blipFill>
        <p:spPr>
          <a:xfrm>
            <a:off x="5410080" y="2997360"/>
            <a:ext cx="5524560" cy="368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stas Mano</cp:lastModifiedBy>
  <dcterms:modified xsi:type="dcterms:W3CDTF">2019-12-05T05:41:35Z</dcterms:modified>
  <cp:revision>2</cp:revision>
  <dc:subject/>
  <dc:title>PowerPoint Presentation</dc:title>
</cp:coreProperties>
</file>