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keynotetemplate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keynotetemplate.com/" TargetMode="External"/><Relationship Id="rId3" Type="http://schemas.openxmlformats.org/officeDocument/2006/relationships/hyperlink" Target="http://keynotetemplate.com/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64040" y="8702640"/>
            <a:ext cx="37116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Visi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mbria"/>
                <a:ea typeface="ＭＳ Ｐゴシック"/>
                <a:hlinkClick r:id="rId2"/>
              </a:rPr>
              <a:t>http://keynotetemplate.com</a:t>
            </a:r>
            <a:r>
              <a:rPr b="0" lang="en-US" sz="1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 for more free resources!</a:t>
            </a:r>
            <a:endParaRPr b="0" lang="en-US" sz="12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127080"/>
            <a:ext cx="16256160" cy="71373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3"/>
          <p:cNvSpPr/>
          <p:nvPr/>
        </p:nvSpPr>
        <p:spPr>
          <a:xfrm>
            <a:off x="0" y="2108160"/>
            <a:ext cx="16256160" cy="7264440"/>
          </a:xfrm>
          <a:prstGeom prst="rect">
            <a:avLst/>
          </a:prstGeom>
          <a:solidFill>
            <a:srgbClr val="dea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1739880"/>
            <a:ext cx="16256160" cy="393840"/>
          </a:xfrm>
          <a:prstGeom prst="rect">
            <a:avLst/>
          </a:prstGeom>
          <a:gradFill rotWithShape="0">
            <a:gsLst>
              <a:gs pos="0">
                <a:srgbClr val="e0ac3d">
                  <a:alpha val="0"/>
                </a:srgbClr>
              </a:gs>
              <a:gs pos="100000">
                <a:srgbClr val="deab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"/>
          <p:cNvSpPr/>
          <p:nvPr/>
        </p:nvSpPr>
        <p:spPr>
          <a:xfrm>
            <a:off x="438840" y="8702640"/>
            <a:ext cx="37116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Visi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mbria"/>
                <a:ea typeface="ＭＳ Ｐゴシック"/>
                <a:hlinkClick r:id="rId2"/>
              </a:rPr>
              <a:t>http://keynotetemplate.com</a:t>
            </a:r>
            <a:r>
              <a:rPr b="0" lang="en-US" sz="1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 for more free resources!</a:t>
            </a:r>
            <a:endParaRPr b="0" lang="en-US" sz="1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1" name="Rectangle 2"/>
          <p:cNvSpPr/>
          <p:nvPr/>
        </p:nvSpPr>
        <p:spPr>
          <a:xfrm>
            <a:off x="464040" y="8702640"/>
            <a:ext cx="37116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Visi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mbria"/>
                <a:ea typeface="ＭＳ Ｐゴシック"/>
                <a:hlinkClick r:id="rId3"/>
              </a:rPr>
              <a:t>http://keynotetemplate.com</a:t>
            </a:r>
            <a:r>
              <a:rPr b="0" lang="en-US" sz="1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 for more free resources!</a:t>
            </a:r>
            <a:endParaRPr b="0" lang="en-US" sz="12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4"/>
          <a:stretch/>
        </p:blipFill>
        <p:spPr>
          <a:xfrm>
            <a:off x="0" y="-127080"/>
            <a:ext cx="16256160" cy="7137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0" y="2108160"/>
            <a:ext cx="16256160" cy="7264440"/>
          </a:xfrm>
          <a:prstGeom prst="rect">
            <a:avLst/>
          </a:prstGeom>
          <a:solidFill>
            <a:srgbClr val="dea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739880"/>
            <a:ext cx="16256160" cy="393840"/>
          </a:xfrm>
          <a:prstGeom prst="rect">
            <a:avLst/>
          </a:prstGeom>
          <a:gradFill rotWithShape="0">
            <a:gsLst>
              <a:gs pos="0">
                <a:srgbClr val="e0ac3d">
                  <a:alpha val="0"/>
                </a:srgbClr>
              </a:gs>
              <a:gs pos="100000">
                <a:srgbClr val="deab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  <a:p>
            <a:pPr lvl="1" marL="4316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878787"/>
              </a:solidFill>
              <a:latin typeface="Calibri"/>
            </a:endParaRPr>
          </a:p>
          <a:p>
            <a:pPr lvl="2" marL="863640" indent="50760" algn="ctr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878787"/>
              </a:solidFill>
              <a:latin typeface="Calibri"/>
            </a:endParaRPr>
          </a:p>
          <a:p>
            <a:pPr lvl="3" marL="1282680" indent="88920" algn="ctr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4" marL="1714680" indent="114120" algn="ctr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5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6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5406840" y="4260960"/>
            <a:ext cx="547740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Beach Theme</a:t>
            </a:r>
            <a:endParaRPr b="0" lang="en-US" sz="6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002120" y="5251320"/>
            <a:ext cx="8312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Great presentation theme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5570280" y="209520"/>
            <a:ext cx="509328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Lorem Ipsum</a:t>
            </a:r>
            <a:endParaRPr b="0" lang="en-US" sz="6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069920" y="2479680"/>
            <a:ext cx="1412100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Science cuts two ways, of course; its products can be used for both good and evil. But there's no turning back from science. The early warnings about technological dangers also come from science.</a:t>
            </a:r>
            <a:br>
              <a:rPr sz="3200"/>
            </a:b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  <a:p>
            <a:pPr>
              <a:spcBef>
                <a:spcPts val="1301"/>
              </a:spcBef>
              <a:buClr>
                <a:srgbClr val="595959"/>
              </a:buClr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To be the first to enter the cosmos, to engage, single-handed, in an unprecedented duel with nature—could one dream of anything more? Houston, Tranquillity Base here. The Eagle has landed. I don't know what you could say about a day in which you have seen four beautiful sunsets.</a:t>
            </a:r>
            <a:endParaRPr b="0" lang="en-US" sz="32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5570280" y="209520"/>
            <a:ext cx="509328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Lorem Ipsum</a:t>
            </a:r>
            <a:endParaRPr b="0" lang="en-US" sz="60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1193760" y="4813200"/>
            <a:ext cx="4330440" cy="2501640"/>
            <a:chOff x="1193760" y="4813200"/>
            <a:chExt cx="4330440" cy="2501640"/>
          </a:xfrm>
        </p:grpSpPr>
        <p:sp>
          <p:nvSpPr>
            <p:cNvPr id="89" name="Rectangle 2"/>
            <p:cNvSpPr/>
            <p:nvPr/>
          </p:nvSpPr>
          <p:spPr>
            <a:xfrm>
              <a:off x="1193760" y="4813200"/>
              <a:ext cx="4330440" cy="210816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90" name="Rectangle 3"/>
            <p:cNvSpPr/>
            <p:nvPr/>
          </p:nvSpPr>
          <p:spPr>
            <a:xfrm>
              <a:off x="1193760" y="6956280"/>
              <a:ext cx="4330440" cy="358560"/>
            </a:xfrm>
            <a:prstGeom prst="rect">
              <a:avLst/>
            </a:prstGeom>
            <a:solidFill>
              <a:srgbClr val="fdb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91" name="Group 7"/>
          <p:cNvGrpSpPr/>
          <p:nvPr/>
        </p:nvGrpSpPr>
        <p:grpSpPr>
          <a:xfrm>
            <a:off x="6108840" y="4813200"/>
            <a:ext cx="4330440" cy="2500200"/>
            <a:chOff x="6108840" y="4813200"/>
            <a:chExt cx="4330440" cy="2500200"/>
          </a:xfrm>
        </p:grpSpPr>
        <p:sp>
          <p:nvSpPr>
            <p:cNvPr id="92" name="Rectangle 5"/>
            <p:cNvSpPr/>
            <p:nvPr/>
          </p:nvSpPr>
          <p:spPr>
            <a:xfrm>
              <a:off x="6108840" y="4813200"/>
              <a:ext cx="4328640" cy="210672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93" name="Rectangle 6"/>
            <p:cNvSpPr/>
            <p:nvPr/>
          </p:nvSpPr>
          <p:spPr>
            <a:xfrm>
              <a:off x="6108840" y="6954840"/>
              <a:ext cx="4330440" cy="358560"/>
            </a:xfrm>
            <a:prstGeom prst="rect">
              <a:avLst/>
            </a:prstGeom>
            <a:solidFill>
              <a:srgbClr val="fdb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94" name="Group 10"/>
          <p:cNvGrpSpPr/>
          <p:nvPr/>
        </p:nvGrpSpPr>
        <p:grpSpPr>
          <a:xfrm>
            <a:off x="11023560" y="4813200"/>
            <a:ext cx="4330800" cy="2500200"/>
            <a:chOff x="11023560" y="4813200"/>
            <a:chExt cx="4330800" cy="2500200"/>
          </a:xfrm>
        </p:grpSpPr>
        <p:sp>
          <p:nvSpPr>
            <p:cNvPr id="95" name="Rectangle 8"/>
            <p:cNvSpPr/>
            <p:nvPr/>
          </p:nvSpPr>
          <p:spPr>
            <a:xfrm>
              <a:off x="11023560" y="4813200"/>
              <a:ext cx="4330800" cy="210672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>
              <a:off x="11023560" y="6954840"/>
              <a:ext cx="4330800" cy="358560"/>
            </a:xfrm>
            <a:prstGeom prst="rect">
              <a:avLst/>
            </a:prstGeom>
            <a:solidFill>
              <a:srgbClr val="fdb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>
            <a:off x="1206360" y="2895480"/>
            <a:ext cx="1414152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Dinosaurs are extinct today because they lacked opposable thumbs and the brainpower to build a space program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460520" y="5003640"/>
            <a:ext cx="381636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Aenean malesuada, arcu non mattis, massa dolor sollicitudin arcu, non ornare magna orci a neque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362640" y="5029200"/>
            <a:ext cx="38163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Etiam sollicitudin tortor mauris, sed condimentum augue lacinia vitae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11275920" y="5003640"/>
            <a:ext cx="381816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Integer tortor risus, tincidunt eu quam vel, pellentesque placerat felis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01" name="Group 20"/>
          <p:cNvGrpSpPr/>
          <p:nvPr/>
        </p:nvGrpSpPr>
        <p:grpSpPr>
          <a:xfrm>
            <a:off x="4876920" y="6413400"/>
            <a:ext cx="957240" cy="949320"/>
            <a:chOff x="4876920" y="6413400"/>
            <a:chExt cx="957240" cy="949320"/>
          </a:xfrm>
        </p:grpSpPr>
        <p:grpSp>
          <p:nvGrpSpPr>
            <p:cNvPr id="102" name="Group 18"/>
            <p:cNvGrpSpPr/>
            <p:nvPr/>
          </p:nvGrpSpPr>
          <p:grpSpPr>
            <a:xfrm>
              <a:off x="4876920" y="6413400"/>
              <a:ext cx="957240" cy="949320"/>
              <a:chOff x="4876920" y="6413400"/>
              <a:chExt cx="957240" cy="949320"/>
            </a:xfrm>
          </p:grpSpPr>
          <p:sp>
            <p:nvSpPr>
              <p:cNvPr id="103" name="Oval 15"/>
              <p:cNvSpPr/>
              <p:nvPr/>
            </p:nvSpPr>
            <p:spPr>
              <a:xfrm>
                <a:off x="4876920" y="6413400"/>
                <a:ext cx="957240" cy="94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04" name="AutoShape 16"/>
              <p:cNvSpPr/>
              <p:nvPr/>
            </p:nvSpPr>
            <p:spPr>
              <a:xfrm>
                <a:off x="4957920" y="6502320"/>
                <a:ext cx="793800" cy="776160"/>
              </a:xfrm>
              <a:custGeom>
                <a:avLst/>
                <a:gdLst/>
                <a:ahLst/>
                <a:rect l="l" t="t" r="r" b="b"/>
                <a:pathLst>
                  <a:path w="20579" h="20824">
                    <a:moveTo>
                      <a:pt x="11901" y="0"/>
                    </a:moveTo>
                    <a:cubicBezTo>
                      <a:pt x="17513" y="907"/>
                      <a:pt x="21341" y="6274"/>
                      <a:pt x="20451" y="11988"/>
                    </a:cubicBezTo>
                    <a:cubicBezTo>
                      <a:pt x="19560" y="17703"/>
                      <a:pt x="14289" y="21600"/>
                      <a:pt x="8676" y="20693"/>
                    </a:cubicBezTo>
                    <a:cubicBezTo>
                      <a:pt x="3479" y="19854"/>
                      <a:pt x="-259" y="15155"/>
                      <a:pt x="14" y="9804"/>
                    </a:cubicBezTo>
                    <a:lnTo>
                      <a:pt x="11901" y="0"/>
                    </a:lnTo>
                    <a:close/>
                    <a:moveTo>
                      <a:pt x="11901" y="0"/>
                    </a:moveTo>
                  </a:path>
                </a:pathLst>
              </a:custGeom>
              <a:gradFill rotWithShape="0">
                <a:gsLst>
                  <a:gs pos="0">
                    <a:srgbClr val="7ac627"/>
                  </a:gs>
                  <a:gs pos="100000">
                    <a:srgbClr val="4a91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05" name="AutoShape 17"/>
              <p:cNvSpPr/>
              <p:nvPr/>
            </p:nvSpPr>
            <p:spPr>
              <a:xfrm rot="5280000">
                <a:off x="5016600" y="6445080"/>
                <a:ext cx="347760" cy="465120"/>
              </a:xfrm>
              <a:custGeom>
                <a:avLst/>
                <a:gdLst/>
                <a:ahLst/>
                <a:rect l="l" t="t" r="r" b="b"/>
                <a:pathLst>
                  <a:path w="20250" h="21604">
                    <a:moveTo>
                      <a:pt x="0" y="0"/>
                    </a:moveTo>
                    <a:cubicBezTo>
                      <a:pt x="12612" y="1208"/>
                      <a:pt x="21600" y="10321"/>
                      <a:pt x="20074" y="20354"/>
                    </a:cubicBezTo>
                    <a:cubicBezTo>
                      <a:pt x="20011" y="20772"/>
                      <a:pt x="19930" y="21187"/>
                      <a:pt x="19830" y="21600"/>
                    </a:cubicBez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c0e399"/>
                  </a:gs>
                  <a:gs pos="100000">
                    <a:srgbClr val="74b230"/>
                  </a:gs>
                </a:gsLst>
                <a:lin ang="1368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  <p:sp>
          <p:nvSpPr>
            <p:cNvPr id="106" name="Rectangle 19"/>
            <p:cNvSpPr/>
            <p:nvPr/>
          </p:nvSpPr>
          <p:spPr>
            <a:xfrm>
              <a:off x="5271120" y="6600600"/>
              <a:ext cx="234000" cy="48780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1</a:t>
              </a:r>
              <a:endParaRPr b="0" lang="en-US" sz="32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9791640" y="6477120"/>
            <a:ext cx="957240" cy="949320"/>
            <a:chOff x="9791640" y="6477120"/>
            <a:chExt cx="957240" cy="949320"/>
          </a:xfrm>
        </p:grpSpPr>
        <p:grpSp>
          <p:nvGrpSpPr>
            <p:cNvPr id="108" name="Group 24"/>
            <p:cNvGrpSpPr/>
            <p:nvPr/>
          </p:nvGrpSpPr>
          <p:grpSpPr>
            <a:xfrm>
              <a:off x="9791640" y="6477120"/>
              <a:ext cx="957240" cy="949320"/>
              <a:chOff x="9791640" y="6477120"/>
              <a:chExt cx="957240" cy="949320"/>
            </a:xfrm>
          </p:grpSpPr>
          <p:sp>
            <p:nvSpPr>
              <p:cNvPr id="109" name="Oval 21"/>
              <p:cNvSpPr/>
              <p:nvPr/>
            </p:nvSpPr>
            <p:spPr>
              <a:xfrm>
                <a:off x="9791640" y="6477120"/>
                <a:ext cx="957240" cy="94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10" name="AutoShape 22"/>
              <p:cNvSpPr/>
              <p:nvPr/>
            </p:nvSpPr>
            <p:spPr>
              <a:xfrm>
                <a:off x="9872640" y="6566040"/>
                <a:ext cx="793800" cy="776160"/>
              </a:xfrm>
              <a:custGeom>
                <a:avLst/>
                <a:gdLst/>
                <a:ahLst/>
                <a:rect l="l" t="t" r="r" b="b"/>
                <a:pathLst>
                  <a:path w="20579" h="20824">
                    <a:moveTo>
                      <a:pt x="11901" y="0"/>
                    </a:moveTo>
                    <a:cubicBezTo>
                      <a:pt x="17513" y="907"/>
                      <a:pt x="21341" y="6274"/>
                      <a:pt x="20451" y="11988"/>
                    </a:cubicBezTo>
                    <a:cubicBezTo>
                      <a:pt x="19560" y="17703"/>
                      <a:pt x="14289" y="21600"/>
                      <a:pt x="8676" y="20693"/>
                    </a:cubicBezTo>
                    <a:cubicBezTo>
                      <a:pt x="3479" y="19854"/>
                      <a:pt x="-259" y="15155"/>
                      <a:pt x="14" y="9804"/>
                    </a:cubicBezTo>
                    <a:lnTo>
                      <a:pt x="11901" y="0"/>
                    </a:lnTo>
                    <a:close/>
                    <a:moveTo>
                      <a:pt x="11901" y="0"/>
                    </a:moveTo>
                  </a:path>
                </a:pathLst>
              </a:custGeom>
              <a:gradFill rotWithShape="0">
                <a:gsLst>
                  <a:gs pos="0">
                    <a:srgbClr val="7ac627"/>
                  </a:gs>
                  <a:gs pos="100000">
                    <a:srgbClr val="4a91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11" name="AutoShape 23"/>
              <p:cNvSpPr/>
              <p:nvPr/>
            </p:nvSpPr>
            <p:spPr>
              <a:xfrm rot="5280000">
                <a:off x="9931320" y="6508800"/>
                <a:ext cx="347760" cy="465120"/>
              </a:xfrm>
              <a:custGeom>
                <a:avLst/>
                <a:gdLst/>
                <a:ahLst/>
                <a:rect l="l" t="t" r="r" b="b"/>
                <a:pathLst>
                  <a:path w="20250" h="21604">
                    <a:moveTo>
                      <a:pt x="0" y="0"/>
                    </a:moveTo>
                    <a:cubicBezTo>
                      <a:pt x="12612" y="1208"/>
                      <a:pt x="21600" y="10321"/>
                      <a:pt x="20074" y="20354"/>
                    </a:cubicBezTo>
                    <a:cubicBezTo>
                      <a:pt x="20011" y="20772"/>
                      <a:pt x="19930" y="21187"/>
                      <a:pt x="19830" y="21600"/>
                    </a:cubicBez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c0e399"/>
                  </a:gs>
                  <a:gs pos="100000">
                    <a:srgbClr val="74b230"/>
                  </a:gs>
                </a:gsLst>
                <a:lin ang="1368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  <p:sp>
          <p:nvSpPr>
            <p:cNvPr id="112" name="Rectangle 25"/>
            <p:cNvSpPr/>
            <p:nvPr/>
          </p:nvSpPr>
          <p:spPr>
            <a:xfrm>
              <a:off x="10185840" y="6664320"/>
              <a:ext cx="234000" cy="48780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2</a:t>
              </a:r>
              <a:endParaRPr b="0" lang="en-US" sz="32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13" name="Group 32"/>
          <p:cNvGrpSpPr/>
          <p:nvPr/>
        </p:nvGrpSpPr>
        <p:grpSpPr>
          <a:xfrm>
            <a:off x="14706720" y="6540480"/>
            <a:ext cx="957240" cy="949320"/>
            <a:chOff x="14706720" y="6540480"/>
            <a:chExt cx="957240" cy="949320"/>
          </a:xfrm>
        </p:grpSpPr>
        <p:grpSp>
          <p:nvGrpSpPr>
            <p:cNvPr id="114" name="Group 30"/>
            <p:cNvGrpSpPr/>
            <p:nvPr/>
          </p:nvGrpSpPr>
          <p:grpSpPr>
            <a:xfrm>
              <a:off x="14706720" y="6540480"/>
              <a:ext cx="957240" cy="949320"/>
              <a:chOff x="14706720" y="6540480"/>
              <a:chExt cx="957240" cy="949320"/>
            </a:xfrm>
          </p:grpSpPr>
          <p:sp>
            <p:nvSpPr>
              <p:cNvPr id="115" name="Oval 27"/>
              <p:cNvSpPr/>
              <p:nvPr/>
            </p:nvSpPr>
            <p:spPr>
              <a:xfrm>
                <a:off x="14706720" y="6540480"/>
                <a:ext cx="957240" cy="94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16" name="AutoShape 28"/>
              <p:cNvSpPr/>
              <p:nvPr/>
            </p:nvSpPr>
            <p:spPr>
              <a:xfrm>
                <a:off x="14787720" y="6629400"/>
                <a:ext cx="793800" cy="776160"/>
              </a:xfrm>
              <a:custGeom>
                <a:avLst/>
                <a:gdLst/>
                <a:ahLst/>
                <a:rect l="l" t="t" r="r" b="b"/>
                <a:pathLst>
                  <a:path w="20579" h="20824">
                    <a:moveTo>
                      <a:pt x="11901" y="0"/>
                    </a:moveTo>
                    <a:cubicBezTo>
                      <a:pt x="17513" y="907"/>
                      <a:pt x="21341" y="6274"/>
                      <a:pt x="20451" y="11988"/>
                    </a:cubicBezTo>
                    <a:cubicBezTo>
                      <a:pt x="19560" y="17703"/>
                      <a:pt x="14289" y="21600"/>
                      <a:pt x="8676" y="20693"/>
                    </a:cubicBezTo>
                    <a:cubicBezTo>
                      <a:pt x="3479" y="19854"/>
                      <a:pt x="-259" y="15155"/>
                      <a:pt x="14" y="9804"/>
                    </a:cubicBezTo>
                    <a:lnTo>
                      <a:pt x="11901" y="0"/>
                    </a:lnTo>
                    <a:close/>
                    <a:moveTo>
                      <a:pt x="11901" y="0"/>
                    </a:moveTo>
                  </a:path>
                </a:pathLst>
              </a:custGeom>
              <a:gradFill rotWithShape="0">
                <a:gsLst>
                  <a:gs pos="0">
                    <a:srgbClr val="7ac627"/>
                  </a:gs>
                  <a:gs pos="100000">
                    <a:srgbClr val="4a91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17" name="AutoShape 29"/>
              <p:cNvSpPr/>
              <p:nvPr/>
            </p:nvSpPr>
            <p:spPr>
              <a:xfrm rot="5280000">
                <a:off x="14846400" y="6572160"/>
                <a:ext cx="347760" cy="465120"/>
              </a:xfrm>
              <a:custGeom>
                <a:avLst/>
                <a:gdLst/>
                <a:ahLst/>
                <a:rect l="l" t="t" r="r" b="b"/>
                <a:pathLst>
                  <a:path w="20250" h="21604">
                    <a:moveTo>
                      <a:pt x="0" y="0"/>
                    </a:moveTo>
                    <a:cubicBezTo>
                      <a:pt x="12612" y="1208"/>
                      <a:pt x="21600" y="10321"/>
                      <a:pt x="20074" y="20354"/>
                    </a:cubicBezTo>
                    <a:cubicBezTo>
                      <a:pt x="20011" y="20772"/>
                      <a:pt x="19930" y="21187"/>
                      <a:pt x="19830" y="21600"/>
                    </a:cubicBez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c0e399"/>
                  </a:gs>
                  <a:gs pos="100000">
                    <a:srgbClr val="74b230"/>
                  </a:gs>
                </a:gsLst>
                <a:lin ang="1368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  <p:sp>
          <p:nvSpPr>
            <p:cNvPr id="118" name="Rectangle 31"/>
            <p:cNvSpPr/>
            <p:nvPr/>
          </p:nvSpPr>
          <p:spPr>
            <a:xfrm>
              <a:off x="15100920" y="6727680"/>
              <a:ext cx="234000" cy="48780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3</a:t>
              </a:r>
              <a:endParaRPr b="0" lang="en-US" sz="32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5570280" y="209520"/>
            <a:ext cx="509328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Lorem Ipsum</a:t>
            </a:r>
            <a:endParaRPr b="0" lang="en-US" sz="6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077840" y="2390760"/>
            <a:ext cx="141429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To go places and do things that have never been done before – that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s what living is all about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711360" y="4457880"/>
            <a:ext cx="14859000" cy="1371600"/>
          </a:xfrm>
          <a:prstGeom prst="roundRect">
            <a:avLst>
              <a:gd name="adj" fmla="val 13889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711360" y="4317840"/>
            <a:ext cx="14859000" cy="470160"/>
          </a:xfrm>
          <a:prstGeom prst="rect">
            <a:avLst/>
          </a:prstGeom>
          <a:solidFill>
            <a:srgbClr val="fcae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104840" y="4211640"/>
            <a:ext cx="56451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104840" y="4851360"/>
            <a:ext cx="130777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raesent quam justo, tempor ac sollicitudin sed, mattis vel arcu. Proin ac nibh quis metus tristique sagittis vel ac ligulnean dic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723960" y="6210360"/>
            <a:ext cx="6705720" cy="1371600"/>
          </a:xfrm>
          <a:prstGeom prst="roundRect">
            <a:avLst>
              <a:gd name="adj" fmla="val 13889"/>
            </a:avLst>
          </a:prstGeom>
          <a:solidFill>
            <a:srgbClr val="fdb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104840" y="6335640"/>
            <a:ext cx="59911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raesent quam justo, tempor ac sollicitudin sed, mattis vel arcu. Proin ac nibh quis metus tristique sagittis vel dic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8818560" y="6588000"/>
            <a:ext cx="708120" cy="1528920"/>
          </a:xfrm>
          <a:custGeom>
            <a:avLst/>
            <a:gdLst/>
            <a:ahLst/>
            <a:rect l="l" t="t" r="r" b="b"/>
            <a:pathLst>
              <a:path w="21407" h="21576">
                <a:moveTo>
                  <a:pt x="9897" y="1"/>
                </a:moveTo>
                <a:cubicBezTo>
                  <a:pt x="9630" y="7"/>
                  <a:pt x="9372" y="26"/>
                  <a:pt x="9182" y="69"/>
                </a:cubicBezTo>
                <a:cubicBezTo>
                  <a:pt x="9135" y="80"/>
                  <a:pt x="9054" y="84"/>
                  <a:pt x="9019" y="79"/>
                </a:cubicBezTo>
                <a:cubicBezTo>
                  <a:pt x="8811" y="30"/>
                  <a:pt x="8555" y="53"/>
                  <a:pt x="8347" y="96"/>
                </a:cubicBezTo>
                <a:cubicBezTo>
                  <a:pt x="8000" y="166"/>
                  <a:pt x="6312" y="580"/>
                  <a:pt x="5745" y="2041"/>
                </a:cubicBezTo>
                <a:cubicBezTo>
                  <a:pt x="5468" y="2763"/>
                  <a:pt x="5722" y="2892"/>
                  <a:pt x="5399" y="3258"/>
                </a:cubicBezTo>
                <a:cubicBezTo>
                  <a:pt x="5098" y="3603"/>
                  <a:pt x="4797" y="3938"/>
                  <a:pt x="4936" y="4396"/>
                </a:cubicBezTo>
                <a:cubicBezTo>
                  <a:pt x="5029" y="4698"/>
                  <a:pt x="5572" y="4957"/>
                  <a:pt x="5572" y="4962"/>
                </a:cubicBezTo>
                <a:cubicBezTo>
                  <a:pt x="4994" y="5501"/>
                  <a:pt x="4243" y="6928"/>
                  <a:pt x="4000" y="7424"/>
                </a:cubicBezTo>
                <a:cubicBezTo>
                  <a:pt x="3757" y="7920"/>
                  <a:pt x="3550" y="8372"/>
                  <a:pt x="3238" y="9988"/>
                </a:cubicBezTo>
                <a:cubicBezTo>
                  <a:pt x="3192" y="10247"/>
                  <a:pt x="3122" y="10431"/>
                  <a:pt x="3007" y="10630"/>
                </a:cubicBezTo>
                <a:cubicBezTo>
                  <a:pt x="2937" y="10732"/>
                  <a:pt x="2464" y="10899"/>
                  <a:pt x="2302" y="11066"/>
                </a:cubicBezTo>
                <a:cubicBezTo>
                  <a:pt x="2186" y="11179"/>
                  <a:pt x="2023" y="11524"/>
                  <a:pt x="1977" y="11708"/>
                </a:cubicBezTo>
                <a:cubicBezTo>
                  <a:pt x="1954" y="11815"/>
                  <a:pt x="1991" y="11853"/>
                  <a:pt x="2060" y="11950"/>
                </a:cubicBezTo>
                <a:cubicBezTo>
                  <a:pt x="2095" y="12004"/>
                  <a:pt x="2094" y="11993"/>
                  <a:pt x="2186" y="12031"/>
                </a:cubicBezTo>
                <a:cubicBezTo>
                  <a:pt x="2233" y="12053"/>
                  <a:pt x="2303" y="12032"/>
                  <a:pt x="2291" y="12048"/>
                </a:cubicBezTo>
                <a:cubicBezTo>
                  <a:pt x="2280" y="12075"/>
                  <a:pt x="2384" y="12224"/>
                  <a:pt x="2522" y="12230"/>
                </a:cubicBezTo>
                <a:cubicBezTo>
                  <a:pt x="2684" y="12235"/>
                  <a:pt x="2741" y="12241"/>
                  <a:pt x="2833" y="12305"/>
                </a:cubicBezTo>
                <a:cubicBezTo>
                  <a:pt x="3053" y="12446"/>
                  <a:pt x="3330" y="12467"/>
                  <a:pt x="3422" y="12381"/>
                </a:cubicBezTo>
                <a:cubicBezTo>
                  <a:pt x="3549" y="12263"/>
                  <a:pt x="3573" y="12149"/>
                  <a:pt x="3585" y="12139"/>
                </a:cubicBezTo>
                <a:cubicBezTo>
                  <a:pt x="3619" y="12085"/>
                  <a:pt x="3609" y="12075"/>
                  <a:pt x="3632" y="12102"/>
                </a:cubicBezTo>
                <a:cubicBezTo>
                  <a:pt x="3736" y="12247"/>
                  <a:pt x="3976" y="12317"/>
                  <a:pt x="4069" y="12193"/>
                </a:cubicBezTo>
                <a:cubicBezTo>
                  <a:pt x="4104" y="12139"/>
                  <a:pt x="4034" y="12144"/>
                  <a:pt x="4069" y="12053"/>
                </a:cubicBezTo>
                <a:cubicBezTo>
                  <a:pt x="4092" y="11977"/>
                  <a:pt x="4208" y="11740"/>
                  <a:pt x="4347" y="11438"/>
                </a:cubicBezTo>
                <a:cubicBezTo>
                  <a:pt x="4486" y="11142"/>
                  <a:pt x="4383" y="10895"/>
                  <a:pt x="4336" y="10674"/>
                </a:cubicBezTo>
                <a:cubicBezTo>
                  <a:pt x="4313" y="10571"/>
                  <a:pt x="4708" y="10005"/>
                  <a:pt x="4893" y="9719"/>
                </a:cubicBezTo>
                <a:cubicBezTo>
                  <a:pt x="5078" y="9433"/>
                  <a:pt x="5456" y="8588"/>
                  <a:pt x="5630" y="8195"/>
                </a:cubicBezTo>
                <a:cubicBezTo>
                  <a:pt x="5803" y="7796"/>
                  <a:pt x="6326" y="7425"/>
                  <a:pt x="6569" y="7198"/>
                </a:cubicBezTo>
                <a:cubicBezTo>
                  <a:pt x="6650" y="7408"/>
                  <a:pt x="6718" y="7806"/>
                  <a:pt x="6591" y="8210"/>
                </a:cubicBezTo>
                <a:cubicBezTo>
                  <a:pt x="6371" y="8911"/>
                  <a:pt x="5376" y="9639"/>
                  <a:pt x="5388" y="9628"/>
                </a:cubicBezTo>
                <a:lnTo>
                  <a:pt x="5482" y="9731"/>
                </a:lnTo>
                <a:cubicBezTo>
                  <a:pt x="5389" y="9865"/>
                  <a:pt x="5190" y="10053"/>
                  <a:pt x="5167" y="10307"/>
                </a:cubicBezTo>
                <a:cubicBezTo>
                  <a:pt x="5133" y="11007"/>
                  <a:pt x="5608" y="11481"/>
                  <a:pt x="5608" y="11573"/>
                </a:cubicBezTo>
                <a:cubicBezTo>
                  <a:pt x="5608" y="11697"/>
                  <a:pt x="5283" y="12462"/>
                  <a:pt x="5052" y="13243"/>
                </a:cubicBezTo>
                <a:cubicBezTo>
                  <a:pt x="4971" y="13534"/>
                  <a:pt x="4960" y="14849"/>
                  <a:pt x="4636" y="15291"/>
                </a:cubicBezTo>
                <a:cubicBezTo>
                  <a:pt x="4393" y="15636"/>
                  <a:pt x="3700" y="15793"/>
                  <a:pt x="3007" y="16763"/>
                </a:cubicBezTo>
                <a:cubicBezTo>
                  <a:pt x="2463" y="17528"/>
                  <a:pt x="982" y="19521"/>
                  <a:pt x="936" y="19602"/>
                </a:cubicBezTo>
                <a:cubicBezTo>
                  <a:pt x="913" y="19645"/>
                  <a:pt x="1077" y="19666"/>
                  <a:pt x="1077" y="19666"/>
                </a:cubicBezTo>
                <a:cubicBezTo>
                  <a:pt x="1042" y="19784"/>
                  <a:pt x="578" y="19952"/>
                  <a:pt x="416" y="20055"/>
                </a:cubicBezTo>
                <a:cubicBezTo>
                  <a:pt x="115" y="20243"/>
                  <a:pt x="94" y="20318"/>
                  <a:pt x="37" y="20469"/>
                </a:cubicBezTo>
                <a:cubicBezTo>
                  <a:pt x="-21" y="20609"/>
                  <a:pt x="-35" y="20674"/>
                  <a:pt x="185" y="20733"/>
                </a:cubicBezTo>
                <a:cubicBezTo>
                  <a:pt x="393" y="20792"/>
                  <a:pt x="1098" y="21019"/>
                  <a:pt x="1283" y="21003"/>
                </a:cubicBezTo>
                <a:cubicBezTo>
                  <a:pt x="1803" y="20959"/>
                  <a:pt x="2603" y="21370"/>
                  <a:pt x="3043" y="21477"/>
                </a:cubicBezTo>
                <a:cubicBezTo>
                  <a:pt x="3436" y="21596"/>
                  <a:pt x="3827" y="21573"/>
                  <a:pt x="4289" y="21573"/>
                </a:cubicBezTo>
                <a:cubicBezTo>
                  <a:pt x="4891" y="21579"/>
                  <a:pt x="5261" y="21573"/>
                  <a:pt x="5735" y="21573"/>
                </a:cubicBezTo>
                <a:cubicBezTo>
                  <a:pt x="6001" y="21573"/>
                  <a:pt x="6083" y="21488"/>
                  <a:pt x="5944" y="21380"/>
                </a:cubicBezTo>
                <a:cubicBezTo>
                  <a:pt x="5852" y="21304"/>
                  <a:pt x="4763" y="21084"/>
                  <a:pt x="4705" y="21073"/>
                </a:cubicBezTo>
                <a:cubicBezTo>
                  <a:pt x="4358" y="20960"/>
                  <a:pt x="3791" y="20555"/>
                  <a:pt x="3491" y="20415"/>
                </a:cubicBezTo>
                <a:cubicBezTo>
                  <a:pt x="3329" y="20345"/>
                  <a:pt x="3065" y="20253"/>
                  <a:pt x="2996" y="20146"/>
                </a:cubicBezTo>
                <a:cubicBezTo>
                  <a:pt x="2973" y="20119"/>
                  <a:pt x="3040" y="19947"/>
                  <a:pt x="3028" y="19947"/>
                </a:cubicBezTo>
                <a:cubicBezTo>
                  <a:pt x="3028" y="19947"/>
                  <a:pt x="3135" y="19974"/>
                  <a:pt x="3285" y="19947"/>
                </a:cubicBezTo>
                <a:cubicBezTo>
                  <a:pt x="3331" y="19941"/>
                  <a:pt x="3551" y="19688"/>
                  <a:pt x="3863" y="19435"/>
                </a:cubicBezTo>
                <a:cubicBezTo>
                  <a:pt x="4649" y="18788"/>
                  <a:pt x="4428" y="18918"/>
                  <a:pt x="5735" y="17706"/>
                </a:cubicBezTo>
                <a:cubicBezTo>
                  <a:pt x="6139" y="17328"/>
                  <a:pt x="7006" y="16644"/>
                  <a:pt x="7422" y="16283"/>
                </a:cubicBezTo>
                <a:cubicBezTo>
                  <a:pt x="7653" y="16083"/>
                  <a:pt x="8257" y="15334"/>
                  <a:pt x="8546" y="15027"/>
                </a:cubicBezTo>
                <a:cubicBezTo>
                  <a:pt x="8696" y="14865"/>
                  <a:pt x="9237" y="14116"/>
                  <a:pt x="9503" y="13567"/>
                </a:cubicBezTo>
                <a:cubicBezTo>
                  <a:pt x="9561" y="13453"/>
                  <a:pt x="9598" y="13539"/>
                  <a:pt x="9760" y="13658"/>
                </a:cubicBezTo>
                <a:cubicBezTo>
                  <a:pt x="9864" y="13733"/>
                  <a:pt x="11700" y="14838"/>
                  <a:pt x="12278" y="15399"/>
                </a:cubicBezTo>
                <a:cubicBezTo>
                  <a:pt x="12440" y="15555"/>
                  <a:pt x="12591" y="15716"/>
                  <a:pt x="12614" y="15889"/>
                </a:cubicBezTo>
                <a:cubicBezTo>
                  <a:pt x="12788" y="16869"/>
                  <a:pt x="12825" y="17452"/>
                  <a:pt x="13275" y="18012"/>
                </a:cubicBezTo>
                <a:cubicBezTo>
                  <a:pt x="13703" y="18551"/>
                  <a:pt x="14927" y="20200"/>
                  <a:pt x="14974" y="20243"/>
                </a:cubicBezTo>
                <a:cubicBezTo>
                  <a:pt x="15020" y="20286"/>
                  <a:pt x="15021" y="20357"/>
                  <a:pt x="15125" y="20346"/>
                </a:cubicBezTo>
                <a:cubicBezTo>
                  <a:pt x="15287" y="20330"/>
                  <a:pt x="15331" y="20319"/>
                  <a:pt x="15331" y="20319"/>
                </a:cubicBezTo>
                <a:cubicBezTo>
                  <a:pt x="15343" y="20341"/>
                  <a:pt x="15402" y="20475"/>
                  <a:pt x="15378" y="20674"/>
                </a:cubicBezTo>
                <a:cubicBezTo>
                  <a:pt x="15344" y="20874"/>
                  <a:pt x="15297" y="20944"/>
                  <a:pt x="15331" y="21127"/>
                </a:cubicBezTo>
                <a:cubicBezTo>
                  <a:pt x="15389" y="21413"/>
                  <a:pt x="15516" y="21461"/>
                  <a:pt x="15747" y="21568"/>
                </a:cubicBezTo>
                <a:cubicBezTo>
                  <a:pt x="15793" y="21585"/>
                  <a:pt x="16547" y="21536"/>
                  <a:pt x="16871" y="21515"/>
                </a:cubicBezTo>
                <a:cubicBezTo>
                  <a:pt x="16940" y="21509"/>
                  <a:pt x="17043" y="21418"/>
                  <a:pt x="17239" y="21407"/>
                </a:cubicBezTo>
                <a:cubicBezTo>
                  <a:pt x="17655" y="21385"/>
                  <a:pt x="18189" y="21440"/>
                  <a:pt x="19068" y="21343"/>
                </a:cubicBezTo>
                <a:cubicBezTo>
                  <a:pt x="20016" y="21235"/>
                  <a:pt x="20315" y="21180"/>
                  <a:pt x="20824" y="21062"/>
                </a:cubicBezTo>
                <a:cubicBezTo>
                  <a:pt x="21448" y="20884"/>
                  <a:pt x="21565" y="20680"/>
                  <a:pt x="21207" y="20615"/>
                </a:cubicBezTo>
                <a:cubicBezTo>
                  <a:pt x="21033" y="20583"/>
                  <a:pt x="20651" y="20631"/>
                  <a:pt x="20235" y="20615"/>
                </a:cubicBezTo>
                <a:cubicBezTo>
                  <a:pt x="19795" y="20594"/>
                  <a:pt x="18592" y="20502"/>
                  <a:pt x="18106" y="20427"/>
                </a:cubicBezTo>
                <a:cubicBezTo>
                  <a:pt x="17968" y="20405"/>
                  <a:pt x="17851" y="20400"/>
                  <a:pt x="17713" y="20319"/>
                </a:cubicBezTo>
                <a:cubicBezTo>
                  <a:pt x="17678" y="20297"/>
                  <a:pt x="17563" y="20243"/>
                  <a:pt x="17528" y="20221"/>
                </a:cubicBezTo>
                <a:cubicBezTo>
                  <a:pt x="17505" y="20205"/>
                  <a:pt x="17320" y="20049"/>
                  <a:pt x="17297" y="20028"/>
                </a:cubicBezTo>
                <a:cubicBezTo>
                  <a:pt x="17470" y="19995"/>
                  <a:pt x="17505" y="19984"/>
                  <a:pt x="17470" y="19925"/>
                </a:cubicBezTo>
                <a:cubicBezTo>
                  <a:pt x="17424" y="19833"/>
                  <a:pt x="16420" y="17203"/>
                  <a:pt x="15993" y="15894"/>
                </a:cubicBezTo>
                <a:cubicBezTo>
                  <a:pt x="15946" y="15737"/>
                  <a:pt x="15887" y="15577"/>
                  <a:pt x="15841" y="15426"/>
                </a:cubicBezTo>
                <a:cubicBezTo>
                  <a:pt x="15748" y="15092"/>
                  <a:pt x="15737" y="14854"/>
                  <a:pt x="15552" y="14574"/>
                </a:cubicBezTo>
                <a:cubicBezTo>
                  <a:pt x="15355" y="14272"/>
                  <a:pt x="14117" y="12597"/>
                  <a:pt x="12903" y="11320"/>
                </a:cubicBezTo>
                <a:cubicBezTo>
                  <a:pt x="12429" y="10825"/>
                  <a:pt x="11839" y="10457"/>
                  <a:pt x="11758" y="9724"/>
                </a:cubicBezTo>
                <a:cubicBezTo>
                  <a:pt x="11723" y="9390"/>
                  <a:pt x="11853" y="9057"/>
                  <a:pt x="11899" y="8901"/>
                </a:cubicBezTo>
                <a:cubicBezTo>
                  <a:pt x="11968" y="8669"/>
                  <a:pt x="12105" y="8389"/>
                  <a:pt x="12105" y="8389"/>
                </a:cubicBezTo>
                <a:cubicBezTo>
                  <a:pt x="12105" y="8389"/>
                  <a:pt x="12119" y="8502"/>
                  <a:pt x="12361" y="8609"/>
                </a:cubicBezTo>
                <a:cubicBezTo>
                  <a:pt x="12604" y="8717"/>
                  <a:pt x="12602" y="8711"/>
                  <a:pt x="12914" y="8835"/>
                </a:cubicBezTo>
                <a:cubicBezTo>
                  <a:pt x="13619" y="9126"/>
                  <a:pt x="16360" y="9865"/>
                  <a:pt x="16383" y="9956"/>
                </a:cubicBezTo>
                <a:cubicBezTo>
                  <a:pt x="16406" y="10053"/>
                  <a:pt x="16708" y="10259"/>
                  <a:pt x="17055" y="10382"/>
                </a:cubicBezTo>
                <a:cubicBezTo>
                  <a:pt x="17402" y="10501"/>
                  <a:pt x="17517" y="10516"/>
                  <a:pt x="17586" y="10581"/>
                </a:cubicBezTo>
                <a:cubicBezTo>
                  <a:pt x="17667" y="10673"/>
                  <a:pt x="18153" y="10711"/>
                  <a:pt x="18280" y="10728"/>
                </a:cubicBezTo>
                <a:cubicBezTo>
                  <a:pt x="18557" y="10760"/>
                  <a:pt x="18893" y="10489"/>
                  <a:pt x="19089" y="10478"/>
                </a:cubicBezTo>
                <a:cubicBezTo>
                  <a:pt x="19216" y="10468"/>
                  <a:pt x="19355" y="10398"/>
                  <a:pt x="19378" y="10253"/>
                </a:cubicBezTo>
                <a:cubicBezTo>
                  <a:pt x="19390" y="10167"/>
                  <a:pt x="19391" y="10000"/>
                  <a:pt x="19194" y="9929"/>
                </a:cubicBezTo>
                <a:cubicBezTo>
                  <a:pt x="18986" y="9859"/>
                  <a:pt x="18638" y="9736"/>
                  <a:pt x="18395" y="9704"/>
                </a:cubicBezTo>
                <a:cubicBezTo>
                  <a:pt x="18176" y="9672"/>
                  <a:pt x="17865" y="9649"/>
                  <a:pt x="17391" y="9535"/>
                </a:cubicBezTo>
                <a:cubicBezTo>
                  <a:pt x="17021" y="9444"/>
                  <a:pt x="16892" y="9390"/>
                  <a:pt x="16556" y="9207"/>
                </a:cubicBezTo>
                <a:cubicBezTo>
                  <a:pt x="14406" y="8065"/>
                  <a:pt x="13599" y="7769"/>
                  <a:pt x="13333" y="7688"/>
                </a:cubicBezTo>
                <a:cubicBezTo>
                  <a:pt x="13148" y="7634"/>
                  <a:pt x="12939" y="7472"/>
                  <a:pt x="12766" y="7272"/>
                </a:cubicBezTo>
                <a:cubicBezTo>
                  <a:pt x="12766" y="7251"/>
                  <a:pt x="12905" y="6724"/>
                  <a:pt x="13113" y="6476"/>
                </a:cubicBezTo>
                <a:cubicBezTo>
                  <a:pt x="13217" y="6347"/>
                  <a:pt x="13263" y="6120"/>
                  <a:pt x="13229" y="6018"/>
                </a:cubicBezTo>
                <a:cubicBezTo>
                  <a:pt x="13171" y="5856"/>
                  <a:pt x="13090" y="5743"/>
                  <a:pt x="12871" y="5619"/>
                </a:cubicBezTo>
                <a:cubicBezTo>
                  <a:pt x="12408" y="5371"/>
                  <a:pt x="12024" y="5118"/>
                  <a:pt x="11527" y="4881"/>
                </a:cubicBezTo>
                <a:cubicBezTo>
                  <a:pt x="11469" y="4854"/>
                  <a:pt x="11145" y="4606"/>
                  <a:pt x="11064" y="4504"/>
                </a:cubicBezTo>
                <a:cubicBezTo>
                  <a:pt x="10925" y="4332"/>
                  <a:pt x="10871" y="4142"/>
                  <a:pt x="10558" y="4007"/>
                </a:cubicBezTo>
                <a:cubicBezTo>
                  <a:pt x="10512" y="3986"/>
                  <a:pt x="10430" y="3921"/>
                  <a:pt x="10407" y="3894"/>
                </a:cubicBezTo>
                <a:cubicBezTo>
                  <a:pt x="10326" y="3771"/>
                  <a:pt x="10428" y="3619"/>
                  <a:pt x="10486" y="3500"/>
                </a:cubicBezTo>
                <a:cubicBezTo>
                  <a:pt x="10579" y="3306"/>
                  <a:pt x="10637" y="3254"/>
                  <a:pt x="10880" y="3130"/>
                </a:cubicBezTo>
                <a:cubicBezTo>
                  <a:pt x="10938" y="3098"/>
                  <a:pt x="11076" y="3065"/>
                  <a:pt x="11285" y="3076"/>
                </a:cubicBezTo>
                <a:cubicBezTo>
                  <a:pt x="11666" y="3098"/>
                  <a:pt x="11746" y="3119"/>
                  <a:pt x="12105" y="3086"/>
                </a:cubicBezTo>
                <a:cubicBezTo>
                  <a:pt x="12440" y="3059"/>
                  <a:pt x="12463" y="2898"/>
                  <a:pt x="12452" y="2817"/>
                </a:cubicBezTo>
                <a:cubicBezTo>
                  <a:pt x="12417" y="2634"/>
                  <a:pt x="12764" y="2704"/>
                  <a:pt x="12567" y="2520"/>
                </a:cubicBezTo>
                <a:cubicBezTo>
                  <a:pt x="12544" y="2499"/>
                  <a:pt x="12776" y="2504"/>
                  <a:pt x="12730" y="2391"/>
                </a:cubicBezTo>
                <a:cubicBezTo>
                  <a:pt x="12672" y="2245"/>
                  <a:pt x="12707" y="2187"/>
                  <a:pt x="12846" y="2165"/>
                </a:cubicBezTo>
                <a:cubicBezTo>
                  <a:pt x="13123" y="2122"/>
                  <a:pt x="13159" y="1997"/>
                  <a:pt x="13055" y="1938"/>
                </a:cubicBezTo>
                <a:cubicBezTo>
                  <a:pt x="12963" y="1889"/>
                  <a:pt x="12891" y="1847"/>
                  <a:pt x="12799" y="1798"/>
                </a:cubicBezTo>
                <a:cubicBezTo>
                  <a:pt x="12729" y="1766"/>
                  <a:pt x="12674" y="1723"/>
                  <a:pt x="12650" y="1680"/>
                </a:cubicBezTo>
                <a:cubicBezTo>
                  <a:pt x="12569" y="1519"/>
                  <a:pt x="12663" y="1336"/>
                  <a:pt x="12640" y="1163"/>
                </a:cubicBezTo>
                <a:cubicBezTo>
                  <a:pt x="12593" y="808"/>
                  <a:pt x="12419" y="726"/>
                  <a:pt x="12246" y="554"/>
                </a:cubicBezTo>
                <a:cubicBezTo>
                  <a:pt x="12246" y="489"/>
                  <a:pt x="12223" y="397"/>
                  <a:pt x="12177" y="370"/>
                </a:cubicBezTo>
                <a:cubicBezTo>
                  <a:pt x="11853" y="155"/>
                  <a:pt x="11229" y="42"/>
                  <a:pt x="10674" y="15"/>
                </a:cubicBezTo>
                <a:cubicBezTo>
                  <a:pt x="10443" y="4"/>
                  <a:pt x="10164" y="-4"/>
                  <a:pt x="9897" y="1"/>
                </a:cubicBezTo>
                <a:close/>
                <a:moveTo>
                  <a:pt x="9897" y="1"/>
                </a:moveTo>
              </a:path>
            </a:pathLst>
          </a:cu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9723600" y="6593040"/>
            <a:ext cx="688680" cy="1531800"/>
          </a:xfrm>
          <a:custGeom>
            <a:avLst/>
            <a:gdLst/>
            <a:ahLst/>
            <a:rect l="l" t="t" r="r" b="b"/>
            <a:pathLst>
              <a:path w="21090" h="21577">
                <a:moveTo>
                  <a:pt x="9311" y="0"/>
                </a:moveTo>
                <a:cubicBezTo>
                  <a:pt x="9114" y="1"/>
                  <a:pt x="8985" y="9"/>
                  <a:pt x="8973" y="10"/>
                </a:cubicBezTo>
                <a:cubicBezTo>
                  <a:pt x="7445" y="183"/>
                  <a:pt x="6460" y="741"/>
                  <a:pt x="6483" y="1401"/>
                </a:cubicBezTo>
                <a:cubicBezTo>
                  <a:pt x="6495" y="1769"/>
                  <a:pt x="6599" y="1889"/>
                  <a:pt x="6858" y="2154"/>
                </a:cubicBezTo>
                <a:cubicBezTo>
                  <a:pt x="7022" y="2322"/>
                  <a:pt x="7458" y="2603"/>
                  <a:pt x="7493" y="2652"/>
                </a:cubicBezTo>
                <a:cubicBezTo>
                  <a:pt x="7599" y="2798"/>
                  <a:pt x="7669" y="2821"/>
                  <a:pt x="7445" y="2983"/>
                </a:cubicBezTo>
                <a:cubicBezTo>
                  <a:pt x="7422" y="2999"/>
                  <a:pt x="7001" y="3037"/>
                  <a:pt x="7001" y="3048"/>
                </a:cubicBezTo>
                <a:lnTo>
                  <a:pt x="6766" y="3232"/>
                </a:lnTo>
                <a:cubicBezTo>
                  <a:pt x="4463" y="3887"/>
                  <a:pt x="4709" y="3850"/>
                  <a:pt x="4016" y="4797"/>
                </a:cubicBezTo>
                <a:cubicBezTo>
                  <a:pt x="3745" y="5171"/>
                  <a:pt x="2912" y="6761"/>
                  <a:pt x="2653" y="6821"/>
                </a:cubicBezTo>
                <a:cubicBezTo>
                  <a:pt x="2418" y="6870"/>
                  <a:pt x="2371" y="6957"/>
                  <a:pt x="2359" y="7033"/>
                </a:cubicBezTo>
                <a:cubicBezTo>
                  <a:pt x="2324" y="7303"/>
                  <a:pt x="2193" y="7440"/>
                  <a:pt x="2264" y="7640"/>
                </a:cubicBezTo>
                <a:cubicBezTo>
                  <a:pt x="2287" y="7721"/>
                  <a:pt x="2334" y="7759"/>
                  <a:pt x="2451" y="7780"/>
                </a:cubicBezTo>
                <a:cubicBezTo>
                  <a:pt x="2204" y="8885"/>
                  <a:pt x="2428" y="9838"/>
                  <a:pt x="2323" y="10407"/>
                </a:cubicBezTo>
                <a:cubicBezTo>
                  <a:pt x="2311" y="10472"/>
                  <a:pt x="2254" y="10537"/>
                  <a:pt x="2172" y="10591"/>
                </a:cubicBezTo>
                <a:cubicBezTo>
                  <a:pt x="1761" y="10840"/>
                  <a:pt x="1618" y="11051"/>
                  <a:pt x="1559" y="11484"/>
                </a:cubicBezTo>
                <a:cubicBezTo>
                  <a:pt x="1524" y="11734"/>
                  <a:pt x="1853" y="11734"/>
                  <a:pt x="1794" y="11864"/>
                </a:cubicBezTo>
                <a:cubicBezTo>
                  <a:pt x="1735" y="11993"/>
                  <a:pt x="1875" y="12063"/>
                  <a:pt x="1981" y="12144"/>
                </a:cubicBezTo>
                <a:cubicBezTo>
                  <a:pt x="2016" y="12177"/>
                  <a:pt x="2066" y="12188"/>
                  <a:pt x="2113" y="12193"/>
                </a:cubicBezTo>
                <a:cubicBezTo>
                  <a:pt x="2207" y="12204"/>
                  <a:pt x="2312" y="12225"/>
                  <a:pt x="2370" y="12258"/>
                </a:cubicBezTo>
                <a:cubicBezTo>
                  <a:pt x="2441" y="12296"/>
                  <a:pt x="2535" y="12333"/>
                  <a:pt x="2664" y="12344"/>
                </a:cubicBezTo>
                <a:cubicBezTo>
                  <a:pt x="2911" y="12371"/>
                  <a:pt x="3123" y="12019"/>
                  <a:pt x="3123" y="12019"/>
                </a:cubicBezTo>
                <a:cubicBezTo>
                  <a:pt x="3170" y="12165"/>
                  <a:pt x="3698" y="12215"/>
                  <a:pt x="3663" y="12090"/>
                </a:cubicBezTo>
                <a:cubicBezTo>
                  <a:pt x="3569" y="11830"/>
                  <a:pt x="3908" y="11684"/>
                  <a:pt x="4038" y="11224"/>
                </a:cubicBezTo>
                <a:cubicBezTo>
                  <a:pt x="4108" y="10980"/>
                  <a:pt x="3981" y="10764"/>
                  <a:pt x="3828" y="10596"/>
                </a:cubicBezTo>
                <a:cubicBezTo>
                  <a:pt x="3958" y="9990"/>
                  <a:pt x="4627" y="8326"/>
                  <a:pt x="4827" y="8012"/>
                </a:cubicBezTo>
                <a:cubicBezTo>
                  <a:pt x="4992" y="8001"/>
                  <a:pt x="4969" y="7915"/>
                  <a:pt x="5051" y="7764"/>
                </a:cubicBezTo>
                <a:cubicBezTo>
                  <a:pt x="5086" y="7693"/>
                  <a:pt x="5238" y="8680"/>
                  <a:pt x="5308" y="9671"/>
                </a:cubicBezTo>
                <a:cubicBezTo>
                  <a:pt x="5344" y="10147"/>
                  <a:pt x="4428" y="10775"/>
                  <a:pt x="5521" y="11652"/>
                </a:cubicBezTo>
                <a:cubicBezTo>
                  <a:pt x="5651" y="11755"/>
                  <a:pt x="5695" y="11868"/>
                  <a:pt x="5672" y="11982"/>
                </a:cubicBezTo>
                <a:cubicBezTo>
                  <a:pt x="5284" y="13693"/>
                  <a:pt x="5131" y="15063"/>
                  <a:pt x="4967" y="15551"/>
                </a:cubicBezTo>
                <a:cubicBezTo>
                  <a:pt x="4920" y="15686"/>
                  <a:pt x="4743" y="16071"/>
                  <a:pt x="4614" y="16195"/>
                </a:cubicBezTo>
                <a:cubicBezTo>
                  <a:pt x="4285" y="16417"/>
                  <a:pt x="3876" y="16752"/>
                  <a:pt x="3876" y="16757"/>
                </a:cubicBezTo>
                <a:cubicBezTo>
                  <a:pt x="2971" y="17504"/>
                  <a:pt x="2266" y="18382"/>
                  <a:pt x="1761" y="18972"/>
                </a:cubicBezTo>
                <a:lnTo>
                  <a:pt x="1148" y="19573"/>
                </a:lnTo>
                <a:cubicBezTo>
                  <a:pt x="1136" y="19584"/>
                  <a:pt x="1137" y="19596"/>
                  <a:pt x="1126" y="19607"/>
                </a:cubicBezTo>
                <a:cubicBezTo>
                  <a:pt x="1067" y="19655"/>
                  <a:pt x="1090" y="19692"/>
                  <a:pt x="1019" y="19789"/>
                </a:cubicBezTo>
                <a:cubicBezTo>
                  <a:pt x="949" y="19887"/>
                  <a:pt x="-369" y="20554"/>
                  <a:pt x="101" y="20744"/>
                </a:cubicBezTo>
                <a:cubicBezTo>
                  <a:pt x="1076" y="21134"/>
                  <a:pt x="1137" y="20993"/>
                  <a:pt x="1948" y="21285"/>
                </a:cubicBezTo>
                <a:cubicBezTo>
                  <a:pt x="2618" y="21529"/>
                  <a:pt x="3157" y="21523"/>
                  <a:pt x="3733" y="21544"/>
                </a:cubicBezTo>
                <a:lnTo>
                  <a:pt x="6201" y="21539"/>
                </a:lnTo>
                <a:cubicBezTo>
                  <a:pt x="6424" y="21539"/>
                  <a:pt x="6495" y="21458"/>
                  <a:pt x="6483" y="21355"/>
                </a:cubicBezTo>
                <a:cubicBezTo>
                  <a:pt x="6483" y="21257"/>
                  <a:pt x="6273" y="21138"/>
                  <a:pt x="6109" y="21106"/>
                </a:cubicBezTo>
                <a:cubicBezTo>
                  <a:pt x="5886" y="21068"/>
                  <a:pt x="5778" y="21068"/>
                  <a:pt x="5543" y="21057"/>
                </a:cubicBezTo>
                <a:cubicBezTo>
                  <a:pt x="5214" y="21046"/>
                  <a:pt x="4909" y="20970"/>
                  <a:pt x="4721" y="20845"/>
                </a:cubicBezTo>
                <a:cubicBezTo>
                  <a:pt x="4415" y="20656"/>
                  <a:pt x="3991" y="20375"/>
                  <a:pt x="3792" y="20240"/>
                </a:cubicBezTo>
                <a:cubicBezTo>
                  <a:pt x="4015" y="20245"/>
                  <a:pt x="4214" y="20239"/>
                  <a:pt x="4214" y="20223"/>
                </a:cubicBezTo>
                <a:cubicBezTo>
                  <a:pt x="4226" y="20174"/>
                  <a:pt x="4437" y="19968"/>
                  <a:pt x="5095" y="19329"/>
                </a:cubicBezTo>
                <a:cubicBezTo>
                  <a:pt x="5225" y="19199"/>
                  <a:pt x="5366" y="19076"/>
                  <a:pt x="5496" y="18962"/>
                </a:cubicBezTo>
                <a:cubicBezTo>
                  <a:pt x="6024" y="18556"/>
                  <a:pt x="6624" y="18084"/>
                  <a:pt x="6895" y="17835"/>
                </a:cubicBezTo>
                <a:cubicBezTo>
                  <a:pt x="7506" y="17288"/>
                  <a:pt x="8174" y="16817"/>
                  <a:pt x="8444" y="16346"/>
                </a:cubicBezTo>
                <a:cubicBezTo>
                  <a:pt x="8750" y="15810"/>
                  <a:pt x="9539" y="14532"/>
                  <a:pt x="9539" y="14532"/>
                </a:cubicBezTo>
                <a:cubicBezTo>
                  <a:pt x="9503" y="14581"/>
                  <a:pt x="10091" y="14960"/>
                  <a:pt x="10479" y="15317"/>
                </a:cubicBezTo>
                <a:cubicBezTo>
                  <a:pt x="10620" y="15442"/>
                  <a:pt x="10891" y="15945"/>
                  <a:pt x="10938" y="16080"/>
                </a:cubicBezTo>
                <a:cubicBezTo>
                  <a:pt x="11079" y="16432"/>
                  <a:pt x="11360" y="17137"/>
                  <a:pt x="11536" y="17375"/>
                </a:cubicBezTo>
                <a:cubicBezTo>
                  <a:pt x="11948" y="17949"/>
                  <a:pt x="12675" y="18865"/>
                  <a:pt x="13310" y="19531"/>
                </a:cubicBezTo>
                <a:lnTo>
                  <a:pt x="14052" y="20424"/>
                </a:lnTo>
                <a:cubicBezTo>
                  <a:pt x="14111" y="20489"/>
                  <a:pt x="14238" y="20532"/>
                  <a:pt x="14379" y="20532"/>
                </a:cubicBezTo>
                <a:cubicBezTo>
                  <a:pt x="14379" y="20868"/>
                  <a:pt x="14426" y="21598"/>
                  <a:pt x="14896" y="21576"/>
                </a:cubicBezTo>
                <a:cubicBezTo>
                  <a:pt x="16694" y="21495"/>
                  <a:pt x="15061" y="21469"/>
                  <a:pt x="17305" y="21485"/>
                </a:cubicBezTo>
                <a:cubicBezTo>
                  <a:pt x="18528" y="21490"/>
                  <a:pt x="19810" y="21236"/>
                  <a:pt x="20574" y="20911"/>
                </a:cubicBezTo>
                <a:cubicBezTo>
                  <a:pt x="20785" y="20819"/>
                  <a:pt x="20914" y="20764"/>
                  <a:pt x="21055" y="20678"/>
                </a:cubicBezTo>
                <a:cubicBezTo>
                  <a:pt x="21231" y="20548"/>
                  <a:pt x="20726" y="20369"/>
                  <a:pt x="20104" y="20439"/>
                </a:cubicBezTo>
                <a:cubicBezTo>
                  <a:pt x="19058" y="20558"/>
                  <a:pt x="18398" y="20472"/>
                  <a:pt x="18080" y="20407"/>
                </a:cubicBezTo>
                <a:cubicBezTo>
                  <a:pt x="17963" y="20380"/>
                  <a:pt x="17858" y="20342"/>
                  <a:pt x="17775" y="20299"/>
                </a:cubicBezTo>
                <a:cubicBezTo>
                  <a:pt x="17611" y="20207"/>
                  <a:pt x="17376" y="20110"/>
                  <a:pt x="17247" y="20050"/>
                </a:cubicBezTo>
                <a:cubicBezTo>
                  <a:pt x="17399" y="20023"/>
                  <a:pt x="17516" y="19996"/>
                  <a:pt x="17493" y="19974"/>
                </a:cubicBezTo>
                <a:cubicBezTo>
                  <a:pt x="17446" y="19931"/>
                  <a:pt x="17083" y="19477"/>
                  <a:pt x="16589" y="18822"/>
                </a:cubicBezTo>
                <a:cubicBezTo>
                  <a:pt x="16354" y="18480"/>
                  <a:pt x="16131" y="18155"/>
                  <a:pt x="16002" y="17960"/>
                </a:cubicBezTo>
                <a:cubicBezTo>
                  <a:pt x="15120" y="16634"/>
                  <a:pt x="14861" y="15788"/>
                  <a:pt x="14720" y="15133"/>
                </a:cubicBezTo>
                <a:cubicBezTo>
                  <a:pt x="14603" y="14575"/>
                  <a:pt x="14133" y="14358"/>
                  <a:pt x="13721" y="13617"/>
                </a:cubicBezTo>
                <a:lnTo>
                  <a:pt x="12076" y="11224"/>
                </a:lnTo>
                <a:cubicBezTo>
                  <a:pt x="11970" y="11013"/>
                  <a:pt x="12194" y="10904"/>
                  <a:pt x="12194" y="10693"/>
                </a:cubicBezTo>
                <a:cubicBezTo>
                  <a:pt x="12182" y="10211"/>
                  <a:pt x="12077" y="9323"/>
                  <a:pt x="12300" y="8852"/>
                </a:cubicBezTo>
                <a:cubicBezTo>
                  <a:pt x="13464" y="9268"/>
                  <a:pt x="15720" y="9556"/>
                  <a:pt x="15825" y="9632"/>
                </a:cubicBezTo>
                <a:cubicBezTo>
                  <a:pt x="16119" y="9827"/>
                  <a:pt x="16543" y="9973"/>
                  <a:pt x="17048" y="10055"/>
                </a:cubicBezTo>
                <a:cubicBezTo>
                  <a:pt x="17272" y="10087"/>
                  <a:pt x="17377" y="10158"/>
                  <a:pt x="17471" y="10212"/>
                </a:cubicBezTo>
                <a:lnTo>
                  <a:pt x="17647" y="10298"/>
                </a:lnTo>
                <a:cubicBezTo>
                  <a:pt x="17776" y="10331"/>
                  <a:pt x="18023" y="10346"/>
                  <a:pt x="18411" y="10205"/>
                </a:cubicBezTo>
                <a:lnTo>
                  <a:pt x="18716" y="10082"/>
                </a:lnTo>
                <a:cubicBezTo>
                  <a:pt x="18810" y="10038"/>
                  <a:pt x="18929" y="9935"/>
                  <a:pt x="18859" y="9875"/>
                </a:cubicBezTo>
                <a:lnTo>
                  <a:pt x="18940" y="9757"/>
                </a:lnTo>
                <a:cubicBezTo>
                  <a:pt x="19022" y="9703"/>
                  <a:pt x="19012" y="9626"/>
                  <a:pt x="18918" y="9577"/>
                </a:cubicBezTo>
                <a:cubicBezTo>
                  <a:pt x="18682" y="9448"/>
                  <a:pt x="18398" y="9340"/>
                  <a:pt x="18139" y="9242"/>
                </a:cubicBezTo>
                <a:cubicBezTo>
                  <a:pt x="18021" y="9199"/>
                  <a:pt x="17858" y="9171"/>
                  <a:pt x="17706" y="9176"/>
                </a:cubicBezTo>
                <a:lnTo>
                  <a:pt x="17401" y="9139"/>
                </a:lnTo>
                <a:cubicBezTo>
                  <a:pt x="17307" y="9128"/>
                  <a:pt x="17202" y="9123"/>
                  <a:pt x="17096" y="9117"/>
                </a:cubicBezTo>
                <a:cubicBezTo>
                  <a:pt x="16802" y="9112"/>
                  <a:pt x="16014" y="9031"/>
                  <a:pt x="14992" y="8381"/>
                </a:cubicBezTo>
                <a:cubicBezTo>
                  <a:pt x="14522" y="8083"/>
                  <a:pt x="13840" y="7818"/>
                  <a:pt x="13299" y="7596"/>
                </a:cubicBezTo>
                <a:cubicBezTo>
                  <a:pt x="13323" y="7536"/>
                  <a:pt x="13336" y="7439"/>
                  <a:pt x="13218" y="7352"/>
                </a:cubicBezTo>
                <a:cubicBezTo>
                  <a:pt x="13077" y="7244"/>
                  <a:pt x="12816" y="7211"/>
                  <a:pt x="12557" y="7060"/>
                </a:cubicBezTo>
                <a:cubicBezTo>
                  <a:pt x="12263" y="6253"/>
                  <a:pt x="12454" y="6193"/>
                  <a:pt x="12348" y="5711"/>
                </a:cubicBezTo>
                <a:cubicBezTo>
                  <a:pt x="12148" y="4774"/>
                  <a:pt x="11476" y="4428"/>
                  <a:pt x="11030" y="4059"/>
                </a:cubicBezTo>
                <a:cubicBezTo>
                  <a:pt x="11030" y="4059"/>
                  <a:pt x="11149" y="3973"/>
                  <a:pt x="11055" y="3924"/>
                </a:cubicBezTo>
                <a:cubicBezTo>
                  <a:pt x="10985" y="3892"/>
                  <a:pt x="10314" y="3648"/>
                  <a:pt x="10302" y="3648"/>
                </a:cubicBezTo>
                <a:cubicBezTo>
                  <a:pt x="10091" y="3589"/>
                  <a:pt x="10479" y="3437"/>
                  <a:pt x="10596" y="3318"/>
                </a:cubicBezTo>
                <a:cubicBezTo>
                  <a:pt x="10737" y="3183"/>
                  <a:pt x="10865" y="3150"/>
                  <a:pt x="11500" y="3166"/>
                </a:cubicBezTo>
                <a:cubicBezTo>
                  <a:pt x="11887" y="3171"/>
                  <a:pt x="12064" y="3096"/>
                  <a:pt x="12028" y="2939"/>
                </a:cubicBezTo>
                <a:cubicBezTo>
                  <a:pt x="11993" y="2733"/>
                  <a:pt x="12360" y="2765"/>
                  <a:pt x="12219" y="2597"/>
                </a:cubicBezTo>
                <a:cubicBezTo>
                  <a:pt x="12208" y="2581"/>
                  <a:pt x="12299" y="2534"/>
                  <a:pt x="12311" y="2523"/>
                </a:cubicBezTo>
                <a:cubicBezTo>
                  <a:pt x="12417" y="2458"/>
                  <a:pt x="12228" y="2382"/>
                  <a:pt x="12322" y="2262"/>
                </a:cubicBezTo>
                <a:cubicBezTo>
                  <a:pt x="12381" y="2192"/>
                  <a:pt x="12676" y="2187"/>
                  <a:pt x="12653" y="2041"/>
                </a:cubicBezTo>
                <a:cubicBezTo>
                  <a:pt x="12617" y="1851"/>
                  <a:pt x="11899" y="1787"/>
                  <a:pt x="12087" y="1548"/>
                </a:cubicBezTo>
                <a:cubicBezTo>
                  <a:pt x="12334" y="1245"/>
                  <a:pt x="11984" y="909"/>
                  <a:pt x="11984" y="909"/>
                </a:cubicBezTo>
                <a:cubicBezTo>
                  <a:pt x="12231" y="817"/>
                  <a:pt x="12193" y="763"/>
                  <a:pt x="11793" y="498"/>
                </a:cubicBezTo>
                <a:cubicBezTo>
                  <a:pt x="11124" y="55"/>
                  <a:pt x="9901" y="-2"/>
                  <a:pt x="9311" y="0"/>
                </a:cubicBezTo>
                <a:close/>
                <a:moveTo>
                  <a:pt x="9311" y="0"/>
                </a:moveTo>
              </a:path>
            </a:pathLst>
          </a:cu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10642680" y="6591240"/>
            <a:ext cx="706320" cy="1528920"/>
          </a:xfrm>
          <a:custGeom>
            <a:avLst/>
            <a:gdLst/>
            <a:ahLst/>
            <a:rect l="l" t="t" r="r" b="b"/>
            <a:pathLst>
              <a:path w="21407" h="21576">
                <a:moveTo>
                  <a:pt x="9897" y="1"/>
                </a:moveTo>
                <a:cubicBezTo>
                  <a:pt x="9630" y="7"/>
                  <a:pt x="9372" y="26"/>
                  <a:pt x="9182" y="69"/>
                </a:cubicBezTo>
                <a:cubicBezTo>
                  <a:pt x="9135" y="80"/>
                  <a:pt x="9054" y="84"/>
                  <a:pt x="9019" y="79"/>
                </a:cubicBezTo>
                <a:cubicBezTo>
                  <a:pt x="8811" y="30"/>
                  <a:pt x="8555" y="53"/>
                  <a:pt x="8347" y="96"/>
                </a:cubicBezTo>
                <a:cubicBezTo>
                  <a:pt x="8000" y="166"/>
                  <a:pt x="6312" y="580"/>
                  <a:pt x="5745" y="2041"/>
                </a:cubicBezTo>
                <a:cubicBezTo>
                  <a:pt x="5468" y="2763"/>
                  <a:pt x="5722" y="2892"/>
                  <a:pt x="5399" y="3258"/>
                </a:cubicBezTo>
                <a:cubicBezTo>
                  <a:pt x="5098" y="3603"/>
                  <a:pt x="4797" y="3938"/>
                  <a:pt x="4936" y="4396"/>
                </a:cubicBezTo>
                <a:cubicBezTo>
                  <a:pt x="5029" y="4698"/>
                  <a:pt x="5572" y="4957"/>
                  <a:pt x="5572" y="4962"/>
                </a:cubicBezTo>
                <a:cubicBezTo>
                  <a:pt x="4994" y="5501"/>
                  <a:pt x="4243" y="6928"/>
                  <a:pt x="4000" y="7424"/>
                </a:cubicBezTo>
                <a:cubicBezTo>
                  <a:pt x="3757" y="7920"/>
                  <a:pt x="3550" y="8372"/>
                  <a:pt x="3238" y="9988"/>
                </a:cubicBezTo>
                <a:cubicBezTo>
                  <a:pt x="3192" y="10247"/>
                  <a:pt x="3122" y="10431"/>
                  <a:pt x="3007" y="10630"/>
                </a:cubicBezTo>
                <a:cubicBezTo>
                  <a:pt x="2937" y="10732"/>
                  <a:pt x="2464" y="10899"/>
                  <a:pt x="2302" y="11066"/>
                </a:cubicBezTo>
                <a:cubicBezTo>
                  <a:pt x="2186" y="11179"/>
                  <a:pt x="2023" y="11524"/>
                  <a:pt x="1977" y="11708"/>
                </a:cubicBezTo>
                <a:cubicBezTo>
                  <a:pt x="1954" y="11815"/>
                  <a:pt x="1991" y="11853"/>
                  <a:pt x="2060" y="11950"/>
                </a:cubicBezTo>
                <a:cubicBezTo>
                  <a:pt x="2095" y="12004"/>
                  <a:pt x="2094" y="11993"/>
                  <a:pt x="2186" y="12031"/>
                </a:cubicBezTo>
                <a:cubicBezTo>
                  <a:pt x="2233" y="12053"/>
                  <a:pt x="2303" y="12032"/>
                  <a:pt x="2291" y="12048"/>
                </a:cubicBezTo>
                <a:cubicBezTo>
                  <a:pt x="2280" y="12075"/>
                  <a:pt x="2384" y="12224"/>
                  <a:pt x="2522" y="12230"/>
                </a:cubicBezTo>
                <a:cubicBezTo>
                  <a:pt x="2684" y="12235"/>
                  <a:pt x="2741" y="12241"/>
                  <a:pt x="2833" y="12305"/>
                </a:cubicBezTo>
                <a:cubicBezTo>
                  <a:pt x="3053" y="12446"/>
                  <a:pt x="3330" y="12467"/>
                  <a:pt x="3422" y="12381"/>
                </a:cubicBezTo>
                <a:cubicBezTo>
                  <a:pt x="3549" y="12263"/>
                  <a:pt x="3573" y="12149"/>
                  <a:pt x="3585" y="12139"/>
                </a:cubicBezTo>
                <a:cubicBezTo>
                  <a:pt x="3619" y="12085"/>
                  <a:pt x="3609" y="12075"/>
                  <a:pt x="3632" y="12102"/>
                </a:cubicBezTo>
                <a:cubicBezTo>
                  <a:pt x="3736" y="12247"/>
                  <a:pt x="3976" y="12317"/>
                  <a:pt x="4069" y="12193"/>
                </a:cubicBezTo>
                <a:cubicBezTo>
                  <a:pt x="4104" y="12139"/>
                  <a:pt x="4034" y="12144"/>
                  <a:pt x="4069" y="12053"/>
                </a:cubicBezTo>
                <a:cubicBezTo>
                  <a:pt x="4092" y="11977"/>
                  <a:pt x="4208" y="11740"/>
                  <a:pt x="4347" y="11438"/>
                </a:cubicBezTo>
                <a:cubicBezTo>
                  <a:pt x="4486" y="11142"/>
                  <a:pt x="4383" y="10895"/>
                  <a:pt x="4336" y="10674"/>
                </a:cubicBezTo>
                <a:cubicBezTo>
                  <a:pt x="4313" y="10571"/>
                  <a:pt x="4708" y="10005"/>
                  <a:pt x="4893" y="9719"/>
                </a:cubicBezTo>
                <a:cubicBezTo>
                  <a:pt x="5078" y="9433"/>
                  <a:pt x="5456" y="8588"/>
                  <a:pt x="5630" y="8195"/>
                </a:cubicBezTo>
                <a:cubicBezTo>
                  <a:pt x="5803" y="7796"/>
                  <a:pt x="6326" y="7425"/>
                  <a:pt x="6569" y="7198"/>
                </a:cubicBezTo>
                <a:cubicBezTo>
                  <a:pt x="6650" y="7408"/>
                  <a:pt x="6718" y="7806"/>
                  <a:pt x="6591" y="8210"/>
                </a:cubicBezTo>
                <a:cubicBezTo>
                  <a:pt x="6371" y="8911"/>
                  <a:pt x="5376" y="9639"/>
                  <a:pt x="5388" y="9628"/>
                </a:cubicBezTo>
                <a:lnTo>
                  <a:pt x="5482" y="9731"/>
                </a:lnTo>
                <a:cubicBezTo>
                  <a:pt x="5389" y="9865"/>
                  <a:pt x="5190" y="10053"/>
                  <a:pt x="5167" y="10307"/>
                </a:cubicBezTo>
                <a:cubicBezTo>
                  <a:pt x="5133" y="11007"/>
                  <a:pt x="5608" y="11481"/>
                  <a:pt x="5608" y="11573"/>
                </a:cubicBezTo>
                <a:cubicBezTo>
                  <a:pt x="5608" y="11697"/>
                  <a:pt x="5283" y="12462"/>
                  <a:pt x="5052" y="13243"/>
                </a:cubicBezTo>
                <a:cubicBezTo>
                  <a:pt x="4971" y="13534"/>
                  <a:pt x="4960" y="14849"/>
                  <a:pt x="4636" y="15291"/>
                </a:cubicBezTo>
                <a:cubicBezTo>
                  <a:pt x="4393" y="15636"/>
                  <a:pt x="3700" y="15793"/>
                  <a:pt x="3007" y="16763"/>
                </a:cubicBezTo>
                <a:cubicBezTo>
                  <a:pt x="2463" y="17528"/>
                  <a:pt x="982" y="19521"/>
                  <a:pt x="936" y="19602"/>
                </a:cubicBezTo>
                <a:cubicBezTo>
                  <a:pt x="913" y="19645"/>
                  <a:pt x="1077" y="19666"/>
                  <a:pt x="1077" y="19666"/>
                </a:cubicBezTo>
                <a:cubicBezTo>
                  <a:pt x="1042" y="19784"/>
                  <a:pt x="578" y="19952"/>
                  <a:pt x="416" y="20055"/>
                </a:cubicBezTo>
                <a:cubicBezTo>
                  <a:pt x="115" y="20243"/>
                  <a:pt x="94" y="20318"/>
                  <a:pt x="37" y="20469"/>
                </a:cubicBezTo>
                <a:cubicBezTo>
                  <a:pt x="-21" y="20609"/>
                  <a:pt x="-35" y="20674"/>
                  <a:pt x="185" y="20733"/>
                </a:cubicBezTo>
                <a:cubicBezTo>
                  <a:pt x="393" y="20792"/>
                  <a:pt x="1098" y="21019"/>
                  <a:pt x="1283" y="21003"/>
                </a:cubicBezTo>
                <a:cubicBezTo>
                  <a:pt x="1803" y="20959"/>
                  <a:pt x="2603" y="21370"/>
                  <a:pt x="3043" y="21477"/>
                </a:cubicBezTo>
                <a:cubicBezTo>
                  <a:pt x="3436" y="21596"/>
                  <a:pt x="3827" y="21573"/>
                  <a:pt x="4289" y="21573"/>
                </a:cubicBezTo>
                <a:cubicBezTo>
                  <a:pt x="4891" y="21579"/>
                  <a:pt x="5261" y="21573"/>
                  <a:pt x="5735" y="21573"/>
                </a:cubicBezTo>
                <a:cubicBezTo>
                  <a:pt x="6001" y="21573"/>
                  <a:pt x="6083" y="21488"/>
                  <a:pt x="5944" y="21380"/>
                </a:cubicBezTo>
                <a:cubicBezTo>
                  <a:pt x="5852" y="21304"/>
                  <a:pt x="4763" y="21084"/>
                  <a:pt x="4705" y="21073"/>
                </a:cubicBezTo>
                <a:cubicBezTo>
                  <a:pt x="4358" y="20960"/>
                  <a:pt x="3791" y="20555"/>
                  <a:pt x="3491" y="20415"/>
                </a:cubicBezTo>
                <a:cubicBezTo>
                  <a:pt x="3329" y="20345"/>
                  <a:pt x="3065" y="20253"/>
                  <a:pt x="2996" y="20146"/>
                </a:cubicBezTo>
                <a:cubicBezTo>
                  <a:pt x="2973" y="20119"/>
                  <a:pt x="3040" y="19947"/>
                  <a:pt x="3028" y="19947"/>
                </a:cubicBezTo>
                <a:cubicBezTo>
                  <a:pt x="3028" y="19947"/>
                  <a:pt x="3135" y="19974"/>
                  <a:pt x="3285" y="19947"/>
                </a:cubicBezTo>
                <a:cubicBezTo>
                  <a:pt x="3331" y="19941"/>
                  <a:pt x="3551" y="19688"/>
                  <a:pt x="3863" y="19435"/>
                </a:cubicBezTo>
                <a:cubicBezTo>
                  <a:pt x="4649" y="18788"/>
                  <a:pt x="4428" y="18918"/>
                  <a:pt x="5735" y="17706"/>
                </a:cubicBezTo>
                <a:cubicBezTo>
                  <a:pt x="6139" y="17328"/>
                  <a:pt x="7006" y="16644"/>
                  <a:pt x="7422" y="16283"/>
                </a:cubicBezTo>
                <a:cubicBezTo>
                  <a:pt x="7653" y="16083"/>
                  <a:pt x="8257" y="15334"/>
                  <a:pt x="8546" y="15027"/>
                </a:cubicBezTo>
                <a:cubicBezTo>
                  <a:pt x="8696" y="14865"/>
                  <a:pt x="9237" y="14116"/>
                  <a:pt x="9503" y="13567"/>
                </a:cubicBezTo>
                <a:cubicBezTo>
                  <a:pt x="9561" y="13453"/>
                  <a:pt x="9598" y="13539"/>
                  <a:pt x="9760" y="13658"/>
                </a:cubicBezTo>
                <a:cubicBezTo>
                  <a:pt x="9864" y="13733"/>
                  <a:pt x="11700" y="14838"/>
                  <a:pt x="12278" y="15399"/>
                </a:cubicBezTo>
                <a:cubicBezTo>
                  <a:pt x="12440" y="15555"/>
                  <a:pt x="12591" y="15716"/>
                  <a:pt x="12614" y="15889"/>
                </a:cubicBezTo>
                <a:cubicBezTo>
                  <a:pt x="12788" y="16869"/>
                  <a:pt x="12825" y="17452"/>
                  <a:pt x="13275" y="18012"/>
                </a:cubicBezTo>
                <a:cubicBezTo>
                  <a:pt x="13703" y="18551"/>
                  <a:pt x="14927" y="20200"/>
                  <a:pt x="14974" y="20243"/>
                </a:cubicBezTo>
                <a:cubicBezTo>
                  <a:pt x="15020" y="20286"/>
                  <a:pt x="15021" y="20357"/>
                  <a:pt x="15125" y="20346"/>
                </a:cubicBezTo>
                <a:cubicBezTo>
                  <a:pt x="15287" y="20330"/>
                  <a:pt x="15331" y="20319"/>
                  <a:pt x="15331" y="20319"/>
                </a:cubicBezTo>
                <a:cubicBezTo>
                  <a:pt x="15343" y="20341"/>
                  <a:pt x="15402" y="20475"/>
                  <a:pt x="15378" y="20674"/>
                </a:cubicBezTo>
                <a:cubicBezTo>
                  <a:pt x="15344" y="20874"/>
                  <a:pt x="15297" y="20944"/>
                  <a:pt x="15331" y="21127"/>
                </a:cubicBezTo>
                <a:cubicBezTo>
                  <a:pt x="15389" y="21413"/>
                  <a:pt x="15516" y="21461"/>
                  <a:pt x="15747" y="21568"/>
                </a:cubicBezTo>
                <a:cubicBezTo>
                  <a:pt x="15793" y="21585"/>
                  <a:pt x="16547" y="21536"/>
                  <a:pt x="16871" y="21515"/>
                </a:cubicBezTo>
                <a:cubicBezTo>
                  <a:pt x="16940" y="21509"/>
                  <a:pt x="17043" y="21418"/>
                  <a:pt x="17239" y="21407"/>
                </a:cubicBezTo>
                <a:cubicBezTo>
                  <a:pt x="17655" y="21385"/>
                  <a:pt x="18189" y="21440"/>
                  <a:pt x="19068" y="21343"/>
                </a:cubicBezTo>
                <a:cubicBezTo>
                  <a:pt x="20016" y="21235"/>
                  <a:pt x="20315" y="21180"/>
                  <a:pt x="20824" y="21062"/>
                </a:cubicBezTo>
                <a:cubicBezTo>
                  <a:pt x="21448" y="20884"/>
                  <a:pt x="21565" y="20680"/>
                  <a:pt x="21207" y="20615"/>
                </a:cubicBezTo>
                <a:cubicBezTo>
                  <a:pt x="21033" y="20583"/>
                  <a:pt x="20651" y="20631"/>
                  <a:pt x="20235" y="20615"/>
                </a:cubicBezTo>
                <a:cubicBezTo>
                  <a:pt x="19795" y="20594"/>
                  <a:pt x="18592" y="20502"/>
                  <a:pt x="18106" y="20427"/>
                </a:cubicBezTo>
                <a:cubicBezTo>
                  <a:pt x="17968" y="20405"/>
                  <a:pt x="17851" y="20400"/>
                  <a:pt x="17713" y="20319"/>
                </a:cubicBezTo>
                <a:cubicBezTo>
                  <a:pt x="17678" y="20297"/>
                  <a:pt x="17563" y="20243"/>
                  <a:pt x="17528" y="20221"/>
                </a:cubicBezTo>
                <a:cubicBezTo>
                  <a:pt x="17505" y="20205"/>
                  <a:pt x="17320" y="20049"/>
                  <a:pt x="17297" y="20028"/>
                </a:cubicBezTo>
                <a:cubicBezTo>
                  <a:pt x="17470" y="19995"/>
                  <a:pt x="17505" y="19984"/>
                  <a:pt x="17470" y="19925"/>
                </a:cubicBezTo>
                <a:cubicBezTo>
                  <a:pt x="17424" y="19833"/>
                  <a:pt x="16420" y="17203"/>
                  <a:pt x="15993" y="15894"/>
                </a:cubicBezTo>
                <a:cubicBezTo>
                  <a:pt x="15946" y="15737"/>
                  <a:pt x="15887" y="15577"/>
                  <a:pt x="15841" y="15426"/>
                </a:cubicBezTo>
                <a:cubicBezTo>
                  <a:pt x="15748" y="15092"/>
                  <a:pt x="15737" y="14854"/>
                  <a:pt x="15552" y="14574"/>
                </a:cubicBezTo>
                <a:cubicBezTo>
                  <a:pt x="15355" y="14272"/>
                  <a:pt x="14117" y="12597"/>
                  <a:pt x="12903" y="11320"/>
                </a:cubicBezTo>
                <a:cubicBezTo>
                  <a:pt x="12429" y="10825"/>
                  <a:pt x="11839" y="10457"/>
                  <a:pt x="11758" y="9724"/>
                </a:cubicBezTo>
                <a:cubicBezTo>
                  <a:pt x="11723" y="9390"/>
                  <a:pt x="11853" y="9057"/>
                  <a:pt x="11899" y="8901"/>
                </a:cubicBezTo>
                <a:cubicBezTo>
                  <a:pt x="11968" y="8669"/>
                  <a:pt x="12105" y="8389"/>
                  <a:pt x="12105" y="8389"/>
                </a:cubicBezTo>
                <a:cubicBezTo>
                  <a:pt x="12105" y="8389"/>
                  <a:pt x="12119" y="8502"/>
                  <a:pt x="12361" y="8609"/>
                </a:cubicBezTo>
                <a:cubicBezTo>
                  <a:pt x="12604" y="8717"/>
                  <a:pt x="12602" y="8711"/>
                  <a:pt x="12914" y="8835"/>
                </a:cubicBezTo>
                <a:cubicBezTo>
                  <a:pt x="13619" y="9126"/>
                  <a:pt x="16360" y="9865"/>
                  <a:pt x="16383" y="9956"/>
                </a:cubicBezTo>
                <a:cubicBezTo>
                  <a:pt x="16406" y="10053"/>
                  <a:pt x="16708" y="10259"/>
                  <a:pt x="17055" y="10382"/>
                </a:cubicBezTo>
                <a:cubicBezTo>
                  <a:pt x="17402" y="10501"/>
                  <a:pt x="17517" y="10516"/>
                  <a:pt x="17586" y="10581"/>
                </a:cubicBezTo>
                <a:cubicBezTo>
                  <a:pt x="17667" y="10673"/>
                  <a:pt x="18153" y="10711"/>
                  <a:pt x="18280" y="10728"/>
                </a:cubicBezTo>
                <a:cubicBezTo>
                  <a:pt x="18557" y="10760"/>
                  <a:pt x="18893" y="10489"/>
                  <a:pt x="19089" y="10478"/>
                </a:cubicBezTo>
                <a:cubicBezTo>
                  <a:pt x="19216" y="10468"/>
                  <a:pt x="19355" y="10398"/>
                  <a:pt x="19378" y="10253"/>
                </a:cubicBezTo>
                <a:cubicBezTo>
                  <a:pt x="19390" y="10167"/>
                  <a:pt x="19391" y="10000"/>
                  <a:pt x="19194" y="9929"/>
                </a:cubicBezTo>
                <a:cubicBezTo>
                  <a:pt x="18986" y="9859"/>
                  <a:pt x="18638" y="9736"/>
                  <a:pt x="18395" y="9704"/>
                </a:cubicBezTo>
                <a:cubicBezTo>
                  <a:pt x="18176" y="9672"/>
                  <a:pt x="17865" y="9649"/>
                  <a:pt x="17391" y="9535"/>
                </a:cubicBezTo>
                <a:cubicBezTo>
                  <a:pt x="17021" y="9444"/>
                  <a:pt x="16892" y="9390"/>
                  <a:pt x="16556" y="9207"/>
                </a:cubicBezTo>
                <a:cubicBezTo>
                  <a:pt x="14406" y="8065"/>
                  <a:pt x="13599" y="7769"/>
                  <a:pt x="13333" y="7688"/>
                </a:cubicBezTo>
                <a:cubicBezTo>
                  <a:pt x="13148" y="7634"/>
                  <a:pt x="12939" y="7472"/>
                  <a:pt x="12766" y="7272"/>
                </a:cubicBezTo>
                <a:cubicBezTo>
                  <a:pt x="12766" y="7251"/>
                  <a:pt x="12905" y="6724"/>
                  <a:pt x="13113" y="6476"/>
                </a:cubicBezTo>
                <a:cubicBezTo>
                  <a:pt x="13217" y="6347"/>
                  <a:pt x="13263" y="6120"/>
                  <a:pt x="13229" y="6018"/>
                </a:cubicBezTo>
                <a:cubicBezTo>
                  <a:pt x="13171" y="5856"/>
                  <a:pt x="13090" y="5743"/>
                  <a:pt x="12871" y="5619"/>
                </a:cubicBezTo>
                <a:cubicBezTo>
                  <a:pt x="12408" y="5371"/>
                  <a:pt x="12024" y="5118"/>
                  <a:pt x="11527" y="4881"/>
                </a:cubicBezTo>
                <a:cubicBezTo>
                  <a:pt x="11469" y="4854"/>
                  <a:pt x="11145" y="4606"/>
                  <a:pt x="11064" y="4504"/>
                </a:cubicBezTo>
                <a:cubicBezTo>
                  <a:pt x="10925" y="4332"/>
                  <a:pt x="10871" y="4142"/>
                  <a:pt x="10558" y="4007"/>
                </a:cubicBezTo>
                <a:cubicBezTo>
                  <a:pt x="10512" y="3986"/>
                  <a:pt x="10430" y="3921"/>
                  <a:pt x="10407" y="3894"/>
                </a:cubicBezTo>
                <a:cubicBezTo>
                  <a:pt x="10326" y="3771"/>
                  <a:pt x="10428" y="3619"/>
                  <a:pt x="10486" y="3500"/>
                </a:cubicBezTo>
                <a:cubicBezTo>
                  <a:pt x="10579" y="3306"/>
                  <a:pt x="10637" y="3254"/>
                  <a:pt x="10880" y="3130"/>
                </a:cubicBezTo>
                <a:cubicBezTo>
                  <a:pt x="10938" y="3098"/>
                  <a:pt x="11076" y="3065"/>
                  <a:pt x="11285" y="3076"/>
                </a:cubicBezTo>
                <a:cubicBezTo>
                  <a:pt x="11666" y="3098"/>
                  <a:pt x="11746" y="3119"/>
                  <a:pt x="12105" y="3086"/>
                </a:cubicBezTo>
                <a:cubicBezTo>
                  <a:pt x="12440" y="3059"/>
                  <a:pt x="12463" y="2898"/>
                  <a:pt x="12452" y="2817"/>
                </a:cubicBezTo>
                <a:cubicBezTo>
                  <a:pt x="12417" y="2634"/>
                  <a:pt x="12764" y="2704"/>
                  <a:pt x="12567" y="2520"/>
                </a:cubicBezTo>
                <a:cubicBezTo>
                  <a:pt x="12544" y="2499"/>
                  <a:pt x="12776" y="2504"/>
                  <a:pt x="12730" y="2391"/>
                </a:cubicBezTo>
                <a:cubicBezTo>
                  <a:pt x="12672" y="2245"/>
                  <a:pt x="12707" y="2187"/>
                  <a:pt x="12846" y="2165"/>
                </a:cubicBezTo>
                <a:cubicBezTo>
                  <a:pt x="13123" y="2122"/>
                  <a:pt x="13159" y="1997"/>
                  <a:pt x="13055" y="1938"/>
                </a:cubicBezTo>
                <a:cubicBezTo>
                  <a:pt x="12963" y="1889"/>
                  <a:pt x="12891" y="1847"/>
                  <a:pt x="12799" y="1798"/>
                </a:cubicBezTo>
                <a:cubicBezTo>
                  <a:pt x="12729" y="1766"/>
                  <a:pt x="12674" y="1723"/>
                  <a:pt x="12650" y="1680"/>
                </a:cubicBezTo>
                <a:cubicBezTo>
                  <a:pt x="12569" y="1519"/>
                  <a:pt x="12663" y="1336"/>
                  <a:pt x="12640" y="1163"/>
                </a:cubicBezTo>
                <a:cubicBezTo>
                  <a:pt x="12593" y="808"/>
                  <a:pt x="12419" y="726"/>
                  <a:pt x="12246" y="554"/>
                </a:cubicBezTo>
                <a:cubicBezTo>
                  <a:pt x="12246" y="489"/>
                  <a:pt x="12223" y="397"/>
                  <a:pt x="12177" y="370"/>
                </a:cubicBezTo>
                <a:cubicBezTo>
                  <a:pt x="11853" y="155"/>
                  <a:pt x="11229" y="42"/>
                  <a:pt x="10674" y="15"/>
                </a:cubicBezTo>
                <a:cubicBezTo>
                  <a:pt x="10443" y="4"/>
                  <a:pt x="10164" y="-4"/>
                  <a:pt x="9897" y="1"/>
                </a:cubicBezTo>
                <a:close/>
                <a:moveTo>
                  <a:pt x="9897" y="1"/>
                </a:moveTo>
              </a:path>
            </a:pathLst>
          </a:cu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11582280" y="5402160"/>
            <a:ext cx="1262160" cy="2730600"/>
          </a:xfrm>
          <a:custGeom>
            <a:avLst/>
            <a:gdLst/>
            <a:ahLst/>
            <a:rect l="l" t="t" r="r" b="b"/>
            <a:pathLst>
              <a:path w="21407" h="21576">
                <a:moveTo>
                  <a:pt x="9897" y="1"/>
                </a:moveTo>
                <a:cubicBezTo>
                  <a:pt x="9630" y="7"/>
                  <a:pt x="9372" y="26"/>
                  <a:pt x="9182" y="69"/>
                </a:cubicBezTo>
                <a:cubicBezTo>
                  <a:pt x="9135" y="80"/>
                  <a:pt x="9054" y="84"/>
                  <a:pt x="9019" y="79"/>
                </a:cubicBezTo>
                <a:cubicBezTo>
                  <a:pt x="8811" y="30"/>
                  <a:pt x="8555" y="53"/>
                  <a:pt x="8347" y="96"/>
                </a:cubicBezTo>
                <a:cubicBezTo>
                  <a:pt x="8000" y="166"/>
                  <a:pt x="6312" y="580"/>
                  <a:pt x="5745" y="2041"/>
                </a:cubicBezTo>
                <a:cubicBezTo>
                  <a:pt x="5468" y="2763"/>
                  <a:pt x="5722" y="2892"/>
                  <a:pt x="5399" y="3258"/>
                </a:cubicBezTo>
                <a:cubicBezTo>
                  <a:pt x="5098" y="3603"/>
                  <a:pt x="4797" y="3938"/>
                  <a:pt x="4936" y="4396"/>
                </a:cubicBezTo>
                <a:cubicBezTo>
                  <a:pt x="5029" y="4698"/>
                  <a:pt x="5572" y="4957"/>
                  <a:pt x="5572" y="4962"/>
                </a:cubicBezTo>
                <a:cubicBezTo>
                  <a:pt x="4994" y="5501"/>
                  <a:pt x="4243" y="6928"/>
                  <a:pt x="4000" y="7424"/>
                </a:cubicBezTo>
                <a:cubicBezTo>
                  <a:pt x="3757" y="7920"/>
                  <a:pt x="3550" y="8372"/>
                  <a:pt x="3238" y="9988"/>
                </a:cubicBezTo>
                <a:cubicBezTo>
                  <a:pt x="3192" y="10247"/>
                  <a:pt x="3122" y="10431"/>
                  <a:pt x="3007" y="10630"/>
                </a:cubicBezTo>
                <a:cubicBezTo>
                  <a:pt x="2937" y="10732"/>
                  <a:pt x="2464" y="10899"/>
                  <a:pt x="2302" y="11066"/>
                </a:cubicBezTo>
                <a:cubicBezTo>
                  <a:pt x="2186" y="11179"/>
                  <a:pt x="2023" y="11524"/>
                  <a:pt x="1977" y="11708"/>
                </a:cubicBezTo>
                <a:cubicBezTo>
                  <a:pt x="1954" y="11815"/>
                  <a:pt x="1991" y="11853"/>
                  <a:pt x="2060" y="11950"/>
                </a:cubicBezTo>
                <a:cubicBezTo>
                  <a:pt x="2095" y="12004"/>
                  <a:pt x="2094" y="11993"/>
                  <a:pt x="2186" y="12031"/>
                </a:cubicBezTo>
                <a:cubicBezTo>
                  <a:pt x="2233" y="12053"/>
                  <a:pt x="2303" y="12032"/>
                  <a:pt x="2291" y="12048"/>
                </a:cubicBezTo>
                <a:cubicBezTo>
                  <a:pt x="2280" y="12075"/>
                  <a:pt x="2384" y="12224"/>
                  <a:pt x="2522" y="12230"/>
                </a:cubicBezTo>
                <a:cubicBezTo>
                  <a:pt x="2684" y="12235"/>
                  <a:pt x="2741" y="12241"/>
                  <a:pt x="2833" y="12305"/>
                </a:cubicBezTo>
                <a:cubicBezTo>
                  <a:pt x="3053" y="12446"/>
                  <a:pt x="3330" y="12467"/>
                  <a:pt x="3422" y="12381"/>
                </a:cubicBezTo>
                <a:cubicBezTo>
                  <a:pt x="3549" y="12263"/>
                  <a:pt x="3573" y="12149"/>
                  <a:pt x="3585" y="12139"/>
                </a:cubicBezTo>
                <a:cubicBezTo>
                  <a:pt x="3619" y="12085"/>
                  <a:pt x="3609" y="12075"/>
                  <a:pt x="3632" y="12102"/>
                </a:cubicBezTo>
                <a:cubicBezTo>
                  <a:pt x="3736" y="12247"/>
                  <a:pt x="3976" y="12317"/>
                  <a:pt x="4069" y="12193"/>
                </a:cubicBezTo>
                <a:cubicBezTo>
                  <a:pt x="4104" y="12139"/>
                  <a:pt x="4034" y="12144"/>
                  <a:pt x="4069" y="12053"/>
                </a:cubicBezTo>
                <a:cubicBezTo>
                  <a:pt x="4092" y="11977"/>
                  <a:pt x="4208" y="11740"/>
                  <a:pt x="4347" y="11438"/>
                </a:cubicBezTo>
                <a:cubicBezTo>
                  <a:pt x="4486" y="11142"/>
                  <a:pt x="4383" y="10895"/>
                  <a:pt x="4336" y="10674"/>
                </a:cubicBezTo>
                <a:cubicBezTo>
                  <a:pt x="4313" y="10571"/>
                  <a:pt x="4708" y="10005"/>
                  <a:pt x="4893" y="9719"/>
                </a:cubicBezTo>
                <a:cubicBezTo>
                  <a:pt x="5078" y="9433"/>
                  <a:pt x="5456" y="8588"/>
                  <a:pt x="5630" y="8195"/>
                </a:cubicBezTo>
                <a:cubicBezTo>
                  <a:pt x="5803" y="7796"/>
                  <a:pt x="6327" y="7425"/>
                  <a:pt x="6569" y="7198"/>
                </a:cubicBezTo>
                <a:cubicBezTo>
                  <a:pt x="6650" y="7408"/>
                  <a:pt x="6718" y="7806"/>
                  <a:pt x="6591" y="8210"/>
                </a:cubicBezTo>
                <a:cubicBezTo>
                  <a:pt x="6371" y="8911"/>
                  <a:pt x="5376" y="9639"/>
                  <a:pt x="5388" y="9628"/>
                </a:cubicBezTo>
                <a:lnTo>
                  <a:pt x="5482" y="9731"/>
                </a:lnTo>
                <a:cubicBezTo>
                  <a:pt x="5389" y="9865"/>
                  <a:pt x="5190" y="10053"/>
                  <a:pt x="5167" y="10307"/>
                </a:cubicBezTo>
                <a:cubicBezTo>
                  <a:pt x="5133" y="11007"/>
                  <a:pt x="5608" y="11481"/>
                  <a:pt x="5608" y="11573"/>
                </a:cubicBezTo>
                <a:cubicBezTo>
                  <a:pt x="5608" y="11697"/>
                  <a:pt x="5283" y="12462"/>
                  <a:pt x="5052" y="13243"/>
                </a:cubicBezTo>
                <a:cubicBezTo>
                  <a:pt x="4971" y="13534"/>
                  <a:pt x="4960" y="14849"/>
                  <a:pt x="4636" y="15291"/>
                </a:cubicBezTo>
                <a:cubicBezTo>
                  <a:pt x="4393" y="15636"/>
                  <a:pt x="3700" y="15793"/>
                  <a:pt x="3007" y="16763"/>
                </a:cubicBezTo>
                <a:cubicBezTo>
                  <a:pt x="2463" y="17528"/>
                  <a:pt x="982" y="19521"/>
                  <a:pt x="936" y="19602"/>
                </a:cubicBezTo>
                <a:cubicBezTo>
                  <a:pt x="913" y="19645"/>
                  <a:pt x="1077" y="19666"/>
                  <a:pt x="1077" y="19666"/>
                </a:cubicBezTo>
                <a:cubicBezTo>
                  <a:pt x="1042" y="19784"/>
                  <a:pt x="578" y="19952"/>
                  <a:pt x="416" y="20055"/>
                </a:cubicBezTo>
                <a:cubicBezTo>
                  <a:pt x="115" y="20243"/>
                  <a:pt x="94" y="20318"/>
                  <a:pt x="37" y="20469"/>
                </a:cubicBezTo>
                <a:cubicBezTo>
                  <a:pt x="-21" y="20609"/>
                  <a:pt x="-35" y="20674"/>
                  <a:pt x="185" y="20733"/>
                </a:cubicBezTo>
                <a:cubicBezTo>
                  <a:pt x="393" y="20792"/>
                  <a:pt x="1098" y="21019"/>
                  <a:pt x="1283" y="21003"/>
                </a:cubicBezTo>
                <a:cubicBezTo>
                  <a:pt x="1803" y="20959"/>
                  <a:pt x="2603" y="21370"/>
                  <a:pt x="3043" y="21477"/>
                </a:cubicBezTo>
                <a:cubicBezTo>
                  <a:pt x="3436" y="21596"/>
                  <a:pt x="3827" y="21573"/>
                  <a:pt x="4289" y="21573"/>
                </a:cubicBezTo>
                <a:cubicBezTo>
                  <a:pt x="4891" y="21579"/>
                  <a:pt x="5261" y="21573"/>
                  <a:pt x="5735" y="21573"/>
                </a:cubicBezTo>
                <a:cubicBezTo>
                  <a:pt x="6001" y="21573"/>
                  <a:pt x="6083" y="21488"/>
                  <a:pt x="5944" y="21380"/>
                </a:cubicBezTo>
                <a:cubicBezTo>
                  <a:pt x="5852" y="21304"/>
                  <a:pt x="4763" y="21084"/>
                  <a:pt x="4705" y="21073"/>
                </a:cubicBezTo>
                <a:cubicBezTo>
                  <a:pt x="4358" y="20960"/>
                  <a:pt x="3791" y="20555"/>
                  <a:pt x="3491" y="20415"/>
                </a:cubicBezTo>
                <a:cubicBezTo>
                  <a:pt x="3329" y="20345"/>
                  <a:pt x="3065" y="20253"/>
                  <a:pt x="2996" y="20145"/>
                </a:cubicBezTo>
                <a:cubicBezTo>
                  <a:pt x="2973" y="20119"/>
                  <a:pt x="3040" y="19947"/>
                  <a:pt x="3028" y="19947"/>
                </a:cubicBezTo>
                <a:cubicBezTo>
                  <a:pt x="3028" y="19947"/>
                  <a:pt x="3135" y="19974"/>
                  <a:pt x="3285" y="19947"/>
                </a:cubicBezTo>
                <a:cubicBezTo>
                  <a:pt x="3331" y="19941"/>
                  <a:pt x="3551" y="19688"/>
                  <a:pt x="3863" y="19435"/>
                </a:cubicBezTo>
                <a:cubicBezTo>
                  <a:pt x="4649" y="18788"/>
                  <a:pt x="4428" y="18918"/>
                  <a:pt x="5735" y="17706"/>
                </a:cubicBezTo>
                <a:cubicBezTo>
                  <a:pt x="6139" y="17328"/>
                  <a:pt x="7006" y="16644"/>
                  <a:pt x="7422" y="16283"/>
                </a:cubicBezTo>
                <a:cubicBezTo>
                  <a:pt x="7653" y="16083"/>
                  <a:pt x="8257" y="15334"/>
                  <a:pt x="8546" y="15027"/>
                </a:cubicBezTo>
                <a:cubicBezTo>
                  <a:pt x="8696" y="14865"/>
                  <a:pt x="9237" y="14116"/>
                  <a:pt x="9503" y="13567"/>
                </a:cubicBezTo>
                <a:cubicBezTo>
                  <a:pt x="9561" y="13453"/>
                  <a:pt x="9598" y="13539"/>
                  <a:pt x="9760" y="13658"/>
                </a:cubicBezTo>
                <a:cubicBezTo>
                  <a:pt x="9864" y="13733"/>
                  <a:pt x="11700" y="14838"/>
                  <a:pt x="12278" y="15399"/>
                </a:cubicBezTo>
                <a:cubicBezTo>
                  <a:pt x="12440" y="15555"/>
                  <a:pt x="12591" y="15716"/>
                  <a:pt x="12614" y="15889"/>
                </a:cubicBezTo>
                <a:cubicBezTo>
                  <a:pt x="12788" y="16869"/>
                  <a:pt x="12825" y="17452"/>
                  <a:pt x="13275" y="18012"/>
                </a:cubicBezTo>
                <a:cubicBezTo>
                  <a:pt x="13703" y="18551"/>
                  <a:pt x="14927" y="20200"/>
                  <a:pt x="14974" y="20243"/>
                </a:cubicBezTo>
                <a:cubicBezTo>
                  <a:pt x="15020" y="20286"/>
                  <a:pt x="15021" y="20357"/>
                  <a:pt x="15125" y="20346"/>
                </a:cubicBezTo>
                <a:cubicBezTo>
                  <a:pt x="15287" y="20330"/>
                  <a:pt x="15331" y="20319"/>
                  <a:pt x="15331" y="20319"/>
                </a:cubicBezTo>
                <a:cubicBezTo>
                  <a:pt x="15343" y="20341"/>
                  <a:pt x="15402" y="20475"/>
                  <a:pt x="15378" y="20674"/>
                </a:cubicBezTo>
                <a:cubicBezTo>
                  <a:pt x="15344" y="20874"/>
                  <a:pt x="15297" y="20944"/>
                  <a:pt x="15331" y="21127"/>
                </a:cubicBezTo>
                <a:cubicBezTo>
                  <a:pt x="15389" y="21413"/>
                  <a:pt x="15516" y="21461"/>
                  <a:pt x="15747" y="21568"/>
                </a:cubicBezTo>
                <a:cubicBezTo>
                  <a:pt x="15793" y="21585"/>
                  <a:pt x="16547" y="21536"/>
                  <a:pt x="16871" y="21515"/>
                </a:cubicBezTo>
                <a:cubicBezTo>
                  <a:pt x="16940" y="21509"/>
                  <a:pt x="17043" y="21418"/>
                  <a:pt x="17239" y="21407"/>
                </a:cubicBezTo>
                <a:cubicBezTo>
                  <a:pt x="17655" y="21385"/>
                  <a:pt x="18189" y="21440"/>
                  <a:pt x="19068" y="21343"/>
                </a:cubicBezTo>
                <a:cubicBezTo>
                  <a:pt x="20016" y="21235"/>
                  <a:pt x="20315" y="21180"/>
                  <a:pt x="20824" y="21062"/>
                </a:cubicBezTo>
                <a:cubicBezTo>
                  <a:pt x="21448" y="20884"/>
                  <a:pt x="21565" y="20680"/>
                  <a:pt x="21207" y="20615"/>
                </a:cubicBezTo>
                <a:cubicBezTo>
                  <a:pt x="21033" y="20583"/>
                  <a:pt x="20651" y="20631"/>
                  <a:pt x="20235" y="20615"/>
                </a:cubicBezTo>
                <a:cubicBezTo>
                  <a:pt x="19795" y="20594"/>
                  <a:pt x="18592" y="20502"/>
                  <a:pt x="18106" y="20427"/>
                </a:cubicBezTo>
                <a:cubicBezTo>
                  <a:pt x="17968" y="20405"/>
                  <a:pt x="17851" y="20400"/>
                  <a:pt x="17713" y="20319"/>
                </a:cubicBezTo>
                <a:cubicBezTo>
                  <a:pt x="17678" y="20297"/>
                  <a:pt x="17563" y="20243"/>
                  <a:pt x="17528" y="20221"/>
                </a:cubicBezTo>
                <a:cubicBezTo>
                  <a:pt x="17505" y="20205"/>
                  <a:pt x="17320" y="20049"/>
                  <a:pt x="17297" y="20028"/>
                </a:cubicBezTo>
                <a:cubicBezTo>
                  <a:pt x="17470" y="19995"/>
                  <a:pt x="17505" y="19984"/>
                  <a:pt x="17470" y="19925"/>
                </a:cubicBezTo>
                <a:cubicBezTo>
                  <a:pt x="17424" y="19833"/>
                  <a:pt x="16420" y="17203"/>
                  <a:pt x="15993" y="15894"/>
                </a:cubicBezTo>
                <a:cubicBezTo>
                  <a:pt x="15946" y="15737"/>
                  <a:pt x="15887" y="15577"/>
                  <a:pt x="15841" y="15426"/>
                </a:cubicBezTo>
                <a:cubicBezTo>
                  <a:pt x="15748" y="15092"/>
                  <a:pt x="15737" y="14854"/>
                  <a:pt x="15552" y="14574"/>
                </a:cubicBezTo>
                <a:cubicBezTo>
                  <a:pt x="15355" y="14272"/>
                  <a:pt x="14117" y="12597"/>
                  <a:pt x="12903" y="11320"/>
                </a:cubicBezTo>
                <a:cubicBezTo>
                  <a:pt x="12429" y="10825"/>
                  <a:pt x="11839" y="10457"/>
                  <a:pt x="11758" y="9724"/>
                </a:cubicBezTo>
                <a:cubicBezTo>
                  <a:pt x="11723" y="9390"/>
                  <a:pt x="11853" y="9057"/>
                  <a:pt x="11899" y="8901"/>
                </a:cubicBezTo>
                <a:cubicBezTo>
                  <a:pt x="11968" y="8669"/>
                  <a:pt x="12105" y="8389"/>
                  <a:pt x="12105" y="8389"/>
                </a:cubicBezTo>
                <a:cubicBezTo>
                  <a:pt x="12105" y="8389"/>
                  <a:pt x="12119" y="8502"/>
                  <a:pt x="12361" y="8609"/>
                </a:cubicBezTo>
                <a:cubicBezTo>
                  <a:pt x="12604" y="8717"/>
                  <a:pt x="12602" y="8711"/>
                  <a:pt x="12914" y="8835"/>
                </a:cubicBezTo>
                <a:cubicBezTo>
                  <a:pt x="13619" y="9126"/>
                  <a:pt x="16360" y="9865"/>
                  <a:pt x="16383" y="9956"/>
                </a:cubicBezTo>
                <a:cubicBezTo>
                  <a:pt x="16406" y="10053"/>
                  <a:pt x="16708" y="10259"/>
                  <a:pt x="17055" y="10382"/>
                </a:cubicBezTo>
                <a:cubicBezTo>
                  <a:pt x="17402" y="10501"/>
                  <a:pt x="17517" y="10516"/>
                  <a:pt x="17586" y="10581"/>
                </a:cubicBezTo>
                <a:cubicBezTo>
                  <a:pt x="17667" y="10673"/>
                  <a:pt x="18153" y="10711"/>
                  <a:pt x="18280" y="10728"/>
                </a:cubicBezTo>
                <a:cubicBezTo>
                  <a:pt x="18557" y="10760"/>
                  <a:pt x="18893" y="10489"/>
                  <a:pt x="19089" y="10478"/>
                </a:cubicBezTo>
                <a:cubicBezTo>
                  <a:pt x="19216" y="10468"/>
                  <a:pt x="19355" y="10398"/>
                  <a:pt x="19378" y="10253"/>
                </a:cubicBezTo>
                <a:cubicBezTo>
                  <a:pt x="19390" y="10167"/>
                  <a:pt x="19391" y="10000"/>
                  <a:pt x="19194" y="9929"/>
                </a:cubicBezTo>
                <a:cubicBezTo>
                  <a:pt x="18986" y="9859"/>
                  <a:pt x="18638" y="9736"/>
                  <a:pt x="18395" y="9704"/>
                </a:cubicBezTo>
                <a:cubicBezTo>
                  <a:pt x="18176" y="9672"/>
                  <a:pt x="17865" y="9649"/>
                  <a:pt x="17391" y="9535"/>
                </a:cubicBezTo>
                <a:cubicBezTo>
                  <a:pt x="17021" y="9444"/>
                  <a:pt x="16892" y="9390"/>
                  <a:pt x="16556" y="9207"/>
                </a:cubicBezTo>
                <a:cubicBezTo>
                  <a:pt x="14406" y="8065"/>
                  <a:pt x="13599" y="7769"/>
                  <a:pt x="13333" y="7688"/>
                </a:cubicBezTo>
                <a:cubicBezTo>
                  <a:pt x="13148" y="7634"/>
                  <a:pt x="12939" y="7472"/>
                  <a:pt x="12766" y="7272"/>
                </a:cubicBezTo>
                <a:cubicBezTo>
                  <a:pt x="12766" y="7251"/>
                  <a:pt x="12905" y="6724"/>
                  <a:pt x="13113" y="6476"/>
                </a:cubicBezTo>
                <a:cubicBezTo>
                  <a:pt x="13217" y="6347"/>
                  <a:pt x="13263" y="6120"/>
                  <a:pt x="13229" y="6018"/>
                </a:cubicBezTo>
                <a:cubicBezTo>
                  <a:pt x="13171" y="5856"/>
                  <a:pt x="13090" y="5743"/>
                  <a:pt x="12871" y="5619"/>
                </a:cubicBezTo>
                <a:cubicBezTo>
                  <a:pt x="12408" y="5371"/>
                  <a:pt x="12024" y="5118"/>
                  <a:pt x="11527" y="4881"/>
                </a:cubicBezTo>
                <a:cubicBezTo>
                  <a:pt x="11469" y="4854"/>
                  <a:pt x="11145" y="4606"/>
                  <a:pt x="11064" y="4504"/>
                </a:cubicBezTo>
                <a:cubicBezTo>
                  <a:pt x="10925" y="4332"/>
                  <a:pt x="10871" y="4142"/>
                  <a:pt x="10558" y="4007"/>
                </a:cubicBezTo>
                <a:cubicBezTo>
                  <a:pt x="10512" y="3986"/>
                  <a:pt x="10430" y="3921"/>
                  <a:pt x="10407" y="3894"/>
                </a:cubicBezTo>
                <a:cubicBezTo>
                  <a:pt x="10326" y="3771"/>
                  <a:pt x="10428" y="3619"/>
                  <a:pt x="10486" y="3500"/>
                </a:cubicBezTo>
                <a:cubicBezTo>
                  <a:pt x="10579" y="3306"/>
                  <a:pt x="10637" y="3254"/>
                  <a:pt x="10880" y="3130"/>
                </a:cubicBezTo>
                <a:cubicBezTo>
                  <a:pt x="10938" y="3098"/>
                  <a:pt x="11076" y="3065"/>
                  <a:pt x="11285" y="3076"/>
                </a:cubicBezTo>
                <a:cubicBezTo>
                  <a:pt x="11666" y="3098"/>
                  <a:pt x="11746" y="3119"/>
                  <a:pt x="12105" y="3086"/>
                </a:cubicBezTo>
                <a:cubicBezTo>
                  <a:pt x="12440" y="3059"/>
                  <a:pt x="12463" y="2898"/>
                  <a:pt x="12452" y="2817"/>
                </a:cubicBezTo>
                <a:cubicBezTo>
                  <a:pt x="12417" y="2634"/>
                  <a:pt x="12764" y="2704"/>
                  <a:pt x="12567" y="2520"/>
                </a:cubicBezTo>
                <a:cubicBezTo>
                  <a:pt x="12544" y="2499"/>
                  <a:pt x="12776" y="2504"/>
                  <a:pt x="12730" y="2391"/>
                </a:cubicBezTo>
                <a:cubicBezTo>
                  <a:pt x="12672" y="2245"/>
                  <a:pt x="12707" y="2187"/>
                  <a:pt x="12846" y="2165"/>
                </a:cubicBezTo>
                <a:cubicBezTo>
                  <a:pt x="13123" y="2122"/>
                  <a:pt x="13159" y="1997"/>
                  <a:pt x="13055" y="1938"/>
                </a:cubicBezTo>
                <a:cubicBezTo>
                  <a:pt x="12963" y="1889"/>
                  <a:pt x="12891" y="1847"/>
                  <a:pt x="12799" y="1798"/>
                </a:cubicBezTo>
                <a:cubicBezTo>
                  <a:pt x="12729" y="1766"/>
                  <a:pt x="12674" y="1723"/>
                  <a:pt x="12650" y="1680"/>
                </a:cubicBezTo>
                <a:cubicBezTo>
                  <a:pt x="12569" y="1519"/>
                  <a:pt x="12663" y="1336"/>
                  <a:pt x="12640" y="1163"/>
                </a:cubicBezTo>
                <a:cubicBezTo>
                  <a:pt x="12593" y="808"/>
                  <a:pt x="12419" y="726"/>
                  <a:pt x="12246" y="554"/>
                </a:cubicBezTo>
                <a:cubicBezTo>
                  <a:pt x="12246" y="489"/>
                  <a:pt x="12223" y="397"/>
                  <a:pt x="12177" y="370"/>
                </a:cubicBezTo>
                <a:cubicBezTo>
                  <a:pt x="11853" y="155"/>
                  <a:pt x="11229" y="42"/>
                  <a:pt x="10674" y="15"/>
                </a:cubicBezTo>
                <a:cubicBezTo>
                  <a:pt x="10443" y="4"/>
                  <a:pt x="10164" y="-4"/>
                  <a:pt x="9897" y="1"/>
                </a:cubicBezTo>
                <a:close/>
                <a:moveTo>
                  <a:pt x="9897" y="1"/>
                </a:moveTo>
              </a:path>
            </a:pathLst>
          </a:cu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1" name="AutoShape 13"/>
          <p:cNvSpPr/>
          <p:nvPr/>
        </p:nvSpPr>
        <p:spPr>
          <a:xfrm>
            <a:off x="13195440" y="6591240"/>
            <a:ext cx="688680" cy="1530360"/>
          </a:xfrm>
          <a:custGeom>
            <a:avLst/>
            <a:gdLst/>
            <a:ahLst/>
            <a:rect l="l" t="t" r="r" b="b"/>
            <a:pathLst>
              <a:path w="21090" h="21577">
                <a:moveTo>
                  <a:pt x="9311" y="0"/>
                </a:moveTo>
                <a:cubicBezTo>
                  <a:pt x="9114" y="1"/>
                  <a:pt x="8985" y="9"/>
                  <a:pt x="8973" y="10"/>
                </a:cubicBezTo>
                <a:cubicBezTo>
                  <a:pt x="7445" y="183"/>
                  <a:pt x="6460" y="741"/>
                  <a:pt x="6483" y="1401"/>
                </a:cubicBezTo>
                <a:cubicBezTo>
                  <a:pt x="6495" y="1769"/>
                  <a:pt x="6599" y="1889"/>
                  <a:pt x="6858" y="2154"/>
                </a:cubicBezTo>
                <a:cubicBezTo>
                  <a:pt x="7022" y="2322"/>
                  <a:pt x="7458" y="2603"/>
                  <a:pt x="7493" y="2652"/>
                </a:cubicBezTo>
                <a:cubicBezTo>
                  <a:pt x="7599" y="2798"/>
                  <a:pt x="7669" y="2821"/>
                  <a:pt x="7445" y="2983"/>
                </a:cubicBezTo>
                <a:cubicBezTo>
                  <a:pt x="7422" y="2999"/>
                  <a:pt x="7001" y="3037"/>
                  <a:pt x="7001" y="3048"/>
                </a:cubicBezTo>
                <a:lnTo>
                  <a:pt x="6766" y="3232"/>
                </a:lnTo>
                <a:cubicBezTo>
                  <a:pt x="4463" y="3887"/>
                  <a:pt x="4709" y="3850"/>
                  <a:pt x="4016" y="4797"/>
                </a:cubicBezTo>
                <a:cubicBezTo>
                  <a:pt x="3745" y="5171"/>
                  <a:pt x="2912" y="6761"/>
                  <a:pt x="2653" y="6821"/>
                </a:cubicBezTo>
                <a:cubicBezTo>
                  <a:pt x="2418" y="6870"/>
                  <a:pt x="2371" y="6957"/>
                  <a:pt x="2359" y="7033"/>
                </a:cubicBezTo>
                <a:cubicBezTo>
                  <a:pt x="2324" y="7303"/>
                  <a:pt x="2193" y="7440"/>
                  <a:pt x="2264" y="7640"/>
                </a:cubicBezTo>
                <a:cubicBezTo>
                  <a:pt x="2287" y="7721"/>
                  <a:pt x="2334" y="7759"/>
                  <a:pt x="2451" y="7780"/>
                </a:cubicBezTo>
                <a:cubicBezTo>
                  <a:pt x="2204" y="8885"/>
                  <a:pt x="2428" y="9838"/>
                  <a:pt x="2323" y="10407"/>
                </a:cubicBezTo>
                <a:cubicBezTo>
                  <a:pt x="2311" y="10472"/>
                  <a:pt x="2254" y="10537"/>
                  <a:pt x="2172" y="10591"/>
                </a:cubicBezTo>
                <a:cubicBezTo>
                  <a:pt x="1761" y="10840"/>
                  <a:pt x="1618" y="11051"/>
                  <a:pt x="1559" y="11484"/>
                </a:cubicBezTo>
                <a:cubicBezTo>
                  <a:pt x="1524" y="11734"/>
                  <a:pt x="1853" y="11734"/>
                  <a:pt x="1794" y="11864"/>
                </a:cubicBezTo>
                <a:cubicBezTo>
                  <a:pt x="1735" y="11993"/>
                  <a:pt x="1875" y="12063"/>
                  <a:pt x="1981" y="12144"/>
                </a:cubicBezTo>
                <a:cubicBezTo>
                  <a:pt x="2016" y="12177"/>
                  <a:pt x="2066" y="12188"/>
                  <a:pt x="2113" y="12193"/>
                </a:cubicBezTo>
                <a:cubicBezTo>
                  <a:pt x="2207" y="12204"/>
                  <a:pt x="2312" y="12225"/>
                  <a:pt x="2370" y="12258"/>
                </a:cubicBezTo>
                <a:cubicBezTo>
                  <a:pt x="2441" y="12296"/>
                  <a:pt x="2535" y="12333"/>
                  <a:pt x="2664" y="12344"/>
                </a:cubicBezTo>
                <a:cubicBezTo>
                  <a:pt x="2911" y="12371"/>
                  <a:pt x="3123" y="12019"/>
                  <a:pt x="3123" y="12019"/>
                </a:cubicBezTo>
                <a:cubicBezTo>
                  <a:pt x="3170" y="12165"/>
                  <a:pt x="3698" y="12215"/>
                  <a:pt x="3663" y="12090"/>
                </a:cubicBezTo>
                <a:cubicBezTo>
                  <a:pt x="3569" y="11830"/>
                  <a:pt x="3908" y="11684"/>
                  <a:pt x="4038" y="11224"/>
                </a:cubicBezTo>
                <a:cubicBezTo>
                  <a:pt x="4108" y="10980"/>
                  <a:pt x="3981" y="10764"/>
                  <a:pt x="3828" y="10596"/>
                </a:cubicBezTo>
                <a:cubicBezTo>
                  <a:pt x="3958" y="9990"/>
                  <a:pt x="4627" y="8326"/>
                  <a:pt x="4827" y="8012"/>
                </a:cubicBezTo>
                <a:cubicBezTo>
                  <a:pt x="4992" y="8001"/>
                  <a:pt x="4969" y="7915"/>
                  <a:pt x="5051" y="7764"/>
                </a:cubicBezTo>
                <a:cubicBezTo>
                  <a:pt x="5086" y="7693"/>
                  <a:pt x="5238" y="8680"/>
                  <a:pt x="5308" y="9671"/>
                </a:cubicBezTo>
                <a:cubicBezTo>
                  <a:pt x="5344" y="10147"/>
                  <a:pt x="4428" y="10775"/>
                  <a:pt x="5521" y="11652"/>
                </a:cubicBezTo>
                <a:cubicBezTo>
                  <a:pt x="5651" y="11755"/>
                  <a:pt x="5695" y="11868"/>
                  <a:pt x="5672" y="11982"/>
                </a:cubicBezTo>
                <a:cubicBezTo>
                  <a:pt x="5284" y="13693"/>
                  <a:pt x="5131" y="15063"/>
                  <a:pt x="4967" y="15551"/>
                </a:cubicBezTo>
                <a:cubicBezTo>
                  <a:pt x="4920" y="15686"/>
                  <a:pt x="4743" y="16071"/>
                  <a:pt x="4614" y="16195"/>
                </a:cubicBezTo>
                <a:cubicBezTo>
                  <a:pt x="4285" y="16417"/>
                  <a:pt x="3876" y="16752"/>
                  <a:pt x="3876" y="16757"/>
                </a:cubicBezTo>
                <a:cubicBezTo>
                  <a:pt x="2971" y="17504"/>
                  <a:pt x="2266" y="18382"/>
                  <a:pt x="1761" y="18972"/>
                </a:cubicBezTo>
                <a:lnTo>
                  <a:pt x="1148" y="19573"/>
                </a:lnTo>
                <a:cubicBezTo>
                  <a:pt x="1136" y="19584"/>
                  <a:pt x="1137" y="19596"/>
                  <a:pt x="1126" y="19607"/>
                </a:cubicBezTo>
                <a:cubicBezTo>
                  <a:pt x="1067" y="19655"/>
                  <a:pt x="1090" y="19692"/>
                  <a:pt x="1019" y="19789"/>
                </a:cubicBezTo>
                <a:cubicBezTo>
                  <a:pt x="949" y="19887"/>
                  <a:pt x="-369" y="20554"/>
                  <a:pt x="101" y="20744"/>
                </a:cubicBezTo>
                <a:cubicBezTo>
                  <a:pt x="1076" y="21134"/>
                  <a:pt x="1137" y="20993"/>
                  <a:pt x="1948" y="21285"/>
                </a:cubicBezTo>
                <a:cubicBezTo>
                  <a:pt x="2618" y="21529"/>
                  <a:pt x="3157" y="21523"/>
                  <a:pt x="3733" y="21544"/>
                </a:cubicBezTo>
                <a:lnTo>
                  <a:pt x="6201" y="21539"/>
                </a:lnTo>
                <a:cubicBezTo>
                  <a:pt x="6424" y="21539"/>
                  <a:pt x="6495" y="21458"/>
                  <a:pt x="6483" y="21355"/>
                </a:cubicBezTo>
                <a:cubicBezTo>
                  <a:pt x="6483" y="21257"/>
                  <a:pt x="6273" y="21138"/>
                  <a:pt x="6109" y="21106"/>
                </a:cubicBezTo>
                <a:cubicBezTo>
                  <a:pt x="5886" y="21068"/>
                  <a:pt x="5778" y="21068"/>
                  <a:pt x="5543" y="21057"/>
                </a:cubicBezTo>
                <a:cubicBezTo>
                  <a:pt x="5214" y="21046"/>
                  <a:pt x="4909" y="20970"/>
                  <a:pt x="4721" y="20845"/>
                </a:cubicBezTo>
                <a:cubicBezTo>
                  <a:pt x="4415" y="20656"/>
                  <a:pt x="3991" y="20375"/>
                  <a:pt x="3792" y="20240"/>
                </a:cubicBezTo>
                <a:cubicBezTo>
                  <a:pt x="4015" y="20245"/>
                  <a:pt x="4214" y="20239"/>
                  <a:pt x="4214" y="20223"/>
                </a:cubicBezTo>
                <a:cubicBezTo>
                  <a:pt x="4226" y="20174"/>
                  <a:pt x="4437" y="19968"/>
                  <a:pt x="5095" y="19329"/>
                </a:cubicBezTo>
                <a:cubicBezTo>
                  <a:pt x="5225" y="19199"/>
                  <a:pt x="5366" y="19076"/>
                  <a:pt x="5496" y="18962"/>
                </a:cubicBezTo>
                <a:cubicBezTo>
                  <a:pt x="6024" y="18556"/>
                  <a:pt x="6624" y="18084"/>
                  <a:pt x="6895" y="17835"/>
                </a:cubicBezTo>
                <a:cubicBezTo>
                  <a:pt x="7506" y="17288"/>
                  <a:pt x="8174" y="16817"/>
                  <a:pt x="8444" y="16346"/>
                </a:cubicBezTo>
                <a:cubicBezTo>
                  <a:pt x="8750" y="15810"/>
                  <a:pt x="9539" y="14532"/>
                  <a:pt x="9539" y="14532"/>
                </a:cubicBezTo>
                <a:cubicBezTo>
                  <a:pt x="9503" y="14581"/>
                  <a:pt x="10091" y="14960"/>
                  <a:pt x="10479" y="15317"/>
                </a:cubicBezTo>
                <a:cubicBezTo>
                  <a:pt x="10620" y="15442"/>
                  <a:pt x="10891" y="15945"/>
                  <a:pt x="10938" y="16080"/>
                </a:cubicBezTo>
                <a:cubicBezTo>
                  <a:pt x="11079" y="16432"/>
                  <a:pt x="11360" y="17137"/>
                  <a:pt x="11536" y="17375"/>
                </a:cubicBezTo>
                <a:cubicBezTo>
                  <a:pt x="11948" y="17949"/>
                  <a:pt x="12675" y="18865"/>
                  <a:pt x="13310" y="19531"/>
                </a:cubicBezTo>
                <a:lnTo>
                  <a:pt x="14052" y="20424"/>
                </a:lnTo>
                <a:cubicBezTo>
                  <a:pt x="14111" y="20489"/>
                  <a:pt x="14238" y="20532"/>
                  <a:pt x="14379" y="20532"/>
                </a:cubicBezTo>
                <a:cubicBezTo>
                  <a:pt x="14379" y="20868"/>
                  <a:pt x="14426" y="21598"/>
                  <a:pt x="14896" y="21576"/>
                </a:cubicBezTo>
                <a:cubicBezTo>
                  <a:pt x="16694" y="21495"/>
                  <a:pt x="15061" y="21469"/>
                  <a:pt x="17305" y="21485"/>
                </a:cubicBezTo>
                <a:cubicBezTo>
                  <a:pt x="18528" y="21490"/>
                  <a:pt x="19810" y="21236"/>
                  <a:pt x="20574" y="20911"/>
                </a:cubicBezTo>
                <a:cubicBezTo>
                  <a:pt x="20785" y="20819"/>
                  <a:pt x="20914" y="20764"/>
                  <a:pt x="21055" y="20678"/>
                </a:cubicBezTo>
                <a:cubicBezTo>
                  <a:pt x="21231" y="20548"/>
                  <a:pt x="20726" y="20369"/>
                  <a:pt x="20104" y="20439"/>
                </a:cubicBezTo>
                <a:cubicBezTo>
                  <a:pt x="19058" y="20558"/>
                  <a:pt x="18398" y="20472"/>
                  <a:pt x="18080" y="20407"/>
                </a:cubicBezTo>
                <a:cubicBezTo>
                  <a:pt x="17963" y="20380"/>
                  <a:pt x="17858" y="20342"/>
                  <a:pt x="17775" y="20299"/>
                </a:cubicBezTo>
                <a:cubicBezTo>
                  <a:pt x="17611" y="20207"/>
                  <a:pt x="17376" y="20110"/>
                  <a:pt x="17247" y="20050"/>
                </a:cubicBezTo>
                <a:cubicBezTo>
                  <a:pt x="17399" y="20023"/>
                  <a:pt x="17516" y="19996"/>
                  <a:pt x="17493" y="19974"/>
                </a:cubicBezTo>
                <a:cubicBezTo>
                  <a:pt x="17446" y="19931"/>
                  <a:pt x="17083" y="19477"/>
                  <a:pt x="16589" y="18822"/>
                </a:cubicBezTo>
                <a:cubicBezTo>
                  <a:pt x="16354" y="18480"/>
                  <a:pt x="16131" y="18155"/>
                  <a:pt x="16002" y="17960"/>
                </a:cubicBezTo>
                <a:cubicBezTo>
                  <a:pt x="15120" y="16634"/>
                  <a:pt x="14861" y="15788"/>
                  <a:pt x="14720" y="15133"/>
                </a:cubicBezTo>
                <a:cubicBezTo>
                  <a:pt x="14603" y="14575"/>
                  <a:pt x="14133" y="14358"/>
                  <a:pt x="13721" y="13617"/>
                </a:cubicBezTo>
                <a:lnTo>
                  <a:pt x="12076" y="11224"/>
                </a:lnTo>
                <a:cubicBezTo>
                  <a:pt x="11970" y="11013"/>
                  <a:pt x="12194" y="10904"/>
                  <a:pt x="12194" y="10693"/>
                </a:cubicBezTo>
                <a:cubicBezTo>
                  <a:pt x="12182" y="10211"/>
                  <a:pt x="12077" y="9323"/>
                  <a:pt x="12300" y="8852"/>
                </a:cubicBezTo>
                <a:cubicBezTo>
                  <a:pt x="13464" y="9268"/>
                  <a:pt x="15720" y="9556"/>
                  <a:pt x="15825" y="9632"/>
                </a:cubicBezTo>
                <a:cubicBezTo>
                  <a:pt x="16119" y="9827"/>
                  <a:pt x="16543" y="9973"/>
                  <a:pt x="17048" y="10055"/>
                </a:cubicBezTo>
                <a:cubicBezTo>
                  <a:pt x="17272" y="10087"/>
                  <a:pt x="17377" y="10158"/>
                  <a:pt x="17471" y="10212"/>
                </a:cubicBezTo>
                <a:lnTo>
                  <a:pt x="17647" y="10298"/>
                </a:lnTo>
                <a:cubicBezTo>
                  <a:pt x="17776" y="10331"/>
                  <a:pt x="18023" y="10346"/>
                  <a:pt x="18411" y="10205"/>
                </a:cubicBezTo>
                <a:lnTo>
                  <a:pt x="18716" y="10082"/>
                </a:lnTo>
                <a:cubicBezTo>
                  <a:pt x="18810" y="10038"/>
                  <a:pt x="18929" y="9935"/>
                  <a:pt x="18859" y="9875"/>
                </a:cubicBezTo>
                <a:lnTo>
                  <a:pt x="18940" y="9757"/>
                </a:lnTo>
                <a:cubicBezTo>
                  <a:pt x="19022" y="9703"/>
                  <a:pt x="19012" y="9626"/>
                  <a:pt x="18918" y="9577"/>
                </a:cubicBezTo>
                <a:cubicBezTo>
                  <a:pt x="18682" y="9448"/>
                  <a:pt x="18398" y="9340"/>
                  <a:pt x="18139" y="9242"/>
                </a:cubicBezTo>
                <a:cubicBezTo>
                  <a:pt x="18021" y="9199"/>
                  <a:pt x="17858" y="9171"/>
                  <a:pt x="17706" y="9176"/>
                </a:cubicBezTo>
                <a:lnTo>
                  <a:pt x="17401" y="9139"/>
                </a:lnTo>
                <a:cubicBezTo>
                  <a:pt x="17307" y="9128"/>
                  <a:pt x="17202" y="9123"/>
                  <a:pt x="17096" y="9117"/>
                </a:cubicBezTo>
                <a:cubicBezTo>
                  <a:pt x="16802" y="9112"/>
                  <a:pt x="16014" y="9031"/>
                  <a:pt x="14992" y="8381"/>
                </a:cubicBezTo>
                <a:cubicBezTo>
                  <a:pt x="14522" y="8083"/>
                  <a:pt x="13840" y="7818"/>
                  <a:pt x="13299" y="7596"/>
                </a:cubicBezTo>
                <a:cubicBezTo>
                  <a:pt x="13323" y="7536"/>
                  <a:pt x="13336" y="7439"/>
                  <a:pt x="13218" y="7352"/>
                </a:cubicBezTo>
                <a:cubicBezTo>
                  <a:pt x="13077" y="7244"/>
                  <a:pt x="12816" y="7211"/>
                  <a:pt x="12557" y="7060"/>
                </a:cubicBezTo>
                <a:cubicBezTo>
                  <a:pt x="12263" y="6253"/>
                  <a:pt x="12454" y="6193"/>
                  <a:pt x="12348" y="5711"/>
                </a:cubicBezTo>
                <a:cubicBezTo>
                  <a:pt x="12148" y="4774"/>
                  <a:pt x="11476" y="4428"/>
                  <a:pt x="11030" y="4059"/>
                </a:cubicBezTo>
                <a:cubicBezTo>
                  <a:pt x="11030" y="4059"/>
                  <a:pt x="11149" y="3973"/>
                  <a:pt x="11055" y="3924"/>
                </a:cubicBezTo>
                <a:cubicBezTo>
                  <a:pt x="10985" y="3892"/>
                  <a:pt x="10314" y="3648"/>
                  <a:pt x="10302" y="3648"/>
                </a:cubicBezTo>
                <a:cubicBezTo>
                  <a:pt x="10091" y="3589"/>
                  <a:pt x="10479" y="3437"/>
                  <a:pt x="10596" y="3318"/>
                </a:cubicBezTo>
                <a:cubicBezTo>
                  <a:pt x="10737" y="3183"/>
                  <a:pt x="10865" y="3150"/>
                  <a:pt x="11500" y="3166"/>
                </a:cubicBezTo>
                <a:cubicBezTo>
                  <a:pt x="11887" y="3171"/>
                  <a:pt x="12064" y="3096"/>
                  <a:pt x="12028" y="2939"/>
                </a:cubicBezTo>
                <a:cubicBezTo>
                  <a:pt x="11993" y="2733"/>
                  <a:pt x="12360" y="2765"/>
                  <a:pt x="12219" y="2597"/>
                </a:cubicBezTo>
                <a:cubicBezTo>
                  <a:pt x="12208" y="2581"/>
                  <a:pt x="12299" y="2534"/>
                  <a:pt x="12311" y="2523"/>
                </a:cubicBezTo>
                <a:cubicBezTo>
                  <a:pt x="12417" y="2458"/>
                  <a:pt x="12228" y="2382"/>
                  <a:pt x="12322" y="2262"/>
                </a:cubicBezTo>
                <a:cubicBezTo>
                  <a:pt x="12381" y="2192"/>
                  <a:pt x="12676" y="2187"/>
                  <a:pt x="12653" y="2041"/>
                </a:cubicBezTo>
                <a:cubicBezTo>
                  <a:pt x="12617" y="1851"/>
                  <a:pt x="11899" y="1787"/>
                  <a:pt x="12087" y="1548"/>
                </a:cubicBezTo>
                <a:cubicBezTo>
                  <a:pt x="12334" y="1245"/>
                  <a:pt x="11984" y="909"/>
                  <a:pt x="11984" y="909"/>
                </a:cubicBezTo>
                <a:cubicBezTo>
                  <a:pt x="12231" y="817"/>
                  <a:pt x="12193" y="763"/>
                  <a:pt x="11793" y="498"/>
                </a:cubicBezTo>
                <a:cubicBezTo>
                  <a:pt x="11124" y="55"/>
                  <a:pt x="9901" y="-2"/>
                  <a:pt x="9311" y="0"/>
                </a:cubicBezTo>
                <a:close/>
                <a:moveTo>
                  <a:pt x="9311" y="0"/>
                </a:moveTo>
              </a:path>
            </a:pathLst>
          </a:cu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5570280" y="209520"/>
            <a:ext cx="509328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Lorem Ipsum</a:t>
            </a:r>
            <a:endParaRPr b="0" lang="en-US" sz="6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069920" y="7440480"/>
            <a:ext cx="141210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just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Failure is simply the opportunity to begin again, this time more intelligently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077840" y="226368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any say exploration is part of our destiny, but it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s actually our duty to future generations and their quest to ensure the survival of the human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374920" y="4572000"/>
            <a:ext cx="2628720" cy="241308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5"/>
          <p:cNvSpPr/>
          <p:nvPr/>
        </p:nvSpPr>
        <p:spPr>
          <a:xfrm>
            <a:off x="2374920" y="3949560"/>
            <a:ext cx="2628720" cy="444600"/>
          </a:xfrm>
          <a:prstGeom prst="roundRect">
            <a:avLst>
              <a:gd name="adj" fmla="val 42856"/>
            </a:avLst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5346720" y="4572000"/>
            <a:ext cx="5549760" cy="241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11239560" y="4572000"/>
            <a:ext cx="2628720" cy="24130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/>
          <p:cNvSpPr/>
          <p:nvPr/>
        </p:nvSpPr>
        <p:spPr>
          <a:xfrm>
            <a:off x="5346720" y="3949560"/>
            <a:ext cx="5549760" cy="444600"/>
          </a:xfrm>
          <a:prstGeom prst="roundRect">
            <a:avLst>
              <a:gd name="adj" fmla="val 42856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11239560" y="3949560"/>
            <a:ext cx="2628720" cy="444600"/>
          </a:xfrm>
          <a:prstGeom prst="roundRect">
            <a:avLst>
              <a:gd name="adj" fmla="val 42856"/>
            </a:avLst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035080" y="3811680"/>
            <a:ext cx="3365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Text 1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6438960" y="3814920"/>
            <a:ext cx="33652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Text 2 goes here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10845720" y="3814920"/>
            <a:ext cx="3365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Text 3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5570280" y="209520"/>
            <a:ext cx="509328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Lorem Ipsum</a:t>
            </a:r>
            <a:endParaRPr b="0" lang="en-US" sz="60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8686800" y="3924360"/>
            <a:ext cx="5549760" cy="40132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1077840" y="4176720"/>
            <a:ext cx="6954840" cy="33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Praesent quam justo, tempor ac sollicitudin sed, mattis vel arcu. Proin ac nibh quis metus tristique sagittis vel ac ligula. Phasellus nec dui accumsan, dictum dolor elementum, volutpat turpis.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077840" y="239076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Spaceflights cannot be stopped. This is not the work of any one man or even a group of men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7594560" y="4419720"/>
            <a:ext cx="79502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4"/>
          <p:cNvGrpSpPr/>
          <p:nvPr/>
        </p:nvGrpSpPr>
        <p:grpSpPr>
          <a:xfrm>
            <a:off x="12240" y="3086280"/>
            <a:ext cx="9766800" cy="2058840"/>
            <a:chOff x="12240" y="3086280"/>
            <a:chExt cx="9766800" cy="2058840"/>
          </a:xfrm>
        </p:grpSpPr>
        <p:sp>
          <p:nvSpPr>
            <p:cNvPr id="150" name="AutoShape 2"/>
            <p:cNvSpPr/>
            <p:nvPr/>
          </p:nvSpPr>
          <p:spPr>
            <a:xfrm>
              <a:off x="1549440" y="4146840"/>
              <a:ext cx="8229600" cy="998280"/>
            </a:xfrm>
            <a:prstGeom prst="rightArrow">
              <a:avLst>
                <a:gd name="adj1" fmla="val 64148"/>
                <a:gd name="adj2" fmla="val 57210"/>
              </a:avLst>
            </a:prstGeom>
            <a:solidFill>
              <a:srgbClr val="fc7e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51" name="AutoShape 3"/>
            <p:cNvSpPr/>
            <p:nvPr/>
          </p:nvSpPr>
          <p:spPr>
            <a:xfrm flipH="1">
              <a:off x="11880" y="3086280"/>
              <a:ext cx="1539720" cy="1879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1600"/>
                  </a:lnTo>
                  <a:lnTo>
                    <a:pt x="21550" y="0"/>
                  </a:lnTo>
                  <a:lnTo>
                    <a:pt x="0" y="14128"/>
                  </a:lnTo>
                  <a:lnTo>
                    <a:pt x="0" y="21600"/>
                  </a:lnTo>
                  <a:lnTo>
                    <a:pt x="21600" y="18062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c46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52" name="Rectangle 5"/>
          <p:cNvSpPr/>
          <p:nvPr/>
        </p:nvSpPr>
        <p:spPr>
          <a:xfrm>
            <a:off x="1728720" y="4356000"/>
            <a:ext cx="9215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Phasellus eget dolor eu lacus imperdiet lacinia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53" name="Group 8"/>
          <p:cNvGrpSpPr/>
          <p:nvPr/>
        </p:nvGrpSpPr>
        <p:grpSpPr>
          <a:xfrm>
            <a:off x="-360" y="5202360"/>
            <a:ext cx="9034920" cy="1140840"/>
            <a:chOff x="-360" y="5202360"/>
            <a:chExt cx="9034920" cy="1140840"/>
          </a:xfrm>
        </p:grpSpPr>
        <p:sp>
          <p:nvSpPr>
            <p:cNvPr id="154" name="AutoShape 6"/>
            <p:cNvSpPr/>
            <p:nvPr/>
          </p:nvSpPr>
          <p:spPr>
            <a:xfrm>
              <a:off x="1549440" y="5202360"/>
              <a:ext cx="7485120" cy="1015560"/>
            </a:xfrm>
            <a:prstGeom prst="rightArrow">
              <a:avLst>
                <a:gd name="adj1" fmla="val 64148"/>
                <a:gd name="adj2" fmla="val 56268"/>
              </a:avLst>
            </a:prstGeom>
            <a:solidFill>
              <a:srgbClr val="ecbd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 flipH="1">
              <a:off x="-720" y="5384520"/>
              <a:ext cx="1546200" cy="95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14628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c4a0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56" name="Rectangle 9"/>
          <p:cNvSpPr/>
          <p:nvPr/>
        </p:nvSpPr>
        <p:spPr>
          <a:xfrm>
            <a:off x="1728720" y="5411880"/>
            <a:ext cx="8834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Cambria Bold"/>
                <a:ea typeface="ＭＳ Ｐゴシック"/>
              </a:rPr>
              <a:t>Quis finibus quam venenatis quis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57" name="Group 12"/>
          <p:cNvGrpSpPr/>
          <p:nvPr/>
        </p:nvGrpSpPr>
        <p:grpSpPr>
          <a:xfrm>
            <a:off x="-360" y="6416640"/>
            <a:ext cx="7528320" cy="2036520"/>
            <a:chOff x="-360" y="6416640"/>
            <a:chExt cx="7528320" cy="2036520"/>
          </a:xfrm>
        </p:grpSpPr>
        <p:sp>
          <p:nvSpPr>
            <p:cNvPr id="158" name="AutoShape 10"/>
            <p:cNvSpPr/>
            <p:nvPr/>
          </p:nvSpPr>
          <p:spPr>
            <a:xfrm>
              <a:off x="1549440" y="6416640"/>
              <a:ext cx="5978520" cy="999360"/>
            </a:xfrm>
            <a:prstGeom prst="rightArrow">
              <a:avLst>
                <a:gd name="adj1" fmla="val 64148"/>
                <a:gd name="adj2" fmla="val 57165"/>
              </a:avLst>
            </a:prstGeom>
            <a:solidFill>
              <a:srgbClr val="ecc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59" name="AutoShape 11"/>
            <p:cNvSpPr/>
            <p:nvPr/>
          </p:nvSpPr>
          <p:spPr>
            <a:xfrm flipH="1">
              <a:off x="-720" y="6588000"/>
              <a:ext cx="1546200" cy="186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0"/>
                  </a:lnTo>
                  <a:lnTo>
                    <a:pt x="21550" y="21600"/>
                  </a:lnTo>
                  <a:lnTo>
                    <a:pt x="0" y="7447"/>
                  </a:lnTo>
                  <a:lnTo>
                    <a:pt x="0" y="0"/>
                  </a:lnTo>
                  <a:lnTo>
                    <a:pt x="21600" y="355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c9a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60" name="Rectangle 13"/>
          <p:cNvSpPr/>
          <p:nvPr/>
        </p:nvSpPr>
        <p:spPr>
          <a:xfrm>
            <a:off x="1728720" y="6630840"/>
            <a:ext cx="4681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1077840" y="2387520"/>
            <a:ext cx="147528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Our greatest fear should not be of failure but of succeeding at things in life that don't really matter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5570280" y="209520"/>
            <a:ext cx="509328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Lorem Ipsum</a:t>
            </a:r>
            <a:endParaRPr b="0" lang="en-US" sz="60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"/>
          <p:cNvSpPr/>
          <p:nvPr/>
        </p:nvSpPr>
        <p:spPr>
          <a:xfrm>
            <a:off x="10480680" y="5386320"/>
            <a:ext cx="3747960" cy="762120"/>
          </a:xfrm>
          <a:prstGeom prst="rightArrow">
            <a:avLst>
              <a:gd name="adj1" fmla="val 64991"/>
              <a:gd name="adj2" fmla="val 38728"/>
            </a:avLst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4" name="AutoShape 2"/>
          <p:cNvSpPr/>
          <p:nvPr/>
        </p:nvSpPr>
        <p:spPr>
          <a:xfrm>
            <a:off x="10480680" y="4403880"/>
            <a:ext cx="3409920" cy="761760"/>
          </a:xfrm>
          <a:prstGeom prst="rightArrow">
            <a:avLst>
              <a:gd name="adj1" fmla="val 64991"/>
              <a:gd name="adj2" fmla="val 38733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10480680" y="4896000"/>
            <a:ext cx="2860560" cy="761760"/>
          </a:xfrm>
          <a:prstGeom prst="rightArrow">
            <a:avLst>
              <a:gd name="adj1" fmla="val 64991"/>
              <a:gd name="adj2" fmla="val 38734"/>
            </a:avLst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6" name="AutoShape 4"/>
          <p:cNvSpPr/>
          <p:nvPr/>
        </p:nvSpPr>
        <p:spPr>
          <a:xfrm flipH="1">
            <a:off x="1411200" y="4573440"/>
            <a:ext cx="3748320" cy="762120"/>
          </a:xfrm>
          <a:prstGeom prst="rightArrow">
            <a:avLst>
              <a:gd name="adj1" fmla="val 64991"/>
              <a:gd name="adj2" fmla="val 38731"/>
            </a:avLst>
          </a:prstGeom>
          <a:solidFill>
            <a:srgbClr val="d24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7" name="AutoShape 5"/>
          <p:cNvSpPr/>
          <p:nvPr/>
        </p:nvSpPr>
        <p:spPr>
          <a:xfrm flipH="1">
            <a:off x="2563920" y="5064120"/>
            <a:ext cx="2595600" cy="762120"/>
          </a:xfrm>
          <a:prstGeom prst="rightArrow">
            <a:avLst>
              <a:gd name="adj1" fmla="val 64991"/>
              <a:gd name="adj2" fmla="val 38709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189240" y="4773600"/>
            <a:ext cx="17845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uper Slow</a:t>
            </a:r>
            <a:endParaRPr b="0" lang="en-US" sz="1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189240" y="5251320"/>
            <a:ext cx="1784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uper Bad</a:t>
            </a:r>
            <a:endParaRPr b="0" lang="en-US" sz="1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0666440" y="4605480"/>
            <a:ext cx="17841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uper Fast</a:t>
            </a:r>
            <a:endParaRPr b="0" lang="en-US" sz="1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440" y="5094360"/>
            <a:ext cx="2940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uper Turbo Fast</a:t>
            </a:r>
            <a:endParaRPr b="0" lang="en-US" sz="1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10666440" y="5599080"/>
            <a:ext cx="2940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uper Mega Fast</a:t>
            </a:r>
            <a:endParaRPr b="0" lang="en-US" sz="1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011240" y="7464600"/>
            <a:ext cx="140907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y mission in life is not merely to survive, but to thrive; and to do so with some passion, some compassion, some humor, and some style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1077840" y="200988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Darkness cannot drive out darkness; only light can do that. Hate cannot drive out hate; only love can do that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5282640" y="209520"/>
            <a:ext cx="55674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Plan Summary</a:t>
            </a:r>
            <a:endParaRPr b="0" lang="en-US" sz="60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76" name="Picture 14" descr=""/>
          <p:cNvPicPr/>
          <p:nvPr/>
        </p:nvPicPr>
        <p:blipFill>
          <a:blip r:embed="rId1"/>
          <a:stretch/>
        </p:blipFill>
        <p:spPr>
          <a:xfrm>
            <a:off x="5143680" y="3630600"/>
            <a:ext cx="5346360" cy="35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1603800" y="6032520"/>
            <a:ext cx="13032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Font Used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Cambria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| Size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280x720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| Color Scheme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Modern Age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78" name="Group 8"/>
          <p:cNvGrpSpPr/>
          <p:nvPr/>
        </p:nvGrpSpPr>
        <p:grpSpPr>
          <a:xfrm>
            <a:off x="5842080" y="6921360"/>
            <a:ext cx="5473800" cy="787320"/>
            <a:chOff x="5842080" y="6921360"/>
            <a:chExt cx="5473800" cy="787320"/>
          </a:xfrm>
        </p:grpSpPr>
        <p:sp>
          <p:nvSpPr>
            <p:cNvPr id="179" name="Rectangle 2"/>
            <p:cNvSpPr/>
            <p:nvPr/>
          </p:nvSpPr>
          <p:spPr>
            <a:xfrm>
              <a:off x="5842080" y="6921360"/>
              <a:ext cx="914400" cy="787320"/>
            </a:xfrm>
            <a:prstGeom prst="rect">
              <a:avLst/>
            </a:prstGeom>
            <a:solidFill>
              <a:srgbClr val="ecbd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80" name="Rectangle 3"/>
            <p:cNvSpPr/>
            <p:nvPr/>
          </p:nvSpPr>
          <p:spPr>
            <a:xfrm>
              <a:off x="6756480" y="6921360"/>
              <a:ext cx="914400" cy="787320"/>
            </a:xfrm>
            <a:prstGeom prst="rect">
              <a:avLst/>
            </a:prstGeom>
            <a:solidFill>
              <a:srgbClr val="fc7e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81" name="Rectangle 4"/>
            <p:cNvSpPr/>
            <p:nvPr/>
          </p:nvSpPr>
          <p:spPr>
            <a:xfrm>
              <a:off x="7670880" y="6921360"/>
              <a:ext cx="914400" cy="78732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82" name="Rectangle 5"/>
            <p:cNvSpPr/>
            <p:nvPr/>
          </p:nvSpPr>
          <p:spPr>
            <a:xfrm>
              <a:off x="8585280" y="6921360"/>
              <a:ext cx="914400" cy="787320"/>
            </a:xfrm>
            <a:prstGeom prst="rect">
              <a:avLst/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83" name="Rectangle 6"/>
            <p:cNvSpPr/>
            <p:nvPr/>
          </p:nvSpPr>
          <p:spPr>
            <a:xfrm>
              <a:off x="9499680" y="6921360"/>
              <a:ext cx="914400" cy="787320"/>
            </a:xfrm>
            <a:prstGeom prst="rect">
              <a:avLst/>
            </a:prstGeom>
            <a:solidFill>
              <a:srgbClr val="d244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84" name="Rectangle 7"/>
            <p:cNvSpPr/>
            <p:nvPr/>
          </p:nvSpPr>
          <p:spPr>
            <a:xfrm>
              <a:off x="10401480" y="6921360"/>
              <a:ext cx="914400" cy="787320"/>
            </a:xfrm>
            <a:prstGeom prst="rect">
              <a:avLst/>
            </a:prstGeom>
            <a:solidFill>
              <a:srgbClr val="fdb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85" name="Rectangle 9"/>
          <p:cNvSpPr/>
          <p:nvPr/>
        </p:nvSpPr>
        <p:spPr>
          <a:xfrm>
            <a:off x="2044800" y="3581280"/>
            <a:ext cx="1215072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TNANK YOU!</a:t>
            </a:r>
            <a:endParaRPr b="0" lang="en-US" sz="4400" spc="-1" strike="noStrike">
              <a:solidFill>
                <a:srgbClr val="595959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astas Mano</cp:lastModifiedBy>
  <dcterms:modified xsi:type="dcterms:W3CDTF">2019-12-05T05:40:49Z</dcterms:modified>
  <cp:revision>2</cp:revision>
  <dc:subject/>
  <dc:title>PowerPoint Presentation</dc:title>
</cp:coreProperties>
</file>