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  <a:p>
            <a:pPr lvl="1" marL="4316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878787"/>
              </a:solidFill>
              <a:latin typeface="Calibri"/>
            </a:endParaRPr>
          </a:p>
          <a:p>
            <a:pPr lvl="2" marL="863640" indent="50760" algn="ctr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878787"/>
              </a:solidFill>
              <a:latin typeface="Calibri"/>
            </a:endParaRPr>
          </a:p>
          <a:p>
            <a:pPr lvl="3" marL="1282680" indent="88920" algn="ctr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4" marL="1714680" indent="114120" algn="ctr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5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6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5237640" y="1403280"/>
            <a:ext cx="574092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Bible Template</a:t>
            </a:r>
            <a:endParaRPr b="0" lang="en-US" sz="6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963960" y="7346880"/>
            <a:ext cx="8312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Great presentation theme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4457880" y="2235240"/>
            <a:ext cx="73404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1026000" y="590400"/>
            <a:ext cx="38710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Lorem Ipsum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77840" y="1501920"/>
            <a:ext cx="14142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069920" y="2479680"/>
            <a:ext cx="1412100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Science cuts two ways, of course;</a:t>
            </a:r>
            <a:br>
              <a:rPr sz="3200"/>
            </a:b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  <a:p>
            <a:pPr>
              <a:spcBef>
                <a:spcPts val="1301"/>
              </a:spcBef>
              <a:buClr>
                <a:srgbClr val="595959"/>
              </a:buClr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To be the first to enter the cosmos, to engage, single-handed, in an unprecedented duel with nature—could one dream of anything more? Houston, Tranquillity Base here. The Eagle has landed.</a:t>
            </a:r>
            <a:endParaRPr b="0" lang="en-US" sz="32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2057400" y="6083280"/>
            <a:ext cx="12192120" cy="4318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079640" y="2984400"/>
            <a:ext cx="5549760" cy="40132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7580160" y="3338640"/>
            <a:ext cx="6954840" cy="33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Praesent quam justo, tempor ac sollicitudin sed, mattis vel arcu. Proin ac nibh quis metus tristique sagittis vel ac ligula. Phasellus nec dui accumsan, dictum dolor elementum, volutpat turpis.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177920" y="7156440"/>
            <a:ext cx="5391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Phasellus eget dolor eu lacus imperdiet lacinia. Nunc semper odio ac temp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073160" y="590400"/>
            <a:ext cx="55551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lides with picture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Spaceflights cannot be stopped. This is not the work of any one man or even a group of men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512640" y="3048120"/>
            <a:ext cx="5077080" cy="250668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512640" y="3051000"/>
            <a:ext cx="5077080" cy="54000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25600" y="2976480"/>
            <a:ext cx="5075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66720" y="3711600"/>
            <a:ext cx="482436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Vestibulum tristique mattis felis, quis finibus quam venenatis quis. Suspendisse blandit lorem hendrerit, bibendum metus qui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506520" y="5548320"/>
            <a:ext cx="5089320" cy="250668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506520" y="5538960"/>
            <a:ext cx="5089320" cy="539640"/>
          </a:xfrm>
          <a:prstGeom prst="rect">
            <a:avLst/>
          </a:prstGeom>
          <a:solidFill>
            <a:srgbClr val="6c6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520560" y="5477040"/>
            <a:ext cx="5073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38360" y="6221520"/>
            <a:ext cx="464652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Istique mattis felis, quis finibus quam venenatis quis. Suspendisse blandit lorem hendrerit, bibendum metus quis, elementum magna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10665000" y="3048120"/>
            <a:ext cx="5076720" cy="250668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0665000" y="3051000"/>
            <a:ext cx="5076720" cy="54000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0679040" y="2976480"/>
            <a:ext cx="5073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0820520" y="3711600"/>
            <a:ext cx="482256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Suspendisse blandit lorem hendrerit, bibendum metus quis, elementum magna. Mauris eleifend, tellus sed facilisis hendrerit, lac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10658520" y="5548320"/>
            <a:ext cx="5089320" cy="250668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0658520" y="5538960"/>
            <a:ext cx="5089320" cy="539640"/>
          </a:xfrm>
          <a:prstGeom prst="rect">
            <a:avLst/>
          </a:prstGeom>
          <a:solidFill>
            <a:srgbClr val="6c6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10672920" y="5477040"/>
            <a:ext cx="5073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10890360" y="6219720"/>
            <a:ext cx="46465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Quam venenatis quis. Suspendisse blandit lorem hendrerit, bibendum metus quis, elementum magna. Mauris eleifend, tellus sed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962280" y="590400"/>
            <a:ext cx="7443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Another Data Assessment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1077840" y="1501920"/>
            <a:ext cx="141429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To go places and do things that have never been done before – that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s what living is all about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04" name="Picture 19" descr=""/>
          <p:cNvPicPr/>
          <p:nvPr/>
        </p:nvPicPr>
        <p:blipFill>
          <a:blip r:embed="rId1"/>
          <a:srcRect l="16074" t="0" r="16074" b="0"/>
          <a:stretch/>
        </p:blipFill>
        <p:spPr>
          <a:xfrm>
            <a:off x="5575320" y="3048120"/>
            <a:ext cx="5092560" cy="50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1"/>
          <p:cNvSpPr/>
          <p:nvPr/>
        </p:nvSpPr>
        <p:spPr>
          <a:xfrm flipV="1">
            <a:off x="1990800" y="4101840"/>
            <a:ext cx="12361680" cy="4680"/>
          </a:xfrm>
          <a:prstGeom prst="line">
            <a:avLst/>
          </a:prstGeom>
          <a:ln w="38160">
            <a:solidFill>
              <a:srgbClr val="88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6" name="Oval 2"/>
          <p:cNvSpPr/>
          <p:nvPr/>
        </p:nvSpPr>
        <p:spPr>
          <a:xfrm>
            <a:off x="1782720" y="3887640"/>
            <a:ext cx="424080" cy="425520"/>
          </a:xfrm>
          <a:prstGeom prst="ellipse">
            <a:avLst/>
          </a:prstGeom>
          <a:solidFill>
            <a:srgbClr val="888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7" name="Oval 3"/>
          <p:cNvSpPr/>
          <p:nvPr/>
        </p:nvSpPr>
        <p:spPr>
          <a:xfrm>
            <a:off x="3476520" y="3894120"/>
            <a:ext cx="424080" cy="426960"/>
          </a:xfrm>
          <a:prstGeom prst="ellipse">
            <a:avLst/>
          </a:prstGeom>
          <a:solidFill>
            <a:srgbClr val="888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5280120" y="3894120"/>
            <a:ext cx="423720" cy="426960"/>
          </a:xfrm>
          <a:prstGeom prst="ellipse">
            <a:avLst/>
          </a:prstGeom>
          <a:solidFill>
            <a:srgbClr val="888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7083360" y="3881520"/>
            <a:ext cx="424080" cy="426960"/>
          </a:xfrm>
          <a:prstGeom prst="ellipse">
            <a:avLst/>
          </a:prstGeom>
          <a:solidFill>
            <a:srgbClr val="5e5a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444680" y="4468680"/>
            <a:ext cx="10746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991</a:t>
            </a:r>
            <a:endParaRPr b="0" lang="en-US" sz="2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00400" y="4468680"/>
            <a:ext cx="10746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992</a:t>
            </a:r>
            <a:endParaRPr b="0" lang="en-US" sz="2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956120" y="4468680"/>
            <a:ext cx="1074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993</a:t>
            </a:r>
            <a:endParaRPr b="0" lang="en-US" sz="2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6711840" y="4444920"/>
            <a:ext cx="10749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994</a:t>
            </a:r>
            <a:endParaRPr b="0" lang="en-US" sz="2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1077840" y="5634000"/>
            <a:ext cx="715824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Vestibulum tristique mattis felis, quis finibus quam venenatis quis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1116000" y="590400"/>
            <a:ext cx="24811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Timeline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1077840" y="1498680"/>
            <a:ext cx="147528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ositive thinking will let you do everything better than negative thinking will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17" name="Picture 13" descr=""/>
          <p:cNvPicPr/>
          <p:nvPr/>
        </p:nvPicPr>
        <p:blipFill>
          <a:blip r:embed="rId1"/>
          <a:srcRect l="15493" t="5480" r="14561" b="15796"/>
          <a:stretch/>
        </p:blipFill>
        <p:spPr>
          <a:xfrm>
            <a:off x="8902800" y="3149640"/>
            <a:ext cx="621324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3"/>
          <p:cNvGrpSpPr/>
          <p:nvPr/>
        </p:nvGrpSpPr>
        <p:grpSpPr>
          <a:xfrm>
            <a:off x="1066680" y="3032280"/>
            <a:ext cx="4330440" cy="2501280"/>
            <a:chOff x="1066680" y="3032280"/>
            <a:chExt cx="4330440" cy="2501280"/>
          </a:xfrm>
        </p:grpSpPr>
        <p:sp>
          <p:nvSpPr>
            <p:cNvPr id="119" name="Rectangle 1"/>
            <p:cNvSpPr/>
            <p:nvPr/>
          </p:nvSpPr>
          <p:spPr>
            <a:xfrm>
              <a:off x="1066680" y="3032280"/>
              <a:ext cx="4330440" cy="210780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20" name="Rectangle 2"/>
            <p:cNvSpPr/>
            <p:nvPr/>
          </p:nvSpPr>
          <p:spPr>
            <a:xfrm>
              <a:off x="1066680" y="5175000"/>
              <a:ext cx="4330440" cy="35856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21" name="Group 6"/>
          <p:cNvGrpSpPr/>
          <p:nvPr/>
        </p:nvGrpSpPr>
        <p:grpSpPr>
          <a:xfrm>
            <a:off x="5978520" y="3029040"/>
            <a:ext cx="4330800" cy="2501280"/>
            <a:chOff x="5978520" y="3029040"/>
            <a:chExt cx="4330800" cy="2501280"/>
          </a:xfrm>
        </p:grpSpPr>
        <p:sp>
          <p:nvSpPr>
            <p:cNvPr id="122" name="Rectangle 4"/>
            <p:cNvSpPr/>
            <p:nvPr/>
          </p:nvSpPr>
          <p:spPr>
            <a:xfrm>
              <a:off x="5978520" y="3029040"/>
              <a:ext cx="4329000" cy="210780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23" name="Rectangle 5"/>
            <p:cNvSpPr/>
            <p:nvPr/>
          </p:nvSpPr>
          <p:spPr>
            <a:xfrm>
              <a:off x="5978520" y="5171760"/>
              <a:ext cx="4330800" cy="35856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24" name="Group 9"/>
          <p:cNvGrpSpPr/>
          <p:nvPr/>
        </p:nvGrpSpPr>
        <p:grpSpPr>
          <a:xfrm>
            <a:off x="10890360" y="3029040"/>
            <a:ext cx="4330440" cy="2501280"/>
            <a:chOff x="10890360" y="3029040"/>
            <a:chExt cx="4330440" cy="2501280"/>
          </a:xfrm>
        </p:grpSpPr>
        <p:sp>
          <p:nvSpPr>
            <p:cNvPr id="125" name="Rectangle 7"/>
            <p:cNvSpPr/>
            <p:nvPr/>
          </p:nvSpPr>
          <p:spPr>
            <a:xfrm>
              <a:off x="10890360" y="3029040"/>
              <a:ext cx="4330440" cy="210780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26" name="Rectangle 8"/>
            <p:cNvSpPr/>
            <p:nvPr/>
          </p:nvSpPr>
          <p:spPr>
            <a:xfrm>
              <a:off x="10890360" y="5171760"/>
              <a:ext cx="4330440" cy="35856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27" name="Group 12"/>
          <p:cNvGrpSpPr/>
          <p:nvPr/>
        </p:nvGrpSpPr>
        <p:grpSpPr>
          <a:xfrm>
            <a:off x="1066680" y="5819760"/>
            <a:ext cx="4330800" cy="2501640"/>
            <a:chOff x="1066680" y="5819760"/>
            <a:chExt cx="4330800" cy="2501640"/>
          </a:xfrm>
        </p:grpSpPr>
        <p:sp>
          <p:nvSpPr>
            <p:cNvPr id="128" name="Rectangle 10"/>
            <p:cNvSpPr/>
            <p:nvPr/>
          </p:nvSpPr>
          <p:spPr>
            <a:xfrm>
              <a:off x="1066680" y="5819760"/>
              <a:ext cx="4329000" cy="21081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29" name="Rectangle 11"/>
            <p:cNvSpPr/>
            <p:nvPr/>
          </p:nvSpPr>
          <p:spPr>
            <a:xfrm>
              <a:off x="1066680" y="7962840"/>
              <a:ext cx="4330800" cy="35856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30" name="Group 15"/>
          <p:cNvGrpSpPr/>
          <p:nvPr/>
        </p:nvGrpSpPr>
        <p:grpSpPr>
          <a:xfrm>
            <a:off x="5978520" y="5819760"/>
            <a:ext cx="4330800" cy="2502000"/>
            <a:chOff x="5978520" y="5819760"/>
            <a:chExt cx="4330800" cy="2502000"/>
          </a:xfrm>
        </p:grpSpPr>
        <p:sp>
          <p:nvSpPr>
            <p:cNvPr id="131" name="Rectangle 13"/>
            <p:cNvSpPr/>
            <p:nvPr/>
          </p:nvSpPr>
          <p:spPr>
            <a:xfrm>
              <a:off x="5978520" y="5819760"/>
              <a:ext cx="4329000" cy="210672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32" name="Rectangle 14"/>
            <p:cNvSpPr/>
            <p:nvPr/>
          </p:nvSpPr>
          <p:spPr>
            <a:xfrm>
              <a:off x="5978520" y="7961400"/>
              <a:ext cx="4330800" cy="36036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33" name="Group 18"/>
          <p:cNvGrpSpPr/>
          <p:nvPr/>
        </p:nvGrpSpPr>
        <p:grpSpPr>
          <a:xfrm>
            <a:off x="10890360" y="5819760"/>
            <a:ext cx="4330440" cy="2501640"/>
            <a:chOff x="10890360" y="5819760"/>
            <a:chExt cx="4330440" cy="2501640"/>
          </a:xfrm>
        </p:grpSpPr>
        <p:sp>
          <p:nvSpPr>
            <p:cNvPr id="134" name="Rectangle 16"/>
            <p:cNvSpPr/>
            <p:nvPr/>
          </p:nvSpPr>
          <p:spPr>
            <a:xfrm>
              <a:off x="10890360" y="5819760"/>
              <a:ext cx="4330440" cy="21081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35" name="Rectangle 17"/>
            <p:cNvSpPr/>
            <p:nvPr/>
          </p:nvSpPr>
          <p:spPr>
            <a:xfrm>
              <a:off x="10890360" y="7962840"/>
              <a:ext cx="4330440" cy="35856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36" name="Rectangle 19"/>
          <p:cNvSpPr/>
          <p:nvPr/>
        </p:nvSpPr>
        <p:spPr>
          <a:xfrm>
            <a:off x="1092600" y="590400"/>
            <a:ext cx="25070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Portfolio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1077840" y="1501920"/>
            <a:ext cx="141429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Dinosaurs are extinct today because they lacked opposable thumbs and the brainpower to build a space program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1328760" y="3224160"/>
            <a:ext cx="381636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Aenean malesuada, arcu non mattis, massa dolor sollicitudin arcu, non ornare magna orci a neque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6235560" y="3249720"/>
            <a:ext cx="38163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Etiam sollicitudin tortor mauris, sed condimentum augue lacinia vitae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11148840" y="3224160"/>
            <a:ext cx="38181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Integer tortor risus, tincidunt eu quam vel, pellentesque placerat felis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1324080" y="5945040"/>
            <a:ext cx="3816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Aenean malesuada, arcu non condimentum mattis, massa dolor sollicitudin arcu, non ornare magna orci a neque. Suspendisse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6243480" y="5945040"/>
            <a:ext cx="3816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Etiam sollicitudin tortor mauris, sed condimentum augue lacinia vitae. Pellentesque vestibulum non leo sit amet aliquet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11158560" y="5932440"/>
            <a:ext cx="3816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Integer tortor risus, tincidunt eu quam vel, pellentesque placerat felis. Etiam sollicitudin tortor mauris, sed condiment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44" name="Group 32"/>
          <p:cNvGrpSpPr/>
          <p:nvPr/>
        </p:nvGrpSpPr>
        <p:grpSpPr>
          <a:xfrm>
            <a:off x="4748040" y="4637160"/>
            <a:ext cx="957240" cy="949320"/>
            <a:chOff x="4748040" y="4637160"/>
            <a:chExt cx="957240" cy="949320"/>
          </a:xfrm>
        </p:grpSpPr>
        <p:grpSp>
          <p:nvGrpSpPr>
            <p:cNvPr id="145" name="Group 30"/>
            <p:cNvGrpSpPr/>
            <p:nvPr/>
          </p:nvGrpSpPr>
          <p:grpSpPr>
            <a:xfrm>
              <a:off x="4748040" y="4637160"/>
              <a:ext cx="957240" cy="949320"/>
              <a:chOff x="4748040" y="4637160"/>
              <a:chExt cx="957240" cy="949320"/>
            </a:xfrm>
          </p:grpSpPr>
          <p:sp>
            <p:nvSpPr>
              <p:cNvPr id="146" name="Oval 27"/>
              <p:cNvSpPr/>
              <p:nvPr/>
            </p:nvSpPr>
            <p:spPr>
              <a:xfrm>
                <a:off x="4748040" y="4637160"/>
                <a:ext cx="957240" cy="94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47" name="AutoShape 28"/>
              <p:cNvSpPr/>
              <p:nvPr/>
            </p:nvSpPr>
            <p:spPr>
              <a:xfrm>
                <a:off x="4829040" y="4726080"/>
                <a:ext cx="793800" cy="776160"/>
              </a:xfrm>
              <a:custGeom>
                <a:avLst/>
                <a:gdLst/>
                <a:ahLst/>
                <a:rect l="l" t="t" r="r" b="b"/>
                <a:pathLst>
                  <a:path w="20579" h="20824">
                    <a:moveTo>
                      <a:pt x="11901" y="0"/>
                    </a:moveTo>
                    <a:cubicBezTo>
                      <a:pt x="17513" y="907"/>
                      <a:pt x="21341" y="6274"/>
                      <a:pt x="20451" y="11988"/>
                    </a:cubicBezTo>
                    <a:cubicBezTo>
                      <a:pt x="19560" y="17703"/>
                      <a:pt x="14289" y="21600"/>
                      <a:pt x="8676" y="20693"/>
                    </a:cubicBezTo>
                    <a:cubicBezTo>
                      <a:pt x="3479" y="19854"/>
                      <a:pt x="-259" y="15155"/>
                      <a:pt x="14" y="9804"/>
                    </a:cubicBezTo>
                    <a:lnTo>
                      <a:pt x="11901" y="0"/>
                    </a:lnTo>
                    <a:close/>
                    <a:moveTo>
                      <a:pt x="11901" y="0"/>
                    </a:moveTo>
                  </a:path>
                </a:pathLst>
              </a:custGeom>
              <a:gradFill rotWithShape="0">
                <a:gsLst>
                  <a:gs pos="0">
                    <a:srgbClr val="7ac627"/>
                  </a:gs>
                  <a:gs pos="100000">
                    <a:srgbClr val="4a91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48" name="AutoShape 29"/>
              <p:cNvSpPr/>
              <p:nvPr/>
            </p:nvSpPr>
            <p:spPr>
              <a:xfrm rot="5280000">
                <a:off x="4887720" y="4668840"/>
                <a:ext cx="347760" cy="465120"/>
              </a:xfrm>
              <a:custGeom>
                <a:avLst/>
                <a:gdLst/>
                <a:ahLst/>
                <a:rect l="l" t="t" r="r" b="b"/>
                <a:pathLst>
                  <a:path w="20250" h="21604">
                    <a:moveTo>
                      <a:pt x="0" y="0"/>
                    </a:moveTo>
                    <a:cubicBezTo>
                      <a:pt x="12612" y="1208"/>
                      <a:pt x="21600" y="10321"/>
                      <a:pt x="20074" y="20354"/>
                    </a:cubicBezTo>
                    <a:cubicBezTo>
                      <a:pt x="20011" y="20772"/>
                      <a:pt x="19930" y="21187"/>
                      <a:pt x="19830" y="21600"/>
                    </a:cubicBez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c0e399"/>
                  </a:gs>
                  <a:gs pos="100000">
                    <a:srgbClr val="74b230"/>
                  </a:gs>
                </a:gsLst>
                <a:lin ang="1368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  <p:sp>
          <p:nvSpPr>
            <p:cNvPr id="149" name="Rectangle 31"/>
            <p:cNvSpPr/>
            <p:nvPr/>
          </p:nvSpPr>
          <p:spPr>
            <a:xfrm>
              <a:off x="5142240" y="4824360"/>
              <a:ext cx="234000" cy="48780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1</a:t>
              </a:r>
              <a:endParaRPr b="0" lang="en-US" sz="32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50" name="Group 38"/>
          <p:cNvGrpSpPr/>
          <p:nvPr/>
        </p:nvGrpSpPr>
        <p:grpSpPr>
          <a:xfrm>
            <a:off x="9664560" y="4699080"/>
            <a:ext cx="957240" cy="949320"/>
            <a:chOff x="9664560" y="4699080"/>
            <a:chExt cx="957240" cy="949320"/>
          </a:xfrm>
        </p:grpSpPr>
        <p:grpSp>
          <p:nvGrpSpPr>
            <p:cNvPr id="151" name="Group 36"/>
            <p:cNvGrpSpPr/>
            <p:nvPr/>
          </p:nvGrpSpPr>
          <p:grpSpPr>
            <a:xfrm>
              <a:off x="9664560" y="4699080"/>
              <a:ext cx="957240" cy="949320"/>
              <a:chOff x="9664560" y="4699080"/>
              <a:chExt cx="957240" cy="949320"/>
            </a:xfrm>
          </p:grpSpPr>
          <p:sp>
            <p:nvSpPr>
              <p:cNvPr id="152" name="Oval 33"/>
              <p:cNvSpPr/>
              <p:nvPr/>
            </p:nvSpPr>
            <p:spPr>
              <a:xfrm>
                <a:off x="9664560" y="4699080"/>
                <a:ext cx="957240" cy="94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53" name="AutoShape 34"/>
              <p:cNvSpPr/>
              <p:nvPr/>
            </p:nvSpPr>
            <p:spPr>
              <a:xfrm>
                <a:off x="9745560" y="4788000"/>
                <a:ext cx="793800" cy="776160"/>
              </a:xfrm>
              <a:custGeom>
                <a:avLst/>
                <a:gdLst/>
                <a:ahLst/>
                <a:rect l="l" t="t" r="r" b="b"/>
                <a:pathLst>
                  <a:path w="20579" h="20824">
                    <a:moveTo>
                      <a:pt x="11901" y="0"/>
                    </a:moveTo>
                    <a:cubicBezTo>
                      <a:pt x="17513" y="907"/>
                      <a:pt x="21341" y="6274"/>
                      <a:pt x="20451" y="11988"/>
                    </a:cubicBezTo>
                    <a:cubicBezTo>
                      <a:pt x="19560" y="17703"/>
                      <a:pt x="14289" y="21600"/>
                      <a:pt x="8676" y="20693"/>
                    </a:cubicBezTo>
                    <a:cubicBezTo>
                      <a:pt x="3479" y="19854"/>
                      <a:pt x="-259" y="15155"/>
                      <a:pt x="14" y="9804"/>
                    </a:cubicBezTo>
                    <a:lnTo>
                      <a:pt x="11901" y="0"/>
                    </a:lnTo>
                    <a:close/>
                    <a:moveTo>
                      <a:pt x="11901" y="0"/>
                    </a:moveTo>
                  </a:path>
                </a:pathLst>
              </a:custGeom>
              <a:gradFill rotWithShape="0">
                <a:gsLst>
                  <a:gs pos="0">
                    <a:srgbClr val="7ac627"/>
                  </a:gs>
                  <a:gs pos="100000">
                    <a:srgbClr val="4a91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54" name="AutoShape 35"/>
              <p:cNvSpPr/>
              <p:nvPr/>
            </p:nvSpPr>
            <p:spPr>
              <a:xfrm rot="5280000">
                <a:off x="9804240" y="4730760"/>
                <a:ext cx="347760" cy="465120"/>
              </a:xfrm>
              <a:custGeom>
                <a:avLst/>
                <a:gdLst/>
                <a:ahLst/>
                <a:rect l="l" t="t" r="r" b="b"/>
                <a:pathLst>
                  <a:path w="20250" h="21604">
                    <a:moveTo>
                      <a:pt x="0" y="0"/>
                    </a:moveTo>
                    <a:cubicBezTo>
                      <a:pt x="12612" y="1208"/>
                      <a:pt x="21600" y="10321"/>
                      <a:pt x="20074" y="20354"/>
                    </a:cubicBezTo>
                    <a:cubicBezTo>
                      <a:pt x="20011" y="20772"/>
                      <a:pt x="19930" y="21187"/>
                      <a:pt x="19830" y="21600"/>
                    </a:cubicBez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c0e399"/>
                  </a:gs>
                  <a:gs pos="100000">
                    <a:srgbClr val="74b230"/>
                  </a:gs>
                </a:gsLst>
                <a:lin ang="1368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  <p:sp>
          <p:nvSpPr>
            <p:cNvPr id="155" name="Rectangle 37"/>
            <p:cNvSpPr/>
            <p:nvPr/>
          </p:nvSpPr>
          <p:spPr>
            <a:xfrm>
              <a:off x="10058760" y="4886280"/>
              <a:ext cx="234000" cy="48780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2</a:t>
              </a:r>
              <a:endParaRPr b="0" lang="en-US" sz="32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56" name="Group 44"/>
          <p:cNvGrpSpPr/>
          <p:nvPr/>
        </p:nvGrpSpPr>
        <p:grpSpPr>
          <a:xfrm>
            <a:off x="14579640" y="4762440"/>
            <a:ext cx="957240" cy="949320"/>
            <a:chOff x="14579640" y="4762440"/>
            <a:chExt cx="957240" cy="949320"/>
          </a:xfrm>
        </p:grpSpPr>
        <p:grpSp>
          <p:nvGrpSpPr>
            <p:cNvPr id="157" name="Group 42"/>
            <p:cNvGrpSpPr/>
            <p:nvPr/>
          </p:nvGrpSpPr>
          <p:grpSpPr>
            <a:xfrm>
              <a:off x="14579640" y="4762440"/>
              <a:ext cx="957240" cy="949320"/>
              <a:chOff x="14579640" y="4762440"/>
              <a:chExt cx="957240" cy="949320"/>
            </a:xfrm>
          </p:grpSpPr>
          <p:sp>
            <p:nvSpPr>
              <p:cNvPr id="158" name="Oval 39"/>
              <p:cNvSpPr/>
              <p:nvPr/>
            </p:nvSpPr>
            <p:spPr>
              <a:xfrm>
                <a:off x="14579640" y="4762440"/>
                <a:ext cx="957240" cy="94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59" name="AutoShape 40"/>
              <p:cNvSpPr/>
              <p:nvPr/>
            </p:nvSpPr>
            <p:spPr>
              <a:xfrm>
                <a:off x="14660640" y="4851360"/>
                <a:ext cx="793800" cy="776160"/>
              </a:xfrm>
              <a:custGeom>
                <a:avLst/>
                <a:gdLst/>
                <a:ahLst/>
                <a:rect l="l" t="t" r="r" b="b"/>
                <a:pathLst>
                  <a:path w="20579" h="20824">
                    <a:moveTo>
                      <a:pt x="11901" y="0"/>
                    </a:moveTo>
                    <a:cubicBezTo>
                      <a:pt x="17513" y="907"/>
                      <a:pt x="21341" y="6274"/>
                      <a:pt x="20451" y="11988"/>
                    </a:cubicBezTo>
                    <a:cubicBezTo>
                      <a:pt x="19560" y="17703"/>
                      <a:pt x="14289" y="21600"/>
                      <a:pt x="8676" y="20693"/>
                    </a:cubicBezTo>
                    <a:cubicBezTo>
                      <a:pt x="3479" y="19854"/>
                      <a:pt x="-259" y="15155"/>
                      <a:pt x="14" y="9804"/>
                    </a:cubicBezTo>
                    <a:lnTo>
                      <a:pt x="11901" y="0"/>
                    </a:lnTo>
                    <a:close/>
                    <a:moveTo>
                      <a:pt x="11901" y="0"/>
                    </a:moveTo>
                  </a:path>
                </a:pathLst>
              </a:custGeom>
              <a:gradFill rotWithShape="0">
                <a:gsLst>
                  <a:gs pos="0">
                    <a:srgbClr val="7ac627"/>
                  </a:gs>
                  <a:gs pos="100000">
                    <a:srgbClr val="4a91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60" name="AutoShape 41"/>
              <p:cNvSpPr/>
              <p:nvPr/>
            </p:nvSpPr>
            <p:spPr>
              <a:xfrm rot="5280000">
                <a:off x="14719320" y="4794120"/>
                <a:ext cx="347760" cy="465120"/>
              </a:xfrm>
              <a:custGeom>
                <a:avLst/>
                <a:gdLst/>
                <a:ahLst/>
                <a:rect l="l" t="t" r="r" b="b"/>
                <a:pathLst>
                  <a:path w="20250" h="21604">
                    <a:moveTo>
                      <a:pt x="0" y="0"/>
                    </a:moveTo>
                    <a:cubicBezTo>
                      <a:pt x="12612" y="1208"/>
                      <a:pt x="21600" y="10321"/>
                      <a:pt x="20074" y="20354"/>
                    </a:cubicBezTo>
                    <a:cubicBezTo>
                      <a:pt x="20011" y="20772"/>
                      <a:pt x="19930" y="21187"/>
                      <a:pt x="19830" y="21600"/>
                    </a:cubicBez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c0e399"/>
                  </a:gs>
                  <a:gs pos="100000">
                    <a:srgbClr val="74b230"/>
                  </a:gs>
                </a:gsLst>
                <a:lin ang="1368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  <p:sp>
          <p:nvSpPr>
            <p:cNvPr id="161" name="Rectangle 43"/>
            <p:cNvSpPr/>
            <p:nvPr/>
          </p:nvSpPr>
          <p:spPr>
            <a:xfrm>
              <a:off x="14973840" y="4949640"/>
              <a:ext cx="234000" cy="48780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3</a:t>
              </a:r>
              <a:endParaRPr b="0" lang="en-US" sz="32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62" name="Group 50"/>
          <p:cNvGrpSpPr/>
          <p:nvPr/>
        </p:nvGrpSpPr>
        <p:grpSpPr>
          <a:xfrm>
            <a:off x="4749840" y="7531200"/>
            <a:ext cx="957240" cy="949320"/>
            <a:chOff x="4749840" y="7531200"/>
            <a:chExt cx="957240" cy="949320"/>
          </a:xfrm>
        </p:grpSpPr>
        <p:grpSp>
          <p:nvGrpSpPr>
            <p:cNvPr id="163" name="Group 48"/>
            <p:cNvGrpSpPr/>
            <p:nvPr/>
          </p:nvGrpSpPr>
          <p:grpSpPr>
            <a:xfrm>
              <a:off x="4749840" y="7531200"/>
              <a:ext cx="957240" cy="949320"/>
              <a:chOff x="4749840" y="7531200"/>
              <a:chExt cx="957240" cy="949320"/>
            </a:xfrm>
          </p:grpSpPr>
          <p:sp>
            <p:nvSpPr>
              <p:cNvPr id="164" name="Oval 45"/>
              <p:cNvSpPr/>
              <p:nvPr/>
            </p:nvSpPr>
            <p:spPr>
              <a:xfrm>
                <a:off x="4749840" y="7531200"/>
                <a:ext cx="957240" cy="94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65" name="AutoShape 46"/>
              <p:cNvSpPr/>
              <p:nvPr/>
            </p:nvSpPr>
            <p:spPr>
              <a:xfrm>
                <a:off x="4830840" y="7620120"/>
                <a:ext cx="793800" cy="776160"/>
              </a:xfrm>
              <a:custGeom>
                <a:avLst/>
                <a:gdLst/>
                <a:ahLst/>
                <a:rect l="l" t="t" r="r" b="b"/>
                <a:pathLst>
                  <a:path w="20579" h="20824">
                    <a:moveTo>
                      <a:pt x="11901" y="0"/>
                    </a:moveTo>
                    <a:cubicBezTo>
                      <a:pt x="17513" y="907"/>
                      <a:pt x="21341" y="6274"/>
                      <a:pt x="20451" y="11988"/>
                    </a:cubicBezTo>
                    <a:cubicBezTo>
                      <a:pt x="19560" y="17703"/>
                      <a:pt x="14289" y="21600"/>
                      <a:pt x="8676" y="20693"/>
                    </a:cubicBezTo>
                    <a:cubicBezTo>
                      <a:pt x="3479" y="19854"/>
                      <a:pt x="-259" y="15155"/>
                      <a:pt x="14" y="9804"/>
                    </a:cubicBezTo>
                    <a:lnTo>
                      <a:pt x="11901" y="0"/>
                    </a:lnTo>
                    <a:close/>
                    <a:moveTo>
                      <a:pt x="11901" y="0"/>
                    </a:moveTo>
                  </a:path>
                </a:pathLst>
              </a:custGeom>
              <a:gradFill rotWithShape="0">
                <a:gsLst>
                  <a:gs pos="0">
                    <a:srgbClr val="7ac627"/>
                  </a:gs>
                  <a:gs pos="100000">
                    <a:srgbClr val="4a91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66" name="AutoShape 47"/>
              <p:cNvSpPr/>
              <p:nvPr/>
            </p:nvSpPr>
            <p:spPr>
              <a:xfrm rot="5280000">
                <a:off x="4889520" y="7562880"/>
                <a:ext cx="347760" cy="465120"/>
              </a:xfrm>
              <a:custGeom>
                <a:avLst/>
                <a:gdLst/>
                <a:ahLst/>
                <a:rect l="l" t="t" r="r" b="b"/>
                <a:pathLst>
                  <a:path w="20250" h="21604">
                    <a:moveTo>
                      <a:pt x="0" y="0"/>
                    </a:moveTo>
                    <a:cubicBezTo>
                      <a:pt x="12612" y="1208"/>
                      <a:pt x="21600" y="10321"/>
                      <a:pt x="20074" y="20354"/>
                    </a:cubicBezTo>
                    <a:cubicBezTo>
                      <a:pt x="20011" y="20772"/>
                      <a:pt x="19930" y="21187"/>
                      <a:pt x="19830" y="21600"/>
                    </a:cubicBez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c0e399"/>
                  </a:gs>
                  <a:gs pos="100000">
                    <a:srgbClr val="74b230"/>
                  </a:gs>
                </a:gsLst>
                <a:lin ang="1368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  <p:sp>
          <p:nvSpPr>
            <p:cNvPr id="167" name="Rectangle 49"/>
            <p:cNvSpPr/>
            <p:nvPr/>
          </p:nvSpPr>
          <p:spPr>
            <a:xfrm>
              <a:off x="5144040" y="7718400"/>
              <a:ext cx="234000" cy="48780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4</a:t>
              </a:r>
              <a:endParaRPr b="0" lang="en-US" sz="32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68" name="Group 56"/>
          <p:cNvGrpSpPr/>
          <p:nvPr/>
        </p:nvGrpSpPr>
        <p:grpSpPr>
          <a:xfrm>
            <a:off x="9664560" y="7594560"/>
            <a:ext cx="957240" cy="949320"/>
            <a:chOff x="9664560" y="7594560"/>
            <a:chExt cx="957240" cy="949320"/>
          </a:xfrm>
        </p:grpSpPr>
        <p:grpSp>
          <p:nvGrpSpPr>
            <p:cNvPr id="169" name="Group 54"/>
            <p:cNvGrpSpPr/>
            <p:nvPr/>
          </p:nvGrpSpPr>
          <p:grpSpPr>
            <a:xfrm>
              <a:off x="9664560" y="7594560"/>
              <a:ext cx="957240" cy="949320"/>
              <a:chOff x="9664560" y="7594560"/>
              <a:chExt cx="957240" cy="949320"/>
            </a:xfrm>
          </p:grpSpPr>
          <p:sp>
            <p:nvSpPr>
              <p:cNvPr id="170" name="Oval 51"/>
              <p:cNvSpPr/>
              <p:nvPr/>
            </p:nvSpPr>
            <p:spPr>
              <a:xfrm>
                <a:off x="9664560" y="7594560"/>
                <a:ext cx="957240" cy="94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71" name="AutoShape 52"/>
              <p:cNvSpPr/>
              <p:nvPr/>
            </p:nvSpPr>
            <p:spPr>
              <a:xfrm>
                <a:off x="9745560" y="7683480"/>
                <a:ext cx="793800" cy="776160"/>
              </a:xfrm>
              <a:custGeom>
                <a:avLst/>
                <a:gdLst/>
                <a:ahLst/>
                <a:rect l="l" t="t" r="r" b="b"/>
                <a:pathLst>
                  <a:path w="20579" h="20824">
                    <a:moveTo>
                      <a:pt x="11901" y="0"/>
                    </a:moveTo>
                    <a:cubicBezTo>
                      <a:pt x="17513" y="907"/>
                      <a:pt x="21341" y="6274"/>
                      <a:pt x="20451" y="11988"/>
                    </a:cubicBezTo>
                    <a:cubicBezTo>
                      <a:pt x="19560" y="17703"/>
                      <a:pt x="14289" y="21600"/>
                      <a:pt x="8676" y="20693"/>
                    </a:cubicBezTo>
                    <a:cubicBezTo>
                      <a:pt x="3479" y="19854"/>
                      <a:pt x="-259" y="15155"/>
                      <a:pt x="14" y="9804"/>
                    </a:cubicBezTo>
                    <a:lnTo>
                      <a:pt x="11901" y="0"/>
                    </a:lnTo>
                    <a:close/>
                    <a:moveTo>
                      <a:pt x="11901" y="0"/>
                    </a:moveTo>
                  </a:path>
                </a:pathLst>
              </a:custGeom>
              <a:gradFill rotWithShape="0">
                <a:gsLst>
                  <a:gs pos="0">
                    <a:srgbClr val="7ac627"/>
                  </a:gs>
                  <a:gs pos="100000">
                    <a:srgbClr val="4a91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72" name="AutoShape 53"/>
              <p:cNvSpPr/>
              <p:nvPr/>
            </p:nvSpPr>
            <p:spPr>
              <a:xfrm rot="5280000">
                <a:off x="9804240" y="7626240"/>
                <a:ext cx="347760" cy="465120"/>
              </a:xfrm>
              <a:custGeom>
                <a:avLst/>
                <a:gdLst/>
                <a:ahLst/>
                <a:rect l="l" t="t" r="r" b="b"/>
                <a:pathLst>
                  <a:path w="20250" h="21604">
                    <a:moveTo>
                      <a:pt x="0" y="0"/>
                    </a:moveTo>
                    <a:cubicBezTo>
                      <a:pt x="12612" y="1208"/>
                      <a:pt x="21600" y="10321"/>
                      <a:pt x="20074" y="20354"/>
                    </a:cubicBezTo>
                    <a:cubicBezTo>
                      <a:pt x="20011" y="20772"/>
                      <a:pt x="19930" y="21187"/>
                      <a:pt x="19830" y="21600"/>
                    </a:cubicBez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c0e399"/>
                  </a:gs>
                  <a:gs pos="100000">
                    <a:srgbClr val="74b230"/>
                  </a:gs>
                </a:gsLst>
                <a:lin ang="1368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  <p:sp>
          <p:nvSpPr>
            <p:cNvPr id="173" name="Rectangle 55"/>
            <p:cNvSpPr/>
            <p:nvPr/>
          </p:nvSpPr>
          <p:spPr>
            <a:xfrm>
              <a:off x="10058760" y="7781760"/>
              <a:ext cx="234000" cy="48780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5</a:t>
              </a:r>
              <a:endParaRPr b="0" lang="en-US" sz="32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74" name="Group 62"/>
          <p:cNvGrpSpPr/>
          <p:nvPr/>
        </p:nvGrpSpPr>
        <p:grpSpPr>
          <a:xfrm>
            <a:off x="14579640" y="7658280"/>
            <a:ext cx="957240" cy="949320"/>
            <a:chOff x="14579640" y="7658280"/>
            <a:chExt cx="957240" cy="949320"/>
          </a:xfrm>
        </p:grpSpPr>
        <p:grpSp>
          <p:nvGrpSpPr>
            <p:cNvPr id="175" name="Group 60"/>
            <p:cNvGrpSpPr/>
            <p:nvPr/>
          </p:nvGrpSpPr>
          <p:grpSpPr>
            <a:xfrm>
              <a:off x="14579640" y="7658280"/>
              <a:ext cx="957240" cy="949320"/>
              <a:chOff x="14579640" y="7658280"/>
              <a:chExt cx="957240" cy="949320"/>
            </a:xfrm>
          </p:grpSpPr>
          <p:sp>
            <p:nvSpPr>
              <p:cNvPr id="176" name="Oval 57"/>
              <p:cNvSpPr/>
              <p:nvPr/>
            </p:nvSpPr>
            <p:spPr>
              <a:xfrm>
                <a:off x="14579640" y="7658280"/>
                <a:ext cx="957240" cy="94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77" name="AutoShape 58"/>
              <p:cNvSpPr/>
              <p:nvPr/>
            </p:nvSpPr>
            <p:spPr>
              <a:xfrm>
                <a:off x="14660640" y="7747200"/>
                <a:ext cx="793800" cy="776160"/>
              </a:xfrm>
              <a:custGeom>
                <a:avLst/>
                <a:gdLst/>
                <a:ahLst/>
                <a:rect l="l" t="t" r="r" b="b"/>
                <a:pathLst>
                  <a:path w="20579" h="20824">
                    <a:moveTo>
                      <a:pt x="11901" y="0"/>
                    </a:moveTo>
                    <a:cubicBezTo>
                      <a:pt x="17513" y="907"/>
                      <a:pt x="21341" y="6274"/>
                      <a:pt x="20451" y="11988"/>
                    </a:cubicBezTo>
                    <a:cubicBezTo>
                      <a:pt x="19560" y="17703"/>
                      <a:pt x="14289" y="21600"/>
                      <a:pt x="8676" y="20693"/>
                    </a:cubicBezTo>
                    <a:cubicBezTo>
                      <a:pt x="3479" y="19854"/>
                      <a:pt x="-259" y="15155"/>
                      <a:pt x="14" y="9804"/>
                    </a:cubicBezTo>
                    <a:lnTo>
                      <a:pt x="11901" y="0"/>
                    </a:lnTo>
                    <a:close/>
                    <a:moveTo>
                      <a:pt x="11901" y="0"/>
                    </a:moveTo>
                  </a:path>
                </a:pathLst>
              </a:custGeom>
              <a:gradFill rotWithShape="0">
                <a:gsLst>
                  <a:gs pos="0">
                    <a:srgbClr val="7ac627"/>
                  </a:gs>
                  <a:gs pos="100000">
                    <a:srgbClr val="4a91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78" name="AutoShape 59"/>
              <p:cNvSpPr/>
              <p:nvPr/>
            </p:nvSpPr>
            <p:spPr>
              <a:xfrm rot="5280000">
                <a:off x="14719320" y="7689960"/>
                <a:ext cx="347760" cy="465120"/>
              </a:xfrm>
              <a:custGeom>
                <a:avLst/>
                <a:gdLst/>
                <a:ahLst/>
                <a:rect l="l" t="t" r="r" b="b"/>
                <a:pathLst>
                  <a:path w="20250" h="21604">
                    <a:moveTo>
                      <a:pt x="0" y="0"/>
                    </a:moveTo>
                    <a:cubicBezTo>
                      <a:pt x="12612" y="1208"/>
                      <a:pt x="21600" y="10321"/>
                      <a:pt x="20074" y="20354"/>
                    </a:cubicBezTo>
                    <a:cubicBezTo>
                      <a:pt x="20011" y="20772"/>
                      <a:pt x="19930" y="21187"/>
                      <a:pt x="19830" y="21600"/>
                    </a:cubicBez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c0e399"/>
                  </a:gs>
                  <a:gs pos="100000">
                    <a:srgbClr val="74b230"/>
                  </a:gs>
                </a:gsLst>
                <a:lin ang="1368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  <p:sp>
          <p:nvSpPr>
            <p:cNvPr id="179" name="Rectangle 61"/>
            <p:cNvSpPr/>
            <p:nvPr/>
          </p:nvSpPr>
          <p:spPr>
            <a:xfrm>
              <a:off x="14973840" y="7845480"/>
              <a:ext cx="234000" cy="48780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6</a:t>
              </a:r>
              <a:endParaRPr b="0" lang="en-US" sz="32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1065960" y="590400"/>
            <a:ext cx="35755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Data Arrow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077840" y="1498680"/>
            <a:ext cx="147528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Our greatest fear should not be of failure but of succeeding at things in life that don't really matter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9356760" y="5156280"/>
            <a:ext cx="6108840" cy="1168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57" y="21600"/>
                </a:moveTo>
                <a:lnTo>
                  <a:pt x="21600" y="10783"/>
                </a:lnTo>
                <a:lnTo>
                  <a:pt x="19857" y="0"/>
                </a:lnTo>
                <a:lnTo>
                  <a:pt x="0" y="0"/>
                </a:lnTo>
                <a:lnTo>
                  <a:pt x="0" y="21600"/>
                </a:lnTo>
                <a:lnTo>
                  <a:pt x="19857" y="21600"/>
                </a:lnTo>
              </a:path>
            </a:pathLst>
          </a:cu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7176960" y="6323040"/>
            <a:ext cx="1575000" cy="137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</a:path>
            </a:pathLst>
          </a:custGeom>
          <a:solidFill>
            <a:srgbClr val="7c92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9356760" y="6323040"/>
            <a:ext cx="6105600" cy="1168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19388" y="0"/>
                </a:lnTo>
                <a:lnTo>
                  <a:pt x="21600" y="10800"/>
                </a:lnTo>
                <a:lnTo>
                  <a:pt x="19388" y="21600"/>
                </a:lnTo>
                <a:lnTo>
                  <a:pt x="0" y="21600"/>
                </a:lnTo>
              </a:path>
            </a:pathLst>
          </a:custGeom>
          <a:solidFill>
            <a:srgbClr val="7c92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8750160" y="6323040"/>
            <a:ext cx="604800" cy="137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  <a:lnTo>
                  <a:pt x="21600" y="18347"/>
                </a:lnTo>
                <a:lnTo>
                  <a:pt x="0" y="21600"/>
                </a:lnTo>
              </a:path>
            </a:pathLst>
          </a:custGeom>
          <a:solidFill>
            <a:srgbClr val="6c8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7176960" y="4948200"/>
            <a:ext cx="1575000" cy="137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</a:path>
            </a:pathLst>
          </a:custGeom>
          <a:solidFill>
            <a:srgbClr val="fa7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7176960" y="3573360"/>
            <a:ext cx="1575000" cy="137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</a:path>
            </a:pathLst>
          </a:custGeom>
          <a:solidFill>
            <a:srgbClr val="ebbb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8750160" y="3587760"/>
            <a:ext cx="604800" cy="158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798"/>
                </a:moveTo>
                <a:lnTo>
                  <a:pt x="0" y="0"/>
                </a:lnTo>
                <a:lnTo>
                  <a:pt x="21600" y="5630"/>
                </a:lnTo>
                <a:lnTo>
                  <a:pt x="21600" y="21600"/>
                </a:lnTo>
                <a:lnTo>
                  <a:pt x="0" y="18798"/>
                </a:lnTo>
              </a:path>
            </a:pathLst>
          </a:custGeom>
          <a:solidFill>
            <a:srgbClr val="d3a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9356760" y="3998880"/>
            <a:ext cx="5613480" cy="115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566" y="21600"/>
                </a:moveTo>
                <a:lnTo>
                  <a:pt x="21600" y="10823"/>
                </a:lnTo>
                <a:lnTo>
                  <a:pt x="19566" y="0"/>
                </a:lnTo>
                <a:lnTo>
                  <a:pt x="0" y="0"/>
                </a:lnTo>
                <a:lnTo>
                  <a:pt x="0" y="21600"/>
                </a:lnTo>
                <a:lnTo>
                  <a:pt x="19566" y="21600"/>
                </a:lnTo>
              </a:path>
            </a:pathLst>
          </a:cu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8750160" y="4948200"/>
            <a:ext cx="604800" cy="137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3219"/>
                </a:lnTo>
                <a:lnTo>
                  <a:pt x="21600" y="21600"/>
                </a:lnTo>
                <a:lnTo>
                  <a:pt x="0" y="21600"/>
                </a:lnTo>
              </a:path>
            </a:pathLst>
          </a:custGeom>
          <a:solidFill>
            <a:srgbClr val="d16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9539280" y="4211640"/>
            <a:ext cx="9215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Phasellus imperdiet lacinia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9539280" y="5416560"/>
            <a:ext cx="4681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longer cooler things here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9539280" y="6550200"/>
            <a:ext cx="8834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Quis finibus venenatis quis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94" name="Picture 15" descr=""/>
          <p:cNvPicPr/>
          <p:nvPr/>
        </p:nvPicPr>
        <p:blipFill>
          <a:blip r:embed="rId1"/>
          <a:stretch/>
        </p:blipFill>
        <p:spPr>
          <a:xfrm>
            <a:off x="291960" y="2527200"/>
            <a:ext cx="876780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2963880" y="3567240"/>
            <a:ext cx="66992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header here.</a:t>
            </a:r>
            <a:endParaRPr b="0" lang="en-US" sz="26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Phasellus eget dolor eu lacus imperdiet lacinia. Nunc tincidunt semper odio ac tempus. </a:t>
            </a:r>
            <a:endParaRPr b="0" lang="en-US" sz="2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2963880" y="5749920"/>
            <a:ext cx="66992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header here.</a:t>
            </a:r>
            <a:endParaRPr b="0" lang="en-US" sz="26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Phasellus eget dolor eu lacus imperdiet lacinia. Nunc tincidunt semper odio ac tempus. </a:t>
            </a:r>
            <a:endParaRPr b="0" lang="en-US" sz="2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990720" y="590400"/>
            <a:ext cx="43056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Cool Showcase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077840" y="1498680"/>
            <a:ext cx="1432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Look back over history, people have put their lives at stake to explore …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10337760" y="2933640"/>
            <a:ext cx="4699080" cy="4711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2"/>
          <a:stretch/>
        </p:blipFill>
        <p:spPr>
          <a:xfrm>
            <a:off x="939960" y="350532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3"/>
          <a:stretch/>
        </p:blipFill>
        <p:spPr>
          <a:xfrm>
            <a:off x="1155600" y="5753160"/>
            <a:ext cx="1625760" cy="16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2044800" y="1295280"/>
            <a:ext cx="1215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Visit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r>
              <a:rPr b="0" lang="en-US" sz="4800" spc="-1" strike="noStrike">
                <a:solidFill>
                  <a:srgbClr val="9ab737"/>
                </a:solidFill>
                <a:latin typeface="Lora Bold"/>
                <a:ea typeface="ＭＳ Ｐゴシック"/>
              </a:rPr>
              <a:t>bestpowerpointtemplates.com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for more </a:t>
            </a:r>
            <a:r>
              <a:rPr b="0" lang="en-US" sz="4800" spc="-1" strike="noStrike">
                <a:solidFill>
                  <a:srgbClr val="fa8c31"/>
                </a:solidFill>
                <a:latin typeface="Lora Bold"/>
                <a:ea typeface="ＭＳ Ｐゴシック"/>
              </a:rPr>
              <a:t>free</a:t>
            </a: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 resources!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1603800" y="6032520"/>
            <a:ext cx="13032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Font Used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Cambria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| Size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280x720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| Color Scheme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Modern Age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204" name="Group 9"/>
          <p:cNvGrpSpPr/>
          <p:nvPr/>
        </p:nvGrpSpPr>
        <p:grpSpPr>
          <a:xfrm>
            <a:off x="5842080" y="6921360"/>
            <a:ext cx="5473800" cy="787320"/>
            <a:chOff x="5842080" y="6921360"/>
            <a:chExt cx="5473800" cy="787320"/>
          </a:xfrm>
        </p:grpSpPr>
        <p:sp>
          <p:nvSpPr>
            <p:cNvPr id="205" name="Rectangle 3"/>
            <p:cNvSpPr/>
            <p:nvPr/>
          </p:nvSpPr>
          <p:spPr>
            <a:xfrm>
              <a:off x="5842080" y="6921360"/>
              <a:ext cx="914400" cy="787320"/>
            </a:xfrm>
            <a:prstGeom prst="rect">
              <a:avLst/>
            </a:prstGeom>
            <a:solidFill>
              <a:srgbClr val="ecbd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06" name="Rectangle 4"/>
            <p:cNvSpPr/>
            <p:nvPr/>
          </p:nvSpPr>
          <p:spPr>
            <a:xfrm>
              <a:off x="6756480" y="6921360"/>
              <a:ext cx="914400" cy="787320"/>
            </a:xfrm>
            <a:prstGeom prst="rect">
              <a:avLst/>
            </a:prstGeom>
            <a:solidFill>
              <a:srgbClr val="fc7e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07" name="Rectangle 5"/>
            <p:cNvSpPr/>
            <p:nvPr/>
          </p:nvSpPr>
          <p:spPr>
            <a:xfrm>
              <a:off x="7670880" y="6921360"/>
              <a:ext cx="914400" cy="78732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8585280" y="6921360"/>
              <a:ext cx="914400" cy="787320"/>
            </a:xfrm>
            <a:prstGeom prst="rect">
              <a:avLst/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9499680" y="6921360"/>
              <a:ext cx="914400" cy="787320"/>
            </a:xfrm>
            <a:prstGeom prst="rect">
              <a:avLst/>
            </a:prstGeom>
            <a:solidFill>
              <a:srgbClr val="d244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10401480" y="6921360"/>
              <a:ext cx="914400" cy="787320"/>
            </a:xfrm>
            <a:prstGeom prst="rect">
              <a:avLst/>
            </a:prstGeom>
            <a:solidFill>
              <a:srgbClr val="fdb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211" name="Rectangle 10"/>
          <p:cNvSpPr/>
          <p:nvPr/>
        </p:nvSpPr>
        <p:spPr>
          <a:xfrm>
            <a:off x="2044800" y="4089240"/>
            <a:ext cx="121507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TNANK YOU!</a:t>
            </a:r>
            <a:endParaRPr b="0" lang="en-US" sz="4400" spc="-1" strike="noStrike">
              <a:solidFill>
                <a:srgbClr val="595959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2" name="Line 11"/>
          <p:cNvSpPr/>
          <p:nvPr/>
        </p:nvSpPr>
        <p:spPr>
          <a:xfrm flipV="1">
            <a:off x="1727280" y="3634920"/>
            <a:ext cx="12793680" cy="9720"/>
          </a:xfrm>
          <a:prstGeom prst="line">
            <a:avLst/>
          </a:prstGeom>
          <a:ln w="25560">
            <a:solidFill>
              <a:srgbClr val="cfcfc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3" name="Line 12"/>
          <p:cNvSpPr/>
          <p:nvPr/>
        </p:nvSpPr>
        <p:spPr>
          <a:xfrm flipV="1">
            <a:off x="1828800" y="5219640"/>
            <a:ext cx="12793680" cy="7920"/>
          </a:xfrm>
          <a:prstGeom prst="line">
            <a:avLst/>
          </a:prstGeom>
          <a:ln w="25560">
            <a:solidFill>
              <a:srgbClr val="cfcfc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astas Mano</cp:lastModifiedBy>
  <dcterms:modified xsi:type="dcterms:W3CDTF">2019-12-05T05:39:18Z</dcterms:modified>
  <cp:revision>2</cp:revision>
  <dc:subject/>
  <dc:title>PowerPoint Presentation</dc:title>
</cp:coreProperties>
</file>