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keynotetemplate.com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-203040"/>
            <a:ext cx="16281360" cy="9347040"/>
          </a:xfrm>
          <a:prstGeom prst="rect">
            <a:avLst/>
          </a:prstGeom>
          <a:gradFill rotWithShape="0">
            <a:gsLst>
              <a:gs pos="0">
                <a:srgbClr val="f5fafd"/>
              </a:gs>
              <a:gs pos="100000">
                <a:srgbClr val="c7c8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50320" y="8702640"/>
            <a:ext cx="37652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isit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mbria"/>
                <a:ea typeface="ＭＳ Ｐゴシック"/>
              </a:rPr>
              <a:t>bestpowerpointtemplates.com</a:t>
            </a: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for more free resources!</a:t>
            </a:r>
            <a:endParaRPr b="0" lang="en-US" sz="12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"/>
          <p:cNvSpPr/>
          <p:nvPr/>
        </p:nvSpPr>
        <p:spPr>
          <a:xfrm>
            <a:off x="438840" y="8702640"/>
            <a:ext cx="37116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isi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mbria"/>
                <a:ea typeface="ＭＳ Ｐゴシック"/>
                <a:hlinkClick r:id="rId2"/>
              </a:rPr>
              <a:t>http://keynotetemplate.com</a:t>
            </a: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for more free resources!</a:t>
            </a:r>
            <a:endParaRPr b="0" lang="en-US" sz="1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9" name="Rectangle 2"/>
          <p:cNvSpPr/>
          <p:nvPr/>
        </p:nvSpPr>
        <p:spPr>
          <a:xfrm>
            <a:off x="0" y="-203040"/>
            <a:ext cx="16281360" cy="9347040"/>
          </a:xfrm>
          <a:prstGeom prst="rect">
            <a:avLst/>
          </a:prstGeom>
          <a:gradFill rotWithShape="0">
            <a:gsLst>
              <a:gs pos="0">
                <a:srgbClr val="f5fafd"/>
              </a:gs>
              <a:gs pos="100000">
                <a:srgbClr val="c7c8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850320" y="8702640"/>
            <a:ext cx="37652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isit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Cambria"/>
                <a:ea typeface="ＭＳ Ｐゴシック"/>
              </a:rPr>
              <a:t>bestpowerpointtemplates.com</a:t>
            </a:r>
            <a:r>
              <a:rPr b="0" lang="en-US" sz="1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for more free resources!</a:t>
            </a:r>
            <a:endParaRPr b="0" lang="en-US" sz="1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indent="5076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indent="88920" algn="ctr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indent="114120" algn="ctr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1"/>
          <p:cNvSpPr/>
          <p:nvPr/>
        </p:nvSpPr>
        <p:spPr>
          <a:xfrm>
            <a:off x="6629400" y="4724280"/>
            <a:ext cx="6470640" cy="11160"/>
          </a:xfrm>
          <a:prstGeom prst="line">
            <a:avLst/>
          </a:prstGeom>
          <a:ln cap="rnd" w="50760">
            <a:solidFill>
              <a:srgbClr val="ecbd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7668000" y="3435480"/>
            <a:ext cx="508284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Law Theme</a:t>
            </a:r>
            <a:endParaRPr b="0" lang="en-US" sz="7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021360" y="4768920"/>
            <a:ext cx="831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Great presentation them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260440" y="1536840"/>
            <a:ext cx="6350040" cy="63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1066680" y="4000680"/>
            <a:ext cx="6807240" cy="2247840"/>
          </a:xfrm>
          <a:prstGeom prst="roundRect">
            <a:avLst>
              <a:gd name="adj" fmla="val 8472"/>
            </a:avLst>
          </a:prstGeom>
          <a:solidFill>
            <a:srgbClr val="fcae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390680" y="4197240"/>
            <a:ext cx="614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, elementum magn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054080" y="6108840"/>
            <a:ext cx="6819840" cy="2387520"/>
          </a:xfrm>
          <a:prstGeom prst="roundRect">
            <a:avLst>
              <a:gd name="adj" fmla="val 7977"/>
            </a:avLst>
          </a:prstGeom>
          <a:solidFill>
            <a:srgbClr val="fc7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258920" y="6524640"/>
            <a:ext cx="614376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, elementum magna. Mauris eleifend, tellus sed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055520" y="5886360"/>
            <a:ext cx="10476000" cy="541440"/>
          </a:xfrm>
          <a:prstGeom prst="rect">
            <a:avLst/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208160" y="5796000"/>
            <a:ext cx="6561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962280" y="590400"/>
            <a:ext cx="7443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Another Data Assessment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077840" y="1501920"/>
            <a:ext cx="141429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paceflights cannot be stopped. This is not the work of any one man or even a group of men. It is a historical process which mankind is carrying out in accordance with the natural laws of human developmen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8280360" y="4000680"/>
            <a:ext cx="712476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026000" y="590400"/>
            <a:ext cx="3871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Lorem Ipsum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077840" y="1501920"/>
            <a:ext cx="1414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069920" y="2479680"/>
            <a:ext cx="141210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cience cuts two ways, of course; its products can be used for both good and evil. But there's no turning back from science. The early warnings about technological dangers also come from science.</a:t>
            </a:r>
            <a:br>
              <a:rPr sz="3200"/>
            </a:b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spcBef>
                <a:spcPts val="1301"/>
              </a:spcBef>
              <a:buClr>
                <a:srgbClr val="595959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o be the first to enter the cosmos, to engage, single-handed, in an unprecedented duel with nature—could one dream of anything more? Houston, Tranquillity Base here. The Eagle has landed. I don't know what you could say about a day in which you have seen four beautiful sunsets.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512640" y="3048120"/>
            <a:ext cx="5077080" cy="2506680"/>
          </a:xfrm>
          <a:prstGeom prst="rect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12640" y="3051000"/>
            <a:ext cx="5077080" cy="54000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25600" y="2976480"/>
            <a:ext cx="5075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66720" y="3711600"/>
            <a:ext cx="48243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6520" y="5548320"/>
            <a:ext cx="5089320" cy="2506680"/>
          </a:xfrm>
          <a:prstGeom prst="rect">
            <a:avLst/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506520" y="5538960"/>
            <a:ext cx="5089320" cy="53964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20560" y="5477040"/>
            <a:ext cx="5073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38360" y="6221520"/>
            <a:ext cx="46465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Istique mattis felis, quis finibus quam venenatis quis. Suspendisse blandit lorem hendrerit, bibendum metus quis, elementum magn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10665000" y="3048120"/>
            <a:ext cx="5076720" cy="2506680"/>
          </a:xfrm>
          <a:prstGeom prst="rect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0665000" y="3051000"/>
            <a:ext cx="5076720" cy="54000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10679040" y="2976480"/>
            <a:ext cx="5073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0820520" y="3711600"/>
            <a:ext cx="48225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Suspendisse blandit lorem hendrerit, bibendum metus quis, elementum magna. Mauris eleifend, tellus sed facilisis hendrerit, lac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10658520" y="5548320"/>
            <a:ext cx="5089320" cy="2506680"/>
          </a:xfrm>
          <a:prstGeom prst="rect">
            <a:avLst/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10658520" y="5538960"/>
            <a:ext cx="5089320" cy="539640"/>
          </a:xfrm>
          <a:prstGeom prst="rect">
            <a:avLst/>
          </a:prstGeom>
          <a:solidFill>
            <a:srgbClr val="4752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10672920" y="5477040"/>
            <a:ext cx="5073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10890360" y="6219720"/>
            <a:ext cx="46465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Quam venenatis quis. Suspendisse blandit lorem hendrerit, bibendum metus quis, elementum magna. Mauris eleifend, tellus sed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962280" y="590400"/>
            <a:ext cx="7443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Another Data Assessment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13" name="Picture 19" descr=""/>
          <p:cNvPicPr/>
          <p:nvPr/>
        </p:nvPicPr>
        <p:blipFill>
          <a:blip r:embed="rId1"/>
          <a:srcRect l="17925" t="0" r="8444" b="0"/>
          <a:stretch/>
        </p:blipFill>
        <p:spPr>
          <a:xfrm>
            <a:off x="5575320" y="3048120"/>
            <a:ext cx="509256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3"/>
          <p:cNvGrpSpPr/>
          <p:nvPr/>
        </p:nvGrpSpPr>
        <p:grpSpPr>
          <a:xfrm>
            <a:off x="1182600" y="3773520"/>
            <a:ext cx="3116160" cy="3592440"/>
            <a:chOff x="1182600" y="3773520"/>
            <a:chExt cx="3116160" cy="3592440"/>
          </a:xfrm>
        </p:grpSpPr>
        <p:sp>
          <p:nvSpPr>
            <p:cNvPr id="115" name="Rectangle 1"/>
            <p:cNvSpPr/>
            <p:nvPr/>
          </p:nvSpPr>
          <p:spPr>
            <a:xfrm>
              <a:off x="1191960" y="6937560"/>
              <a:ext cx="3106800" cy="42840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16" name="Picture 2" descr=""/>
            <p:cNvPicPr/>
            <p:nvPr/>
          </p:nvPicPr>
          <p:blipFill>
            <a:blip r:embed="rId1"/>
            <a:srcRect l="12304" t="0" r="12339" b="0"/>
            <a:stretch/>
          </p:blipFill>
          <p:spPr>
            <a:xfrm>
              <a:off x="1182600" y="3773520"/>
              <a:ext cx="3111480" cy="31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Rectangle 4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420920" y="6804000"/>
            <a:ext cx="27302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11694960" y="3772080"/>
            <a:ext cx="3116160" cy="3592440"/>
            <a:chOff x="11694960" y="3772080"/>
            <a:chExt cx="3116160" cy="3592440"/>
          </a:xfrm>
        </p:grpSpPr>
        <p:sp>
          <p:nvSpPr>
            <p:cNvPr id="121" name="Rectangle 7"/>
            <p:cNvSpPr/>
            <p:nvPr/>
          </p:nvSpPr>
          <p:spPr>
            <a:xfrm>
              <a:off x="11704320" y="6936120"/>
              <a:ext cx="3106800" cy="42840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22" name="Picture 8" descr=""/>
            <p:cNvPicPr/>
            <p:nvPr/>
          </p:nvPicPr>
          <p:blipFill>
            <a:blip r:embed="rId2"/>
            <a:srcRect l="16576" t="0" r="16874" b="0"/>
            <a:stretch/>
          </p:blipFill>
          <p:spPr>
            <a:xfrm>
              <a:off x="11694960" y="3772080"/>
              <a:ext cx="3111480" cy="31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Rectangle 10"/>
          <p:cNvSpPr/>
          <p:nvPr/>
        </p:nvSpPr>
        <p:spPr>
          <a:xfrm>
            <a:off x="11937960" y="6804000"/>
            <a:ext cx="2730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2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3"/>
          <a:stretch/>
        </p:blipFill>
        <p:spPr>
          <a:xfrm>
            <a:off x="4952880" y="2590920"/>
            <a:ext cx="6350040" cy="6350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cf3fe">
                <a:alpha val="4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Cool Showcas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077840" y="1501920"/>
            <a:ext cx="140922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re curious people. Look back over history, people have put their lives at stake to go out and explore … We believe in what we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re doing. Now it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s time to go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903400" y="3971880"/>
            <a:ext cx="2908440" cy="3632400"/>
          </a:xfrm>
          <a:custGeom>
            <a:avLst/>
            <a:gdLst>
              <a:gd name="textAreaLeft" fmla="*/ 51840 w 2908440"/>
              <a:gd name="textAreaRight" fmla="*/ 2856600 w 2908440"/>
              <a:gd name="textAreaTop" fmla="*/ 51840 h 3632400"/>
              <a:gd name="textAreaBottom" fmla="*/ 3580560 h 3632400"/>
            </a:gdLst>
            <a:ahLst/>
            <a:rect l="textAreaLeft" t="textAreaTop" r="textAreaRight" b="textAreaBottom"/>
            <a:pathLst>
              <a:path w="21600" h="26976">
                <a:moveTo>
                  <a:pt x="1320" y="0"/>
                </a:moveTo>
                <a:arcTo wR="1320" hR="1320" stAng="16200000" swAng="-5400000"/>
                <a:lnTo>
                  <a:pt x="0" y="25656"/>
                </a:lnTo>
                <a:arcTo wR="1320" hR="1320" stAng="10800000" swAng="-5400000"/>
                <a:lnTo>
                  <a:pt x="20280" y="26976"/>
                </a:lnTo>
                <a:arcTo wR="1320" hR="1320" stAng="5400000" swAng="-5400000"/>
                <a:lnTo>
                  <a:pt x="21600" y="1320"/>
                </a:lnTo>
                <a:arcTo wR="1320" hR="1320" stAng="0" swAng="-5400000"/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709720" y="4367160"/>
            <a:ext cx="328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716200" y="4991040"/>
            <a:ext cx="32846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599160" y="3971880"/>
            <a:ext cx="2908440" cy="3632400"/>
          </a:xfrm>
          <a:custGeom>
            <a:avLst/>
            <a:gdLst>
              <a:gd name="textAreaLeft" fmla="*/ 51840 w 2908440"/>
              <a:gd name="textAreaRight" fmla="*/ 2856600 w 2908440"/>
              <a:gd name="textAreaTop" fmla="*/ 51840 h 3632400"/>
              <a:gd name="textAreaBottom" fmla="*/ 3580560 h 3632400"/>
            </a:gdLst>
            <a:ahLst/>
            <a:rect l="textAreaLeft" t="textAreaTop" r="textAreaRight" b="textAreaBottom"/>
            <a:pathLst>
              <a:path w="21600" h="26976">
                <a:moveTo>
                  <a:pt x="1320" y="0"/>
                </a:moveTo>
                <a:arcTo wR="1320" hR="1320" stAng="16200000" swAng="-5400000"/>
                <a:lnTo>
                  <a:pt x="0" y="25656"/>
                </a:lnTo>
                <a:arcTo wR="1320" hR="1320" stAng="10800000" swAng="-5400000"/>
                <a:lnTo>
                  <a:pt x="20280" y="26976"/>
                </a:lnTo>
                <a:arcTo wR="1320" hR="1320" stAng="5400000" swAng="-5400000"/>
                <a:lnTo>
                  <a:pt x="21600" y="1320"/>
                </a:lnTo>
                <a:arcTo wR="1320" hR="1320" stAng="0" swAng="-5400000"/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365880" y="4367160"/>
            <a:ext cx="3284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6373800" y="4991040"/>
            <a:ext cx="32828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463840" y="3581280"/>
            <a:ext cx="863640" cy="876600"/>
          </a:xfrm>
          <a:prstGeom prst="ellipse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6235560" y="3581280"/>
            <a:ext cx="863640" cy="876600"/>
          </a:xfrm>
          <a:prstGeom prst="ellipse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800800" y="3670200"/>
            <a:ext cx="185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1</a:t>
            </a:r>
            <a:endParaRPr b="0" lang="en-US" sz="4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544800" y="3670200"/>
            <a:ext cx="24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2</a:t>
            </a:r>
            <a:endParaRPr b="0" lang="en-US" sz="4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0296360" y="3962520"/>
            <a:ext cx="2908440" cy="3632040"/>
          </a:xfrm>
          <a:custGeom>
            <a:avLst/>
            <a:gdLst>
              <a:gd name="textAreaLeft" fmla="*/ 51840 w 2908440"/>
              <a:gd name="textAreaRight" fmla="*/ 2856600 w 2908440"/>
              <a:gd name="textAreaTop" fmla="*/ 51840 h 3632040"/>
              <a:gd name="textAreaBottom" fmla="*/ 3580200 h 3632040"/>
            </a:gdLst>
            <a:ahLst/>
            <a:rect l="textAreaLeft" t="textAreaTop" r="textAreaRight" b="textAreaBottom"/>
            <a:pathLst>
              <a:path w="21600" h="26973">
                <a:moveTo>
                  <a:pt x="1320" y="0"/>
                </a:moveTo>
                <a:arcTo wR="1320" hR="1320" stAng="16200000" swAng="-5400000"/>
                <a:lnTo>
                  <a:pt x="0" y="25653"/>
                </a:lnTo>
                <a:arcTo wR="1320" hR="1320" stAng="10800000" swAng="-5400000"/>
                <a:lnTo>
                  <a:pt x="20280" y="26973"/>
                </a:lnTo>
                <a:arcTo wR="1320" hR="1320" stAng="5400000" swAng="-5400000"/>
                <a:lnTo>
                  <a:pt x="21600" y="1320"/>
                </a:lnTo>
                <a:arcTo wR="1320" hR="1320" stAng="0" swAng="-5400000"/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10109160" y="435600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0121760" y="4978440"/>
            <a:ext cx="3283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0" name="Oval 16"/>
          <p:cNvSpPr/>
          <p:nvPr/>
        </p:nvSpPr>
        <p:spPr>
          <a:xfrm>
            <a:off x="9931320" y="3568680"/>
            <a:ext cx="863640" cy="876240"/>
          </a:xfrm>
          <a:prstGeom prst="ellipse">
            <a:avLst/>
          </a:prstGeom>
          <a:solidFill>
            <a:srgbClr val="7c93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10243080" y="3657600"/>
            <a:ext cx="23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3</a:t>
            </a:r>
            <a:endParaRPr b="0" lang="en-US" sz="40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42" name="Picture 18" descr=""/>
          <p:cNvPicPr/>
          <p:nvPr/>
        </p:nvPicPr>
        <p:blipFill>
          <a:blip r:embed="rId1"/>
          <a:stretch/>
        </p:blipFill>
        <p:spPr>
          <a:xfrm>
            <a:off x="11150640" y="673092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"/>
          <p:cNvPicPr/>
          <p:nvPr/>
        </p:nvPicPr>
        <p:blipFill>
          <a:blip r:embed="rId2"/>
          <a:stretch/>
        </p:blipFill>
        <p:spPr>
          <a:xfrm>
            <a:off x="3619440" y="673092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0" descr=""/>
          <p:cNvPicPr/>
          <p:nvPr/>
        </p:nvPicPr>
        <p:blipFill>
          <a:blip r:embed="rId3"/>
          <a:stretch/>
        </p:blipFill>
        <p:spPr>
          <a:xfrm>
            <a:off x="7315200" y="673092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3646440" y="2940120"/>
            <a:ext cx="541836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Phasellus eget dolor eu lacus imperdiet lacinia. Nunc tincidunt semper odio ac tempus. Vivamus finibus in finib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6" name="Line 2"/>
          <p:cNvSpPr/>
          <p:nvPr/>
        </p:nvSpPr>
        <p:spPr>
          <a:xfrm flipV="1">
            <a:off x="1206360" y="5335560"/>
            <a:ext cx="10134720" cy="36720"/>
          </a:xfrm>
          <a:prstGeom prst="line">
            <a:avLst/>
          </a:prstGeom>
          <a:ln w="25560">
            <a:solidFill>
              <a:srgbClr val="b5b5b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726000" y="5640480"/>
            <a:ext cx="548136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Italic"/>
                <a:ea typeface="ＭＳ Ｐゴシック"/>
              </a:rPr>
              <a:t>Phasellus eget dolor eu lacus imperdiet lacinia. Nunc tincidunt semper odio ac tempus. Vivamus finibus eu metus in finibu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Cool Showcase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9982080" y="2895480"/>
            <a:ext cx="4699080" cy="4711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1077840" y="1501920"/>
            <a:ext cx="14092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Cambria"/>
              </a:rPr>
              <a:t>re curious people.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409760" y="593100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3"/>
          <a:stretch/>
        </p:blipFill>
        <p:spPr>
          <a:xfrm>
            <a:off x="1409760" y="3162240"/>
            <a:ext cx="1625400" cy="16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1"/>
          <p:cNvSpPr/>
          <p:nvPr/>
        </p:nvSpPr>
        <p:spPr>
          <a:xfrm>
            <a:off x="1116000" y="4243320"/>
            <a:ext cx="11379240" cy="623880"/>
          </a:xfrm>
          <a:prstGeom prst="rightArrow">
            <a:avLst>
              <a:gd name="adj1" fmla="val 100000"/>
              <a:gd name="adj2" fmla="val 55901"/>
            </a:avLst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4" name="AutoShape 2"/>
          <p:cNvSpPr/>
          <p:nvPr/>
        </p:nvSpPr>
        <p:spPr>
          <a:xfrm>
            <a:off x="1117440" y="3384720"/>
            <a:ext cx="12300120" cy="623880"/>
          </a:xfrm>
          <a:prstGeom prst="rightArrow">
            <a:avLst>
              <a:gd name="adj1" fmla="val 100000"/>
              <a:gd name="adj2" fmla="val 55861"/>
            </a:avLst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7440" y="5102280"/>
            <a:ext cx="13303440" cy="623880"/>
          </a:xfrm>
          <a:prstGeom prst="rightArrow">
            <a:avLst>
              <a:gd name="adj1" fmla="val 100000"/>
              <a:gd name="adj2" fmla="val 60516"/>
            </a:avLst>
          </a:prstGeom>
          <a:solidFill>
            <a:srgbClr val="fdb0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76320" y="3468600"/>
            <a:ext cx="10026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876320" y="4321080"/>
            <a:ext cx="10026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2. Suspendisse hendrerit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876320" y="5219640"/>
            <a:ext cx="10077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3. Suspendisse hendrerit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1128600" y="6764400"/>
            <a:ext cx="11379240" cy="623880"/>
          </a:xfrm>
          <a:prstGeom prst="rightArrow">
            <a:avLst>
              <a:gd name="adj1" fmla="val 100000"/>
              <a:gd name="adj2" fmla="val 55901"/>
            </a:avLst>
          </a:prstGeom>
          <a:solidFill>
            <a:srgbClr val="ecbd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1130400" y="5905440"/>
            <a:ext cx="12299760" cy="623880"/>
          </a:xfrm>
          <a:prstGeom prst="rightArrow">
            <a:avLst>
              <a:gd name="adj1" fmla="val 100000"/>
              <a:gd name="adj2" fmla="val 55859"/>
            </a:avLst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1130400" y="7623000"/>
            <a:ext cx="13303080" cy="624240"/>
          </a:xfrm>
          <a:prstGeom prst="rightArrow">
            <a:avLst>
              <a:gd name="adj1" fmla="val 100000"/>
              <a:gd name="adj2" fmla="val 60479"/>
            </a:avLst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1876320" y="5991120"/>
            <a:ext cx="8299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4. Suspendisse hendrerit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876320" y="6842160"/>
            <a:ext cx="10077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5. Suspendisse hendrerit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1876320" y="7710480"/>
            <a:ext cx="10204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6. Suspendisse hendrerit fermentum arcu, efficitu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1065960" y="590400"/>
            <a:ext cx="35755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Data Arrow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1077840" y="149868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Our greatest fear should not be of failure but of succeeding at things in life that don't really matter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044800" y="129528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Visit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9ab737"/>
                </a:solidFill>
                <a:latin typeface="Lora Bold"/>
                <a:ea typeface="ＭＳ Ｐゴシック"/>
              </a:rPr>
              <a:t>bestpowerpointtemplates.com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for more </a:t>
            </a:r>
            <a:r>
              <a:rPr b="0" lang="en-US" sz="4800" spc="-1" strike="noStrike">
                <a:solidFill>
                  <a:srgbClr val="fa8c31"/>
                </a:solidFill>
                <a:latin typeface="Lora Bold"/>
                <a:ea typeface="ＭＳ Ｐゴシック"/>
              </a:rPr>
              <a:t>free</a:t>
            </a:r>
            <a:r>
              <a:rPr b="0" lang="en-US" sz="48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 resources!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603800" y="6032520"/>
            <a:ext cx="130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Cambria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Siz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1280x720</a:t>
            </a:r>
            <a:r>
              <a:rPr b="0" lang="en-US" sz="3600" spc="-1" strike="noStrike">
                <a:solidFill>
                  <a:srgbClr val="595959"/>
                </a:solidFill>
                <a:latin typeface="Cambria"/>
                <a:ea typeface="ＭＳ Ｐゴシック"/>
              </a:rPr>
              <a:t> | Color Scheme: </a:t>
            </a:r>
            <a:r>
              <a:rPr b="0" lang="en-US" sz="3600" spc="-1" strike="noStrike">
                <a:solidFill>
                  <a:srgbClr val="595959"/>
                </a:solidFill>
                <a:latin typeface="Cambria Bold"/>
                <a:ea typeface="ＭＳ Ｐゴシック"/>
              </a:rPr>
              <a:t>Modern Age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69" name="Group 9"/>
          <p:cNvGrpSpPr/>
          <p:nvPr/>
        </p:nvGrpSpPr>
        <p:grpSpPr>
          <a:xfrm>
            <a:off x="5842080" y="6921360"/>
            <a:ext cx="5473800" cy="787320"/>
            <a:chOff x="5842080" y="6921360"/>
            <a:chExt cx="5473800" cy="787320"/>
          </a:xfrm>
        </p:grpSpPr>
        <p:sp>
          <p:nvSpPr>
            <p:cNvPr id="170" name="Rectangle 3"/>
            <p:cNvSpPr/>
            <p:nvPr/>
          </p:nvSpPr>
          <p:spPr>
            <a:xfrm>
              <a:off x="5842080" y="6921360"/>
              <a:ext cx="914400" cy="787320"/>
            </a:xfrm>
            <a:prstGeom prst="rect">
              <a:avLst/>
            </a:prstGeom>
            <a:solidFill>
              <a:srgbClr val="ecbd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>
              <a:off x="6756480" y="6921360"/>
              <a:ext cx="914400" cy="787320"/>
            </a:xfrm>
            <a:prstGeom prst="rect">
              <a:avLst/>
            </a:prstGeom>
            <a:solidFill>
              <a:srgbClr val="fc7e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7670880" y="6921360"/>
              <a:ext cx="914400" cy="787320"/>
            </a:xfrm>
            <a:prstGeom prst="rect">
              <a:avLst/>
            </a:prstGeom>
            <a:solidFill>
              <a:srgbClr val="7c9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8585280" y="6921360"/>
              <a:ext cx="914400" cy="787320"/>
            </a:xfrm>
            <a:prstGeom prst="rect">
              <a:avLst/>
            </a:prstGeom>
            <a:solidFill>
              <a:srgbClr val="47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9499680" y="6921360"/>
              <a:ext cx="914400" cy="787320"/>
            </a:xfrm>
            <a:prstGeom prst="rect">
              <a:avLst/>
            </a:prstGeom>
            <a:solidFill>
              <a:srgbClr val="d24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10401480" y="6921360"/>
              <a:ext cx="914400" cy="787320"/>
            </a:xfrm>
            <a:prstGeom prst="rect">
              <a:avLst/>
            </a:prstGeom>
            <a:solidFill>
              <a:srgbClr val="fdb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76" name="Rectangle 10"/>
          <p:cNvSpPr/>
          <p:nvPr/>
        </p:nvSpPr>
        <p:spPr>
          <a:xfrm>
            <a:off x="2044800" y="4089240"/>
            <a:ext cx="121507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Lora Bold"/>
                <a:ea typeface="ＭＳ Ｐゴシック"/>
              </a:rPr>
              <a:t>TNANK YOU!</a:t>
            </a: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7" name="Line 11"/>
          <p:cNvSpPr/>
          <p:nvPr/>
        </p:nvSpPr>
        <p:spPr>
          <a:xfrm flipV="1">
            <a:off x="1727280" y="3634920"/>
            <a:ext cx="12793680" cy="97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8" name="Line 12"/>
          <p:cNvSpPr/>
          <p:nvPr/>
        </p:nvSpPr>
        <p:spPr>
          <a:xfrm flipV="1">
            <a:off x="1828800" y="5219640"/>
            <a:ext cx="12793680" cy="7920"/>
          </a:xfrm>
          <a:prstGeom prst="line">
            <a:avLst/>
          </a:prstGeom>
          <a:ln w="25560">
            <a:solidFill>
              <a:srgbClr val="cfcfc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9-12-05T05:37:17Z</dcterms:modified>
  <cp:revision>2</cp:revision>
  <dc:subject/>
  <dc:title>PowerPoint Presentation</dc:title>
</cp:coreProperties>
</file>