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002200" y="3498840"/>
            <a:ext cx="62866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hristian Them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002120" y="448956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70280" y="2271600"/>
            <a:ext cx="10591560" cy="705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069920" y="2479680"/>
            <a:ext cx="1412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069920" y="4765680"/>
            <a:ext cx="44690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cience has not yet mastered prophecy. We predict too much for the next year and yet far too little for the next 10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74360" y="4511520"/>
            <a:ext cx="446724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, the final frontier. These are the voyages of the Starship Enterprise. Its five-year mission: to explore strange new worlds, to seek out new life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191280" y="4438800"/>
            <a:ext cx="360684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"/>
          <p:cNvSpPr/>
          <p:nvPr/>
        </p:nvSpPr>
        <p:spPr>
          <a:xfrm>
            <a:off x="8051760" y="3952800"/>
            <a:ext cx="4680" cy="3355920"/>
          </a:xfrm>
          <a:prstGeom prst="line">
            <a:avLst/>
          </a:prstGeom>
          <a:ln w="50760">
            <a:solidFill>
              <a:srgbClr val="ecbd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952880" y="275580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/>
          <p:cNvSpPr/>
          <p:nvPr/>
        </p:nvSpPr>
        <p:spPr>
          <a:xfrm>
            <a:off x="10793520" y="6397560"/>
            <a:ext cx="42847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0788480" y="3382920"/>
            <a:ext cx="42944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0788480" y="3621240"/>
            <a:ext cx="42944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970600" y="3621240"/>
            <a:ext cx="429408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1155600" y="6397560"/>
            <a:ext cx="42865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152360" y="3382920"/>
            <a:ext cx="42926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52360" y="3621240"/>
            <a:ext cx="42926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405080" y="4143240"/>
            <a:ext cx="378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ssa dolor sollicitudin arcu, non ornare magna orci a neque. Etiam tortor mauris, sed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041200" y="4143240"/>
            <a:ext cx="3819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ssa dolor sollicitudin arcu, non ornare magna orci a neque. M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844640" y="3419640"/>
            <a:ext cx="2901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xt 1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6683400" y="3419640"/>
            <a:ext cx="2903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xt 2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1482560" y="3419640"/>
            <a:ext cx="2901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xt 3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870200" y="6443640"/>
            <a:ext cx="290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Believe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1466360" y="6443640"/>
            <a:ext cx="290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Hope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023480" y="590400"/>
            <a:ext cx="3980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pecial Offer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688240" y="2844720"/>
            <a:ext cx="6070680" cy="4686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8915400" y="3073320"/>
            <a:ext cx="25272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Maecenas mattis. Sed convallis tristique sem. Proin ut ligula vel nunc egestas porttitor. Morbi lectus risus, iaculis vel, suscipit quis, luctus non, massa. 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Fusce ac turpis quis ligula lacinia aliquet. Mauris ipsum. Nulla metus metus, ullamcorper vel, tincidunt sed, euismod in, nibh. Quisque volutpat condimentum velit.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Class aptent taciti sociosqu ad litora torquent per conubia nostra, per inceptos 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2103200" y="3073320"/>
            <a:ext cx="25272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Pellentesque nibh. Aenean quam. In scelerisque sem at dolor. Maecenas mattis. Sed convallis tristique sem. 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Proin ut ligula vel nunc egestas porttitor. Morbi lectus risus, iaculis vel, suscipit quis, luctus non, massa. Fusce ac turpis quis ligula lacinia aliquet. Mauris ipsum. 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Nulla metus metus, ullamcorper vel, tincidunt sed, euismod in, nibh. Quisque volutpat condimentum velit. </a:t>
            </a:r>
            <a:endParaRPr b="0" lang="en-US" sz="15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77840" y="3287880"/>
            <a:ext cx="69548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raesent quam justo, tempor ac sollicitudin sed, mattis vel arcu. Proin ac nibh quis metus tristique sagittis vel ac ligula. Phasellus nec dui accumsan, dictum dolor elementum, volutpat turpi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140760" y="7677000"/>
            <a:ext cx="53913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semper odio ac temp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flights cannot be stopped. This is not the work of any one man or even a group of me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781280" y="3440160"/>
            <a:ext cx="32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789200" y="3936960"/>
            <a:ext cx="28162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K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82720" y="639432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89200" y="6891480"/>
            <a:ext cx="26524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Kroin ac nibh quis metus tristique sagittis vel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665080" y="3505320"/>
            <a:ext cx="3282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671200" y="4002120"/>
            <a:ext cx="32623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1658600" y="608976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1666520" y="6586560"/>
            <a:ext cx="32608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039680" y="590400"/>
            <a:ext cx="5895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Information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 believe every human has a finite number of heartbeats. I don't intend to waste any of min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5918040" y="3362400"/>
            <a:ext cx="4403880" cy="4403520"/>
            <a:chOff x="5918040" y="3362400"/>
            <a:chExt cx="4403880" cy="4403520"/>
          </a:xfrm>
        </p:grpSpPr>
        <p:sp>
          <p:nvSpPr>
            <p:cNvPr id="119" name="Oval 11"/>
            <p:cNvSpPr/>
            <p:nvPr/>
          </p:nvSpPr>
          <p:spPr>
            <a:xfrm>
              <a:off x="5918040" y="3362400"/>
              <a:ext cx="4403880" cy="4403520"/>
            </a:xfrm>
            <a:prstGeom prst="ellipse">
              <a:avLst/>
            </a:prstGeom>
            <a:noFill/>
            <a:ln w="2556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9331200" y="6789600"/>
              <a:ext cx="723960" cy="723240"/>
            </a:xfrm>
            <a:prstGeom prst="ellipse">
              <a:avLst/>
            </a:prstGeom>
            <a:solidFill>
              <a:srgbClr val="d04216"/>
            </a:solidFill>
            <a:ln w="9360">
              <a:solidFill>
                <a:srgbClr val="ba1d0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6156000" y="6789600"/>
              <a:ext cx="723960" cy="723240"/>
            </a:xfrm>
            <a:prstGeom prst="ellipse">
              <a:avLst/>
            </a:prstGeom>
            <a:solidFill>
              <a:srgbClr val="fa7c1f"/>
            </a:solidFill>
            <a:ln w="9360">
              <a:solidFill>
                <a:srgbClr val="d0421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9331200" y="3654000"/>
              <a:ext cx="723960" cy="723600"/>
            </a:xfrm>
            <a:prstGeom prst="ellipse">
              <a:avLst/>
            </a:prstGeom>
            <a:solidFill>
              <a:srgbClr val="ebbb27"/>
            </a:solidFill>
            <a:ln w="9360">
              <a:solidFill>
                <a:srgbClr val="fa7c1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6156000" y="3654000"/>
              <a:ext cx="723960" cy="723600"/>
            </a:xfrm>
            <a:prstGeom prst="ellipse">
              <a:avLst/>
            </a:prstGeom>
            <a:solidFill>
              <a:srgbClr val="7c921c"/>
            </a:solidFill>
            <a:ln w="9360">
              <a:solidFill>
                <a:srgbClr val="47511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6548400" y="4039920"/>
              <a:ext cx="3149640" cy="3060360"/>
            </a:xfrm>
            <a:prstGeom prst="ellipse">
              <a:avLst/>
            </a:prstGeom>
            <a:solidFill>
              <a:srgbClr val="ecbd08"/>
            </a:solidFill>
            <a:ln w="114480">
              <a:solidFill>
                <a:srgbClr val="7c9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5" name="Rectangle 18"/>
          <p:cNvSpPr/>
          <p:nvPr/>
        </p:nvSpPr>
        <p:spPr>
          <a:xfrm>
            <a:off x="6463080" y="3708360"/>
            <a:ext cx="262800" cy="54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9650520" y="3708360"/>
            <a:ext cx="262800" cy="54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2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9753480" y="7137360"/>
            <a:ext cx="1603440" cy="0"/>
          </a:xfrm>
          <a:prstGeom prst="line">
            <a:avLst/>
          </a:prstGeom>
          <a:ln w="12600">
            <a:solidFill>
              <a:srgbClr val="d2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463080" y="6858000"/>
            <a:ext cx="262800" cy="54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3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9637920" y="6858000"/>
            <a:ext cx="262800" cy="54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4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0" name="Picture 23" descr=""/>
          <p:cNvPicPr/>
          <p:nvPr/>
        </p:nvPicPr>
        <p:blipFill>
          <a:blip r:embed="rId1"/>
          <a:stretch/>
        </p:blipFill>
        <p:spPr>
          <a:xfrm>
            <a:off x="6661080" y="4149720"/>
            <a:ext cx="2908440" cy="2857680"/>
          </a:xfrm>
          <a:prstGeom prst="rect">
            <a:avLst/>
          </a:prstGeom>
          <a:ln w="0">
            <a:noFill/>
          </a:ln>
        </p:spPr>
      </p:pic>
      <p:sp>
        <p:nvSpPr>
          <p:cNvPr id="131" name="Line 24"/>
          <p:cNvSpPr/>
          <p:nvPr/>
        </p:nvSpPr>
        <p:spPr>
          <a:xfrm>
            <a:off x="4606920" y="4000680"/>
            <a:ext cx="1604880" cy="0"/>
          </a:xfrm>
          <a:prstGeom prst="line">
            <a:avLst/>
          </a:prstGeom>
          <a:ln w="12600">
            <a:solidFill>
              <a:srgbClr val="7c9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9804240" y="3987720"/>
            <a:ext cx="1603440" cy="0"/>
          </a:xfrm>
          <a:prstGeom prst="line">
            <a:avLst/>
          </a:prstGeom>
          <a:ln w="12600">
            <a:solidFill>
              <a:srgbClr val="ecbd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584600" y="7137360"/>
            <a:ext cx="1603440" cy="0"/>
          </a:xfrm>
          <a:prstGeom prst="line">
            <a:avLst/>
          </a:prstGeom>
          <a:ln w="12600">
            <a:solidFill>
              <a:srgbClr val="fc7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"/>
          <p:cNvSpPr/>
          <p:nvPr/>
        </p:nvSpPr>
        <p:spPr>
          <a:xfrm>
            <a:off x="1062000" y="4187880"/>
            <a:ext cx="592200" cy="595080"/>
          </a:xfrm>
          <a:prstGeom prst="ellipse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1219320" y="4516560"/>
            <a:ext cx="13817520" cy="0"/>
          </a:xfrm>
          <a:prstGeom prst="line">
            <a:avLst/>
          </a:prstGeom>
          <a:ln w="38160">
            <a:solidFill>
              <a:srgbClr val="ecbd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14682960" y="4200480"/>
            <a:ext cx="591840" cy="595440"/>
          </a:xfrm>
          <a:prstGeom prst="ellipse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2684520" y="4254480"/>
            <a:ext cx="473040" cy="477720"/>
          </a:xfrm>
          <a:prstGeom prst="ellipse">
            <a:avLst/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398600" y="3114720"/>
            <a:ext cx="3282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02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5875200" y="4270320"/>
            <a:ext cx="474840" cy="477720"/>
          </a:xfrm>
          <a:prstGeom prst="ellipse">
            <a:avLst/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180040" y="3114720"/>
            <a:ext cx="1822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8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7628040" y="4270320"/>
            <a:ext cx="473040" cy="477720"/>
          </a:xfrm>
          <a:prstGeom prst="ellipse">
            <a:avLst/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948360" y="3114720"/>
            <a:ext cx="1822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46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9972720" y="4270320"/>
            <a:ext cx="474480" cy="477720"/>
          </a:xfrm>
          <a:prstGeom prst="ellipse">
            <a:avLst/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9263160" y="3121200"/>
            <a:ext cx="182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72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12939840" y="4254480"/>
            <a:ext cx="474480" cy="476280"/>
          </a:xfrm>
          <a:prstGeom prst="ellipse">
            <a:avLst/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273120" y="3114720"/>
            <a:ext cx="1823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92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077840" y="1495440"/>
            <a:ext cx="140590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079640" y="5648400"/>
            <a:ext cx="140587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550800" y="3048120"/>
            <a:ext cx="507672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5080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63400" y="298764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0488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4468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4468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58720" y="548784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76160" y="6221520"/>
            <a:ext cx="46468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0626840" y="3048120"/>
            <a:ext cx="507672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1062684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640880" y="298764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782360" y="3711600"/>
            <a:ext cx="4822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620360" y="5548320"/>
            <a:ext cx="508968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0620360" y="5538960"/>
            <a:ext cx="508968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0634760" y="5487840"/>
            <a:ext cx="5073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1085220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68" name="Picture 19" descr=""/>
          <p:cNvPicPr/>
          <p:nvPr/>
        </p:nvPicPr>
        <p:blipFill>
          <a:blip r:embed="rId1"/>
          <a:stretch/>
        </p:blipFill>
        <p:spPr>
          <a:xfrm>
            <a:off x="5626080" y="3048120"/>
            <a:ext cx="50040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"/>
          <p:cNvSpPr/>
          <p:nvPr/>
        </p:nvSpPr>
        <p:spPr>
          <a:xfrm>
            <a:off x="-12600" y="4243320"/>
            <a:ext cx="11377440" cy="623880"/>
          </a:xfrm>
          <a:prstGeom prst="rightArrow">
            <a:avLst>
              <a:gd name="adj1" fmla="val 100000"/>
              <a:gd name="adj2" fmla="val 55892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-12600" y="3384720"/>
            <a:ext cx="12299760" cy="623880"/>
          </a:xfrm>
          <a:prstGeom prst="rightArrow">
            <a:avLst>
              <a:gd name="adj1" fmla="val 100000"/>
              <a:gd name="adj2" fmla="val 55859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-50760" y="5102280"/>
            <a:ext cx="13303080" cy="623880"/>
          </a:xfrm>
          <a:prstGeom prst="rightArrow">
            <a:avLst>
              <a:gd name="adj1" fmla="val 100000"/>
              <a:gd name="adj2" fmla="val 60514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33320" y="3468600"/>
            <a:ext cx="1002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733320" y="4321080"/>
            <a:ext cx="10026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2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33320" y="5219640"/>
            <a:ext cx="10077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3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-12600" y="6764400"/>
            <a:ext cx="11377440" cy="623880"/>
          </a:xfrm>
          <a:prstGeom prst="rightArrow">
            <a:avLst>
              <a:gd name="adj1" fmla="val 100000"/>
              <a:gd name="adj2" fmla="val 55892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-12600" y="5905440"/>
            <a:ext cx="12299760" cy="623880"/>
          </a:xfrm>
          <a:prstGeom prst="rightArrow">
            <a:avLst>
              <a:gd name="adj1" fmla="val 100000"/>
              <a:gd name="adj2" fmla="val 55859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-50760" y="7623000"/>
            <a:ext cx="13303080" cy="624240"/>
          </a:xfrm>
          <a:prstGeom prst="rightArrow">
            <a:avLst>
              <a:gd name="adj1" fmla="val 100000"/>
              <a:gd name="adj2" fmla="val 6047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33320" y="5991120"/>
            <a:ext cx="8299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4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733320" y="6842160"/>
            <a:ext cx="10077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5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33320" y="7736040"/>
            <a:ext cx="10204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6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044800" y="1295280"/>
            <a:ext cx="121507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86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92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35:51Z</dcterms:modified>
  <cp:revision>2</cp:revision>
  <dc:subject/>
  <dc:title>PowerPoint Presentation</dc:title>
</cp:coreProperties>
</file>