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399280" y="1758960"/>
            <a:ext cx="54180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Robot Theme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63960" y="274968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372280" y="2741760"/>
            <a:ext cx="5486400" cy="82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512640" y="3048120"/>
            <a:ext cx="5077080" cy="250668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12640" y="3051000"/>
            <a:ext cx="507708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25600" y="2987640"/>
            <a:ext cx="507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66720" y="3711600"/>
            <a:ext cx="48243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06520" y="5548320"/>
            <a:ext cx="5089320" cy="2506680"/>
          </a:xfrm>
          <a:prstGeom prst="rect">
            <a:avLst/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6520" y="5538960"/>
            <a:ext cx="5089320" cy="5396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20560" y="548784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738360" y="6221520"/>
            <a:ext cx="4646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0663200" y="3048120"/>
            <a:ext cx="5079960" cy="500364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0665000" y="3051000"/>
            <a:ext cx="507672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10679040" y="298764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0820520" y="3711600"/>
            <a:ext cx="48225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blandit lorem hendrerit, bibendum metus quis, elementum magna. Mauris eleifend, tellus sed facilisis hendrerit, la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Blandit lorem hendrerit, bibendum metus quis, elementum magna. Mauris eleifend, tellus sed facilisis hendrerit, la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91" name="Picture 15" descr=""/>
          <p:cNvPicPr/>
          <p:nvPr/>
        </p:nvPicPr>
        <p:blipFill>
          <a:blip r:embed="rId1"/>
          <a:srcRect l="16074" t="0" r="16074" b="0"/>
          <a:stretch/>
        </p:blipFill>
        <p:spPr>
          <a:xfrm>
            <a:off x="5575320" y="3048120"/>
            <a:ext cx="5092560" cy="500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104840" y="590400"/>
            <a:ext cx="52898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Hierarchy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711360" y="6781680"/>
            <a:ext cx="14859000" cy="1371600"/>
          </a:xfrm>
          <a:prstGeom prst="roundRect">
            <a:avLst>
              <a:gd name="adj" fmla="val 13889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11360" y="6642000"/>
            <a:ext cx="14859000" cy="47016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106640" y="6516720"/>
            <a:ext cx="5646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888840" y="3984480"/>
            <a:ext cx="6287760" cy="974520"/>
            <a:chOff x="888840" y="3984480"/>
            <a:chExt cx="6287760" cy="974520"/>
          </a:xfrm>
        </p:grpSpPr>
        <p:sp>
          <p:nvSpPr>
            <p:cNvPr id="98" name="AutoShape 6"/>
            <p:cNvSpPr/>
            <p:nvPr/>
          </p:nvSpPr>
          <p:spPr>
            <a:xfrm>
              <a:off x="888840" y="4008240"/>
              <a:ext cx="1476360" cy="94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497" y="0"/>
                  </a:moveTo>
                  <a:lnTo>
                    <a:pt x="9497" y="2423"/>
                  </a:lnTo>
                  <a:lnTo>
                    <a:pt x="8912" y="2423"/>
                  </a:lnTo>
                  <a:lnTo>
                    <a:pt x="8912" y="12015"/>
                  </a:lnTo>
                  <a:lnTo>
                    <a:pt x="8161" y="12015"/>
                  </a:lnTo>
                  <a:lnTo>
                    <a:pt x="8161" y="8943"/>
                  </a:lnTo>
                  <a:lnTo>
                    <a:pt x="7359" y="8943"/>
                  </a:lnTo>
                  <a:lnTo>
                    <a:pt x="7359" y="5760"/>
                  </a:lnTo>
                  <a:lnTo>
                    <a:pt x="4652" y="5760"/>
                  </a:lnTo>
                  <a:lnTo>
                    <a:pt x="4652" y="8943"/>
                  </a:lnTo>
                  <a:lnTo>
                    <a:pt x="4652" y="14361"/>
                  </a:lnTo>
                  <a:lnTo>
                    <a:pt x="3918" y="14361"/>
                  </a:lnTo>
                  <a:lnTo>
                    <a:pt x="3918" y="10561"/>
                  </a:lnTo>
                  <a:lnTo>
                    <a:pt x="1907" y="10561"/>
                  </a:lnTo>
                  <a:lnTo>
                    <a:pt x="1907" y="15385"/>
                  </a:lnTo>
                  <a:lnTo>
                    <a:pt x="940" y="15385"/>
                  </a:lnTo>
                  <a:lnTo>
                    <a:pt x="940" y="17597"/>
                  </a:lnTo>
                  <a:lnTo>
                    <a:pt x="0" y="1759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17597"/>
                  </a:lnTo>
                  <a:lnTo>
                    <a:pt x="20672" y="17597"/>
                  </a:lnTo>
                  <a:lnTo>
                    <a:pt x="20672" y="15385"/>
                  </a:lnTo>
                  <a:lnTo>
                    <a:pt x="19821" y="15385"/>
                  </a:lnTo>
                  <a:lnTo>
                    <a:pt x="19821" y="12015"/>
                  </a:lnTo>
                  <a:lnTo>
                    <a:pt x="19033" y="12015"/>
                  </a:lnTo>
                  <a:lnTo>
                    <a:pt x="19033" y="8191"/>
                  </a:lnTo>
                  <a:lnTo>
                    <a:pt x="16927" y="8191"/>
                  </a:lnTo>
                  <a:lnTo>
                    <a:pt x="16927" y="15803"/>
                  </a:lnTo>
                  <a:lnTo>
                    <a:pt x="16212" y="15803"/>
                  </a:lnTo>
                  <a:lnTo>
                    <a:pt x="16212" y="3677"/>
                  </a:lnTo>
                  <a:lnTo>
                    <a:pt x="13299" y="4969"/>
                  </a:lnTo>
                  <a:lnTo>
                    <a:pt x="13299" y="9566"/>
                  </a:lnTo>
                  <a:lnTo>
                    <a:pt x="12557" y="9566"/>
                  </a:lnTo>
                  <a:lnTo>
                    <a:pt x="12557" y="2423"/>
                  </a:lnTo>
                  <a:lnTo>
                    <a:pt x="11973" y="2423"/>
                  </a:lnTo>
                  <a:lnTo>
                    <a:pt x="11973" y="0"/>
                  </a:lnTo>
                  <a:lnTo>
                    <a:pt x="9497" y="0"/>
                  </a:lnTo>
                  <a:close/>
                  <a:moveTo>
                    <a:pt x="9497" y="0"/>
                  </a:moveTo>
                </a:path>
              </a:pathLst>
            </a:cu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99" name="AutoShape 7"/>
            <p:cNvSpPr/>
            <p:nvPr/>
          </p:nvSpPr>
          <p:spPr>
            <a:xfrm>
              <a:off x="5711040" y="3984480"/>
              <a:ext cx="1465560" cy="9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98" y="0"/>
                  </a:moveTo>
                  <a:cubicBezTo>
                    <a:pt x="3750" y="0"/>
                    <a:pt x="3628" y="176"/>
                    <a:pt x="3621" y="399"/>
                  </a:cubicBezTo>
                  <a:lnTo>
                    <a:pt x="3237" y="13861"/>
                  </a:lnTo>
                  <a:lnTo>
                    <a:pt x="1804" y="13861"/>
                  </a:lnTo>
                  <a:lnTo>
                    <a:pt x="1804" y="18222"/>
                  </a:lnTo>
                  <a:lnTo>
                    <a:pt x="0" y="1822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18222"/>
                  </a:lnTo>
                  <a:lnTo>
                    <a:pt x="19740" y="18222"/>
                  </a:lnTo>
                  <a:lnTo>
                    <a:pt x="19740" y="11465"/>
                  </a:lnTo>
                  <a:lnTo>
                    <a:pt x="18654" y="11465"/>
                  </a:lnTo>
                  <a:lnTo>
                    <a:pt x="18654" y="6253"/>
                  </a:lnTo>
                  <a:lnTo>
                    <a:pt x="15598" y="8796"/>
                  </a:lnTo>
                  <a:lnTo>
                    <a:pt x="15598" y="6253"/>
                  </a:lnTo>
                  <a:lnTo>
                    <a:pt x="12542" y="8796"/>
                  </a:lnTo>
                  <a:lnTo>
                    <a:pt x="12542" y="6253"/>
                  </a:lnTo>
                  <a:lnTo>
                    <a:pt x="8603" y="9530"/>
                  </a:lnTo>
                  <a:lnTo>
                    <a:pt x="8603" y="13861"/>
                  </a:lnTo>
                  <a:lnTo>
                    <a:pt x="7624" y="13861"/>
                  </a:lnTo>
                  <a:lnTo>
                    <a:pt x="7239" y="399"/>
                  </a:lnTo>
                  <a:cubicBezTo>
                    <a:pt x="7233" y="176"/>
                    <a:pt x="7112" y="0"/>
                    <a:pt x="6964" y="0"/>
                  </a:cubicBezTo>
                  <a:lnTo>
                    <a:pt x="6488" y="0"/>
                  </a:lnTo>
                  <a:cubicBezTo>
                    <a:pt x="6340" y="0"/>
                    <a:pt x="6218" y="176"/>
                    <a:pt x="6212" y="399"/>
                  </a:cubicBezTo>
                  <a:lnTo>
                    <a:pt x="5827" y="13861"/>
                  </a:lnTo>
                  <a:lnTo>
                    <a:pt x="5034" y="13861"/>
                  </a:lnTo>
                  <a:lnTo>
                    <a:pt x="4651" y="399"/>
                  </a:lnTo>
                  <a:cubicBezTo>
                    <a:pt x="4644" y="176"/>
                    <a:pt x="4522" y="0"/>
                    <a:pt x="4374" y="0"/>
                  </a:cubicBezTo>
                  <a:lnTo>
                    <a:pt x="3898" y="0"/>
                  </a:lnTo>
                  <a:close/>
                  <a:moveTo>
                    <a:pt x="3898" y="0"/>
                  </a:moveTo>
                </a:path>
              </a:pathLst>
            </a:cu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00" name="Rectangle 9"/>
          <p:cNvSpPr/>
          <p:nvPr/>
        </p:nvSpPr>
        <p:spPr>
          <a:xfrm>
            <a:off x="1106640" y="7215120"/>
            <a:ext cx="130791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ac ligulnean dic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723960" y="4940280"/>
            <a:ext cx="6705720" cy="1371600"/>
          </a:xfrm>
          <a:prstGeom prst="roundRect">
            <a:avLst>
              <a:gd name="adj" fmla="val 13889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104840" y="5065560"/>
            <a:ext cx="59911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dic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8470800" y="3233880"/>
            <a:ext cx="2078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mbria Bold Italic"/>
                <a:ea typeface="ＭＳ Ｐゴシック"/>
              </a:rPr>
              <a:t>Vitae ante.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8466120" y="3728880"/>
            <a:ext cx="2082960" cy="254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4"/>
          <p:cNvSpPr/>
          <p:nvPr/>
        </p:nvSpPr>
        <p:spPr>
          <a:xfrm>
            <a:off x="10656720" y="2852640"/>
            <a:ext cx="207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mbria Bold Italic"/>
                <a:ea typeface="ＭＳ Ｐゴシック"/>
              </a:rPr>
              <a:t>Maecenas ante.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06" name="Picture 15" descr=""/>
          <p:cNvPicPr/>
          <p:nvPr/>
        </p:nvPicPr>
        <p:blipFill>
          <a:blip r:embed="rId2"/>
          <a:stretch/>
        </p:blipFill>
        <p:spPr>
          <a:xfrm>
            <a:off x="10652040" y="3367080"/>
            <a:ext cx="2082960" cy="2540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6"/>
          <p:cNvSpPr/>
          <p:nvPr/>
        </p:nvSpPr>
        <p:spPr>
          <a:xfrm>
            <a:off x="12843000" y="3233880"/>
            <a:ext cx="20764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mbria Bold Italic"/>
                <a:ea typeface="ＭＳ Ｐゴシック"/>
              </a:rPr>
              <a:t>Vitae ante.</a:t>
            </a:r>
            <a:endParaRPr b="0" lang="en-US" sz="1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08" name="Picture 17" descr=""/>
          <p:cNvPicPr/>
          <p:nvPr/>
        </p:nvPicPr>
        <p:blipFill>
          <a:blip r:embed="rId3"/>
          <a:stretch/>
        </p:blipFill>
        <p:spPr>
          <a:xfrm>
            <a:off x="12830040" y="3749760"/>
            <a:ext cx="2082960" cy="253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"/>
          <p:cNvPicPr/>
          <p:nvPr/>
        </p:nvPicPr>
        <p:blipFill>
          <a:blip r:embed="rId4"/>
          <a:stretch/>
        </p:blipFill>
        <p:spPr>
          <a:xfrm>
            <a:off x="14109840" y="5232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"/>
          <p:cNvPicPr/>
          <p:nvPr/>
        </p:nvPicPr>
        <p:blipFill>
          <a:blip r:embed="rId5"/>
          <a:stretch/>
        </p:blipFill>
        <p:spPr>
          <a:xfrm>
            <a:off x="3225960" y="353052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3"/>
          <p:cNvGrpSpPr/>
          <p:nvPr/>
        </p:nvGrpSpPr>
        <p:grpSpPr>
          <a:xfrm>
            <a:off x="1066680" y="3032280"/>
            <a:ext cx="4330440" cy="2501280"/>
            <a:chOff x="1066680" y="3032280"/>
            <a:chExt cx="4330440" cy="2501280"/>
          </a:xfrm>
        </p:grpSpPr>
        <p:sp>
          <p:nvSpPr>
            <p:cNvPr id="112" name="Rectangle 1"/>
            <p:cNvSpPr/>
            <p:nvPr/>
          </p:nvSpPr>
          <p:spPr>
            <a:xfrm>
              <a:off x="1066680" y="3032280"/>
              <a:ext cx="4330440" cy="210780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1066680" y="517500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4" name="Group 6"/>
          <p:cNvGrpSpPr/>
          <p:nvPr/>
        </p:nvGrpSpPr>
        <p:grpSpPr>
          <a:xfrm>
            <a:off x="10890360" y="3029040"/>
            <a:ext cx="4330440" cy="2501280"/>
            <a:chOff x="10890360" y="3029040"/>
            <a:chExt cx="4330440" cy="2501280"/>
          </a:xfrm>
        </p:grpSpPr>
        <p:sp>
          <p:nvSpPr>
            <p:cNvPr id="115" name="Rectangle 4"/>
            <p:cNvSpPr/>
            <p:nvPr/>
          </p:nvSpPr>
          <p:spPr>
            <a:xfrm>
              <a:off x="10890360" y="3029040"/>
              <a:ext cx="4330440" cy="210780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10890360" y="517176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66680" y="5819760"/>
            <a:ext cx="4330800" cy="2501640"/>
            <a:chOff x="1066680" y="5819760"/>
            <a:chExt cx="4330800" cy="2501640"/>
          </a:xfrm>
        </p:grpSpPr>
        <p:sp>
          <p:nvSpPr>
            <p:cNvPr id="118" name="Rectangle 7"/>
            <p:cNvSpPr/>
            <p:nvPr/>
          </p:nvSpPr>
          <p:spPr>
            <a:xfrm>
              <a:off x="1066680" y="5819760"/>
              <a:ext cx="4329000" cy="210816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1066680" y="7962840"/>
              <a:ext cx="433080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20" name="Group 12"/>
          <p:cNvGrpSpPr/>
          <p:nvPr/>
        </p:nvGrpSpPr>
        <p:grpSpPr>
          <a:xfrm>
            <a:off x="10890360" y="5819760"/>
            <a:ext cx="4330440" cy="2501640"/>
            <a:chOff x="10890360" y="5819760"/>
            <a:chExt cx="4330440" cy="2501640"/>
          </a:xfrm>
        </p:grpSpPr>
        <p:sp>
          <p:nvSpPr>
            <p:cNvPr id="121" name="Rectangle 10"/>
            <p:cNvSpPr/>
            <p:nvPr/>
          </p:nvSpPr>
          <p:spPr>
            <a:xfrm>
              <a:off x="10890360" y="5819760"/>
              <a:ext cx="4330440" cy="2108160"/>
            </a:xfrm>
            <a:prstGeom prst="rect">
              <a:avLst/>
            </a:prstGeom>
            <a:solidFill>
              <a:srgbClr val="34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10890360" y="7962840"/>
              <a:ext cx="4330440" cy="35856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23" name="Rectangle 13"/>
          <p:cNvSpPr/>
          <p:nvPr/>
        </p:nvSpPr>
        <p:spPr>
          <a:xfrm>
            <a:off x="1092600" y="590400"/>
            <a:ext cx="250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ortfolio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Dinosaurs are extinct today because they lacked opposable thumbs and the brainpower to build a space program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1328760" y="3224160"/>
            <a:ext cx="38163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Aenean malesuada, arcu non mattis, massa dolor sollicitudin arcu, non ornare magna orci a neque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1148840" y="3224160"/>
            <a:ext cx="38181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Integer tortor risus, tincidunt eu quam vel, pellentesque placerat felis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1324080" y="5945040"/>
            <a:ext cx="3816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Aenean malesuada, arcu non condimentum mattis, massa dolor sollicitudin arcu, non ornare magna orci a neque. Suspendiss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1158560" y="5932440"/>
            <a:ext cx="3816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Integer tortor risus, tincidunt eu quam vel, pellentesque placerat felis. Etiam sollicitudin tortor mauris, sed condiment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29" name="Group 24"/>
          <p:cNvGrpSpPr/>
          <p:nvPr/>
        </p:nvGrpSpPr>
        <p:grpSpPr>
          <a:xfrm>
            <a:off x="4748040" y="4637160"/>
            <a:ext cx="957240" cy="949320"/>
            <a:chOff x="4748040" y="4637160"/>
            <a:chExt cx="957240" cy="949320"/>
          </a:xfrm>
        </p:grpSpPr>
        <p:grpSp>
          <p:nvGrpSpPr>
            <p:cNvPr id="130" name="Group 22"/>
            <p:cNvGrpSpPr/>
            <p:nvPr/>
          </p:nvGrpSpPr>
          <p:grpSpPr>
            <a:xfrm>
              <a:off x="4748040" y="4637160"/>
              <a:ext cx="957240" cy="949320"/>
              <a:chOff x="4748040" y="4637160"/>
              <a:chExt cx="957240" cy="949320"/>
            </a:xfrm>
          </p:grpSpPr>
          <p:sp>
            <p:nvSpPr>
              <p:cNvPr id="131" name="Oval 19"/>
              <p:cNvSpPr/>
              <p:nvPr/>
            </p:nvSpPr>
            <p:spPr>
              <a:xfrm>
                <a:off x="4748040" y="463716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32" name="AutoShape 20"/>
              <p:cNvSpPr/>
              <p:nvPr/>
            </p:nvSpPr>
            <p:spPr>
              <a:xfrm>
                <a:off x="4829040" y="472608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33" name="AutoShape 21"/>
              <p:cNvSpPr/>
              <p:nvPr/>
            </p:nvSpPr>
            <p:spPr>
              <a:xfrm rot="5280000">
                <a:off x="4887720" y="466884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34" name="Rectangle 23"/>
            <p:cNvSpPr/>
            <p:nvPr/>
          </p:nvSpPr>
          <p:spPr>
            <a:xfrm>
              <a:off x="5142240" y="482436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1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35" name="Group 30"/>
          <p:cNvGrpSpPr/>
          <p:nvPr/>
        </p:nvGrpSpPr>
        <p:grpSpPr>
          <a:xfrm>
            <a:off x="14579640" y="4762440"/>
            <a:ext cx="957240" cy="949320"/>
            <a:chOff x="14579640" y="4762440"/>
            <a:chExt cx="957240" cy="949320"/>
          </a:xfrm>
        </p:grpSpPr>
        <p:grpSp>
          <p:nvGrpSpPr>
            <p:cNvPr id="136" name="Group 28"/>
            <p:cNvGrpSpPr/>
            <p:nvPr/>
          </p:nvGrpSpPr>
          <p:grpSpPr>
            <a:xfrm>
              <a:off x="14579640" y="4762440"/>
              <a:ext cx="957240" cy="949320"/>
              <a:chOff x="14579640" y="4762440"/>
              <a:chExt cx="957240" cy="949320"/>
            </a:xfrm>
          </p:grpSpPr>
          <p:sp>
            <p:nvSpPr>
              <p:cNvPr id="137" name="Oval 25"/>
              <p:cNvSpPr/>
              <p:nvPr/>
            </p:nvSpPr>
            <p:spPr>
              <a:xfrm>
                <a:off x="14579640" y="476244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38" name="AutoShape 26"/>
              <p:cNvSpPr/>
              <p:nvPr/>
            </p:nvSpPr>
            <p:spPr>
              <a:xfrm>
                <a:off x="14660640" y="485136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39" name="AutoShape 27"/>
              <p:cNvSpPr/>
              <p:nvPr/>
            </p:nvSpPr>
            <p:spPr>
              <a:xfrm rot="5280000">
                <a:off x="14719320" y="479412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40" name="Rectangle 29"/>
            <p:cNvSpPr/>
            <p:nvPr/>
          </p:nvSpPr>
          <p:spPr>
            <a:xfrm>
              <a:off x="14973840" y="494964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2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41" name="Group 36"/>
          <p:cNvGrpSpPr/>
          <p:nvPr/>
        </p:nvGrpSpPr>
        <p:grpSpPr>
          <a:xfrm>
            <a:off x="4749840" y="7531200"/>
            <a:ext cx="957240" cy="949320"/>
            <a:chOff x="4749840" y="7531200"/>
            <a:chExt cx="957240" cy="949320"/>
          </a:xfrm>
        </p:grpSpPr>
        <p:grpSp>
          <p:nvGrpSpPr>
            <p:cNvPr id="142" name="Group 34"/>
            <p:cNvGrpSpPr/>
            <p:nvPr/>
          </p:nvGrpSpPr>
          <p:grpSpPr>
            <a:xfrm>
              <a:off x="4749840" y="7531200"/>
              <a:ext cx="957240" cy="949320"/>
              <a:chOff x="4749840" y="7531200"/>
              <a:chExt cx="957240" cy="949320"/>
            </a:xfrm>
          </p:grpSpPr>
          <p:sp>
            <p:nvSpPr>
              <p:cNvPr id="143" name="Oval 31"/>
              <p:cNvSpPr/>
              <p:nvPr/>
            </p:nvSpPr>
            <p:spPr>
              <a:xfrm>
                <a:off x="4749840" y="753120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4" name="AutoShape 32"/>
              <p:cNvSpPr/>
              <p:nvPr/>
            </p:nvSpPr>
            <p:spPr>
              <a:xfrm>
                <a:off x="4830840" y="762012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5" name="AutoShape 33"/>
              <p:cNvSpPr/>
              <p:nvPr/>
            </p:nvSpPr>
            <p:spPr>
              <a:xfrm rot="5280000">
                <a:off x="4889520" y="756288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46" name="Rectangle 35"/>
            <p:cNvSpPr/>
            <p:nvPr/>
          </p:nvSpPr>
          <p:spPr>
            <a:xfrm>
              <a:off x="5144040" y="771840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3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47" name="Group 42"/>
          <p:cNvGrpSpPr/>
          <p:nvPr/>
        </p:nvGrpSpPr>
        <p:grpSpPr>
          <a:xfrm>
            <a:off x="14579640" y="7658280"/>
            <a:ext cx="957240" cy="949320"/>
            <a:chOff x="14579640" y="7658280"/>
            <a:chExt cx="957240" cy="949320"/>
          </a:xfrm>
        </p:grpSpPr>
        <p:grpSp>
          <p:nvGrpSpPr>
            <p:cNvPr id="148" name="Group 40"/>
            <p:cNvGrpSpPr/>
            <p:nvPr/>
          </p:nvGrpSpPr>
          <p:grpSpPr>
            <a:xfrm>
              <a:off x="14579640" y="7658280"/>
              <a:ext cx="957240" cy="949320"/>
              <a:chOff x="14579640" y="7658280"/>
              <a:chExt cx="957240" cy="949320"/>
            </a:xfrm>
          </p:grpSpPr>
          <p:sp>
            <p:nvSpPr>
              <p:cNvPr id="149" name="Oval 37"/>
              <p:cNvSpPr/>
              <p:nvPr/>
            </p:nvSpPr>
            <p:spPr>
              <a:xfrm>
                <a:off x="14579640" y="7658280"/>
                <a:ext cx="957240" cy="94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63639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50" name="AutoShape 38"/>
              <p:cNvSpPr/>
              <p:nvPr/>
            </p:nvSpPr>
            <p:spPr>
              <a:xfrm>
                <a:off x="14660640" y="7747200"/>
                <a:ext cx="793800" cy="776160"/>
              </a:xfrm>
              <a:custGeom>
                <a:avLst/>
                <a:gdLst/>
                <a:ahLst/>
                <a:rect l="l" t="t" r="r" b="b"/>
                <a:pathLst>
                  <a:path w="20579" h="20824">
                    <a:moveTo>
                      <a:pt x="11901" y="0"/>
                    </a:moveTo>
                    <a:cubicBezTo>
                      <a:pt x="17513" y="907"/>
                      <a:pt x="21341" y="6274"/>
                      <a:pt x="20451" y="11988"/>
                    </a:cubicBezTo>
                    <a:cubicBezTo>
                      <a:pt x="19560" y="17703"/>
                      <a:pt x="14289" y="21600"/>
                      <a:pt x="8676" y="20693"/>
                    </a:cubicBezTo>
                    <a:cubicBezTo>
                      <a:pt x="3479" y="19854"/>
                      <a:pt x="-259" y="15155"/>
                      <a:pt x="14" y="9804"/>
                    </a:cubicBezTo>
                    <a:lnTo>
                      <a:pt x="11901" y="0"/>
                    </a:lnTo>
                    <a:close/>
                    <a:moveTo>
                      <a:pt x="11901" y="0"/>
                    </a:moveTo>
                  </a:path>
                </a:pathLst>
              </a:custGeom>
              <a:gradFill rotWithShape="0">
                <a:gsLst>
                  <a:gs pos="0">
                    <a:srgbClr val="7ac627"/>
                  </a:gs>
                  <a:gs pos="100000">
                    <a:srgbClr val="4a91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51" name="AutoShape 39"/>
              <p:cNvSpPr/>
              <p:nvPr/>
            </p:nvSpPr>
            <p:spPr>
              <a:xfrm rot="5280000">
                <a:off x="14719320" y="7689960"/>
                <a:ext cx="347760" cy="465120"/>
              </a:xfrm>
              <a:custGeom>
                <a:avLst/>
                <a:gdLst/>
                <a:ahLst/>
                <a:rect l="l" t="t" r="r" b="b"/>
                <a:pathLst>
                  <a:path w="20250" h="21604">
                    <a:moveTo>
                      <a:pt x="0" y="0"/>
                    </a:moveTo>
                    <a:cubicBezTo>
                      <a:pt x="12612" y="1208"/>
                      <a:pt x="21600" y="10321"/>
                      <a:pt x="20074" y="20354"/>
                    </a:cubicBezTo>
                    <a:cubicBezTo>
                      <a:pt x="20011" y="20772"/>
                      <a:pt x="19930" y="21187"/>
                      <a:pt x="19830" y="21600"/>
                    </a:cubicBez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c0e399"/>
                  </a:gs>
                  <a:gs pos="100000">
                    <a:srgbClr val="74b230"/>
                  </a:gs>
                </a:gsLst>
                <a:lin ang="13680000"/>
              </a:gradFill>
              <a:ln w="0">
                <a:noFill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152" name="Rectangle 41"/>
            <p:cNvSpPr/>
            <p:nvPr/>
          </p:nvSpPr>
          <p:spPr>
            <a:xfrm>
              <a:off x="14973840" y="7845480"/>
              <a:ext cx="234000" cy="48780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4</a:t>
              </a:r>
              <a:endParaRPr b="0" lang="en-US" sz="32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pic>
        <p:nvPicPr>
          <p:cNvPr id="153" name="Picture 43" descr=""/>
          <p:cNvPicPr/>
          <p:nvPr/>
        </p:nvPicPr>
        <p:blipFill>
          <a:blip r:embed="rId1"/>
          <a:stretch/>
        </p:blipFill>
        <p:spPr>
          <a:xfrm>
            <a:off x="4851360" y="3213000"/>
            <a:ext cx="6642000" cy="60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"/>
          <p:cNvSpPr/>
          <p:nvPr/>
        </p:nvSpPr>
        <p:spPr>
          <a:xfrm>
            <a:off x="10793520" y="6524640"/>
            <a:ext cx="4284720" cy="709560"/>
          </a:xfrm>
          <a:prstGeom prst="roundRect">
            <a:avLst>
              <a:gd name="adj" fmla="val 7157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10788480" y="3510000"/>
            <a:ext cx="4294440" cy="3192480"/>
          </a:xfrm>
          <a:prstGeom prst="roundRect">
            <a:avLst>
              <a:gd name="adj" fmla="val 198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788480" y="3747960"/>
            <a:ext cx="4294440" cy="44316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5973840" y="6524640"/>
            <a:ext cx="4286160" cy="709560"/>
          </a:xfrm>
          <a:prstGeom prst="roundRect">
            <a:avLst>
              <a:gd name="adj" fmla="val 7157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5970600" y="3510000"/>
            <a:ext cx="4294080" cy="3192480"/>
          </a:xfrm>
          <a:prstGeom prst="roundRect">
            <a:avLst>
              <a:gd name="adj" fmla="val 198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970600" y="3747960"/>
            <a:ext cx="4294080" cy="44316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155600" y="6524640"/>
            <a:ext cx="4286520" cy="709560"/>
          </a:xfrm>
          <a:prstGeom prst="roundRect">
            <a:avLst>
              <a:gd name="adj" fmla="val 7157"/>
            </a:avLst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1152360" y="3510000"/>
            <a:ext cx="4292640" cy="3192480"/>
          </a:xfrm>
          <a:prstGeom prst="roundRect">
            <a:avLst>
              <a:gd name="adj" fmla="val 198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52360" y="3747960"/>
            <a:ext cx="4292640" cy="44316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405080" y="4270320"/>
            <a:ext cx="3787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ssa dolor sollicitudin arcu, non ornare magna orci a neque. Etiam tortor mauris, sed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194520" y="4270320"/>
            <a:ext cx="3846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Etiam sollicitudin tortor mauris, sed condimentum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11041200" y="4270320"/>
            <a:ext cx="3819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ssa dolor sollicitudin arcu, non ornare magna orci a neque. Mondimentum augue lacinia vitae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1844640" y="3564000"/>
            <a:ext cx="2901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mplate 1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6683400" y="3564000"/>
            <a:ext cx="29034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mplate 2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1482560" y="3564000"/>
            <a:ext cx="2901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Template 3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023480" y="590400"/>
            <a:ext cx="3980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pecial Offer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"/>
          <p:cNvGrpSpPr/>
          <p:nvPr/>
        </p:nvGrpSpPr>
        <p:grpSpPr>
          <a:xfrm>
            <a:off x="2797200" y="3289320"/>
            <a:ext cx="1950480" cy="2142720"/>
            <a:chOff x="2797200" y="3289320"/>
            <a:chExt cx="1950480" cy="2142720"/>
          </a:xfrm>
        </p:grpSpPr>
        <p:sp>
          <p:nvSpPr>
            <p:cNvPr id="172" name="Rectangle 1"/>
            <p:cNvSpPr/>
            <p:nvPr/>
          </p:nvSpPr>
          <p:spPr>
            <a:xfrm>
              <a:off x="2797200" y="5263560"/>
              <a:ext cx="1948680" cy="16848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73" name="Picture 2" descr=""/>
            <p:cNvPicPr/>
            <p:nvPr/>
          </p:nvPicPr>
          <p:blipFill>
            <a:blip r:embed="rId1"/>
            <a:stretch/>
          </p:blipFill>
          <p:spPr>
            <a:xfrm>
              <a:off x="2801880" y="3289320"/>
              <a:ext cx="1945800" cy="19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6"/>
          <p:cNvGrpSpPr/>
          <p:nvPr/>
        </p:nvGrpSpPr>
        <p:grpSpPr>
          <a:xfrm>
            <a:off x="4978440" y="3290760"/>
            <a:ext cx="1946160" cy="2139840"/>
            <a:chOff x="4978440" y="3290760"/>
            <a:chExt cx="1946160" cy="2139840"/>
          </a:xfrm>
        </p:grpSpPr>
        <p:sp>
          <p:nvSpPr>
            <p:cNvPr id="175" name="Rectangle 4"/>
            <p:cNvSpPr/>
            <p:nvPr/>
          </p:nvSpPr>
          <p:spPr>
            <a:xfrm>
              <a:off x="4978440" y="5260680"/>
              <a:ext cx="1946160" cy="1699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76" name="Picture 5" descr=""/>
            <p:cNvPicPr/>
            <p:nvPr/>
          </p:nvPicPr>
          <p:blipFill>
            <a:blip r:embed="rId2"/>
            <a:srcRect l="16516" t="0" r="16812" b="0"/>
            <a:stretch/>
          </p:blipFill>
          <p:spPr>
            <a:xfrm>
              <a:off x="4978440" y="3290760"/>
              <a:ext cx="194616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9"/>
          <p:cNvGrpSpPr/>
          <p:nvPr/>
        </p:nvGrpSpPr>
        <p:grpSpPr>
          <a:xfrm>
            <a:off x="7147080" y="3290760"/>
            <a:ext cx="1953720" cy="2139840"/>
            <a:chOff x="7147080" y="3290760"/>
            <a:chExt cx="1953720" cy="2139840"/>
          </a:xfrm>
        </p:grpSpPr>
        <p:sp>
          <p:nvSpPr>
            <p:cNvPr id="178" name="Rectangle 7"/>
            <p:cNvSpPr/>
            <p:nvPr/>
          </p:nvSpPr>
          <p:spPr>
            <a:xfrm>
              <a:off x="7153560" y="5260680"/>
              <a:ext cx="1947240" cy="1699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79" name="Picture 8" descr=""/>
            <p:cNvPicPr/>
            <p:nvPr/>
          </p:nvPicPr>
          <p:blipFill>
            <a:blip r:embed="rId3"/>
            <a:stretch/>
          </p:blipFill>
          <p:spPr>
            <a:xfrm>
              <a:off x="7147080" y="3290760"/>
              <a:ext cx="194436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12"/>
          <p:cNvGrpSpPr/>
          <p:nvPr/>
        </p:nvGrpSpPr>
        <p:grpSpPr>
          <a:xfrm>
            <a:off x="9325080" y="3290760"/>
            <a:ext cx="1949040" cy="2141280"/>
            <a:chOff x="9325080" y="3290760"/>
            <a:chExt cx="1949040" cy="2141280"/>
          </a:xfrm>
        </p:grpSpPr>
        <p:sp>
          <p:nvSpPr>
            <p:cNvPr id="181" name="Rectangle 10"/>
            <p:cNvSpPr/>
            <p:nvPr/>
          </p:nvSpPr>
          <p:spPr>
            <a:xfrm>
              <a:off x="9325080" y="5262120"/>
              <a:ext cx="1949040" cy="1699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82" name="Picture 11" descr=""/>
            <p:cNvPicPr/>
            <p:nvPr/>
          </p:nvPicPr>
          <p:blipFill>
            <a:blip r:embed="rId4"/>
            <a:stretch/>
          </p:blipFill>
          <p:spPr>
            <a:xfrm>
              <a:off x="9328320" y="3290760"/>
              <a:ext cx="1945800" cy="19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Rectangle 13"/>
          <p:cNvSpPr/>
          <p:nvPr/>
        </p:nvSpPr>
        <p:spPr>
          <a:xfrm>
            <a:off x="11495160" y="5267160"/>
            <a:ext cx="1955880" cy="165240"/>
          </a:xfrm>
          <a:prstGeom prst="rect">
            <a:avLst/>
          </a:prstGeom>
          <a:solidFill>
            <a:srgbClr val="8881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069920" y="5929200"/>
            <a:ext cx="1412100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just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ivamus congue felis eget mauris convallis finibus. Duis pulvinar at massa imperdiet finibus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  <a:p>
            <a:pPr algn="just">
              <a:spcBef>
                <a:spcPts val="1301"/>
              </a:spcBef>
              <a:buClr>
                <a:srgbClr val="595959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Lorem ipsum dolor sit amet, consectetur adipiscing elit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  <a:p>
            <a:pPr algn="just">
              <a:spcBef>
                <a:spcPts val="1301"/>
              </a:spcBef>
              <a:buClr>
                <a:srgbClr val="595959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Aliquam a ullamcorper quam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  <a:p>
            <a:pPr algn="just">
              <a:spcBef>
                <a:spcPts val="1301"/>
              </a:spcBef>
              <a:buClr>
                <a:srgbClr val="595959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Nulla scelerisque convallis malesuada. 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86" name="Picture 16" descr=""/>
          <p:cNvPicPr/>
          <p:nvPr/>
        </p:nvPicPr>
        <p:blipFill>
          <a:blip r:embed="rId5"/>
          <a:srcRect l="2679" t="3454" r="38705" b="9188"/>
          <a:stretch/>
        </p:blipFill>
        <p:spPr>
          <a:xfrm>
            <a:off x="11493360" y="3301920"/>
            <a:ext cx="1943280" cy="19303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731960" y="5299200"/>
            <a:ext cx="32846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70</a:t>
            </a:r>
            <a:r>
              <a:rPr b="0" lang="en-US" sz="2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%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744560" y="6568920"/>
            <a:ext cx="328320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489720" y="5300640"/>
            <a:ext cx="3282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90</a:t>
            </a:r>
            <a:r>
              <a:rPr b="0" lang="en-US" sz="2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%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500880" y="6570720"/>
            <a:ext cx="328284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1231640" y="5292720"/>
            <a:ext cx="3282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50</a:t>
            </a:r>
            <a:r>
              <a:rPr b="0" lang="en-US" sz="2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%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1242800" y="6562800"/>
            <a:ext cx="32842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4" name="Line 7"/>
          <p:cNvSpPr/>
          <p:nvPr/>
        </p:nvSpPr>
        <p:spPr>
          <a:xfrm flipV="1">
            <a:off x="5780880" y="3951360"/>
            <a:ext cx="17640" cy="4551120"/>
          </a:xfrm>
          <a:prstGeom prst="line">
            <a:avLst/>
          </a:prstGeom>
          <a:ln w="25560">
            <a:solidFill>
              <a:srgbClr val="7c93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5" name="Line 8"/>
          <p:cNvSpPr/>
          <p:nvPr/>
        </p:nvSpPr>
        <p:spPr>
          <a:xfrm flipV="1">
            <a:off x="10304640" y="3916080"/>
            <a:ext cx="17280" cy="4552920"/>
          </a:xfrm>
          <a:prstGeom prst="line">
            <a:avLst/>
          </a:prstGeom>
          <a:ln w="25560">
            <a:solidFill>
              <a:srgbClr val="7c93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1020600" y="590400"/>
            <a:ext cx="6774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Data Analysis Summar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y mission in life is not merely to survive, but to thrive; and to do so with some passion, some compassion, some humor, and some styl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7213680" y="375912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"/>
          <p:cNvPicPr/>
          <p:nvPr/>
        </p:nvPicPr>
        <p:blipFill>
          <a:blip r:embed="rId2"/>
          <a:stretch/>
        </p:blipFill>
        <p:spPr>
          <a:xfrm>
            <a:off x="2565360" y="3809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"/>
          <p:cNvPicPr/>
          <p:nvPr/>
        </p:nvPicPr>
        <p:blipFill>
          <a:blip r:embed="rId3"/>
          <a:stretch/>
        </p:blipFill>
        <p:spPr>
          <a:xfrm>
            <a:off x="11861640" y="3759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-1498680" y="2259000"/>
            <a:ext cx="8064720" cy="53593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2"/>
          <p:cNvSpPr/>
          <p:nvPr/>
        </p:nvSpPr>
        <p:spPr>
          <a:xfrm>
            <a:off x="2441520" y="5773680"/>
            <a:ext cx="8309160" cy="897120"/>
          </a:xfrm>
          <a:prstGeom prst="rightArrow">
            <a:avLst>
              <a:gd name="adj1" fmla="val 60824"/>
              <a:gd name="adj2" fmla="val 43266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2298600" y="3121200"/>
            <a:ext cx="7507440" cy="898200"/>
          </a:xfrm>
          <a:prstGeom prst="rightArrow">
            <a:avLst>
              <a:gd name="adj1" fmla="val 60824"/>
              <a:gd name="adj2" fmla="val 43185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167360" y="3344760"/>
            <a:ext cx="8299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ambria"/>
                <a:ea typeface="ＭＳ Ｐゴシック"/>
              </a:rPr>
              <a:t>1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3570120" y="3962520"/>
            <a:ext cx="7507440" cy="896760"/>
          </a:xfrm>
          <a:prstGeom prst="rightArrow">
            <a:avLst>
              <a:gd name="adj1" fmla="val 60824"/>
              <a:gd name="adj2" fmla="val 43254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4748040" y="4183200"/>
            <a:ext cx="8301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ambria"/>
                <a:ea typeface="ＭＳ Ｐゴシック"/>
              </a:rPr>
              <a:t>2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503520" y="4859280"/>
            <a:ext cx="8893440" cy="897120"/>
          </a:xfrm>
          <a:prstGeom prst="rightArrow">
            <a:avLst>
              <a:gd name="adj1" fmla="val 60824"/>
              <a:gd name="adj2" fmla="val 43233"/>
            </a:avLst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21320" y="5094360"/>
            <a:ext cx="8300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ambria"/>
                <a:ea typeface="ＭＳ Ｐゴシック"/>
              </a:rPr>
              <a:t>3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4167360" y="6008760"/>
            <a:ext cx="8299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ambria"/>
                <a:ea typeface="ＭＳ Ｐゴシック"/>
              </a:rPr>
              <a:t>4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77840" y="7054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Death is something inevitable. When a man has done what he considers to be his duty to his people and his country, he can rest in peace. I believe I have made that effort and that is, therefore, why I will sleep for the eternity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11" name="Group 15"/>
          <p:cNvGrpSpPr/>
          <p:nvPr/>
        </p:nvGrpSpPr>
        <p:grpSpPr>
          <a:xfrm>
            <a:off x="1128600" y="3216240"/>
            <a:ext cx="3387240" cy="3386880"/>
            <a:chOff x="1128600" y="3216240"/>
            <a:chExt cx="3387240" cy="3386880"/>
          </a:xfrm>
        </p:grpSpPr>
        <p:grpSp>
          <p:nvGrpSpPr>
            <p:cNvPr id="212" name="Group 13"/>
            <p:cNvGrpSpPr/>
            <p:nvPr/>
          </p:nvGrpSpPr>
          <p:grpSpPr>
            <a:xfrm>
              <a:off x="1128600" y="3216240"/>
              <a:ext cx="3387240" cy="3386880"/>
              <a:chOff x="1128600" y="3216240"/>
              <a:chExt cx="3387240" cy="3386880"/>
            </a:xfrm>
          </p:grpSpPr>
          <p:sp>
            <p:nvSpPr>
              <p:cNvPr id="213" name="Oval 11"/>
              <p:cNvSpPr/>
              <p:nvPr/>
            </p:nvSpPr>
            <p:spPr>
              <a:xfrm>
                <a:off x="1128600" y="3216240"/>
                <a:ext cx="3387240" cy="3386880"/>
              </a:xfrm>
              <a:prstGeom prst="ellipse">
                <a:avLst/>
              </a:prstGeom>
              <a:solidFill>
                <a:srgbClr val="7c9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214" name="Oval 12"/>
              <p:cNvSpPr/>
              <p:nvPr/>
            </p:nvSpPr>
            <p:spPr>
              <a:xfrm>
                <a:off x="1542960" y="3620880"/>
                <a:ext cx="2540520" cy="2542320"/>
              </a:xfrm>
              <a:prstGeom prst="ellipse">
                <a:avLst/>
              </a:prstGeom>
              <a:solidFill>
                <a:srgbClr val="cf5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sp>
          <p:nvSpPr>
            <p:cNvPr id="215" name="Oval 14"/>
            <p:cNvSpPr/>
            <p:nvPr/>
          </p:nvSpPr>
          <p:spPr>
            <a:xfrm>
              <a:off x="1454040" y="3540240"/>
              <a:ext cx="2736720" cy="2739240"/>
            </a:xfrm>
            <a:prstGeom prst="ellipse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216" name="Rectangle 16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he regret on our side is, they used to say years ago, we are reading about you in science class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1077840" y="590400"/>
            <a:ext cx="47656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Product Analysi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218" name="Picture 18" descr=""/>
          <p:cNvPicPr/>
          <p:nvPr/>
        </p:nvPicPr>
        <p:blipFill>
          <a:blip r:embed="rId2"/>
          <a:stretch/>
        </p:blipFill>
        <p:spPr>
          <a:xfrm>
            <a:off x="2019240" y="408924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2044800" y="1295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for more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 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603800" y="603252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5842080" y="6921360"/>
            <a:ext cx="5473800" cy="787320"/>
            <a:chOff x="5842080" y="6921360"/>
            <a:chExt cx="5473800" cy="787320"/>
          </a:xfrm>
        </p:grpSpPr>
        <p:sp>
          <p:nvSpPr>
            <p:cNvPr id="222" name="Rectangle 3"/>
            <p:cNvSpPr/>
            <p:nvPr/>
          </p:nvSpPr>
          <p:spPr>
            <a:xfrm>
              <a:off x="5842080" y="692136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6756480" y="692136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7670880" y="692136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8585280" y="692136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9499680" y="692136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10401480" y="692136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228" name="Rectangle 10"/>
          <p:cNvSpPr/>
          <p:nvPr/>
        </p:nvSpPr>
        <p:spPr>
          <a:xfrm>
            <a:off x="2044800" y="4089240"/>
            <a:ext cx="12150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TNANK YOU!</a:t>
            </a: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9" name="Line 11"/>
          <p:cNvSpPr/>
          <p:nvPr/>
        </p:nvSpPr>
        <p:spPr>
          <a:xfrm flipV="1">
            <a:off x="1727280" y="3634920"/>
            <a:ext cx="12793680" cy="97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1828800" y="5219640"/>
            <a:ext cx="12793680" cy="79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27:51Z</dcterms:modified>
  <cp:revision>3</cp:revision>
  <dc:subject/>
  <dc:title>PowerPoint Presentation</dc:title>
</cp:coreProperties>
</file>