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8160" y="-3317760"/>
            <a:ext cx="16332120" cy="1619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-38160" y="-3317760"/>
            <a:ext cx="16332120" cy="1619568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5770080" y="3740040"/>
            <a:ext cx="603684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Lego Template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996160" y="468000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102200" y="3683160"/>
            <a:ext cx="162540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1"/>
          <p:cNvSpPr/>
          <p:nvPr/>
        </p:nvSpPr>
        <p:spPr>
          <a:xfrm flipV="1">
            <a:off x="2879640" y="4813200"/>
            <a:ext cx="10515600" cy="15840"/>
          </a:xfrm>
          <a:prstGeom prst="line">
            <a:avLst/>
          </a:prstGeom>
          <a:ln w="38160">
            <a:solidFill>
              <a:srgbClr val="475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Oval 2"/>
          <p:cNvSpPr/>
          <p:nvPr/>
        </p:nvSpPr>
        <p:spPr>
          <a:xfrm>
            <a:off x="2608200" y="4622760"/>
            <a:ext cx="424080" cy="425520"/>
          </a:xfrm>
          <a:prstGeom prst="ellipse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Oval 3"/>
          <p:cNvSpPr/>
          <p:nvPr/>
        </p:nvSpPr>
        <p:spPr>
          <a:xfrm>
            <a:off x="4416480" y="4616280"/>
            <a:ext cx="423720" cy="427320"/>
          </a:xfrm>
          <a:prstGeom prst="ellipse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Oval 4"/>
          <p:cNvSpPr/>
          <p:nvPr/>
        </p:nvSpPr>
        <p:spPr>
          <a:xfrm>
            <a:off x="13154040" y="4616280"/>
            <a:ext cx="423720" cy="427320"/>
          </a:xfrm>
          <a:prstGeom prst="ellipse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111400" y="3809880"/>
            <a:ext cx="1519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75%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867120" y="3808440"/>
            <a:ext cx="1519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77%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646080" y="3787920"/>
            <a:ext cx="1519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83%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333520" y="5191200"/>
            <a:ext cx="1074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991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4089240" y="5191200"/>
            <a:ext cx="1074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992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2868200" y="5194440"/>
            <a:ext cx="1074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997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6951600" y="3129120"/>
            <a:ext cx="3387600" cy="3387240"/>
            <a:chOff x="6951600" y="3129120"/>
            <a:chExt cx="3387600" cy="3387240"/>
          </a:xfrm>
        </p:grpSpPr>
        <p:sp>
          <p:nvSpPr>
            <p:cNvPr id="90" name="Oval 11"/>
            <p:cNvSpPr/>
            <p:nvPr/>
          </p:nvSpPr>
          <p:spPr>
            <a:xfrm>
              <a:off x="6951600" y="3129120"/>
              <a:ext cx="3387600" cy="3387240"/>
            </a:xfrm>
            <a:prstGeom prst="ellipse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7365960" y="3533760"/>
              <a:ext cx="2540880" cy="2542680"/>
            </a:xfrm>
            <a:prstGeom prst="ellipse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92" name="Rectangle 14"/>
          <p:cNvSpPr/>
          <p:nvPr/>
        </p:nvSpPr>
        <p:spPr>
          <a:xfrm>
            <a:off x="2004840" y="590400"/>
            <a:ext cx="2481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imelin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967040" y="1495440"/>
            <a:ext cx="127378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1968480" y="6918480"/>
            <a:ext cx="125478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95" name="Picture 17" descr=""/>
          <p:cNvPicPr/>
          <p:nvPr/>
        </p:nvPicPr>
        <p:blipFill>
          <a:blip r:embed="rId1"/>
          <a:stretch/>
        </p:blipFill>
        <p:spPr>
          <a:xfrm>
            <a:off x="7835760" y="40258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"/>
          <p:cNvSpPr/>
          <p:nvPr/>
        </p:nvSpPr>
        <p:spPr>
          <a:xfrm>
            <a:off x="3203640" y="5773680"/>
            <a:ext cx="8308800" cy="897120"/>
          </a:xfrm>
          <a:prstGeom prst="rightArrow">
            <a:avLst>
              <a:gd name="adj1" fmla="val 60824"/>
              <a:gd name="adj2" fmla="val 43264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3060720" y="3121200"/>
            <a:ext cx="7507440" cy="898200"/>
          </a:xfrm>
          <a:prstGeom prst="rightArrow">
            <a:avLst>
              <a:gd name="adj1" fmla="val 60824"/>
              <a:gd name="adj2" fmla="val 43185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929120" y="3344760"/>
            <a:ext cx="8299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4332240" y="3962520"/>
            <a:ext cx="7507440" cy="896760"/>
          </a:xfrm>
          <a:prstGeom prst="rightArrow">
            <a:avLst>
              <a:gd name="adj1" fmla="val 60824"/>
              <a:gd name="adj2" fmla="val 43254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510160" y="4183200"/>
            <a:ext cx="8301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2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4265640" y="4859280"/>
            <a:ext cx="8893080" cy="897120"/>
          </a:xfrm>
          <a:prstGeom prst="rightArrow">
            <a:avLst>
              <a:gd name="adj1" fmla="val 60824"/>
              <a:gd name="adj2" fmla="val 43231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383080" y="5094360"/>
            <a:ext cx="8301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3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929120" y="6008760"/>
            <a:ext cx="8299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4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839960" y="7051680"/>
            <a:ext cx="122680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Death is something inevitable. When a man has done what he considers to be his duty to his people and his country, he can rest in peace. I believe I have made that effort and that is, therefore, why I will sleep for the eternity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05" name="Group 14"/>
          <p:cNvGrpSpPr/>
          <p:nvPr/>
        </p:nvGrpSpPr>
        <p:grpSpPr>
          <a:xfrm>
            <a:off x="1890720" y="3216240"/>
            <a:ext cx="3386880" cy="3386880"/>
            <a:chOff x="1890720" y="3216240"/>
            <a:chExt cx="3386880" cy="3386880"/>
          </a:xfrm>
        </p:grpSpPr>
        <p:grpSp>
          <p:nvGrpSpPr>
            <p:cNvPr id="106" name="Group 12"/>
            <p:cNvGrpSpPr/>
            <p:nvPr/>
          </p:nvGrpSpPr>
          <p:grpSpPr>
            <a:xfrm>
              <a:off x="1890720" y="3216240"/>
              <a:ext cx="3386880" cy="3386880"/>
              <a:chOff x="1890720" y="3216240"/>
              <a:chExt cx="3386880" cy="3386880"/>
            </a:xfrm>
          </p:grpSpPr>
          <p:sp>
            <p:nvSpPr>
              <p:cNvPr id="107" name="Oval 10"/>
              <p:cNvSpPr/>
              <p:nvPr/>
            </p:nvSpPr>
            <p:spPr>
              <a:xfrm>
                <a:off x="1890720" y="3216240"/>
                <a:ext cx="3386880" cy="3386880"/>
              </a:xfrm>
              <a:prstGeom prst="ellipse">
                <a:avLst/>
              </a:prstGeom>
              <a:solidFill>
                <a:srgbClr val="7c9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08" name="Oval 11"/>
              <p:cNvSpPr/>
              <p:nvPr/>
            </p:nvSpPr>
            <p:spPr>
              <a:xfrm>
                <a:off x="2305080" y="3620880"/>
                <a:ext cx="2540520" cy="2542320"/>
              </a:xfrm>
              <a:prstGeom prst="ellipse">
                <a:avLst/>
              </a:prstGeom>
              <a:solidFill>
                <a:srgbClr val="cf5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09" name="Oval 13"/>
            <p:cNvSpPr/>
            <p:nvPr/>
          </p:nvSpPr>
          <p:spPr>
            <a:xfrm>
              <a:off x="2216160" y="3540240"/>
              <a:ext cx="2736360" cy="2739240"/>
            </a:xfrm>
            <a:prstGeom prst="ellipse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10" name="Rectangle 15"/>
          <p:cNvSpPr/>
          <p:nvPr/>
        </p:nvSpPr>
        <p:spPr>
          <a:xfrm>
            <a:off x="1839960" y="1498680"/>
            <a:ext cx="124077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he regret on our side is, they used to say years ago, we are reading about you in science class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839960" y="590400"/>
            <a:ext cx="47656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roduct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2451240" y="3809880"/>
            <a:ext cx="2247840" cy="2210040"/>
          </a:xfrm>
          <a:prstGeom prst="ellipse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13" name="Picture 18" descr=""/>
          <p:cNvPicPr/>
          <p:nvPr/>
        </p:nvPicPr>
        <p:blipFill>
          <a:blip r:embed="rId1"/>
          <a:stretch/>
        </p:blipFill>
        <p:spPr>
          <a:xfrm>
            <a:off x="2768760" y="4102200"/>
            <a:ext cx="162540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349360" y="2921040"/>
            <a:ext cx="3251520" cy="6388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6683400" y="4022640"/>
            <a:ext cx="746136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“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Death is something inevitable. When a man has done what he considers to be his duty to his people and his country, he can rest in peace. I believe I have made that effort and that is, therefore, why I will sleep for the eternity.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”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839960" y="1498680"/>
            <a:ext cx="12712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When I orbited the Earth in a spaceship, I saw for the first time how beautiful our planet is. Mankind, let us preserve and increase this beauty, and not destroy it!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839960" y="590400"/>
            <a:ext cx="47656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roduct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"/>
          <p:cNvSpPr/>
          <p:nvPr/>
        </p:nvSpPr>
        <p:spPr>
          <a:xfrm>
            <a:off x="7464600" y="4691160"/>
            <a:ext cx="3747960" cy="761760"/>
          </a:xfrm>
          <a:prstGeom prst="rightArrow">
            <a:avLst>
              <a:gd name="adj1" fmla="val 64991"/>
              <a:gd name="adj2" fmla="val 38746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7464600" y="3710160"/>
            <a:ext cx="3409920" cy="761760"/>
          </a:xfrm>
          <a:prstGeom prst="rightArrow">
            <a:avLst>
              <a:gd name="adj1" fmla="val 64991"/>
              <a:gd name="adj2" fmla="val 38733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7464600" y="4200480"/>
            <a:ext cx="2860560" cy="762120"/>
          </a:xfrm>
          <a:prstGeom prst="rightArrow">
            <a:avLst>
              <a:gd name="adj1" fmla="val 64991"/>
              <a:gd name="adj2" fmla="val 38716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61440" y="3780000"/>
            <a:ext cx="2520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urbo Fas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561440" y="4297320"/>
            <a:ext cx="2939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uper Fas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561440" y="4788000"/>
            <a:ext cx="2939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fe"/>
                </a:solidFill>
                <a:latin typeface="Cambria Bold"/>
                <a:ea typeface="ＭＳ Ｐゴシック"/>
              </a:rPr>
              <a:t>Super Mega Fas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773360" y="7072200"/>
            <a:ext cx="93088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839960" y="590400"/>
            <a:ext cx="47656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roduct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839960" y="1498680"/>
            <a:ext cx="12428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nkind, let us preserve and increase this beauty, and not destroy it!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1892160" y="3187800"/>
            <a:ext cx="5588280" cy="3390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11480760" y="2489040"/>
            <a:ext cx="2857680" cy="615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5"/>
          <p:cNvGrpSpPr/>
          <p:nvPr/>
        </p:nvGrpSpPr>
        <p:grpSpPr>
          <a:xfrm>
            <a:off x="2552760" y="3494160"/>
            <a:ext cx="4368240" cy="4352400"/>
            <a:chOff x="2552760" y="3494160"/>
            <a:chExt cx="4368240" cy="4352400"/>
          </a:xfrm>
        </p:grpSpPr>
        <p:sp>
          <p:nvSpPr>
            <p:cNvPr id="130" name="AutoShape 1"/>
            <p:cNvSpPr/>
            <p:nvPr/>
          </p:nvSpPr>
          <p:spPr>
            <a:xfrm>
              <a:off x="2552760" y="4601160"/>
              <a:ext cx="2153880" cy="2146680"/>
            </a:xfrm>
            <a:prstGeom prst="diamond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31" name="AutoShape 2"/>
            <p:cNvSpPr/>
            <p:nvPr/>
          </p:nvSpPr>
          <p:spPr>
            <a:xfrm>
              <a:off x="4765320" y="4597920"/>
              <a:ext cx="2155680" cy="2144880"/>
            </a:xfrm>
            <a:prstGeom prst="diamond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32" name="AutoShape 3"/>
            <p:cNvSpPr/>
            <p:nvPr/>
          </p:nvSpPr>
          <p:spPr>
            <a:xfrm>
              <a:off x="3661920" y="3494160"/>
              <a:ext cx="2153880" cy="2145240"/>
            </a:xfrm>
            <a:prstGeom prst="diamond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3661920" y="5701680"/>
              <a:ext cx="2153880" cy="2144880"/>
            </a:xfrm>
            <a:prstGeom prst="diamond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34" name="Rectangle 6"/>
          <p:cNvSpPr/>
          <p:nvPr/>
        </p:nvSpPr>
        <p:spPr>
          <a:xfrm>
            <a:off x="7431120" y="2803680"/>
            <a:ext cx="72453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Lorem ipsum dolor sit amet, consectetur adipiscing elit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orta nec imperdiet vel, finibus ut urna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ecenas ut orci vitae magna tempor semper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at ullamcorper felis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1800" y="590400"/>
            <a:ext cx="5895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roduct Information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1839960" y="1498680"/>
            <a:ext cx="124333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 believe every human has a finite number of heartbeats. I don't intend to waste any of min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5"/>
          <p:cNvGrpSpPr/>
          <p:nvPr/>
        </p:nvGrpSpPr>
        <p:grpSpPr>
          <a:xfrm>
            <a:off x="3857760" y="4013280"/>
            <a:ext cx="8750160" cy="5156280"/>
            <a:chOff x="3857760" y="4013280"/>
            <a:chExt cx="8750160" cy="5156280"/>
          </a:xfrm>
        </p:grpSpPr>
        <p:sp>
          <p:nvSpPr>
            <p:cNvPr id="138" name="Rectangle 1"/>
            <p:cNvSpPr/>
            <p:nvPr/>
          </p:nvSpPr>
          <p:spPr>
            <a:xfrm>
              <a:off x="3857760" y="4013280"/>
              <a:ext cx="8750160" cy="128916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39" name="Rectangle 2"/>
            <p:cNvSpPr/>
            <p:nvPr/>
          </p:nvSpPr>
          <p:spPr>
            <a:xfrm>
              <a:off x="3857760" y="5302440"/>
              <a:ext cx="8748720" cy="128880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40" name="Rectangle 3"/>
            <p:cNvSpPr/>
            <p:nvPr/>
          </p:nvSpPr>
          <p:spPr>
            <a:xfrm>
              <a:off x="3857760" y="6591240"/>
              <a:ext cx="8750160" cy="12891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3857760" y="7880400"/>
              <a:ext cx="8750160" cy="128916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4525920" y="4219560"/>
            <a:ext cx="77328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arkness cannot drive out darkness; only light can do that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529160" y="5530680"/>
            <a:ext cx="77328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529160" y="6800760"/>
            <a:ext cx="77342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529160" y="8083440"/>
            <a:ext cx="77342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fe"/>
                </a:solidFill>
                <a:latin typeface="Cambria"/>
                <a:ea typeface="ＭＳ Ｐゴシック"/>
              </a:rPr>
              <a:t>You don't have to be great to start, but you have to start to be great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822320" y="590400"/>
            <a:ext cx="4031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re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83996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y mission in life is not merely to survive, but to thrive; and to do so with some passion, some compassion, some humor, and some styl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1"/>
          <a:stretch/>
        </p:blipFill>
        <p:spPr>
          <a:xfrm>
            <a:off x="4127400" y="28195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2"/>
          <a:stretch/>
        </p:blipFill>
        <p:spPr>
          <a:xfrm>
            <a:off x="10718640" y="281952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>
            <a:off x="9896400" y="5005440"/>
            <a:ext cx="3748320" cy="762120"/>
          </a:xfrm>
          <a:prstGeom prst="rightArrow">
            <a:avLst>
              <a:gd name="adj1" fmla="val 64991"/>
              <a:gd name="adj2" fmla="val 38731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9896400" y="4022640"/>
            <a:ext cx="3409920" cy="762120"/>
          </a:xfrm>
          <a:prstGeom prst="rightArrow">
            <a:avLst>
              <a:gd name="adj1" fmla="val 64991"/>
              <a:gd name="adj2" fmla="val 38715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9896400" y="4514760"/>
            <a:ext cx="2860920" cy="762120"/>
          </a:xfrm>
          <a:prstGeom prst="rightArrow">
            <a:avLst>
              <a:gd name="adj1" fmla="val 64991"/>
              <a:gd name="adj2" fmla="val 38721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AutoShape 4"/>
          <p:cNvSpPr/>
          <p:nvPr/>
        </p:nvSpPr>
        <p:spPr>
          <a:xfrm flipH="1">
            <a:off x="2147760" y="4192560"/>
            <a:ext cx="3748320" cy="762120"/>
          </a:xfrm>
          <a:prstGeom prst="rightArrow">
            <a:avLst>
              <a:gd name="adj1" fmla="val 64991"/>
              <a:gd name="adj2" fmla="val 38731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4" name="AutoShape 5"/>
          <p:cNvSpPr/>
          <p:nvPr/>
        </p:nvSpPr>
        <p:spPr>
          <a:xfrm flipH="1">
            <a:off x="3300480" y="4683240"/>
            <a:ext cx="2595600" cy="761760"/>
          </a:xfrm>
          <a:prstGeom prst="rightArrow">
            <a:avLst>
              <a:gd name="adj1" fmla="val 64991"/>
              <a:gd name="adj2" fmla="val 38727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672000" y="4392720"/>
            <a:ext cx="1784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Nice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25800" y="4870440"/>
            <a:ext cx="1784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uper Easy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0082160" y="4224240"/>
            <a:ext cx="1784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Fast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0336320" y="4713120"/>
            <a:ext cx="2940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Turbo Fast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10590120" y="5218200"/>
            <a:ext cx="2940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uper Mega Fast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773360" y="6953400"/>
            <a:ext cx="1273176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y mission in life is not merely to survive, but to thrive; and to do so with some passion, some compassion, some humor, and some styl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839960" y="1498680"/>
            <a:ext cx="12390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arkness cannot drive out darkness; only light can do that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62" name="Group 18"/>
          <p:cNvGrpSpPr/>
          <p:nvPr/>
        </p:nvGrpSpPr>
        <p:grpSpPr>
          <a:xfrm>
            <a:off x="5253120" y="3559320"/>
            <a:ext cx="5214960" cy="2987280"/>
            <a:chOff x="5253120" y="3559320"/>
            <a:chExt cx="5214960" cy="2987280"/>
          </a:xfrm>
        </p:grpSpPr>
        <p:sp>
          <p:nvSpPr>
            <p:cNvPr id="163" name="AutoShape 13"/>
            <p:cNvSpPr/>
            <p:nvPr/>
          </p:nvSpPr>
          <p:spPr>
            <a:xfrm>
              <a:off x="5821560" y="3559320"/>
              <a:ext cx="4128840" cy="277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0636"/>
                  </a:moveTo>
                  <a:cubicBezTo>
                    <a:pt x="21600" y="21168"/>
                    <a:pt x="21376" y="21600"/>
                    <a:pt x="21108" y="21600"/>
                  </a:cubicBezTo>
                  <a:cubicBezTo>
                    <a:pt x="514" y="21600"/>
                    <a:pt x="514" y="21600"/>
                    <a:pt x="514" y="21600"/>
                  </a:cubicBezTo>
                  <a:cubicBezTo>
                    <a:pt x="224" y="21600"/>
                    <a:pt x="0" y="21168"/>
                    <a:pt x="0" y="20636"/>
                  </a:cubicBezTo>
                  <a:cubicBezTo>
                    <a:pt x="0" y="964"/>
                    <a:pt x="0" y="964"/>
                    <a:pt x="0" y="964"/>
                  </a:cubicBezTo>
                  <a:cubicBezTo>
                    <a:pt x="0" y="432"/>
                    <a:pt x="224" y="0"/>
                    <a:pt x="514" y="0"/>
                  </a:cubicBezTo>
                  <a:cubicBezTo>
                    <a:pt x="21108" y="0"/>
                    <a:pt x="21108" y="0"/>
                    <a:pt x="21108" y="0"/>
                  </a:cubicBezTo>
                  <a:cubicBezTo>
                    <a:pt x="21376" y="0"/>
                    <a:pt x="21600" y="432"/>
                    <a:pt x="21600" y="964"/>
                  </a:cubicBezTo>
                  <a:lnTo>
                    <a:pt x="21600" y="20636"/>
                  </a:lnTo>
                  <a:close/>
                  <a:moveTo>
                    <a:pt x="21600" y="20636"/>
                  </a:moveTo>
                </a:path>
              </a:pathLst>
            </a:cu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6012000" y="3751560"/>
              <a:ext cx="3760560" cy="2314080"/>
            </a:xfrm>
            <a:prstGeom prst="rect">
              <a:avLst/>
            </a:prstGeom>
            <a:solidFill>
              <a:srgbClr val="35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65" name="AutoShape 15"/>
            <p:cNvSpPr/>
            <p:nvPr/>
          </p:nvSpPr>
          <p:spPr>
            <a:xfrm>
              <a:off x="5259600" y="6397200"/>
              <a:ext cx="5197320" cy="149400"/>
            </a:xfrm>
            <a:custGeom>
              <a:avLst/>
              <a:gdLst/>
              <a:ahLst/>
              <a:rect l="l" t="t" r="r" b="b"/>
              <a:pathLst>
                <a:path w="21474" h="21600">
                  <a:moveTo>
                    <a:pt x="7" y="2700"/>
                  </a:moveTo>
                  <a:cubicBezTo>
                    <a:pt x="7" y="2700"/>
                    <a:pt x="-126" y="12825"/>
                    <a:pt x="820" y="21600"/>
                  </a:cubicBezTo>
                  <a:cubicBezTo>
                    <a:pt x="20644" y="21600"/>
                    <a:pt x="20644" y="21600"/>
                    <a:pt x="20644" y="21600"/>
                  </a:cubicBezTo>
                  <a:cubicBezTo>
                    <a:pt x="20644" y="21600"/>
                    <a:pt x="21308" y="19575"/>
                    <a:pt x="21474" y="6750"/>
                  </a:cubicBezTo>
                  <a:cubicBezTo>
                    <a:pt x="21474" y="0"/>
                    <a:pt x="21474" y="0"/>
                    <a:pt x="21474" y="0"/>
                  </a:cubicBezTo>
                  <a:lnTo>
                    <a:pt x="7" y="2700"/>
                  </a:lnTo>
                  <a:close/>
                  <a:moveTo>
                    <a:pt x="7" y="2700"/>
                  </a:moveTo>
                </a:path>
              </a:pathLst>
            </a:custGeom>
            <a:solidFill>
              <a:srgbClr val="5e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66" name="Picture 16" descr=""/>
            <p:cNvPicPr/>
            <p:nvPr/>
          </p:nvPicPr>
          <p:blipFill>
            <a:blip r:embed="rId1"/>
            <a:stretch/>
          </p:blipFill>
          <p:spPr>
            <a:xfrm>
              <a:off x="8244000" y="6256080"/>
              <a:ext cx="3960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7"/>
            <p:cNvSpPr/>
            <p:nvPr/>
          </p:nvSpPr>
          <p:spPr>
            <a:xfrm>
              <a:off x="5253120" y="6206760"/>
              <a:ext cx="5214960" cy="217440"/>
            </a:xfrm>
            <a:prstGeom prst="rect">
              <a:avLst/>
            </a:prstGeom>
            <a:solidFill>
              <a:srgbClr val="9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68" name="Rectangle 19"/>
          <p:cNvSpPr/>
          <p:nvPr/>
        </p:nvSpPr>
        <p:spPr>
          <a:xfrm>
            <a:off x="1804320" y="590400"/>
            <a:ext cx="4194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lan Summar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69" name="Picture 20" descr=""/>
          <p:cNvPicPr/>
          <p:nvPr/>
        </p:nvPicPr>
        <p:blipFill>
          <a:blip r:embed="rId2"/>
          <a:stretch/>
        </p:blipFill>
        <p:spPr>
          <a:xfrm>
            <a:off x="4114800" y="2006640"/>
            <a:ext cx="751824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2044800" y="1295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for more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 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603800" y="603252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5842080" y="6921360"/>
            <a:ext cx="5473800" cy="787320"/>
            <a:chOff x="5842080" y="6921360"/>
            <a:chExt cx="5473800" cy="787320"/>
          </a:xfrm>
        </p:grpSpPr>
        <p:sp>
          <p:nvSpPr>
            <p:cNvPr id="173" name="Rectangle 3"/>
            <p:cNvSpPr/>
            <p:nvPr/>
          </p:nvSpPr>
          <p:spPr>
            <a:xfrm>
              <a:off x="5842080" y="692136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6756480" y="692136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7670880" y="692136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8585280" y="692136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9499680" y="692136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0401480" y="692136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79" name="Rectangle 10"/>
          <p:cNvSpPr/>
          <p:nvPr/>
        </p:nvSpPr>
        <p:spPr>
          <a:xfrm>
            <a:off x="2044800" y="4089240"/>
            <a:ext cx="12150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TNANK YOU!</a:t>
            </a: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Line 11"/>
          <p:cNvSpPr/>
          <p:nvPr/>
        </p:nvSpPr>
        <p:spPr>
          <a:xfrm flipV="1">
            <a:off x="1727280" y="3634920"/>
            <a:ext cx="12793680" cy="97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828800" y="5219640"/>
            <a:ext cx="12793680" cy="79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23:37Z</dcterms:modified>
  <cp:revision>3</cp:revision>
  <dc:subject/>
  <dc:title>PowerPoint Presentation</dc:title>
</cp:coreProperties>
</file>