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1170936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7640" y="5350680"/>
            <a:ext cx="1170936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7760" y="184140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7640" y="535068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7760" y="535068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377028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1841400"/>
            <a:ext cx="377028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5840" y="1841400"/>
            <a:ext cx="377028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7640" y="5350680"/>
            <a:ext cx="377028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350680"/>
            <a:ext cx="377028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5840" y="5350680"/>
            <a:ext cx="377028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47640" y="1841400"/>
            <a:ext cx="1170936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11709360" cy="671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5713920" cy="671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7760" y="1841400"/>
            <a:ext cx="5713920" cy="671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7640" y="12240"/>
            <a:ext cx="11709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7760" y="1841400"/>
            <a:ext cx="5713920" cy="671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7640" y="535068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47640" y="1841400"/>
            <a:ext cx="1170936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5713920" cy="671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7760" y="184140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7760" y="535068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7760" y="184140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640" y="5350680"/>
            <a:ext cx="1170936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1170936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7640" y="5350680"/>
            <a:ext cx="1170936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7760" y="184140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7640" y="535068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7760" y="535068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377028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1841400"/>
            <a:ext cx="377028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5840" y="1841400"/>
            <a:ext cx="377028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47640" y="5350680"/>
            <a:ext cx="377028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350680"/>
            <a:ext cx="377028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5840" y="5350680"/>
            <a:ext cx="377028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11709360" cy="671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5713920" cy="671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7760" y="1841400"/>
            <a:ext cx="5713920" cy="671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47640" y="12240"/>
            <a:ext cx="11709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7760" y="1841400"/>
            <a:ext cx="5713920" cy="671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47640" y="535068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5713920" cy="671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7760" y="184140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7760" y="535068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7760" y="1841400"/>
            <a:ext cx="571392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7640" y="5350680"/>
            <a:ext cx="11709360" cy="320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6311520"/>
            <a:ext cx="9029880" cy="76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7079760"/>
            <a:ext cx="9029880" cy="2374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0000"/>
          </a:bodyPr>
          <a:p>
            <a:pPr marL="205560"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205560" indent="-205560" algn="ctr">
              <a:spcBef>
                <a:spcPts val="1100"/>
              </a:spcBef>
              <a:buClr>
                <a:srgbClr val="ffffff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205560" indent="-205560" algn="ctr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205560" indent="-205560" algn="ctr">
              <a:spcBef>
                <a:spcPts val="1100"/>
              </a:spcBef>
              <a:buClr>
                <a:srgbClr val="ffffff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205560" indent="-205560" algn="ctr">
              <a:spcBef>
                <a:spcPts val="11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205560" indent="-205560" algn="ctr">
              <a:spcBef>
                <a:spcPts val="11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205560" indent="-205560" algn="ctr">
              <a:spcBef>
                <a:spcPts val="11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47640" y="1841400"/>
            <a:ext cx="11709360" cy="671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590400" indent="-285480">
              <a:spcBef>
                <a:spcPts val="11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0720" indent="-22860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447920" indent="-228600">
              <a:spcBef>
                <a:spcPts val="11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905120" indent="-228600">
              <a:spcBef>
                <a:spcPts val="1100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905120" indent="-228600">
              <a:spcBef>
                <a:spcPts val="1100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905120" indent="-228600">
              <a:spcBef>
                <a:spcPts val="1100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3"/>
          <p:cNvGrpSpPr/>
          <p:nvPr/>
        </p:nvGrpSpPr>
        <p:grpSpPr>
          <a:xfrm>
            <a:off x="3327480" y="939960"/>
            <a:ext cx="6350040" cy="6349680"/>
            <a:chOff x="3327480" y="939960"/>
            <a:chExt cx="6350040" cy="6349680"/>
          </a:xfrm>
        </p:grpSpPr>
        <p:sp>
          <p:nvSpPr>
            <p:cNvPr id="77" name="Rectangle 1"/>
            <p:cNvSpPr/>
            <p:nvPr/>
          </p:nvSpPr>
          <p:spPr>
            <a:xfrm>
              <a:off x="4584960" y="3949560"/>
              <a:ext cx="3911400" cy="18792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pic>
          <p:nvPicPr>
            <p:cNvPr id="78" name="Picture 2" descr=""/>
            <p:cNvPicPr/>
            <p:nvPr/>
          </p:nvPicPr>
          <p:blipFill>
            <a:blip r:embed="rId1"/>
            <a:stretch/>
          </p:blipFill>
          <p:spPr>
            <a:xfrm>
              <a:off x="3327480" y="939960"/>
              <a:ext cx="6350040" cy="634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5994000"/>
            <a:ext cx="9029880" cy="76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Georgia"/>
              </a:rPr>
              <a:t>Culture template</a:t>
            </a:r>
            <a:endParaRPr b="1" lang="en-US" sz="5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0720" y="6800400"/>
            <a:ext cx="9029880" cy="2374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nter the subtitle her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716040" y="9347040"/>
            <a:ext cx="262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43434"/>
                </a:solidFill>
                <a:latin typeface="Georgia"/>
                <a:ea typeface="ＭＳ Ｐゴシック"/>
              </a:rPr>
              <a:t>Culture Presentation Design</a:t>
            </a:r>
            <a:endParaRPr b="0" lang="en-US" sz="1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Georgia"/>
              </a:rPr>
              <a:t>Enter your title here</a:t>
            </a: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47280" y="1841400"/>
            <a:ext cx="11480760" cy="3492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urabitur tortor. Pellentesque nibh. Aenean quam. In scelerisque sem at dolor. Maecenas mattis. Sed convallis tristique sem. Proin ut ligula vel nunc egestas porttitor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Morbi lectus risus, iaculis vel, suscipit quis, luctus non, massa. Fusce ac turpis quis ligula lacinia aliquet. Mauris ipsum. Nulla metus metus, ullamcorper vel, tincidunt sed, euismod in, nibh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AutoShape 4"/>
          <p:cNvSpPr/>
          <p:nvPr/>
        </p:nvSpPr>
        <p:spPr>
          <a:xfrm rot="10800000">
            <a:off x="1351080" y="7947000"/>
            <a:ext cx="7912080" cy="952560"/>
          </a:xfrm>
          <a:prstGeom prst="rightArrow">
            <a:avLst>
              <a:gd name="adj1" fmla="val 60824"/>
              <a:gd name="adj2" fmla="val 40723"/>
            </a:avLst>
          </a:prstGeom>
          <a:solidFill>
            <a:srgbClr val="b2b4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AutoShape 5"/>
          <p:cNvSpPr/>
          <p:nvPr/>
        </p:nvSpPr>
        <p:spPr>
          <a:xfrm rot="10800000">
            <a:off x="2909880" y="6918120"/>
            <a:ext cx="6362640" cy="952200"/>
          </a:xfrm>
          <a:prstGeom prst="rightArrow">
            <a:avLst>
              <a:gd name="adj1" fmla="val 60824"/>
              <a:gd name="adj2" fmla="val 40742"/>
            </a:avLst>
          </a:prstGeom>
          <a:solidFill>
            <a:srgbClr val="f2f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AutoShape 6"/>
          <p:cNvSpPr/>
          <p:nvPr/>
        </p:nvSpPr>
        <p:spPr>
          <a:xfrm rot="10800000">
            <a:off x="4751280" y="5877000"/>
            <a:ext cx="4686480" cy="952560"/>
          </a:xfrm>
          <a:prstGeom prst="rightArrow">
            <a:avLst>
              <a:gd name="adj1" fmla="val 60824"/>
              <a:gd name="adj2" fmla="val 40726"/>
            </a:avLst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7074000" y="5105520"/>
            <a:ext cx="5194080" cy="4317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5439960" y="6134040"/>
            <a:ext cx="71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eorgia"/>
                <a:ea typeface="ＭＳ Ｐゴシック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3420720" y="7175520"/>
            <a:ext cx="71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eorgia"/>
                <a:ea typeface="ＭＳ Ｐゴシック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1909440" y="8204040"/>
            <a:ext cx="71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eorgia"/>
                <a:ea typeface="ＭＳ Ｐゴシック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716040" y="9347040"/>
            <a:ext cx="262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43434"/>
                </a:solidFill>
                <a:latin typeface="Georgia"/>
                <a:ea typeface="ＭＳ Ｐゴシック"/>
              </a:rPr>
              <a:t>Culture Presentation Design</a:t>
            </a:r>
            <a:endParaRPr b="0" lang="en-US" sz="1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Georgia"/>
              </a:rPr>
              <a:t>Enter your title here</a:t>
            </a: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11709360" cy="671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Lorem ipsum dolor sit amet, consectetur adipiscing elit. Integer nec odio. Praesent libero. Sed cursus ante dapibus diam. Sed nisi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Nulla quis sem at nibh elementum imperdiet. Duis sagittis ipsum. Praesent mauris. Fusce nec tellus sed augue semper porta. Mauris massa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Vestibulum lacinia arcu eget nulla. Class aptent taciti sociosqu ad litora torquent per conubia nostra, per inceptos himenaeos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urabitur sodales ligula in libero. Sed dignissim lacinia nunc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-2184480" y="4857840"/>
            <a:ext cx="15443280" cy="772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716040" y="9347040"/>
            <a:ext cx="262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43434"/>
                </a:solidFill>
                <a:latin typeface="Georgia"/>
                <a:ea typeface="ＭＳ Ｐゴシック"/>
              </a:rPr>
              <a:t>Culture Presentation Design</a:t>
            </a:r>
            <a:endParaRPr b="0" lang="en-US" sz="1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Georgia"/>
              </a:rPr>
              <a:t>Enter your title here</a:t>
            </a: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11709360" cy="267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aesent libero. Sed cursus ante dapibus diam. Sed nisi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Nulla quis sem at nibh elementum imperdiet. Duis sagittis ipsum. Praesent mauris. Fusce nec tellus sed augue semper porta. Mauris massa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Vestibulum lacinia arcu eget nulla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003320" y="7746840"/>
            <a:ext cx="9372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Nam nec ante. Sed lacinia, urna non tincidunt mattis, tortor neque adipiscing diam, a cursus ipsum ante quis turpis. Nulla facilisi. Ut fringilla. Justo eu magna luctus suscipit. Sed lectus. 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01880" y="4809960"/>
          <a:ext cx="9831240" cy="2686320"/>
        </p:xfrm>
        <a:graphic>
          <a:graphicData uri="http://schemas.openxmlformats.org/drawingml/2006/table">
            <a:tbl>
              <a:tblPr/>
              <a:tblGrid>
                <a:gridCol w="1638000"/>
                <a:gridCol w="1638360"/>
                <a:gridCol w="1639800"/>
                <a:gridCol w="1638360"/>
                <a:gridCol w="1638360"/>
                <a:gridCol w="1638360"/>
              </a:tblGrid>
              <a:tr h="671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Century Gothic"/>
                        </a:rPr>
                        <a:t>Plan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676767"/>
                      </a:solidFill>
                    </a:lnR>
                    <a:lnT w="1440">
                      <a:solidFill>
                        <a:srgbClr val="4d4d4d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343434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Century Gothic"/>
                        </a:rPr>
                        <a:t>Lor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676767"/>
                      </a:solidFill>
                    </a:lnL>
                    <a:lnR w="1440">
                      <a:solidFill>
                        <a:srgbClr val="676767"/>
                      </a:solidFill>
                    </a:lnR>
                    <a:lnT w="1440">
                      <a:solidFill>
                        <a:srgbClr val="676767"/>
                      </a:solidFill>
                    </a:lnT>
                    <a:lnB w="1440">
                      <a:solidFill>
                        <a:srgbClr val="676767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Century Gothic"/>
                        </a:rPr>
                        <a:t>Ips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676767"/>
                      </a:solidFill>
                    </a:lnL>
                    <a:lnR w="1440">
                      <a:solidFill>
                        <a:srgbClr val="676767"/>
                      </a:solidFill>
                    </a:lnR>
                    <a:lnT w="1440">
                      <a:solidFill>
                        <a:srgbClr val="676767"/>
                      </a:solidFill>
                    </a:lnT>
                    <a:lnB w="1440">
                      <a:solidFill>
                        <a:srgbClr val="676767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Century Gothic"/>
                        </a:rPr>
                        <a:t>Morb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676767"/>
                      </a:solidFill>
                    </a:lnL>
                    <a:lnR w="1440">
                      <a:solidFill>
                        <a:srgbClr val="676767"/>
                      </a:solidFill>
                    </a:lnR>
                    <a:lnT w="1440">
                      <a:solidFill>
                        <a:srgbClr val="676767"/>
                      </a:solidFill>
                    </a:lnT>
                    <a:lnB w="1440">
                      <a:solidFill>
                        <a:srgbClr val="676767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Century Gothic"/>
                        </a:rPr>
                        <a:t>Maece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676767"/>
                      </a:solidFill>
                    </a:lnL>
                    <a:lnR w="1440">
                      <a:solidFill>
                        <a:srgbClr val="676767"/>
                      </a:solidFill>
                    </a:lnR>
                    <a:lnT w="1440">
                      <a:solidFill>
                        <a:srgbClr val="676767"/>
                      </a:solidFill>
                    </a:lnT>
                    <a:lnB w="1440">
                      <a:solidFill>
                        <a:srgbClr val="676767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Century Gothic"/>
                        </a:rPr>
                        <a:t>Se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676767"/>
                      </a:solidFill>
                    </a:lnL>
                    <a:lnR w="1440">
                      <a:solidFill>
                        <a:srgbClr val="676767"/>
                      </a:solidFill>
                    </a:lnR>
                    <a:lnT w="1440">
                      <a:solidFill>
                        <a:srgbClr val="676767"/>
                      </a:solidFill>
                    </a:lnT>
                    <a:lnB w="1440">
                      <a:solidFill>
                        <a:srgbClr val="676767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671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4d4d4d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cdcdc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676767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1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676767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676767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676767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676767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71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Feat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4d4d4d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cdcdc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4d4d4d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4d4d4d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4d4d4d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4d4d4d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4d4d4d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71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Extr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4d4d4d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cdcdc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4d4d4d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4d4d4d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unlimi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4d4d4d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4d4d4d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ctr" marL="50760" marR="50760">
                    <a:lnL w="1440">
                      <a:solidFill>
                        <a:srgbClr val="4d4d4d"/>
                      </a:solidFill>
                    </a:lnL>
                    <a:lnR w="1440">
                      <a:solidFill>
                        <a:srgbClr val="4d4d4d"/>
                      </a:solidFill>
                    </a:lnR>
                    <a:lnT w="1440">
                      <a:solidFill>
                        <a:srgbClr val="4d4d4d"/>
                      </a:solidFill>
                    </a:lnT>
                    <a:lnB w="1440">
                      <a:solidFill>
                        <a:srgbClr val="4d4d4d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88" descr=""/>
          <p:cNvPicPr/>
          <p:nvPr/>
        </p:nvPicPr>
        <p:blipFill>
          <a:blip r:embed="rId1"/>
          <a:stretch/>
        </p:blipFill>
        <p:spPr>
          <a:xfrm>
            <a:off x="9893160" y="5181480"/>
            <a:ext cx="8801280" cy="43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7035840" y="3720960"/>
            <a:ext cx="3809880" cy="2857680"/>
          </a:xfrm>
          <a:prstGeom prst="rect">
            <a:avLst/>
          </a:prstGeom>
          <a:ln w="25560">
            <a:solidFill>
              <a:srgbClr val="e7c47f"/>
            </a:solidFill>
            <a:round/>
          </a:ln>
        </p:spPr>
      </p:pic>
      <p:sp>
        <p:nvSpPr>
          <p:cNvPr id="102" name="Rectangle 2"/>
          <p:cNvSpPr/>
          <p:nvPr/>
        </p:nvSpPr>
        <p:spPr>
          <a:xfrm>
            <a:off x="716040" y="9347040"/>
            <a:ext cx="262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43434"/>
                </a:solidFill>
                <a:latin typeface="Georgia"/>
                <a:ea typeface="ＭＳ Ｐゴシック"/>
              </a:rPr>
              <a:t>Culture Presentation Design</a:t>
            </a:r>
            <a:endParaRPr b="0" lang="en-US" sz="1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Georgia"/>
              </a:rPr>
              <a:t>Enter your title here</a:t>
            </a: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1170936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sem at nibh elementum imperdiet. Duis sagittis ipsum. Praesent mauris. Fusce nec tellus sed augue semper porta. Mauris massa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346040" y="3911760"/>
            <a:ext cx="43689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Nam nec ante. Sed lacinia, urna non tincidunt mattis, tortor neque adipiscing diam, a cursus ipsum lectus.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061040" y="7327800"/>
            <a:ext cx="342900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Tincidunt mattis, tortor neque adipiscing diam, a cursus ipsum ante quis turpis. Nulla fsto eu magna luctus suscipit.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333440" y="3492360"/>
            <a:ext cx="3429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Salad lacinia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7074000" y="6921360"/>
            <a:ext cx="3429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Only your choi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2"/>
          <a:stretch/>
        </p:blipFill>
        <p:spPr>
          <a:xfrm>
            <a:off x="1536840" y="4978440"/>
            <a:ext cx="3416040" cy="431784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5"/>
          <p:cNvGrpSpPr/>
          <p:nvPr/>
        </p:nvGrpSpPr>
        <p:grpSpPr>
          <a:xfrm>
            <a:off x="4037040" y="4851360"/>
            <a:ext cx="3157200" cy="2612880"/>
            <a:chOff x="4037040" y="4851360"/>
            <a:chExt cx="3157200" cy="2612880"/>
          </a:xfrm>
        </p:grpSpPr>
        <p:sp>
          <p:nvSpPr>
            <p:cNvPr id="111" name="AutoShape 10"/>
            <p:cNvSpPr/>
            <p:nvPr/>
          </p:nvSpPr>
          <p:spPr>
            <a:xfrm>
              <a:off x="4789800" y="4851360"/>
              <a:ext cx="1118880" cy="1112760"/>
            </a:xfrm>
            <a:prstGeom prst="diamond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 flipH="1">
              <a:off x="5865480" y="5402160"/>
              <a:ext cx="1328760" cy="0"/>
            </a:xfrm>
            <a:prstGeom prst="line">
              <a:avLst/>
            </a:prstGeom>
            <a:ln w="28440">
              <a:solidFill>
                <a:srgbClr val="fdb04b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5070600" y="5092560"/>
              <a:ext cx="56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54360" bIns="5436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1a"/>
                  </a:solidFill>
                  <a:latin typeface="Lora Bold"/>
                  <a:ea typeface="ＭＳ Ｐゴシック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4037040" y="7454880"/>
              <a:ext cx="1328760" cy="1440"/>
            </a:xfrm>
            <a:prstGeom prst="line">
              <a:avLst/>
            </a:prstGeom>
            <a:ln w="28440">
              <a:solidFill>
                <a:srgbClr val="888166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 flipH="1">
              <a:off x="5352840" y="5699160"/>
              <a:ext cx="3240" cy="1765080"/>
            </a:xfrm>
            <a:prstGeom prst="line">
              <a:avLst/>
            </a:prstGeom>
            <a:ln w="28440">
              <a:solidFill>
                <a:srgbClr val="888166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1231920" y="4622760"/>
            <a:ext cx="199404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1549440" y="688356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716040" y="9347040"/>
            <a:ext cx="262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43434"/>
                </a:solidFill>
                <a:latin typeface="Georgia"/>
                <a:ea typeface="ＭＳ Ｐゴシック"/>
              </a:rPr>
              <a:t>Culture Presentation Design</a:t>
            </a:r>
            <a:endParaRPr b="0" lang="en-US" sz="1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Georgia"/>
              </a:rPr>
              <a:t>Enter your title here</a:t>
            </a: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7640" y="1841400"/>
            <a:ext cx="8344080" cy="2362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d cursus ante dapibus diam. Sed nisi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Duis sagittis ipsum. Praesent mauris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usce nec tellus sed augue semper porta. Mauris massa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860640" y="5118120"/>
            <a:ext cx="72266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Nam nec ante. Sed lacinia, urna non tincidunt mattis, tortor neque adipiscing diam, a cursus ipsum ante quis turpis. Nulla facilisi. Ut fringilla. Justo eu magna luctus suscipit. Sed lectus. 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60640" y="4610160"/>
            <a:ext cx="3581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Nam nec ante. 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860640" y="7149960"/>
            <a:ext cx="72266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Nam nec ante. Sed lacinia, urna non tincidunt mattis, tortor neque adipiscing diam, a cursus ipsum ante quis turpis. Nulla facilisi. Ut fringilla. Justo eu magna luctus suscipit. Sed lectus. 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860640" y="6769080"/>
            <a:ext cx="3581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Cofee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3"/>
          <a:stretch/>
        </p:blipFill>
        <p:spPr>
          <a:xfrm>
            <a:off x="9283680" y="220968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7353360" y="3708360"/>
            <a:ext cx="3809880" cy="2844720"/>
          </a:xfrm>
          <a:prstGeom prst="rect">
            <a:avLst/>
          </a:prstGeom>
          <a:ln w="25560">
            <a:solidFill>
              <a:srgbClr val="e7c47f"/>
            </a:solidFill>
            <a:round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1117440" y="3708360"/>
            <a:ext cx="3810240" cy="2844720"/>
          </a:xfrm>
          <a:prstGeom prst="rect">
            <a:avLst/>
          </a:prstGeom>
          <a:ln w="25560">
            <a:solidFill>
              <a:srgbClr val="e7c47f"/>
            </a:solidFill>
            <a:round/>
          </a:ln>
        </p:spPr>
      </p:pic>
      <p:sp>
        <p:nvSpPr>
          <p:cNvPr id="128" name="Rectangle 3"/>
          <p:cNvSpPr/>
          <p:nvPr/>
        </p:nvSpPr>
        <p:spPr>
          <a:xfrm>
            <a:off x="716040" y="9347040"/>
            <a:ext cx="262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43434"/>
                </a:solidFill>
                <a:latin typeface="Georgia"/>
                <a:ea typeface="ＭＳ Ｐゴシック"/>
              </a:rPr>
              <a:t>Culture Presentation Design</a:t>
            </a:r>
            <a:endParaRPr b="0" lang="en-US" sz="1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Georgia"/>
              </a:rPr>
              <a:t>Enter your title here</a:t>
            </a: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7640" y="1841040"/>
            <a:ext cx="11709360" cy="173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raesent mauris. Fusce nec tellus sed augue semper porta. Mauris massa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Lorem ipsum vestibulum lacinia arcu eget nullv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308240" y="7277040"/>
            <a:ext cx="342900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Nam nec ante. Sed lacinia, urna non tincidunt mattis, tortor neque adipiscing diam, a cursus ipsum lectus.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531200" y="7264440"/>
            <a:ext cx="342900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Tincidunt mattis, tortor neque adipiscing diam, a cursus ipsum ante quis turpis. Nulla fsto eu magna luctus suscipit.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295280" y="6858000"/>
            <a:ext cx="3429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Salad lacinia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7543800" y="6858000"/>
            <a:ext cx="3429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Highest quality servi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35" name="Group 14"/>
          <p:cNvGrpSpPr/>
          <p:nvPr/>
        </p:nvGrpSpPr>
        <p:grpSpPr>
          <a:xfrm>
            <a:off x="4468680" y="4572000"/>
            <a:ext cx="3578040" cy="1112760"/>
            <a:chOff x="4468680" y="4572000"/>
            <a:chExt cx="3578040" cy="1112760"/>
          </a:xfrm>
        </p:grpSpPr>
        <p:sp>
          <p:nvSpPr>
            <p:cNvPr id="136" name="AutoShape 10"/>
            <p:cNvSpPr/>
            <p:nvPr/>
          </p:nvSpPr>
          <p:spPr>
            <a:xfrm>
              <a:off x="5640840" y="4572000"/>
              <a:ext cx="1119600" cy="1112760"/>
            </a:xfrm>
            <a:prstGeom prst="diamond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37" name="Line 11"/>
            <p:cNvSpPr/>
            <p:nvPr/>
          </p:nvSpPr>
          <p:spPr>
            <a:xfrm flipH="1">
              <a:off x="6717600" y="5122800"/>
              <a:ext cx="1329120" cy="0"/>
            </a:xfrm>
            <a:prstGeom prst="line">
              <a:avLst/>
            </a:prstGeom>
            <a:ln w="28440">
              <a:solidFill>
                <a:srgbClr val="fdb04b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5921640" y="4836960"/>
              <a:ext cx="56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54360" bIns="5436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1a"/>
                  </a:solidFill>
                  <a:latin typeface="Lora Bold"/>
                  <a:ea typeface="ＭＳ Ｐゴシック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4468680" y="5129280"/>
              <a:ext cx="1329120" cy="3240"/>
            </a:xfrm>
            <a:prstGeom prst="line">
              <a:avLst/>
            </a:prstGeom>
            <a:ln w="28440">
              <a:solidFill>
                <a:srgbClr val="fdb04b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pic>
        <p:nvPicPr>
          <p:cNvPr id="140" name="Picture 15" descr=""/>
          <p:cNvPicPr/>
          <p:nvPr/>
        </p:nvPicPr>
        <p:blipFill>
          <a:blip r:embed="rId3"/>
          <a:stretch/>
        </p:blipFill>
        <p:spPr>
          <a:xfrm>
            <a:off x="5321160" y="588024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716040" y="9347040"/>
            <a:ext cx="262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43434"/>
                </a:solidFill>
                <a:latin typeface="Georgia"/>
                <a:ea typeface="ＭＳ Ｐゴシック"/>
              </a:rPr>
              <a:t>Culture Presentation Design</a:t>
            </a:r>
            <a:endParaRPr b="0" lang="en-US" sz="1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7640" y="12240"/>
            <a:ext cx="1170936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Georgia"/>
              </a:rPr>
              <a:t>Enter your title here</a:t>
            </a:r>
            <a:endParaRPr b="1" lang="en-US" sz="45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7640" y="1841040"/>
            <a:ext cx="117093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Lorem ipsum dolor sit amet, consectetur adipiscing elit. Integer nec odio. Praesent libero. Sed cursus ante dapibus diam. Sed nisi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22200" indent="-32220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Nulla quis sem at nibh elementum imperdiet. Duis sagittis ipsum. Praesent mauris. Fusce nec tellus sed augue semper porta. Mauris massa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054080" y="4610160"/>
            <a:ext cx="1088388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buClr>
                <a:srgbClr val="ffffff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Lorem ipsum dolor sit amet, consectetur adipiscing elit.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Integer nec odio. Praesent libero. Sed cursus ante dapibus diam. Sed nisi. Nulla quis sem at nibh elementum imperdiet. Duis sagittis ipsum.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Praesent mauris. Fusce nec tellus sed augue semper porta.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Mauris massa. Vestibulum lacinia arcu eget nulla.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Class aptent taciti sociosqu ad litora torquent per conubia nostra, per inceptos himenaeos.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SzPct val="125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Curabitur sodales ligula in libero. Sed dignissim lacinia nunc.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ohammad Hafiz Jamaluddin</dc:creator>
  <dc:description/>
  <cp:keywords/>
  <dc:language>en-US</dc:language>
  <cp:lastModifiedBy>Rastas Mano</cp:lastModifiedBy>
  <dcterms:modified xsi:type="dcterms:W3CDTF">2019-12-05T05:11:35Z</dcterms:modified>
  <cp:revision>1</cp:revision>
  <dc:subject/>
  <dc:title>Insert the title here</dc:title>
</cp:coreProperties>
</file>