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5964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706760" y="21394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81288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575964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10706760" y="4909680"/>
            <a:ext cx="47109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812880" y="364680"/>
            <a:ext cx="1463148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10240" y="49096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12880" y="364680"/>
            <a:ext cx="1463148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288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310240" y="2139480"/>
            <a:ext cx="71398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2880" y="4909680"/>
            <a:ext cx="1463148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8787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3397320" y="3870360"/>
            <a:ext cx="945972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1a1a1a"/>
                </a:solidFill>
                <a:latin typeface="Cambria Bold"/>
                <a:ea typeface="ＭＳ Ｐゴシック"/>
              </a:rPr>
              <a:t>Japanese Theme</a:t>
            </a:r>
            <a:endParaRPr b="0" lang="en-US" sz="6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1071720" y="8344080"/>
            <a:ext cx="14142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a1a1a"/>
                </a:solidFill>
                <a:latin typeface="Cambria Bold"/>
                <a:ea typeface="ＭＳ Ｐゴシック"/>
              </a:rPr>
              <a:t>Failure is simply the opportunity to begin again, this time more intelligently.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1073160" y="590400"/>
            <a:ext cx="55551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a1a1a"/>
                </a:solidFill>
                <a:latin typeface="Cambria Bold"/>
                <a:ea typeface="ＭＳ Ｐゴシック"/>
              </a:rPr>
              <a:t>Slides with pictures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Cambria"/>
                <a:ea typeface="ＭＳ Ｐゴシック"/>
              </a:rPr>
              <a:t>Many say exploration is part of our destiny, but it</a:t>
            </a:r>
            <a:r>
              <a:rPr b="0" lang="ja-JP" sz="3600" spc="-1" strike="noStrike">
                <a:solidFill>
                  <a:srgbClr val="1a1a1a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1a1a1a"/>
                </a:solidFill>
                <a:latin typeface="Cambria"/>
                <a:ea typeface="Cambria"/>
              </a:rPr>
              <a:t>s actually our duty to future generations and their quest to ensure the survival of the human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4788000" y="3111480"/>
            <a:ext cx="6680160" cy="4318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1600200" y="2273400"/>
            <a:ext cx="12150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a1a1a"/>
                </a:solidFill>
                <a:latin typeface="Lora Bold"/>
                <a:ea typeface="ＭＳ Ｐゴシック"/>
              </a:rPr>
              <a:t>Visit </a:t>
            </a:r>
            <a:r>
              <a:rPr b="1" lang="en-US" sz="4800" spc="-1" strike="noStrike">
                <a:solidFill>
                  <a:srgbClr val="1a1a1a"/>
                </a:solidFill>
                <a:latin typeface="Lora Bold"/>
                <a:ea typeface="ＭＳ Ｐゴシック"/>
              </a:rPr>
              <a:t>bestPowerPointTemplates.com 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a1a1a"/>
                </a:solidFill>
                <a:latin typeface="Lora Bold"/>
                <a:ea typeface="ＭＳ Ｐゴシック"/>
              </a:rPr>
              <a:t>for more free resources!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548000" y="5232240"/>
            <a:ext cx="494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Cambria"/>
                <a:ea typeface="ＭＳ Ｐゴシック"/>
              </a:rPr>
              <a:t>Color Scheme: </a:t>
            </a:r>
            <a:r>
              <a:rPr b="0" lang="en-US" sz="3600" spc="-1" strike="noStrike">
                <a:solidFill>
                  <a:srgbClr val="1a1a1a"/>
                </a:solidFill>
                <a:latin typeface="Cambria Bold"/>
                <a:ea typeface="ＭＳ Ｐゴシック"/>
              </a:rPr>
              <a:t>Japan Flag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570680" y="4533840"/>
            <a:ext cx="3929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Cambria"/>
                <a:ea typeface="ＭＳ Ｐゴシック"/>
              </a:rPr>
              <a:t>Font Used: </a:t>
            </a:r>
            <a:r>
              <a:rPr b="0" lang="en-US" sz="3600" spc="-1" strike="noStrike">
                <a:solidFill>
                  <a:srgbClr val="1a1a1a"/>
                </a:solidFill>
                <a:latin typeface="Cambria Bold"/>
                <a:ea typeface="ＭＳ Ｐゴシック"/>
              </a:rPr>
              <a:t>Cambria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196" name="Group 8"/>
          <p:cNvGrpSpPr/>
          <p:nvPr/>
        </p:nvGrpSpPr>
        <p:grpSpPr>
          <a:xfrm>
            <a:off x="1790640" y="6083280"/>
            <a:ext cx="3657600" cy="787320"/>
            <a:chOff x="1790640" y="6083280"/>
            <a:chExt cx="3657600" cy="787320"/>
          </a:xfrm>
        </p:grpSpPr>
        <p:sp>
          <p:nvSpPr>
            <p:cNvPr id="197" name="Rectangle 4"/>
            <p:cNvSpPr/>
            <p:nvPr/>
          </p:nvSpPr>
          <p:spPr>
            <a:xfrm>
              <a:off x="1790640" y="6083280"/>
              <a:ext cx="914400" cy="787320"/>
            </a:xfrm>
            <a:prstGeom prst="rect">
              <a:avLst/>
            </a:prstGeom>
            <a:solidFill>
              <a:srgbClr val="b71e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198" name="Rectangle 5"/>
            <p:cNvSpPr/>
            <p:nvPr/>
          </p:nvSpPr>
          <p:spPr>
            <a:xfrm>
              <a:off x="2705040" y="6083280"/>
              <a:ext cx="914400" cy="78732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199" name="Rectangle 6"/>
            <p:cNvSpPr/>
            <p:nvPr/>
          </p:nvSpPr>
          <p:spPr>
            <a:xfrm>
              <a:off x="3619440" y="6083280"/>
              <a:ext cx="914400" cy="787320"/>
            </a:xfrm>
            <a:prstGeom prst="rect">
              <a:avLst/>
            </a:prstGeom>
            <a:solidFill>
              <a:srgbClr val="ee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4533840" y="6083280"/>
              <a:ext cx="914400" cy="787320"/>
            </a:xfrm>
            <a:prstGeom prst="rect">
              <a:avLst/>
            </a:prstGeom>
            <a:solidFill>
              <a:srgbClr val="544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pic>
        <p:nvPicPr>
          <p:cNvPr id="201" name="Picture 9" descr=""/>
          <p:cNvPicPr/>
          <p:nvPr/>
        </p:nvPicPr>
        <p:blipFill>
          <a:blip r:embed="rId1"/>
          <a:stretch/>
        </p:blipFill>
        <p:spPr>
          <a:xfrm>
            <a:off x="12331800" y="2413080"/>
            <a:ext cx="3924360" cy="4317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1026000" y="590400"/>
            <a:ext cx="38710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a1a1a"/>
                </a:solidFill>
                <a:latin typeface="Cambria Bold"/>
                <a:ea typeface="ＭＳ Ｐゴシック"/>
              </a:rPr>
              <a:t>Lorem Ipsum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077840" y="1501920"/>
            <a:ext cx="14142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069920" y="2479680"/>
            <a:ext cx="141210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Cambria"/>
                <a:ea typeface="ＭＳ Ｐゴシック"/>
              </a:rPr>
              <a:t>Mankind, let us preserve and increase this beauty, and not destroy it!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069920" y="3495600"/>
            <a:ext cx="44690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1a"/>
                </a:solidFill>
                <a:latin typeface="Cambria"/>
                <a:ea typeface="ＭＳ Ｐゴシック"/>
              </a:rPr>
              <a:t>Science has not yet mastered prophecy. We predict too much for the next year and yet far too little for the next 10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5873760" y="3494160"/>
            <a:ext cx="446868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1a"/>
                </a:solidFill>
                <a:latin typeface="Cambria"/>
                <a:ea typeface="ＭＳ Ｐゴシック"/>
              </a:rPr>
              <a:t>Many say exploration is part of our destiny, but it</a:t>
            </a:r>
            <a:r>
              <a:rPr b="0" lang="ja-JP" sz="3200" spc="-1" strike="noStrike">
                <a:solidFill>
                  <a:srgbClr val="1a1a1a"/>
                </a:solidFill>
                <a:latin typeface="Arial"/>
                <a:ea typeface="ＭＳ Ｐゴシック"/>
              </a:rPr>
              <a:t>’</a:t>
            </a:r>
            <a:r>
              <a:rPr b="0" lang="en-US" sz="3200" spc="-1" strike="noStrike">
                <a:solidFill>
                  <a:srgbClr val="1a1a1a"/>
                </a:solidFill>
                <a:latin typeface="Cambria"/>
                <a:ea typeface="Cambria"/>
              </a:rPr>
              <a:t>s actually our duty to future generations and their quest to ensure the survival of the human species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0674360" y="3495600"/>
            <a:ext cx="4467240" cy="33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1a"/>
                </a:solidFill>
                <a:latin typeface="Cambria"/>
                <a:ea typeface="ＭＳ Ｐゴシック"/>
              </a:rPr>
              <a:t>Space, the final frontier. These are the voyages of the Starship Enterprise. Its five-year mission: to explore strange new worlds, to seek out new life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3"/>
          <p:cNvGrpSpPr/>
          <p:nvPr/>
        </p:nvGrpSpPr>
        <p:grpSpPr>
          <a:xfrm>
            <a:off x="10561680" y="5854680"/>
            <a:ext cx="2463840" cy="2463840"/>
            <a:chOff x="10561680" y="5854680"/>
            <a:chExt cx="2463840" cy="2463840"/>
          </a:xfrm>
        </p:grpSpPr>
        <p:sp>
          <p:nvSpPr>
            <p:cNvPr id="80" name="Rectangle 1"/>
            <p:cNvSpPr/>
            <p:nvPr/>
          </p:nvSpPr>
          <p:spPr>
            <a:xfrm>
              <a:off x="10598040" y="5902200"/>
              <a:ext cx="2387880" cy="2387880"/>
            </a:xfrm>
            <a:prstGeom prst="rect">
              <a:avLst/>
            </a:prstGeom>
            <a:solidFill>
              <a:srgbClr val="544865"/>
            </a:solidFill>
            <a:ln w="25560">
              <a:solidFill>
                <a:srgbClr val="34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pic>
          <p:nvPicPr>
            <p:cNvPr id="81" name="Picture 2" descr=""/>
            <p:cNvPicPr/>
            <p:nvPr/>
          </p:nvPicPr>
          <p:blipFill>
            <a:blip r:embed="rId1"/>
            <a:srcRect l="13321" t="0" r="20401" b="0"/>
            <a:stretch/>
          </p:blipFill>
          <p:spPr>
            <a:xfrm>
              <a:off x="10561680" y="5854680"/>
              <a:ext cx="2463840" cy="246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Group 6"/>
          <p:cNvGrpSpPr/>
          <p:nvPr/>
        </p:nvGrpSpPr>
        <p:grpSpPr>
          <a:xfrm>
            <a:off x="10561680" y="3314880"/>
            <a:ext cx="2463840" cy="2463480"/>
            <a:chOff x="10561680" y="3314880"/>
            <a:chExt cx="2463840" cy="2463480"/>
          </a:xfrm>
        </p:grpSpPr>
        <p:sp>
          <p:nvSpPr>
            <p:cNvPr id="83" name="Rectangle 4"/>
            <p:cNvSpPr/>
            <p:nvPr/>
          </p:nvSpPr>
          <p:spPr>
            <a:xfrm flipH="1">
              <a:off x="10597320" y="3344760"/>
              <a:ext cx="2387880" cy="2387160"/>
            </a:xfrm>
            <a:prstGeom prst="rect">
              <a:avLst/>
            </a:prstGeom>
            <a:solidFill>
              <a:srgbClr val="544865"/>
            </a:solidFill>
            <a:ln w="25560">
              <a:solidFill>
                <a:srgbClr val="34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pic>
          <p:nvPicPr>
            <p:cNvPr id="84" name="Picture 5" descr=""/>
            <p:cNvPicPr/>
            <p:nvPr/>
          </p:nvPicPr>
          <p:blipFill>
            <a:blip r:embed="rId2"/>
            <a:srcRect l="2578" t="0" r="34927" b="0"/>
            <a:stretch/>
          </p:blipFill>
          <p:spPr>
            <a:xfrm>
              <a:off x="10561680" y="3314880"/>
              <a:ext cx="2463840" cy="24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Rectangle 7"/>
          <p:cNvSpPr/>
          <p:nvPr/>
        </p:nvSpPr>
        <p:spPr>
          <a:xfrm>
            <a:off x="898200" y="590400"/>
            <a:ext cx="55551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mbria Bold"/>
                <a:ea typeface="ＭＳ Ｐゴシック"/>
              </a:rPr>
              <a:t>Slides with pictures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Many say exploration is part of our destiny, but it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  <a:ea typeface="Cambria"/>
              </a:rPr>
              <a:t>s actually our duty to future generations and their quest to ensure the survival of the human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87" name="Picture 9" descr=""/>
          <p:cNvPicPr/>
          <p:nvPr/>
        </p:nvPicPr>
        <p:blipFill>
          <a:blip r:embed="rId3"/>
          <a:stretch/>
        </p:blipFill>
        <p:spPr>
          <a:xfrm>
            <a:off x="2971800" y="3314880"/>
            <a:ext cx="7505640" cy="500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1026000" y="590400"/>
            <a:ext cx="38710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a1a1a"/>
                </a:solidFill>
                <a:latin typeface="Cambria Bold"/>
                <a:ea typeface="ＭＳ Ｐゴシック"/>
              </a:rPr>
              <a:t>Lorem Ipsum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077840" y="1501920"/>
            <a:ext cx="14142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Cambria Bold"/>
                <a:ea typeface="ＭＳ Ｐゴシック"/>
              </a:rPr>
              <a:t>Some cool things here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069920" y="2478240"/>
            <a:ext cx="8825040" cy="53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Cambria"/>
                <a:ea typeface="ＭＳ Ｐゴシック"/>
              </a:rPr>
              <a:t>Many say exploration is part of our destiny, but it</a:t>
            </a:r>
            <a:r>
              <a:rPr b="0" lang="ja-JP" sz="3600" spc="-1" strike="noStrike">
                <a:solidFill>
                  <a:srgbClr val="1a1a1a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1a1a1a"/>
                </a:solidFill>
                <a:latin typeface="Cambria"/>
                <a:ea typeface="Cambria"/>
              </a:rPr>
              <a:t>s actually our duty to future generations and their quest to ensure the survival of the human species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buClr>
                <a:srgbClr val="1a1a1a"/>
              </a:buClr>
              <a:buFont typeface="Zapf Dingbats" charset="2"/>
              <a:buChar char="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1a"/>
                </a:solidFill>
                <a:latin typeface="Cambria Italic"/>
                <a:ea typeface="Cambria Italic"/>
              </a:rPr>
              <a:t> </a:t>
            </a:r>
            <a:r>
              <a:rPr b="0" lang="en-US" sz="3200" spc="-1" strike="noStrike">
                <a:solidFill>
                  <a:srgbClr val="1a1a1a"/>
                </a:solidFill>
                <a:latin typeface="Cambria Italic"/>
                <a:ea typeface="Cambria Italic"/>
              </a:rPr>
              <a:t>Curious that we spend more time congratulating people who have succeeded than encouraging people who have not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buClr>
                <a:srgbClr val="1a1a1a"/>
              </a:buClr>
              <a:buFont typeface="Zapf Dingbats" charset="2"/>
              <a:buChar char="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1a"/>
                </a:solidFill>
                <a:latin typeface="Cambria Italic"/>
                <a:ea typeface="Cambria Italic"/>
              </a:rPr>
              <a:t> </a:t>
            </a:r>
            <a:r>
              <a:rPr b="0" lang="en-US" sz="3200" spc="-1" strike="noStrike">
                <a:solidFill>
                  <a:srgbClr val="1a1a1a"/>
                </a:solidFill>
                <a:latin typeface="Cambria Italic"/>
                <a:ea typeface="Cambria Italic"/>
              </a:rPr>
              <a:t>Here men from the planet Earth first set foot upon the Moon. July 1969 AD. We came in peace for all mankind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0464840" y="2184480"/>
            <a:ext cx="483876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2763720" y="3048120"/>
            <a:ext cx="7904160" cy="5003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512640" y="3048120"/>
            <a:ext cx="5077080" cy="250668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12640" y="3051000"/>
            <a:ext cx="5077080" cy="540000"/>
          </a:xfrm>
          <a:prstGeom prst="rect">
            <a:avLst/>
          </a:prstGeom>
          <a:solidFill>
            <a:srgbClr val="544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25600" y="2976480"/>
            <a:ext cx="5075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66720" y="3711600"/>
            <a:ext cx="482436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Vestibulum tristique mattis felis, quis finibus quam venenatis quis. Suspendisse blandit lorem hendrerit, bibendum metus quis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06520" y="5548320"/>
            <a:ext cx="5089320" cy="2506680"/>
          </a:xfrm>
          <a:prstGeom prst="rect">
            <a:avLst/>
          </a:prstGeom>
          <a:solidFill>
            <a:srgbClr val="b51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506520" y="5538960"/>
            <a:ext cx="5089320" cy="539640"/>
          </a:xfrm>
          <a:prstGeom prst="rect">
            <a:avLst/>
          </a:prstGeom>
          <a:solidFill>
            <a:srgbClr val="544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20560" y="5477040"/>
            <a:ext cx="5073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738360" y="6221520"/>
            <a:ext cx="464652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"/>
                <a:ea typeface="ＭＳ Ｐゴシック"/>
              </a:rPr>
              <a:t>Istique mattis felis, quis finibus quam venenatis quis. Suspendisse blandit lorem hendrerit, bibendum metus quis, elementum magna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0665000" y="3048120"/>
            <a:ext cx="5076720" cy="250668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10665000" y="3051000"/>
            <a:ext cx="5076720" cy="540000"/>
          </a:xfrm>
          <a:prstGeom prst="rect">
            <a:avLst/>
          </a:prstGeom>
          <a:solidFill>
            <a:srgbClr val="544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10679040" y="2976480"/>
            <a:ext cx="50738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10820520" y="3711600"/>
            <a:ext cx="482256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Suspendisse blandit lorem hendrerit, bibendum metus quis, elementum magna. Mauris eleifend, tellus sed facilisis hendrerit, lacus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10658520" y="5548320"/>
            <a:ext cx="5089320" cy="2506680"/>
          </a:xfrm>
          <a:prstGeom prst="rect">
            <a:avLst/>
          </a:prstGeom>
          <a:solidFill>
            <a:srgbClr val="b51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10658520" y="5538960"/>
            <a:ext cx="5089320" cy="539640"/>
          </a:xfrm>
          <a:prstGeom prst="rect">
            <a:avLst/>
          </a:prstGeom>
          <a:solidFill>
            <a:srgbClr val="544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10672920" y="5477040"/>
            <a:ext cx="5073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10890360" y="6219720"/>
            <a:ext cx="46465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"/>
                <a:ea typeface="ＭＳ Ｐゴシック"/>
              </a:rPr>
              <a:t>Quam venenatis quis. Suspendisse blandit lorem hendrerit, bibendum metus quis, elementum magna. Mauris eleifend, tellus sed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962280" y="590400"/>
            <a:ext cx="74433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a1a1a"/>
                </a:solidFill>
                <a:latin typeface="Cambria Bold"/>
                <a:ea typeface="ＭＳ Ｐゴシック"/>
              </a:rPr>
              <a:t>Another Data Assessment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1077840" y="1501920"/>
            <a:ext cx="141429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Cambria"/>
                <a:ea typeface="ＭＳ Ｐゴシック"/>
              </a:rPr>
              <a:t>To go places and do things that have never been done before – that</a:t>
            </a:r>
            <a:r>
              <a:rPr b="0" lang="ja-JP" sz="3600" spc="-1" strike="noStrike">
                <a:solidFill>
                  <a:srgbClr val="1a1a1a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1a1a1a"/>
                </a:solidFill>
                <a:latin typeface="Cambria"/>
                <a:ea typeface="Cambria"/>
              </a:rPr>
              <a:t>s what living is all about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1104840" y="590400"/>
            <a:ext cx="52898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a1a1a"/>
                </a:solidFill>
                <a:latin typeface="Cambria Bold"/>
                <a:ea typeface="ＭＳ Ｐゴシック"/>
              </a:rPr>
              <a:t>Hierarchy Analysis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087560" y="6680160"/>
            <a:ext cx="14139720" cy="1370160"/>
            <a:chOff x="1087560" y="6680160"/>
            <a:chExt cx="14139720" cy="1370160"/>
          </a:xfrm>
        </p:grpSpPr>
        <p:sp>
          <p:nvSpPr>
            <p:cNvPr id="113" name="Rectangle 2"/>
            <p:cNvSpPr/>
            <p:nvPr/>
          </p:nvSpPr>
          <p:spPr>
            <a:xfrm>
              <a:off x="1087560" y="6694560"/>
              <a:ext cx="14139720" cy="1355760"/>
            </a:xfrm>
            <a:prstGeom prst="rect">
              <a:avLst/>
            </a:prstGeom>
            <a:solidFill>
              <a:srgbClr val="b71e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114" name="Rectangle 3"/>
            <p:cNvSpPr/>
            <p:nvPr/>
          </p:nvSpPr>
          <p:spPr>
            <a:xfrm>
              <a:off x="1087560" y="6680160"/>
              <a:ext cx="14135040" cy="419040"/>
            </a:xfrm>
            <a:prstGeom prst="rect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15" name="Rectangle 5"/>
          <p:cNvSpPr/>
          <p:nvPr/>
        </p:nvSpPr>
        <p:spPr>
          <a:xfrm>
            <a:off x="1487520" y="6516720"/>
            <a:ext cx="5646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 Bold"/>
                <a:ea typeface="ＭＳ Ｐゴシック"/>
              </a:rPr>
              <a:t>Some cool header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487520" y="7151760"/>
            <a:ext cx="130795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Cambria"/>
                <a:ea typeface="ＭＳ Ｐゴシック"/>
              </a:rPr>
              <a:t>Praesent quam justo, tempor ac sollicitudin sed, mattis vel arcu. Proin ac nibh quis metus tristique sagittis vel ac ligulnean dichendrerit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077840" y="1501920"/>
            <a:ext cx="1414296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Cambria"/>
                <a:ea typeface="ＭＳ Ｐゴシック"/>
              </a:rPr>
              <a:t>To go places and do things that have never been done before – that</a:t>
            </a:r>
            <a:r>
              <a:rPr b="0" lang="ja-JP" sz="3600" spc="-1" strike="noStrike">
                <a:solidFill>
                  <a:srgbClr val="1a1a1a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1a1a1a"/>
                </a:solidFill>
                <a:latin typeface="Cambria"/>
                <a:ea typeface="Cambria"/>
              </a:rPr>
              <a:t>s what living is all about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118" name="Group 11"/>
          <p:cNvGrpSpPr/>
          <p:nvPr/>
        </p:nvGrpSpPr>
        <p:grpSpPr>
          <a:xfrm>
            <a:off x="1203480" y="5148360"/>
            <a:ext cx="5847840" cy="1538280"/>
            <a:chOff x="1203480" y="5148360"/>
            <a:chExt cx="5847840" cy="1538280"/>
          </a:xfrm>
        </p:grpSpPr>
        <p:sp>
          <p:nvSpPr>
            <p:cNvPr id="119" name="AutoShape 8"/>
            <p:cNvSpPr/>
            <p:nvPr/>
          </p:nvSpPr>
          <p:spPr>
            <a:xfrm>
              <a:off x="1203480" y="5556240"/>
              <a:ext cx="1754640" cy="1127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497" y="0"/>
                  </a:moveTo>
                  <a:lnTo>
                    <a:pt x="9497" y="2423"/>
                  </a:lnTo>
                  <a:lnTo>
                    <a:pt x="8912" y="2423"/>
                  </a:lnTo>
                  <a:lnTo>
                    <a:pt x="8912" y="12015"/>
                  </a:lnTo>
                  <a:lnTo>
                    <a:pt x="8161" y="12015"/>
                  </a:lnTo>
                  <a:lnTo>
                    <a:pt x="8161" y="8943"/>
                  </a:lnTo>
                  <a:lnTo>
                    <a:pt x="7359" y="8943"/>
                  </a:lnTo>
                  <a:lnTo>
                    <a:pt x="7359" y="5760"/>
                  </a:lnTo>
                  <a:lnTo>
                    <a:pt x="4652" y="5760"/>
                  </a:lnTo>
                  <a:lnTo>
                    <a:pt x="4652" y="8943"/>
                  </a:lnTo>
                  <a:lnTo>
                    <a:pt x="4652" y="14361"/>
                  </a:lnTo>
                  <a:lnTo>
                    <a:pt x="3918" y="14361"/>
                  </a:lnTo>
                  <a:lnTo>
                    <a:pt x="3918" y="10561"/>
                  </a:lnTo>
                  <a:lnTo>
                    <a:pt x="1907" y="10561"/>
                  </a:lnTo>
                  <a:lnTo>
                    <a:pt x="1907" y="15385"/>
                  </a:lnTo>
                  <a:lnTo>
                    <a:pt x="940" y="15385"/>
                  </a:lnTo>
                  <a:lnTo>
                    <a:pt x="940" y="17597"/>
                  </a:lnTo>
                  <a:lnTo>
                    <a:pt x="0" y="17597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17597"/>
                  </a:lnTo>
                  <a:lnTo>
                    <a:pt x="20672" y="17597"/>
                  </a:lnTo>
                  <a:lnTo>
                    <a:pt x="20672" y="15385"/>
                  </a:lnTo>
                  <a:lnTo>
                    <a:pt x="19821" y="15385"/>
                  </a:lnTo>
                  <a:lnTo>
                    <a:pt x="19821" y="12015"/>
                  </a:lnTo>
                  <a:lnTo>
                    <a:pt x="19033" y="12015"/>
                  </a:lnTo>
                  <a:lnTo>
                    <a:pt x="19033" y="8191"/>
                  </a:lnTo>
                  <a:lnTo>
                    <a:pt x="16927" y="8191"/>
                  </a:lnTo>
                  <a:lnTo>
                    <a:pt x="16927" y="15803"/>
                  </a:lnTo>
                  <a:lnTo>
                    <a:pt x="16212" y="15803"/>
                  </a:lnTo>
                  <a:lnTo>
                    <a:pt x="16212" y="3677"/>
                  </a:lnTo>
                  <a:lnTo>
                    <a:pt x="13299" y="4969"/>
                  </a:lnTo>
                  <a:lnTo>
                    <a:pt x="13299" y="9566"/>
                  </a:lnTo>
                  <a:lnTo>
                    <a:pt x="12557" y="9566"/>
                  </a:lnTo>
                  <a:lnTo>
                    <a:pt x="12557" y="2423"/>
                  </a:lnTo>
                  <a:lnTo>
                    <a:pt x="11973" y="2423"/>
                  </a:lnTo>
                  <a:lnTo>
                    <a:pt x="11973" y="0"/>
                  </a:lnTo>
                  <a:lnTo>
                    <a:pt x="9497" y="0"/>
                  </a:lnTo>
                  <a:close/>
                  <a:moveTo>
                    <a:pt x="9497" y="0"/>
                  </a:move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120" name="AutoShape 9"/>
            <p:cNvSpPr/>
            <p:nvPr/>
          </p:nvSpPr>
          <p:spPr>
            <a:xfrm>
              <a:off x="2921400" y="5148360"/>
              <a:ext cx="2400840" cy="153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497" y="0"/>
                  </a:moveTo>
                  <a:lnTo>
                    <a:pt x="9497" y="2423"/>
                  </a:lnTo>
                  <a:lnTo>
                    <a:pt x="8912" y="2423"/>
                  </a:lnTo>
                  <a:lnTo>
                    <a:pt x="8912" y="12015"/>
                  </a:lnTo>
                  <a:lnTo>
                    <a:pt x="8161" y="12015"/>
                  </a:lnTo>
                  <a:lnTo>
                    <a:pt x="8161" y="8943"/>
                  </a:lnTo>
                  <a:lnTo>
                    <a:pt x="7359" y="8943"/>
                  </a:lnTo>
                  <a:lnTo>
                    <a:pt x="7359" y="5760"/>
                  </a:lnTo>
                  <a:lnTo>
                    <a:pt x="4652" y="5760"/>
                  </a:lnTo>
                  <a:lnTo>
                    <a:pt x="4652" y="8943"/>
                  </a:lnTo>
                  <a:lnTo>
                    <a:pt x="4652" y="14361"/>
                  </a:lnTo>
                  <a:lnTo>
                    <a:pt x="3918" y="14361"/>
                  </a:lnTo>
                  <a:lnTo>
                    <a:pt x="3918" y="10561"/>
                  </a:lnTo>
                  <a:lnTo>
                    <a:pt x="1907" y="10561"/>
                  </a:lnTo>
                  <a:lnTo>
                    <a:pt x="1907" y="15385"/>
                  </a:lnTo>
                  <a:lnTo>
                    <a:pt x="940" y="15385"/>
                  </a:lnTo>
                  <a:lnTo>
                    <a:pt x="940" y="17597"/>
                  </a:lnTo>
                  <a:lnTo>
                    <a:pt x="0" y="17597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17597"/>
                  </a:lnTo>
                  <a:lnTo>
                    <a:pt x="20672" y="17597"/>
                  </a:lnTo>
                  <a:lnTo>
                    <a:pt x="20672" y="15385"/>
                  </a:lnTo>
                  <a:lnTo>
                    <a:pt x="19821" y="15385"/>
                  </a:lnTo>
                  <a:lnTo>
                    <a:pt x="19821" y="12015"/>
                  </a:lnTo>
                  <a:lnTo>
                    <a:pt x="19033" y="12015"/>
                  </a:lnTo>
                  <a:lnTo>
                    <a:pt x="19033" y="8191"/>
                  </a:lnTo>
                  <a:lnTo>
                    <a:pt x="16927" y="8191"/>
                  </a:lnTo>
                  <a:lnTo>
                    <a:pt x="16927" y="15803"/>
                  </a:lnTo>
                  <a:lnTo>
                    <a:pt x="16212" y="15803"/>
                  </a:lnTo>
                  <a:lnTo>
                    <a:pt x="16212" y="3677"/>
                  </a:lnTo>
                  <a:lnTo>
                    <a:pt x="13299" y="4969"/>
                  </a:lnTo>
                  <a:lnTo>
                    <a:pt x="13299" y="9566"/>
                  </a:lnTo>
                  <a:lnTo>
                    <a:pt x="12557" y="9566"/>
                  </a:lnTo>
                  <a:lnTo>
                    <a:pt x="12557" y="2423"/>
                  </a:lnTo>
                  <a:lnTo>
                    <a:pt x="11973" y="2423"/>
                  </a:lnTo>
                  <a:lnTo>
                    <a:pt x="11973" y="0"/>
                  </a:lnTo>
                  <a:lnTo>
                    <a:pt x="9497" y="0"/>
                  </a:lnTo>
                  <a:close/>
                  <a:moveTo>
                    <a:pt x="9497" y="0"/>
                  </a:move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121" name="AutoShape 10"/>
            <p:cNvSpPr/>
            <p:nvPr/>
          </p:nvSpPr>
          <p:spPr>
            <a:xfrm>
              <a:off x="5295240" y="5561280"/>
              <a:ext cx="1756080" cy="112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497" y="0"/>
                  </a:moveTo>
                  <a:lnTo>
                    <a:pt x="9497" y="2423"/>
                  </a:lnTo>
                  <a:lnTo>
                    <a:pt x="8912" y="2423"/>
                  </a:lnTo>
                  <a:lnTo>
                    <a:pt x="8912" y="12015"/>
                  </a:lnTo>
                  <a:lnTo>
                    <a:pt x="8161" y="12015"/>
                  </a:lnTo>
                  <a:lnTo>
                    <a:pt x="8161" y="8943"/>
                  </a:lnTo>
                  <a:lnTo>
                    <a:pt x="7359" y="8943"/>
                  </a:lnTo>
                  <a:lnTo>
                    <a:pt x="7359" y="5760"/>
                  </a:lnTo>
                  <a:lnTo>
                    <a:pt x="4652" y="5760"/>
                  </a:lnTo>
                  <a:lnTo>
                    <a:pt x="4652" y="8943"/>
                  </a:lnTo>
                  <a:lnTo>
                    <a:pt x="4652" y="14361"/>
                  </a:lnTo>
                  <a:lnTo>
                    <a:pt x="3918" y="14361"/>
                  </a:lnTo>
                  <a:lnTo>
                    <a:pt x="3918" y="10561"/>
                  </a:lnTo>
                  <a:lnTo>
                    <a:pt x="1907" y="10561"/>
                  </a:lnTo>
                  <a:lnTo>
                    <a:pt x="1907" y="15385"/>
                  </a:lnTo>
                  <a:lnTo>
                    <a:pt x="940" y="15385"/>
                  </a:lnTo>
                  <a:lnTo>
                    <a:pt x="940" y="17597"/>
                  </a:lnTo>
                  <a:lnTo>
                    <a:pt x="0" y="17597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17597"/>
                  </a:lnTo>
                  <a:lnTo>
                    <a:pt x="20672" y="17597"/>
                  </a:lnTo>
                  <a:lnTo>
                    <a:pt x="20672" y="15385"/>
                  </a:lnTo>
                  <a:lnTo>
                    <a:pt x="19821" y="15385"/>
                  </a:lnTo>
                  <a:lnTo>
                    <a:pt x="19821" y="12015"/>
                  </a:lnTo>
                  <a:lnTo>
                    <a:pt x="19033" y="12015"/>
                  </a:lnTo>
                  <a:lnTo>
                    <a:pt x="19033" y="8191"/>
                  </a:lnTo>
                  <a:lnTo>
                    <a:pt x="16927" y="8191"/>
                  </a:lnTo>
                  <a:lnTo>
                    <a:pt x="16927" y="15803"/>
                  </a:lnTo>
                  <a:lnTo>
                    <a:pt x="16212" y="15803"/>
                  </a:lnTo>
                  <a:lnTo>
                    <a:pt x="16212" y="3677"/>
                  </a:lnTo>
                  <a:lnTo>
                    <a:pt x="13299" y="4969"/>
                  </a:lnTo>
                  <a:lnTo>
                    <a:pt x="13299" y="9566"/>
                  </a:lnTo>
                  <a:lnTo>
                    <a:pt x="12557" y="9566"/>
                  </a:lnTo>
                  <a:lnTo>
                    <a:pt x="12557" y="2423"/>
                  </a:lnTo>
                  <a:lnTo>
                    <a:pt x="11973" y="2423"/>
                  </a:lnTo>
                  <a:lnTo>
                    <a:pt x="11973" y="0"/>
                  </a:lnTo>
                  <a:lnTo>
                    <a:pt x="9497" y="0"/>
                  </a:lnTo>
                  <a:close/>
                  <a:moveTo>
                    <a:pt x="9497" y="0"/>
                  </a:move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pic>
        <p:nvPicPr>
          <p:cNvPr id="122" name="Picture 12" descr=""/>
          <p:cNvPicPr/>
          <p:nvPr/>
        </p:nvPicPr>
        <p:blipFill>
          <a:blip r:embed="rId1"/>
          <a:stretch/>
        </p:blipFill>
        <p:spPr>
          <a:xfrm>
            <a:off x="8331120" y="2666880"/>
            <a:ext cx="6375600" cy="415296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 flipH="1" flipV="1">
            <a:off x="6767280" y="6291360"/>
            <a:ext cx="2323800" cy="7920"/>
          </a:xfrm>
          <a:prstGeom prst="line">
            <a:avLst/>
          </a:prstGeom>
          <a:ln w="28440">
            <a:solidFill>
              <a:srgbClr val="d2440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6"/>
          <p:cNvGrpSpPr/>
          <p:nvPr/>
        </p:nvGrpSpPr>
        <p:grpSpPr>
          <a:xfrm>
            <a:off x="1981080" y="3492360"/>
            <a:ext cx="3070080" cy="4095360"/>
            <a:chOff x="1981080" y="3492360"/>
            <a:chExt cx="3070080" cy="4095360"/>
          </a:xfrm>
        </p:grpSpPr>
        <p:grpSp>
          <p:nvGrpSpPr>
            <p:cNvPr id="125" name="Group 3"/>
            <p:cNvGrpSpPr/>
            <p:nvPr/>
          </p:nvGrpSpPr>
          <p:grpSpPr>
            <a:xfrm>
              <a:off x="1981080" y="3555720"/>
              <a:ext cx="3070080" cy="4032000"/>
              <a:chOff x="1981080" y="3555720"/>
              <a:chExt cx="3070080" cy="4032000"/>
            </a:xfrm>
          </p:grpSpPr>
          <p:sp>
            <p:nvSpPr>
              <p:cNvPr id="126" name="Rectangle 1"/>
              <p:cNvSpPr/>
              <p:nvPr/>
            </p:nvSpPr>
            <p:spPr>
              <a:xfrm>
                <a:off x="1981080" y="4011480"/>
                <a:ext cx="3070080" cy="35762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  <p:sp>
            <p:nvSpPr>
              <p:cNvPr id="127" name="Rectangle 2"/>
              <p:cNvSpPr/>
              <p:nvPr/>
            </p:nvSpPr>
            <p:spPr>
              <a:xfrm>
                <a:off x="1981080" y="3555720"/>
                <a:ext cx="3070080" cy="455760"/>
              </a:xfrm>
              <a:prstGeom prst="rect">
                <a:avLst/>
              </a:prstGeom>
              <a:solidFill>
                <a:srgbClr val="b71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</p:grpSp>
        <p:sp>
          <p:nvSpPr>
            <p:cNvPr id="128" name="Rectangle 4"/>
            <p:cNvSpPr/>
            <p:nvPr/>
          </p:nvSpPr>
          <p:spPr>
            <a:xfrm>
              <a:off x="2130480" y="3492360"/>
              <a:ext cx="28018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Some cool header.</a:t>
              </a:r>
              <a:endParaRPr b="0" lang="en-US" sz="20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pic>
          <p:nvPicPr>
            <p:cNvPr id="129" name="Picture 5" descr=""/>
            <p:cNvPicPr/>
            <p:nvPr/>
          </p:nvPicPr>
          <p:blipFill>
            <a:blip r:embed="rId1"/>
            <a:srcRect l="1793" t="0" r="41774" b="0"/>
            <a:stretch/>
          </p:blipFill>
          <p:spPr>
            <a:xfrm>
              <a:off x="2084400" y="4120920"/>
              <a:ext cx="2852640" cy="336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12"/>
          <p:cNvGrpSpPr/>
          <p:nvPr/>
        </p:nvGrpSpPr>
        <p:grpSpPr>
          <a:xfrm>
            <a:off x="5051520" y="3492360"/>
            <a:ext cx="3070080" cy="4095360"/>
            <a:chOff x="5051520" y="3492360"/>
            <a:chExt cx="3070080" cy="4095360"/>
          </a:xfrm>
        </p:grpSpPr>
        <p:grpSp>
          <p:nvGrpSpPr>
            <p:cNvPr id="131" name="Group 9"/>
            <p:cNvGrpSpPr/>
            <p:nvPr/>
          </p:nvGrpSpPr>
          <p:grpSpPr>
            <a:xfrm>
              <a:off x="5051520" y="3555720"/>
              <a:ext cx="3070080" cy="4032000"/>
              <a:chOff x="5051520" y="3555720"/>
              <a:chExt cx="3070080" cy="4032000"/>
            </a:xfrm>
          </p:grpSpPr>
          <p:sp>
            <p:nvSpPr>
              <p:cNvPr id="132" name="Rectangle 7"/>
              <p:cNvSpPr/>
              <p:nvPr/>
            </p:nvSpPr>
            <p:spPr>
              <a:xfrm>
                <a:off x="5051520" y="4011480"/>
                <a:ext cx="3070080" cy="35762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  <p:sp>
            <p:nvSpPr>
              <p:cNvPr id="133" name="Rectangle 8"/>
              <p:cNvSpPr/>
              <p:nvPr/>
            </p:nvSpPr>
            <p:spPr>
              <a:xfrm>
                <a:off x="5051520" y="3555720"/>
                <a:ext cx="3070080" cy="45576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</p:grpSp>
        <p:sp>
          <p:nvSpPr>
            <p:cNvPr id="134" name="Rectangle 10"/>
            <p:cNvSpPr/>
            <p:nvPr/>
          </p:nvSpPr>
          <p:spPr>
            <a:xfrm>
              <a:off x="5183280" y="3492360"/>
              <a:ext cx="28036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mbria Bold"/>
                  <a:ea typeface="ＭＳ Ｐゴシック"/>
                </a:rPr>
                <a:t>Some cool header.</a:t>
              </a:r>
              <a:endParaRPr b="0" lang="en-US" sz="20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pic>
          <p:nvPicPr>
            <p:cNvPr id="135" name="Picture 11" descr=""/>
            <p:cNvPicPr/>
            <p:nvPr/>
          </p:nvPicPr>
          <p:blipFill>
            <a:blip r:embed="rId2"/>
            <a:srcRect l="182" t="19331" r="0" b="1456"/>
            <a:stretch/>
          </p:blipFill>
          <p:spPr>
            <a:xfrm>
              <a:off x="5170680" y="4120920"/>
              <a:ext cx="2847960" cy="337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Group 18"/>
          <p:cNvGrpSpPr/>
          <p:nvPr/>
        </p:nvGrpSpPr>
        <p:grpSpPr>
          <a:xfrm>
            <a:off x="8121600" y="3492360"/>
            <a:ext cx="3070080" cy="4100040"/>
            <a:chOff x="8121600" y="3492360"/>
            <a:chExt cx="3070080" cy="4100040"/>
          </a:xfrm>
        </p:grpSpPr>
        <p:grpSp>
          <p:nvGrpSpPr>
            <p:cNvPr id="137" name="Group 15"/>
            <p:cNvGrpSpPr/>
            <p:nvPr/>
          </p:nvGrpSpPr>
          <p:grpSpPr>
            <a:xfrm>
              <a:off x="8121600" y="3551040"/>
              <a:ext cx="3070080" cy="4041360"/>
              <a:chOff x="8121600" y="3551040"/>
              <a:chExt cx="3070080" cy="4041360"/>
            </a:xfrm>
          </p:grpSpPr>
          <p:sp>
            <p:nvSpPr>
              <p:cNvPr id="138" name="Rectangle 13"/>
              <p:cNvSpPr/>
              <p:nvPr/>
            </p:nvSpPr>
            <p:spPr>
              <a:xfrm>
                <a:off x="8121600" y="4006800"/>
                <a:ext cx="3070080" cy="35856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  <p:sp>
            <p:nvSpPr>
              <p:cNvPr id="139" name="Rectangle 14"/>
              <p:cNvSpPr/>
              <p:nvPr/>
            </p:nvSpPr>
            <p:spPr>
              <a:xfrm>
                <a:off x="8121600" y="3551040"/>
                <a:ext cx="3070080" cy="455760"/>
              </a:xfrm>
              <a:prstGeom prst="rect">
                <a:avLst/>
              </a:prstGeom>
              <a:solidFill>
                <a:srgbClr val="b71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</p:grpSp>
        <p:sp>
          <p:nvSpPr>
            <p:cNvPr id="140" name="Rectangle 16"/>
            <p:cNvSpPr/>
            <p:nvPr/>
          </p:nvSpPr>
          <p:spPr>
            <a:xfrm>
              <a:off x="8280360" y="3492360"/>
              <a:ext cx="28036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mbria Bold"/>
                  <a:ea typeface="ＭＳ Ｐゴシック"/>
                </a:rPr>
                <a:t>Some cool header.</a:t>
              </a:r>
              <a:endParaRPr b="0" lang="en-US" sz="20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pic>
          <p:nvPicPr>
            <p:cNvPr id="141" name="Picture 17" descr=""/>
            <p:cNvPicPr/>
            <p:nvPr/>
          </p:nvPicPr>
          <p:blipFill>
            <a:blip r:embed="rId3"/>
            <a:srcRect l="9136" t="156" r="34760" b="0"/>
            <a:stretch/>
          </p:blipFill>
          <p:spPr>
            <a:xfrm>
              <a:off x="8242200" y="4143240"/>
              <a:ext cx="2852640" cy="336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Group 24"/>
          <p:cNvGrpSpPr/>
          <p:nvPr/>
        </p:nvGrpSpPr>
        <p:grpSpPr>
          <a:xfrm>
            <a:off x="11192040" y="3492360"/>
            <a:ext cx="3070080" cy="4096800"/>
            <a:chOff x="11192040" y="3492360"/>
            <a:chExt cx="3070080" cy="4096800"/>
          </a:xfrm>
        </p:grpSpPr>
        <p:grpSp>
          <p:nvGrpSpPr>
            <p:cNvPr id="143" name="Group 21"/>
            <p:cNvGrpSpPr/>
            <p:nvPr/>
          </p:nvGrpSpPr>
          <p:grpSpPr>
            <a:xfrm>
              <a:off x="11192040" y="3551400"/>
              <a:ext cx="3070080" cy="4037760"/>
              <a:chOff x="11192040" y="3551400"/>
              <a:chExt cx="3070080" cy="4037760"/>
            </a:xfrm>
          </p:grpSpPr>
          <p:sp>
            <p:nvSpPr>
              <p:cNvPr id="144" name="Rectangle 19"/>
              <p:cNvSpPr/>
              <p:nvPr/>
            </p:nvSpPr>
            <p:spPr>
              <a:xfrm>
                <a:off x="11192040" y="4007160"/>
                <a:ext cx="3070080" cy="358200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  <p:sp>
            <p:nvSpPr>
              <p:cNvPr id="145" name="Rectangle 20"/>
              <p:cNvSpPr/>
              <p:nvPr/>
            </p:nvSpPr>
            <p:spPr>
              <a:xfrm>
                <a:off x="11192040" y="3551400"/>
                <a:ext cx="3070080" cy="45576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</p:grpSp>
        <p:sp>
          <p:nvSpPr>
            <p:cNvPr id="146" name="Rectangle 22"/>
            <p:cNvSpPr/>
            <p:nvPr/>
          </p:nvSpPr>
          <p:spPr>
            <a:xfrm>
              <a:off x="11330280" y="3492360"/>
              <a:ext cx="28018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mbria Bold"/>
                  <a:ea typeface="ＭＳ Ｐゴシック"/>
                </a:rPr>
                <a:t>Some cool header.</a:t>
              </a:r>
              <a:endParaRPr b="0" lang="en-US" sz="20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pic>
          <p:nvPicPr>
            <p:cNvPr id="147" name="Picture 23" descr=""/>
            <p:cNvPicPr/>
            <p:nvPr/>
          </p:nvPicPr>
          <p:blipFill>
            <a:blip r:embed="rId4"/>
            <a:srcRect l="21684" t="0" r="21884" b="122"/>
            <a:stretch/>
          </p:blipFill>
          <p:spPr>
            <a:xfrm>
              <a:off x="11309400" y="4141800"/>
              <a:ext cx="2853000" cy="33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Rectangle 25"/>
          <p:cNvSpPr/>
          <p:nvPr/>
        </p:nvSpPr>
        <p:spPr>
          <a:xfrm>
            <a:off x="1073160" y="590400"/>
            <a:ext cx="55551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a1a1a"/>
                </a:solidFill>
                <a:latin typeface="Cambria Bold"/>
                <a:ea typeface="ＭＳ Ｐゴシック"/>
              </a:rPr>
              <a:t>Slides with pictures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Cambria"/>
                <a:ea typeface="ＭＳ Ｐゴシック"/>
              </a:rPr>
              <a:t>Many say exploration is part of our destiny, but it</a:t>
            </a:r>
            <a:r>
              <a:rPr b="0" lang="ja-JP" sz="3600" spc="-1" strike="noStrike">
                <a:solidFill>
                  <a:srgbClr val="1a1a1a"/>
                </a:solidFill>
                <a:latin typeface="Arial"/>
                <a:ea typeface="ＭＳ Ｐゴシック"/>
              </a:rPr>
              <a:t>’</a:t>
            </a:r>
            <a:r>
              <a:rPr b="0" lang="en-US" sz="3600" spc="-1" strike="noStrike">
                <a:solidFill>
                  <a:srgbClr val="1a1a1a"/>
                </a:solidFill>
                <a:latin typeface="Cambria"/>
                <a:ea typeface="Cambria"/>
              </a:rPr>
              <a:t>s actually our duty to future generations and their quest to ensure the survival of the human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1"/>
          <p:cNvSpPr/>
          <p:nvPr/>
        </p:nvSpPr>
        <p:spPr>
          <a:xfrm flipV="1">
            <a:off x="1990800" y="4824000"/>
            <a:ext cx="12361680" cy="4680"/>
          </a:xfrm>
          <a:prstGeom prst="line">
            <a:avLst/>
          </a:prstGeom>
          <a:ln w="38160">
            <a:solidFill>
              <a:srgbClr val="ba21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Oval 2"/>
          <p:cNvSpPr/>
          <p:nvPr/>
        </p:nvSpPr>
        <p:spPr>
          <a:xfrm>
            <a:off x="1719360" y="4622760"/>
            <a:ext cx="423720" cy="425520"/>
          </a:xfrm>
          <a:prstGeom prst="ellipse">
            <a:avLst/>
          </a:prstGeom>
          <a:solidFill>
            <a:srgbClr val="ba2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Oval 3"/>
          <p:cNvSpPr/>
          <p:nvPr/>
        </p:nvSpPr>
        <p:spPr>
          <a:xfrm>
            <a:off x="3527280" y="4616280"/>
            <a:ext cx="424080" cy="427320"/>
          </a:xfrm>
          <a:prstGeom prst="ellipse">
            <a:avLst/>
          </a:prstGeom>
          <a:solidFill>
            <a:srgbClr val="ba2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12265200" y="4616280"/>
            <a:ext cx="423720" cy="427320"/>
          </a:xfrm>
          <a:prstGeom prst="ellipse">
            <a:avLst/>
          </a:prstGeom>
          <a:solidFill>
            <a:srgbClr val="ba2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4084280" y="4616280"/>
            <a:ext cx="422280" cy="427320"/>
          </a:xfrm>
          <a:prstGeom prst="ellipse">
            <a:avLst/>
          </a:prstGeom>
          <a:solidFill>
            <a:srgbClr val="ba21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222200" y="3809880"/>
            <a:ext cx="1519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1e1f"/>
                </a:solidFill>
                <a:latin typeface="Cambria Bold"/>
                <a:ea typeface="ＭＳ Ｐゴシック"/>
              </a:rPr>
              <a:t>1921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2978280" y="3808440"/>
            <a:ext cx="1519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1e1f"/>
                </a:solidFill>
                <a:latin typeface="Cambria Bold"/>
                <a:ea typeface="ＭＳ Ｐゴシック"/>
              </a:rPr>
              <a:t>1928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1756880" y="3787920"/>
            <a:ext cx="1519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1e1f"/>
                </a:solidFill>
                <a:latin typeface="Cambria Bold"/>
                <a:ea typeface="ＭＳ Ｐゴシック"/>
              </a:rPr>
              <a:t>1945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13512960" y="3784680"/>
            <a:ext cx="1519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1e1f"/>
                </a:solidFill>
                <a:latin typeface="Cambria Bold"/>
                <a:ea typeface="ＭＳ Ｐゴシック"/>
              </a:rPr>
              <a:t>1949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1444680" y="5191200"/>
            <a:ext cx="1074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1991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3200400" y="5191200"/>
            <a:ext cx="1074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1992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11979360" y="5194440"/>
            <a:ext cx="1074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1997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13766760" y="5194440"/>
            <a:ext cx="1074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1998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163" name="Group 16"/>
          <p:cNvGrpSpPr/>
          <p:nvPr/>
        </p:nvGrpSpPr>
        <p:grpSpPr>
          <a:xfrm>
            <a:off x="6443640" y="3129120"/>
            <a:ext cx="3387240" cy="3387240"/>
            <a:chOff x="6443640" y="3129120"/>
            <a:chExt cx="3387240" cy="3387240"/>
          </a:xfrm>
        </p:grpSpPr>
        <p:sp>
          <p:nvSpPr>
            <p:cNvPr id="164" name="Oval 14"/>
            <p:cNvSpPr/>
            <p:nvPr/>
          </p:nvSpPr>
          <p:spPr>
            <a:xfrm>
              <a:off x="6443640" y="3129120"/>
              <a:ext cx="3387240" cy="3387240"/>
            </a:xfrm>
            <a:prstGeom prst="ellipse">
              <a:avLst/>
            </a:prstGeom>
            <a:solidFill>
              <a:srgbClr val="f03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165" name="Oval 15"/>
            <p:cNvSpPr/>
            <p:nvPr/>
          </p:nvSpPr>
          <p:spPr>
            <a:xfrm>
              <a:off x="6858000" y="3533760"/>
              <a:ext cx="2540520" cy="2542680"/>
            </a:xfrm>
            <a:prstGeom prst="ellipse">
              <a:avLst/>
            </a:prstGeom>
            <a:solidFill>
              <a:srgbClr val="5447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66" name="Rectangle 17"/>
          <p:cNvSpPr/>
          <p:nvPr/>
        </p:nvSpPr>
        <p:spPr>
          <a:xfrm>
            <a:off x="7162920" y="4291920"/>
            <a:ext cx="1974240" cy="9680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360" rIns="72360" tIns="72360" bIns="7236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  <a:ea typeface="ＭＳ Ｐゴシック"/>
              </a:rPr>
              <a:t>Text Here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1116000" y="590400"/>
            <a:ext cx="24811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a1a1a"/>
                </a:solidFill>
                <a:latin typeface="Cambria Bold"/>
                <a:ea typeface="ＭＳ Ｐゴシック"/>
              </a:rPr>
              <a:t>Timeline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1077840" y="1498680"/>
            <a:ext cx="147528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Cambria"/>
                <a:ea typeface="ＭＳ Ｐゴシック"/>
              </a:rPr>
              <a:t>Positive thinking will let you do everything better than negative thinking will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1079640" y="7048440"/>
            <a:ext cx="147510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Cambria"/>
                <a:ea typeface="ＭＳ Ｐゴシック"/>
              </a:rPr>
              <a:t>Positive thinking will let you do everything better than negative thinking will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1"/>
          <a:stretch/>
        </p:blipFill>
        <p:spPr>
          <a:xfrm>
            <a:off x="6108840" y="2476440"/>
            <a:ext cx="4025880" cy="4051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3600360" y="3352680"/>
            <a:ext cx="503568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Cambria Bold"/>
                <a:ea typeface="ＭＳ Ｐゴシック"/>
              </a:rPr>
              <a:t>Some header here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Cambria Italic"/>
                <a:ea typeface="ＭＳ Ｐゴシック"/>
              </a:rPr>
              <a:t>Iget dolor eu lacus imperdiet lacinia. Nunc odio ac tempus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600360" y="5292720"/>
            <a:ext cx="50356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Cambria Italic"/>
                <a:ea typeface="ＭＳ Ｐゴシック"/>
              </a:rPr>
              <a:t>Nunc tincidunt semper odio ac tempus. Vivamus finibus eu metus. Vivamus felis eget mauris finibus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071720" y="8158320"/>
            <a:ext cx="141429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Cambria Bold"/>
                <a:ea typeface="ＭＳ Ｐゴシック"/>
              </a:rPr>
              <a:t>Positive thinking will let you do everything better than negative thinking will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9441000" y="2793960"/>
            <a:ext cx="5104800" cy="4601880"/>
            <a:chOff x="9441000" y="2793960"/>
            <a:chExt cx="5104800" cy="4601880"/>
          </a:xfrm>
        </p:grpSpPr>
        <p:pic>
          <p:nvPicPr>
            <p:cNvPr id="175" name="Picture 4" descr=""/>
            <p:cNvPicPr/>
            <p:nvPr/>
          </p:nvPicPr>
          <p:blipFill>
            <a:blip r:embed="rId1"/>
            <a:stretch/>
          </p:blipFill>
          <p:spPr>
            <a:xfrm>
              <a:off x="9441000" y="2793960"/>
              <a:ext cx="5104800" cy="46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5" descr=""/>
            <p:cNvPicPr/>
            <p:nvPr/>
          </p:nvPicPr>
          <p:blipFill>
            <a:blip r:embed="rId2"/>
            <a:stretch/>
          </p:blipFill>
          <p:spPr>
            <a:xfrm>
              <a:off x="9618840" y="3011400"/>
              <a:ext cx="4747680" cy="291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Group 11"/>
          <p:cNvGrpSpPr/>
          <p:nvPr/>
        </p:nvGrpSpPr>
        <p:grpSpPr>
          <a:xfrm>
            <a:off x="1517760" y="3333600"/>
            <a:ext cx="1488960" cy="1489320"/>
            <a:chOff x="1517760" y="3333600"/>
            <a:chExt cx="1488960" cy="1489320"/>
          </a:xfrm>
        </p:grpSpPr>
        <p:grpSp>
          <p:nvGrpSpPr>
            <p:cNvPr id="178" name="Group 9"/>
            <p:cNvGrpSpPr/>
            <p:nvPr/>
          </p:nvGrpSpPr>
          <p:grpSpPr>
            <a:xfrm>
              <a:off x="1517760" y="3333600"/>
              <a:ext cx="1488960" cy="1489320"/>
              <a:chOff x="1517760" y="3333600"/>
              <a:chExt cx="1488960" cy="1489320"/>
            </a:xfrm>
          </p:grpSpPr>
          <p:sp>
            <p:nvSpPr>
              <p:cNvPr id="179" name="AutoShape 7"/>
              <p:cNvSpPr/>
              <p:nvPr/>
            </p:nvSpPr>
            <p:spPr>
              <a:xfrm>
                <a:off x="1668600" y="3484440"/>
                <a:ext cx="1178280" cy="11797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  <a:moveTo>
                      <a:pt x="16796" y="2882"/>
                    </a:move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  <p:pic>
            <p:nvPicPr>
              <p:cNvPr id="180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7760" y="3333600"/>
                <a:ext cx="1488960" cy="1489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1" name="Picture 10" descr=""/>
            <p:cNvPicPr/>
            <p:nvPr/>
          </p:nvPicPr>
          <p:blipFill>
            <a:blip r:embed="rId4"/>
            <a:stretch/>
          </p:blipFill>
          <p:spPr>
            <a:xfrm>
              <a:off x="1739880" y="3560040"/>
              <a:ext cx="1033560" cy="103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16"/>
          <p:cNvGrpSpPr/>
          <p:nvPr/>
        </p:nvGrpSpPr>
        <p:grpSpPr>
          <a:xfrm>
            <a:off x="1517760" y="5408640"/>
            <a:ext cx="1488960" cy="1488960"/>
            <a:chOff x="1517760" y="5408640"/>
            <a:chExt cx="1488960" cy="1488960"/>
          </a:xfrm>
        </p:grpSpPr>
        <p:grpSp>
          <p:nvGrpSpPr>
            <p:cNvPr id="183" name="Group 14"/>
            <p:cNvGrpSpPr/>
            <p:nvPr/>
          </p:nvGrpSpPr>
          <p:grpSpPr>
            <a:xfrm>
              <a:off x="1517760" y="5408640"/>
              <a:ext cx="1488960" cy="1488960"/>
              <a:chOff x="1517760" y="5408640"/>
              <a:chExt cx="1488960" cy="1488960"/>
            </a:xfrm>
          </p:grpSpPr>
          <p:sp>
            <p:nvSpPr>
              <p:cNvPr id="184" name="AutoShape 12"/>
              <p:cNvSpPr/>
              <p:nvPr/>
            </p:nvSpPr>
            <p:spPr>
              <a:xfrm>
                <a:off x="1668600" y="5559480"/>
                <a:ext cx="1178280" cy="117936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  <a:moveTo>
                      <a:pt x="16796" y="2882"/>
                    </a:move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Cambria"/>
                </a:endParaRPr>
              </a:p>
            </p:txBody>
          </p:sp>
          <p:pic>
            <p:nvPicPr>
              <p:cNvPr id="185" name="Picture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1517760" y="5408640"/>
                <a:ext cx="1488960" cy="1488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6" name="Picture 15" descr=""/>
            <p:cNvPicPr/>
            <p:nvPr/>
          </p:nvPicPr>
          <p:blipFill>
            <a:blip r:embed="rId6"/>
            <a:stretch/>
          </p:blipFill>
          <p:spPr>
            <a:xfrm>
              <a:off x="1739880" y="5632200"/>
              <a:ext cx="1033560" cy="103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Rectangle 17"/>
          <p:cNvSpPr/>
          <p:nvPr/>
        </p:nvSpPr>
        <p:spPr>
          <a:xfrm>
            <a:off x="990720" y="590400"/>
            <a:ext cx="430560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a1a1a"/>
                </a:solidFill>
                <a:latin typeface="Cambria Bold"/>
                <a:ea typeface="ＭＳ Ｐゴシック"/>
              </a:rPr>
              <a:t>Cool Showcase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1077840" y="1501920"/>
            <a:ext cx="14092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Cambria"/>
                <a:ea typeface="ＭＳ Ｐゴシック"/>
              </a:rPr>
              <a:t>Look back over history, people have put their lives at stake to go out and explore …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astas Mano</cp:lastModifiedBy>
  <dcterms:modified xsi:type="dcterms:W3CDTF">2018-10-28T19:36:22Z</dcterms:modified>
  <cp:revision>1</cp:revision>
  <dc:subject/>
  <dc:title>PowerPoint Presentation</dc:title>
</cp:coreProperties>
</file>