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4898520" y="3879720"/>
            <a:ext cx="64954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implistic Theme</a:t>
            </a:r>
            <a:endParaRPr b="0" lang="en-US" sz="6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4002120" y="487044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Suspendisse hendrerit arcu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7"/>
          <p:cNvGrpSpPr/>
          <p:nvPr/>
        </p:nvGrpSpPr>
        <p:grpSpPr>
          <a:xfrm>
            <a:off x="9363240" y="3200400"/>
            <a:ext cx="1869120" cy="6126120"/>
            <a:chOff x="9363240" y="3200400"/>
            <a:chExt cx="1869120" cy="6126120"/>
          </a:xfrm>
        </p:grpSpPr>
        <p:sp>
          <p:nvSpPr>
            <p:cNvPr id="174" name="Line 1"/>
            <p:cNvSpPr/>
            <p:nvPr/>
          </p:nvSpPr>
          <p:spPr>
            <a:xfrm flipV="1">
              <a:off x="10298880" y="4684680"/>
              <a:ext cx="0" cy="4641840"/>
            </a:xfrm>
            <a:prstGeom prst="line">
              <a:avLst/>
            </a:prstGeom>
            <a:ln w="507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75" name="Group 6"/>
            <p:cNvGrpSpPr/>
            <p:nvPr/>
          </p:nvGrpSpPr>
          <p:grpSpPr>
            <a:xfrm>
              <a:off x="9363240" y="3200400"/>
              <a:ext cx="1869120" cy="1862280"/>
              <a:chOff x="9363240" y="3200400"/>
              <a:chExt cx="1869120" cy="1862280"/>
            </a:xfrm>
          </p:grpSpPr>
          <p:sp>
            <p:nvSpPr>
              <p:cNvPr id="176" name="AutoShape 2"/>
              <p:cNvSpPr/>
              <p:nvPr/>
            </p:nvSpPr>
            <p:spPr>
              <a:xfrm>
                <a:off x="9363240" y="3673440"/>
                <a:ext cx="922680" cy="9190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AutoShape 3"/>
              <p:cNvSpPr/>
              <p:nvPr/>
            </p:nvSpPr>
            <p:spPr>
              <a:xfrm>
                <a:off x="10309680" y="3672000"/>
                <a:ext cx="922680" cy="91764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8" name="AutoShape 4"/>
              <p:cNvSpPr/>
              <p:nvPr/>
            </p:nvSpPr>
            <p:spPr>
              <a:xfrm>
                <a:off x="9838080" y="3200400"/>
                <a:ext cx="922680" cy="917640"/>
              </a:xfrm>
              <a:prstGeom prst="diamond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9" name="AutoShape 5"/>
              <p:cNvSpPr/>
              <p:nvPr/>
            </p:nvSpPr>
            <p:spPr>
              <a:xfrm>
                <a:off x="9838080" y="4143240"/>
                <a:ext cx="922680" cy="919440"/>
              </a:xfrm>
              <a:prstGeom prst="diamond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80" name="Group 14"/>
          <p:cNvGrpSpPr/>
          <p:nvPr/>
        </p:nvGrpSpPr>
        <p:grpSpPr>
          <a:xfrm>
            <a:off x="11395080" y="4419720"/>
            <a:ext cx="1869480" cy="4767120"/>
            <a:chOff x="11395080" y="4419720"/>
            <a:chExt cx="1869480" cy="4767120"/>
          </a:xfrm>
        </p:grpSpPr>
        <p:sp>
          <p:nvSpPr>
            <p:cNvPr id="181" name="Line 8"/>
            <p:cNvSpPr/>
            <p:nvPr/>
          </p:nvSpPr>
          <p:spPr>
            <a:xfrm flipV="1">
              <a:off x="12325320" y="6046920"/>
              <a:ext cx="1800" cy="3139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82" name="Group 13"/>
            <p:cNvGrpSpPr/>
            <p:nvPr/>
          </p:nvGrpSpPr>
          <p:grpSpPr>
            <a:xfrm>
              <a:off x="11395080" y="4419720"/>
              <a:ext cx="1869480" cy="1862280"/>
              <a:chOff x="11395080" y="4419720"/>
              <a:chExt cx="1869480" cy="1862280"/>
            </a:xfrm>
          </p:grpSpPr>
          <p:sp>
            <p:nvSpPr>
              <p:cNvPr id="183" name="AutoShape 9"/>
              <p:cNvSpPr/>
              <p:nvPr/>
            </p:nvSpPr>
            <p:spPr>
              <a:xfrm>
                <a:off x="11395080" y="4892760"/>
                <a:ext cx="922680" cy="919080"/>
              </a:xfrm>
              <a:prstGeom prst="diamond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84" name="AutoShape 10"/>
              <p:cNvSpPr/>
              <p:nvPr/>
            </p:nvSpPr>
            <p:spPr>
              <a:xfrm>
                <a:off x="12341880" y="4891320"/>
                <a:ext cx="922680" cy="917640"/>
              </a:xfrm>
              <a:prstGeom prst="diamond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85" name="AutoShape 11"/>
              <p:cNvSpPr/>
              <p:nvPr/>
            </p:nvSpPr>
            <p:spPr>
              <a:xfrm>
                <a:off x="11870280" y="4419720"/>
                <a:ext cx="922680" cy="917640"/>
              </a:xfrm>
              <a:prstGeom prst="diamond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86" name="AutoShape 12"/>
              <p:cNvSpPr/>
              <p:nvPr/>
            </p:nvSpPr>
            <p:spPr>
              <a:xfrm>
                <a:off x="11870280" y="5362560"/>
                <a:ext cx="922680" cy="919440"/>
              </a:xfrm>
              <a:prstGeom prst="diamond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87" name="Group 17"/>
          <p:cNvGrpSpPr/>
          <p:nvPr/>
        </p:nvGrpSpPr>
        <p:grpSpPr>
          <a:xfrm>
            <a:off x="10537920" y="7513560"/>
            <a:ext cx="3911400" cy="1717560"/>
            <a:chOff x="10537920" y="7513560"/>
            <a:chExt cx="3911400" cy="1717560"/>
          </a:xfrm>
        </p:grpSpPr>
        <p:sp>
          <p:nvSpPr>
            <p:cNvPr id="188" name="AutoShape 15"/>
            <p:cNvSpPr/>
            <p:nvPr/>
          </p:nvSpPr>
          <p:spPr>
            <a:xfrm flipH="1">
              <a:off x="11820240" y="8339760"/>
              <a:ext cx="334800" cy="363960"/>
            </a:xfrm>
            <a:prstGeom prst="rightArrow">
              <a:avLst>
                <a:gd name="adj1" fmla="val 32000"/>
                <a:gd name="adj2" fmla="val 88514"/>
              </a:avLst>
            </a:prstGeom>
            <a:solidFill>
              <a:srgbClr val="b2b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89" name="Picture 16" descr=""/>
            <p:cNvPicPr/>
            <p:nvPr/>
          </p:nvPicPr>
          <p:blipFill>
            <a:blip r:embed="rId1"/>
            <a:stretch/>
          </p:blipFill>
          <p:spPr>
            <a:xfrm>
              <a:off x="10537920" y="7513560"/>
              <a:ext cx="3911400" cy="171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Rectangle 18"/>
          <p:cNvSpPr/>
          <p:nvPr/>
        </p:nvSpPr>
        <p:spPr>
          <a:xfrm>
            <a:off x="1047600" y="485640"/>
            <a:ext cx="141415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1" name="Picture 19" descr=""/>
          <p:cNvPicPr/>
          <p:nvPr/>
        </p:nvPicPr>
        <p:blipFill>
          <a:blip r:embed="rId2"/>
          <a:stretch/>
        </p:blipFill>
        <p:spPr>
          <a:xfrm>
            <a:off x="1936800" y="4286160"/>
            <a:ext cx="219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"/>
          <p:cNvPicPr/>
          <p:nvPr/>
        </p:nvPicPr>
        <p:blipFill>
          <a:blip r:embed="rId3"/>
          <a:stretch/>
        </p:blipFill>
        <p:spPr>
          <a:xfrm>
            <a:off x="2933640" y="57150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1"/>
          <p:cNvSpPr/>
          <p:nvPr/>
        </p:nvSpPr>
        <p:spPr>
          <a:xfrm>
            <a:off x="1917720" y="7149960"/>
            <a:ext cx="232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333"/>
                </a:solidFill>
                <a:latin typeface="Cambria Bold"/>
                <a:ea typeface="ＭＳ Ｐゴシック"/>
              </a:rPr>
              <a:t>Nam nec ant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5562720" y="7149960"/>
            <a:ext cx="2324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333"/>
                </a:solidFill>
                <a:latin typeface="Cambria Bold"/>
                <a:ea typeface="ＭＳ Ｐゴシック"/>
              </a:rPr>
              <a:t>Lorem ipsu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5" name="Picture 23" descr=""/>
          <p:cNvPicPr/>
          <p:nvPr/>
        </p:nvPicPr>
        <p:blipFill>
          <a:blip r:embed="rId4"/>
          <a:stretch/>
        </p:blipFill>
        <p:spPr>
          <a:xfrm>
            <a:off x="5518080" y="4248000"/>
            <a:ext cx="2197080" cy="221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"/>
          <p:cNvPicPr/>
          <p:nvPr/>
        </p:nvPicPr>
        <p:blipFill>
          <a:blip r:embed="rId5"/>
          <a:stretch/>
        </p:blipFill>
        <p:spPr>
          <a:xfrm>
            <a:off x="6664320" y="543240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3434"/>
                </a:solidFill>
                <a:latin typeface="Lora Bold"/>
                <a:ea typeface="ＭＳ Ｐゴシック"/>
              </a:rPr>
              <a:t>Visit </a:t>
            </a:r>
            <a:r>
              <a:rPr b="0" lang="en-US" sz="4800" spc="-1" strike="noStrike">
                <a:solidFill>
                  <a:srgbClr val="808080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343434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3434"/>
                </a:solidFill>
                <a:latin typeface="Lora Bold"/>
                <a:ea typeface="ＭＳ Ｐゴシック"/>
              </a:rPr>
              <a:t>for more free resources!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765400" y="6095880"/>
            <a:ext cx="472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Color Scheme: </a:t>
            </a: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Grayton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155280" y="5397480"/>
            <a:ext cx="392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Cambria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5842080" y="6794640"/>
            <a:ext cx="4572000" cy="787320"/>
            <a:chOff x="5842080" y="6794640"/>
            <a:chExt cx="4572000" cy="787320"/>
          </a:xfrm>
        </p:grpSpPr>
        <p:sp>
          <p:nvSpPr>
            <p:cNvPr id="201" name="Rectangle 4"/>
            <p:cNvSpPr/>
            <p:nvPr/>
          </p:nvSpPr>
          <p:spPr>
            <a:xfrm>
              <a:off x="5842080" y="6794640"/>
              <a:ext cx="914400" cy="787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6756480" y="6794640"/>
              <a:ext cx="914400" cy="7873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7670880" y="6794640"/>
              <a:ext cx="914400" cy="7873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8585280" y="6794640"/>
              <a:ext cx="914400" cy="78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9499680" y="6794640"/>
              <a:ext cx="914400" cy="78732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1"/>
          <p:cNvSpPr/>
          <p:nvPr/>
        </p:nvSpPr>
        <p:spPr>
          <a:xfrm>
            <a:off x="8945640" y="6402240"/>
            <a:ext cx="6057720" cy="762120"/>
          </a:xfrm>
          <a:prstGeom prst="rightArrow">
            <a:avLst>
              <a:gd name="adj1" fmla="val 64991"/>
              <a:gd name="adj2" fmla="val 38712"/>
            </a:avLst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AutoShape 2"/>
          <p:cNvSpPr/>
          <p:nvPr/>
        </p:nvSpPr>
        <p:spPr>
          <a:xfrm>
            <a:off x="9941040" y="5419800"/>
            <a:ext cx="4724280" cy="761760"/>
          </a:xfrm>
          <a:prstGeom prst="rightArrow">
            <a:avLst>
              <a:gd name="adj1" fmla="val 64991"/>
              <a:gd name="adj2" fmla="val 38732"/>
            </a:avLst>
          </a:prstGeom>
          <a:solidFill>
            <a:srgbClr val="b2b4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AutoShape 3"/>
          <p:cNvSpPr/>
          <p:nvPr/>
        </p:nvSpPr>
        <p:spPr>
          <a:xfrm>
            <a:off x="9175680" y="5911920"/>
            <a:ext cx="4940280" cy="761760"/>
          </a:xfrm>
          <a:prstGeom prst="rightArrow">
            <a:avLst>
              <a:gd name="adj1" fmla="val 64991"/>
              <a:gd name="adj2" fmla="val 38732"/>
            </a:avLst>
          </a:prstGeom>
          <a:solidFill>
            <a:srgbClr val="2f2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AutoShape 4"/>
          <p:cNvSpPr/>
          <p:nvPr/>
        </p:nvSpPr>
        <p:spPr>
          <a:xfrm flipH="1">
            <a:off x="1728000" y="5589720"/>
            <a:ext cx="5575320" cy="761760"/>
          </a:xfrm>
          <a:prstGeom prst="rightArrow">
            <a:avLst>
              <a:gd name="adj1" fmla="val 64991"/>
              <a:gd name="adj2" fmla="val 38730"/>
            </a:avLst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AutoShape 5"/>
          <p:cNvSpPr/>
          <p:nvPr/>
        </p:nvSpPr>
        <p:spPr>
          <a:xfrm flipH="1">
            <a:off x="2512440" y="6080040"/>
            <a:ext cx="5702040" cy="762120"/>
          </a:xfrm>
          <a:prstGeom prst="rightArrow">
            <a:avLst>
              <a:gd name="adj1" fmla="val 64991"/>
              <a:gd name="adj2" fmla="val 38725"/>
            </a:avLst>
          </a:prstGeom>
          <a:solidFill>
            <a:srgbClr val="b2b4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617920" y="5764320"/>
            <a:ext cx="1784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Slow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503440" y="6267600"/>
            <a:ext cx="1784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uper Bad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241080" y="5583240"/>
            <a:ext cx="1784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uper Fast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1987280" y="6097680"/>
            <a:ext cx="294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Turbo Fast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2241080" y="6589800"/>
            <a:ext cx="2940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uper Mega Fast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042200" y="590400"/>
            <a:ext cx="3852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Plan Summ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441600" y="2513160"/>
            <a:ext cx="9258480" cy="750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2921040" y="3479760"/>
            <a:ext cx="1106172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069920" y="2479680"/>
            <a:ext cx="14121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301"/>
              </a:spcBef>
              <a:buClr>
                <a:srgbClr val="000000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 Houston, Tranquillity Base here. The Eagle has landed. I don't know what you could say about a day in which you have seen four beautiful sunse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57320" y="580068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065240" y="6424560"/>
            <a:ext cx="3260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105520" y="579600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111640" y="6419880"/>
            <a:ext cx="32623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373040" y="3219480"/>
            <a:ext cx="2654280" cy="265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427720" y="3114720"/>
            <a:ext cx="2633760" cy="263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10267920" y="3549600"/>
            <a:ext cx="4381560" cy="44071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0"/>
          <p:cNvSpPr/>
          <p:nvPr/>
        </p:nvSpPr>
        <p:spPr>
          <a:xfrm>
            <a:off x="10225080" y="7311960"/>
            <a:ext cx="2629080" cy="622440"/>
          </a:xfrm>
          <a:prstGeom prst="roundRect">
            <a:avLst>
              <a:gd name="adj" fmla="val 36731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0522080" y="7388280"/>
            <a:ext cx="2197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John Do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2797200" y="3289320"/>
            <a:ext cx="1950480" cy="2142720"/>
            <a:chOff x="2797200" y="3289320"/>
            <a:chExt cx="1950480" cy="2142720"/>
          </a:xfrm>
        </p:grpSpPr>
        <p:sp>
          <p:nvSpPr>
            <p:cNvPr id="67" name="Rectangle 1"/>
            <p:cNvSpPr/>
            <p:nvPr/>
          </p:nvSpPr>
          <p:spPr>
            <a:xfrm>
              <a:off x="2797200" y="5263560"/>
              <a:ext cx="1945800" cy="168480"/>
            </a:xfrm>
            <a:prstGeom prst="rect">
              <a:avLst/>
            </a:prstGeom>
            <a:solidFill>
              <a:srgbClr val="b2b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2801520" y="3289320"/>
              <a:ext cx="1946160" cy="194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6"/>
          <p:cNvGrpSpPr/>
          <p:nvPr/>
        </p:nvGrpSpPr>
        <p:grpSpPr>
          <a:xfrm>
            <a:off x="4978440" y="3290760"/>
            <a:ext cx="1946160" cy="2139840"/>
            <a:chOff x="4978440" y="3290760"/>
            <a:chExt cx="1946160" cy="2139840"/>
          </a:xfrm>
        </p:grpSpPr>
        <p:sp>
          <p:nvSpPr>
            <p:cNvPr id="70" name="Rectangle 4"/>
            <p:cNvSpPr/>
            <p:nvPr/>
          </p:nvSpPr>
          <p:spPr>
            <a:xfrm>
              <a:off x="4978440" y="5260680"/>
              <a:ext cx="194616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71" name="Picture 5" descr=""/>
            <p:cNvPicPr/>
            <p:nvPr/>
          </p:nvPicPr>
          <p:blipFill>
            <a:blip r:embed="rId2"/>
            <a:stretch/>
          </p:blipFill>
          <p:spPr>
            <a:xfrm>
              <a:off x="4978440" y="3290760"/>
              <a:ext cx="1946160" cy="19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9"/>
          <p:cNvGrpSpPr/>
          <p:nvPr/>
        </p:nvGrpSpPr>
        <p:grpSpPr>
          <a:xfrm>
            <a:off x="7147080" y="3290760"/>
            <a:ext cx="1953720" cy="2139840"/>
            <a:chOff x="7147080" y="3290760"/>
            <a:chExt cx="1953720" cy="2139840"/>
          </a:xfrm>
        </p:grpSpPr>
        <p:sp>
          <p:nvSpPr>
            <p:cNvPr id="73" name="Rectangle 7"/>
            <p:cNvSpPr/>
            <p:nvPr/>
          </p:nvSpPr>
          <p:spPr>
            <a:xfrm>
              <a:off x="7153560" y="5260680"/>
              <a:ext cx="194724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74" name="Picture 8" descr=""/>
            <p:cNvPicPr/>
            <p:nvPr/>
          </p:nvPicPr>
          <p:blipFill>
            <a:blip r:embed="rId3"/>
            <a:stretch/>
          </p:blipFill>
          <p:spPr>
            <a:xfrm>
              <a:off x="7147080" y="3290760"/>
              <a:ext cx="1947240" cy="19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2"/>
          <p:cNvGrpSpPr/>
          <p:nvPr/>
        </p:nvGrpSpPr>
        <p:grpSpPr>
          <a:xfrm>
            <a:off x="9325080" y="3290760"/>
            <a:ext cx="1949400" cy="2141280"/>
            <a:chOff x="9325080" y="3290760"/>
            <a:chExt cx="1949400" cy="2141280"/>
          </a:xfrm>
        </p:grpSpPr>
        <p:sp>
          <p:nvSpPr>
            <p:cNvPr id="76" name="Rectangle 10"/>
            <p:cNvSpPr/>
            <p:nvPr/>
          </p:nvSpPr>
          <p:spPr>
            <a:xfrm>
              <a:off x="9325080" y="5262120"/>
              <a:ext cx="1946160" cy="169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77" name="Picture 11" descr=""/>
            <p:cNvPicPr/>
            <p:nvPr/>
          </p:nvPicPr>
          <p:blipFill>
            <a:blip r:embed="rId4"/>
            <a:stretch/>
          </p:blipFill>
          <p:spPr>
            <a:xfrm>
              <a:off x="9328320" y="3290760"/>
              <a:ext cx="1946160" cy="19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15"/>
          <p:cNvGrpSpPr/>
          <p:nvPr/>
        </p:nvGrpSpPr>
        <p:grpSpPr>
          <a:xfrm>
            <a:off x="11493360" y="3290760"/>
            <a:ext cx="1949400" cy="2141280"/>
            <a:chOff x="11493360" y="3290760"/>
            <a:chExt cx="1949400" cy="2141280"/>
          </a:xfrm>
        </p:grpSpPr>
        <p:sp>
          <p:nvSpPr>
            <p:cNvPr id="79" name="Rectangle 13"/>
            <p:cNvSpPr/>
            <p:nvPr/>
          </p:nvSpPr>
          <p:spPr>
            <a:xfrm>
              <a:off x="11494800" y="5262120"/>
              <a:ext cx="1947960" cy="16992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80" name="Picture 14" descr=""/>
            <p:cNvPicPr/>
            <p:nvPr/>
          </p:nvPicPr>
          <p:blipFill>
            <a:blip r:embed="rId5"/>
            <a:stretch/>
          </p:blipFill>
          <p:spPr>
            <a:xfrm>
              <a:off x="11493360" y="3290760"/>
              <a:ext cx="1947600" cy="19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16"/>
          <p:cNvSpPr/>
          <p:nvPr/>
        </p:nvSpPr>
        <p:spPr>
          <a:xfrm>
            <a:off x="1069920" y="6056280"/>
            <a:ext cx="141210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Vivamus congue felis eget mauris convallis finibus. Duis pulvinar at massa imperdiet finibu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000000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Lorem ipsum dolor sit amet, consectetur adipiscing elit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000000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Aliquam a ullamcorper quam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000000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Nulla scelerisque convallis malesuada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1166760" y="3108240"/>
            <a:ext cx="1241280" cy="1241280"/>
            <a:chOff x="1166760" y="3108240"/>
            <a:chExt cx="1241280" cy="1241280"/>
          </a:xfrm>
        </p:grpSpPr>
        <p:sp>
          <p:nvSpPr>
            <p:cNvPr id="85" name="Rectangle 1"/>
            <p:cNvSpPr/>
            <p:nvPr/>
          </p:nvSpPr>
          <p:spPr>
            <a:xfrm>
              <a:off x="1227240" y="3189240"/>
              <a:ext cx="1118880" cy="105084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86" name="Picture 2" descr=""/>
            <p:cNvPicPr/>
            <p:nvPr/>
          </p:nvPicPr>
          <p:blipFill>
            <a:blip r:embed="rId1"/>
            <a:stretch/>
          </p:blipFill>
          <p:spPr>
            <a:xfrm>
              <a:off x="1166760" y="3108240"/>
              <a:ext cx="1241280" cy="12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4"/>
          <p:cNvSpPr/>
          <p:nvPr/>
        </p:nvSpPr>
        <p:spPr>
          <a:xfrm>
            <a:off x="2903400" y="3038400"/>
            <a:ext cx="4692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1184400" y="4924440"/>
            <a:ext cx="1240920" cy="1240920"/>
            <a:chOff x="1184400" y="4924440"/>
            <a:chExt cx="1240920" cy="1240920"/>
          </a:xfrm>
        </p:grpSpPr>
        <p:sp>
          <p:nvSpPr>
            <p:cNvPr id="89" name="Rectangle 5"/>
            <p:cNvSpPr/>
            <p:nvPr/>
          </p:nvSpPr>
          <p:spPr>
            <a:xfrm>
              <a:off x="1238400" y="5033880"/>
              <a:ext cx="1118520" cy="105048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90" name="Picture 6" descr=""/>
            <p:cNvPicPr/>
            <p:nvPr/>
          </p:nvPicPr>
          <p:blipFill>
            <a:blip r:embed="rId2"/>
            <a:stretch/>
          </p:blipFill>
          <p:spPr>
            <a:xfrm>
              <a:off x="1184400" y="4924440"/>
              <a:ext cx="124092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8"/>
          <p:cNvSpPr/>
          <p:nvPr/>
        </p:nvSpPr>
        <p:spPr>
          <a:xfrm>
            <a:off x="2903400" y="4732200"/>
            <a:ext cx="4692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Phasellus eget dolor eu lacus imperdiet lacinia. Nunc tincidunt semper odio ac temp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1166760" y="6892920"/>
            <a:ext cx="1241280" cy="1240920"/>
            <a:chOff x="1166760" y="6892920"/>
            <a:chExt cx="1241280" cy="1240920"/>
          </a:xfrm>
        </p:grpSpPr>
        <p:sp>
          <p:nvSpPr>
            <p:cNvPr id="93" name="Rectangle 9"/>
            <p:cNvSpPr/>
            <p:nvPr/>
          </p:nvSpPr>
          <p:spPr>
            <a:xfrm>
              <a:off x="1227240" y="6950160"/>
              <a:ext cx="111888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94" name="Picture 10" descr=""/>
            <p:cNvPicPr/>
            <p:nvPr/>
          </p:nvPicPr>
          <p:blipFill>
            <a:blip r:embed="rId3"/>
            <a:stretch/>
          </p:blipFill>
          <p:spPr>
            <a:xfrm>
              <a:off x="1166760" y="689292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Rectangle 12"/>
          <p:cNvSpPr/>
          <p:nvPr/>
        </p:nvSpPr>
        <p:spPr>
          <a:xfrm>
            <a:off x="2903400" y="6799320"/>
            <a:ext cx="46929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8440560" y="3106800"/>
            <a:ext cx="1241280" cy="1240920"/>
            <a:chOff x="8440560" y="3106800"/>
            <a:chExt cx="1241280" cy="1240920"/>
          </a:xfrm>
        </p:grpSpPr>
        <p:sp>
          <p:nvSpPr>
            <p:cNvPr id="97" name="Rectangle 13"/>
            <p:cNvSpPr/>
            <p:nvPr/>
          </p:nvSpPr>
          <p:spPr>
            <a:xfrm>
              <a:off x="8508960" y="3222720"/>
              <a:ext cx="1118880" cy="105048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98" name="Picture 14" descr=""/>
            <p:cNvPicPr/>
            <p:nvPr/>
          </p:nvPicPr>
          <p:blipFill>
            <a:blip r:embed="rId4"/>
            <a:stretch/>
          </p:blipFill>
          <p:spPr>
            <a:xfrm>
              <a:off x="8440560" y="310680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6"/>
          <p:cNvSpPr/>
          <p:nvPr/>
        </p:nvSpPr>
        <p:spPr>
          <a:xfrm>
            <a:off x="10101240" y="2987640"/>
            <a:ext cx="46926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8440560" y="5000760"/>
            <a:ext cx="1241280" cy="1239840"/>
            <a:chOff x="8440560" y="5000760"/>
            <a:chExt cx="1241280" cy="1239840"/>
          </a:xfrm>
        </p:grpSpPr>
        <p:sp>
          <p:nvSpPr>
            <p:cNvPr id="101" name="Rectangle 17"/>
            <p:cNvSpPr/>
            <p:nvPr/>
          </p:nvSpPr>
          <p:spPr>
            <a:xfrm>
              <a:off x="8496000" y="5139000"/>
              <a:ext cx="1119240" cy="104904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02" name="Picture 18" descr=""/>
            <p:cNvPicPr/>
            <p:nvPr/>
          </p:nvPicPr>
          <p:blipFill>
            <a:blip r:embed="rId5"/>
            <a:stretch/>
          </p:blipFill>
          <p:spPr>
            <a:xfrm>
              <a:off x="8440560" y="5000760"/>
              <a:ext cx="1241280" cy="12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20"/>
          <p:cNvSpPr/>
          <p:nvPr/>
        </p:nvSpPr>
        <p:spPr>
          <a:xfrm>
            <a:off x="10101240" y="4681440"/>
            <a:ext cx="4692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Phasellus eget dolor eu lacus imperdiet lacinia. Nunc tincidunt semper odio ac temp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8440560" y="6892920"/>
            <a:ext cx="1241280" cy="1240920"/>
            <a:chOff x="8440560" y="6892920"/>
            <a:chExt cx="1241280" cy="1240920"/>
          </a:xfrm>
        </p:grpSpPr>
        <p:sp>
          <p:nvSpPr>
            <p:cNvPr id="105" name="Rectangle 21"/>
            <p:cNvSpPr/>
            <p:nvPr/>
          </p:nvSpPr>
          <p:spPr>
            <a:xfrm>
              <a:off x="8496000" y="7018200"/>
              <a:ext cx="111924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106" name="Picture 22" descr=""/>
            <p:cNvPicPr/>
            <p:nvPr/>
          </p:nvPicPr>
          <p:blipFill>
            <a:blip r:embed="rId6"/>
            <a:stretch/>
          </p:blipFill>
          <p:spPr>
            <a:xfrm>
              <a:off x="8440560" y="689292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24"/>
          <p:cNvSpPr/>
          <p:nvPr/>
        </p:nvSpPr>
        <p:spPr>
          <a:xfrm>
            <a:off x="10101240" y="6748560"/>
            <a:ext cx="4692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Vivamus congue felis eget mauris convallis finib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"/>
          <p:cNvSpPr/>
          <p:nvPr/>
        </p:nvSpPr>
        <p:spPr>
          <a:xfrm>
            <a:off x="2832120" y="377676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873520" y="363528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1887480" y="4556160"/>
            <a:ext cx="327492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28880" y="444024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tex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382760" y="5423040"/>
            <a:ext cx="327492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425600" y="530064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955880" y="623412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996920" y="6118200"/>
            <a:ext cx="328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9790200" y="377676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9831240" y="3708360"/>
            <a:ext cx="328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0772640" y="453384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0814040" y="446580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11423520" y="537228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64920" y="530532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10750680" y="6167520"/>
            <a:ext cx="3273120" cy="507960"/>
          </a:xfrm>
          <a:prstGeom prst="roundRect">
            <a:avLst>
              <a:gd name="adj" fmla="val 1250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0791720" y="6100920"/>
            <a:ext cx="328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039680" y="590400"/>
            <a:ext cx="5895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Product Information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1077840" y="1501920"/>
            <a:ext cx="140922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8" name="Picture 19" descr=""/>
          <p:cNvPicPr/>
          <p:nvPr/>
        </p:nvPicPr>
        <p:blipFill>
          <a:blip r:embed="rId1"/>
          <a:stretch/>
        </p:blipFill>
        <p:spPr>
          <a:xfrm>
            <a:off x="3645000" y="4152960"/>
            <a:ext cx="8636040" cy="4317840"/>
          </a:xfrm>
          <a:prstGeom prst="rect">
            <a:avLst/>
          </a:prstGeom>
          <a:ln w="0">
            <a:noFill/>
          </a:ln>
        </p:spPr>
      </p:pic>
      <p:sp>
        <p:nvSpPr>
          <p:cNvPr id="129" name="Line 20"/>
          <p:cNvSpPr/>
          <p:nvPr/>
        </p:nvSpPr>
        <p:spPr>
          <a:xfrm>
            <a:off x="5308560" y="4241880"/>
            <a:ext cx="1685880" cy="231624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5003640" y="4826160"/>
            <a:ext cx="1955880" cy="191772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97560" y="5651640"/>
            <a:ext cx="2381040" cy="135252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5181480" y="6438960"/>
            <a:ext cx="1792440" cy="68580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Line 24"/>
          <p:cNvSpPr/>
          <p:nvPr/>
        </p:nvSpPr>
        <p:spPr>
          <a:xfrm flipH="1">
            <a:off x="8853120" y="3997440"/>
            <a:ext cx="1082520" cy="256680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Line 25"/>
          <p:cNvSpPr/>
          <p:nvPr/>
        </p:nvSpPr>
        <p:spPr>
          <a:xfrm flipH="1">
            <a:off x="9002880" y="4829040"/>
            <a:ext cx="1923840" cy="185436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9046800" y="5783400"/>
            <a:ext cx="2343240" cy="115380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Line 27"/>
          <p:cNvSpPr/>
          <p:nvPr/>
        </p:nvSpPr>
        <p:spPr>
          <a:xfrm flipH="1">
            <a:off x="8989920" y="6443640"/>
            <a:ext cx="1898640" cy="765360"/>
          </a:xfrm>
          <a:prstGeom prst="line">
            <a:avLst/>
          </a:prstGeom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000080" y="5756400"/>
            <a:ext cx="4194360" cy="2714400"/>
          </a:xfrm>
          <a:prstGeom prst="rect">
            <a:avLst/>
          </a:prstGeom>
          <a:solidFill>
            <a:srgbClr val="b2b4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5186520" y="5756400"/>
            <a:ext cx="5619600" cy="2714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812600" y="5756400"/>
            <a:ext cx="4194000" cy="2714400"/>
          </a:xfrm>
          <a:prstGeom prst="rect">
            <a:avLst/>
          </a:prstGeom>
          <a:solidFill>
            <a:srgbClr val="2f2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05080" y="587232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411200" y="6491160"/>
            <a:ext cx="328320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365880" y="586908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373800" y="6489720"/>
            <a:ext cx="3282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1298240" y="586728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1304720" y="6485040"/>
            <a:ext cx="3282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2097000" y="2954160"/>
            <a:ext cx="1742760" cy="2950920"/>
            <a:chOff x="2097000" y="2954160"/>
            <a:chExt cx="1742760" cy="2950920"/>
          </a:xfrm>
        </p:grpSpPr>
        <p:sp>
          <p:nvSpPr>
            <p:cNvPr id="147" name="Rectangle 10"/>
            <p:cNvSpPr/>
            <p:nvPr/>
          </p:nvSpPr>
          <p:spPr>
            <a:xfrm>
              <a:off x="2844000" y="4632840"/>
              <a:ext cx="255600" cy="246240"/>
            </a:xfrm>
            <a:prstGeom prst="rect">
              <a:avLst/>
            </a:prstGeom>
            <a:solidFill>
              <a:srgbClr val="b2b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721240" y="4850640"/>
              <a:ext cx="510120" cy="1054440"/>
            </a:xfrm>
            <a:prstGeom prst="rect">
              <a:avLst/>
            </a:prstGeom>
            <a:solidFill>
              <a:srgbClr val="b2b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2097000" y="2954160"/>
              <a:ext cx="1742760" cy="173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87" y="1604"/>
                  </a:moveTo>
                  <a:cubicBezTo>
                    <a:pt x="5740" y="1604"/>
                    <a:pt x="1602" y="5721"/>
                    <a:pt x="1602" y="10800"/>
                  </a:cubicBezTo>
                  <a:cubicBezTo>
                    <a:pt x="1602" y="15852"/>
                    <a:pt x="5740" y="19996"/>
                    <a:pt x="10787" y="19996"/>
                  </a:cubicBezTo>
                  <a:cubicBezTo>
                    <a:pt x="15860" y="19996"/>
                    <a:pt x="19971" y="15852"/>
                    <a:pt x="19971" y="10800"/>
                  </a:cubicBezTo>
                  <a:cubicBezTo>
                    <a:pt x="19971" y="5721"/>
                    <a:pt x="15860" y="1604"/>
                    <a:pt x="10787" y="1604"/>
                  </a:cubicBezTo>
                  <a:close/>
                  <a:moveTo>
                    <a:pt x="10787" y="21600"/>
                  </a:moveTo>
                  <a:cubicBezTo>
                    <a:pt x="4833" y="21600"/>
                    <a:pt x="0" y="16761"/>
                    <a:pt x="0" y="10800"/>
                  </a:cubicBezTo>
                  <a:cubicBezTo>
                    <a:pt x="0" y="4839"/>
                    <a:pt x="4833" y="0"/>
                    <a:pt x="10787" y="0"/>
                  </a:cubicBezTo>
                  <a:cubicBezTo>
                    <a:pt x="16741" y="0"/>
                    <a:pt x="21600" y="4839"/>
                    <a:pt x="21600" y="10800"/>
                  </a:cubicBezTo>
                  <a:cubicBezTo>
                    <a:pt x="21600" y="16761"/>
                    <a:pt x="16741" y="21600"/>
                    <a:pt x="10787" y="21600"/>
                  </a:cubicBezTo>
                  <a:close/>
                  <a:moveTo>
                    <a:pt x="10787" y="21600"/>
                  </a:moveTo>
                </a:path>
              </a:pathLst>
            </a:custGeom>
            <a:solidFill>
              <a:srgbClr val="b2b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8682120" y="2954160"/>
            <a:ext cx="1741320" cy="2950920"/>
            <a:chOff x="8682120" y="2954160"/>
            <a:chExt cx="1741320" cy="2950920"/>
          </a:xfrm>
        </p:grpSpPr>
        <p:sp>
          <p:nvSpPr>
            <p:cNvPr id="151" name="Rectangle 14"/>
            <p:cNvSpPr/>
            <p:nvPr/>
          </p:nvSpPr>
          <p:spPr>
            <a:xfrm>
              <a:off x="9428400" y="4632840"/>
              <a:ext cx="257040" cy="246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9306000" y="4850640"/>
              <a:ext cx="509760" cy="10544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53" name="AutoShape 16"/>
            <p:cNvSpPr/>
            <p:nvPr/>
          </p:nvSpPr>
          <p:spPr>
            <a:xfrm>
              <a:off x="8682120" y="2954160"/>
              <a:ext cx="1741320" cy="173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87" y="1604"/>
                  </a:moveTo>
                  <a:cubicBezTo>
                    <a:pt x="5740" y="1604"/>
                    <a:pt x="1602" y="5721"/>
                    <a:pt x="1602" y="10800"/>
                  </a:cubicBezTo>
                  <a:cubicBezTo>
                    <a:pt x="1602" y="15852"/>
                    <a:pt x="5740" y="19996"/>
                    <a:pt x="10787" y="19996"/>
                  </a:cubicBezTo>
                  <a:cubicBezTo>
                    <a:pt x="15860" y="19996"/>
                    <a:pt x="19971" y="15852"/>
                    <a:pt x="19971" y="10800"/>
                  </a:cubicBezTo>
                  <a:cubicBezTo>
                    <a:pt x="19971" y="5721"/>
                    <a:pt x="15860" y="1604"/>
                    <a:pt x="10787" y="1604"/>
                  </a:cubicBezTo>
                  <a:close/>
                  <a:moveTo>
                    <a:pt x="10787" y="21600"/>
                  </a:moveTo>
                  <a:cubicBezTo>
                    <a:pt x="4833" y="21600"/>
                    <a:pt x="0" y="16761"/>
                    <a:pt x="0" y="10800"/>
                  </a:cubicBezTo>
                  <a:cubicBezTo>
                    <a:pt x="0" y="4839"/>
                    <a:pt x="4833" y="0"/>
                    <a:pt x="10787" y="0"/>
                  </a:cubicBezTo>
                  <a:cubicBezTo>
                    <a:pt x="16741" y="0"/>
                    <a:pt x="21600" y="4839"/>
                    <a:pt x="21600" y="10800"/>
                  </a:cubicBezTo>
                  <a:cubicBezTo>
                    <a:pt x="21600" y="16761"/>
                    <a:pt x="16741" y="21600"/>
                    <a:pt x="10787" y="21600"/>
                  </a:cubicBezTo>
                  <a:close/>
                  <a:moveTo>
                    <a:pt x="10787" y="21600"/>
                  </a:move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54" name="Oval 18"/>
          <p:cNvSpPr/>
          <p:nvPr/>
        </p:nvSpPr>
        <p:spPr>
          <a:xfrm>
            <a:off x="2224080" y="3089160"/>
            <a:ext cx="1490760" cy="1497240"/>
          </a:xfrm>
          <a:prstGeom prst="ellipse">
            <a:avLst/>
          </a:prstGeom>
          <a:solidFill>
            <a:srgbClr val="7f7f7f"/>
          </a:solidFill>
          <a:ln w="11448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8807400" y="3089160"/>
            <a:ext cx="1490760" cy="1497240"/>
          </a:xfrm>
          <a:prstGeom prst="ellipse">
            <a:avLst/>
          </a:prstGeom>
          <a:solidFill>
            <a:srgbClr val="2f2b2a"/>
          </a:solidFill>
          <a:ln w="11448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1042200" y="590400"/>
            <a:ext cx="3852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Plan Summ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6667560" y="4927680"/>
            <a:ext cx="409680" cy="9079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AutoShape 23"/>
          <p:cNvSpPr/>
          <p:nvPr/>
        </p:nvSpPr>
        <p:spPr>
          <a:xfrm>
            <a:off x="7505640" y="4915080"/>
            <a:ext cx="336600" cy="9079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AutoShape 24"/>
          <p:cNvSpPr/>
          <p:nvPr/>
        </p:nvSpPr>
        <p:spPr>
          <a:xfrm>
            <a:off x="7886880" y="4915080"/>
            <a:ext cx="336240" cy="90792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AutoShape 25"/>
          <p:cNvSpPr/>
          <p:nvPr/>
        </p:nvSpPr>
        <p:spPr>
          <a:xfrm>
            <a:off x="8267760" y="4902120"/>
            <a:ext cx="336600" cy="90828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0777" y="0"/>
                </a:moveTo>
                <a:cubicBezTo>
                  <a:pt x="9509" y="0"/>
                  <a:pt x="8239" y="180"/>
                  <a:pt x="7271" y="540"/>
                </a:cubicBezTo>
                <a:cubicBezTo>
                  <a:pt x="5335" y="1259"/>
                  <a:pt x="5335" y="2425"/>
                  <a:pt x="7271" y="3144"/>
                </a:cubicBezTo>
                <a:cubicBezTo>
                  <a:pt x="9206" y="3863"/>
                  <a:pt x="12348" y="3863"/>
                  <a:pt x="14284" y="3144"/>
                </a:cubicBezTo>
                <a:cubicBezTo>
                  <a:pt x="16220" y="2425"/>
                  <a:pt x="16220" y="1259"/>
                  <a:pt x="14284" y="540"/>
                </a:cubicBezTo>
                <a:cubicBezTo>
                  <a:pt x="13316" y="180"/>
                  <a:pt x="12046" y="0"/>
                  <a:pt x="10777" y="0"/>
                </a:cubicBezTo>
                <a:close/>
                <a:moveTo>
                  <a:pt x="4845" y="4060"/>
                </a:moveTo>
                <a:cubicBezTo>
                  <a:pt x="2970" y="4060"/>
                  <a:pt x="1445" y="4331"/>
                  <a:pt x="907" y="4563"/>
                </a:cubicBezTo>
                <a:cubicBezTo>
                  <a:pt x="-23" y="4963"/>
                  <a:pt x="-21" y="5438"/>
                  <a:pt x="8" y="5606"/>
                </a:cubicBezTo>
                <a:lnTo>
                  <a:pt x="8" y="12393"/>
                </a:lnTo>
                <a:cubicBezTo>
                  <a:pt x="8" y="12733"/>
                  <a:pt x="732" y="13004"/>
                  <a:pt x="1648" y="13004"/>
                </a:cubicBezTo>
                <a:cubicBezTo>
                  <a:pt x="2563" y="13004"/>
                  <a:pt x="3292" y="12728"/>
                  <a:pt x="3292" y="12393"/>
                </a:cubicBezTo>
                <a:lnTo>
                  <a:pt x="3292" y="6777"/>
                </a:lnTo>
                <a:lnTo>
                  <a:pt x="4791" y="6777"/>
                </a:lnTo>
                <a:lnTo>
                  <a:pt x="4791" y="12641"/>
                </a:lnTo>
                <a:lnTo>
                  <a:pt x="4804" y="12641"/>
                </a:lnTo>
                <a:lnTo>
                  <a:pt x="4804" y="20628"/>
                </a:lnTo>
                <a:cubicBezTo>
                  <a:pt x="4804" y="21163"/>
                  <a:pt x="5982" y="21600"/>
                  <a:pt x="7421" y="21600"/>
                </a:cubicBezTo>
                <a:cubicBezTo>
                  <a:pt x="8860" y="21600"/>
                  <a:pt x="10037" y="21163"/>
                  <a:pt x="10037" y="20628"/>
                </a:cubicBezTo>
                <a:lnTo>
                  <a:pt x="10037" y="12641"/>
                </a:lnTo>
                <a:lnTo>
                  <a:pt x="10777" y="12641"/>
                </a:lnTo>
                <a:lnTo>
                  <a:pt x="11504" y="12641"/>
                </a:lnTo>
                <a:lnTo>
                  <a:pt x="11504" y="20628"/>
                </a:lnTo>
                <a:cubicBezTo>
                  <a:pt x="11504" y="21163"/>
                  <a:pt x="12682" y="21600"/>
                  <a:pt x="14121" y="21600"/>
                </a:cubicBezTo>
                <a:cubicBezTo>
                  <a:pt x="15559" y="21600"/>
                  <a:pt x="16737" y="21163"/>
                  <a:pt x="16737" y="20628"/>
                </a:cubicBezTo>
                <a:lnTo>
                  <a:pt x="16737" y="12636"/>
                </a:lnTo>
                <a:lnTo>
                  <a:pt x="16750" y="12636"/>
                </a:lnTo>
                <a:lnTo>
                  <a:pt x="16750" y="6772"/>
                </a:lnTo>
                <a:lnTo>
                  <a:pt x="18249" y="6772"/>
                </a:lnTo>
                <a:lnTo>
                  <a:pt x="18249" y="12388"/>
                </a:lnTo>
                <a:cubicBezTo>
                  <a:pt x="18249" y="12728"/>
                  <a:pt x="18973" y="12997"/>
                  <a:pt x="19889" y="12997"/>
                </a:cubicBezTo>
                <a:cubicBezTo>
                  <a:pt x="20805" y="12997"/>
                  <a:pt x="21533" y="12723"/>
                  <a:pt x="21533" y="12388"/>
                </a:cubicBezTo>
                <a:lnTo>
                  <a:pt x="21533" y="5606"/>
                </a:lnTo>
                <a:cubicBezTo>
                  <a:pt x="21577" y="5438"/>
                  <a:pt x="21564" y="4957"/>
                  <a:pt x="20634" y="4563"/>
                </a:cubicBezTo>
                <a:cubicBezTo>
                  <a:pt x="20096" y="4336"/>
                  <a:pt x="18566" y="4060"/>
                  <a:pt x="16691" y="4060"/>
                </a:cubicBezTo>
                <a:lnTo>
                  <a:pt x="10777" y="4060"/>
                </a:lnTo>
                <a:lnTo>
                  <a:pt x="4845" y="4060"/>
                </a:lnTo>
                <a:close/>
                <a:moveTo>
                  <a:pt x="4845" y="4060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11798280" y="4808520"/>
            <a:ext cx="1478160" cy="9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97" y="0"/>
                </a:moveTo>
                <a:lnTo>
                  <a:pt x="9497" y="2423"/>
                </a:lnTo>
                <a:lnTo>
                  <a:pt x="8912" y="2423"/>
                </a:lnTo>
                <a:lnTo>
                  <a:pt x="8912" y="12015"/>
                </a:lnTo>
                <a:lnTo>
                  <a:pt x="8161" y="12015"/>
                </a:lnTo>
                <a:lnTo>
                  <a:pt x="8161" y="8943"/>
                </a:lnTo>
                <a:lnTo>
                  <a:pt x="7359" y="8943"/>
                </a:lnTo>
                <a:lnTo>
                  <a:pt x="7359" y="5760"/>
                </a:lnTo>
                <a:lnTo>
                  <a:pt x="4652" y="5760"/>
                </a:lnTo>
                <a:lnTo>
                  <a:pt x="4652" y="8943"/>
                </a:lnTo>
                <a:lnTo>
                  <a:pt x="4652" y="14361"/>
                </a:lnTo>
                <a:lnTo>
                  <a:pt x="3918" y="14361"/>
                </a:lnTo>
                <a:lnTo>
                  <a:pt x="3918" y="10561"/>
                </a:lnTo>
                <a:lnTo>
                  <a:pt x="1907" y="10561"/>
                </a:lnTo>
                <a:lnTo>
                  <a:pt x="1907" y="15385"/>
                </a:lnTo>
                <a:lnTo>
                  <a:pt x="940" y="15385"/>
                </a:lnTo>
                <a:lnTo>
                  <a:pt x="940" y="17597"/>
                </a:lnTo>
                <a:lnTo>
                  <a:pt x="0" y="17597"/>
                </a:lnTo>
                <a:lnTo>
                  <a:pt x="0" y="21600"/>
                </a:lnTo>
                <a:lnTo>
                  <a:pt x="21600" y="21600"/>
                </a:lnTo>
                <a:lnTo>
                  <a:pt x="21600" y="17597"/>
                </a:lnTo>
                <a:lnTo>
                  <a:pt x="20672" y="17597"/>
                </a:lnTo>
                <a:lnTo>
                  <a:pt x="20672" y="15385"/>
                </a:lnTo>
                <a:lnTo>
                  <a:pt x="19821" y="15385"/>
                </a:lnTo>
                <a:lnTo>
                  <a:pt x="19821" y="12015"/>
                </a:lnTo>
                <a:lnTo>
                  <a:pt x="19033" y="12015"/>
                </a:lnTo>
                <a:lnTo>
                  <a:pt x="19033" y="8191"/>
                </a:lnTo>
                <a:lnTo>
                  <a:pt x="16927" y="8191"/>
                </a:lnTo>
                <a:lnTo>
                  <a:pt x="16927" y="15803"/>
                </a:lnTo>
                <a:lnTo>
                  <a:pt x="16212" y="15803"/>
                </a:lnTo>
                <a:lnTo>
                  <a:pt x="16212" y="3677"/>
                </a:lnTo>
                <a:lnTo>
                  <a:pt x="13299" y="4969"/>
                </a:lnTo>
                <a:lnTo>
                  <a:pt x="13299" y="9566"/>
                </a:lnTo>
                <a:lnTo>
                  <a:pt x="12557" y="9566"/>
                </a:lnTo>
                <a:lnTo>
                  <a:pt x="12557" y="2423"/>
                </a:lnTo>
                <a:lnTo>
                  <a:pt x="11973" y="2423"/>
                </a:lnTo>
                <a:lnTo>
                  <a:pt x="11973" y="0"/>
                </a:lnTo>
                <a:lnTo>
                  <a:pt x="9497" y="0"/>
                </a:lnTo>
                <a:close/>
                <a:moveTo>
                  <a:pt x="9497" y="0"/>
                </a:moveTo>
              </a:path>
            </a:pathLst>
          </a:custGeom>
          <a:solidFill>
            <a:srgbClr val="2f2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7086600" y="4927680"/>
            <a:ext cx="409680" cy="9079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6222960" y="4927680"/>
            <a:ext cx="409680" cy="907920"/>
          </a:xfrm>
          <a:custGeom>
            <a:avLst/>
            <a:gdLst/>
            <a:ahLst/>
            <a:rect l="l" t="t" r="r" b="b"/>
            <a:pathLst>
              <a:path w="21297" h="21600">
                <a:moveTo>
                  <a:pt x="10652" y="0"/>
                </a:moveTo>
                <a:cubicBezTo>
                  <a:pt x="9610" y="0"/>
                  <a:pt x="8570" y="182"/>
                  <a:pt x="7774" y="547"/>
                </a:cubicBezTo>
                <a:cubicBezTo>
                  <a:pt x="6184" y="1276"/>
                  <a:pt x="6184" y="2458"/>
                  <a:pt x="7774" y="3188"/>
                </a:cubicBezTo>
                <a:cubicBezTo>
                  <a:pt x="9365" y="3917"/>
                  <a:pt x="11943" y="3917"/>
                  <a:pt x="13534" y="3188"/>
                </a:cubicBezTo>
                <a:cubicBezTo>
                  <a:pt x="15124" y="2458"/>
                  <a:pt x="15124" y="1276"/>
                  <a:pt x="13534" y="547"/>
                </a:cubicBezTo>
                <a:cubicBezTo>
                  <a:pt x="12738" y="182"/>
                  <a:pt x="11695" y="0"/>
                  <a:pt x="10652" y="0"/>
                </a:cubicBezTo>
                <a:close/>
                <a:moveTo>
                  <a:pt x="7859" y="4109"/>
                </a:moveTo>
                <a:cubicBezTo>
                  <a:pt x="5671" y="4109"/>
                  <a:pt x="4499" y="4934"/>
                  <a:pt x="4153" y="5420"/>
                </a:cubicBezTo>
                <a:lnTo>
                  <a:pt x="50" y="11877"/>
                </a:lnTo>
                <a:cubicBezTo>
                  <a:pt x="-150" y="12205"/>
                  <a:pt x="268" y="12546"/>
                  <a:pt x="985" y="12638"/>
                </a:cubicBezTo>
                <a:cubicBezTo>
                  <a:pt x="1106" y="12653"/>
                  <a:pt x="1229" y="12661"/>
                  <a:pt x="1349" y="12661"/>
                </a:cubicBezTo>
                <a:cubicBezTo>
                  <a:pt x="1938" y="12661"/>
                  <a:pt x="2478" y="12482"/>
                  <a:pt x="2644" y="12209"/>
                </a:cubicBezTo>
                <a:lnTo>
                  <a:pt x="6269" y="6537"/>
                </a:lnTo>
                <a:lnTo>
                  <a:pt x="6994" y="6537"/>
                </a:lnTo>
                <a:cubicBezTo>
                  <a:pt x="6989" y="6544"/>
                  <a:pt x="6983" y="6551"/>
                  <a:pt x="6979" y="6558"/>
                </a:cubicBezTo>
                <a:lnTo>
                  <a:pt x="2405" y="14438"/>
                </a:lnTo>
                <a:cubicBezTo>
                  <a:pt x="2329" y="14570"/>
                  <a:pt x="2506" y="14676"/>
                  <a:pt x="2803" y="14676"/>
                </a:cubicBezTo>
                <a:lnTo>
                  <a:pt x="6067" y="14676"/>
                </a:lnTo>
                <a:lnTo>
                  <a:pt x="6067" y="20674"/>
                </a:lnTo>
                <a:cubicBezTo>
                  <a:pt x="6067" y="21185"/>
                  <a:pt x="6972" y="21600"/>
                  <a:pt x="8087" y="21600"/>
                </a:cubicBezTo>
                <a:cubicBezTo>
                  <a:pt x="9203" y="21600"/>
                  <a:pt x="10104" y="21185"/>
                  <a:pt x="10104" y="20674"/>
                </a:cubicBezTo>
                <a:lnTo>
                  <a:pt x="10104" y="14676"/>
                </a:lnTo>
                <a:cubicBezTo>
                  <a:pt x="10326" y="14676"/>
                  <a:pt x="10531" y="14676"/>
                  <a:pt x="10608" y="14676"/>
                </a:cubicBezTo>
                <a:cubicBezTo>
                  <a:pt x="10695" y="14676"/>
                  <a:pt x="10945" y="14676"/>
                  <a:pt x="11201" y="14676"/>
                </a:cubicBezTo>
                <a:lnTo>
                  <a:pt x="11201" y="20674"/>
                </a:lnTo>
                <a:cubicBezTo>
                  <a:pt x="11201" y="21185"/>
                  <a:pt x="12105" y="21600"/>
                  <a:pt x="13221" y="21600"/>
                </a:cubicBezTo>
                <a:cubicBezTo>
                  <a:pt x="14336" y="21600"/>
                  <a:pt x="15238" y="21185"/>
                  <a:pt x="15238" y="20674"/>
                </a:cubicBezTo>
                <a:lnTo>
                  <a:pt x="15238" y="14676"/>
                </a:lnTo>
                <a:lnTo>
                  <a:pt x="18410" y="14676"/>
                </a:lnTo>
                <a:cubicBezTo>
                  <a:pt x="18706" y="14676"/>
                  <a:pt x="18887" y="14570"/>
                  <a:pt x="18811" y="14438"/>
                </a:cubicBezTo>
                <a:lnTo>
                  <a:pt x="14237" y="6558"/>
                </a:lnTo>
                <a:cubicBezTo>
                  <a:pt x="14233" y="6551"/>
                  <a:pt x="14227" y="6544"/>
                  <a:pt x="14222" y="6537"/>
                </a:cubicBezTo>
                <a:lnTo>
                  <a:pt x="14932" y="6537"/>
                </a:lnTo>
                <a:lnTo>
                  <a:pt x="18656" y="12192"/>
                </a:lnTo>
                <a:cubicBezTo>
                  <a:pt x="18827" y="12463"/>
                  <a:pt x="19364" y="12638"/>
                  <a:pt x="19948" y="12638"/>
                </a:cubicBezTo>
                <a:cubicBezTo>
                  <a:pt x="20072" y="12638"/>
                  <a:pt x="20199" y="12631"/>
                  <a:pt x="20324" y="12614"/>
                </a:cubicBezTo>
                <a:cubicBezTo>
                  <a:pt x="21038" y="12519"/>
                  <a:pt x="21450" y="12177"/>
                  <a:pt x="21244" y="11850"/>
                </a:cubicBezTo>
                <a:lnTo>
                  <a:pt x="17037" y="5432"/>
                </a:lnTo>
                <a:lnTo>
                  <a:pt x="17022" y="5407"/>
                </a:lnTo>
                <a:cubicBezTo>
                  <a:pt x="16669" y="4924"/>
                  <a:pt x="15494" y="4112"/>
                  <a:pt x="13328" y="4112"/>
                </a:cubicBezTo>
                <a:cubicBezTo>
                  <a:pt x="13316" y="4112"/>
                  <a:pt x="13303" y="4112"/>
                  <a:pt x="13291" y="4112"/>
                </a:cubicBezTo>
                <a:lnTo>
                  <a:pt x="12768" y="4114"/>
                </a:lnTo>
                <a:cubicBezTo>
                  <a:pt x="12732" y="4113"/>
                  <a:pt x="12698" y="4109"/>
                  <a:pt x="12662" y="4109"/>
                </a:cubicBezTo>
                <a:lnTo>
                  <a:pt x="7859" y="4109"/>
                </a:lnTo>
                <a:close/>
                <a:moveTo>
                  <a:pt x="7859" y="4109"/>
                </a:move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9172800" y="353052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AutoShape 30"/>
          <p:cNvSpPr/>
          <p:nvPr/>
        </p:nvSpPr>
        <p:spPr>
          <a:xfrm>
            <a:off x="3846600" y="4168800"/>
            <a:ext cx="1206360" cy="17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99" y="0"/>
                </a:moveTo>
                <a:cubicBezTo>
                  <a:pt x="4844" y="0"/>
                  <a:pt x="0" y="3364"/>
                  <a:pt x="0" y="7498"/>
                </a:cubicBezTo>
                <a:cubicBezTo>
                  <a:pt x="0" y="10532"/>
                  <a:pt x="2679" y="13248"/>
                  <a:pt x="6711" y="14418"/>
                </a:cubicBezTo>
                <a:lnTo>
                  <a:pt x="6905" y="13852"/>
                </a:lnTo>
                <a:cubicBezTo>
                  <a:pt x="3202" y="12777"/>
                  <a:pt x="881" y="10284"/>
                  <a:pt x="881" y="7498"/>
                </a:cubicBezTo>
                <a:cubicBezTo>
                  <a:pt x="881" y="3702"/>
                  <a:pt x="5330" y="613"/>
                  <a:pt x="10799" y="613"/>
                </a:cubicBezTo>
                <a:cubicBezTo>
                  <a:pt x="16267" y="613"/>
                  <a:pt x="20717" y="3702"/>
                  <a:pt x="20717" y="7498"/>
                </a:cubicBezTo>
                <a:cubicBezTo>
                  <a:pt x="20717" y="10294"/>
                  <a:pt x="18385" y="12790"/>
                  <a:pt x="14664" y="13860"/>
                </a:cubicBezTo>
                <a:lnTo>
                  <a:pt x="14855" y="14426"/>
                </a:lnTo>
                <a:cubicBezTo>
                  <a:pt x="18907" y="13261"/>
                  <a:pt x="21600" y="10542"/>
                  <a:pt x="21600" y="7498"/>
                </a:cubicBezTo>
                <a:cubicBezTo>
                  <a:pt x="21600" y="3364"/>
                  <a:pt x="16754" y="0"/>
                  <a:pt x="10799" y="0"/>
                </a:cubicBezTo>
                <a:close/>
                <a:moveTo>
                  <a:pt x="10782" y="2273"/>
                </a:moveTo>
                <a:cubicBezTo>
                  <a:pt x="6615" y="2273"/>
                  <a:pt x="3224" y="4625"/>
                  <a:pt x="3224" y="7518"/>
                </a:cubicBezTo>
                <a:cubicBezTo>
                  <a:pt x="3224" y="9596"/>
                  <a:pt x="4974" y="11397"/>
                  <a:pt x="7505" y="12246"/>
                </a:cubicBezTo>
                <a:lnTo>
                  <a:pt x="7730" y="11636"/>
                </a:lnTo>
                <a:cubicBezTo>
                  <a:pt x="5583" y="10866"/>
                  <a:pt x="4112" y="9308"/>
                  <a:pt x="4112" y="7518"/>
                </a:cubicBezTo>
                <a:cubicBezTo>
                  <a:pt x="4112" y="4965"/>
                  <a:pt x="7104" y="2890"/>
                  <a:pt x="10782" y="2890"/>
                </a:cubicBezTo>
                <a:cubicBezTo>
                  <a:pt x="14459" y="2890"/>
                  <a:pt x="17452" y="4965"/>
                  <a:pt x="17452" y="7518"/>
                </a:cubicBezTo>
                <a:cubicBezTo>
                  <a:pt x="17452" y="9308"/>
                  <a:pt x="15979" y="10866"/>
                  <a:pt x="13831" y="11636"/>
                </a:cubicBezTo>
                <a:lnTo>
                  <a:pt x="14059" y="12246"/>
                </a:lnTo>
                <a:cubicBezTo>
                  <a:pt x="16590" y="11397"/>
                  <a:pt x="18340" y="9596"/>
                  <a:pt x="18340" y="7518"/>
                </a:cubicBezTo>
                <a:cubicBezTo>
                  <a:pt x="18340" y="4625"/>
                  <a:pt x="14949" y="2273"/>
                  <a:pt x="10782" y="2273"/>
                </a:cubicBezTo>
                <a:close/>
                <a:moveTo>
                  <a:pt x="10782" y="4513"/>
                </a:moveTo>
                <a:cubicBezTo>
                  <a:pt x="8395" y="4513"/>
                  <a:pt x="6452" y="5861"/>
                  <a:pt x="6452" y="7518"/>
                </a:cubicBezTo>
                <a:cubicBezTo>
                  <a:pt x="6452" y="8546"/>
                  <a:pt x="7201" y="9456"/>
                  <a:pt x="8337" y="9998"/>
                </a:cubicBezTo>
                <a:lnTo>
                  <a:pt x="8575" y="9351"/>
                </a:lnTo>
                <a:cubicBezTo>
                  <a:pt x="7820" y="8912"/>
                  <a:pt x="7340" y="8253"/>
                  <a:pt x="7340" y="7518"/>
                </a:cubicBezTo>
                <a:cubicBezTo>
                  <a:pt x="7340" y="6201"/>
                  <a:pt x="8884" y="5129"/>
                  <a:pt x="10782" y="5129"/>
                </a:cubicBezTo>
                <a:cubicBezTo>
                  <a:pt x="12680" y="5129"/>
                  <a:pt x="14223" y="6201"/>
                  <a:pt x="14223" y="7518"/>
                </a:cubicBezTo>
                <a:cubicBezTo>
                  <a:pt x="14223" y="8253"/>
                  <a:pt x="13743" y="8912"/>
                  <a:pt x="12989" y="9351"/>
                </a:cubicBezTo>
                <a:lnTo>
                  <a:pt x="13226" y="9996"/>
                </a:lnTo>
                <a:cubicBezTo>
                  <a:pt x="14363" y="9454"/>
                  <a:pt x="15112" y="8546"/>
                  <a:pt x="15112" y="7518"/>
                </a:cubicBezTo>
                <a:cubicBezTo>
                  <a:pt x="15112" y="5861"/>
                  <a:pt x="13169" y="4513"/>
                  <a:pt x="10782" y="4513"/>
                </a:cubicBezTo>
                <a:close/>
                <a:moveTo>
                  <a:pt x="10782" y="6734"/>
                </a:moveTo>
                <a:cubicBezTo>
                  <a:pt x="10157" y="6734"/>
                  <a:pt x="9652" y="7085"/>
                  <a:pt x="9652" y="7518"/>
                </a:cubicBezTo>
                <a:cubicBezTo>
                  <a:pt x="9652" y="7780"/>
                  <a:pt x="9837" y="8012"/>
                  <a:pt x="10121" y="8155"/>
                </a:cubicBezTo>
                <a:lnTo>
                  <a:pt x="5153" y="21600"/>
                </a:lnTo>
                <a:lnTo>
                  <a:pt x="6317" y="21600"/>
                </a:lnTo>
                <a:lnTo>
                  <a:pt x="10782" y="19994"/>
                </a:lnTo>
                <a:lnTo>
                  <a:pt x="15247" y="21600"/>
                </a:lnTo>
                <a:lnTo>
                  <a:pt x="16411" y="21600"/>
                </a:lnTo>
                <a:lnTo>
                  <a:pt x="11443" y="8155"/>
                </a:lnTo>
                <a:cubicBezTo>
                  <a:pt x="11727" y="8012"/>
                  <a:pt x="11912" y="7780"/>
                  <a:pt x="11912" y="7518"/>
                </a:cubicBezTo>
                <a:cubicBezTo>
                  <a:pt x="11912" y="7085"/>
                  <a:pt x="11406" y="6734"/>
                  <a:pt x="10782" y="6734"/>
                </a:cubicBezTo>
                <a:close/>
                <a:moveTo>
                  <a:pt x="10782" y="9574"/>
                </a:moveTo>
                <a:lnTo>
                  <a:pt x="11648" y="11920"/>
                </a:lnTo>
                <a:lnTo>
                  <a:pt x="9915" y="11920"/>
                </a:lnTo>
                <a:lnTo>
                  <a:pt x="10782" y="9574"/>
                </a:lnTo>
                <a:close/>
                <a:moveTo>
                  <a:pt x="10029" y="12215"/>
                </a:moveTo>
                <a:lnTo>
                  <a:pt x="11532" y="12215"/>
                </a:lnTo>
                <a:lnTo>
                  <a:pt x="10782" y="12891"/>
                </a:lnTo>
                <a:lnTo>
                  <a:pt x="10029" y="12215"/>
                </a:lnTo>
                <a:close/>
                <a:moveTo>
                  <a:pt x="9729" y="12427"/>
                </a:moveTo>
                <a:lnTo>
                  <a:pt x="10513" y="13133"/>
                </a:lnTo>
                <a:lnTo>
                  <a:pt x="8947" y="14541"/>
                </a:lnTo>
                <a:lnTo>
                  <a:pt x="9729" y="12427"/>
                </a:lnTo>
                <a:close/>
                <a:moveTo>
                  <a:pt x="11835" y="12427"/>
                </a:moveTo>
                <a:lnTo>
                  <a:pt x="12616" y="14541"/>
                </a:lnTo>
                <a:lnTo>
                  <a:pt x="11050" y="13133"/>
                </a:lnTo>
                <a:lnTo>
                  <a:pt x="11835" y="12427"/>
                </a:lnTo>
                <a:close/>
                <a:moveTo>
                  <a:pt x="10782" y="13375"/>
                </a:moveTo>
                <a:lnTo>
                  <a:pt x="12568" y="14979"/>
                </a:lnTo>
                <a:lnTo>
                  <a:pt x="8996" y="14979"/>
                </a:lnTo>
                <a:lnTo>
                  <a:pt x="10782" y="13375"/>
                </a:lnTo>
                <a:close/>
                <a:moveTo>
                  <a:pt x="9003" y="15275"/>
                </a:moveTo>
                <a:lnTo>
                  <a:pt x="12561" y="15275"/>
                </a:lnTo>
                <a:lnTo>
                  <a:pt x="10782" y="16237"/>
                </a:lnTo>
                <a:lnTo>
                  <a:pt x="9003" y="15275"/>
                </a:lnTo>
                <a:close/>
                <a:moveTo>
                  <a:pt x="8613" y="15439"/>
                </a:moveTo>
                <a:lnTo>
                  <a:pt x="10436" y="16426"/>
                </a:lnTo>
                <a:lnTo>
                  <a:pt x="7703" y="17904"/>
                </a:lnTo>
                <a:lnTo>
                  <a:pt x="8613" y="15439"/>
                </a:lnTo>
                <a:close/>
                <a:moveTo>
                  <a:pt x="12948" y="15439"/>
                </a:moveTo>
                <a:lnTo>
                  <a:pt x="13860" y="17904"/>
                </a:lnTo>
                <a:lnTo>
                  <a:pt x="11128" y="16426"/>
                </a:lnTo>
                <a:lnTo>
                  <a:pt x="12948" y="15439"/>
                </a:lnTo>
                <a:close/>
                <a:moveTo>
                  <a:pt x="10782" y="16612"/>
                </a:moveTo>
                <a:lnTo>
                  <a:pt x="13785" y="18238"/>
                </a:lnTo>
                <a:lnTo>
                  <a:pt x="7778" y="18238"/>
                </a:lnTo>
                <a:lnTo>
                  <a:pt x="10782" y="16612"/>
                </a:lnTo>
                <a:close/>
                <a:moveTo>
                  <a:pt x="7643" y="18534"/>
                </a:moveTo>
                <a:lnTo>
                  <a:pt x="13921" y="18534"/>
                </a:lnTo>
                <a:lnTo>
                  <a:pt x="10782" y="19661"/>
                </a:lnTo>
                <a:lnTo>
                  <a:pt x="7643" y="18534"/>
                </a:lnTo>
                <a:close/>
                <a:moveTo>
                  <a:pt x="7382" y="18773"/>
                </a:moveTo>
                <a:lnTo>
                  <a:pt x="10320" y="19828"/>
                </a:lnTo>
                <a:lnTo>
                  <a:pt x="6484" y="21207"/>
                </a:lnTo>
                <a:lnTo>
                  <a:pt x="7382" y="18773"/>
                </a:lnTo>
                <a:close/>
                <a:moveTo>
                  <a:pt x="14180" y="18773"/>
                </a:moveTo>
                <a:lnTo>
                  <a:pt x="15080" y="21207"/>
                </a:lnTo>
                <a:lnTo>
                  <a:pt x="11244" y="19828"/>
                </a:lnTo>
                <a:lnTo>
                  <a:pt x="14180" y="18773"/>
                </a:lnTo>
                <a:close/>
                <a:moveTo>
                  <a:pt x="14180" y="18773"/>
                </a:moveTo>
              </a:path>
            </a:pathLst>
          </a:custGeom>
          <a:solidFill>
            <a:srgbClr val="b2b4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-38160" y="6975360"/>
            <a:ext cx="11595240" cy="1270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042200" y="590400"/>
            <a:ext cx="3852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Plan Summ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77840" y="1498680"/>
            <a:ext cx="9215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0706040" y="254160"/>
            <a:ext cx="4572000" cy="9144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693360" y="7302600"/>
            <a:ext cx="36698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More text here..</a:t>
            </a:r>
            <a:endParaRPr b="0" lang="en-US" sz="3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-38160" y="3079800"/>
            <a:ext cx="11417400" cy="570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8-10-28T19:34:55Z</dcterms:modified>
  <cp:revision>2</cp:revision>
  <dc:subject/>
  <dc:title>PowerPoint Presentation</dc:title>
</cp:coreProperties>
</file>