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0" y="0"/>
            <a:ext cx="16256160" cy="9182160"/>
          </a:xfrm>
          <a:prstGeom prst="rect">
            <a:avLst/>
          </a:prstGeom>
          <a:solidFill>
            <a:srgbClr val="1711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  <a:p>
            <a:pPr lvl="1" marL="4316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878787"/>
              </a:solidFill>
              <a:latin typeface="Calibri"/>
            </a:endParaRPr>
          </a:p>
          <a:p>
            <a:pPr lvl="2" marL="863640" indent="5076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878787"/>
              </a:solidFill>
              <a:latin typeface="Calibri"/>
            </a:endParaRPr>
          </a:p>
          <a:p>
            <a:pPr lvl="3" marL="1282680" indent="88920" algn="ctr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4" marL="1714680" indent="114120" algn="ctr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5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6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5978520" y="3498840"/>
            <a:ext cx="4335840" cy="101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HardWood</a:t>
            </a:r>
            <a:endParaRPr b="0" lang="en-US" sz="6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002120" y="4489560"/>
            <a:ext cx="8312040" cy="642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Suspendisse hendrerit arcu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6688080" y="2181240"/>
            <a:ext cx="86551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Maecenas vitae ante quis, dapibus consectetur ipsum.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Lorem ipsum dolor sit amet, consectetur adipiscing elit. Suspendisse hendrerit fermentum arcu, nec efficitur sem ultrices id. primis in faucibus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4508640" y="1473120"/>
            <a:ext cx="1488240" cy="5902200"/>
            <a:chOff x="4508640" y="1473120"/>
            <a:chExt cx="1488240" cy="5902200"/>
          </a:xfrm>
        </p:grpSpPr>
        <p:sp>
          <p:nvSpPr>
            <p:cNvPr id="249" name="Line 2"/>
            <p:cNvSpPr/>
            <p:nvPr/>
          </p:nvSpPr>
          <p:spPr>
            <a:xfrm flipV="1">
              <a:off x="5252040" y="1473120"/>
              <a:ext cx="0" cy="4718160"/>
            </a:xfrm>
            <a:prstGeom prst="line">
              <a:avLst/>
            </a:prstGeom>
            <a:ln w="50760">
              <a:solidFill>
                <a:srgbClr val="7c9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grpSp>
          <p:nvGrpSpPr>
            <p:cNvPr id="250" name="Group 5"/>
            <p:cNvGrpSpPr/>
            <p:nvPr/>
          </p:nvGrpSpPr>
          <p:grpSpPr>
            <a:xfrm>
              <a:off x="4508640" y="5886360"/>
              <a:ext cx="1488240" cy="1488960"/>
              <a:chOff x="4508640" y="5886360"/>
              <a:chExt cx="1488240" cy="1488960"/>
            </a:xfrm>
          </p:grpSpPr>
          <p:sp>
            <p:nvSpPr>
              <p:cNvPr id="251" name="AutoShape 3"/>
              <p:cNvSpPr/>
              <p:nvPr/>
            </p:nvSpPr>
            <p:spPr>
              <a:xfrm>
                <a:off x="4508640" y="5886360"/>
                <a:ext cx="1488240" cy="148896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  <a:moveTo>
                      <a:pt x="16796" y="2882"/>
                    </a:moveTo>
                  </a:path>
                </a:pathLst>
              </a:custGeom>
              <a:solidFill>
                <a:srgbClr val="fefefe"/>
              </a:solidFill>
              <a:ln w="38160">
                <a:solidFill>
                  <a:srgbClr val="7c93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pic>
            <p:nvPicPr>
              <p:cNvPr id="252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4599000" y="5981760"/>
                <a:ext cx="1305720" cy="13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3" name="Group 11"/>
          <p:cNvGrpSpPr/>
          <p:nvPr/>
        </p:nvGrpSpPr>
        <p:grpSpPr>
          <a:xfrm>
            <a:off x="1351080" y="1512360"/>
            <a:ext cx="1488240" cy="4700520"/>
            <a:chOff x="1351080" y="1512360"/>
            <a:chExt cx="1488240" cy="4700520"/>
          </a:xfrm>
        </p:grpSpPr>
        <p:sp>
          <p:nvSpPr>
            <p:cNvPr id="254" name="Line 7"/>
            <p:cNvSpPr/>
            <p:nvPr/>
          </p:nvSpPr>
          <p:spPr>
            <a:xfrm flipV="1">
              <a:off x="2094480" y="1512360"/>
              <a:ext cx="0" cy="3481560"/>
            </a:xfrm>
            <a:prstGeom prst="line">
              <a:avLst/>
            </a:prstGeom>
            <a:ln w="50760">
              <a:solidFill>
                <a:srgbClr val="7c9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grpSp>
          <p:nvGrpSpPr>
            <p:cNvPr id="255" name="Group 10"/>
            <p:cNvGrpSpPr/>
            <p:nvPr/>
          </p:nvGrpSpPr>
          <p:grpSpPr>
            <a:xfrm>
              <a:off x="1351080" y="4722480"/>
              <a:ext cx="1488240" cy="1490400"/>
              <a:chOff x="1351080" y="4722480"/>
              <a:chExt cx="1488240" cy="1490400"/>
            </a:xfrm>
          </p:grpSpPr>
          <p:sp>
            <p:nvSpPr>
              <p:cNvPr id="256" name="AutoShape 8"/>
              <p:cNvSpPr/>
              <p:nvPr/>
            </p:nvSpPr>
            <p:spPr>
              <a:xfrm>
                <a:off x="1351080" y="4722480"/>
                <a:ext cx="1488240" cy="149040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  <a:moveTo>
                      <a:pt x="16796" y="2882"/>
                    </a:moveTo>
                  </a:path>
                </a:pathLst>
              </a:custGeom>
              <a:solidFill>
                <a:srgbClr val="fefefe"/>
              </a:solidFill>
              <a:ln w="38160">
                <a:solidFill>
                  <a:srgbClr val="7c93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pic>
            <p:nvPicPr>
              <p:cNvPr id="257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441440" y="4812840"/>
                <a:ext cx="130572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8" name="Group 16"/>
          <p:cNvGrpSpPr/>
          <p:nvPr/>
        </p:nvGrpSpPr>
        <p:grpSpPr>
          <a:xfrm>
            <a:off x="2994120" y="1487160"/>
            <a:ext cx="1488240" cy="3476880"/>
            <a:chOff x="2994120" y="1487160"/>
            <a:chExt cx="1488240" cy="3476880"/>
          </a:xfrm>
        </p:grpSpPr>
        <p:sp>
          <p:nvSpPr>
            <p:cNvPr id="259" name="Line 12"/>
            <p:cNvSpPr/>
            <p:nvPr/>
          </p:nvSpPr>
          <p:spPr>
            <a:xfrm flipV="1">
              <a:off x="3737520" y="1487160"/>
              <a:ext cx="0" cy="2179800"/>
            </a:xfrm>
            <a:prstGeom prst="line">
              <a:avLst/>
            </a:prstGeom>
            <a:ln w="50760">
              <a:solidFill>
                <a:srgbClr val="7c9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grpSp>
          <p:nvGrpSpPr>
            <p:cNvPr id="260" name="Group 15"/>
            <p:cNvGrpSpPr/>
            <p:nvPr/>
          </p:nvGrpSpPr>
          <p:grpSpPr>
            <a:xfrm>
              <a:off x="2994120" y="3475080"/>
              <a:ext cx="1488240" cy="1488960"/>
              <a:chOff x="2994120" y="3475080"/>
              <a:chExt cx="1488240" cy="1488960"/>
            </a:xfrm>
          </p:grpSpPr>
          <p:sp>
            <p:nvSpPr>
              <p:cNvPr id="261" name="AutoShape 13"/>
              <p:cNvSpPr/>
              <p:nvPr/>
            </p:nvSpPr>
            <p:spPr>
              <a:xfrm>
                <a:off x="2994120" y="3475080"/>
                <a:ext cx="1488240" cy="148896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  <a:moveTo>
                      <a:pt x="16796" y="2882"/>
                    </a:moveTo>
                  </a:path>
                </a:pathLst>
              </a:custGeom>
              <a:solidFill>
                <a:srgbClr val="fefefe"/>
              </a:solidFill>
              <a:ln w="38160">
                <a:solidFill>
                  <a:srgbClr val="7c93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pic>
            <p:nvPicPr>
              <p:cNvPr id="262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3084480" y="3551400"/>
                <a:ext cx="1305720" cy="13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3" name="AutoShape 17"/>
          <p:cNvSpPr/>
          <p:nvPr/>
        </p:nvSpPr>
        <p:spPr>
          <a:xfrm>
            <a:off x="-25560" y="1227240"/>
            <a:ext cx="12395520" cy="558720"/>
          </a:xfrm>
          <a:prstGeom prst="rightArrow">
            <a:avLst>
              <a:gd name="adj1" fmla="val 48046"/>
              <a:gd name="adj2" fmla="val 54334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1042200" y="463680"/>
            <a:ext cx="4194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Plan Summary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"/>
          <p:cNvSpPr/>
          <p:nvPr/>
        </p:nvSpPr>
        <p:spPr>
          <a:xfrm>
            <a:off x="2044800" y="2438280"/>
            <a:ext cx="1215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dcdcd"/>
                </a:solidFill>
                <a:latin typeface="Lora Bold"/>
                <a:ea typeface="ＭＳ Ｐゴシック"/>
              </a:rPr>
              <a:t>Visit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9ab737"/>
                </a:solidFill>
                <a:latin typeface="Lora Bold"/>
                <a:ea typeface="ＭＳ Ｐゴシック"/>
              </a:rPr>
              <a:t>bestPowerPointTemplates.com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6e6e6"/>
                </a:solidFill>
                <a:latin typeface="Lora Bold"/>
                <a:ea typeface="ＭＳ Ｐゴシック"/>
              </a:rPr>
              <a:t>for more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fa8c31"/>
                </a:solidFill>
                <a:latin typeface="Lora Bold"/>
                <a:ea typeface="ＭＳ Ｐゴシック"/>
              </a:rPr>
              <a:t>free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e6e6e6"/>
                </a:solidFill>
                <a:latin typeface="Lora Bold"/>
                <a:ea typeface="ＭＳ Ｐゴシック"/>
              </a:rPr>
              <a:t>resources!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1603800" y="5905440"/>
            <a:ext cx="1303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Font Used: </a:t>
            </a: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Cambria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 | Size: </a:t>
            </a: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1280x720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 | Color Scheme: </a:t>
            </a: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Modern Ag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267" name="Group 9"/>
          <p:cNvGrpSpPr/>
          <p:nvPr/>
        </p:nvGrpSpPr>
        <p:grpSpPr>
          <a:xfrm>
            <a:off x="5842080" y="6794640"/>
            <a:ext cx="5473800" cy="787320"/>
            <a:chOff x="5842080" y="6794640"/>
            <a:chExt cx="5473800" cy="787320"/>
          </a:xfrm>
        </p:grpSpPr>
        <p:sp>
          <p:nvSpPr>
            <p:cNvPr id="268" name="Rectangle 3"/>
            <p:cNvSpPr/>
            <p:nvPr/>
          </p:nvSpPr>
          <p:spPr>
            <a:xfrm>
              <a:off x="5842080" y="6794640"/>
              <a:ext cx="914400" cy="787320"/>
            </a:xfrm>
            <a:prstGeom prst="rect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69" name="Rectangle 4"/>
            <p:cNvSpPr/>
            <p:nvPr/>
          </p:nvSpPr>
          <p:spPr>
            <a:xfrm>
              <a:off x="6756480" y="6794640"/>
              <a:ext cx="914400" cy="787320"/>
            </a:xfrm>
            <a:prstGeom prst="rect">
              <a:avLst/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70" name="Rectangle 5"/>
            <p:cNvSpPr/>
            <p:nvPr/>
          </p:nvSpPr>
          <p:spPr>
            <a:xfrm>
              <a:off x="7670880" y="6794640"/>
              <a:ext cx="914400" cy="78732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8585280" y="6794640"/>
              <a:ext cx="914400" cy="787320"/>
            </a:xfrm>
            <a:prstGeom prst="rect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9499680" y="6794640"/>
              <a:ext cx="914400" cy="787320"/>
            </a:xfrm>
            <a:prstGeom prst="rect">
              <a:avLst/>
            </a:prstGeom>
            <a:solidFill>
              <a:srgbClr val="d24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10401480" y="6794640"/>
              <a:ext cx="914400" cy="787320"/>
            </a:xfrm>
            <a:prstGeom prst="rect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243080" y="6899400"/>
            <a:ext cx="304488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oin ac nibh quis metus tristique sagittis vel ac ligulnean dict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1182600" y="3138480"/>
            <a:ext cx="3116160" cy="3592440"/>
            <a:chOff x="1182600" y="3138480"/>
            <a:chExt cx="3116160" cy="3592440"/>
          </a:xfrm>
        </p:grpSpPr>
        <p:sp>
          <p:nvSpPr>
            <p:cNvPr id="79" name="Rectangle 2"/>
            <p:cNvSpPr/>
            <p:nvPr/>
          </p:nvSpPr>
          <p:spPr>
            <a:xfrm>
              <a:off x="1191960" y="6302520"/>
              <a:ext cx="3106800" cy="428400"/>
            </a:xfrm>
            <a:prstGeom prst="rect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80" name="Picture 3" descr=""/>
            <p:cNvPicPr/>
            <p:nvPr/>
          </p:nvPicPr>
          <p:blipFill>
            <a:blip r:embed="rId1"/>
            <a:srcRect l="16849" t="0" r="16620" b="0"/>
            <a:stretch/>
          </p:blipFill>
          <p:spPr>
            <a:xfrm>
              <a:off x="1182600" y="3138480"/>
              <a:ext cx="3111480" cy="31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Rectangle 5"/>
          <p:cNvSpPr/>
          <p:nvPr/>
        </p:nvSpPr>
        <p:spPr>
          <a:xfrm>
            <a:off x="1073160" y="590400"/>
            <a:ext cx="555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lides with picture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s actually our duty to future generations and their quest to ensure the survival of the human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420920" y="6156360"/>
            <a:ext cx="27302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header.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749840" y="6896160"/>
            <a:ext cx="304488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oin ac nibh quis metus tristique sagittis vel ac ligulnean dict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85" name="Group 11"/>
          <p:cNvGrpSpPr/>
          <p:nvPr/>
        </p:nvGrpSpPr>
        <p:grpSpPr>
          <a:xfrm>
            <a:off x="4686480" y="3137040"/>
            <a:ext cx="3114000" cy="3592440"/>
            <a:chOff x="4686480" y="3137040"/>
            <a:chExt cx="3114000" cy="3592440"/>
          </a:xfrm>
        </p:grpSpPr>
        <p:sp>
          <p:nvSpPr>
            <p:cNvPr id="86" name="Rectangle 9"/>
            <p:cNvSpPr/>
            <p:nvPr/>
          </p:nvSpPr>
          <p:spPr>
            <a:xfrm>
              <a:off x="4695480" y="6301080"/>
              <a:ext cx="3105000" cy="428400"/>
            </a:xfrm>
            <a:prstGeom prst="rect">
              <a:avLst/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87" name="Picture 10" descr=""/>
            <p:cNvPicPr/>
            <p:nvPr/>
          </p:nvPicPr>
          <p:blipFill>
            <a:blip r:embed="rId2"/>
            <a:srcRect l="16641" t="0" r="16566" b="0"/>
            <a:stretch/>
          </p:blipFill>
          <p:spPr>
            <a:xfrm>
              <a:off x="4686480" y="3137040"/>
              <a:ext cx="3109680" cy="31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Rectangle 12"/>
          <p:cNvSpPr/>
          <p:nvPr/>
        </p:nvSpPr>
        <p:spPr>
          <a:xfrm>
            <a:off x="4927680" y="6156360"/>
            <a:ext cx="2730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header.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8255160" y="6896160"/>
            <a:ext cx="30445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oin ac nibh quis metus tristique sagittis vel ac ligulnean dict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8191440" y="3137040"/>
            <a:ext cx="3114720" cy="3592440"/>
            <a:chOff x="8191440" y="3137040"/>
            <a:chExt cx="3114720" cy="3592440"/>
          </a:xfrm>
        </p:grpSpPr>
        <p:sp>
          <p:nvSpPr>
            <p:cNvPr id="91" name="Rectangle 14"/>
            <p:cNvSpPr/>
            <p:nvPr/>
          </p:nvSpPr>
          <p:spPr>
            <a:xfrm>
              <a:off x="8200800" y="6301080"/>
              <a:ext cx="3105360" cy="42840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92" name="Picture 15" descr=""/>
            <p:cNvPicPr/>
            <p:nvPr/>
          </p:nvPicPr>
          <p:blipFill>
            <a:blip r:embed="rId3"/>
            <a:srcRect l="12192" t="0" r="26876" b="0"/>
            <a:stretch/>
          </p:blipFill>
          <p:spPr>
            <a:xfrm>
              <a:off x="8191440" y="3137040"/>
              <a:ext cx="3110040" cy="31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17"/>
          <p:cNvSpPr/>
          <p:nvPr/>
        </p:nvSpPr>
        <p:spPr>
          <a:xfrm>
            <a:off x="8432640" y="6156360"/>
            <a:ext cx="2730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header.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11760120" y="6896160"/>
            <a:ext cx="304488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oin ac nibh quis metus tristique sagittis vel ac ligulnean dict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95" name="Group 21"/>
          <p:cNvGrpSpPr/>
          <p:nvPr/>
        </p:nvGrpSpPr>
        <p:grpSpPr>
          <a:xfrm>
            <a:off x="11694960" y="3137040"/>
            <a:ext cx="3116160" cy="3592440"/>
            <a:chOff x="11694960" y="3137040"/>
            <a:chExt cx="3116160" cy="3592440"/>
          </a:xfrm>
        </p:grpSpPr>
        <p:sp>
          <p:nvSpPr>
            <p:cNvPr id="96" name="Rectangle 19"/>
            <p:cNvSpPr/>
            <p:nvPr/>
          </p:nvSpPr>
          <p:spPr>
            <a:xfrm>
              <a:off x="11704320" y="6301080"/>
              <a:ext cx="3106800" cy="428400"/>
            </a:xfrm>
            <a:prstGeom prst="rect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97" name="Picture 20" descr=""/>
            <p:cNvPicPr/>
            <p:nvPr/>
          </p:nvPicPr>
          <p:blipFill>
            <a:blip r:embed="rId4"/>
            <a:srcRect l="31851" t="0" r="1482" b="0"/>
            <a:stretch/>
          </p:blipFill>
          <p:spPr>
            <a:xfrm>
              <a:off x="11694960" y="3137040"/>
              <a:ext cx="3111480" cy="31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Rectangle 22"/>
          <p:cNvSpPr/>
          <p:nvPr/>
        </p:nvSpPr>
        <p:spPr>
          <a:xfrm>
            <a:off x="11937960" y="6156360"/>
            <a:ext cx="2730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header.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8686800" y="3035160"/>
            <a:ext cx="5549760" cy="4013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077840" y="3287880"/>
            <a:ext cx="695484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Praesent quam justo, tempor ac sollicitudin sed, mattis vel arcu. Proin ac nibh quis metus tristique sagittis vel ac ligula. Phasellus nec dui accumsan, dictum dolor elementum, volutpat turpis.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785080" y="7207200"/>
            <a:ext cx="53913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Phasellus eget dolor eu lacus imperdiet lacinia. Nunc semper odio ac temp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073160" y="590400"/>
            <a:ext cx="555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lides with picture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Spaceflights cannot be stopped. This is not the work of any one man or even a group of men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"/>
          <p:cNvGrpSpPr/>
          <p:nvPr/>
        </p:nvGrpSpPr>
        <p:grpSpPr>
          <a:xfrm>
            <a:off x="1066680" y="3032280"/>
            <a:ext cx="4330440" cy="2501280"/>
            <a:chOff x="1066680" y="3032280"/>
            <a:chExt cx="4330440" cy="2501280"/>
          </a:xfrm>
        </p:grpSpPr>
        <p:sp>
          <p:nvSpPr>
            <p:cNvPr id="105" name="Rectangle 1"/>
            <p:cNvSpPr/>
            <p:nvPr/>
          </p:nvSpPr>
          <p:spPr>
            <a:xfrm>
              <a:off x="1066680" y="3032280"/>
              <a:ext cx="4330440" cy="2107800"/>
            </a:xfrm>
            <a:prstGeom prst="rect">
              <a:avLst/>
            </a:prstGeom>
            <a:solidFill>
              <a:srgbClr val="34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06" name="Rectangle 2"/>
            <p:cNvSpPr/>
            <p:nvPr/>
          </p:nvSpPr>
          <p:spPr>
            <a:xfrm>
              <a:off x="1066680" y="5175000"/>
              <a:ext cx="4330440" cy="3585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07" name="Group 6"/>
          <p:cNvGrpSpPr/>
          <p:nvPr/>
        </p:nvGrpSpPr>
        <p:grpSpPr>
          <a:xfrm>
            <a:off x="5978520" y="3029040"/>
            <a:ext cx="4330800" cy="2501280"/>
            <a:chOff x="5978520" y="3029040"/>
            <a:chExt cx="4330800" cy="2501280"/>
          </a:xfrm>
        </p:grpSpPr>
        <p:sp>
          <p:nvSpPr>
            <p:cNvPr id="108" name="Rectangle 4"/>
            <p:cNvSpPr/>
            <p:nvPr/>
          </p:nvSpPr>
          <p:spPr>
            <a:xfrm>
              <a:off x="5978520" y="3029040"/>
              <a:ext cx="4329000" cy="2107800"/>
            </a:xfrm>
            <a:prstGeom prst="rect">
              <a:avLst/>
            </a:prstGeom>
            <a:solidFill>
              <a:srgbClr val="34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978520" y="5171760"/>
              <a:ext cx="4330800" cy="3585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10" name="Group 9"/>
          <p:cNvGrpSpPr/>
          <p:nvPr/>
        </p:nvGrpSpPr>
        <p:grpSpPr>
          <a:xfrm>
            <a:off x="10890360" y="3029040"/>
            <a:ext cx="4330440" cy="2501280"/>
            <a:chOff x="10890360" y="3029040"/>
            <a:chExt cx="4330440" cy="2501280"/>
          </a:xfrm>
        </p:grpSpPr>
        <p:sp>
          <p:nvSpPr>
            <p:cNvPr id="111" name="Rectangle 7"/>
            <p:cNvSpPr/>
            <p:nvPr/>
          </p:nvSpPr>
          <p:spPr>
            <a:xfrm>
              <a:off x="10890360" y="3029040"/>
              <a:ext cx="4330440" cy="2107800"/>
            </a:xfrm>
            <a:prstGeom prst="rect">
              <a:avLst/>
            </a:prstGeom>
            <a:solidFill>
              <a:srgbClr val="34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10890360" y="5171760"/>
              <a:ext cx="4330440" cy="3585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13" name="Group 12"/>
          <p:cNvGrpSpPr/>
          <p:nvPr/>
        </p:nvGrpSpPr>
        <p:grpSpPr>
          <a:xfrm>
            <a:off x="1066680" y="5819760"/>
            <a:ext cx="4330800" cy="2501640"/>
            <a:chOff x="1066680" y="5819760"/>
            <a:chExt cx="4330800" cy="2501640"/>
          </a:xfrm>
        </p:grpSpPr>
        <p:sp>
          <p:nvSpPr>
            <p:cNvPr id="114" name="Rectangle 10"/>
            <p:cNvSpPr/>
            <p:nvPr/>
          </p:nvSpPr>
          <p:spPr>
            <a:xfrm>
              <a:off x="1066680" y="5819760"/>
              <a:ext cx="4329000" cy="2108160"/>
            </a:xfrm>
            <a:prstGeom prst="rect">
              <a:avLst/>
            </a:prstGeom>
            <a:solidFill>
              <a:srgbClr val="34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1066680" y="7962840"/>
              <a:ext cx="4330800" cy="3585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16" name="Group 15"/>
          <p:cNvGrpSpPr/>
          <p:nvPr/>
        </p:nvGrpSpPr>
        <p:grpSpPr>
          <a:xfrm>
            <a:off x="5978520" y="5819760"/>
            <a:ext cx="4330800" cy="2502000"/>
            <a:chOff x="5978520" y="5819760"/>
            <a:chExt cx="4330800" cy="2502000"/>
          </a:xfrm>
        </p:grpSpPr>
        <p:sp>
          <p:nvSpPr>
            <p:cNvPr id="117" name="Rectangle 13"/>
            <p:cNvSpPr/>
            <p:nvPr/>
          </p:nvSpPr>
          <p:spPr>
            <a:xfrm>
              <a:off x="5978520" y="5819760"/>
              <a:ext cx="4329000" cy="2106720"/>
            </a:xfrm>
            <a:prstGeom prst="rect">
              <a:avLst/>
            </a:prstGeom>
            <a:solidFill>
              <a:srgbClr val="34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5978520" y="7961400"/>
              <a:ext cx="4330800" cy="3603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19" name="Group 18"/>
          <p:cNvGrpSpPr/>
          <p:nvPr/>
        </p:nvGrpSpPr>
        <p:grpSpPr>
          <a:xfrm>
            <a:off x="10890360" y="5819760"/>
            <a:ext cx="4330440" cy="2501640"/>
            <a:chOff x="10890360" y="5819760"/>
            <a:chExt cx="4330440" cy="2501640"/>
          </a:xfrm>
        </p:grpSpPr>
        <p:sp>
          <p:nvSpPr>
            <p:cNvPr id="120" name="Rectangle 16"/>
            <p:cNvSpPr/>
            <p:nvPr/>
          </p:nvSpPr>
          <p:spPr>
            <a:xfrm>
              <a:off x="10890360" y="5819760"/>
              <a:ext cx="4330440" cy="2108160"/>
            </a:xfrm>
            <a:prstGeom prst="rect">
              <a:avLst/>
            </a:prstGeom>
            <a:solidFill>
              <a:srgbClr val="34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0890360" y="7962840"/>
              <a:ext cx="4330440" cy="3585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22" name="Rectangle 19"/>
          <p:cNvSpPr/>
          <p:nvPr/>
        </p:nvSpPr>
        <p:spPr>
          <a:xfrm>
            <a:off x="1092600" y="590400"/>
            <a:ext cx="25070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Portfolio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Dinosaurs are extinct today because they lacked opposable thumbs and the brainpower to build a space program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1328760" y="3224160"/>
            <a:ext cx="381636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ＭＳ Ｐゴシック"/>
              </a:rPr>
              <a:t>Aenean malesuada, arcu non mattis, massa dolor sollicitudin arcu, non ornare magna orci a neque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6235560" y="3249720"/>
            <a:ext cx="38163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ＭＳ Ｐゴシック"/>
              </a:rPr>
              <a:t>Etiam sollicitudin tortor mauris, sed condimentum augue lacinia vitae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11148840" y="3224160"/>
            <a:ext cx="38181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ＭＳ Ｐゴシック"/>
              </a:rPr>
              <a:t>Integer tortor risus, tincidunt eu quam vel, pellentesque placerat felis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1324080" y="5945040"/>
            <a:ext cx="3816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ＭＳ Ｐゴシック"/>
              </a:rPr>
              <a:t>Aenean malesuada, arcu non condimentum mattis, massa dolor sollicitudin arcu, non ornare magna orci a neque. Suspendiss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6243480" y="5945040"/>
            <a:ext cx="3816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ＭＳ Ｐゴシック"/>
              </a:rPr>
              <a:t>Etiam sollicitudin tortor mauris, sed condimentum augue lacinia vitae. Pellentesque vestibulum non leo sit amet aliquet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11158560" y="5932440"/>
            <a:ext cx="3816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ＭＳ Ｐゴシック"/>
              </a:rPr>
              <a:t>Integer tortor risus, tincidunt eu quam vel, pellentesque placerat felis. Etiam sollicitudin tortor mauris, sed condiment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30" name="Group 32"/>
          <p:cNvGrpSpPr/>
          <p:nvPr/>
        </p:nvGrpSpPr>
        <p:grpSpPr>
          <a:xfrm>
            <a:off x="4748040" y="4637160"/>
            <a:ext cx="957240" cy="949320"/>
            <a:chOff x="4748040" y="4637160"/>
            <a:chExt cx="957240" cy="949320"/>
          </a:xfrm>
        </p:grpSpPr>
        <p:grpSp>
          <p:nvGrpSpPr>
            <p:cNvPr id="131" name="Group 30"/>
            <p:cNvGrpSpPr/>
            <p:nvPr/>
          </p:nvGrpSpPr>
          <p:grpSpPr>
            <a:xfrm>
              <a:off x="4748040" y="4637160"/>
              <a:ext cx="957240" cy="949320"/>
              <a:chOff x="4748040" y="4637160"/>
              <a:chExt cx="957240" cy="949320"/>
            </a:xfrm>
          </p:grpSpPr>
          <p:sp>
            <p:nvSpPr>
              <p:cNvPr id="132" name="Oval 27"/>
              <p:cNvSpPr/>
              <p:nvPr/>
            </p:nvSpPr>
            <p:spPr>
              <a:xfrm>
                <a:off x="4748040" y="463716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33" name="AutoShape 28"/>
              <p:cNvSpPr/>
              <p:nvPr/>
            </p:nvSpPr>
            <p:spPr>
              <a:xfrm>
                <a:off x="4829040" y="472608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34" name="AutoShape 29"/>
              <p:cNvSpPr/>
              <p:nvPr/>
            </p:nvSpPr>
            <p:spPr>
              <a:xfrm rot="5280000">
                <a:off x="4887720" y="466884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35" name="Rectangle 31"/>
            <p:cNvSpPr/>
            <p:nvPr/>
          </p:nvSpPr>
          <p:spPr>
            <a:xfrm>
              <a:off x="5142240" y="482436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1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36" name="Group 38"/>
          <p:cNvGrpSpPr/>
          <p:nvPr/>
        </p:nvGrpSpPr>
        <p:grpSpPr>
          <a:xfrm>
            <a:off x="9664560" y="4699080"/>
            <a:ext cx="957240" cy="949320"/>
            <a:chOff x="9664560" y="4699080"/>
            <a:chExt cx="957240" cy="949320"/>
          </a:xfrm>
        </p:grpSpPr>
        <p:grpSp>
          <p:nvGrpSpPr>
            <p:cNvPr id="137" name="Group 36"/>
            <p:cNvGrpSpPr/>
            <p:nvPr/>
          </p:nvGrpSpPr>
          <p:grpSpPr>
            <a:xfrm>
              <a:off x="9664560" y="4699080"/>
              <a:ext cx="957240" cy="949320"/>
              <a:chOff x="9664560" y="4699080"/>
              <a:chExt cx="957240" cy="949320"/>
            </a:xfrm>
          </p:grpSpPr>
          <p:sp>
            <p:nvSpPr>
              <p:cNvPr id="138" name="Oval 33"/>
              <p:cNvSpPr/>
              <p:nvPr/>
            </p:nvSpPr>
            <p:spPr>
              <a:xfrm>
                <a:off x="9664560" y="469908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39" name="AutoShape 34"/>
              <p:cNvSpPr/>
              <p:nvPr/>
            </p:nvSpPr>
            <p:spPr>
              <a:xfrm>
                <a:off x="9745560" y="478800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40" name="AutoShape 35"/>
              <p:cNvSpPr/>
              <p:nvPr/>
            </p:nvSpPr>
            <p:spPr>
              <a:xfrm rot="5280000">
                <a:off x="9804240" y="473076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41" name="Rectangle 37"/>
            <p:cNvSpPr/>
            <p:nvPr/>
          </p:nvSpPr>
          <p:spPr>
            <a:xfrm>
              <a:off x="10058760" y="488628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2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42" name="Group 44"/>
          <p:cNvGrpSpPr/>
          <p:nvPr/>
        </p:nvGrpSpPr>
        <p:grpSpPr>
          <a:xfrm>
            <a:off x="14579640" y="4762440"/>
            <a:ext cx="957240" cy="949320"/>
            <a:chOff x="14579640" y="4762440"/>
            <a:chExt cx="957240" cy="949320"/>
          </a:xfrm>
        </p:grpSpPr>
        <p:grpSp>
          <p:nvGrpSpPr>
            <p:cNvPr id="143" name="Group 42"/>
            <p:cNvGrpSpPr/>
            <p:nvPr/>
          </p:nvGrpSpPr>
          <p:grpSpPr>
            <a:xfrm>
              <a:off x="14579640" y="4762440"/>
              <a:ext cx="957240" cy="949320"/>
              <a:chOff x="14579640" y="4762440"/>
              <a:chExt cx="957240" cy="949320"/>
            </a:xfrm>
          </p:grpSpPr>
          <p:sp>
            <p:nvSpPr>
              <p:cNvPr id="144" name="Oval 39"/>
              <p:cNvSpPr/>
              <p:nvPr/>
            </p:nvSpPr>
            <p:spPr>
              <a:xfrm>
                <a:off x="14579640" y="476244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45" name="AutoShape 40"/>
              <p:cNvSpPr/>
              <p:nvPr/>
            </p:nvSpPr>
            <p:spPr>
              <a:xfrm>
                <a:off x="14660640" y="485136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46" name="AutoShape 41"/>
              <p:cNvSpPr/>
              <p:nvPr/>
            </p:nvSpPr>
            <p:spPr>
              <a:xfrm rot="5280000">
                <a:off x="14719320" y="479412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47" name="Rectangle 43"/>
            <p:cNvSpPr/>
            <p:nvPr/>
          </p:nvSpPr>
          <p:spPr>
            <a:xfrm>
              <a:off x="14973840" y="494964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3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48" name="Group 50"/>
          <p:cNvGrpSpPr/>
          <p:nvPr/>
        </p:nvGrpSpPr>
        <p:grpSpPr>
          <a:xfrm>
            <a:off x="4749840" y="7531200"/>
            <a:ext cx="957240" cy="949320"/>
            <a:chOff x="4749840" y="7531200"/>
            <a:chExt cx="957240" cy="949320"/>
          </a:xfrm>
        </p:grpSpPr>
        <p:grpSp>
          <p:nvGrpSpPr>
            <p:cNvPr id="149" name="Group 48"/>
            <p:cNvGrpSpPr/>
            <p:nvPr/>
          </p:nvGrpSpPr>
          <p:grpSpPr>
            <a:xfrm>
              <a:off x="4749840" y="7531200"/>
              <a:ext cx="957240" cy="949320"/>
              <a:chOff x="4749840" y="7531200"/>
              <a:chExt cx="957240" cy="949320"/>
            </a:xfrm>
          </p:grpSpPr>
          <p:sp>
            <p:nvSpPr>
              <p:cNvPr id="150" name="Oval 45"/>
              <p:cNvSpPr/>
              <p:nvPr/>
            </p:nvSpPr>
            <p:spPr>
              <a:xfrm>
                <a:off x="4749840" y="753120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51" name="AutoShape 46"/>
              <p:cNvSpPr/>
              <p:nvPr/>
            </p:nvSpPr>
            <p:spPr>
              <a:xfrm>
                <a:off x="4830840" y="762012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52" name="AutoShape 47"/>
              <p:cNvSpPr/>
              <p:nvPr/>
            </p:nvSpPr>
            <p:spPr>
              <a:xfrm rot="5280000">
                <a:off x="4889520" y="756288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53" name="Rectangle 49"/>
            <p:cNvSpPr/>
            <p:nvPr/>
          </p:nvSpPr>
          <p:spPr>
            <a:xfrm>
              <a:off x="5144040" y="771840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4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54" name="Group 56"/>
          <p:cNvGrpSpPr/>
          <p:nvPr/>
        </p:nvGrpSpPr>
        <p:grpSpPr>
          <a:xfrm>
            <a:off x="9664560" y="7594560"/>
            <a:ext cx="957240" cy="949320"/>
            <a:chOff x="9664560" y="7594560"/>
            <a:chExt cx="957240" cy="949320"/>
          </a:xfrm>
        </p:grpSpPr>
        <p:grpSp>
          <p:nvGrpSpPr>
            <p:cNvPr id="155" name="Group 54"/>
            <p:cNvGrpSpPr/>
            <p:nvPr/>
          </p:nvGrpSpPr>
          <p:grpSpPr>
            <a:xfrm>
              <a:off x="9664560" y="7594560"/>
              <a:ext cx="957240" cy="949320"/>
              <a:chOff x="9664560" y="7594560"/>
              <a:chExt cx="957240" cy="949320"/>
            </a:xfrm>
          </p:grpSpPr>
          <p:sp>
            <p:nvSpPr>
              <p:cNvPr id="156" name="Oval 51"/>
              <p:cNvSpPr/>
              <p:nvPr/>
            </p:nvSpPr>
            <p:spPr>
              <a:xfrm>
                <a:off x="9664560" y="759456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57" name="AutoShape 52"/>
              <p:cNvSpPr/>
              <p:nvPr/>
            </p:nvSpPr>
            <p:spPr>
              <a:xfrm>
                <a:off x="9745560" y="768348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58" name="AutoShape 53"/>
              <p:cNvSpPr/>
              <p:nvPr/>
            </p:nvSpPr>
            <p:spPr>
              <a:xfrm rot="5280000">
                <a:off x="9804240" y="762624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59" name="Rectangle 55"/>
            <p:cNvSpPr/>
            <p:nvPr/>
          </p:nvSpPr>
          <p:spPr>
            <a:xfrm>
              <a:off x="10058760" y="778176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5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60" name="Group 62"/>
          <p:cNvGrpSpPr/>
          <p:nvPr/>
        </p:nvGrpSpPr>
        <p:grpSpPr>
          <a:xfrm>
            <a:off x="14579640" y="7658280"/>
            <a:ext cx="957240" cy="949320"/>
            <a:chOff x="14579640" y="7658280"/>
            <a:chExt cx="957240" cy="949320"/>
          </a:xfrm>
        </p:grpSpPr>
        <p:grpSp>
          <p:nvGrpSpPr>
            <p:cNvPr id="161" name="Group 60"/>
            <p:cNvGrpSpPr/>
            <p:nvPr/>
          </p:nvGrpSpPr>
          <p:grpSpPr>
            <a:xfrm>
              <a:off x="14579640" y="7658280"/>
              <a:ext cx="957240" cy="949320"/>
              <a:chOff x="14579640" y="7658280"/>
              <a:chExt cx="957240" cy="949320"/>
            </a:xfrm>
          </p:grpSpPr>
          <p:sp>
            <p:nvSpPr>
              <p:cNvPr id="162" name="Oval 57"/>
              <p:cNvSpPr/>
              <p:nvPr/>
            </p:nvSpPr>
            <p:spPr>
              <a:xfrm>
                <a:off x="14579640" y="765828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63" name="AutoShape 58"/>
              <p:cNvSpPr/>
              <p:nvPr/>
            </p:nvSpPr>
            <p:spPr>
              <a:xfrm>
                <a:off x="14660640" y="774720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64" name="AutoShape 59"/>
              <p:cNvSpPr/>
              <p:nvPr/>
            </p:nvSpPr>
            <p:spPr>
              <a:xfrm rot="5280000">
                <a:off x="14719320" y="768996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65" name="Rectangle 61"/>
            <p:cNvSpPr/>
            <p:nvPr/>
          </p:nvSpPr>
          <p:spPr>
            <a:xfrm>
              <a:off x="14973840" y="784548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6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5143680" y="3352680"/>
            <a:ext cx="5943600" cy="2756160"/>
          </a:xfrm>
          <a:prstGeom prst="roundRect">
            <a:avLst>
              <a:gd name="adj" fmla="val 6912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990720" y="590400"/>
            <a:ext cx="43056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Cool Showcase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474920" y="6380280"/>
            <a:ext cx="3549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481040" y="6977160"/>
            <a:ext cx="328320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11531520" y="3352680"/>
            <a:ext cx="3289320" cy="2756160"/>
          </a:xfrm>
          <a:prstGeom prst="roundRect">
            <a:avLst>
              <a:gd name="adj" fmla="val 6912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708600" y="6324480"/>
            <a:ext cx="354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715080" y="6919920"/>
            <a:ext cx="32828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720520" y="6321600"/>
            <a:ext cx="3500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11728440" y="6921360"/>
            <a:ext cx="328284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4629240" y="3614760"/>
            <a:ext cx="1282680" cy="711000"/>
          </a:xfrm>
          <a:prstGeom prst="rightArrow">
            <a:avLst>
              <a:gd name="adj1" fmla="val 60824"/>
              <a:gd name="adj2" fmla="val 54539"/>
            </a:avLst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9975960" y="5146560"/>
            <a:ext cx="2324160" cy="711360"/>
          </a:xfrm>
          <a:prstGeom prst="rightArrow">
            <a:avLst>
              <a:gd name="adj1" fmla="val 60824"/>
              <a:gd name="adj2" fmla="val 54514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We want to explore. We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re curious people. Look back over history, people have put their lives at stake to go out and explore …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8" name="AutoShape 13"/>
          <p:cNvSpPr/>
          <p:nvPr/>
        </p:nvSpPr>
        <p:spPr>
          <a:xfrm>
            <a:off x="1371600" y="3352680"/>
            <a:ext cx="3289320" cy="2756160"/>
          </a:xfrm>
          <a:prstGeom prst="roundRect">
            <a:avLst>
              <a:gd name="adj" fmla="val 6912"/>
            </a:avLst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512640" y="3048120"/>
            <a:ext cx="5077080" cy="2506680"/>
          </a:xfrm>
          <a:prstGeom prst="rect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512640" y="3051000"/>
            <a:ext cx="5077080" cy="54000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525600" y="2976480"/>
            <a:ext cx="5075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66720" y="3711600"/>
            <a:ext cx="48243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estibulum tristique mattis felis, quis finibus quam venenatis quis. Suspendisse blandit lorem hendrerit, bibendum metus qui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06520" y="5548320"/>
            <a:ext cx="5089320" cy="2506680"/>
          </a:xfrm>
          <a:prstGeom prst="rect">
            <a:avLst/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06520" y="5538960"/>
            <a:ext cx="5089320" cy="53964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520560" y="5477040"/>
            <a:ext cx="5073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738360" y="6221520"/>
            <a:ext cx="46465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Istique mattis felis, quis finibus quam venenatis quis. Suspendisse blandit lorem hendrerit, bibendum metus quis, elementum magna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0665000" y="3048120"/>
            <a:ext cx="5076720" cy="2506680"/>
          </a:xfrm>
          <a:prstGeom prst="rect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10665000" y="3051000"/>
            <a:ext cx="5076720" cy="54000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10679040" y="2976480"/>
            <a:ext cx="5073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10820520" y="3711600"/>
            <a:ext cx="48225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uspendisse blandit lorem hendrerit, bibendum metus quis, elementum magna. Mauris eleifend, tellus sed facilisis hendrerit, lac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10658520" y="5548320"/>
            <a:ext cx="5089320" cy="2506680"/>
          </a:xfrm>
          <a:prstGeom prst="rect">
            <a:avLst/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10658520" y="5538960"/>
            <a:ext cx="5089320" cy="53964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10672920" y="5477040"/>
            <a:ext cx="5073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10890360" y="6219720"/>
            <a:ext cx="46465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Quam venenatis quis. Suspendisse blandit lorem hendrerit, bibendum metus quis, elementum magna. Mauris eleifend, tellus sed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962280" y="590400"/>
            <a:ext cx="7443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Another Data Assessment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To go places and do things that have never been done before – that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s what living is all abou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97" name="Picture 19" descr=""/>
          <p:cNvPicPr/>
          <p:nvPr/>
        </p:nvPicPr>
        <p:blipFill>
          <a:blip r:embed="rId1"/>
          <a:srcRect l="19106" t="0" r="19100" b="0"/>
          <a:stretch/>
        </p:blipFill>
        <p:spPr>
          <a:xfrm>
            <a:off x="5575320" y="3048120"/>
            <a:ext cx="5092560" cy="500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1120680" y="4959360"/>
            <a:ext cx="3284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1128600" y="5551560"/>
            <a:ext cx="3283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1128600" y="7020000"/>
            <a:ext cx="326088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aesent quam justo, tempor ac sollicitudin sed, mattis vel arcu. Proin ac nibh qui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3697200" y="3476520"/>
            <a:ext cx="1219320" cy="762120"/>
          </a:xfrm>
          <a:prstGeom prst="rightArrow">
            <a:avLst>
              <a:gd name="adj1" fmla="val 60824"/>
              <a:gd name="adj2" fmla="val 5088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56320" y="4954680"/>
            <a:ext cx="3282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762440" y="5546880"/>
            <a:ext cx="32846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762440" y="7015320"/>
            <a:ext cx="326232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aesent quam justo, tempor ac sollicitudin sed, mattis vel arcu. Proin ac nibh qui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7315200" y="3470400"/>
            <a:ext cx="1219320" cy="761760"/>
          </a:xfrm>
          <a:prstGeom prst="rightArrow">
            <a:avLst>
              <a:gd name="adj1" fmla="val 60824"/>
              <a:gd name="adj2" fmla="val 50910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8400960" y="4956120"/>
            <a:ext cx="3284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8408880" y="5548320"/>
            <a:ext cx="3283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8408880" y="7016760"/>
            <a:ext cx="3260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aesent quam justo, tempor ac sollicitudin sed, mattis vel arcu. Proin ac nibh qui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10928520" y="3470400"/>
            <a:ext cx="1218960" cy="761760"/>
          </a:xfrm>
          <a:prstGeom prst="rightArrow">
            <a:avLst>
              <a:gd name="adj1" fmla="val 60824"/>
              <a:gd name="adj2" fmla="val 5089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2033360" y="4948200"/>
            <a:ext cx="3282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12039480" y="5540400"/>
            <a:ext cx="32846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12039480" y="7008840"/>
            <a:ext cx="326232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aesent quam justo, tempor ac sollicitudin sed, mattis vel arcu. Proin ac nibh qui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213" name="Group 18"/>
          <p:cNvGrpSpPr/>
          <p:nvPr/>
        </p:nvGrpSpPr>
        <p:grpSpPr>
          <a:xfrm>
            <a:off x="1825560" y="3238560"/>
            <a:ext cx="1241280" cy="1240920"/>
            <a:chOff x="1825560" y="3238560"/>
            <a:chExt cx="1241280" cy="1240920"/>
          </a:xfrm>
        </p:grpSpPr>
        <p:sp>
          <p:nvSpPr>
            <p:cNvPr id="214" name="Rectangle 16"/>
            <p:cNvSpPr/>
            <p:nvPr/>
          </p:nvSpPr>
          <p:spPr>
            <a:xfrm>
              <a:off x="1886040" y="3319560"/>
              <a:ext cx="1118880" cy="1050480"/>
            </a:xfrm>
            <a:prstGeom prst="rect">
              <a:avLst/>
            </a:prstGeom>
            <a:solidFill>
              <a:srgbClr val="cf5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215" name="Picture 17" descr=""/>
            <p:cNvPicPr/>
            <p:nvPr/>
          </p:nvPicPr>
          <p:blipFill>
            <a:blip r:embed="rId1"/>
            <a:stretch/>
          </p:blipFill>
          <p:spPr>
            <a:xfrm>
              <a:off x="1825560" y="3238560"/>
              <a:ext cx="1241280" cy="124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21"/>
          <p:cNvGrpSpPr/>
          <p:nvPr/>
        </p:nvGrpSpPr>
        <p:grpSpPr>
          <a:xfrm>
            <a:off x="5430960" y="3238560"/>
            <a:ext cx="1239840" cy="1240920"/>
            <a:chOff x="5430960" y="3238560"/>
            <a:chExt cx="1239840" cy="1240920"/>
          </a:xfrm>
        </p:grpSpPr>
        <p:sp>
          <p:nvSpPr>
            <p:cNvPr id="217" name="Rectangle 19"/>
            <p:cNvSpPr/>
            <p:nvPr/>
          </p:nvSpPr>
          <p:spPr>
            <a:xfrm>
              <a:off x="5484960" y="3348000"/>
              <a:ext cx="1117440" cy="1050480"/>
            </a:xfrm>
            <a:prstGeom prst="rect">
              <a:avLst/>
            </a:prstGeom>
            <a:solidFill>
              <a:srgbClr val="9a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218" name="Picture 20" descr=""/>
            <p:cNvPicPr/>
            <p:nvPr/>
          </p:nvPicPr>
          <p:blipFill>
            <a:blip r:embed="rId2"/>
            <a:stretch/>
          </p:blipFill>
          <p:spPr>
            <a:xfrm>
              <a:off x="5430960" y="3238560"/>
              <a:ext cx="1239840" cy="124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24"/>
          <p:cNvGrpSpPr/>
          <p:nvPr/>
        </p:nvGrpSpPr>
        <p:grpSpPr>
          <a:xfrm>
            <a:off x="9156600" y="3238560"/>
            <a:ext cx="1241280" cy="1240920"/>
            <a:chOff x="9156600" y="3238560"/>
            <a:chExt cx="1241280" cy="1240920"/>
          </a:xfrm>
        </p:grpSpPr>
        <p:sp>
          <p:nvSpPr>
            <p:cNvPr id="220" name="Rectangle 22"/>
            <p:cNvSpPr/>
            <p:nvPr/>
          </p:nvSpPr>
          <p:spPr>
            <a:xfrm>
              <a:off x="9217080" y="3295800"/>
              <a:ext cx="1118880" cy="1050480"/>
            </a:xfrm>
            <a:prstGeom prst="rect">
              <a:avLst/>
            </a:prstGeom>
            <a:solidFill>
              <a:srgbClr val="544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221" name="Picture 23" descr=""/>
            <p:cNvPicPr/>
            <p:nvPr/>
          </p:nvPicPr>
          <p:blipFill>
            <a:blip r:embed="rId3"/>
            <a:stretch/>
          </p:blipFill>
          <p:spPr>
            <a:xfrm>
              <a:off x="9156600" y="3238560"/>
              <a:ext cx="1241280" cy="124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2" name="Picture 25" descr=""/>
          <p:cNvPicPr/>
          <p:nvPr/>
        </p:nvPicPr>
        <p:blipFill>
          <a:blip r:embed="rId4"/>
          <a:stretch/>
        </p:blipFill>
        <p:spPr>
          <a:xfrm>
            <a:off x="12627000" y="3198960"/>
            <a:ext cx="1241280" cy="1241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6"/>
          <p:cNvSpPr/>
          <p:nvPr/>
        </p:nvSpPr>
        <p:spPr>
          <a:xfrm>
            <a:off x="990720" y="590400"/>
            <a:ext cx="43056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Cool Showcase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4" name="Rectangle 27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We want to explore. We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re curious people. Look back over history, people have put their lives at stake to go out and explore …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1035000" y="5099040"/>
            <a:ext cx="246384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 Italic"/>
                <a:ea typeface="ＭＳ Ｐゴシック"/>
              </a:rPr>
              <a:t>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1033560" y="6135840"/>
            <a:ext cx="246204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oin ac nibh quis metus tristique sagittis vel ac ligulnean dictum fringilla 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862440" y="5087880"/>
            <a:ext cx="2462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 Italic"/>
                <a:ea typeface="ＭＳ Ｐゴシック"/>
              </a:rPr>
              <a:t>K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862440" y="6124680"/>
            <a:ext cx="246204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oin ac nibh quis metus tristique sagittis vel ac ligulnean dictum fringilla 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6743880" y="5079960"/>
            <a:ext cx="2462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 Italic"/>
                <a:ea typeface="ＭＳ Ｐゴシック"/>
              </a:rPr>
              <a:t>M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743880" y="6116760"/>
            <a:ext cx="246204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oin ac nibh quis metus tristique sagittis vel ac ligulnean dictum fringilla 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7078680" y="2894040"/>
            <a:ext cx="1841400" cy="18432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fefefe"/>
          </a:solidFill>
          <a:ln w="38160">
            <a:solidFill>
              <a:srgbClr val="d4d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232" name="Group 11"/>
          <p:cNvGrpSpPr/>
          <p:nvPr/>
        </p:nvGrpSpPr>
        <p:grpSpPr>
          <a:xfrm>
            <a:off x="10032840" y="3089160"/>
            <a:ext cx="4402080" cy="4933800"/>
            <a:chOff x="10032840" y="3089160"/>
            <a:chExt cx="4402080" cy="4933800"/>
          </a:xfrm>
        </p:grpSpPr>
        <p:sp>
          <p:nvSpPr>
            <p:cNvPr id="233" name="Rectangle 8"/>
            <p:cNvSpPr/>
            <p:nvPr/>
          </p:nvSpPr>
          <p:spPr>
            <a:xfrm>
              <a:off x="10032840" y="3089160"/>
              <a:ext cx="4402080" cy="4933800"/>
            </a:xfrm>
            <a:prstGeom prst="rect">
              <a:avLst/>
            </a:prstGeom>
            <a:solidFill>
              <a:srgbClr val="fefefe"/>
            </a:solidFill>
            <a:ln w="38160">
              <a:solidFill>
                <a:srgbClr val="959a98"/>
              </a:solidFill>
              <a:miter/>
            </a:ln>
            <a:effectLst>
              <a:outerShdw dist="63639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234" name="Picture 9" descr=""/>
            <p:cNvPicPr/>
            <p:nvPr/>
          </p:nvPicPr>
          <p:blipFill>
            <a:blip r:embed="rId1"/>
            <a:srcRect l="18458" t="0" r="18634" b="0"/>
            <a:stretch/>
          </p:blipFill>
          <p:spPr>
            <a:xfrm>
              <a:off x="10182240" y="3254400"/>
              <a:ext cx="4101840" cy="36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10"/>
            <p:cNvSpPr/>
            <p:nvPr/>
          </p:nvSpPr>
          <p:spPr>
            <a:xfrm>
              <a:off x="10144080" y="7434000"/>
              <a:ext cx="41781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Cambria Bold Italic"/>
                  <a:ea typeface="ＭＳ Ｐゴシック"/>
                </a:rPr>
                <a:t>Phasellus eget dolorm (2018)</a:t>
              </a:r>
              <a:endParaRPr b="0" lang="en-US" sz="18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236" name="Rectangle 12"/>
          <p:cNvSpPr/>
          <p:nvPr/>
        </p:nvSpPr>
        <p:spPr>
          <a:xfrm>
            <a:off x="990720" y="590400"/>
            <a:ext cx="43056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Cool Showcase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1077840" y="1498680"/>
            <a:ext cx="140972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Look back over history, people have put their lives at stake to go out and explore …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238" name="Picture 14" descr=""/>
          <p:cNvPicPr/>
          <p:nvPr/>
        </p:nvPicPr>
        <p:blipFill>
          <a:blip r:embed="rId2"/>
          <a:stretch/>
        </p:blipFill>
        <p:spPr>
          <a:xfrm>
            <a:off x="7188120" y="300996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15"/>
          <p:cNvSpPr/>
          <p:nvPr/>
        </p:nvSpPr>
        <p:spPr>
          <a:xfrm>
            <a:off x="4165560" y="2982960"/>
            <a:ext cx="1841400" cy="18432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fefefe"/>
          </a:solidFill>
          <a:ln w="38160">
            <a:solidFill>
              <a:srgbClr val="d4d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0" name="AutoShape 16"/>
          <p:cNvSpPr/>
          <p:nvPr/>
        </p:nvSpPr>
        <p:spPr>
          <a:xfrm>
            <a:off x="1257480" y="3071880"/>
            <a:ext cx="1841400" cy="18432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fefefe"/>
          </a:solidFill>
          <a:ln w="38160">
            <a:solidFill>
              <a:srgbClr val="d4d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241" name="Picture 17" descr=""/>
          <p:cNvPicPr/>
          <p:nvPr/>
        </p:nvPicPr>
        <p:blipFill>
          <a:blip r:embed="rId3"/>
          <a:stretch/>
        </p:blipFill>
        <p:spPr>
          <a:xfrm>
            <a:off x="4280040" y="309888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8" descr=""/>
          <p:cNvPicPr/>
          <p:nvPr/>
        </p:nvPicPr>
        <p:blipFill>
          <a:blip r:embed="rId4"/>
          <a:stretch/>
        </p:blipFill>
        <p:spPr>
          <a:xfrm>
            <a:off x="1359000" y="3187800"/>
            <a:ext cx="162540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5921280" y="4025880"/>
            <a:ext cx="9010800" cy="33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Death is something inevitable. When a man has done what he considers to be his duty to his people and his country, he can rest in peace. I believe I have made that effort and that is, therefore, why I will sleep for the eternity.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”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077840" y="1501920"/>
            <a:ext cx="140922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When I orbited the Earth in a spaceship, I saw for the first time how beautiful our planet is. Mankind, let us preserve and increase this beauty, and not destroy it!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1077840" y="590400"/>
            <a:ext cx="47656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Product Analysi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606680" y="4044960"/>
            <a:ext cx="311148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stas Mano</cp:lastModifiedBy>
  <dcterms:modified xsi:type="dcterms:W3CDTF">2018-10-28T19:30:03Z</dcterms:modified>
  <cp:revision>1</cp:revision>
  <dc:subject/>
  <dc:title>PowerPoint Presentation</dc:title>
</cp:coreProperties>
</file>