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16256160" cy="918216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1"/>
          <p:cNvSpPr/>
          <p:nvPr/>
        </p:nvSpPr>
        <p:spPr>
          <a:xfrm>
            <a:off x="717480" y="6816600"/>
            <a:ext cx="946008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Presentation Title</a:t>
            </a:r>
            <a:endParaRPr b="0" lang="en-US" sz="6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8" name="Rectangle 2"/>
          <p:cNvSpPr/>
          <p:nvPr/>
        </p:nvSpPr>
        <p:spPr>
          <a:xfrm>
            <a:off x="719280" y="7716960"/>
            <a:ext cx="761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Phasellus nec dui accumsan.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-12600" y="4243320"/>
            <a:ext cx="11377440" cy="623880"/>
          </a:xfrm>
          <a:prstGeom prst="rightArrow">
            <a:avLst>
              <a:gd name="adj1" fmla="val 100000"/>
              <a:gd name="adj2" fmla="val 55892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-12600" y="3384720"/>
            <a:ext cx="12299760" cy="623880"/>
          </a:xfrm>
          <a:prstGeom prst="rightArrow">
            <a:avLst>
              <a:gd name="adj1" fmla="val 100000"/>
              <a:gd name="adj2" fmla="val 55859"/>
            </a:avLst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-50760" y="5102280"/>
            <a:ext cx="13303080" cy="623880"/>
          </a:xfrm>
          <a:prstGeom prst="rightArrow">
            <a:avLst>
              <a:gd name="adj1" fmla="val 100000"/>
              <a:gd name="adj2" fmla="val 60514"/>
            </a:avLst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733320" y="3468600"/>
            <a:ext cx="10026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. Suspendisse hendrerit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733320" y="4321080"/>
            <a:ext cx="10026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2. Suspendisse hendrerit fermentum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733320" y="5219640"/>
            <a:ext cx="10077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3. Suspendisse hendrerit fermentum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-12600" y="6764400"/>
            <a:ext cx="11377440" cy="623880"/>
          </a:xfrm>
          <a:prstGeom prst="rightArrow">
            <a:avLst>
              <a:gd name="adj1" fmla="val 100000"/>
              <a:gd name="adj2" fmla="val 55892"/>
            </a:avLst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-12600" y="5905440"/>
            <a:ext cx="12299760" cy="623880"/>
          </a:xfrm>
          <a:prstGeom prst="rightArrow">
            <a:avLst>
              <a:gd name="adj1" fmla="val 100000"/>
              <a:gd name="adj2" fmla="val 55859"/>
            </a:avLst>
          </a:pr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-50760" y="7623000"/>
            <a:ext cx="13303080" cy="624240"/>
          </a:xfrm>
          <a:prstGeom prst="rightArrow">
            <a:avLst>
              <a:gd name="adj1" fmla="val 100000"/>
              <a:gd name="adj2" fmla="val 60479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733320" y="5991120"/>
            <a:ext cx="8299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4. Suspendisse hendrerit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733320" y="6842160"/>
            <a:ext cx="10077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5. Suspendisse hendrerit fermentum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733320" y="7736040"/>
            <a:ext cx="102045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6. Suspendisse hendrerit fermentum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65960" y="590400"/>
            <a:ext cx="35755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Data Arrow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1077840" y="1498680"/>
            <a:ext cx="1475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Our greatest fear should not be of failure but of succeeding at things in life that don't really matter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2044800" y="2438280"/>
            <a:ext cx="1215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dcdcd"/>
                </a:solidFill>
                <a:latin typeface="Lora Bold"/>
                <a:ea typeface="ＭＳ Ｐゴシック"/>
              </a:rPr>
              <a:t>Visit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9ab737"/>
                </a:solidFill>
                <a:latin typeface="Lora Bold"/>
                <a:ea typeface="ＭＳ Ｐゴシック"/>
              </a:rPr>
              <a:t>bestPowerPointTemplates.com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6e6e6"/>
                </a:solidFill>
                <a:latin typeface="Lora Bold"/>
                <a:ea typeface="ＭＳ Ｐゴシック"/>
              </a:rPr>
              <a:t>for more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fa8c31"/>
                </a:solidFill>
                <a:latin typeface="Lora Bold"/>
                <a:ea typeface="ＭＳ Ｐゴシック"/>
              </a:rPr>
              <a:t>free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e6e6e6"/>
                </a:solidFill>
                <a:latin typeface="Lora Bold"/>
                <a:ea typeface="ＭＳ Ｐゴシック"/>
              </a:rPr>
              <a:t>resources!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1603800" y="5905440"/>
            <a:ext cx="1303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Font Used: </a:t>
            </a: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Cambria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 | Size: </a:t>
            </a: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1280x720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 | Color Scheme: </a:t>
            </a: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Modern Ag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93" name="Group 9"/>
          <p:cNvGrpSpPr/>
          <p:nvPr/>
        </p:nvGrpSpPr>
        <p:grpSpPr>
          <a:xfrm>
            <a:off x="5842080" y="6794640"/>
            <a:ext cx="5473800" cy="787320"/>
            <a:chOff x="5842080" y="6794640"/>
            <a:chExt cx="5473800" cy="787320"/>
          </a:xfrm>
        </p:grpSpPr>
        <p:sp>
          <p:nvSpPr>
            <p:cNvPr id="194" name="Rectangle 3"/>
            <p:cNvSpPr/>
            <p:nvPr/>
          </p:nvSpPr>
          <p:spPr>
            <a:xfrm>
              <a:off x="5842080" y="6794640"/>
              <a:ext cx="914400" cy="78732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6756480" y="6794640"/>
              <a:ext cx="914400" cy="787320"/>
            </a:xfrm>
            <a:prstGeom prst="rect">
              <a:avLst/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7670880" y="6794640"/>
              <a:ext cx="914400" cy="78732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8585280" y="6794640"/>
              <a:ext cx="914400" cy="787320"/>
            </a:xfrm>
            <a:prstGeom prst="rect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98" name="Rectangle 7"/>
            <p:cNvSpPr/>
            <p:nvPr/>
          </p:nvSpPr>
          <p:spPr>
            <a:xfrm>
              <a:off x="9499680" y="6794640"/>
              <a:ext cx="914400" cy="787320"/>
            </a:xfrm>
            <a:prstGeom prst="rect">
              <a:avLst/>
            </a:prstGeom>
            <a:solidFill>
              <a:srgbClr val="d24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99" name="Rectangle 8"/>
            <p:cNvSpPr/>
            <p:nvPr/>
          </p:nvSpPr>
          <p:spPr>
            <a:xfrm>
              <a:off x="10401480" y="6794640"/>
              <a:ext cx="914400" cy="787320"/>
            </a:xfrm>
            <a:prstGeom prst="rect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990720" y="590400"/>
            <a:ext cx="43056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Cool Showcase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077840" y="1501920"/>
            <a:ext cx="140922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We want to explore. We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re curious people. Look back over history, people have put their lives at stake to go out and explore … We believe in what we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re doing. Now it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s time to go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1" name="AutoShape 3"/>
          <p:cNvSpPr/>
          <p:nvPr/>
        </p:nvSpPr>
        <p:spPr>
          <a:xfrm>
            <a:off x="2903400" y="3971880"/>
            <a:ext cx="2908440" cy="3632400"/>
          </a:xfrm>
          <a:custGeom>
            <a:avLst/>
            <a:gdLst>
              <a:gd name="textAreaLeft" fmla="*/ 51840 w 2908440"/>
              <a:gd name="textAreaRight" fmla="*/ 2856600 w 2908440"/>
              <a:gd name="textAreaTop" fmla="*/ 51840 h 3632400"/>
              <a:gd name="textAreaBottom" fmla="*/ 3580560 h 3632400"/>
            </a:gdLst>
            <a:ahLst/>
            <a:rect l="textAreaLeft" t="textAreaTop" r="textAreaRight" b="textAreaBottom"/>
            <a:pathLst>
              <a:path w="21600" h="26976">
                <a:moveTo>
                  <a:pt x="1320" y="0"/>
                </a:moveTo>
                <a:arcTo wR="1320" hR="1320" stAng="16200000" swAng="-5400000"/>
                <a:lnTo>
                  <a:pt x="0" y="25656"/>
                </a:lnTo>
                <a:arcTo wR="1320" hR="1320" stAng="10800000" swAng="-5400000"/>
                <a:lnTo>
                  <a:pt x="20280" y="26976"/>
                </a:lnTo>
                <a:arcTo wR="1320" hR="1320" stAng="5400000" swAng="-5400000"/>
                <a:lnTo>
                  <a:pt x="21600" y="1320"/>
                </a:lnTo>
                <a:arcTo wR="1320" hR="1320" stAng="0" swAng="-5400000"/>
                <a:close/>
              </a:path>
            </a:pathLst>
          </a:cu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9720" y="4506840"/>
            <a:ext cx="328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716200" y="4991040"/>
            <a:ext cx="32846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6599160" y="3971880"/>
            <a:ext cx="2908440" cy="3632400"/>
          </a:xfrm>
          <a:custGeom>
            <a:avLst/>
            <a:gdLst>
              <a:gd name="textAreaLeft" fmla="*/ 51840 w 2908440"/>
              <a:gd name="textAreaRight" fmla="*/ 2856600 w 2908440"/>
              <a:gd name="textAreaTop" fmla="*/ 51840 h 3632400"/>
              <a:gd name="textAreaBottom" fmla="*/ 3580560 h 3632400"/>
            </a:gdLst>
            <a:ahLst/>
            <a:rect l="textAreaLeft" t="textAreaTop" r="textAreaRight" b="textAreaBottom"/>
            <a:pathLst>
              <a:path w="21600" h="26976">
                <a:moveTo>
                  <a:pt x="1320" y="0"/>
                </a:moveTo>
                <a:arcTo wR="1320" hR="1320" stAng="16200000" swAng="-5400000"/>
                <a:lnTo>
                  <a:pt x="0" y="25656"/>
                </a:lnTo>
                <a:arcTo wR="1320" hR="1320" stAng="10800000" swAng="-5400000"/>
                <a:lnTo>
                  <a:pt x="20280" y="26976"/>
                </a:lnTo>
                <a:arcTo wR="1320" hR="1320" stAng="5400000" swAng="-5400000"/>
                <a:lnTo>
                  <a:pt x="21600" y="1320"/>
                </a:lnTo>
                <a:arcTo wR="1320" hR="1320" stAng="0" swAng="-5400000"/>
                <a:close/>
              </a:path>
            </a:pathLst>
          </a:cu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365880" y="4506840"/>
            <a:ext cx="3284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373800" y="4991040"/>
            <a:ext cx="32828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7" name="Oval 9"/>
          <p:cNvSpPr/>
          <p:nvPr/>
        </p:nvSpPr>
        <p:spPr>
          <a:xfrm>
            <a:off x="2463840" y="3581280"/>
            <a:ext cx="863640" cy="876600"/>
          </a:xfrm>
          <a:prstGeom prst="ellipse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6235560" y="3581280"/>
            <a:ext cx="863640" cy="876600"/>
          </a:xfrm>
          <a:prstGeom prst="ellipse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800800" y="3670200"/>
            <a:ext cx="185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1</a:t>
            </a:r>
            <a:endParaRPr b="0" lang="en-US" sz="4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6544800" y="3670200"/>
            <a:ext cx="24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2</a:t>
            </a:r>
            <a:endParaRPr b="0" lang="en-US" sz="4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10296360" y="3962520"/>
            <a:ext cx="2908440" cy="3632040"/>
          </a:xfrm>
          <a:custGeom>
            <a:avLst/>
            <a:gdLst>
              <a:gd name="textAreaLeft" fmla="*/ 51840 w 2908440"/>
              <a:gd name="textAreaRight" fmla="*/ 2856600 w 2908440"/>
              <a:gd name="textAreaTop" fmla="*/ 51840 h 3632040"/>
              <a:gd name="textAreaBottom" fmla="*/ 3580200 h 3632040"/>
            </a:gdLst>
            <a:ahLst/>
            <a:rect l="textAreaLeft" t="textAreaTop" r="textAreaRight" b="textAreaBottom"/>
            <a:pathLst>
              <a:path w="21600" h="26973">
                <a:moveTo>
                  <a:pt x="1320" y="0"/>
                </a:moveTo>
                <a:arcTo wR="1320" hR="1320" stAng="16200000" swAng="-5400000"/>
                <a:lnTo>
                  <a:pt x="0" y="25653"/>
                </a:lnTo>
                <a:arcTo wR="1320" hR="1320" stAng="10800000" swAng="-5400000"/>
                <a:lnTo>
                  <a:pt x="20280" y="26973"/>
                </a:lnTo>
                <a:arcTo wR="1320" hR="1320" stAng="5400000" swAng="-5400000"/>
                <a:lnTo>
                  <a:pt x="21600" y="1320"/>
                </a:lnTo>
                <a:arcTo wR="1320" hR="1320" stAng="0" swAng="-5400000"/>
                <a:close/>
              </a:path>
            </a:pathLst>
          </a:cu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09160" y="449568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10121760" y="4978440"/>
            <a:ext cx="3283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4" name="Oval 16"/>
          <p:cNvSpPr/>
          <p:nvPr/>
        </p:nvSpPr>
        <p:spPr>
          <a:xfrm>
            <a:off x="9931320" y="3568680"/>
            <a:ext cx="863640" cy="876240"/>
          </a:xfrm>
          <a:prstGeom prst="ellipse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10243080" y="3657600"/>
            <a:ext cx="235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3</a:t>
            </a:r>
            <a:endParaRPr b="0" lang="en-US" sz="40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1"/>
          <a:stretch/>
        </p:blipFill>
        <p:spPr>
          <a:xfrm>
            <a:off x="10960200" y="684540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2"/>
          <a:stretch/>
        </p:blipFill>
        <p:spPr>
          <a:xfrm>
            <a:off x="7315200" y="68580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"/>
          <p:cNvPicPr/>
          <p:nvPr/>
        </p:nvPicPr>
        <p:blipFill>
          <a:blip r:embed="rId3"/>
          <a:stretch/>
        </p:blipFill>
        <p:spPr>
          <a:xfrm>
            <a:off x="3556080" y="6794640"/>
            <a:ext cx="162540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1104840" y="590400"/>
            <a:ext cx="52898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Hierarchy Analysi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To go places and do things that have never been done before – that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s what living is all abou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711360" y="6781680"/>
            <a:ext cx="14859000" cy="1371600"/>
          </a:xfrm>
          <a:prstGeom prst="roundRect">
            <a:avLst>
              <a:gd name="adj" fmla="val 13889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11360" y="6642000"/>
            <a:ext cx="14859000" cy="47016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106640" y="6516720"/>
            <a:ext cx="5646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1447920" y="3855960"/>
            <a:ext cx="5181120" cy="1239480"/>
            <a:chOff x="1447920" y="3855960"/>
            <a:chExt cx="5181120" cy="1239480"/>
          </a:xfrm>
        </p:grpSpPr>
        <p:sp>
          <p:nvSpPr>
            <p:cNvPr id="65" name="AutoShape 6"/>
            <p:cNvSpPr/>
            <p:nvPr/>
          </p:nvSpPr>
          <p:spPr>
            <a:xfrm>
              <a:off x="1447920" y="4008240"/>
              <a:ext cx="1476720" cy="94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497" y="0"/>
                  </a:moveTo>
                  <a:lnTo>
                    <a:pt x="9497" y="2423"/>
                  </a:lnTo>
                  <a:lnTo>
                    <a:pt x="8912" y="2423"/>
                  </a:lnTo>
                  <a:lnTo>
                    <a:pt x="8912" y="12015"/>
                  </a:lnTo>
                  <a:lnTo>
                    <a:pt x="8161" y="12015"/>
                  </a:lnTo>
                  <a:lnTo>
                    <a:pt x="8161" y="8943"/>
                  </a:lnTo>
                  <a:lnTo>
                    <a:pt x="7359" y="8943"/>
                  </a:lnTo>
                  <a:lnTo>
                    <a:pt x="7359" y="5760"/>
                  </a:lnTo>
                  <a:lnTo>
                    <a:pt x="4652" y="5760"/>
                  </a:lnTo>
                  <a:lnTo>
                    <a:pt x="4652" y="8943"/>
                  </a:lnTo>
                  <a:lnTo>
                    <a:pt x="4652" y="14361"/>
                  </a:lnTo>
                  <a:lnTo>
                    <a:pt x="3918" y="14361"/>
                  </a:lnTo>
                  <a:lnTo>
                    <a:pt x="3918" y="10561"/>
                  </a:lnTo>
                  <a:lnTo>
                    <a:pt x="1907" y="10561"/>
                  </a:lnTo>
                  <a:lnTo>
                    <a:pt x="1907" y="15385"/>
                  </a:lnTo>
                  <a:lnTo>
                    <a:pt x="940" y="15385"/>
                  </a:lnTo>
                  <a:lnTo>
                    <a:pt x="940" y="17597"/>
                  </a:lnTo>
                  <a:lnTo>
                    <a:pt x="0" y="17597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17597"/>
                  </a:lnTo>
                  <a:lnTo>
                    <a:pt x="20672" y="17597"/>
                  </a:lnTo>
                  <a:lnTo>
                    <a:pt x="20672" y="15385"/>
                  </a:lnTo>
                  <a:lnTo>
                    <a:pt x="19821" y="15385"/>
                  </a:lnTo>
                  <a:lnTo>
                    <a:pt x="19821" y="12015"/>
                  </a:lnTo>
                  <a:lnTo>
                    <a:pt x="19033" y="12015"/>
                  </a:lnTo>
                  <a:lnTo>
                    <a:pt x="19033" y="8191"/>
                  </a:lnTo>
                  <a:lnTo>
                    <a:pt x="16927" y="8191"/>
                  </a:lnTo>
                  <a:lnTo>
                    <a:pt x="16927" y="15803"/>
                  </a:lnTo>
                  <a:lnTo>
                    <a:pt x="16212" y="15803"/>
                  </a:lnTo>
                  <a:lnTo>
                    <a:pt x="16212" y="3677"/>
                  </a:lnTo>
                  <a:lnTo>
                    <a:pt x="13299" y="4969"/>
                  </a:lnTo>
                  <a:lnTo>
                    <a:pt x="13299" y="9566"/>
                  </a:lnTo>
                  <a:lnTo>
                    <a:pt x="12557" y="9566"/>
                  </a:lnTo>
                  <a:lnTo>
                    <a:pt x="12557" y="2423"/>
                  </a:lnTo>
                  <a:lnTo>
                    <a:pt x="11973" y="2423"/>
                  </a:lnTo>
                  <a:lnTo>
                    <a:pt x="11973" y="0"/>
                  </a:lnTo>
                  <a:lnTo>
                    <a:pt x="9497" y="0"/>
                  </a:lnTo>
                  <a:close/>
                  <a:moveTo>
                    <a:pt x="9497" y="0"/>
                  </a:moveTo>
                </a:path>
              </a:pathLst>
            </a:cu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66" name="AutoShape 7"/>
            <p:cNvSpPr/>
            <p:nvPr/>
          </p:nvSpPr>
          <p:spPr>
            <a:xfrm>
              <a:off x="2850120" y="4402440"/>
              <a:ext cx="1532160" cy="69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956" y="0"/>
                  </a:moveTo>
                  <a:lnTo>
                    <a:pt x="4956" y="2631"/>
                  </a:lnTo>
                  <a:cubicBezTo>
                    <a:pt x="3968" y="6602"/>
                    <a:pt x="2077" y="9109"/>
                    <a:pt x="0" y="9109"/>
                  </a:cubicBezTo>
                  <a:lnTo>
                    <a:pt x="0" y="10065"/>
                  </a:lnTo>
                  <a:cubicBezTo>
                    <a:pt x="386" y="10065"/>
                    <a:pt x="766" y="9985"/>
                    <a:pt x="1136" y="9830"/>
                  </a:cubicBezTo>
                  <a:lnTo>
                    <a:pt x="1136" y="15386"/>
                  </a:lnTo>
                  <a:lnTo>
                    <a:pt x="0" y="15386"/>
                  </a:lnTo>
                  <a:lnTo>
                    <a:pt x="0" y="17297"/>
                  </a:lnTo>
                  <a:lnTo>
                    <a:pt x="4956" y="17297"/>
                  </a:lnTo>
                  <a:lnTo>
                    <a:pt x="4956" y="21600"/>
                  </a:lnTo>
                  <a:lnTo>
                    <a:pt x="5820" y="21600"/>
                  </a:lnTo>
                  <a:lnTo>
                    <a:pt x="5820" y="17297"/>
                  </a:lnTo>
                  <a:lnTo>
                    <a:pt x="15756" y="17297"/>
                  </a:lnTo>
                  <a:lnTo>
                    <a:pt x="15756" y="21600"/>
                  </a:lnTo>
                  <a:lnTo>
                    <a:pt x="16620" y="21600"/>
                  </a:lnTo>
                  <a:lnTo>
                    <a:pt x="16620" y="17297"/>
                  </a:lnTo>
                  <a:lnTo>
                    <a:pt x="21600" y="17297"/>
                  </a:lnTo>
                  <a:lnTo>
                    <a:pt x="21600" y="15386"/>
                  </a:lnTo>
                  <a:lnTo>
                    <a:pt x="20621" y="15386"/>
                  </a:lnTo>
                  <a:lnTo>
                    <a:pt x="20621" y="9878"/>
                  </a:lnTo>
                  <a:cubicBezTo>
                    <a:pt x="20942" y="9994"/>
                    <a:pt x="21268" y="10065"/>
                    <a:pt x="21600" y="10065"/>
                  </a:cubicBezTo>
                  <a:lnTo>
                    <a:pt x="21600" y="9109"/>
                  </a:lnTo>
                  <a:cubicBezTo>
                    <a:pt x="19507" y="9109"/>
                    <a:pt x="17601" y="6561"/>
                    <a:pt x="16620" y="2534"/>
                  </a:cubicBezTo>
                  <a:lnTo>
                    <a:pt x="16620" y="0"/>
                  </a:lnTo>
                  <a:lnTo>
                    <a:pt x="15756" y="0"/>
                  </a:lnTo>
                  <a:lnTo>
                    <a:pt x="15756" y="2631"/>
                  </a:lnTo>
                  <a:cubicBezTo>
                    <a:pt x="14768" y="6602"/>
                    <a:pt x="12877" y="9109"/>
                    <a:pt x="10800" y="9109"/>
                  </a:cubicBezTo>
                  <a:cubicBezTo>
                    <a:pt x="8707" y="9109"/>
                    <a:pt x="6801" y="6561"/>
                    <a:pt x="5820" y="2534"/>
                  </a:cubicBezTo>
                  <a:lnTo>
                    <a:pt x="5820" y="0"/>
                  </a:lnTo>
                  <a:lnTo>
                    <a:pt x="4956" y="0"/>
                  </a:lnTo>
                  <a:close/>
                  <a:moveTo>
                    <a:pt x="5820" y="4348"/>
                  </a:moveTo>
                  <a:cubicBezTo>
                    <a:pt x="6082" y="5170"/>
                    <a:pt x="6382" y="5918"/>
                    <a:pt x="6715" y="6583"/>
                  </a:cubicBezTo>
                  <a:lnTo>
                    <a:pt x="6715" y="15386"/>
                  </a:lnTo>
                  <a:lnTo>
                    <a:pt x="5820" y="15386"/>
                  </a:lnTo>
                  <a:lnTo>
                    <a:pt x="5820" y="4348"/>
                  </a:lnTo>
                  <a:close/>
                  <a:moveTo>
                    <a:pt x="16620" y="4348"/>
                  </a:moveTo>
                  <a:cubicBezTo>
                    <a:pt x="16916" y="5277"/>
                    <a:pt x="17261" y="6113"/>
                    <a:pt x="17646" y="6840"/>
                  </a:cubicBezTo>
                  <a:lnTo>
                    <a:pt x="17646" y="15386"/>
                  </a:lnTo>
                  <a:lnTo>
                    <a:pt x="16620" y="15386"/>
                  </a:lnTo>
                  <a:lnTo>
                    <a:pt x="16620" y="4348"/>
                  </a:lnTo>
                  <a:close/>
                  <a:moveTo>
                    <a:pt x="4956" y="4422"/>
                  </a:moveTo>
                  <a:lnTo>
                    <a:pt x="4956" y="15386"/>
                  </a:lnTo>
                  <a:lnTo>
                    <a:pt x="4111" y="15386"/>
                  </a:lnTo>
                  <a:lnTo>
                    <a:pt x="4111" y="6531"/>
                  </a:lnTo>
                  <a:cubicBezTo>
                    <a:pt x="4423" y="5899"/>
                    <a:pt x="4707" y="5194"/>
                    <a:pt x="4956" y="4422"/>
                  </a:cubicBezTo>
                  <a:close/>
                  <a:moveTo>
                    <a:pt x="15756" y="4422"/>
                  </a:moveTo>
                  <a:lnTo>
                    <a:pt x="15756" y="15386"/>
                  </a:lnTo>
                  <a:lnTo>
                    <a:pt x="14941" y="15386"/>
                  </a:lnTo>
                  <a:lnTo>
                    <a:pt x="14941" y="6471"/>
                  </a:lnTo>
                  <a:cubicBezTo>
                    <a:pt x="15241" y="5855"/>
                    <a:pt x="15515" y="5169"/>
                    <a:pt x="15756" y="4422"/>
                  </a:cubicBezTo>
                  <a:close/>
                  <a:moveTo>
                    <a:pt x="14725" y="6893"/>
                  </a:moveTo>
                  <a:lnTo>
                    <a:pt x="14725" y="15386"/>
                  </a:lnTo>
                  <a:lnTo>
                    <a:pt x="13606" y="15386"/>
                  </a:lnTo>
                  <a:lnTo>
                    <a:pt x="13606" y="8550"/>
                  </a:lnTo>
                  <a:cubicBezTo>
                    <a:pt x="14006" y="8091"/>
                    <a:pt x="14381" y="7535"/>
                    <a:pt x="14725" y="6893"/>
                  </a:cubicBezTo>
                  <a:close/>
                  <a:moveTo>
                    <a:pt x="3895" y="6952"/>
                  </a:moveTo>
                  <a:lnTo>
                    <a:pt x="3895" y="15386"/>
                  </a:lnTo>
                  <a:lnTo>
                    <a:pt x="2685" y="15386"/>
                  </a:lnTo>
                  <a:lnTo>
                    <a:pt x="2685" y="8684"/>
                  </a:lnTo>
                  <a:cubicBezTo>
                    <a:pt x="3118" y="8214"/>
                    <a:pt x="3524" y="7635"/>
                    <a:pt x="3895" y="6952"/>
                  </a:cubicBezTo>
                  <a:close/>
                  <a:moveTo>
                    <a:pt x="6931" y="6997"/>
                  </a:moveTo>
                  <a:cubicBezTo>
                    <a:pt x="7276" y="7625"/>
                    <a:pt x="7651" y="8167"/>
                    <a:pt x="8049" y="8613"/>
                  </a:cubicBezTo>
                  <a:lnTo>
                    <a:pt x="8049" y="15386"/>
                  </a:lnTo>
                  <a:lnTo>
                    <a:pt x="6931" y="15386"/>
                  </a:lnTo>
                  <a:lnTo>
                    <a:pt x="6931" y="6997"/>
                  </a:lnTo>
                  <a:close/>
                  <a:moveTo>
                    <a:pt x="17862" y="7229"/>
                  </a:moveTo>
                  <a:cubicBezTo>
                    <a:pt x="18235" y="7870"/>
                    <a:pt x="18641" y="8417"/>
                    <a:pt x="19072" y="8852"/>
                  </a:cubicBezTo>
                  <a:lnTo>
                    <a:pt x="19072" y="15386"/>
                  </a:lnTo>
                  <a:lnTo>
                    <a:pt x="17862" y="15386"/>
                  </a:lnTo>
                  <a:lnTo>
                    <a:pt x="17862" y="7229"/>
                  </a:lnTo>
                  <a:close/>
                  <a:moveTo>
                    <a:pt x="13390" y="8789"/>
                  </a:moveTo>
                  <a:lnTo>
                    <a:pt x="13390" y="15386"/>
                  </a:lnTo>
                  <a:lnTo>
                    <a:pt x="12272" y="15386"/>
                  </a:lnTo>
                  <a:lnTo>
                    <a:pt x="12272" y="9666"/>
                  </a:lnTo>
                  <a:cubicBezTo>
                    <a:pt x="12659" y="9452"/>
                    <a:pt x="13033" y="9160"/>
                    <a:pt x="13390" y="8789"/>
                  </a:cubicBezTo>
                  <a:close/>
                  <a:moveTo>
                    <a:pt x="8265" y="8845"/>
                  </a:moveTo>
                  <a:cubicBezTo>
                    <a:pt x="8623" y="9207"/>
                    <a:pt x="8997" y="9491"/>
                    <a:pt x="9384" y="9695"/>
                  </a:cubicBezTo>
                  <a:lnTo>
                    <a:pt x="9384" y="15386"/>
                  </a:lnTo>
                  <a:lnTo>
                    <a:pt x="8265" y="15386"/>
                  </a:lnTo>
                  <a:lnTo>
                    <a:pt x="8265" y="8845"/>
                  </a:lnTo>
                  <a:close/>
                  <a:moveTo>
                    <a:pt x="2469" y="8908"/>
                  </a:moveTo>
                  <a:lnTo>
                    <a:pt x="2469" y="15386"/>
                  </a:lnTo>
                  <a:lnTo>
                    <a:pt x="1352" y="15386"/>
                  </a:lnTo>
                  <a:lnTo>
                    <a:pt x="1352" y="9729"/>
                  </a:lnTo>
                  <a:cubicBezTo>
                    <a:pt x="1738" y="9535"/>
                    <a:pt x="2111" y="9259"/>
                    <a:pt x="2469" y="8908"/>
                  </a:cubicBezTo>
                  <a:close/>
                  <a:moveTo>
                    <a:pt x="19288" y="9057"/>
                  </a:moveTo>
                  <a:cubicBezTo>
                    <a:pt x="19647" y="9383"/>
                    <a:pt x="20020" y="9633"/>
                    <a:pt x="20405" y="9804"/>
                  </a:cubicBezTo>
                  <a:lnTo>
                    <a:pt x="20405" y="15386"/>
                  </a:lnTo>
                  <a:lnTo>
                    <a:pt x="19288" y="15386"/>
                  </a:lnTo>
                  <a:lnTo>
                    <a:pt x="19288" y="9057"/>
                  </a:lnTo>
                  <a:close/>
                  <a:moveTo>
                    <a:pt x="12056" y="9777"/>
                  </a:moveTo>
                  <a:lnTo>
                    <a:pt x="12056" y="15386"/>
                  </a:lnTo>
                  <a:lnTo>
                    <a:pt x="10937" y="15386"/>
                  </a:lnTo>
                  <a:lnTo>
                    <a:pt x="10937" y="10061"/>
                  </a:lnTo>
                  <a:cubicBezTo>
                    <a:pt x="11317" y="10042"/>
                    <a:pt x="11691" y="9947"/>
                    <a:pt x="12056" y="9777"/>
                  </a:cubicBezTo>
                  <a:close/>
                  <a:moveTo>
                    <a:pt x="9600" y="9800"/>
                  </a:moveTo>
                  <a:cubicBezTo>
                    <a:pt x="9965" y="9962"/>
                    <a:pt x="10340" y="10054"/>
                    <a:pt x="10721" y="10065"/>
                  </a:cubicBezTo>
                  <a:lnTo>
                    <a:pt x="10721" y="15386"/>
                  </a:lnTo>
                  <a:lnTo>
                    <a:pt x="9600" y="15386"/>
                  </a:lnTo>
                  <a:lnTo>
                    <a:pt x="9600" y="9800"/>
                  </a:lnTo>
                  <a:close/>
                  <a:moveTo>
                    <a:pt x="9600" y="9800"/>
                  </a:moveTo>
                </a:path>
              </a:pathLst>
            </a:cu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4237920" y="3983040"/>
              <a:ext cx="1465560" cy="97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98" y="0"/>
                  </a:moveTo>
                  <a:cubicBezTo>
                    <a:pt x="3750" y="0"/>
                    <a:pt x="3628" y="176"/>
                    <a:pt x="3621" y="399"/>
                  </a:cubicBezTo>
                  <a:lnTo>
                    <a:pt x="3237" y="13861"/>
                  </a:lnTo>
                  <a:lnTo>
                    <a:pt x="1804" y="13861"/>
                  </a:lnTo>
                  <a:lnTo>
                    <a:pt x="1804" y="18222"/>
                  </a:lnTo>
                  <a:lnTo>
                    <a:pt x="0" y="1822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18222"/>
                  </a:lnTo>
                  <a:lnTo>
                    <a:pt x="19740" y="18222"/>
                  </a:lnTo>
                  <a:lnTo>
                    <a:pt x="19740" y="11465"/>
                  </a:lnTo>
                  <a:lnTo>
                    <a:pt x="18654" y="11465"/>
                  </a:lnTo>
                  <a:lnTo>
                    <a:pt x="18654" y="6253"/>
                  </a:lnTo>
                  <a:lnTo>
                    <a:pt x="15598" y="8796"/>
                  </a:lnTo>
                  <a:lnTo>
                    <a:pt x="15598" y="6253"/>
                  </a:lnTo>
                  <a:lnTo>
                    <a:pt x="12542" y="8796"/>
                  </a:lnTo>
                  <a:lnTo>
                    <a:pt x="12542" y="6253"/>
                  </a:lnTo>
                  <a:lnTo>
                    <a:pt x="8603" y="9530"/>
                  </a:lnTo>
                  <a:lnTo>
                    <a:pt x="8603" y="13861"/>
                  </a:lnTo>
                  <a:lnTo>
                    <a:pt x="7624" y="13861"/>
                  </a:lnTo>
                  <a:lnTo>
                    <a:pt x="7239" y="399"/>
                  </a:lnTo>
                  <a:cubicBezTo>
                    <a:pt x="7233" y="176"/>
                    <a:pt x="7112" y="0"/>
                    <a:pt x="6964" y="0"/>
                  </a:cubicBezTo>
                  <a:lnTo>
                    <a:pt x="6488" y="0"/>
                  </a:lnTo>
                  <a:cubicBezTo>
                    <a:pt x="6340" y="0"/>
                    <a:pt x="6218" y="176"/>
                    <a:pt x="6212" y="399"/>
                  </a:cubicBezTo>
                  <a:lnTo>
                    <a:pt x="5827" y="13861"/>
                  </a:lnTo>
                  <a:lnTo>
                    <a:pt x="5034" y="13861"/>
                  </a:lnTo>
                  <a:lnTo>
                    <a:pt x="4651" y="399"/>
                  </a:lnTo>
                  <a:cubicBezTo>
                    <a:pt x="4644" y="176"/>
                    <a:pt x="4522" y="0"/>
                    <a:pt x="4374" y="0"/>
                  </a:cubicBezTo>
                  <a:lnTo>
                    <a:pt x="3898" y="0"/>
                  </a:lnTo>
                  <a:close/>
                  <a:moveTo>
                    <a:pt x="3898" y="0"/>
                  </a:moveTo>
                </a:path>
              </a:pathLst>
            </a:cu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68" name="AutoShape 9"/>
            <p:cNvSpPr/>
            <p:nvPr/>
          </p:nvSpPr>
          <p:spPr>
            <a:xfrm>
              <a:off x="5230080" y="3855960"/>
              <a:ext cx="1398960" cy="110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1535"/>
                  </a:lnTo>
                  <a:lnTo>
                    <a:pt x="651" y="1535"/>
                  </a:lnTo>
                  <a:lnTo>
                    <a:pt x="651" y="18128"/>
                  </a:lnTo>
                  <a:lnTo>
                    <a:pt x="7648" y="18128"/>
                  </a:lnTo>
                  <a:lnTo>
                    <a:pt x="7648" y="18831"/>
                  </a:lnTo>
                  <a:lnTo>
                    <a:pt x="651" y="18831"/>
                  </a:lnTo>
                  <a:lnTo>
                    <a:pt x="651" y="21600"/>
                  </a:lnTo>
                  <a:lnTo>
                    <a:pt x="6775" y="21600"/>
                  </a:lnTo>
                  <a:lnTo>
                    <a:pt x="8773" y="21600"/>
                  </a:lnTo>
                  <a:lnTo>
                    <a:pt x="9152" y="21600"/>
                  </a:lnTo>
                  <a:lnTo>
                    <a:pt x="9152" y="18128"/>
                  </a:lnTo>
                  <a:lnTo>
                    <a:pt x="10545" y="18128"/>
                  </a:lnTo>
                  <a:lnTo>
                    <a:pt x="10545" y="21600"/>
                  </a:lnTo>
                  <a:lnTo>
                    <a:pt x="11148" y="21600"/>
                  </a:lnTo>
                  <a:lnTo>
                    <a:pt x="11148" y="18128"/>
                  </a:lnTo>
                  <a:lnTo>
                    <a:pt x="12549" y="18128"/>
                  </a:lnTo>
                  <a:lnTo>
                    <a:pt x="12549" y="21600"/>
                  </a:lnTo>
                  <a:lnTo>
                    <a:pt x="12829" y="21600"/>
                  </a:lnTo>
                  <a:lnTo>
                    <a:pt x="14896" y="21600"/>
                  </a:lnTo>
                  <a:lnTo>
                    <a:pt x="20950" y="21600"/>
                  </a:lnTo>
                  <a:lnTo>
                    <a:pt x="20950" y="18831"/>
                  </a:lnTo>
                  <a:lnTo>
                    <a:pt x="13969" y="18831"/>
                  </a:lnTo>
                  <a:lnTo>
                    <a:pt x="13969" y="18128"/>
                  </a:lnTo>
                  <a:lnTo>
                    <a:pt x="20950" y="18128"/>
                  </a:lnTo>
                  <a:lnTo>
                    <a:pt x="20950" y="1535"/>
                  </a:lnTo>
                  <a:lnTo>
                    <a:pt x="21600" y="1535"/>
                  </a:lnTo>
                  <a:lnTo>
                    <a:pt x="21600" y="0"/>
                  </a:lnTo>
                  <a:lnTo>
                    <a:pt x="12178" y="0"/>
                  </a:lnTo>
                  <a:lnTo>
                    <a:pt x="12178" y="1535"/>
                  </a:lnTo>
                  <a:lnTo>
                    <a:pt x="12829" y="1535"/>
                  </a:lnTo>
                  <a:lnTo>
                    <a:pt x="12829" y="4086"/>
                  </a:lnTo>
                  <a:lnTo>
                    <a:pt x="8773" y="4086"/>
                  </a:lnTo>
                  <a:lnTo>
                    <a:pt x="8773" y="1535"/>
                  </a:lnTo>
                  <a:lnTo>
                    <a:pt x="9424" y="1535"/>
                  </a:lnTo>
                  <a:lnTo>
                    <a:pt x="9424" y="0"/>
                  </a:lnTo>
                  <a:lnTo>
                    <a:pt x="0" y="0"/>
                  </a:lnTo>
                  <a:close/>
                  <a:moveTo>
                    <a:pt x="1764" y="1535"/>
                  </a:moveTo>
                  <a:lnTo>
                    <a:pt x="2746" y="1535"/>
                  </a:lnTo>
                  <a:lnTo>
                    <a:pt x="2746" y="3819"/>
                  </a:lnTo>
                  <a:lnTo>
                    <a:pt x="1764" y="3819"/>
                  </a:lnTo>
                  <a:lnTo>
                    <a:pt x="1764" y="1535"/>
                  </a:lnTo>
                  <a:close/>
                  <a:moveTo>
                    <a:pt x="4216" y="1535"/>
                  </a:moveTo>
                  <a:lnTo>
                    <a:pt x="5196" y="1535"/>
                  </a:lnTo>
                  <a:lnTo>
                    <a:pt x="5196" y="3819"/>
                  </a:lnTo>
                  <a:lnTo>
                    <a:pt x="4216" y="3819"/>
                  </a:lnTo>
                  <a:lnTo>
                    <a:pt x="4216" y="1535"/>
                  </a:lnTo>
                  <a:close/>
                  <a:moveTo>
                    <a:pt x="6666" y="1535"/>
                  </a:moveTo>
                  <a:lnTo>
                    <a:pt x="7648" y="1535"/>
                  </a:lnTo>
                  <a:lnTo>
                    <a:pt x="7648" y="3819"/>
                  </a:lnTo>
                  <a:lnTo>
                    <a:pt x="6666" y="3819"/>
                  </a:lnTo>
                  <a:lnTo>
                    <a:pt x="6666" y="1535"/>
                  </a:lnTo>
                  <a:close/>
                  <a:moveTo>
                    <a:pt x="13967" y="1535"/>
                  </a:moveTo>
                  <a:lnTo>
                    <a:pt x="14949" y="1535"/>
                  </a:lnTo>
                  <a:lnTo>
                    <a:pt x="14949" y="3819"/>
                  </a:lnTo>
                  <a:lnTo>
                    <a:pt x="13967" y="3819"/>
                  </a:lnTo>
                  <a:lnTo>
                    <a:pt x="13967" y="1535"/>
                  </a:lnTo>
                  <a:close/>
                  <a:moveTo>
                    <a:pt x="16419" y="1535"/>
                  </a:moveTo>
                  <a:lnTo>
                    <a:pt x="17399" y="1535"/>
                  </a:lnTo>
                  <a:lnTo>
                    <a:pt x="17399" y="3819"/>
                  </a:lnTo>
                  <a:lnTo>
                    <a:pt x="16419" y="3819"/>
                  </a:lnTo>
                  <a:lnTo>
                    <a:pt x="16419" y="1535"/>
                  </a:lnTo>
                  <a:close/>
                  <a:moveTo>
                    <a:pt x="18870" y="1535"/>
                  </a:moveTo>
                  <a:lnTo>
                    <a:pt x="19852" y="1535"/>
                  </a:lnTo>
                  <a:lnTo>
                    <a:pt x="19852" y="3819"/>
                  </a:lnTo>
                  <a:lnTo>
                    <a:pt x="18870" y="3819"/>
                  </a:lnTo>
                  <a:lnTo>
                    <a:pt x="18870" y="1535"/>
                  </a:lnTo>
                  <a:close/>
                  <a:moveTo>
                    <a:pt x="1764" y="5829"/>
                  </a:moveTo>
                  <a:lnTo>
                    <a:pt x="2746" y="5829"/>
                  </a:lnTo>
                  <a:lnTo>
                    <a:pt x="2746" y="8112"/>
                  </a:lnTo>
                  <a:lnTo>
                    <a:pt x="1764" y="8112"/>
                  </a:lnTo>
                  <a:lnTo>
                    <a:pt x="1764" y="5829"/>
                  </a:lnTo>
                  <a:close/>
                  <a:moveTo>
                    <a:pt x="4216" y="5829"/>
                  </a:moveTo>
                  <a:lnTo>
                    <a:pt x="5196" y="5829"/>
                  </a:lnTo>
                  <a:lnTo>
                    <a:pt x="5196" y="8112"/>
                  </a:lnTo>
                  <a:lnTo>
                    <a:pt x="4216" y="8112"/>
                  </a:lnTo>
                  <a:lnTo>
                    <a:pt x="4216" y="5829"/>
                  </a:lnTo>
                  <a:close/>
                  <a:moveTo>
                    <a:pt x="6666" y="5829"/>
                  </a:moveTo>
                  <a:lnTo>
                    <a:pt x="7648" y="5829"/>
                  </a:lnTo>
                  <a:lnTo>
                    <a:pt x="7648" y="8112"/>
                  </a:lnTo>
                  <a:lnTo>
                    <a:pt x="6666" y="8112"/>
                  </a:lnTo>
                  <a:lnTo>
                    <a:pt x="6666" y="5829"/>
                  </a:lnTo>
                  <a:close/>
                  <a:moveTo>
                    <a:pt x="9152" y="5829"/>
                  </a:moveTo>
                  <a:lnTo>
                    <a:pt x="10134" y="5829"/>
                  </a:lnTo>
                  <a:lnTo>
                    <a:pt x="10134" y="8112"/>
                  </a:lnTo>
                  <a:lnTo>
                    <a:pt x="9152" y="8112"/>
                  </a:lnTo>
                  <a:lnTo>
                    <a:pt x="9152" y="5829"/>
                  </a:lnTo>
                  <a:close/>
                  <a:moveTo>
                    <a:pt x="11567" y="5829"/>
                  </a:moveTo>
                  <a:lnTo>
                    <a:pt x="12549" y="5829"/>
                  </a:lnTo>
                  <a:lnTo>
                    <a:pt x="12549" y="8112"/>
                  </a:lnTo>
                  <a:lnTo>
                    <a:pt x="11567" y="8112"/>
                  </a:lnTo>
                  <a:lnTo>
                    <a:pt x="11567" y="5829"/>
                  </a:lnTo>
                  <a:close/>
                  <a:moveTo>
                    <a:pt x="13967" y="5829"/>
                  </a:moveTo>
                  <a:lnTo>
                    <a:pt x="14949" y="5829"/>
                  </a:lnTo>
                  <a:lnTo>
                    <a:pt x="14949" y="8112"/>
                  </a:lnTo>
                  <a:lnTo>
                    <a:pt x="13967" y="8112"/>
                  </a:lnTo>
                  <a:lnTo>
                    <a:pt x="13967" y="5829"/>
                  </a:lnTo>
                  <a:close/>
                  <a:moveTo>
                    <a:pt x="16419" y="5829"/>
                  </a:moveTo>
                  <a:lnTo>
                    <a:pt x="17399" y="5829"/>
                  </a:lnTo>
                  <a:lnTo>
                    <a:pt x="17399" y="8112"/>
                  </a:lnTo>
                  <a:lnTo>
                    <a:pt x="16419" y="8112"/>
                  </a:lnTo>
                  <a:lnTo>
                    <a:pt x="16419" y="5829"/>
                  </a:lnTo>
                  <a:close/>
                  <a:moveTo>
                    <a:pt x="18870" y="5829"/>
                  </a:moveTo>
                  <a:lnTo>
                    <a:pt x="19852" y="5829"/>
                  </a:lnTo>
                  <a:lnTo>
                    <a:pt x="19852" y="8112"/>
                  </a:lnTo>
                  <a:lnTo>
                    <a:pt x="18870" y="8112"/>
                  </a:lnTo>
                  <a:lnTo>
                    <a:pt x="18870" y="5829"/>
                  </a:lnTo>
                  <a:close/>
                  <a:moveTo>
                    <a:pt x="1764" y="10122"/>
                  </a:moveTo>
                  <a:lnTo>
                    <a:pt x="2746" y="10122"/>
                  </a:lnTo>
                  <a:lnTo>
                    <a:pt x="2746" y="12408"/>
                  </a:lnTo>
                  <a:lnTo>
                    <a:pt x="1764" y="12408"/>
                  </a:lnTo>
                  <a:lnTo>
                    <a:pt x="1764" y="10122"/>
                  </a:lnTo>
                  <a:close/>
                  <a:moveTo>
                    <a:pt x="4216" y="10122"/>
                  </a:moveTo>
                  <a:lnTo>
                    <a:pt x="5196" y="10122"/>
                  </a:lnTo>
                  <a:lnTo>
                    <a:pt x="5196" y="12408"/>
                  </a:lnTo>
                  <a:lnTo>
                    <a:pt x="4216" y="12408"/>
                  </a:lnTo>
                  <a:lnTo>
                    <a:pt x="4216" y="10122"/>
                  </a:lnTo>
                  <a:close/>
                  <a:moveTo>
                    <a:pt x="6666" y="10122"/>
                  </a:moveTo>
                  <a:lnTo>
                    <a:pt x="7648" y="10122"/>
                  </a:lnTo>
                  <a:lnTo>
                    <a:pt x="7648" y="12408"/>
                  </a:lnTo>
                  <a:lnTo>
                    <a:pt x="6666" y="12408"/>
                  </a:lnTo>
                  <a:lnTo>
                    <a:pt x="6666" y="10122"/>
                  </a:lnTo>
                  <a:close/>
                  <a:moveTo>
                    <a:pt x="9152" y="10122"/>
                  </a:moveTo>
                  <a:lnTo>
                    <a:pt x="10134" y="10122"/>
                  </a:lnTo>
                  <a:lnTo>
                    <a:pt x="10134" y="12408"/>
                  </a:lnTo>
                  <a:lnTo>
                    <a:pt x="9152" y="12408"/>
                  </a:lnTo>
                  <a:lnTo>
                    <a:pt x="9152" y="10122"/>
                  </a:lnTo>
                  <a:close/>
                  <a:moveTo>
                    <a:pt x="11567" y="10122"/>
                  </a:moveTo>
                  <a:lnTo>
                    <a:pt x="12549" y="10122"/>
                  </a:lnTo>
                  <a:lnTo>
                    <a:pt x="12549" y="12408"/>
                  </a:lnTo>
                  <a:lnTo>
                    <a:pt x="11567" y="12408"/>
                  </a:lnTo>
                  <a:lnTo>
                    <a:pt x="11567" y="10122"/>
                  </a:lnTo>
                  <a:close/>
                  <a:moveTo>
                    <a:pt x="13967" y="10122"/>
                  </a:moveTo>
                  <a:lnTo>
                    <a:pt x="14949" y="10122"/>
                  </a:lnTo>
                  <a:lnTo>
                    <a:pt x="14949" y="12408"/>
                  </a:lnTo>
                  <a:lnTo>
                    <a:pt x="13967" y="12408"/>
                  </a:lnTo>
                  <a:lnTo>
                    <a:pt x="13967" y="10122"/>
                  </a:lnTo>
                  <a:close/>
                  <a:moveTo>
                    <a:pt x="16419" y="10122"/>
                  </a:moveTo>
                  <a:lnTo>
                    <a:pt x="17399" y="10122"/>
                  </a:lnTo>
                  <a:lnTo>
                    <a:pt x="17399" y="12408"/>
                  </a:lnTo>
                  <a:lnTo>
                    <a:pt x="16419" y="12408"/>
                  </a:lnTo>
                  <a:lnTo>
                    <a:pt x="16419" y="10122"/>
                  </a:lnTo>
                  <a:close/>
                  <a:moveTo>
                    <a:pt x="18870" y="10122"/>
                  </a:moveTo>
                  <a:lnTo>
                    <a:pt x="19852" y="10122"/>
                  </a:lnTo>
                  <a:lnTo>
                    <a:pt x="19852" y="12408"/>
                  </a:lnTo>
                  <a:lnTo>
                    <a:pt x="18870" y="12408"/>
                  </a:lnTo>
                  <a:lnTo>
                    <a:pt x="18870" y="10122"/>
                  </a:lnTo>
                  <a:close/>
                  <a:moveTo>
                    <a:pt x="1764" y="14418"/>
                  </a:moveTo>
                  <a:lnTo>
                    <a:pt x="2746" y="14418"/>
                  </a:lnTo>
                  <a:lnTo>
                    <a:pt x="2746" y="16701"/>
                  </a:lnTo>
                  <a:lnTo>
                    <a:pt x="1764" y="16701"/>
                  </a:lnTo>
                  <a:lnTo>
                    <a:pt x="1764" y="14418"/>
                  </a:lnTo>
                  <a:close/>
                  <a:moveTo>
                    <a:pt x="4216" y="14418"/>
                  </a:moveTo>
                  <a:lnTo>
                    <a:pt x="5196" y="14418"/>
                  </a:lnTo>
                  <a:lnTo>
                    <a:pt x="5196" y="16701"/>
                  </a:lnTo>
                  <a:lnTo>
                    <a:pt x="4216" y="16701"/>
                  </a:lnTo>
                  <a:lnTo>
                    <a:pt x="4216" y="14418"/>
                  </a:lnTo>
                  <a:close/>
                  <a:moveTo>
                    <a:pt x="6666" y="14418"/>
                  </a:moveTo>
                  <a:lnTo>
                    <a:pt x="7648" y="14418"/>
                  </a:lnTo>
                  <a:lnTo>
                    <a:pt x="7648" y="16701"/>
                  </a:lnTo>
                  <a:lnTo>
                    <a:pt x="6666" y="16701"/>
                  </a:lnTo>
                  <a:lnTo>
                    <a:pt x="6666" y="14418"/>
                  </a:lnTo>
                  <a:close/>
                  <a:moveTo>
                    <a:pt x="9152" y="14418"/>
                  </a:moveTo>
                  <a:lnTo>
                    <a:pt x="10134" y="14418"/>
                  </a:lnTo>
                  <a:lnTo>
                    <a:pt x="10134" y="16701"/>
                  </a:lnTo>
                  <a:lnTo>
                    <a:pt x="9152" y="16701"/>
                  </a:lnTo>
                  <a:lnTo>
                    <a:pt x="9152" y="14418"/>
                  </a:lnTo>
                  <a:close/>
                  <a:moveTo>
                    <a:pt x="11567" y="14418"/>
                  </a:moveTo>
                  <a:lnTo>
                    <a:pt x="12549" y="14418"/>
                  </a:lnTo>
                  <a:lnTo>
                    <a:pt x="12549" y="16701"/>
                  </a:lnTo>
                  <a:lnTo>
                    <a:pt x="11567" y="16701"/>
                  </a:lnTo>
                  <a:lnTo>
                    <a:pt x="11567" y="14418"/>
                  </a:lnTo>
                  <a:close/>
                  <a:moveTo>
                    <a:pt x="13967" y="14418"/>
                  </a:moveTo>
                  <a:lnTo>
                    <a:pt x="14949" y="14418"/>
                  </a:lnTo>
                  <a:lnTo>
                    <a:pt x="14949" y="16701"/>
                  </a:lnTo>
                  <a:lnTo>
                    <a:pt x="13967" y="16701"/>
                  </a:lnTo>
                  <a:lnTo>
                    <a:pt x="13967" y="14418"/>
                  </a:lnTo>
                  <a:close/>
                  <a:moveTo>
                    <a:pt x="16419" y="14418"/>
                  </a:moveTo>
                  <a:lnTo>
                    <a:pt x="17399" y="14418"/>
                  </a:lnTo>
                  <a:lnTo>
                    <a:pt x="17399" y="16701"/>
                  </a:lnTo>
                  <a:lnTo>
                    <a:pt x="16419" y="16701"/>
                  </a:lnTo>
                  <a:lnTo>
                    <a:pt x="16419" y="14418"/>
                  </a:lnTo>
                  <a:close/>
                  <a:moveTo>
                    <a:pt x="18870" y="14418"/>
                  </a:moveTo>
                  <a:lnTo>
                    <a:pt x="19852" y="14418"/>
                  </a:lnTo>
                  <a:lnTo>
                    <a:pt x="19852" y="16701"/>
                  </a:lnTo>
                  <a:lnTo>
                    <a:pt x="18870" y="16701"/>
                  </a:lnTo>
                  <a:lnTo>
                    <a:pt x="18870" y="14418"/>
                  </a:lnTo>
                  <a:close/>
                  <a:moveTo>
                    <a:pt x="18870" y="14418"/>
                  </a:moveTo>
                </a:path>
              </a:pathLst>
            </a:cu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69" name="Rectangle 11"/>
          <p:cNvSpPr/>
          <p:nvPr/>
        </p:nvSpPr>
        <p:spPr>
          <a:xfrm>
            <a:off x="1106640" y="7215120"/>
            <a:ext cx="130791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aesent quam justo, tempor ac sollicitudin sed, mattis vel arcu. Proin ac nibh quis metus tristique sagittis vel ac ligulnean dic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0" name="AutoShape 12"/>
          <p:cNvSpPr/>
          <p:nvPr/>
        </p:nvSpPr>
        <p:spPr>
          <a:xfrm>
            <a:off x="723960" y="4940280"/>
            <a:ext cx="6705720" cy="1371600"/>
          </a:xfrm>
          <a:prstGeom prst="roundRect">
            <a:avLst>
              <a:gd name="adj" fmla="val 13889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1104840" y="5065560"/>
            <a:ext cx="59911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aesent quam justo, tempor ac sollicitudin sed, mattis vel arcu. Proin ac nibh quis metus tristique sagittis vel dic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72" name="Picture 14" descr=""/>
          <p:cNvPicPr/>
          <p:nvPr/>
        </p:nvPicPr>
        <p:blipFill>
          <a:blip r:embed="rId1"/>
          <a:stretch/>
        </p:blipFill>
        <p:spPr>
          <a:xfrm>
            <a:off x="10058400" y="3008160"/>
            <a:ext cx="4348080" cy="392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2"/>
          <a:stretch/>
        </p:blipFill>
        <p:spPr>
          <a:xfrm>
            <a:off x="10198080" y="3149640"/>
            <a:ext cx="406404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1"/>
          <p:cNvSpPr/>
          <p:nvPr/>
        </p:nvSpPr>
        <p:spPr>
          <a:xfrm>
            <a:off x="1244520" y="3238560"/>
            <a:ext cx="4114800" cy="3975120"/>
          </a:xfrm>
          <a:prstGeom prst="roundRect">
            <a:avLst>
              <a:gd name="adj" fmla="val 4792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454040" y="3879720"/>
            <a:ext cx="3772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aesent quam justo, tempor ac sollicitudin sed, mattis vel arcu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1244520" y="3225960"/>
            <a:ext cx="4114800" cy="583920"/>
          </a:xfrm>
          <a:prstGeom prst="roundRect">
            <a:avLst>
              <a:gd name="adj" fmla="val 32606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641600" y="3132000"/>
            <a:ext cx="33652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George Cooler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1873080" y="5378400"/>
            <a:ext cx="2934000" cy="2895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107316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s actually our duty to future generations and their quest to ensure the survival of the human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5867280" y="3251160"/>
            <a:ext cx="4114800" cy="3975120"/>
          </a:xfrm>
          <a:prstGeom prst="roundRect">
            <a:avLst>
              <a:gd name="adj" fmla="val 4792"/>
            </a:avLst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083280" y="3898800"/>
            <a:ext cx="3772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aesent quam justo, tempor ac sollicitudin sed, mattis vel arcu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5867280" y="3238560"/>
            <a:ext cx="4114800" cy="584280"/>
          </a:xfrm>
          <a:prstGeom prst="roundRect">
            <a:avLst>
              <a:gd name="adj" fmla="val 32606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261120" y="3147840"/>
            <a:ext cx="33656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Wanda Madsen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2"/>
          <a:stretch/>
        </p:blipFill>
        <p:spPr>
          <a:xfrm>
            <a:off x="6496200" y="5391000"/>
            <a:ext cx="2933640" cy="28958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3"/>
          <p:cNvSpPr/>
          <p:nvPr/>
        </p:nvSpPr>
        <p:spPr>
          <a:xfrm>
            <a:off x="10490040" y="3263760"/>
            <a:ext cx="4114800" cy="3975120"/>
          </a:xfrm>
          <a:prstGeom prst="roundRect">
            <a:avLst>
              <a:gd name="adj" fmla="val 4792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0706040" y="3911760"/>
            <a:ext cx="377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aesent quam justo, tempor ac sollicitudin sed, mattis vel arcu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10490040" y="3251160"/>
            <a:ext cx="4114800" cy="584280"/>
          </a:xfrm>
          <a:prstGeom prst="roundRect">
            <a:avLst>
              <a:gd name="adj" fmla="val 32606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10883880" y="3160800"/>
            <a:ext cx="3359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Lisa S. Johnes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3"/>
          <a:stretch/>
        </p:blipFill>
        <p:spPr>
          <a:xfrm>
            <a:off x="11118960" y="5403960"/>
            <a:ext cx="293364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026000" y="590400"/>
            <a:ext cx="3871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Lorem Ipsum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077840" y="1501920"/>
            <a:ext cx="1414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069920" y="2479680"/>
            <a:ext cx="1412100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efe"/>
                </a:solidFill>
                <a:latin typeface="Cambria"/>
                <a:ea typeface="ＭＳ Ｐゴシック"/>
              </a:rPr>
              <a:t>When I orbited the Earth in a spaceship, I saw for the first time how beautiful our planet is. Mankind, let us preserve and increase this beauty, and not destroy it!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069920" y="4765680"/>
            <a:ext cx="44690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Science has not yet mastered prophecy. We predict too much for the next year and yet far too little for the next 10.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0674360" y="4511520"/>
            <a:ext cx="446724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Space, the final frontier. These are the voyages of the Starship Enterprise. Its five-year mission: to explore strange new worlds, to seek out new life.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6191280" y="4438800"/>
            <a:ext cx="3606840" cy="3619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3"/>
          <p:cNvGrpSpPr/>
          <p:nvPr/>
        </p:nvGrpSpPr>
        <p:grpSpPr>
          <a:xfrm>
            <a:off x="1166760" y="3108240"/>
            <a:ext cx="1241280" cy="1241280"/>
            <a:chOff x="1166760" y="3108240"/>
            <a:chExt cx="1241280" cy="1241280"/>
          </a:xfrm>
        </p:grpSpPr>
        <p:sp>
          <p:nvSpPr>
            <p:cNvPr id="98" name="Rectangle 1"/>
            <p:cNvSpPr/>
            <p:nvPr/>
          </p:nvSpPr>
          <p:spPr>
            <a:xfrm>
              <a:off x="1227240" y="3189240"/>
              <a:ext cx="1118880" cy="1050840"/>
            </a:xfrm>
            <a:prstGeom prst="rect">
              <a:avLst/>
            </a:prstGeom>
            <a:solidFill>
              <a:srgbClr val="cf5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99" name="Picture 2" descr=""/>
            <p:cNvPicPr/>
            <p:nvPr/>
          </p:nvPicPr>
          <p:blipFill>
            <a:blip r:embed="rId1"/>
            <a:stretch/>
          </p:blipFill>
          <p:spPr>
            <a:xfrm>
              <a:off x="1166760" y="3108240"/>
              <a:ext cx="1241280" cy="124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Rectangle 4"/>
          <p:cNvSpPr/>
          <p:nvPr/>
        </p:nvSpPr>
        <p:spPr>
          <a:xfrm>
            <a:off x="2903400" y="3038400"/>
            <a:ext cx="469296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Vivamus congue felis eget mauris convallis finib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1184400" y="4924440"/>
            <a:ext cx="1240920" cy="1240920"/>
            <a:chOff x="1184400" y="4924440"/>
            <a:chExt cx="1240920" cy="1240920"/>
          </a:xfrm>
        </p:grpSpPr>
        <p:sp>
          <p:nvSpPr>
            <p:cNvPr id="102" name="Rectangle 5"/>
            <p:cNvSpPr/>
            <p:nvPr/>
          </p:nvSpPr>
          <p:spPr>
            <a:xfrm>
              <a:off x="1238400" y="5033880"/>
              <a:ext cx="1118520" cy="1050480"/>
            </a:xfrm>
            <a:prstGeom prst="rect">
              <a:avLst/>
            </a:prstGeom>
            <a:solidFill>
              <a:srgbClr val="9a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03" name="Picture 6" descr=""/>
            <p:cNvPicPr/>
            <p:nvPr/>
          </p:nvPicPr>
          <p:blipFill>
            <a:blip r:embed="rId2"/>
            <a:stretch/>
          </p:blipFill>
          <p:spPr>
            <a:xfrm>
              <a:off x="1184400" y="4924440"/>
              <a:ext cx="1240920" cy="124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Rectangle 8"/>
          <p:cNvSpPr/>
          <p:nvPr/>
        </p:nvSpPr>
        <p:spPr>
          <a:xfrm>
            <a:off x="2903400" y="4732200"/>
            <a:ext cx="4692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Phasellus eget dolor eu lacus imperdiet lacinia. Nunc tincidunt semper odio ac temp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05" name="Group 11"/>
          <p:cNvGrpSpPr/>
          <p:nvPr/>
        </p:nvGrpSpPr>
        <p:grpSpPr>
          <a:xfrm>
            <a:off x="1166760" y="6892920"/>
            <a:ext cx="1241280" cy="1240920"/>
            <a:chOff x="1166760" y="6892920"/>
            <a:chExt cx="1241280" cy="1240920"/>
          </a:xfrm>
        </p:grpSpPr>
        <p:sp>
          <p:nvSpPr>
            <p:cNvPr id="106" name="Rectangle 9"/>
            <p:cNvSpPr/>
            <p:nvPr/>
          </p:nvSpPr>
          <p:spPr>
            <a:xfrm>
              <a:off x="1227240" y="6950160"/>
              <a:ext cx="1118880" cy="1050480"/>
            </a:xfrm>
            <a:prstGeom prst="rect">
              <a:avLst/>
            </a:prstGeom>
            <a:solidFill>
              <a:srgbClr val="544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07" name="Picture 10" descr=""/>
            <p:cNvPicPr/>
            <p:nvPr/>
          </p:nvPicPr>
          <p:blipFill>
            <a:blip r:embed="rId3"/>
            <a:stretch/>
          </p:blipFill>
          <p:spPr>
            <a:xfrm>
              <a:off x="1166760" y="6892920"/>
              <a:ext cx="1241280" cy="124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Rectangle 12"/>
          <p:cNvSpPr/>
          <p:nvPr/>
        </p:nvSpPr>
        <p:spPr>
          <a:xfrm>
            <a:off x="2903400" y="6799320"/>
            <a:ext cx="469296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Vivamus congue felis eget mauris convallis finib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8440560" y="3106800"/>
            <a:ext cx="1241280" cy="1240920"/>
            <a:chOff x="8440560" y="3106800"/>
            <a:chExt cx="1241280" cy="1240920"/>
          </a:xfrm>
        </p:grpSpPr>
        <p:sp>
          <p:nvSpPr>
            <p:cNvPr id="110" name="Rectangle 13"/>
            <p:cNvSpPr/>
            <p:nvPr/>
          </p:nvSpPr>
          <p:spPr>
            <a:xfrm>
              <a:off x="8508960" y="3222720"/>
              <a:ext cx="1118880" cy="1050480"/>
            </a:xfrm>
            <a:prstGeom prst="rect">
              <a:avLst/>
            </a:prstGeom>
            <a:solidFill>
              <a:srgbClr val="cf5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11" name="Picture 14" descr=""/>
            <p:cNvPicPr/>
            <p:nvPr/>
          </p:nvPicPr>
          <p:blipFill>
            <a:blip r:embed="rId4"/>
            <a:stretch/>
          </p:blipFill>
          <p:spPr>
            <a:xfrm>
              <a:off x="8440560" y="3106800"/>
              <a:ext cx="1241280" cy="124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Rectangle 16"/>
          <p:cNvSpPr/>
          <p:nvPr/>
        </p:nvSpPr>
        <p:spPr>
          <a:xfrm>
            <a:off x="10101240" y="2987640"/>
            <a:ext cx="46926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Vivamus congue felis eget mauris convallis finib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13" name="Group 19"/>
          <p:cNvGrpSpPr/>
          <p:nvPr/>
        </p:nvGrpSpPr>
        <p:grpSpPr>
          <a:xfrm>
            <a:off x="8440560" y="5000760"/>
            <a:ext cx="1241280" cy="1239840"/>
            <a:chOff x="8440560" y="5000760"/>
            <a:chExt cx="1241280" cy="1239840"/>
          </a:xfrm>
        </p:grpSpPr>
        <p:sp>
          <p:nvSpPr>
            <p:cNvPr id="114" name="Rectangle 17"/>
            <p:cNvSpPr/>
            <p:nvPr/>
          </p:nvSpPr>
          <p:spPr>
            <a:xfrm>
              <a:off x="8496000" y="5139000"/>
              <a:ext cx="1119240" cy="1049040"/>
            </a:xfrm>
            <a:prstGeom prst="rect">
              <a:avLst/>
            </a:prstGeom>
            <a:solidFill>
              <a:srgbClr val="9a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15" name="Picture 18" descr=""/>
            <p:cNvPicPr/>
            <p:nvPr/>
          </p:nvPicPr>
          <p:blipFill>
            <a:blip r:embed="rId5"/>
            <a:stretch/>
          </p:blipFill>
          <p:spPr>
            <a:xfrm>
              <a:off x="8440560" y="5000760"/>
              <a:ext cx="1241280" cy="12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Rectangle 20"/>
          <p:cNvSpPr/>
          <p:nvPr/>
        </p:nvSpPr>
        <p:spPr>
          <a:xfrm>
            <a:off x="10101240" y="4681440"/>
            <a:ext cx="4692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Phasellus eget dolor eu lacus imperdiet lacinia. Nunc tincidunt semper odio ac temp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17" name="Group 23"/>
          <p:cNvGrpSpPr/>
          <p:nvPr/>
        </p:nvGrpSpPr>
        <p:grpSpPr>
          <a:xfrm>
            <a:off x="8440560" y="6892920"/>
            <a:ext cx="1241280" cy="1240920"/>
            <a:chOff x="8440560" y="6892920"/>
            <a:chExt cx="1241280" cy="1240920"/>
          </a:xfrm>
        </p:grpSpPr>
        <p:sp>
          <p:nvSpPr>
            <p:cNvPr id="118" name="Rectangle 21"/>
            <p:cNvSpPr/>
            <p:nvPr/>
          </p:nvSpPr>
          <p:spPr>
            <a:xfrm>
              <a:off x="8496000" y="7018200"/>
              <a:ext cx="1119240" cy="1050480"/>
            </a:xfrm>
            <a:prstGeom prst="rect">
              <a:avLst/>
            </a:prstGeom>
            <a:solidFill>
              <a:srgbClr val="544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19" name="Picture 22" descr=""/>
            <p:cNvPicPr/>
            <p:nvPr/>
          </p:nvPicPr>
          <p:blipFill>
            <a:blip r:embed="rId6"/>
            <a:stretch/>
          </p:blipFill>
          <p:spPr>
            <a:xfrm>
              <a:off x="8440560" y="6892920"/>
              <a:ext cx="1241280" cy="124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Rectangle 24"/>
          <p:cNvSpPr/>
          <p:nvPr/>
        </p:nvSpPr>
        <p:spPr>
          <a:xfrm>
            <a:off x="10101240" y="6748560"/>
            <a:ext cx="4692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Vivamus congue felis eget mauris convallis finib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990720" y="590400"/>
            <a:ext cx="43056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Cool Showcase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We want to explore. We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re curious people. Look back over history, people have put their lives at stake to go out and explore …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9290160" y="2916360"/>
            <a:ext cx="50353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Iget dolor eu lacus imperdiet lacinia. Nunc tincidunt semper ac tempus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9290160" y="4983120"/>
            <a:ext cx="50353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Nunc tincidunt semper odio ac tempus. Vivamus finibus eu metus. Vivamus felis eget mauris finib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071720" y="8005680"/>
            <a:ext cx="14142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Positive thinking will let you do everything better than negative thinking will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1147680" y="3098880"/>
            <a:ext cx="5105160" cy="4601880"/>
            <a:chOff x="1147680" y="3098880"/>
            <a:chExt cx="5105160" cy="4601880"/>
          </a:xfrm>
        </p:grpSpPr>
        <p:pic>
          <p:nvPicPr>
            <p:cNvPr id="127" name="Picture 4" descr=""/>
            <p:cNvPicPr/>
            <p:nvPr/>
          </p:nvPicPr>
          <p:blipFill>
            <a:blip r:embed="rId1"/>
            <a:stretch/>
          </p:blipFill>
          <p:spPr>
            <a:xfrm>
              <a:off x="1147680" y="3098880"/>
              <a:ext cx="5105160" cy="46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"/>
            <p:cNvPicPr/>
            <p:nvPr/>
          </p:nvPicPr>
          <p:blipFill>
            <a:blip r:embed="rId2"/>
            <a:srcRect l="0" t="4068" r="0" b="3779"/>
            <a:stretch/>
          </p:blipFill>
          <p:spPr>
            <a:xfrm>
              <a:off x="1325520" y="3316320"/>
              <a:ext cx="4748040" cy="29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Rectangle 7"/>
          <p:cNvSpPr/>
          <p:nvPr/>
        </p:nvSpPr>
        <p:spPr>
          <a:xfrm>
            <a:off x="990720" y="590400"/>
            <a:ext cx="43056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Cool Showcase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Look back over history, people have put their lives at stake to go out and explore …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7334280" y="3232080"/>
            <a:ext cx="1488960" cy="1489320"/>
            <a:chOff x="7334280" y="3232080"/>
            <a:chExt cx="1488960" cy="1489320"/>
          </a:xfrm>
        </p:grpSpPr>
        <p:grpSp>
          <p:nvGrpSpPr>
            <p:cNvPr id="132" name="Group 11"/>
            <p:cNvGrpSpPr/>
            <p:nvPr/>
          </p:nvGrpSpPr>
          <p:grpSpPr>
            <a:xfrm>
              <a:off x="7334280" y="3232080"/>
              <a:ext cx="1488960" cy="1489320"/>
              <a:chOff x="7334280" y="3232080"/>
              <a:chExt cx="1488960" cy="1489320"/>
            </a:xfrm>
          </p:grpSpPr>
          <p:sp>
            <p:nvSpPr>
              <p:cNvPr id="133" name="AutoShape 9"/>
              <p:cNvSpPr/>
              <p:nvPr/>
            </p:nvSpPr>
            <p:spPr>
              <a:xfrm>
                <a:off x="7485120" y="3382920"/>
                <a:ext cx="1178280" cy="11797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  <a:moveTo>
                      <a:pt x="16796" y="2882"/>
                    </a:move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pic>
            <p:nvPicPr>
              <p:cNvPr id="134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334280" y="3232080"/>
                <a:ext cx="1488960" cy="1489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5" name="Picture 12" descr=""/>
            <p:cNvPicPr/>
            <p:nvPr/>
          </p:nvPicPr>
          <p:blipFill>
            <a:blip r:embed="rId4"/>
            <a:stretch/>
          </p:blipFill>
          <p:spPr>
            <a:xfrm>
              <a:off x="7556400" y="3458520"/>
              <a:ext cx="1033560" cy="10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Group 18"/>
          <p:cNvGrpSpPr/>
          <p:nvPr/>
        </p:nvGrpSpPr>
        <p:grpSpPr>
          <a:xfrm>
            <a:off x="7334280" y="5307120"/>
            <a:ext cx="1488960" cy="1488960"/>
            <a:chOff x="7334280" y="5307120"/>
            <a:chExt cx="1488960" cy="1488960"/>
          </a:xfrm>
        </p:grpSpPr>
        <p:grpSp>
          <p:nvGrpSpPr>
            <p:cNvPr id="137" name="Group 16"/>
            <p:cNvGrpSpPr/>
            <p:nvPr/>
          </p:nvGrpSpPr>
          <p:grpSpPr>
            <a:xfrm>
              <a:off x="7334280" y="5307120"/>
              <a:ext cx="1488960" cy="1488960"/>
              <a:chOff x="7334280" y="5307120"/>
              <a:chExt cx="1488960" cy="1488960"/>
            </a:xfrm>
          </p:grpSpPr>
          <p:sp>
            <p:nvSpPr>
              <p:cNvPr id="138" name="AutoShape 14"/>
              <p:cNvSpPr/>
              <p:nvPr/>
            </p:nvSpPr>
            <p:spPr>
              <a:xfrm>
                <a:off x="7485120" y="5457960"/>
                <a:ext cx="1178280" cy="117936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  <a:moveTo>
                      <a:pt x="16796" y="2882"/>
                    </a:move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pic>
            <p:nvPicPr>
              <p:cNvPr id="139" name="Pictur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334280" y="5307120"/>
                <a:ext cx="1488960" cy="1488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Picture 17" descr=""/>
            <p:cNvPicPr/>
            <p:nvPr/>
          </p:nvPicPr>
          <p:blipFill>
            <a:blip r:embed="rId6"/>
            <a:stretch/>
          </p:blipFill>
          <p:spPr>
            <a:xfrm>
              <a:off x="7556400" y="5530680"/>
              <a:ext cx="1033560" cy="1033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3"/>
          <p:cNvGrpSpPr/>
          <p:nvPr/>
        </p:nvGrpSpPr>
        <p:grpSpPr>
          <a:xfrm>
            <a:off x="1584360" y="3279600"/>
            <a:ext cx="1596960" cy="1598400"/>
            <a:chOff x="1584360" y="3279600"/>
            <a:chExt cx="1596960" cy="1598400"/>
          </a:xfrm>
        </p:grpSpPr>
        <p:sp>
          <p:nvSpPr>
            <p:cNvPr id="142" name="AutoShape 1"/>
            <p:cNvSpPr/>
            <p:nvPr/>
          </p:nvSpPr>
          <p:spPr>
            <a:xfrm>
              <a:off x="1584360" y="3279600"/>
              <a:ext cx="1596960" cy="1598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efefe"/>
            </a:solidFill>
            <a:ln w="38160">
              <a:solidFill>
                <a:srgbClr val="d4d6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43" name="Picture 2" descr=""/>
            <p:cNvPicPr/>
            <p:nvPr/>
          </p:nvPicPr>
          <p:blipFill>
            <a:blip r:embed="rId1"/>
            <a:stretch/>
          </p:blipFill>
          <p:spPr>
            <a:xfrm>
              <a:off x="1682640" y="3382920"/>
              <a:ext cx="1400400" cy="14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4"/>
          <p:cNvSpPr/>
          <p:nvPr/>
        </p:nvSpPr>
        <p:spPr>
          <a:xfrm>
            <a:off x="1160640" y="5099040"/>
            <a:ext cx="2462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 Italic"/>
                <a:ea typeface="ＭＳ Ｐゴシック"/>
              </a:rPr>
              <a:t>Maecenas vitae ante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160640" y="6249960"/>
            <a:ext cx="24620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aesent quam justo, tempor ac sollicitudin sed, mattis vel arc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4287960" y="3268800"/>
            <a:ext cx="1598040" cy="1598040"/>
            <a:chOff x="4287960" y="3268800"/>
            <a:chExt cx="1598040" cy="1598040"/>
          </a:xfrm>
        </p:grpSpPr>
        <p:sp>
          <p:nvSpPr>
            <p:cNvPr id="147" name="AutoShape 6"/>
            <p:cNvSpPr/>
            <p:nvPr/>
          </p:nvSpPr>
          <p:spPr>
            <a:xfrm>
              <a:off x="4287960" y="3268800"/>
              <a:ext cx="1598040" cy="15980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efefe"/>
            </a:solidFill>
            <a:ln w="38160">
              <a:solidFill>
                <a:srgbClr val="d4d6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48" name="Picture 7" descr=""/>
            <p:cNvPicPr/>
            <p:nvPr/>
          </p:nvPicPr>
          <p:blipFill>
            <a:blip r:embed="rId2"/>
            <a:stretch/>
          </p:blipFill>
          <p:spPr>
            <a:xfrm>
              <a:off x="4386240" y="3367080"/>
              <a:ext cx="1401480" cy="14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Rectangle 9"/>
          <p:cNvSpPr/>
          <p:nvPr/>
        </p:nvSpPr>
        <p:spPr>
          <a:xfrm>
            <a:off x="3862440" y="5087880"/>
            <a:ext cx="2462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 Italic"/>
                <a:ea typeface="ＭＳ Ｐゴシック"/>
              </a:rPr>
              <a:t>Maecenas vitae ante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3862440" y="6238800"/>
            <a:ext cx="24620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oin ac nibh quis metus tristique sagittis vel ac ligulnean 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51" name="Group 13"/>
          <p:cNvGrpSpPr/>
          <p:nvPr/>
        </p:nvGrpSpPr>
        <p:grpSpPr>
          <a:xfrm>
            <a:off x="7040520" y="3287880"/>
            <a:ext cx="1596960" cy="1598040"/>
            <a:chOff x="7040520" y="3287880"/>
            <a:chExt cx="1596960" cy="1598040"/>
          </a:xfrm>
        </p:grpSpPr>
        <p:sp>
          <p:nvSpPr>
            <p:cNvPr id="152" name="AutoShape 11"/>
            <p:cNvSpPr/>
            <p:nvPr/>
          </p:nvSpPr>
          <p:spPr>
            <a:xfrm>
              <a:off x="7040520" y="3287880"/>
              <a:ext cx="1596960" cy="15980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efefe"/>
            </a:solidFill>
            <a:ln w="38160">
              <a:solidFill>
                <a:srgbClr val="d4d6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53" name="Picture 12" descr=""/>
            <p:cNvPicPr/>
            <p:nvPr/>
          </p:nvPicPr>
          <p:blipFill>
            <a:blip r:embed="rId3"/>
            <a:stretch/>
          </p:blipFill>
          <p:spPr>
            <a:xfrm>
              <a:off x="7138800" y="3381480"/>
              <a:ext cx="1400400" cy="14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4"/>
          <p:cNvSpPr/>
          <p:nvPr/>
        </p:nvSpPr>
        <p:spPr>
          <a:xfrm>
            <a:off x="6616800" y="5079960"/>
            <a:ext cx="2462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 Italic"/>
                <a:ea typeface="ＭＳ Ｐゴシック"/>
              </a:rPr>
              <a:t>Maecenas vitae ante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6616800" y="6230880"/>
            <a:ext cx="24620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aesent quam justo, tempor ac sollicitudin sed, mattis vel arc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56" name="Group 18"/>
          <p:cNvGrpSpPr/>
          <p:nvPr/>
        </p:nvGrpSpPr>
        <p:grpSpPr>
          <a:xfrm>
            <a:off x="9804240" y="3287880"/>
            <a:ext cx="1596960" cy="1598040"/>
            <a:chOff x="9804240" y="3287880"/>
            <a:chExt cx="1596960" cy="1598040"/>
          </a:xfrm>
        </p:grpSpPr>
        <p:sp>
          <p:nvSpPr>
            <p:cNvPr id="157" name="AutoShape 16"/>
            <p:cNvSpPr/>
            <p:nvPr/>
          </p:nvSpPr>
          <p:spPr>
            <a:xfrm>
              <a:off x="9804240" y="3287880"/>
              <a:ext cx="1596960" cy="15980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efefe"/>
            </a:solidFill>
            <a:ln w="38160">
              <a:solidFill>
                <a:srgbClr val="d4d6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58" name="Picture 17" descr=""/>
            <p:cNvPicPr/>
            <p:nvPr/>
          </p:nvPicPr>
          <p:blipFill>
            <a:blip r:embed="rId4"/>
            <a:stretch/>
          </p:blipFill>
          <p:spPr>
            <a:xfrm>
              <a:off x="9902520" y="3386160"/>
              <a:ext cx="1400400" cy="14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19"/>
          <p:cNvSpPr/>
          <p:nvPr/>
        </p:nvSpPr>
        <p:spPr>
          <a:xfrm>
            <a:off x="9371160" y="5068800"/>
            <a:ext cx="2462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 Italic"/>
                <a:ea typeface="ＭＳ Ｐゴシック"/>
              </a:rPr>
              <a:t>Maecenas vitae ante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0" name="Rectangle 20"/>
          <p:cNvSpPr/>
          <p:nvPr/>
        </p:nvSpPr>
        <p:spPr>
          <a:xfrm>
            <a:off x="9371160" y="6219720"/>
            <a:ext cx="24620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oin ac nibh quis metus tristique sagittis vel ac ligulnean dictum fringilla 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61" name="Group 23"/>
          <p:cNvGrpSpPr/>
          <p:nvPr/>
        </p:nvGrpSpPr>
        <p:grpSpPr>
          <a:xfrm>
            <a:off x="12555360" y="3268800"/>
            <a:ext cx="1598400" cy="1598040"/>
            <a:chOff x="12555360" y="3268800"/>
            <a:chExt cx="1598400" cy="1598040"/>
          </a:xfrm>
        </p:grpSpPr>
        <p:sp>
          <p:nvSpPr>
            <p:cNvPr id="162" name="AutoShape 21"/>
            <p:cNvSpPr/>
            <p:nvPr/>
          </p:nvSpPr>
          <p:spPr>
            <a:xfrm>
              <a:off x="12555360" y="3268800"/>
              <a:ext cx="1598400" cy="15980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efefe"/>
            </a:solidFill>
            <a:ln w="38160">
              <a:solidFill>
                <a:srgbClr val="d4d6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63" name="Picture 22" descr=""/>
            <p:cNvPicPr/>
            <p:nvPr/>
          </p:nvPicPr>
          <p:blipFill>
            <a:blip r:embed="rId5"/>
            <a:stretch/>
          </p:blipFill>
          <p:spPr>
            <a:xfrm>
              <a:off x="12653640" y="3338640"/>
              <a:ext cx="1401840" cy="140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Rectangle 24"/>
          <p:cNvSpPr/>
          <p:nvPr/>
        </p:nvSpPr>
        <p:spPr>
          <a:xfrm>
            <a:off x="12125160" y="5057640"/>
            <a:ext cx="246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 Italic"/>
                <a:ea typeface="ＭＳ Ｐゴシック"/>
              </a:rPr>
              <a:t>Maecenas vitae ante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12125160" y="6208560"/>
            <a:ext cx="2462400" cy="22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aesent quam justo, tempor ac sollicitudin sed, mattis vel arc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6" name="Rectangle 26"/>
          <p:cNvSpPr/>
          <p:nvPr/>
        </p:nvSpPr>
        <p:spPr>
          <a:xfrm>
            <a:off x="1021320" y="590400"/>
            <a:ext cx="51602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More Information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We want to explore. We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re curious people. Look back over history, people have put their lives at stake to go out and explore …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"/>
          <p:cNvSpPr/>
          <p:nvPr/>
        </p:nvSpPr>
        <p:spPr>
          <a:xfrm>
            <a:off x="6178680" y="3995640"/>
            <a:ext cx="6642000" cy="625680"/>
          </a:xfrm>
          <a:prstGeom prst="rightArrow">
            <a:avLst>
              <a:gd name="adj1" fmla="val 100000"/>
              <a:gd name="adj2" fmla="val 55683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6864480" y="4056120"/>
            <a:ext cx="8300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1. Suspendisse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6172200" y="4854600"/>
            <a:ext cx="7550280" cy="625320"/>
          </a:xfrm>
          <a:prstGeom prst="rightArrow">
            <a:avLst>
              <a:gd name="adj1" fmla="val 100000"/>
              <a:gd name="adj2" fmla="val 55732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912000" y="4910040"/>
            <a:ext cx="83008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2. Fermentum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6195960" y="5713560"/>
            <a:ext cx="7205760" cy="625320"/>
          </a:xfrm>
          <a:prstGeom prst="rightArrow">
            <a:avLst>
              <a:gd name="adj1" fmla="val 100000"/>
              <a:gd name="adj2" fmla="val 60337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927840" y="5778360"/>
            <a:ext cx="83008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3. Nendrerit fermentum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The regret on our side is, they used to say years ago, we are reading about you in science class.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5321160" cy="3746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1077840" y="590400"/>
            <a:ext cx="47656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Product Analysi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stas Mano</cp:lastModifiedBy>
  <dcterms:modified xsi:type="dcterms:W3CDTF">2018-10-28T19:26:47Z</dcterms:modified>
  <cp:revision>1</cp:revision>
  <dc:subject/>
  <dc:title>PowerPoint Presentation</dc:title>
</cp:coreProperties>
</file>