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bestpowerpointtemplates.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bestpowerpointtemplates.com/" TargetMode="External"/><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
          <p:cNvSpPr/>
          <p:nvPr/>
        </p:nvSpPr>
        <p:spPr>
          <a:xfrm>
            <a:off x="241200" y="9296280"/>
            <a:ext cx="645156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Visit </a:t>
            </a:r>
            <a:r>
              <a:rPr b="0" lang="en-US" sz="1400" spc="-1" strike="noStrike" u="sng">
                <a:solidFill>
                  <a:srgbClr val="009999"/>
                </a:solidFill>
                <a:uFillTx/>
                <a:latin typeface="Arial"/>
                <a:ea typeface="ＭＳ Ｐゴシック"/>
                <a:hlinkClick r:id="rId3"/>
              </a:rPr>
              <a:t>http://keynotetemplate.com</a:t>
            </a:r>
            <a:r>
              <a:rPr b="0" lang="en-US" sz="1400" spc="-1" strike="noStrike">
                <a:solidFill>
                  <a:srgbClr val="ffffff"/>
                </a:solidFill>
                <a:latin typeface="Arial"/>
                <a:ea typeface="ＭＳ Ｐゴシック"/>
              </a:rPr>
              <a:t> for more free resources!</a:t>
            </a:r>
            <a:endParaRPr b="0" lang="en-US" sz="1400" spc="-1" strike="noStrike">
              <a:solidFill>
                <a:srgbClr val="595959"/>
              </a:solidFill>
              <a:latin typeface="Lora"/>
            </a:endParaRPr>
          </a:p>
        </p:txBody>
      </p:sp>
      <p:sp>
        <p:nvSpPr>
          <p:cNvPr id="1" name="Rectangle 2"/>
          <p:cNvSpPr/>
          <p:nvPr/>
        </p:nvSpPr>
        <p:spPr>
          <a:xfrm>
            <a:off x="0" y="0"/>
            <a:ext cx="13004640" cy="53352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 name="Rectangle 3"/>
          <p:cNvSpPr/>
          <p:nvPr/>
        </p:nvSpPr>
        <p:spPr>
          <a:xfrm>
            <a:off x="0" y="9220320"/>
            <a:ext cx="13004640" cy="53316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1"/>
          <p:cNvSpPr/>
          <p:nvPr/>
        </p:nvSpPr>
        <p:spPr>
          <a:xfrm>
            <a:off x="241200" y="9296280"/>
            <a:ext cx="645156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Visit </a:t>
            </a:r>
            <a:r>
              <a:rPr b="0" lang="en-US" sz="1400" spc="-1" strike="noStrike" u="sng">
                <a:solidFill>
                  <a:srgbClr val="009999"/>
                </a:solidFill>
                <a:uFillTx/>
                <a:latin typeface="Arial"/>
                <a:ea typeface="ＭＳ Ｐゴシック"/>
                <a:hlinkClick r:id="rId3"/>
              </a:rPr>
              <a:t>http://keynotetemplate.com</a:t>
            </a:r>
            <a:r>
              <a:rPr b="0" lang="en-US" sz="1400" spc="-1" strike="noStrike">
                <a:solidFill>
                  <a:srgbClr val="ffffff"/>
                </a:solidFill>
                <a:latin typeface="Arial"/>
                <a:ea typeface="ＭＳ Ｐゴシック"/>
              </a:rPr>
              <a:t> for more free resources!</a:t>
            </a:r>
            <a:endParaRPr b="0" lang="en-US" sz="1400" spc="-1" strike="noStrike">
              <a:solidFill>
                <a:srgbClr val="595959"/>
              </a:solidFill>
              <a:latin typeface="Lora"/>
            </a:endParaRPr>
          </a:p>
        </p:txBody>
      </p:sp>
      <p:sp>
        <p:nvSpPr>
          <p:cNvPr id="40" name="Oval 2"/>
          <p:cNvSpPr/>
          <p:nvPr/>
        </p:nvSpPr>
        <p:spPr>
          <a:xfrm>
            <a:off x="5549760" y="3868560"/>
            <a:ext cx="1587600" cy="1681200"/>
          </a:xfrm>
          <a:prstGeom prst="ellipse">
            <a:avLst/>
          </a:prstGeom>
          <a:solidFill>
            <a:srgbClr val="022452"/>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1" name="Rectangle 3"/>
          <p:cNvSpPr/>
          <p:nvPr/>
        </p:nvSpPr>
        <p:spPr>
          <a:xfrm>
            <a:off x="0" y="0"/>
            <a:ext cx="13004640" cy="53352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2" name="Rectangle 4"/>
          <p:cNvSpPr/>
          <p:nvPr/>
        </p:nvSpPr>
        <p:spPr>
          <a:xfrm>
            <a:off x="0" y="9220320"/>
            <a:ext cx="13004640" cy="53316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595959"/>
                </a:solidFill>
                <a:latin typeface="Calibri"/>
              </a:rPr>
              <a:t>Click to edit the title text format</a:t>
            </a:r>
            <a:endParaRPr b="0" lang="en-US" sz="6200" spc="-1" strike="noStrike">
              <a:solidFill>
                <a:srgbClr val="595959"/>
              </a:solidFill>
              <a:latin typeface="Calibri"/>
            </a:endParaRPr>
          </a:p>
        </p:txBody>
      </p:sp>
      <p:sp>
        <p:nvSpPr>
          <p:cNvPr id="44"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Calibri"/>
              </a:rPr>
              <a:t>Click to edit the outline text format</a:t>
            </a:r>
            <a:endParaRPr b="0" lang="en-US" sz="4400" spc="-1" strike="noStrike">
              <a:solidFill>
                <a:srgbClr val="878787"/>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78787"/>
                </a:solidFill>
                <a:latin typeface="Calibri"/>
              </a:rPr>
              <a:t>Second Outline Level</a:t>
            </a:r>
            <a:endParaRPr b="0" lang="en-US" sz="3800" spc="-1" strike="noStrike">
              <a:solidFill>
                <a:srgbClr val="878787"/>
              </a:solidFill>
              <a:latin typeface="Calibri"/>
            </a:endParaRPr>
          </a:p>
          <a:p>
            <a:pPr lvl="2" marL="914400" algn="ctr">
              <a:spcBef>
                <a:spcPts val="601"/>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78787"/>
                </a:solidFill>
                <a:latin typeface="Calibri"/>
              </a:rPr>
              <a:t>Third Outline Level</a:t>
            </a:r>
            <a:endParaRPr b="0" lang="en-US" sz="3400" spc="-1" strike="noStrike">
              <a:solidFill>
                <a:srgbClr val="878787"/>
              </a:solidFill>
              <a:latin typeface="Calibri"/>
            </a:endParaRPr>
          </a:p>
          <a:p>
            <a:pPr lvl="3" marL="1371600" algn="ctr">
              <a:spcBef>
                <a:spcPts val="499"/>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ourth Outline Level</a:t>
            </a:r>
            <a:endParaRPr b="0" lang="en-US" sz="2800" spc="-1" strike="noStrike">
              <a:solidFill>
                <a:srgbClr val="878787"/>
              </a:solidFill>
              <a:latin typeface="Calibri"/>
            </a:endParaRPr>
          </a:p>
          <a:p>
            <a:pPr lvl="4" marL="1828800" algn="ctr">
              <a:spcBef>
                <a:spcPts val="499"/>
              </a:spcBef>
              <a:buClr>
                <a:srgbClr val="878787"/>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ifth Outline Level</a:t>
            </a:r>
            <a:endParaRPr b="0" lang="en-US" sz="2800" spc="-1" strike="noStrike">
              <a:solidFill>
                <a:srgbClr val="878787"/>
              </a:solidFill>
              <a:latin typeface="Calibri"/>
            </a:endParaRPr>
          </a:p>
          <a:p>
            <a:pPr lvl="5"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ixth Outline Level</a:t>
            </a:r>
            <a:endParaRPr b="0" lang="en-US" sz="2800" spc="-1" strike="noStrike">
              <a:solidFill>
                <a:srgbClr val="878787"/>
              </a:solidFill>
              <a:latin typeface="Calibri"/>
            </a:endParaRPr>
          </a:p>
          <a:p>
            <a:pPr lvl="6"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eventh Outline Level</a:t>
            </a:r>
            <a:endParaRPr b="0" lang="en-US" sz="2800" spc="-1" strike="noStrike">
              <a:solidFill>
                <a:srgbClr val="878787"/>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3653280" y="2736720"/>
            <a:ext cx="5677200" cy="104184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Lora Bold"/>
                <a:ea typeface="ＭＳ Ｐゴシック"/>
              </a:rPr>
              <a:t>Bitcoin Theme</a:t>
            </a:r>
            <a:endParaRPr b="0" lang="en-US" sz="6600" spc="-1" strike="noStrike">
              <a:solidFill>
                <a:srgbClr val="595959"/>
              </a:solidFill>
              <a:latin typeface="Lor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AutoShape 1"/>
          <p:cNvSpPr/>
          <p:nvPr/>
        </p:nvSpPr>
        <p:spPr>
          <a:xfrm>
            <a:off x="444600" y="533520"/>
            <a:ext cx="12102840" cy="1015920"/>
          </a:xfrm>
          <a:prstGeom prst="roundRect">
            <a:avLst>
              <a:gd name="adj" fmla="val 18750"/>
            </a:avLst>
          </a:prstGeom>
          <a:solidFill>
            <a:srgbClr val="1629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83" name="AutoShape 2"/>
          <p:cNvSpPr/>
          <p:nvPr/>
        </p:nvSpPr>
        <p:spPr>
          <a:xfrm>
            <a:off x="444600" y="5257800"/>
            <a:ext cx="12102840" cy="2959200"/>
          </a:xfrm>
          <a:prstGeom prst="roundRect">
            <a:avLst>
              <a:gd name="adj" fmla="val 6435"/>
            </a:avLst>
          </a:prstGeom>
          <a:solidFill>
            <a:srgbClr val="9ab737">
              <a:alpha val="9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84" name="Rectangle 3"/>
          <p:cNvSpPr/>
          <p:nvPr/>
        </p:nvSpPr>
        <p:spPr>
          <a:xfrm>
            <a:off x="1016640" y="628560"/>
            <a:ext cx="46911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History Timeline</a:t>
            </a:r>
            <a:endParaRPr b="0" lang="en-US" sz="4800" spc="-1" strike="noStrike">
              <a:solidFill>
                <a:srgbClr val="595959"/>
              </a:solidFill>
              <a:latin typeface="Lora"/>
            </a:endParaRPr>
          </a:p>
        </p:txBody>
      </p:sp>
      <p:grpSp>
        <p:nvGrpSpPr>
          <p:cNvPr id="85" name="Group 17"/>
          <p:cNvGrpSpPr/>
          <p:nvPr/>
        </p:nvGrpSpPr>
        <p:grpSpPr>
          <a:xfrm>
            <a:off x="712800" y="2540160"/>
            <a:ext cx="11569680" cy="1826640"/>
            <a:chOff x="712800" y="2540160"/>
            <a:chExt cx="11569680" cy="1826640"/>
          </a:xfrm>
        </p:grpSpPr>
        <p:sp>
          <p:nvSpPr>
            <p:cNvPr id="86" name="Oval 4"/>
            <p:cNvSpPr/>
            <p:nvPr/>
          </p:nvSpPr>
          <p:spPr>
            <a:xfrm>
              <a:off x="712800" y="3730320"/>
              <a:ext cx="631800" cy="636480"/>
            </a:xfrm>
            <a:prstGeom prst="ellipse">
              <a:avLst/>
            </a:prstGeom>
            <a:solidFill>
              <a:srgbClr val="f0f0f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87" name="Line 5"/>
            <p:cNvSpPr/>
            <p:nvPr/>
          </p:nvSpPr>
          <p:spPr>
            <a:xfrm>
              <a:off x="974880" y="4055760"/>
              <a:ext cx="11053800" cy="0"/>
            </a:xfrm>
            <a:prstGeom prst="line">
              <a:avLst/>
            </a:prstGeom>
            <a:ln w="38160">
              <a:solidFill>
                <a:srgbClr val="f0f0f3"/>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88" name="Oval 6"/>
            <p:cNvSpPr/>
            <p:nvPr/>
          </p:nvSpPr>
          <p:spPr>
            <a:xfrm>
              <a:off x="11650680" y="3730320"/>
              <a:ext cx="631800" cy="636480"/>
            </a:xfrm>
            <a:prstGeom prst="ellipse">
              <a:avLst/>
            </a:prstGeom>
            <a:solidFill>
              <a:srgbClr val="f0f0f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89" name="Oval 7"/>
            <p:cNvSpPr/>
            <p:nvPr/>
          </p:nvSpPr>
          <p:spPr>
            <a:xfrm>
              <a:off x="2185920" y="3803400"/>
              <a:ext cx="505080" cy="50940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90" name="Rectangle 8"/>
            <p:cNvSpPr/>
            <p:nvPr/>
          </p:nvSpPr>
          <p:spPr>
            <a:xfrm>
              <a:off x="1119240" y="2560320"/>
              <a:ext cx="2624040" cy="9586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Lora Bold"/>
                  <a:ea typeface="ＭＳ Ｐゴシック"/>
                </a:rPr>
                <a:t>2000</a:t>
              </a:r>
              <a:br>
                <a:rPr sz="1800"/>
              </a:br>
              <a:r>
                <a:rPr b="0" lang="en-US" sz="1600" spc="-1" strike="noStrike">
                  <a:solidFill>
                    <a:srgbClr val="ffffff"/>
                  </a:solidFill>
                  <a:latin typeface="Lora Italic"/>
                  <a:ea typeface="ＭＳ Ｐゴシック"/>
                </a:rPr>
                <a:t>Year</a:t>
              </a:r>
              <a:endParaRPr b="0" lang="en-US" sz="1600" spc="-1" strike="noStrike">
                <a:solidFill>
                  <a:srgbClr val="595959"/>
                </a:solidFill>
                <a:latin typeface="Lora"/>
              </a:endParaRPr>
            </a:p>
          </p:txBody>
        </p:sp>
        <p:sp>
          <p:nvSpPr>
            <p:cNvPr id="91" name="Oval 9"/>
            <p:cNvSpPr/>
            <p:nvPr/>
          </p:nvSpPr>
          <p:spPr>
            <a:xfrm>
              <a:off x="4098960" y="3792240"/>
              <a:ext cx="506520" cy="50940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92" name="Rectangle 10"/>
            <p:cNvSpPr/>
            <p:nvPr/>
          </p:nvSpPr>
          <p:spPr>
            <a:xfrm>
              <a:off x="3637080" y="2560320"/>
              <a:ext cx="1454040" cy="9586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Lora Bold"/>
                  <a:ea typeface="ＭＳ Ｐゴシック"/>
                </a:rPr>
                <a:t>2004</a:t>
              </a:r>
              <a:br>
                <a:rPr sz="1800"/>
              </a:br>
              <a:r>
                <a:rPr b="0" lang="en-US" sz="1600" spc="-1" strike="noStrike">
                  <a:solidFill>
                    <a:srgbClr val="ffffff"/>
                  </a:solidFill>
                  <a:latin typeface="Lora Italic"/>
                  <a:ea typeface="ＭＳ Ｐゴシック"/>
                </a:rPr>
                <a:t>Year</a:t>
              </a:r>
              <a:endParaRPr b="0" lang="en-US" sz="1600" spc="-1" strike="noStrike">
                <a:solidFill>
                  <a:srgbClr val="595959"/>
                </a:solidFill>
                <a:latin typeface="Lora"/>
              </a:endParaRPr>
            </a:p>
          </p:txBody>
        </p:sp>
        <p:sp>
          <p:nvSpPr>
            <p:cNvPr id="93" name="Oval 11"/>
            <p:cNvSpPr/>
            <p:nvPr/>
          </p:nvSpPr>
          <p:spPr>
            <a:xfrm>
              <a:off x="5508720" y="3792240"/>
              <a:ext cx="504720" cy="50940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94" name="Rectangle 12"/>
            <p:cNvSpPr/>
            <p:nvPr/>
          </p:nvSpPr>
          <p:spPr>
            <a:xfrm>
              <a:off x="5051520" y="2560320"/>
              <a:ext cx="1455480" cy="9586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Lora Bold"/>
                  <a:ea typeface="ＭＳ Ｐゴシック"/>
                </a:rPr>
                <a:t>2007</a:t>
              </a:r>
              <a:br>
                <a:rPr sz="1800"/>
              </a:br>
              <a:r>
                <a:rPr b="0" lang="en-US" sz="1600" spc="-1" strike="noStrike">
                  <a:solidFill>
                    <a:srgbClr val="ffffff"/>
                  </a:solidFill>
                  <a:latin typeface="Lora Italic"/>
                  <a:ea typeface="ＭＳ Ｐゴシック"/>
                </a:rPr>
                <a:t>Year</a:t>
              </a:r>
              <a:endParaRPr b="0" lang="en-US" sz="1600" spc="-1" strike="noStrike">
                <a:solidFill>
                  <a:srgbClr val="595959"/>
                </a:solidFill>
                <a:latin typeface="Lora"/>
              </a:endParaRPr>
            </a:p>
          </p:txBody>
        </p:sp>
        <p:sp>
          <p:nvSpPr>
            <p:cNvPr id="95" name="Oval 13"/>
            <p:cNvSpPr/>
            <p:nvPr/>
          </p:nvSpPr>
          <p:spPr>
            <a:xfrm>
              <a:off x="8470800" y="3792240"/>
              <a:ext cx="505080" cy="50940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96" name="Rectangle 14"/>
            <p:cNvSpPr/>
            <p:nvPr/>
          </p:nvSpPr>
          <p:spPr>
            <a:xfrm>
              <a:off x="7961400" y="2540160"/>
              <a:ext cx="1454040" cy="95832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Lora Bold"/>
                  <a:ea typeface="ＭＳ Ｐゴシック"/>
                </a:rPr>
                <a:t>2010</a:t>
              </a:r>
              <a:br>
                <a:rPr sz="1800"/>
              </a:br>
              <a:r>
                <a:rPr b="0" lang="en-US" sz="1600" spc="-1" strike="noStrike">
                  <a:solidFill>
                    <a:srgbClr val="ffffff"/>
                  </a:solidFill>
                  <a:latin typeface="Lora Italic"/>
                  <a:ea typeface="ＭＳ Ｐゴシック"/>
                </a:rPr>
                <a:t>Year</a:t>
              </a:r>
              <a:endParaRPr b="0" lang="en-US" sz="1600" spc="-1" strike="noStrike">
                <a:solidFill>
                  <a:srgbClr val="595959"/>
                </a:solidFill>
                <a:latin typeface="Lora"/>
              </a:endParaRPr>
            </a:p>
          </p:txBody>
        </p:sp>
        <p:sp>
          <p:nvSpPr>
            <p:cNvPr id="97" name="Oval 15"/>
            <p:cNvSpPr/>
            <p:nvPr/>
          </p:nvSpPr>
          <p:spPr>
            <a:xfrm>
              <a:off x="10294920" y="3774960"/>
              <a:ext cx="504720" cy="50904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98" name="Rectangle 16"/>
            <p:cNvSpPr/>
            <p:nvPr/>
          </p:nvSpPr>
          <p:spPr>
            <a:xfrm>
              <a:off x="9820440" y="2560320"/>
              <a:ext cx="1454040" cy="9586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Lora Bold"/>
                  <a:ea typeface="ＭＳ Ｐゴシック"/>
                </a:rPr>
                <a:t>2013</a:t>
              </a:r>
              <a:br>
                <a:rPr sz="1800"/>
              </a:br>
              <a:r>
                <a:rPr b="0" lang="en-US" sz="1600" spc="-1" strike="noStrike">
                  <a:solidFill>
                    <a:srgbClr val="ffffff"/>
                  </a:solidFill>
                  <a:latin typeface="Lora Italic"/>
                  <a:ea typeface="ＭＳ Ｐゴシック"/>
                </a:rPr>
                <a:t>Year</a:t>
              </a:r>
              <a:endParaRPr b="0" lang="en-US" sz="1600" spc="-1" strike="noStrike">
                <a:solidFill>
                  <a:srgbClr val="595959"/>
                </a:solidFill>
                <a:latin typeface="Lora"/>
              </a:endParaRPr>
            </a:p>
          </p:txBody>
        </p:sp>
      </p:grpSp>
      <p:sp>
        <p:nvSpPr>
          <p:cNvPr id="99" name="Rectangle 18"/>
          <p:cNvSpPr/>
          <p:nvPr/>
        </p:nvSpPr>
        <p:spPr>
          <a:xfrm>
            <a:off x="861840" y="5381640"/>
            <a:ext cx="8250480" cy="23558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 nec efficitur sem ultrices id. Praesent quis magna viverra turpis rutrum pellentesque in ac nulla. Nulla facilisi. Interdum et malesuada fames ac ante ipsum primis in faucibus.er odio ac tempus. </a:t>
            </a:r>
            <a:endParaRPr b="0" lang="en-US" sz="2200" spc="-1" strike="noStrike">
              <a:solidFill>
                <a:srgbClr val="595959"/>
              </a:solidFill>
              <a:latin typeface="Lora"/>
            </a:endParaRPr>
          </a:p>
        </p:txBody>
      </p:sp>
      <p:pic>
        <p:nvPicPr>
          <p:cNvPr id="100" name="Picture 19" descr=""/>
          <p:cNvPicPr/>
          <p:nvPr/>
        </p:nvPicPr>
        <p:blipFill>
          <a:blip r:embed="rId1"/>
          <a:stretch/>
        </p:blipFill>
        <p:spPr>
          <a:xfrm>
            <a:off x="8991720" y="5321160"/>
            <a:ext cx="3251160" cy="3251520"/>
          </a:xfrm>
          <a:prstGeom prst="rect">
            <a:avLst/>
          </a:prstGeom>
          <a:ln w="0">
            <a:noFill/>
          </a:ln>
        </p:spPr>
      </p:pic>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
          <p:cNvSpPr/>
          <p:nvPr/>
        </p:nvSpPr>
        <p:spPr>
          <a:xfrm>
            <a:off x="444600" y="3390840"/>
            <a:ext cx="6045120" cy="5740560"/>
          </a:xfrm>
          <a:prstGeom prst="roundRect">
            <a:avLst>
              <a:gd name="adj" fmla="val 3315"/>
            </a:avLst>
          </a:prstGeom>
          <a:solidFill>
            <a:srgbClr val="9ab737">
              <a:alpha val="9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02" name="Rectangle 2"/>
          <p:cNvSpPr/>
          <p:nvPr/>
        </p:nvSpPr>
        <p:spPr>
          <a:xfrm>
            <a:off x="861840" y="3656160"/>
            <a:ext cx="5177160" cy="4908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 nec efficitur sem ultrices id. Praesent quis magna viverra turpis rutrum pellentesque in ac nulla. Nulla facilisi. Interdum et malesuada fames ac ante ipsum primis in faucibus.</a:t>
            </a:r>
            <a:endParaRPr b="0" lang="en-US" sz="2200" spc="-1" strike="noStrike">
              <a:solidFill>
                <a:srgbClr val="595959"/>
              </a:solidFill>
              <a:latin typeface="Lo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Lo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raesent quis magna viverra turpis rutrum pellentesque in ac nulla. Nulla facilisi. Interdum et malesuada fames ac ante ipsum primis in faucibus.</a:t>
            </a:r>
            <a:endParaRPr b="0" lang="en-US" sz="2200" spc="-1" strike="noStrike">
              <a:solidFill>
                <a:srgbClr val="595959"/>
              </a:solidFill>
              <a:latin typeface="Lo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Lo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iverra turpis rutrum pellentesque in ac nulla. Nulla facilisi. </a:t>
            </a:r>
            <a:endParaRPr b="0" lang="en-US" sz="2200" spc="-1" strike="noStrike">
              <a:solidFill>
                <a:srgbClr val="595959"/>
              </a:solidFill>
              <a:latin typeface="Lora"/>
            </a:endParaRPr>
          </a:p>
        </p:txBody>
      </p:sp>
      <p:grpSp>
        <p:nvGrpSpPr>
          <p:cNvPr id="103" name="Group 5"/>
          <p:cNvGrpSpPr/>
          <p:nvPr/>
        </p:nvGrpSpPr>
        <p:grpSpPr>
          <a:xfrm>
            <a:off x="776160" y="1968480"/>
            <a:ext cx="6519240" cy="1112760"/>
            <a:chOff x="776160" y="1968480"/>
            <a:chExt cx="6519240" cy="1112760"/>
          </a:xfrm>
        </p:grpSpPr>
        <p:sp>
          <p:nvSpPr>
            <p:cNvPr id="104" name="AutoShape 3"/>
            <p:cNvSpPr/>
            <p:nvPr/>
          </p:nvSpPr>
          <p:spPr>
            <a:xfrm>
              <a:off x="776160" y="1968480"/>
              <a:ext cx="1125720" cy="1112760"/>
            </a:xfrm>
            <a:prstGeom prst="diamond">
              <a:avLst/>
            </a:prstGeom>
            <a:solidFill>
              <a:srgbClr val="99b82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05" name="Line 4"/>
            <p:cNvSpPr/>
            <p:nvPr/>
          </p:nvSpPr>
          <p:spPr>
            <a:xfrm flipH="1" flipV="1">
              <a:off x="1756080" y="2515680"/>
              <a:ext cx="5539320" cy="3240"/>
            </a:xfrm>
            <a:prstGeom prst="line">
              <a:avLst/>
            </a:prstGeom>
            <a:ln w="28440">
              <a:solidFill>
                <a:srgbClr val="99b828"/>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106" name="Rectangle 6"/>
          <p:cNvSpPr/>
          <p:nvPr/>
        </p:nvSpPr>
        <p:spPr>
          <a:xfrm>
            <a:off x="2086920" y="1968480"/>
            <a:ext cx="3003120" cy="50292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Some cool things here.</a:t>
            </a:r>
            <a:endParaRPr b="0" lang="en-US" sz="2200" spc="-1" strike="noStrike">
              <a:solidFill>
                <a:srgbClr val="595959"/>
              </a:solidFill>
              <a:latin typeface="Lora"/>
            </a:endParaRPr>
          </a:p>
        </p:txBody>
      </p:sp>
      <p:pic>
        <p:nvPicPr>
          <p:cNvPr id="107" name="Picture 7" descr=""/>
          <p:cNvPicPr/>
          <p:nvPr/>
        </p:nvPicPr>
        <p:blipFill>
          <a:blip r:embed="rId1"/>
          <a:stretch/>
        </p:blipFill>
        <p:spPr>
          <a:xfrm>
            <a:off x="7061040" y="2031840"/>
            <a:ext cx="5181840" cy="3378240"/>
          </a:xfrm>
          <a:prstGeom prst="rect">
            <a:avLst/>
          </a:prstGeom>
          <a:ln w="0">
            <a:noFill/>
          </a:ln>
        </p:spPr>
      </p:pic>
      <p:grpSp>
        <p:nvGrpSpPr>
          <p:cNvPr id="108" name="Group 11"/>
          <p:cNvGrpSpPr/>
          <p:nvPr/>
        </p:nvGrpSpPr>
        <p:grpSpPr>
          <a:xfrm>
            <a:off x="7985160" y="4957920"/>
            <a:ext cx="3546000" cy="3568680"/>
            <a:chOff x="7985160" y="4957920"/>
            <a:chExt cx="3546000" cy="3568680"/>
          </a:xfrm>
        </p:grpSpPr>
        <p:sp>
          <p:nvSpPr>
            <p:cNvPr id="109" name="Oval 8"/>
            <p:cNvSpPr/>
            <p:nvPr/>
          </p:nvSpPr>
          <p:spPr>
            <a:xfrm>
              <a:off x="7985160" y="4957920"/>
              <a:ext cx="3546000" cy="356868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10" name="Rectangle 9"/>
            <p:cNvSpPr/>
            <p:nvPr/>
          </p:nvSpPr>
          <p:spPr>
            <a:xfrm>
              <a:off x="8532720" y="7099560"/>
              <a:ext cx="2439360" cy="1269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a1a1a"/>
                  </a:solidFill>
                  <a:latin typeface="Lora Bold"/>
                  <a:ea typeface="ＭＳ Ｐゴシック"/>
                </a:rPr>
                <a:t>2001</a:t>
              </a:r>
              <a:br>
                <a:rPr sz="1800"/>
              </a:br>
              <a:r>
                <a:rPr b="0" lang="en-US" sz="1600" spc="-1" strike="noStrike">
                  <a:solidFill>
                    <a:srgbClr val="1a1a1a"/>
                  </a:solidFill>
                  <a:latin typeface="Lora Italic"/>
                  <a:ea typeface="ＭＳ Ｐゴシック"/>
                </a:rPr>
                <a:t>Year</a:t>
              </a:r>
              <a:endParaRPr b="0" lang="en-US" sz="1600" spc="-1" strike="noStrike">
                <a:solidFill>
                  <a:srgbClr val="595959"/>
                </a:solidFill>
                <a:latin typeface="Lora"/>
              </a:endParaRPr>
            </a:p>
          </p:txBody>
        </p:sp>
        <p:sp>
          <p:nvSpPr>
            <p:cNvPr id="111" name="Rectangle 10"/>
            <p:cNvSpPr/>
            <p:nvPr/>
          </p:nvSpPr>
          <p:spPr>
            <a:xfrm>
              <a:off x="8274240" y="5835960"/>
              <a:ext cx="2959920" cy="672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1a1a"/>
                  </a:solidFill>
                  <a:latin typeface="Lora"/>
                  <a:ea typeface="ＭＳ Ｐゴシック"/>
                </a:rPr>
                <a:t>Your Text</a:t>
              </a:r>
              <a:endParaRPr b="0" lang="en-US" sz="3400" spc="-1" strike="noStrike">
                <a:solidFill>
                  <a:srgbClr val="595959"/>
                </a:solidFill>
                <a:latin typeface="Lora"/>
              </a:endParaRPr>
            </a:p>
          </p:txBody>
        </p:sp>
      </p:grpSp>
      <p:sp>
        <p:nvSpPr>
          <p:cNvPr id="112" name="Line 12"/>
          <p:cNvSpPr/>
          <p:nvPr/>
        </p:nvSpPr>
        <p:spPr>
          <a:xfrm>
            <a:off x="8169120" y="6740640"/>
            <a:ext cx="2981520" cy="0"/>
          </a:xfrm>
          <a:prstGeom prst="line">
            <a:avLst/>
          </a:prstGeom>
          <a:ln w="25560">
            <a:solidFill>
              <a:srgbClr val="60721a"/>
            </a:solidFill>
            <a:prstDash val="sysDot"/>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13" name="AutoShape 13"/>
          <p:cNvSpPr/>
          <p:nvPr/>
        </p:nvSpPr>
        <p:spPr>
          <a:xfrm>
            <a:off x="444600" y="533520"/>
            <a:ext cx="12102840" cy="1015920"/>
          </a:xfrm>
          <a:prstGeom prst="roundRect">
            <a:avLst>
              <a:gd name="adj" fmla="val 18750"/>
            </a:avLst>
          </a:prstGeom>
          <a:solidFill>
            <a:srgbClr val="1629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14" name="Rectangle 14"/>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Lorem Ipsum</a:t>
            </a:r>
            <a:endParaRPr b="0" lang="en-US" sz="4800" spc="-1" strike="noStrike">
              <a:solidFill>
                <a:srgbClr val="595959"/>
              </a:solidFill>
              <a:latin typeface="Lor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1"/>
          <p:cNvSpPr/>
          <p:nvPr/>
        </p:nvSpPr>
        <p:spPr>
          <a:xfrm>
            <a:off x="444600" y="1739880"/>
            <a:ext cx="6921360" cy="7099200"/>
          </a:xfrm>
          <a:custGeom>
            <a:avLst/>
            <a:gdLst>
              <a:gd name="textAreaLeft" fmla="*/ 55440 w 6921360"/>
              <a:gd name="textAreaRight" fmla="*/ 6865920 w 6921360"/>
              <a:gd name="textAreaTop" fmla="*/ 55440 h 7099200"/>
              <a:gd name="textAreaBottom" fmla="*/ 7043760 h 7099200"/>
            </a:gdLst>
            <a:ahLst/>
            <a:rect l="textAreaLeft" t="textAreaTop" r="textAreaRight" b="textAreaBottom"/>
            <a:pathLst>
              <a:path w="21600" h="22155">
                <a:moveTo>
                  <a:pt x="594" y="0"/>
                </a:moveTo>
                <a:arcTo wR="594" hR="594" stAng="16200000" swAng="-5400000"/>
                <a:lnTo>
                  <a:pt x="0" y="21561"/>
                </a:lnTo>
                <a:arcTo wR="594" hR="594" stAng="10800000" swAng="-5400000"/>
                <a:lnTo>
                  <a:pt x="21006" y="22155"/>
                </a:lnTo>
                <a:arcTo wR="594" hR="594" stAng="5400000" swAng="-5400000"/>
                <a:lnTo>
                  <a:pt x="21600" y="594"/>
                </a:lnTo>
                <a:arcTo wR="594" hR="594" stAng="0" swAng="-5400000"/>
                <a:close/>
              </a:path>
            </a:pathLst>
          </a:custGeom>
          <a:solidFill>
            <a:srgbClr val="9ab737">
              <a:alpha val="9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16" name="Rectangle 2"/>
          <p:cNvSpPr/>
          <p:nvPr/>
        </p:nvSpPr>
        <p:spPr>
          <a:xfrm>
            <a:off x="861840" y="2171880"/>
            <a:ext cx="6193080" cy="54417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Suspendisse hendrerit fermentum arcu, nec efficitur sem ultrices id. Praesent quis magna viverra turpis rutrum pellentesque in ac nulla. Nulla facilisi. Interdum et malesuada fames ac ante ipsum primis in faucibus.</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raesent quis magna viverra turpis rutrum pellentesque in ac nulla. Nulla facilisi. Interdum et malesuada fames ac ante ipsum primis in faucibus.</a:t>
            </a:r>
            <a:endParaRPr b="0" lang="en-US" sz="2200" spc="-1" strike="noStrike">
              <a:solidFill>
                <a:srgbClr val="595959"/>
              </a:solidFill>
              <a:latin typeface="Lora"/>
            </a:endParaRPr>
          </a:p>
        </p:txBody>
      </p:sp>
      <p:sp>
        <p:nvSpPr>
          <p:cNvPr id="117" name="Line 3"/>
          <p:cNvSpPr/>
          <p:nvPr/>
        </p:nvSpPr>
        <p:spPr>
          <a:xfrm>
            <a:off x="7394400" y="5127480"/>
            <a:ext cx="2981520" cy="0"/>
          </a:xfrm>
          <a:prstGeom prst="line">
            <a:avLst/>
          </a:prstGeom>
          <a:ln w="25560">
            <a:solidFill>
              <a:srgbClr val="60721a"/>
            </a:solidFill>
            <a:prstDash val="sysDot"/>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pic>
        <p:nvPicPr>
          <p:cNvPr id="118" name="Picture 4" descr=""/>
          <p:cNvPicPr/>
          <p:nvPr/>
        </p:nvPicPr>
        <p:blipFill>
          <a:blip r:embed="rId1"/>
          <a:stretch/>
        </p:blipFill>
        <p:spPr>
          <a:xfrm>
            <a:off x="8153280" y="3238560"/>
            <a:ext cx="3949920" cy="4102200"/>
          </a:xfrm>
          <a:prstGeom prst="rect">
            <a:avLst/>
          </a:prstGeom>
          <a:ln w="0">
            <a:noFill/>
          </a:ln>
          <a:effectLst>
            <a:outerShdw dist="0" dir="0" blurRad="0" rotWithShape="0">
              <a:srgbClr val="f0f0f3">
                <a:alpha val="75000"/>
              </a:srgbClr>
            </a:outerShdw>
          </a:effectLst>
        </p:spPr>
      </p:pic>
      <p:sp>
        <p:nvSpPr>
          <p:cNvPr id="119" name="AutoShape 5"/>
          <p:cNvSpPr/>
          <p:nvPr/>
        </p:nvSpPr>
        <p:spPr>
          <a:xfrm>
            <a:off x="444600" y="533520"/>
            <a:ext cx="12102840" cy="1015920"/>
          </a:xfrm>
          <a:prstGeom prst="roundRect">
            <a:avLst>
              <a:gd name="adj" fmla="val 18750"/>
            </a:avLst>
          </a:prstGeom>
          <a:solidFill>
            <a:srgbClr val="1629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20" name="Rectangle 6"/>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Lorem Ipsum</a:t>
            </a:r>
            <a:endParaRPr b="0" lang="en-US" sz="4800" spc="-1" strike="noStrike">
              <a:solidFill>
                <a:srgbClr val="595959"/>
              </a:solidFill>
              <a:latin typeface="Lor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Line 1"/>
          <p:cNvSpPr/>
          <p:nvPr/>
        </p:nvSpPr>
        <p:spPr>
          <a:xfrm>
            <a:off x="1591560" y="3767040"/>
            <a:ext cx="9890280" cy="0"/>
          </a:xfrm>
          <a:prstGeom prst="line">
            <a:avLst/>
          </a:prstGeom>
          <a:ln w="38160">
            <a:solidFill>
              <a:srgbClr val="3d414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22" name="Oval 2"/>
          <p:cNvSpPr/>
          <p:nvPr/>
        </p:nvSpPr>
        <p:spPr>
          <a:xfrm>
            <a:off x="1360440" y="3537000"/>
            <a:ext cx="450720" cy="45396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23" name="Oval 3"/>
          <p:cNvSpPr/>
          <p:nvPr/>
        </p:nvSpPr>
        <p:spPr>
          <a:xfrm>
            <a:off x="2760840" y="3544920"/>
            <a:ext cx="450720" cy="4539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24" name="Oval 4"/>
          <p:cNvSpPr/>
          <p:nvPr/>
        </p:nvSpPr>
        <p:spPr>
          <a:xfrm>
            <a:off x="4168800" y="3544920"/>
            <a:ext cx="452520" cy="4539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25" name="Oval 5"/>
          <p:cNvSpPr/>
          <p:nvPr/>
        </p:nvSpPr>
        <p:spPr>
          <a:xfrm>
            <a:off x="5578560" y="354492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26" name="Oval 6"/>
          <p:cNvSpPr/>
          <p:nvPr/>
        </p:nvSpPr>
        <p:spPr>
          <a:xfrm>
            <a:off x="6986520" y="3544920"/>
            <a:ext cx="451080" cy="4539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27" name="Oval 7"/>
          <p:cNvSpPr/>
          <p:nvPr/>
        </p:nvSpPr>
        <p:spPr>
          <a:xfrm>
            <a:off x="8396280" y="3544920"/>
            <a:ext cx="450720" cy="4539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28" name="Oval 8"/>
          <p:cNvSpPr/>
          <p:nvPr/>
        </p:nvSpPr>
        <p:spPr>
          <a:xfrm>
            <a:off x="9804240" y="3544920"/>
            <a:ext cx="451080" cy="4539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29" name="Oval 9"/>
          <p:cNvSpPr/>
          <p:nvPr/>
        </p:nvSpPr>
        <p:spPr>
          <a:xfrm>
            <a:off x="11212560" y="3544920"/>
            <a:ext cx="452520" cy="453960"/>
          </a:xfrm>
          <a:prstGeom prst="ellipse">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30" name="Rectangle 10"/>
          <p:cNvSpPr/>
          <p:nvPr/>
        </p:nvSpPr>
        <p:spPr>
          <a:xfrm>
            <a:off x="979560" y="268452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75</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31" name="Rectangle 11"/>
          <p:cNvSpPr/>
          <p:nvPr/>
        </p:nvSpPr>
        <p:spPr>
          <a:xfrm>
            <a:off x="2382840" y="268128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77</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32" name="Rectangle 12"/>
          <p:cNvSpPr/>
          <p:nvPr/>
        </p:nvSpPr>
        <p:spPr>
          <a:xfrm>
            <a:off x="3787920" y="267480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78</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33" name="Rectangle 13"/>
          <p:cNvSpPr/>
          <p:nvPr/>
        </p:nvSpPr>
        <p:spPr>
          <a:xfrm>
            <a:off x="5192640" y="267192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75</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34" name="Rectangle 14"/>
          <p:cNvSpPr/>
          <p:nvPr/>
        </p:nvSpPr>
        <p:spPr>
          <a:xfrm>
            <a:off x="6597720" y="2668680"/>
            <a:ext cx="121284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88</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35" name="Rectangle 15"/>
          <p:cNvSpPr/>
          <p:nvPr/>
        </p:nvSpPr>
        <p:spPr>
          <a:xfrm>
            <a:off x="8002440" y="267480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84</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36" name="Rectangle 16"/>
          <p:cNvSpPr/>
          <p:nvPr/>
        </p:nvSpPr>
        <p:spPr>
          <a:xfrm>
            <a:off x="9406080" y="265896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83</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37" name="Rectangle 17"/>
          <p:cNvSpPr/>
          <p:nvPr/>
        </p:nvSpPr>
        <p:spPr>
          <a:xfrm>
            <a:off x="10810800" y="265752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65</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38" name="Rectangle 18"/>
          <p:cNvSpPr/>
          <p:nvPr/>
        </p:nvSpPr>
        <p:spPr>
          <a:xfrm>
            <a:off x="1157400" y="4157640"/>
            <a:ext cx="8571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1</a:t>
            </a:r>
            <a:endParaRPr b="0" lang="en-US" sz="1800" spc="-1" strike="noStrike">
              <a:solidFill>
                <a:srgbClr val="595959"/>
              </a:solidFill>
              <a:latin typeface="Lora"/>
            </a:endParaRPr>
          </a:p>
        </p:txBody>
      </p:sp>
      <p:sp>
        <p:nvSpPr>
          <p:cNvPr id="139" name="Rectangle 19"/>
          <p:cNvSpPr/>
          <p:nvPr/>
        </p:nvSpPr>
        <p:spPr>
          <a:xfrm>
            <a:off x="2560680" y="4157640"/>
            <a:ext cx="8589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2</a:t>
            </a:r>
            <a:endParaRPr b="0" lang="en-US" sz="1800" spc="-1" strike="noStrike">
              <a:solidFill>
                <a:srgbClr val="595959"/>
              </a:solidFill>
              <a:latin typeface="Lora"/>
            </a:endParaRPr>
          </a:p>
        </p:txBody>
      </p:sp>
      <p:sp>
        <p:nvSpPr>
          <p:cNvPr id="140" name="Rectangle 20"/>
          <p:cNvSpPr/>
          <p:nvPr/>
        </p:nvSpPr>
        <p:spPr>
          <a:xfrm>
            <a:off x="3965400" y="4157640"/>
            <a:ext cx="85752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3</a:t>
            </a:r>
            <a:endParaRPr b="0" lang="en-US" sz="1800" spc="-1" strike="noStrike">
              <a:solidFill>
                <a:srgbClr val="595959"/>
              </a:solidFill>
              <a:latin typeface="Lora"/>
            </a:endParaRPr>
          </a:p>
        </p:txBody>
      </p:sp>
      <p:sp>
        <p:nvSpPr>
          <p:cNvPr id="141" name="Rectangle 21"/>
          <p:cNvSpPr/>
          <p:nvPr/>
        </p:nvSpPr>
        <p:spPr>
          <a:xfrm>
            <a:off x="6783480" y="4157640"/>
            <a:ext cx="8571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5</a:t>
            </a:r>
            <a:endParaRPr b="0" lang="en-US" sz="1800" spc="-1" strike="noStrike">
              <a:solidFill>
                <a:srgbClr val="595959"/>
              </a:solidFill>
              <a:latin typeface="Lora"/>
            </a:endParaRPr>
          </a:p>
        </p:txBody>
      </p:sp>
      <p:sp>
        <p:nvSpPr>
          <p:cNvPr id="142" name="AutoShape 22"/>
          <p:cNvSpPr/>
          <p:nvPr/>
        </p:nvSpPr>
        <p:spPr>
          <a:xfrm>
            <a:off x="444600" y="5969160"/>
            <a:ext cx="12102840" cy="2958840"/>
          </a:xfrm>
          <a:prstGeom prst="roundRect">
            <a:avLst>
              <a:gd name="adj" fmla="val 6435"/>
            </a:avLst>
          </a:prstGeom>
          <a:solidFill>
            <a:srgbClr val="3d4147">
              <a:alpha val="9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pic>
        <p:nvPicPr>
          <p:cNvPr id="143" name="Picture 23" descr=""/>
          <p:cNvPicPr/>
          <p:nvPr/>
        </p:nvPicPr>
        <p:blipFill>
          <a:blip r:embed="rId1"/>
          <a:stretch/>
        </p:blipFill>
        <p:spPr>
          <a:xfrm>
            <a:off x="990720" y="6134040"/>
            <a:ext cx="3251160" cy="3251160"/>
          </a:xfrm>
          <a:prstGeom prst="rect">
            <a:avLst/>
          </a:prstGeom>
          <a:ln w="0">
            <a:noFill/>
          </a:ln>
        </p:spPr>
      </p:pic>
      <p:sp>
        <p:nvSpPr>
          <p:cNvPr id="144" name="Rectangle 24"/>
          <p:cNvSpPr/>
          <p:nvPr/>
        </p:nvSpPr>
        <p:spPr>
          <a:xfrm>
            <a:off x="8196120" y="4157640"/>
            <a:ext cx="8589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6</a:t>
            </a:r>
            <a:endParaRPr b="0" lang="en-US" sz="1800" spc="-1" strike="noStrike">
              <a:solidFill>
                <a:srgbClr val="595959"/>
              </a:solidFill>
              <a:latin typeface="Lora"/>
            </a:endParaRPr>
          </a:p>
        </p:txBody>
      </p:sp>
      <p:sp>
        <p:nvSpPr>
          <p:cNvPr id="145" name="Rectangle 25"/>
          <p:cNvSpPr/>
          <p:nvPr/>
        </p:nvSpPr>
        <p:spPr>
          <a:xfrm>
            <a:off x="9583560" y="4165560"/>
            <a:ext cx="8589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7</a:t>
            </a:r>
            <a:endParaRPr b="0" lang="en-US" sz="1800" spc="-1" strike="noStrike">
              <a:solidFill>
                <a:srgbClr val="595959"/>
              </a:solidFill>
              <a:latin typeface="Lora"/>
            </a:endParaRPr>
          </a:p>
        </p:txBody>
      </p:sp>
      <p:sp>
        <p:nvSpPr>
          <p:cNvPr id="146" name="Rectangle 26"/>
          <p:cNvSpPr/>
          <p:nvPr/>
        </p:nvSpPr>
        <p:spPr>
          <a:xfrm>
            <a:off x="11014200" y="4165560"/>
            <a:ext cx="8571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8</a:t>
            </a:r>
            <a:endParaRPr b="0" lang="en-US" sz="1800" spc="-1" strike="noStrike">
              <a:solidFill>
                <a:srgbClr val="595959"/>
              </a:solidFill>
              <a:latin typeface="Lora"/>
            </a:endParaRPr>
          </a:p>
        </p:txBody>
      </p:sp>
      <p:sp>
        <p:nvSpPr>
          <p:cNvPr id="147" name="Rectangle 27"/>
          <p:cNvSpPr/>
          <p:nvPr/>
        </p:nvSpPr>
        <p:spPr>
          <a:xfrm>
            <a:off x="4608360" y="6100920"/>
            <a:ext cx="7450200" cy="20127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a:ea typeface="ＭＳ Ｐゴシック"/>
              </a:rPr>
              <a:t>Suspendisse hendrerit fermentum arcu, nec efficitur sem ultrices id. Praesent quis magna viverra turpis rutrum pellentesque in ac nulla. Nulla facilisi. Interdum et malesuada fames ac ante ipsum primis in faucibus.</a:t>
            </a:r>
            <a:endParaRPr b="0" lang="en-US" sz="2200" spc="-1" strike="noStrike">
              <a:solidFill>
                <a:srgbClr val="595959"/>
              </a:solidFill>
              <a:latin typeface="Lora"/>
            </a:endParaRPr>
          </a:p>
        </p:txBody>
      </p:sp>
      <p:grpSp>
        <p:nvGrpSpPr>
          <p:cNvPr id="148" name="Group 32"/>
          <p:cNvGrpSpPr/>
          <p:nvPr/>
        </p:nvGrpSpPr>
        <p:grpSpPr>
          <a:xfrm>
            <a:off x="5245200" y="3736800"/>
            <a:ext cx="1119240" cy="1972800"/>
            <a:chOff x="5245200" y="3736800"/>
            <a:chExt cx="1119240" cy="1972800"/>
          </a:xfrm>
        </p:grpSpPr>
        <p:sp>
          <p:nvSpPr>
            <p:cNvPr id="149" name="Line 28"/>
            <p:cNvSpPr/>
            <p:nvPr/>
          </p:nvSpPr>
          <p:spPr>
            <a:xfrm>
              <a:off x="5800680" y="3736800"/>
              <a:ext cx="0" cy="1353600"/>
            </a:xfrm>
            <a:prstGeom prst="line">
              <a:avLst/>
            </a:prstGeom>
            <a:ln w="28440">
              <a:solidFill>
                <a:srgbClr val="b7cc7c"/>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150" name="Group 31"/>
            <p:cNvGrpSpPr/>
            <p:nvPr/>
          </p:nvGrpSpPr>
          <p:grpSpPr>
            <a:xfrm>
              <a:off x="5245200" y="4574880"/>
              <a:ext cx="1119240" cy="1134720"/>
              <a:chOff x="5245200" y="4574880"/>
              <a:chExt cx="1119240" cy="1134720"/>
            </a:xfrm>
          </p:grpSpPr>
          <p:sp>
            <p:nvSpPr>
              <p:cNvPr id="151" name="AutoShape 29"/>
              <p:cNvSpPr/>
              <p:nvPr/>
            </p:nvSpPr>
            <p:spPr>
              <a:xfrm>
                <a:off x="5245200" y="4574880"/>
                <a:ext cx="1119240" cy="1134720"/>
              </a:xfrm>
              <a:prstGeom prst="diamond">
                <a:avLst/>
              </a:prstGeom>
              <a:solidFill>
                <a:srgbClr val="b7cc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52" name="Rectangle 30"/>
              <p:cNvSpPr/>
              <p:nvPr/>
            </p:nvSpPr>
            <p:spPr>
              <a:xfrm>
                <a:off x="5562720" y="4937400"/>
                <a:ext cx="524880" cy="411840"/>
              </a:xfrm>
              <a:prstGeom prst="rect">
                <a:avLst/>
              </a:prstGeom>
              <a:noFill/>
              <a:ln w="0">
                <a:noFill/>
              </a:ln>
            </p:spPr>
            <p:style>
              <a:lnRef idx="0"/>
              <a:fillRef idx="0"/>
              <a:effectRef idx="0"/>
              <a:fontRef idx="minor"/>
            </p:style>
            <p:txBody>
              <a:bodyPr wrap="none"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Lora Bold"/>
                    <a:ea typeface="ＭＳ Ｐゴシック"/>
                  </a:rPr>
                  <a:t>1994</a:t>
                </a:r>
                <a:endParaRPr b="0" lang="en-US" sz="1800" spc="-1" strike="noStrike">
                  <a:solidFill>
                    <a:srgbClr val="595959"/>
                  </a:solidFill>
                  <a:latin typeface="Lora"/>
                </a:endParaRPr>
              </a:p>
            </p:txBody>
          </p:sp>
        </p:grpSp>
      </p:grpSp>
      <p:sp>
        <p:nvSpPr>
          <p:cNvPr id="153" name="AutoShape 33"/>
          <p:cNvSpPr/>
          <p:nvPr/>
        </p:nvSpPr>
        <p:spPr>
          <a:xfrm>
            <a:off x="444600" y="533520"/>
            <a:ext cx="12102840" cy="1015920"/>
          </a:xfrm>
          <a:prstGeom prst="roundRect">
            <a:avLst>
              <a:gd name="adj" fmla="val 18750"/>
            </a:avLst>
          </a:prstGeom>
          <a:solidFill>
            <a:srgbClr val="1629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54" name="Rectangle 34"/>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Lorem Ipsum</a:t>
            </a:r>
            <a:endParaRPr b="0" lang="en-US" sz="4800" spc="-1" strike="noStrike">
              <a:solidFill>
                <a:srgbClr val="595959"/>
              </a:solidFill>
              <a:latin typeface="Lo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861840" y="1601640"/>
            <a:ext cx="11273040" cy="1327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a:ea typeface="ＭＳ Ｐゴシック"/>
              </a:rPr>
              <a:t>Phasellus nec dui accumsan. Lorem ipsum dolor sit amet, consectetur adipiscing elit. Suspendisse hendrerit fermentum arcu, nec efficitur sem ultrices id. </a:t>
            </a:r>
            <a:endParaRPr b="0" lang="en-US" sz="2200" spc="-1" strike="noStrike">
              <a:solidFill>
                <a:srgbClr val="595959"/>
              </a:solidFill>
              <a:latin typeface="Lora"/>
            </a:endParaRPr>
          </a:p>
        </p:txBody>
      </p:sp>
      <p:sp>
        <p:nvSpPr>
          <p:cNvPr id="156" name="Line 2"/>
          <p:cNvSpPr/>
          <p:nvPr/>
        </p:nvSpPr>
        <p:spPr>
          <a:xfrm>
            <a:off x="1591560" y="5037120"/>
            <a:ext cx="9890280" cy="0"/>
          </a:xfrm>
          <a:prstGeom prst="line">
            <a:avLst/>
          </a:prstGeom>
          <a:ln w="38160">
            <a:solidFill>
              <a:srgbClr val="b7cc7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57" name="Oval 3"/>
          <p:cNvSpPr/>
          <p:nvPr/>
        </p:nvSpPr>
        <p:spPr>
          <a:xfrm>
            <a:off x="1360440" y="480708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58" name="Oval 4"/>
          <p:cNvSpPr/>
          <p:nvPr/>
        </p:nvSpPr>
        <p:spPr>
          <a:xfrm>
            <a:off x="2760840" y="481500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59" name="Oval 5"/>
          <p:cNvSpPr/>
          <p:nvPr/>
        </p:nvSpPr>
        <p:spPr>
          <a:xfrm>
            <a:off x="4168800" y="4815000"/>
            <a:ext cx="4525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60" name="Oval 6"/>
          <p:cNvSpPr/>
          <p:nvPr/>
        </p:nvSpPr>
        <p:spPr>
          <a:xfrm>
            <a:off x="5578560" y="481500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61" name="Rectangle 7"/>
          <p:cNvSpPr/>
          <p:nvPr/>
        </p:nvSpPr>
        <p:spPr>
          <a:xfrm>
            <a:off x="979560" y="395460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75</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62" name="Rectangle 8"/>
          <p:cNvSpPr/>
          <p:nvPr/>
        </p:nvSpPr>
        <p:spPr>
          <a:xfrm>
            <a:off x="2382840" y="395136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77</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63" name="Rectangle 9"/>
          <p:cNvSpPr/>
          <p:nvPr/>
        </p:nvSpPr>
        <p:spPr>
          <a:xfrm>
            <a:off x="3787920" y="394488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78</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64" name="Rectangle 10"/>
          <p:cNvSpPr/>
          <p:nvPr/>
        </p:nvSpPr>
        <p:spPr>
          <a:xfrm>
            <a:off x="5192640" y="3941640"/>
            <a:ext cx="1212840" cy="641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Lora"/>
                <a:ea typeface="ＭＳ Ｐゴシック"/>
              </a:rPr>
              <a:t>75</a:t>
            </a:r>
            <a:r>
              <a:rPr b="0" lang="en-US" sz="1600" spc="-1" strike="noStrike">
                <a:solidFill>
                  <a:srgbClr val="ffffff"/>
                </a:solidFill>
                <a:latin typeface="Lora"/>
                <a:ea typeface="ＭＳ Ｐゴシック"/>
              </a:rPr>
              <a:t>%</a:t>
            </a:r>
            <a:endParaRPr b="0" lang="en-US" sz="1600" spc="-1" strike="noStrike">
              <a:solidFill>
                <a:srgbClr val="595959"/>
              </a:solidFill>
              <a:latin typeface="Lora"/>
            </a:endParaRPr>
          </a:p>
        </p:txBody>
      </p:sp>
      <p:sp>
        <p:nvSpPr>
          <p:cNvPr id="165" name="Rectangle 11"/>
          <p:cNvSpPr/>
          <p:nvPr/>
        </p:nvSpPr>
        <p:spPr>
          <a:xfrm>
            <a:off x="1157400" y="5427720"/>
            <a:ext cx="857160" cy="387360"/>
          </a:xfrm>
          <a:prstGeom prst="rect">
            <a:avLst/>
          </a:prstGeom>
          <a:noFill/>
          <a:ln w="0">
            <a:noFill/>
          </a:ln>
          <a:effectLst>
            <a:outerShdw dist="25376" dir="7299645" blurRad="0" rotWithShape="0">
              <a:srgbClr val="000000">
                <a:alpha val="80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1</a:t>
            </a:r>
            <a:endParaRPr b="0" lang="en-US" sz="1800" spc="-1" strike="noStrike">
              <a:solidFill>
                <a:srgbClr val="595959"/>
              </a:solidFill>
              <a:latin typeface="Lora"/>
            </a:endParaRPr>
          </a:p>
        </p:txBody>
      </p:sp>
      <p:sp>
        <p:nvSpPr>
          <p:cNvPr id="166" name="Rectangle 12"/>
          <p:cNvSpPr/>
          <p:nvPr/>
        </p:nvSpPr>
        <p:spPr>
          <a:xfrm>
            <a:off x="2560680" y="5427720"/>
            <a:ext cx="858960" cy="387360"/>
          </a:xfrm>
          <a:prstGeom prst="rect">
            <a:avLst/>
          </a:prstGeom>
          <a:noFill/>
          <a:ln w="0">
            <a:noFill/>
          </a:ln>
          <a:effectLst>
            <a:outerShdw dist="25376" dir="7299645" blurRad="0" rotWithShape="0">
              <a:srgbClr val="000000">
                <a:alpha val="80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2</a:t>
            </a:r>
            <a:endParaRPr b="0" lang="en-US" sz="1800" spc="-1" strike="noStrike">
              <a:solidFill>
                <a:srgbClr val="595959"/>
              </a:solidFill>
              <a:latin typeface="Lora"/>
            </a:endParaRPr>
          </a:p>
        </p:txBody>
      </p:sp>
      <p:sp>
        <p:nvSpPr>
          <p:cNvPr id="167" name="Rectangle 13"/>
          <p:cNvSpPr/>
          <p:nvPr/>
        </p:nvSpPr>
        <p:spPr>
          <a:xfrm>
            <a:off x="3965400" y="5427720"/>
            <a:ext cx="857520" cy="387360"/>
          </a:xfrm>
          <a:prstGeom prst="rect">
            <a:avLst/>
          </a:prstGeom>
          <a:noFill/>
          <a:ln w="0">
            <a:noFill/>
          </a:ln>
          <a:effectLst>
            <a:outerShdw dist="25376" dir="7299645" blurRad="0" rotWithShape="0">
              <a:srgbClr val="000000">
                <a:alpha val="80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3</a:t>
            </a:r>
            <a:endParaRPr b="0" lang="en-US" sz="1800" spc="-1" strike="noStrike">
              <a:solidFill>
                <a:srgbClr val="595959"/>
              </a:solidFill>
              <a:latin typeface="Lora"/>
            </a:endParaRPr>
          </a:p>
        </p:txBody>
      </p:sp>
      <p:sp>
        <p:nvSpPr>
          <p:cNvPr id="168" name="AutoShape 14"/>
          <p:cNvSpPr/>
          <p:nvPr/>
        </p:nvSpPr>
        <p:spPr>
          <a:xfrm>
            <a:off x="444600" y="6146640"/>
            <a:ext cx="12102840" cy="2514600"/>
          </a:xfrm>
          <a:prstGeom prst="roundRect">
            <a:avLst>
              <a:gd name="adj" fmla="val 7574"/>
            </a:avLst>
          </a:prstGeom>
          <a:solidFill>
            <a:srgbClr val="9ab737">
              <a:alpha val="9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69" name="Rectangle 15"/>
          <p:cNvSpPr/>
          <p:nvPr/>
        </p:nvSpPr>
        <p:spPr>
          <a:xfrm>
            <a:off x="5370480" y="5400720"/>
            <a:ext cx="857160" cy="388800"/>
          </a:xfrm>
          <a:prstGeom prst="rect">
            <a:avLst/>
          </a:prstGeom>
          <a:noFill/>
          <a:ln w="0">
            <a:noFill/>
          </a:ln>
          <a:effectLst>
            <a:outerShdw dist="25376" dir="7299645" blurRad="0" rotWithShape="0">
              <a:srgbClr val="000000">
                <a:alpha val="80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4</a:t>
            </a:r>
            <a:endParaRPr b="0" lang="en-US" sz="1800" spc="-1" strike="noStrike">
              <a:solidFill>
                <a:srgbClr val="595959"/>
              </a:solidFill>
              <a:latin typeface="Lora"/>
            </a:endParaRPr>
          </a:p>
        </p:txBody>
      </p:sp>
      <p:sp>
        <p:nvSpPr>
          <p:cNvPr id="170" name="Rectangle 16"/>
          <p:cNvSpPr/>
          <p:nvPr/>
        </p:nvSpPr>
        <p:spPr>
          <a:xfrm>
            <a:off x="861840" y="6381720"/>
            <a:ext cx="5723280" cy="2014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Vestibulum tristique mattis felis, quis finibus quam venenatis quis. Suspendisse blandit lorem hendrerit, etc.</a:t>
            </a:r>
            <a:endParaRPr b="0" lang="en-US" sz="2200" spc="-1" strike="noStrike">
              <a:solidFill>
                <a:srgbClr val="595959"/>
              </a:solidFill>
              <a:latin typeface="Lora"/>
            </a:endParaRPr>
          </a:p>
        </p:txBody>
      </p:sp>
      <p:grpSp>
        <p:nvGrpSpPr>
          <p:cNvPr id="171" name="Group 22"/>
          <p:cNvGrpSpPr/>
          <p:nvPr/>
        </p:nvGrpSpPr>
        <p:grpSpPr>
          <a:xfrm>
            <a:off x="6794640" y="3489480"/>
            <a:ext cx="5325840" cy="5023800"/>
            <a:chOff x="6794640" y="3489480"/>
            <a:chExt cx="5325840" cy="5023800"/>
          </a:xfrm>
        </p:grpSpPr>
        <p:sp>
          <p:nvSpPr>
            <p:cNvPr id="172" name="AutoShape 17"/>
            <p:cNvSpPr/>
            <p:nvPr/>
          </p:nvSpPr>
          <p:spPr>
            <a:xfrm>
              <a:off x="7522920" y="8165880"/>
              <a:ext cx="3860640" cy="347400"/>
            </a:xfrm>
            <a:prstGeom prst="roundRect">
              <a:avLst>
                <a:gd name="adj" fmla="val 47523"/>
              </a:avLst>
            </a:prstGeom>
            <a:solidFill>
              <a:srgbClr val="71717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73" name="AutoShape 18"/>
            <p:cNvSpPr/>
            <p:nvPr/>
          </p:nvSpPr>
          <p:spPr>
            <a:xfrm>
              <a:off x="9065880" y="6973560"/>
              <a:ext cx="792000" cy="280800"/>
            </a:xfrm>
            <a:custGeom>
              <a:avLst/>
              <a:gdLst/>
              <a:ahLst/>
              <a:rect l="l" t="t" r="r" b="b"/>
              <a:pathLst>
                <a:path w="21600" h="21600">
                  <a:moveTo>
                    <a:pt x="0" y="0"/>
                  </a:moveTo>
                  <a:cubicBezTo>
                    <a:pt x="0" y="8100"/>
                    <a:pt x="2257" y="15300"/>
                    <a:pt x="5803" y="18900"/>
                  </a:cubicBezTo>
                  <a:cubicBezTo>
                    <a:pt x="7415" y="20700"/>
                    <a:pt x="9027" y="21600"/>
                    <a:pt x="10639" y="21600"/>
                  </a:cubicBezTo>
                  <a:cubicBezTo>
                    <a:pt x="12573" y="21600"/>
                    <a:pt x="14185" y="20700"/>
                    <a:pt x="15797" y="18900"/>
                  </a:cubicBezTo>
                  <a:cubicBezTo>
                    <a:pt x="19343" y="15300"/>
                    <a:pt x="21600" y="8100"/>
                    <a:pt x="21600" y="0"/>
                  </a:cubicBezTo>
                  <a:cubicBezTo>
                    <a:pt x="14507" y="0"/>
                    <a:pt x="14507" y="0"/>
                    <a:pt x="14507" y="0"/>
                  </a:cubicBezTo>
                  <a:cubicBezTo>
                    <a:pt x="10639" y="0"/>
                    <a:pt x="10639" y="0"/>
                    <a:pt x="10639" y="0"/>
                  </a:cubicBezTo>
                  <a:cubicBezTo>
                    <a:pt x="7093" y="0"/>
                    <a:pt x="7093" y="0"/>
                    <a:pt x="7093" y="0"/>
                  </a:cubicBezTo>
                  <a:lnTo>
                    <a:pt x="0" y="0"/>
                  </a:lnTo>
                  <a:close/>
                  <a:moveTo>
                    <a:pt x="0" y="0"/>
                  </a:moveTo>
                </a:path>
              </a:pathLst>
            </a:custGeom>
            <a:solidFill>
              <a:srgbClr val="a5a5a5"/>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4" name="AutoShape 19"/>
            <p:cNvSpPr/>
            <p:nvPr/>
          </p:nvSpPr>
          <p:spPr>
            <a:xfrm>
              <a:off x="8772480" y="7221240"/>
              <a:ext cx="1379160" cy="1060200"/>
            </a:xfrm>
            <a:custGeom>
              <a:avLst/>
              <a:gdLst/>
              <a:ahLst/>
              <a:rect l="l" t="t" r="r" b="b"/>
              <a:pathLst>
                <a:path w="21600" h="21600">
                  <a:moveTo>
                    <a:pt x="10708" y="720"/>
                  </a:moveTo>
                  <a:cubicBezTo>
                    <a:pt x="9785" y="720"/>
                    <a:pt x="8862" y="480"/>
                    <a:pt x="7938" y="0"/>
                  </a:cubicBezTo>
                  <a:cubicBezTo>
                    <a:pt x="6092" y="9120"/>
                    <a:pt x="1477" y="18480"/>
                    <a:pt x="0" y="21600"/>
                  </a:cubicBezTo>
                  <a:cubicBezTo>
                    <a:pt x="10708" y="21600"/>
                    <a:pt x="10708" y="21600"/>
                    <a:pt x="10708" y="21600"/>
                  </a:cubicBezTo>
                  <a:cubicBezTo>
                    <a:pt x="21600" y="21600"/>
                    <a:pt x="21600" y="21600"/>
                    <a:pt x="21600" y="21600"/>
                  </a:cubicBezTo>
                  <a:cubicBezTo>
                    <a:pt x="19938" y="18480"/>
                    <a:pt x="15692" y="9120"/>
                    <a:pt x="13662" y="0"/>
                  </a:cubicBezTo>
                  <a:cubicBezTo>
                    <a:pt x="12738" y="480"/>
                    <a:pt x="11815" y="720"/>
                    <a:pt x="10708" y="720"/>
                  </a:cubicBezTo>
                  <a:close/>
                  <a:moveTo>
                    <a:pt x="10708" y="720"/>
                  </a:moveTo>
                </a:path>
              </a:pathLst>
            </a:custGeom>
            <a:solidFill>
              <a:srgbClr val="7f7f7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75" name="AutoShape 20"/>
            <p:cNvSpPr/>
            <p:nvPr/>
          </p:nvSpPr>
          <p:spPr>
            <a:xfrm>
              <a:off x="6794640" y="3489480"/>
              <a:ext cx="5325840" cy="3584160"/>
            </a:xfrm>
            <a:custGeom>
              <a:avLst/>
              <a:gdLst/>
              <a:ahLst/>
              <a:rect l="l" t="t" r="r" b="b"/>
              <a:pathLst>
                <a:path w="21600" h="21600">
                  <a:moveTo>
                    <a:pt x="21600" y="20636"/>
                  </a:moveTo>
                  <a:cubicBezTo>
                    <a:pt x="21600" y="21168"/>
                    <a:pt x="21376" y="21600"/>
                    <a:pt x="21108" y="21600"/>
                  </a:cubicBezTo>
                  <a:cubicBezTo>
                    <a:pt x="514" y="21600"/>
                    <a:pt x="514" y="21600"/>
                    <a:pt x="514" y="21600"/>
                  </a:cubicBezTo>
                  <a:cubicBezTo>
                    <a:pt x="224" y="21600"/>
                    <a:pt x="0" y="21168"/>
                    <a:pt x="0" y="20636"/>
                  </a:cubicBezTo>
                  <a:cubicBezTo>
                    <a:pt x="0" y="964"/>
                    <a:pt x="0" y="964"/>
                    <a:pt x="0" y="964"/>
                  </a:cubicBezTo>
                  <a:cubicBezTo>
                    <a:pt x="0" y="432"/>
                    <a:pt x="224" y="0"/>
                    <a:pt x="514" y="0"/>
                  </a:cubicBezTo>
                  <a:cubicBezTo>
                    <a:pt x="21108" y="0"/>
                    <a:pt x="21108" y="0"/>
                    <a:pt x="21108" y="0"/>
                  </a:cubicBezTo>
                  <a:cubicBezTo>
                    <a:pt x="21376" y="0"/>
                    <a:pt x="21600" y="432"/>
                    <a:pt x="21600" y="964"/>
                  </a:cubicBezTo>
                  <a:lnTo>
                    <a:pt x="21600" y="20636"/>
                  </a:lnTo>
                  <a:close/>
                  <a:moveTo>
                    <a:pt x="21600" y="20636"/>
                  </a:moveTo>
                </a:path>
              </a:pathLst>
            </a:custGeom>
            <a:solidFill>
              <a:srgbClr val="67666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pic>
          <p:nvPicPr>
            <p:cNvPr id="176" name="Picture 21" descr=""/>
            <p:cNvPicPr/>
            <p:nvPr/>
          </p:nvPicPr>
          <p:blipFill>
            <a:blip r:embed="rId1"/>
            <a:srcRect l="18447" t="18642" r="18303" b="12250"/>
            <a:stretch/>
          </p:blipFill>
          <p:spPr>
            <a:xfrm>
              <a:off x="7040520" y="3736800"/>
              <a:ext cx="4851000" cy="2984040"/>
            </a:xfrm>
            <a:prstGeom prst="rect">
              <a:avLst/>
            </a:prstGeom>
            <a:ln w="0">
              <a:noFill/>
            </a:ln>
          </p:spPr>
        </p:pic>
      </p:grpSp>
      <p:grpSp>
        <p:nvGrpSpPr>
          <p:cNvPr id="177" name="Group 25"/>
          <p:cNvGrpSpPr/>
          <p:nvPr/>
        </p:nvGrpSpPr>
        <p:grpSpPr>
          <a:xfrm>
            <a:off x="8788320" y="6375240"/>
            <a:ext cx="1333440" cy="1327320"/>
            <a:chOff x="8788320" y="6375240"/>
            <a:chExt cx="1333440" cy="1327320"/>
          </a:xfrm>
        </p:grpSpPr>
        <p:sp>
          <p:nvSpPr>
            <p:cNvPr id="178" name="AutoShape 23"/>
            <p:cNvSpPr/>
            <p:nvPr/>
          </p:nvSpPr>
          <p:spPr>
            <a:xfrm>
              <a:off x="8788320" y="6375240"/>
              <a:ext cx="1333440" cy="1327320"/>
            </a:xfrm>
            <a:prstGeom prst="diamond">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79" name="Rectangle 24"/>
            <p:cNvSpPr/>
            <p:nvPr/>
          </p:nvSpPr>
          <p:spPr>
            <a:xfrm>
              <a:off x="9120240" y="6810120"/>
              <a:ext cx="717480" cy="4780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2001</a:t>
              </a:r>
              <a:endParaRPr b="0" lang="en-US" sz="1800" spc="-1" strike="noStrike">
                <a:solidFill>
                  <a:srgbClr val="595959"/>
                </a:solidFill>
                <a:latin typeface="Lora"/>
              </a:endParaRPr>
            </a:p>
          </p:txBody>
        </p:sp>
      </p:grpSp>
      <p:sp>
        <p:nvSpPr>
          <p:cNvPr id="180" name="AutoShape 26"/>
          <p:cNvSpPr/>
          <p:nvPr/>
        </p:nvSpPr>
        <p:spPr>
          <a:xfrm>
            <a:off x="444600" y="533520"/>
            <a:ext cx="12102840" cy="1015920"/>
          </a:xfrm>
          <a:prstGeom prst="roundRect">
            <a:avLst>
              <a:gd name="adj" fmla="val 18750"/>
            </a:avLst>
          </a:prstGeom>
          <a:solidFill>
            <a:srgbClr val="1629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81" name="Rectangle 27"/>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Lorem Ipsum</a:t>
            </a:r>
            <a:endParaRPr b="0" lang="en-US" sz="4800" spc="-1" strike="noStrike">
              <a:solidFill>
                <a:srgbClr val="595959"/>
              </a:solidFill>
              <a:latin typeface="Lora"/>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1"/>
          <p:cNvSpPr/>
          <p:nvPr/>
        </p:nvSpPr>
        <p:spPr>
          <a:xfrm>
            <a:off x="3949560" y="2641680"/>
            <a:ext cx="3683160" cy="2070000"/>
          </a:xfrm>
          <a:prstGeom prst="roundRect">
            <a:avLst>
              <a:gd name="adj" fmla="val 9199"/>
            </a:avLst>
          </a:prstGeom>
          <a:solidFill>
            <a:srgbClr val="3d4147">
              <a:alpha val="9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83" name="Oval 2"/>
          <p:cNvSpPr/>
          <p:nvPr/>
        </p:nvSpPr>
        <p:spPr>
          <a:xfrm>
            <a:off x="1360440" y="5187960"/>
            <a:ext cx="450720" cy="453960"/>
          </a:xfrm>
          <a:prstGeom prst="ellipse">
            <a:avLst/>
          </a:prstGeom>
          <a:solidFill>
            <a:srgbClr val="60721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84" name="Rectangle 3"/>
          <p:cNvSpPr/>
          <p:nvPr/>
        </p:nvSpPr>
        <p:spPr>
          <a:xfrm>
            <a:off x="1157400" y="5808600"/>
            <a:ext cx="857160" cy="50184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1991</a:t>
            </a:r>
            <a:endParaRPr b="0" lang="en-US" sz="2400" spc="-1" strike="noStrike">
              <a:solidFill>
                <a:srgbClr val="595959"/>
              </a:solidFill>
              <a:latin typeface="Lora"/>
            </a:endParaRPr>
          </a:p>
        </p:txBody>
      </p:sp>
      <p:sp>
        <p:nvSpPr>
          <p:cNvPr id="185" name="Line 4"/>
          <p:cNvSpPr/>
          <p:nvPr/>
        </p:nvSpPr>
        <p:spPr>
          <a:xfrm>
            <a:off x="1591560" y="5418000"/>
            <a:ext cx="9890280" cy="0"/>
          </a:xfrm>
          <a:prstGeom prst="line">
            <a:avLst/>
          </a:prstGeom>
          <a:ln w="38160">
            <a:solidFill>
              <a:srgbClr val="9ab737"/>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186" name="Oval 5"/>
          <p:cNvSpPr/>
          <p:nvPr/>
        </p:nvSpPr>
        <p:spPr>
          <a:xfrm>
            <a:off x="2760840" y="519588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87" name="Oval 6"/>
          <p:cNvSpPr/>
          <p:nvPr/>
        </p:nvSpPr>
        <p:spPr>
          <a:xfrm>
            <a:off x="4168800" y="5195880"/>
            <a:ext cx="4525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88" name="Oval 7"/>
          <p:cNvSpPr/>
          <p:nvPr/>
        </p:nvSpPr>
        <p:spPr>
          <a:xfrm>
            <a:off x="5578560" y="519588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89" name="Oval 8"/>
          <p:cNvSpPr/>
          <p:nvPr/>
        </p:nvSpPr>
        <p:spPr>
          <a:xfrm>
            <a:off x="6986520" y="5195880"/>
            <a:ext cx="45108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90" name="Oval 9"/>
          <p:cNvSpPr/>
          <p:nvPr/>
        </p:nvSpPr>
        <p:spPr>
          <a:xfrm>
            <a:off x="8396280" y="5195880"/>
            <a:ext cx="45072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91" name="Oval 10"/>
          <p:cNvSpPr/>
          <p:nvPr/>
        </p:nvSpPr>
        <p:spPr>
          <a:xfrm>
            <a:off x="9804240" y="5195880"/>
            <a:ext cx="451080" cy="453960"/>
          </a:xfrm>
          <a:prstGeom prst="ellipse">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92" name="Oval 11"/>
          <p:cNvSpPr/>
          <p:nvPr/>
        </p:nvSpPr>
        <p:spPr>
          <a:xfrm>
            <a:off x="11212560" y="5195880"/>
            <a:ext cx="452520" cy="453960"/>
          </a:xfrm>
          <a:prstGeom prst="ellipse">
            <a:avLst/>
          </a:prstGeom>
          <a:solidFill>
            <a:srgbClr val="60721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nvGrpSpPr>
          <p:cNvPr id="193" name="Group 14"/>
          <p:cNvGrpSpPr/>
          <p:nvPr/>
        </p:nvGrpSpPr>
        <p:grpSpPr>
          <a:xfrm>
            <a:off x="2287440" y="2873520"/>
            <a:ext cx="1390680" cy="2477520"/>
            <a:chOff x="2287440" y="2873520"/>
            <a:chExt cx="1390680" cy="2477520"/>
          </a:xfrm>
        </p:grpSpPr>
        <p:sp>
          <p:nvSpPr>
            <p:cNvPr id="194" name="Rectangle 12"/>
            <p:cNvSpPr/>
            <p:nvPr/>
          </p:nvSpPr>
          <p:spPr>
            <a:xfrm>
              <a:off x="2958840" y="4214160"/>
              <a:ext cx="88920" cy="1136880"/>
            </a:xfrm>
            <a:prstGeom prst="rect">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195" name="AutoShape 13"/>
            <p:cNvSpPr/>
            <p:nvPr/>
          </p:nvSpPr>
          <p:spPr>
            <a:xfrm>
              <a:off x="2287440" y="2873520"/>
              <a:ext cx="1390680" cy="138492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196" name="Rectangle 15"/>
          <p:cNvSpPr/>
          <p:nvPr/>
        </p:nvSpPr>
        <p:spPr>
          <a:xfrm>
            <a:off x="2417760" y="3173400"/>
            <a:ext cx="1212840" cy="56664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ora"/>
                <a:ea typeface="ＭＳ Ｐゴシック"/>
              </a:rPr>
              <a:t>Year</a:t>
            </a:r>
            <a:endParaRPr b="0" lang="en-US" sz="3000" spc="-1" strike="noStrike">
              <a:solidFill>
                <a:srgbClr val="595959"/>
              </a:solidFill>
              <a:latin typeface="Lora"/>
            </a:endParaRPr>
          </a:p>
        </p:txBody>
      </p:sp>
      <p:sp>
        <p:nvSpPr>
          <p:cNvPr id="197" name="Rectangle 16"/>
          <p:cNvSpPr/>
          <p:nvPr/>
        </p:nvSpPr>
        <p:spPr>
          <a:xfrm>
            <a:off x="2585880" y="3592440"/>
            <a:ext cx="8589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2</a:t>
            </a:r>
            <a:endParaRPr b="0" lang="en-US" sz="1800" spc="-1" strike="noStrike">
              <a:solidFill>
                <a:srgbClr val="595959"/>
              </a:solidFill>
              <a:latin typeface="Lora"/>
            </a:endParaRPr>
          </a:p>
        </p:txBody>
      </p:sp>
      <p:sp>
        <p:nvSpPr>
          <p:cNvPr id="198" name="Rectangle 17"/>
          <p:cNvSpPr/>
          <p:nvPr/>
        </p:nvSpPr>
        <p:spPr>
          <a:xfrm>
            <a:off x="4165560" y="2809800"/>
            <a:ext cx="3676680" cy="1670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a:ea typeface="ＭＳ Ｐゴシック"/>
              </a:rPr>
              <a:t>Suspendisse hendrerit fermentum arcu.</a:t>
            </a:r>
            <a:endParaRPr b="0" lang="en-US" sz="2200" spc="-1" strike="noStrike">
              <a:solidFill>
                <a:srgbClr val="595959"/>
              </a:solidFill>
              <a:latin typeface="Lora"/>
            </a:endParaRPr>
          </a:p>
        </p:txBody>
      </p:sp>
      <p:grpSp>
        <p:nvGrpSpPr>
          <p:cNvPr id="199" name="Group 20"/>
          <p:cNvGrpSpPr/>
          <p:nvPr/>
        </p:nvGrpSpPr>
        <p:grpSpPr>
          <a:xfrm>
            <a:off x="3725640" y="5326200"/>
            <a:ext cx="1390680" cy="2477520"/>
            <a:chOff x="3725640" y="5326200"/>
            <a:chExt cx="1390680" cy="2477520"/>
          </a:xfrm>
        </p:grpSpPr>
        <p:sp>
          <p:nvSpPr>
            <p:cNvPr id="200" name="Rectangle 18"/>
            <p:cNvSpPr/>
            <p:nvPr/>
          </p:nvSpPr>
          <p:spPr>
            <a:xfrm rot="10800000">
              <a:off x="4356000" y="5326200"/>
              <a:ext cx="88920" cy="1136880"/>
            </a:xfrm>
            <a:prstGeom prst="rect">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01" name="AutoShape 19"/>
            <p:cNvSpPr/>
            <p:nvPr/>
          </p:nvSpPr>
          <p:spPr>
            <a:xfrm rot="10800000">
              <a:off x="3725640" y="6418800"/>
              <a:ext cx="1390680" cy="138492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202" name="Rectangle 21"/>
          <p:cNvSpPr/>
          <p:nvPr/>
        </p:nvSpPr>
        <p:spPr>
          <a:xfrm>
            <a:off x="3843360" y="6748560"/>
            <a:ext cx="1212840" cy="56664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ora"/>
                <a:ea typeface="ＭＳ Ｐゴシック"/>
              </a:rPr>
              <a:t>Year</a:t>
            </a:r>
            <a:endParaRPr b="0" lang="en-US" sz="3000" spc="-1" strike="noStrike">
              <a:solidFill>
                <a:srgbClr val="595959"/>
              </a:solidFill>
              <a:latin typeface="Lora"/>
            </a:endParaRPr>
          </a:p>
        </p:txBody>
      </p:sp>
      <p:sp>
        <p:nvSpPr>
          <p:cNvPr id="203" name="Rectangle 22"/>
          <p:cNvSpPr/>
          <p:nvPr/>
        </p:nvSpPr>
        <p:spPr>
          <a:xfrm>
            <a:off x="4017960" y="7172280"/>
            <a:ext cx="8571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3</a:t>
            </a:r>
            <a:endParaRPr b="0" lang="en-US" sz="1800" spc="-1" strike="noStrike">
              <a:solidFill>
                <a:srgbClr val="595959"/>
              </a:solidFill>
              <a:latin typeface="Lora"/>
            </a:endParaRPr>
          </a:p>
        </p:txBody>
      </p:sp>
      <p:grpSp>
        <p:nvGrpSpPr>
          <p:cNvPr id="204" name="Group 25"/>
          <p:cNvGrpSpPr/>
          <p:nvPr/>
        </p:nvGrpSpPr>
        <p:grpSpPr>
          <a:xfrm>
            <a:off x="7915320" y="2870280"/>
            <a:ext cx="1390680" cy="2476440"/>
            <a:chOff x="7915320" y="2870280"/>
            <a:chExt cx="1390680" cy="2476440"/>
          </a:xfrm>
        </p:grpSpPr>
        <p:sp>
          <p:nvSpPr>
            <p:cNvPr id="205" name="Rectangle 23"/>
            <p:cNvSpPr/>
            <p:nvPr/>
          </p:nvSpPr>
          <p:spPr>
            <a:xfrm>
              <a:off x="8586720" y="4210200"/>
              <a:ext cx="88920" cy="1136520"/>
            </a:xfrm>
            <a:prstGeom prst="rect">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06" name="AutoShape 24"/>
            <p:cNvSpPr/>
            <p:nvPr/>
          </p:nvSpPr>
          <p:spPr>
            <a:xfrm>
              <a:off x="7915320" y="2870280"/>
              <a:ext cx="1390680" cy="138420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207" name="Rectangle 26"/>
          <p:cNvSpPr/>
          <p:nvPr/>
        </p:nvSpPr>
        <p:spPr>
          <a:xfrm>
            <a:off x="8042400" y="3198960"/>
            <a:ext cx="1214280" cy="56664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ora"/>
                <a:ea typeface="ＭＳ Ｐゴシック"/>
              </a:rPr>
              <a:t>Year</a:t>
            </a:r>
            <a:endParaRPr b="0" lang="en-US" sz="3000" spc="-1" strike="noStrike">
              <a:solidFill>
                <a:srgbClr val="595959"/>
              </a:solidFill>
              <a:latin typeface="Lora"/>
            </a:endParaRPr>
          </a:p>
        </p:txBody>
      </p:sp>
      <p:sp>
        <p:nvSpPr>
          <p:cNvPr id="208" name="Rectangle 27"/>
          <p:cNvSpPr/>
          <p:nvPr/>
        </p:nvSpPr>
        <p:spPr>
          <a:xfrm>
            <a:off x="8180280" y="3630600"/>
            <a:ext cx="85752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6</a:t>
            </a:r>
            <a:endParaRPr b="0" lang="en-US" sz="1800" spc="-1" strike="noStrike">
              <a:solidFill>
                <a:srgbClr val="595959"/>
              </a:solidFill>
              <a:latin typeface="Lora"/>
            </a:endParaRPr>
          </a:p>
        </p:txBody>
      </p:sp>
      <p:sp>
        <p:nvSpPr>
          <p:cNvPr id="209" name="AutoShape 28"/>
          <p:cNvSpPr/>
          <p:nvPr/>
        </p:nvSpPr>
        <p:spPr>
          <a:xfrm>
            <a:off x="5384880" y="6019920"/>
            <a:ext cx="3682800" cy="1904760"/>
          </a:xfrm>
          <a:prstGeom prst="roundRect">
            <a:avLst>
              <a:gd name="adj" fmla="val 10000"/>
            </a:avLst>
          </a:prstGeom>
          <a:solidFill>
            <a:srgbClr val="3d4147">
              <a:alpha val="9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10" name="Rectangle 29"/>
          <p:cNvSpPr/>
          <p:nvPr/>
        </p:nvSpPr>
        <p:spPr>
          <a:xfrm>
            <a:off x="9507600" y="6735600"/>
            <a:ext cx="1214280" cy="5670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ora"/>
                <a:ea typeface="ＭＳ Ｐゴシック"/>
              </a:rPr>
              <a:t>Year</a:t>
            </a:r>
            <a:endParaRPr b="0" lang="en-US" sz="3000" spc="-1" strike="noStrike">
              <a:solidFill>
                <a:srgbClr val="595959"/>
              </a:solidFill>
              <a:latin typeface="Lora"/>
            </a:endParaRPr>
          </a:p>
        </p:txBody>
      </p:sp>
      <p:sp>
        <p:nvSpPr>
          <p:cNvPr id="211" name="Rectangle 30"/>
          <p:cNvSpPr/>
          <p:nvPr/>
        </p:nvSpPr>
        <p:spPr>
          <a:xfrm>
            <a:off x="9672480" y="7175520"/>
            <a:ext cx="858960" cy="387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a:ea typeface="ＭＳ Ｐゴシック"/>
              </a:rPr>
              <a:t>1997</a:t>
            </a:r>
            <a:endParaRPr b="0" lang="en-US" sz="1800" spc="-1" strike="noStrike">
              <a:solidFill>
                <a:srgbClr val="595959"/>
              </a:solidFill>
              <a:latin typeface="Lora"/>
            </a:endParaRPr>
          </a:p>
        </p:txBody>
      </p:sp>
      <p:grpSp>
        <p:nvGrpSpPr>
          <p:cNvPr id="212" name="Group 33"/>
          <p:cNvGrpSpPr/>
          <p:nvPr/>
        </p:nvGrpSpPr>
        <p:grpSpPr>
          <a:xfrm>
            <a:off x="9375480" y="5326200"/>
            <a:ext cx="1390680" cy="2477520"/>
            <a:chOff x="9375480" y="5326200"/>
            <a:chExt cx="1390680" cy="2477520"/>
          </a:xfrm>
        </p:grpSpPr>
        <p:sp>
          <p:nvSpPr>
            <p:cNvPr id="213" name="Rectangle 31"/>
            <p:cNvSpPr/>
            <p:nvPr/>
          </p:nvSpPr>
          <p:spPr>
            <a:xfrm rot="10800000">
              <a:off x="10005840" y="5326200"/>
              <a:ext cx="88920" cy="1136880"/>
            </a:xfrm>
            <a:prstGeom prst="rect">
              <a:avLst/>
            </a:prstGeom>
            <a:solidFill>
              <a:srgbClr val="9ab7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14" name="AutoShape 32"/>
            <p:cNvSpPr/>
            <p:nvPr/>
          </p:nvSpPr>
          <p:spPr>
            <a:xfrm rot="10800000">
              <a:off x="9375480" y="6418800"/>
              <a:ext cx="1390680" cy="138492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215" name="Rectangle 34"/>
          <p:cNvSpPr/>
          <p:nvPr/>
        </p:nvSpPr>
        <p:spPr>
          <a:xfrm>
            <a:off x="5624640" y="6219720"/>
            <a:ext cx="3676680" cy="1327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ora"/>
                <a:ea typeface="ＭＳ Ｐゴシック"/>
              </a:rPr>
              <a:t>Suspendisse hendrerit fermentum arcus.</a:t>
            </a:r>
            <a:endParaRPr b="0" lang="en-US" sz="2200" spc="-1" strike="noStrike">
              <a:solidFill>
                <a:srgbClr val="595959"/>
              </a:solidFill>
              <a:latin typeface="Lora"/>
            </a:endParaRPr>
          </a:p>
        </p:txBody>
      </p:sp>
      <p:sp>
        <p:nvSpPr>
          <p:cNvPr id="216" name="Rectangle 35"/>
          <p:cNvSpPr/>
          <p:nvPr/>
        </p:nvSpPr>
        <p:spPr>
          <a:xfrm>
            <a:off x="11010960" y="5803920"/>
            <a:ext cx="857160" cy="5014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ora Bold"/>
                <a:ea typeface="ＭＳ Ｐゴシック"/>
              </a:rPr>
              <a:t>Now</a:t>
            </a:r>
            <a:endParaRPr b="0" lang="en-US" sz="2400" spc="-1" strike="noStrike">
              <a:solidFill>
                <a:srgbClr val="595959"/>
              </a:solidFill>
              <a:latin typeface="Lora"/>
            </a:endParaRPr>
          </a:p>
        </p:txBody>
      </p:sp>
      <p:sp>
        <p:nvSpPr>
          <p:cNvPr id="217" name="AutoShape 36"/>
          <p:cNvSpPr/>
          <p:nvPr/>
        </p:nvSpPr>
        <p:spPr>
          <a:xfrm>
            <a:off x="444600" y="533520"/>
            <a:ext cx="12102840" cy="1015920"/>
          </a:xfrm>
          <a:prstGeom prst="roundRect">
            <a:avLst>
              <a:gd name="adj" fmla="val 18750"/>
            </a:avLst>
          </a:prstGeom>
          <a:solidFill>
            <a:srgbClr val="1629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18" name="Rectangle 37"/>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Lorem Ipsum</a:t>
            </a:r>
            <a:endParaRPr b="0" lang="en-US" sz="4800" spc="-1" strike="noStrike">
              <a:solidFill>
                <a:srgbClr val="595959"/>
              </a:solidFill>
              <a:latin typeface="Lora"/>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
          <p:cNvSpPr/>
          <p:nvPr/>
        </p:nvSpPr>
        <p:spPr>
          <a:xfrm>
            <a:off x="8481960" y="4506840"/>
            <a:ext cx="692280" cy="1530360"/>
          </a:xfrm>
          <a:custGeom>
            <a:avLst/>
            <a:gdLst/>
            <a:ahLst/>
            <a:rect l="l" t="t" r="r" b="b"/>
            <a:pathLst>
              <a:path w="21297" h="21600">
                <a:moveTo>
                  <a:pt x="10652" y="0"/>
                </a:moveTo>
                <a:cubicBezTo>
                  <a:pt x="9610" y="0"/>
                  <a:pt x="8570" y="182"/>
                  <a:pt x="7774" y="547"/>
                </a:cubicBezTo>
                <a:cubicBezTo>
                  <a:pt x="6184" y="1276"/>
                  <a:pt x="6184" y="2458"/>
                  <a:pt x="7774" y="3188"/>
                </a:cubicBezTo>
                <a:cubicBezTo>
                  <a:pt x="9365" y="3917"/>
                  <a:pt x="11943" y="3917"/>
                  <a:pt x="13534" y="3188"/>
                </a:cubicBezTo>
                <a:cubicBezTo>
                  <a:pt x="15124" y="2458"/>
                  <a:pt x="15124" y="1276"/>
                  <a:pt x="13534" y="547"/>
                </a:cubicBezTo>
                <a:cubicBezTo>
                  <a:pt x="12738" y="182"/>
                  <a:pt x="11695" y="0"/>
                  <a:pt x="10652" y="0"/>
                </a:cubicBezTo>
                <a:close/>
                <a:moveTo>
                  <a:pt x="7859" y="4109"/>
                </a:moveTo>
                <a:cubicBezTo>
                  <a:pt x="5671" y="4109"/>
                  <a:pt x="4499" y="4934"/>
                  <a:pt x="4153" y="5420"/>
                </a:cubicBezTo>
                <a:lnTo>
                  <a:pt x="50" y="11877"/>
                </a:lnTo>
                <a:cubicBezTo>
                  <a:pt x="-150" y="12205"/>
                  <a:pt x="268" y="12546"/>
                  <a:pt x="985" y="12638"/>
                </a:cubicBezTo>
                <a:cubicBezTo>
                  <a:pt x="1106" y="12653"/>
                  <a:pt x="1229" y="12661"/>
                  <a:pt x="1349" y="12661"/>
                </a:cubicBezTo>
                <a:cubicBezTo>
                  <a:pt x="1938" y="12661"/>
                  <a:pt x="2478" y="12482"/>
                  <a:pt x="2644" y="12209"/>
                </a:cubicBezTo>
                <a:lnTo>
                  <a:pt x="6269" y="6537"/>
                </a:lnTo>
                <a:lnTo>
                  <a:pt x="6994" y="6537"/>
                </a:lnTo>
                <a:cubicBezTo>
                  <a:pt x="6989" y="6544"/>
                  <a:pt x="6983" y="6551"/>
                  <a:pt x="6979" y="6558"/>
                </a:cubicBezTo>
                <a:lnTo>
                  <a:pt x="2405" y="14438"/>
                </a:lnTo>
                <a:cubicBezTo>
                  <a:pt x="2329" y="14570"/>
                  <a:pt x="2506" y="14676"/>
                  <a:pt x="2803" y="14676"/>
                </a:cubicBezTo>
                <a:lnTo>
                  <a:pt x="6067" y="14676"/>
                </a:lnTo>
                <a:lnTo>
                  <a:pt x="6067" y="20674"/>
                </a:lnTo>
                <a:cubicBezTo>
                  <a:pt x="6067" y="21185"/>
                  <a:pt x="6972" y="21600"/>
                  <a:pt x="8087" y="21600"/>
                </a:cubicBezTo>
                <a:cubicBezTo>
                  <a:pt x="9203" y="21600"/>
                  <a:pt x="10104" y="21185"/>
                  <a:pt x="10104" y="20674"/>
                </a:cubicBezTo>
                <a:lnTo>
                  <a:pt x="10104" y="14676"/>
                </a:lnTo>
                <a:cubicBezTo>
                  <a:pt x="10326" y="14676"/>
                  <a:pt x="10531" y="14676"/>
                  <a:pt x="10608" y="14676"/>
                </a:cubicBezTo>
                <a:cubicBezTo>
                  <a:pt x="10695" y="14676"/>
                  <a:pt x="10945" y="14676"/>
                  <a:pt x="11201" y="14676"/>
                </a:cubicBezTo>
                <a:lnTo>
                  <a:pt x="11201" y="20674"/>
                </a:lnTo>
                <a:cubicBezTo>
                  <a:pt x="11201" y="21185"/>
                  <a:pt x="12105" y="21600"/>
                  <a:pt x="13221" y="21600"/>
                </a:cubicBezTo>
                <a:cubicBezTo>
                  <a:pt x="14337" y="21600"/>
                  <a:pt x="15238" y="21185"/>
                  <a:pt x="15238" y="20674"/>
                </a:cubicBezTo>
                <a:lnTo>
                  <a:pt x="15238" y="14676"/>
                </a:lnTo>
                <a:lnTo>
                  <a:pt x="18410" y="14676"/>
                </a:lnTo>
                <a:cubicBezTo>
                  <a:pt x="18706" y="14676"/>
                  <a:pt x="18887" y="14570"/>
                  <a:pt x="18811" y="14438"/>
                </a:cubicBezTo>
                <a:lnTo>
                  <a:pt x="14237" y="6558"/>
                </a:lnTo>
                <a:cubicBezTo>
                  <a:pt x="14233" y="6551"/>
                  <a:pt x="14227" y="6544"/>
                  <a:pt x="14222" y="6537"/>
                </a:cubicBezTo>
                <a:lnTo>
                  <a:pt x="14932" y="6537"/>
                </a:lnTo>
                <a:lnTo>
                  <a:pt x="18656" y="12192"/>
                </a:lnTo>
                <a:cubicBezTo>
                  <a:pt x="18827" y="12463"/>
                  <a:pt x="19364" y="12638"/>
                  <a:pt x="19948" y="12638"/>
                </a:cubicBezTo>
                <a:cubicBezTo>
                  <a:pt x="20072" y="12638"/>
                  <a:pt x="20199" y="12631"/>
                  <a:pt x="20324" y="12614"/>
                </a:cubicBezTo>
                <a:cubicBezTo>
                  <a:pt x="21038" y="12519"/>
                  <a:pt x="21450" y="12177"/>
                  <a:pt x="21244" y="11850"/>
                </a:cubicBezTo>
                <a:lnTo>
                  <a:pt x="17037" y="5432"/>
                </a:lnTo>
                <a:lnTo>
                  <a:pt x="17022" y="5407"/>
                </a:lnTo>
                <a:cubicBezTo>
                  <a:pt x="16669" y="4924"/>
                  <a:pt x="15494" y="4112"/>
                  <a:pt x="13328" y="4112"/>
                </a:cubicBezTo>
                <a:cubicBezTo>
                  <a:pt x="13316" y="4112"/>
                  <a:pt x="13303" y="4112"/>
                  <a:pt x="13291" y="4112"/>
                </a:cubicBezTo>
                <a:lnTo>
                  <a:pt x="12768" y="4114"/>
                </a:lnTo>
                <a:cubicBezTo>
                  <a:pt x="12732" y="4113"/>
                  <a:pt x="12698" y="4109"/>
                  <a:pt x="12662" y="4109"/>
                </a:cubicBezTo>
                <a:lnTo>
                  <a:pt x="7859" y="4109"/>
                </a:lnTo>
                <a:close/>
                <a:moveTo>
                  <a:pt x="7859" y="4109"/>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0" name="AutoShape 2"/>
          <p:cNvSpPr/>
          <p:nvPr/>
        </p:nvSpPr>
        <p:spPr>
          <a:xfrm>
            <a:off x="4280040" y="449424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1" name="AutoShape 3"/>
          <p:cNvSpPr/>
          <p:nvPr/>
        </p:nvSpPr>
        <p:spPr>
          <a:xfrm>
            <a:off x="4876920" y="449568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2" name="AutoShape 4"/>
          <p:cNvSpPr/>
          <p:nvPr/>
        </p:nvSpPr>
        <p:spPr>
          <a:xfrm>
            <a:off x="5473800" y="449568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3" name="AutoShape 5"/>
          <p:cNvSpPr/>
          <p:nvPr/>
        </p:nvSpPr>
        <p:spPr>
          <a:xfrm>
            <a:off x="6070680" y="449568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4" name="AutoShape 6"/>
          <p:cNvSpPr/>
          <p:nvPr/>
        </p:nvSpPr>
        <p:spPr>
          <a:xfrm>
            <a:off x="6667560" y="449568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5" name="AutoShape 7"/>
          <p:cNvSpPr/>
          <p:nvPr/>
        </p:nvSpPr>
        <p:spPr>
          <a:xfrm>
            <a:off x="7264440" y="449568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6" name="AutoShape 8"/>
          <p:cNvSpPr/>
          <p:nvPr/>
        </p:nvSpPr>
        <p:spPr>
          <a:xfrm>
            <a:off x="7861320" y="449568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7" name="AutoShape 9"/>
          <p:cNvSpPr/>
          <p:nvPr/>
        </p:nvSpPr>
        <p:spPr>
          <a:xfrm>
            <a:off x="9194760" y="4508640"/>
            <a:ext cx="692280" cy="1530360"/>
          </a:xfrm>
          <a:custGeom>
            <a:avLst/>
            <a:gdLst/>
            <a:ahLst/>
            <a:rect l="l" t="t" r="r" b="b"/>
            <a:pathLst>
              <a:path w="21297" h="21600">
                <a:moveTo>
                  <a:pt x="10652" y="0"/>
                </a:moveTo>
                <a:cubicBezTo>
                  <a:pt x="9610" y="0"/>
                  <a:pt x="8570" y="182"/>
                  <a:pt x="7774" y="547"/>
                </a:cubicBezTo>
                <a:cubicBezTo>
                  <a:pt x="6184" y="1276"/>
                  <a:pt x="6184" y="2458"/>
                  <a:pt x="7774" y="3188"/>
                </a:cubicBezTo>
                <a:cubicBezTo>
                  <a:pt x="9365" y="3917"/>
                  <a:pt x="11943" y="3917"/>
                  <a:pt x="13534" y="3188"/>
                </a:cubicBezTo>
                <a:cubicBezTo>
                  <a:pt x="15124" y="2458"/>
                  <a:pt x="15124" y="1276"/>
                  <a:pt x="13534" y="547"/>
                </a:cubicBezTo>
                <a:cubicBezTo>
                  <a:pt x="12738" y="182"/>
                  <a:pt x="11695" y="0"/>
                  <a:pt x="10652" y="0"/>
                </a:cubicBezTo>
                <a:close/>
                <a:moveTo>
                  <a:pt x="7859" y="4109"/>
                </a:moveTo>
                <a:cubicBezTo>
                  <a:pt x="5671" y="4109"/>
                  <a:pt x="4499" y="4934"/>
                  <a:pt x="4153" y="5420"/>
                </a:cubicBezTo>
                <a:lnTo>
                  <a:pt x="50" y="11877"/>
                </a:lnTo>
                <a:cubicBezTo>
                  <a:pt x="-150" y="12205"/>
                  <a:pt x="268" y="12546"/>
                  <a:pt x="985" y="12638"/>
                </a:cubicBezTo>
                <a:cubicBezTo>
                  <a:pt x="1106" y="12653"/>
                  <a:pt x="1229" y="12661"/>
                  <a:pt x="1349" y="12661"/>
                </a:cubicBezTo>
                <a:cubicBezTo>
                  <a:pt x="1938" y="12661"/>
                  <a:pt x="2478" y="12482"/>
                  <a:pt x="2644" y="12209"/>
                </a:cubicBezTo>
                <a:lnTo>
                  <a:pt x="6269" y="6537"/>
                </a:lnTo>
                <a:lnTo>
                  <a:pt x="6994" y="6537"/>
                </a:lnTo>
                <a:cubicBezTo>
                  <a:pt x="6989" y="6544"/>
                  <a:pt x="6983" y="6551"/>
                  <a:pt x="6979" y="6558"/>
                </a:cubicBezTo>
                <a:lnTo>
                  <a:pt x="2405" y="14438"/>
                </a:lnTo>
                <a:cubicBezTo>
                  <a:pt x="2329" y="14570"/>
                  <a:pt x="2506" y="14676"/>
                  <a:pt x="2803" y="14676"/>
                </a:cubicBezTo>
                <a:lnTo>
                  <a:pt x="6067" y="14676"/>
                </a:lnTo>
                <a:lnTo>
                  <a:pt x="6067" y="20674"/>
                </a:lnTo>
                <a:cubicBezTo>
                  <a:pt x="6067" y="21185"/>
                  <a:pt x="6972" y="21600"/>
                  <a:pt x="8087" y="21600"/>
                </a:cubicBezTo>
                <a:cubicBezTo>
                  <a:pt x="9203" y="21600"/>
                  <a:pt x="10104" y="21185"/>
                  <a:pt x="10104" y="20674"/>
                </a:cubicBezTo>
                <a:lnTo>
                  <a:pt x="10104" y="14676"/>
                </a:lnTo>
                <a:cubicBezTo>
                  <a:pt x="10326" y="14676"/>
                  <a:pt x="10531" y="14676"/>
                  <a:pt x="10608" y="14676"/>
                </a:cubicBezTo>
                <a:cubicBezTo>
                  <a:pt x="10695" y="14676"/>
                  <a:pt x="10945" y="14676"/>
                  <a:pt x="11201" y="14676"/>
                </a:cubicBezTo>
                <a:lnTo>
                  <a:pt x="11201" y="20674"/>
                </a:lnTo>
                <a:cubicBezTo>
                  <a:pt x="11201" y="21185"/>
                  <a:pt x="12105" y="21600"/>
                  <a:pt x="13221" y="21600"/>
                </a:cubicBezTo>
                <a:cubicBezTo>
                  <a:pt x="14337" y="21600"/>
                  <a:pt x="15238" y="21185"/>
                  <a:pt x="15238" y="20674"/>
                </a:cubicBezTo>
                <a:lnTo>
                  <a:pt x="15238" y="14676"/>
                </a:lnTo>
                <a:lnTo>
                  <a:pt x="18410" y="14676"/>
                </a:lnTo>
                <a:cubicBezTo>
                  <a:pt x="18706" y="14676"/>
                  <a:pt x="18887" y="14570"/>
                  <a:pt x="18811" y="14438"/>
                </a:cubicBezTo>
                <a:lnTo>
                  <a:pt x="14237" y="6558"/>
                </a:lnTo>
                <a:cubicBezTo>
                  <a:pt x="14233" y="6551"/>
                  <a:pt x="14227" y="6544"/>
                  <a:pt x="14222" y="6537"/>
                </a:cubicBezTo>
                <a:lnTo>
                  <a:pt x="14932" y="6537"/>
                </a:lnTo>
                <a:lnTo>
                  <a:pt x="18656" y="12192"/>
                </a:lnTo>
                <a:cubicBezTo>
                  <a:pt x="18827" y="12463"/>
                  <a:pt x="19364" y="12638"/>
                  <a:pt x="19948" y="12638"/>
                </a:cubicBezTo>
                <a:cubicBezTo>
                  <a:pt x="20072" y="12638"/>
                  <a:pt x="20199" y="12631"/>
                  <a:pt x="20324" y="12614"/>
                </a:cubicBezTo>
                <a:cubicBezTo>
                  <a:pt x="21038" y="12519"/>
                  <a:pt x="21450" y="12177"/>
                  <a:pt x="21244" y="11850"/>
                </a:cubicBezTo>
                <a:lnTo>
                  <a:pt x="17037" y="5432"/>
                </a:lnTo>
                <a:lnTo>
                  <a:pt x="17022" y="5407"/>
                </a:lnTo>
                <a:cubicBezTo>
                  <a:pt x="16669" y="4924"/>
                  <a:pt x="15494" y="4112"/>
                  <a:pt x="13328" y="4112"/>
                </a:cubicBezTo>
                <a:cubicBezTo>
                  <a:pt x="13316" y="4112"/>
                  <a:pt x="13303" y="4112"/>
                  <a:pt x="13291" y="4112"/>
                </a:cubicBezTo>
                <a:lnTo>
                  <a:pt x="12768" y="4114"/>
                </a:lnTo>
                <a:cubicBezTo>
                  <a:pt x="12732" y="4113"/>
                  <a:pt x="12698" y="4109"/>
                  <a:pt x="12662" y="4109"/>
                </a:cubicBezTo>
                <a:lnTo>
                  <a:pt x="7859" y="4109"/>
                </a:lnTo>
                <a:close/>
                <a:moveTo>
                  <a:pt x="7859" y="4109"/>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28" name="AutoShape 10"/>
          <p:cNvSpPr/>
          <p:nvPr/>
        </p:nvSpPr>
        <p:spPr>
          <a:xfrm>
            <a:off x="9906120" y="4495680"/>
            <a:ext cx="691920" cy="1530360"/>
          </a:xfrm>
          <a:custGeom>
            <a:avLst/>
            <a:gdLst/>
            <a:ahLst/>
            <a:rect l="l" t="t" r="r" b="b"/>
            <a:pathLst>
              <a:path w="21297" h="21600">
                <a:moveTo>
                  <a:pt x="10652" y="0"/>
                </a:moveTo>
                <a:cubicBezTo>
                  <a:pt x="9610" y="0"/>
                  <a:pt x="8570" y="182"/>
                  <a:pt x="7774" y="547"/>
                </a:cubicBezTo>
                <a:cubicBezTo>
                  <a:pt x="6184" y="1276"/>
                  <a:pt x="6184" y="2458"/>
                  <a:pt x="7774" y="3188"/>
                </a:cubicBezTo>
                <a:cubicBezTo>
                  <a:pt x="9365" y="3917"/>
                  <a:pt x="11943" y="3917"/>
                  <a:pt x="13534" y="3188"/>
                </a:cubicBezTo>
                <a:cubicBezTo>
                  <a:pt x="15124" y="2458"/>
                  <a:pt x="15124" y="1276"/>
                  <a:pt x="13534" y="547"/>
                </a:cubicBezTo>
                <a:cubicBezTo>
                  <a:pt x="12738" y="182"/>
                  <a:pt x="11695" y="0"/>
                  <a:pt x="10652" y="0"/>
                </a:cubicBezTo>
                <a:close/>
                <a:moveTo>
                  <a:pt x="7859" y="4109"/>
                </a:moveTo>
                <a:cubicBezTo>
                  <a:pt x="5671" y="4109"/>
                  <a:pt x="4499" y="4934"/>
                  <a:pt x="4153" y="5420"/>
                </a:cubicBezTo>
                <a:lnTo>
                  <a:pt x="50" y="11877"/>
                </a:lnTo>
                <a:cubicBezTo>
                  <a:pt x="-150" y="12205"/>
                  <a:pt x="268" y="12546"/>
                  <a:pt x="985" y="12638"/>
                </a:cubicBezTo>
                <a:cubicBezTo>
                  <a:pt x="1106" y="12653"/>
                  <a:pt x="1229" y="12661"/>
                  <a:pt x="1349" y="12661"/>
                </a:cubicBezTo>
                <a:cubicBezTo>
                  <a:pt x="1938" y="12661"/>
                  <a:pt x="2478" y="12482"/>
                  <a:pt x="2644" y="12209"/>
                </a:cubicBezTo>
                <a:lnTo>
                  <a:pt x="6269" y="6537"/>
                </a:lnTo>
                <a:lnTo>
                  <a:pt x="6994" y="6537"/>
                </a:lnTo>
                <a:cubicBezTo>
                  <a:pt x="6989" y="6544"/>
                  <a:pt x="6983" y="6551"/>
                  <a:pt x="6979" y="6558"/>
                </a:cubicBezTo>
                <a:lnTo>
                  <a:pt x="2405" y="14438"/>
                </a:lnTo>
                <a:cubicBezTo>
                  <a:pt x="2329" y="14570"/>
                  <a:pt x="2506" y="14676"/>
                  <a:pt x="2803" y="14676"/>
                </a:cubicBezTo>
                <a:lnTo>
                  <a:pt x="6067" y="14676"/>
                </a:lnTo>
                <a:lnTo>
                  <a:pt x="6067" y="20674"/>
                </a:lnTo>
                <a:cubicBezTo>
                  <a:pt x="6067" y="21185"/>
                  <a:pt x="6972" y="21600"/>
                  <a:pt x="8087" y="21600"/>
                </a:cubicBezTo>
                <a:cubicBezTo>
                  <a:pt x="9203" y="21600"/>
                  <a:pt x="10104" y="21185"/>
                  <a:pt x="10104" y="20674"/>
                </a:cubicBezTo>
                <a:lnTo>
                  <a:pt x="10104" y="14676"/>
                </a:lnTo>
                <a:cubicBezTo>
                  <a:pt x="10326" y="14676"/>
                  <a:pt x="10531" y="14676"/>
                  <a:pt x="10608" y="14676"/>
                </a:cubicBezTo>
                <a:cubicBezTo>
                  <a:pt x="10695" y="14676"/>
                  <a:pt x="10945" y="14676"/>
                  <a:pt x="11201" y="14676"/>
                </a:cubicBezTo>
                <a:lnTo>
                  <a:pt x="11201" y="20674"/>
                </a:lnTo>
                <a:cubicBezTo>
                  <a:pt x="11201" y="21185"/>
                  <a:pt x="12105" y="21600"/>
                  <a:pt x="13221" y="21600"/>
                </a:cubicBezTo>
                <a:cubicBezTo>
                  <a:pt x="14337" y="21600"/>
                  <a:pt x="15238" y="21185"/>
                  <a:pt x="15238" y="20674"/>
                </a:cubicBezTo>
                <a:lnTo>
                  <a:pt x="15238" y="14676"/>
                </a:lnTo>
                <a:lnTo>
                  <a:pt x="18410" y="14676"/>
                </a:lnTo>
                <a:cubicBezTo>
                  <a:pt x="18706" y="14676"/>
                  <a:pt x="18887" y="14570"/>
                  <a:pt x="18811" y="14438"/>
                </a:cubicBezTo>
                <a:lnTo>
                  <a:pt x="14237" y="6558"/>
                </a:lnTo>
                <a:cubicBezTo>
                  <a:pt x="14233" y="6551"/>
                  <a:pt x="14227" y="6544"/>
                  <a:pt x="14222" y="6537"/>
                </a:cubicBezTo>
                <a:lnTo>
                  <a:pt x="14932" y="6537"/>
                </a:lnTo>
                <a:lnTo>
                  <a:pt x="18656" y="12192"/>
                </a:lnTo>
                <a:cubicBezTo>
                  <a:pt x="18827" y="12463"/>
                  <a:pt x="19364" y="12638"/>
                  <a:pt x="19948" y="12638"/>
                </a:cubicBezTo>
                <a:cubicBezTo>
                  <a:pt x="20072" y="12638"/>
                  <a:pt x="20199" y="12631"/>
                  <a:pt x="20324" y="12614"/>
                </a:cubicBezTo>
                <a:cubicBezTo>
                  <a:pt x="21038" y="12519"/>
                  <a:pt x="21450" y="12177"/>
                  <a:pt x="21244" y="11850"/>
                </a:cubicBezTo>
                <a:lnTo>
                  <a:pt x="17037" y="5432"/>
                </a:lnTo>
                <a:lnTo>
                  <a:pt x="17022" y="5407"/>
                </a:lnTo>
                <a:cubicBezTo>
                  <a:pt x="16669" y="4924"/>
                  <a:pt x="15494" y="4112"/>
                  <a:pt x="13328" y="4112"/>
                </a:cubicBezTo>
                <a:cubicBezTo>
                  <a:pt x="13316" y="4112"/>
                  <a:pt x="13303" y="4112"/>
                  <a:pt x="13291" y="4112"/>
                </a:cubicBezTo>
                <a:lnTo>
                  <a:pt x="12768" y="4114"/>
                </a:lnTo>
                <a:cubicBezTo>
                  <a:pt x="12732" y="4113"/>
                  <a:pt x="12698" y="4109"/>
                  <a:pt x="12662" y="4109"/>
                </a:cubicBezTo>
                <a:lnTo>
                  <a:pt x="7859" y="4109"/>
                </a:lnTo>
                <a:close/>
                <a:moveTo>
                  <a:pt x="7859" y="4109"/>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nvGrpSpPr>
          <p:cNvPr id="229" name="Group 13"/>
          <p:cNvGrpSpPr/>
          <p:nvPr/>
        </p:nvGrpSpPr>
        <p:grpSpPr>
          <a:xfrm>
            <a:off x="1198440" y="4330800"/>
            <a:ext cx="3403080" cy="1702800"/>
            <a:chOff x="1198440" y="4330800"/>
            <a:chExt cx="3403080" cy="1702800"/>
          </a:xfrm>
        </p:grpSpPr>
        <p:sp>
          <p:nvSpPr>
            <p:cNvPr id="230" name="AutoShape 11"/>
            <p:cNvSpPr/>
            <p:nvPr/>
          </p:nvSpPr>
          <p:spPr>
            <a:xfrm>
              <a:off x="1198440" y="4330800"/>
              <a:ext cx="1728720" cy="170280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b7cc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1" name="Line 12"/>
            <p:cNvSpPr/>
            <p:nvPr/>
          </p:nvSpPr>
          <p:spPr>
            <a:xfrm flipH="1">
              <a:off x="2529000" y="5182560"/>
              <a:ext cx="2072520" cy="0"/>
            </a:xfrm>
            <a:prstGeom prst="line">
              <a:avLst/>
            </a:prstGeom>
            <a:ln w="28440">
              <a:solidFill>
                <a:srgbClr val="b7cc7c"/>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232" name="Rectangle 14"/>
          <p:cNvSpPr/>
          <p:nvPr/>
        </p:nvSpPr>
        <p:spPr>
          <a:xfrm>
            <a:off x="1584000" y="4765680"/>
            <a:ext cx="970200" cy="731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Cambria Bold"/>
                <a:ea typeface="ＭＳ Ｐゴシック"/>
              </a:rPr>
              <a:t>70</a:t>
            </a:r>
            <a:r>
              <a:rPr b="0" lang="en-US" sz="2400" spc="-1" strike="noStrike">
                <a:solidFill>
                  <a:srgbClr val="595959"/>
                </a:solidFill>
                <a:latin typeface="Cambria"/>
                <a:ea typeface="ＭＳ Ｐゴシック"/>
              </a:rPr>
              <a:t>%</a:t>
            </a:r>
            <a:endParaRPr b="0" lang="en-US" sz="2400" spc="-1" strike="noStrike">
              <a:solidFill>
                <a:srgbClr val="595959"/>
              </a:solidFill>
              <a:latin typeface="Lora"/>
            </a:endParaRPr>
          </a:p>
        </p:txBody>
      </p:sp>
      <p:sp>
        <p:nvSpPr>
          <p:cNvPr id="233" name="AutoShape 15"/>
          <p:cNvSpPr/>
          <p:nvPr/>
        </p:nvSpPr>
        <p:spPr>
          <a:xfrm>
            <a:off x="8508960" y="6616800"/>
            <a:ext cx="692280" cy="1530360"/>
          </a:xfrm>
          <a:custGeom>
            <a:avLst/>
            <a:gdLst/>
            <a:ahLst/>
            <a:rect l="l" t="t" r="r" b="b"/>
            <a:pathLst>
              <a:path w="21297" h="21600">
                <a:moveTo>
                  <a:pt x="10652" y="0"/>
                </a:moveTo>
                <a:cubicBezTo>
                  <a:pt x="9610" y="0"/>
                  <a:pt x="8570" y="182"/>
                  <a:pt x="7774" y="547"/>
                </a:cubicBezTo>
                <a:cubicBezTo>
                  <a:pt x="6184" y="1276"/>
                  <a:pt x="6184" y="2458"/>
                  <a:pt x="7774" y="3188"/>
                </a:cubicBezTo>
                <a:cubicBezTo>
                  <a:pt x="9365" y="3917"/>
                  <a:pt x="11943" y="3917"/>
                  <a:pt x="13534" y="3188"/>
                </a:cubicBezTo>
                <a:cubicBezTo>
                  <a:pt x="15124" y="2458"/>
                  <a:pt x="15124" y="1276"/>
                  <a:pt x="13534" y="547"/>
                </a:cubicBezTo>
                <a:cubicBezTo>
                  <a:pt x="12738" y="182"/>
                  <a:pt x="11695" y="0"/>
                  <a:pt x="10652" y="0"/>
                </a:cubicBezTo>
                <a:close/>
                <a:moveTo>
                  <a:pt x="7859" y="4109"/>
                </a:moveTo>
                <a:cubicBezTo>
                  <a:pt x="5671" y="4109"/>
                  <a:pt x="4499" y="4934"/>
                  <a:pt x="4153" y="5420"/>
                </a:cubicBezTo>
                <a:lnTo>
                  <a:pt x="50" y="11877"/>
                </a:lnTo>
                <a:cubicBezTo>
                  <a:pt x="-150" y="12205"/>
                  <a:pt x="268" y="12546"/>
                  <a:pt x="985" y="12638"/>
                </a:cubicBezTo>
                <a:cubicBezTo>
                  <a:pt x="1106" y="12653"/>
                  <a:pt x="1229" y="12661"/>
                  <a:pt x="1349" y="12661"/>
                </a:cubicBezTo>
                <a:cubicBezTo>
                  <a:pt x="1938" y="12661"/>
                  <a:pt x="2478" y="12482"/>
                  <a:pt x="2644" y="12209"/>
                </a:cubicBezTo>
                <a:lnTo>
                  <a:pt x="6269" y="6537"/>
                </a:lnTo>
                <a:lnTo>
                  <a:pt x="6994" y="6537"/>
                </a:lnTo>
                <a:cubicBezTo>
                  <a:pt x="6989" y="6544"/>
                  <a:pt x="6983" y="6551"/>
                  <a:pt x="6979" y="6558"/>
                </a:cubicBezTo>
                <a:lnTo>
                  <a:pt x="2405" y="14438"/>
                </a:lnTo>
                <a:cubicBezTo>
                  <a:pt x="2329" y="14570"/>
                  <a:pt x="2506" y="14676"/>
                  <a:pt x="2803" y="14676"/>
                </a:cubicBezTo>
                <a:lnTo>
                  <a:pt x="6067" y="14676"/>
                </a:lnTo>
                <a:lnTo>
                  <a:pt x="6067" y="20674"/>
                </a:lnTo>
                <a:cubicBezTo>
                  <a:pt x="6067" y="21185"/>
                  <a:pt x="6972" y="21600"/>
                  <a:pt x="8087" y="21600"/>
                </a:cubicBezTo>
                <a:cubicBezTo>
                  <a:pt x="9203" y="21600"/>
                  <a:pt x="10104" y="21185"/>
                  <a:pt x="10104" y="20674"/>
                </a:cubicBezTo>
                <a:lnTo>
                  <a:pt x="10104" y="14676"/>
                </a:lnTo>
                <a:cubicBezTo>
                  <a:pt x="10326" y="14676"/>
                  <a:pt x="10531" y="14676"/>
                  <a:pt x="10608" y="14676"/>
                </a:cubicBezTo>
                <a:cubicBezTo>
                  <a:pt x="10695" y="14676"/>
                  <a:pt x="10945" y="14676"/>
                  <a:pt x="11201" y="14676"/>
                </a:cubicBezTo>
                <a:lnTo>
                  <a:pt x="11201" y="20674"/>
                </a:lnTo>
                <a:cubicBezTo>
                  <a:pt x="11201" y="21185"/>
                  <a:pt x="12105" y="21600"/>
                  <a:pt x="13221" y="21600"/>
                </a:cubicBezTo>
                <a:cubicBezTo>
                  <a:pt x="14337" y="21600"/>
                  <a:pt x="15238" y="21185"/>
                  <a:pt x="15238" y="20674"/>
                </a:cubicBezTo>
                <a:lnTo>
                  <a:pt x="15238" y="14676"/>
                </a:lnTo>
                <a:lnTo>
                  <a:pt x="18410" y="14676"/>
                </a:lnTo>
                <a:cubicBezTo>
                  <a:pt x="18706" y="14676"/>
                  <a:pt x="18887" y="14570"/>
                  <a:pt x="18811" y="14438"/>
                </a:cubicBezTo>
                <a:lnTo>
                  <a:pt x="14237" y="6558"/>
                </a:lnTo>
                <a:cubicBezTo>
                  <a:pt x="14233" y="6551"/>
                  <a:pt x="14227" y="6544"/>
                  <a:pt x="14222" y="6537"/>
                </a:cubicBezTo>
                <a:lnTo>
                  <a:pt x="14932" y="6537"/>
                </a:lnTo>
                <a:lnTo>
                  <a:pt x="18656" y="12192"/>
                </a:lnTo>
                <a:cubicBezTo>
                  <a:pt x="18827" y="12463"/>
                  <a:pt x="19364" y="12638"/>
                  <a:pt x="19948" y="12638"/>
                </a:cubicBezTo>
                <a:cubicBezTo>
                  <a:pt x="20072" y="12638"/>
                  <a:pt x="20199" y="12631"/>
                  <a:pt x="20324" y="12614"/>
                </a:cubicBezTo>
                <a:cubicBezTo>
                  <a:pt x="21038" y="12519"/>
                  <a:pt x="21450" y="12177"/>
                  <a:pt x="21244" y="11850"/>
                </a:cubicBezTo>
                <a:lnTo>
                  <a:pt x="17037" y="5432"/>
                </a:lnTo>
                <a:lnTo>
                  <a:pt x="17022" y="5407"/>
                </a:lnTo>
                <a:cubicBezTo>
                  <a:pt x="16669" y="4924"/>
                  <a:pt x="15494" y="4112"/>
                  <a:pt x="13328" y="4112"/>
                </a:cubicBezTo>
                <a:cubicBezTo>
                  <a:pt x="13316" y="4112"/>
                  <a:pt x="13303" y="4112"/>
                  <a:pt x="13291" y="4112"/>
                </a:cubicBezTo>
                <a:lnTo>
                  <a:pt x="12768" y="4114"/>
                </a:lnTo>
                <a:cubicBezTo>
                  <a:pt x="12732" y="4113"/>
                  <a:pt x="12698" y="4109"/>
                  <a:pt x="12662" y="4109"/>
                </a:cubicBezTo>
                <a:lnTo>
                  <a:pt x="7859" y="4109"/>
                </a:lnTo>
                <a:close/>
                <a:moveTo>
                  <a:pt x="7859" y="4109"/>
                </a:moveTo>
              </a:path>
            </a:pathLst>
          </a:custGeom>
          <a:solidFill>
            <a:srgbClr val="9ab737"/>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4" name="AutoShape 16"/>
          <p:cNvSpPr/>
          <p:nvPr/>
        </p:nvSpPr>
        <p:spPr>
          <a:xfrm>
            <a:off x="4292640" y="660384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5" name="AutoShape 17"/>
          <p:cNvSpPr/>
          <p:nvPr/>
        </p:nvSpPr>
        <p:spPr>
          <a:xfrm>
            <a:off x="4889520" y="660384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6" name="AutoShape 18"/>
          <p:cNvSpPr/>
          <p:nvPr/>
        </p:nvSpPr>
        <p:spPr>
          <a:xfrm>
            <a:off x="5486400" y="660384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7" name="AutoShape 19"/>
          <p:cNvSpPr/>
          <p:nvPr/>
        </p:nvSpPr>
        <p:spPr>
          <a:xfrm>
            <a:off x="6083280" y="660384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8" name="AutoShape 20"/>
          <p:cNvSpPr/>
          <p:nvPr/>
        </p:nvSpPr>
        <p:spPr>
          <a:xfrm>
            <a:off x="6680160" y="660384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39" name="AutoShape 21"/>
          <p:cNvSpPr/>
          <p:nvPr/>
        </p:nvSpPr>
        <p:spPr>
          <a:xfrm>
            <a:off x="7277040" y="660384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40" name="AutoShape 22"/>
          <p:cNvSpPr/>
          <p:nvPr/>
        </p:nvSpPr>
        <p:spPr>
          <a:xfrm>
            <a:off x="7873920" y="660384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59"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41" name="AutoShape 23"/>
          <p:cNvSpPr/>
          <p:nvPr/>
        </p:nvSpPr>
        <p:spPr>
          <a:xfrm>
            <a:off x="444600" y="1955880"/>
            <a:ext cx="12102840" cy="1790640"/>
          </a:xfrm>
          <a:prstGeom prst="roundRect">
            <a:avLst>
              <a:gd name="adj" fmla="val 10634"/>
            </a:avLst>
          </a:prstGeom>
          <a:solidFill>
            <a:srgbClr val="9ab737">
              <a:alpha val="9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nvGrpSpPr>
          <p:cNvPr id="242" name="Group 26"/>
          <p:cNvGrpSpPr/>
          <p:nvPr/>
        </p:nvGrpSpPr>
        <p:grpSpPr>
          <a:xfrm>
            <a:off x="1206360" y="6438960"/>
            <a:ext cx="7648200" cy="1701720"/>
            <a:chOff x="1206360" y="6438960"/>
            <a:chExt cx="7648200" cy="1701720"/>
          </a:xfrm>
        </p:grpSpPr>
        <p:sp>
          <p:nvSpPr>
            <p:cNvPr id="243" name="AutoShape 24"/>
            <p:cNvSpPr/>
            <p:nvPr/>
          </p:nvSpPr>
          <p:spPr>
            <a:xfrm>
              <a:off x="1206360" y="6438960"/>
              <a:ext cx="1717560" cy="170172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b7cc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44" name="Line 25"/>
            <p:cNvSpPr/>
            <p:nvPr/>
          </p:nvSpPr>
          <p:spPr>
            <a:xfrm flipH="1">
              <a:off x="2528640" y="7288200"/>
              <a:ext cx="6325920" cy="1800"/>
            </a:xfrm>
            <a:prstGeom prst="line">
              <a:avLst/>
            </a:prstGeom>
            <a:ln w="28440">
              <a:solidFill>
                <a:srgbClr val="b7cc7c"/>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grpSp>
      <p:sp>
        <p:nvSpPr>
          <p:cNvPr id="245" name="Rectangle 27"/>
          <p:cNvSpPr/>
          <p:nvPr/>
        </p:nvSpPr>
        <p:spPr>
          <a:xfrm>
            <a:off x="1595160" y="6853320"/>
            <a:ext cx="970200" cy="731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Cambria Bold"/>
                <a:ea typeface="ＭＳ Ｐゴシック"/>
              </a:rPr>
              <a:t>10</a:t>
            </a:r>
            <a:r>
              <a:rPr b="0" lang="en-US" sz="2400" spc="-1" strike="noStrike">
                <a:solidFill>
                  <a:srgbClr val="595959"/>
                </a:solidFill>
                <a:latin typeface="Cambria"/>
                <a:ea typeface="ＭＳ Ｐゴシック"/>
              </a:rPr>
              <a:t>%</a:t>
            </a:r>
            <a:endParaRPr b="0" lang="en-US" sz="2400" spc="-1" strike="noStrike">
              <a:solidFill>
                <a:srgbClr val="595959"/>
              </a:solidFill>
              <a:latin typeface="Lora"/>
            </a:endParaRPr>
          </a:p>
        </p:txBody>
      </p:sp>
      <p:sp>
        <p:nvSpPr>
          <p:cNvPr id="246" name="AutoShape 28"/>
          <p:cNvSpPr/>
          <p:nvPr/>
        </p:nvSpPr>
        <p:spPr>
          <a:xfrm>
            <a:off x="9258480" y="660384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47" name="AutoShape 29"/>
          <p:cNvSpPr/>
          <p:nvPr/>
        </p:nvSpPr>
        <p:spPr>
          <a:xfrm>
            <a:off x="9880560" y="6603840"/>
            <a:ext cx="56664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5a697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Lora"/>
            </a:endParaRPr>
          </a:p>
        </p:txBody>
      </p:sp>
      <p:sp>
        <p:nvSpPr>
          <p:cNvPr id="248" name="Rectangle 30"/>
          <p:cNvSpPr/>
          <p:nvPr/>
        </p:nvSpPr>
        <p:spPr>
          <a:xfrm>
            <a:off x="861840" y="2068560"/>
            <a:ext cx="11273040" cy="13269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Bold"/>
                <a:ea typeface="ＭＳ Ｐゴシック"/>
              </a:rPr>
              <a:t>Some cool things here.</a:t>
            </a:r>
            <a:endParaRPr b="0" lang="en-US" sz="2200" spc="-1" strike="noStrike">
              <a:solidFill>
                <a:srgbClr val="595959"/>
              </a:solidFill>
              <a:latin typeface="Lor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Lora"/>
                <a:ea typeface="ＭＳ Ｐゴシック"/>
              </a:rPr>
              <a:t>Phasellus nec dui accumsan. Lorem ipsum dolor sit amet, consectetur adipiscing elit. Suspendisse hendrerit fermentum arcu, nec efficitur sem ultrices id. </a:t>
            </a:r>
            <a:endParaRPr b="0" lang="en-US" sz="2200" spc="-1" strike="noStrike">
              <a:solidFill>
                <a:srgbClr val="595959"/>
              </a:solidFill>
              <a:latin typeface="Lora"/>
            </a:endParaRPr>
          </a:p>
        </p:txBody>
      </p:sp>
      <p:sp>
        <p:nvSpPr>
          <p:cNvPr id="249" name="AutoShape 31"/>
          <p:cNvSpPr/>
          <p:nvPr/>
        </p:nvSpPr>
        <p:spPr>
          <a:xfrm>
            <a:off x="444600" y="533520"/>
            <a:ext cx="12102840" cy="1015920"/>
          </a:xfrm>
          <a:prstGeom prst="roundRect">
            <a:avLst>
              <a:gd name="adj" fmla="val 18750"/>
            </a:avLst>
          </a:prstGeom>
          <a:solidFill>
            <a:srgbClr val="16293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0" name="Rectangle 32"/>
          <p:cNvSpPr/>
          <p:nvPr/>
        </p:nvSpPr>
        <p:spPr>
          <a:xfrm>
            <a:off x="8820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Lorem Ipsum</a:t>
            </a:r>
            <a:endParaRPr b="0" lang="en-US" sz="4800" spc="-1" strike="noStrike">
              <a:solidFill>
                <a:srgbClr val="595959"/>
              </a:solidFill>
              <a:latin typeface="Lora"/>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272880" y="4083120"/>
            <a:ext cx="12152520" cy="158580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Visit </a:t>
            </a:r>
            <a:r>
              <a:rPr b="0" lang="en-US" sz="4800" spc="-1" strike="noStrike">
                <a:solidFill>
                  <a:srgbClr val="fdb04b"/>
                </a:solidFill>
                <a:latin typeface="Lora Bold"/>
                <a:ea typeface="ＭＳ Ｐゴシック"/>
              </a:rPr>
              <a:t>bestpowerpointtemplates.com</a:t>
            </a:r>
            <a:r>
              <a:rPr b="0" lang="en-US" sz="4800" spc="-1" strike="noStrike">
                <a:solidFill>
                  <a:srgbClr val="ffffff"/>
                </a:solidFill>
                <a:latin typeface="Lora Bold"/>
                <a:ea typeface="ＭＳ Ｐゴシック"/>
              </a:rPr>
              <a:t> </a:t>
            </a:r>
            <a:endParaRPr b="0" lang="en-US" sz="4800" spc="-1" strike="noStrike">
              <a:solidFill>
                <a:srgbClr val="595959"/>
              </a:solidFill>
              <a:latin typeface="Lor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ora Bold"/>
                <a:ea typeface="ＭＳ Ｐゴシック"/>
              </a:rPr>
              <a:t>for more free resources!</a:t>
            </a:r>
            <a:endParaRPr b="0" lang="en-US" sz="4800" spc="-1" strike="noStrike">
              <a:solidFill>
                <a:srgbClr val="595959"/>
              </a:solidFill>
              <a:latin typeface="Lora"/>
            </a:endParaRPr>
          </a:p>
        </p:txBody>
      </p:sp>
      <p:grpSp>
        <p:nvGrpSpPr>
          <p:cNvPr id="252" name="Group 7"/>
          <p:cNvGrpSpPr/>
          <p:nvPr/>
        </p:nvGrpSpPr>
        <p:grpSpPr>
          <a:xfrm>
            <a:off x="4216320" y="7378560"/>
            <a:ext cx="4572000" cy="787320"/>
            <a:chOff x="4216320" y="7378560"/>
            <a:chExt cx="4572000" cy="787320"/>
          </a:xfrm>
        </p:grpSpPr>
        <p:sp>
          <p:nvSpPr>
            <p:cNvPr id="253" name="Rectangle 2"/>
            <p:cNvSpPr/>
            <p:nvPr/>
          </p:nvSpPr>
          <p:spPr>
            <a:xfrm>
              <a:off x="4216320" y="7378560"/>
              <a:ext cx="914400" cy="787320"/>
            </a:xfrm>
            <a:prstGeom prst="rect">
              <a:avLst/>
            </a:prstGeom>
            <a:solidFill>
              <a:srgbClr val="5a69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4" name="Rectangle 3"/>
            <p:cNvSpPr/>
            <p:nvPr/>
          </p:nvSpPr>
          <p:spPr>
            <a:xfrm>
              <a:off x="5130720" y="7378560"/>
              <a:ext cx="914400" cy="787320"/>
            </a:xfrm>
            <a:prstGeom prst="rect">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5" name="Rectangle 4"/>
            <p:cNvSpPr/>
            <p:nvPr/>
          </p:nvSpPr>
          <p:spPr>
            <a:xfrm>
              <a:off x="6045120" y="7378560"/>
              <a:ext cx="914400" cy="787320"/>
            </a:xfrm>
            <a:prstGeom prst="rect">
              <a:avLst/>
            </a:prstGeom>
            <a:solidFill>
              <a:srgbClr val="9ab642"/>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6" name="Rectangle 5"/>
            <p:cNvSpPr/>
            <p:nvPr/>
          </p:nvSpPr>
          <p:spPr>
            <a:xfrm>
              <a:off x="6959520" y="7378560"/>
              <a:ext cx="914400" cy="787320"/>
            </a:xfrm>
            <a:prstGeom prst="rect">
              <a:avLst/>
            </a:prstGeom>
            <a:solidFill>
              <a:srgbClr val="b7cb8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sp>
          <p:nvSpPr>
            <p:cNvPr id="257" name="Rectangle 6"/>
            <p:cNvSpPr/>
            <p:nvPr/>
          </p:nvSpPr>
          <p:spPr>
            <a:xfrm>
              <a:off x="7873920" y="7378560"/>
              <a:ext cx="914400" cy="787320"/>
            </a:xfrm>
            <a:prstGeom prst="rect">
              <a:avLst/>
            </a:prstGeom>
            <a:solidFill>
              <a:srgbClr val="f0f0f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Lora"/>
              </a:endParaRPr>
            </a:p>
          </p:txBody>
        </p:sp>
      </p:grpSp>
      <p:sp>
        <p:nvSpPr>
          <p:cNvPr id="258" name="Rectangle 8"/>
          <p:cNvSpPr/>
          <p:nvPr/>
        </p:nvSpPr>
        <p:spPr>
          <a:xfrm>
            <a:off x="4260960" y="6985080"/>
            <a:ext cx="71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ora Bold"/>
                <a:ea typeface="ＭＳ Ｐゴシック"/>
              </a:rPr>
              <a:t>Neutral</a:t>
            </a:r>
            <a:endParaRPr b="0" lang="en-US" sz="1600" spc="-1" strike="noStrike">
              <a:solidFill>
                <a:srgbClr val="595959"/>
              </a:solidFill>
              <a:latin typeface="Lora"/>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8-10-28T18:38:11Z</dcterms:modified>
  <cp:revision>1</cp:revision>
  <dc:subject/>
  <dc:title>PowerPoint Presentation</dc:title>
</cp:coreProperties>
</file>