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12520" y="242640"/>
            <a:ext cx="11341080" cy="107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12520" y="1536840"/>
            <a:ext cx="11341080" cy="39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12520" y="5828760"/>
            <a:ext cx="11341080" cy="39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520" y="242640"/>
            <a:ext cx="11341080" cy="107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520" y="1536840"/>
            <a:ext cx="5534280" cy="39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24000" y="1536840"/>
            <a:ext cx="5534280" cy="39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12520" y="5828760"/>
            <a:ext cx="5534280" cy="39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24000" y="5828760"/>
            <a:ext cx="5534280" cy="39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12520" y="242640"/>
            <a:ext cx="11341080" cy="107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12520" y="1536840"/>
            <a:ext cx="3651480" cy="39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6880" y="1536840"/>
            <a:ext cx="3651480" cy="39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81240" y="1536840"/>
            <a:ext cx="3651480" cy="39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12520" y="5828760"/>
            <a:ext cx="3651480" cy="39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46880" y="5828760"/>
            <a:ext cx="3651480" cy="39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81240" y="5828760"/>
            <a:ext cx="3651480" cy="39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1E5C9-74B5-48FE-BF87-FC3E15EDD0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12520" y="242640"/>
            <a:ext cx="11341080" cy="107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12520" y="1536840"/>
            <a:ext cx="11341080" cy="82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44327-7693-4E3B-9999-188BC422B4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12520" y="242640"/>
            <a:ext cx="11341080" cy="107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12520" y="1536840"/>
            <a:ext cx="11341080" cy="82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93C81-E04B-4C94-BA50-674F5BC23A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12520" y="242640"/>
            <a:ext cx="11341080" cy="107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12520" y="1536840"/>
            <a:ext cx="5534280" cy="82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24000" y="1536840"/>
            <a:ext cx="5534280" cy="82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7568B-D5AA-404D-9364-AB072B8D5D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12520" y="242640"/>
            <a:ext cx="11341080" cy="107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81B61-E061-4499-8144-035D0CE51A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12520" y="254160"/>
            <a:ext cx="1134108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56783-0581-4FBA-817E-A072A39E77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12520" y="242640"/>
            <a:ext cx="11341080" cy="107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12520" y="1536840"/>
            <a:ext cx="5534280" cy="39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24000" y="1536840"/>
            <a:ext cx="5534280" cy="82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12520" y="5828760"/>
            <a:ext cx="5534280" cy="39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5E4FE-4F61-4136-85AC-939595AE5F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12520" y="242640"/>
            <a:ext cx="11341080" cy="107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12520" y="1536840"/>
            <a:ext cx="11341080" cy="82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12520" y="242640"/>
            <a:ext cx="11341080" cy="107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12520" y="1536840"/>
            <a:ext cx="5534280" cy="82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24000" y="1536840"/>
            <a:ext cx="5534280" cy="39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24000" y="5828760"/>
            <a:ext cx="5534280" cy="39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E3514-0D1F-4F57-BC1B-80A913BE7E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12520" y="242640"/>
            <a:ext cx="11341080" cy="107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12520" y="1536840"/>
            <a:ext cx="5534280" cy="39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24000" y="1536840"/>
            <a:ext cx="5534280" cy="39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12520" y="5828760"/>
            <a:ext cx="11341080" cy="39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C1083-E9B7-4FA8-AFFC-42AB24C95F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12520" y="242640"/>
            <a:ext cx="11341080" cy="107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12520" y="1536840"/>
            <a:ext cx="11341080" cy="39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812520" y="5828760"/>
            <a:ext cx="11341080" cy="39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D4755-2633-443D-9FE2-B880B9B24E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12520" y="242640"/>
            <a:ext cx="11341080" cy="107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12520" y="1536840"/>
            <a:ext cx="5534280" cy="39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24000" y="1536840"/>
            <a:ext cx="5534280" cy="39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12520" y="5828760"/>
            <a:ext cx="5534280" cy="39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24000" y="5828760"/>
            <a:ext cx="5534280" cy="39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02940-2CCE-44DF-AE63-B98CD1C9F3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12520" y="242640"/>
            <a:ext cx="11341080" cy="107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12520" y="1536840"/>
            <a:ext cx="3651480" cy="39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6880" y="1536840"/>
            <a:ext cx="3651480" cy="39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81240" y="1536840"/>
            <a:ext cx="3651480" cy="39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812520" y="5828760"/>
            <a:ext cx="3651480" cy="39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646880" y="5828760"/>
            <a:ext cx="3651480" cy="39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481240" y="5828760"/>
            <a:ext cx="3651480" cy="39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1B76C-C325-487E-89E2-F7D530F74B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12520" y="242640"/>
            <a:ext cx="11341080" cy="107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12520" y="1536840"/>
            <a:ext cx="11341080" cy="82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12520" y="242640"/>
            <a:ext cx="11341080" cy="107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12520" y="1536840"/>
            <a:ext cx="5534280" cy="82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24000" y="1536840"/>
            <a:ext cx="5534280" cy="82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520" y="242640"/>
            <a:ext cx="11341080" cy="107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12520" y="254160"/>
            <a:ext cx="1134108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12520" y="242640"/>
            <a:ext cx="11341080" cy="107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12520" y="1536840"/>
            <a:ext cx="5534280" cy="39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24000" y="1536840"/>
            <a:ext cx="5534280" cy="82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12520" y="5828760"/>
            <a:ext cx="5534280" cy="39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12520" y="242640"/>
            <a:ext cx="11341080" cy="107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12520" y="1536840"/>
            <a:ext cx="5534280" cy="82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24000" y="1536840"/>
            <a:ext cx="5534280" cy="39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24000" y="5828760"/>
            <a:ext cx="5534280" cy="39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12520" y="242640"/>
            <a:ext cx="11341080" cy="107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12520" y="1536840"/>
            <a:ext cx="5534280" cy="39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24000" y="1536840"/>
            <a:ext cx="5534280" cy="39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12520" y="5828760"/>
            <a:ext cx="11341080" cy="39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1257120"/>
            <a:ext cx="10261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1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5295960"/>
            <a:ext cx="1026144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algn="ctr">
              <a:buClr>
                <a:srgbClr val="ffffff"/>
              </a:buClr>
              <a:buFont typeface="Rockwel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2" algn="ctr">
              <a:buClr>
                <a:srgbClr val="ffffff"/>
              </a:buClr>
              <a:buFont typeface="Rockwel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3" algn="ctr">
              <a:buClr>
                <a:srgbClr val="ffffff"/>
              </a:buClr>
              <a:buFont typeface="Rockwel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4" algn="ctr">
              <a:buClr>
                <a:srgbClr val="ffffff"/>
              </a:buClr>
              <a:buFont typeface="Rockwel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5" algn="ctr">
              <a:buClr>
                <a:srgbClr val="ffffff"/>
              </a:buClr>
              <a:buFont typeface="Rockwel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6" algn="ctr">
              <a:buClr>
                <a:srgbClr val="ffffff"/>
              </a:buClr>
              <a:buFont typeface="Rockwel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12520" y="254160"/>
            <a:ext cx="1134108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1" lang="en-US" sz="6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812520" y="1536840"/>
            <a:ext cx="11341080" cy="821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82760" indent="-317520">
              <a:spcBef>
                <a:spcPts val="2401"/>
              </a:spcBef>
              <a:buClr>
                <a:srgbClr val="ffffff"/>
              </a:buClr>
              <a:buSzPct val="13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927000" indent="-317520">
              <a:spcBef>
                <a:spcPts val="2401"/>
              </a:spcBef>
              <a:buClr>
                <a:srgbClr val="ffffff"/>
              </a:buClr>
              <a:buSzPct val="13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1371600" indent="-317520">
              <a:spcBef>
                <a:spcPts val="2401"/>
              </a:spcBef>
              <a:buClr>
                <a:srgbClr val="ffffff"/>
              </a:buClr>
              <a:buSzPct val="13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3" marL="1816200" indent="-317520">
              <a:spcBef>
                <a:spcPts val="2401"/>
              </a:spcBef>
              <a:buClr>
                <a:srgbClr val="ffffff"/>
              </a:buClr>
              <a:buSzPct val="13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4" marL="2260440" indent="-317160">
              <a:spcBef>
                <a:spcPts val="2401"/>
              </a:spcBef>
              <a:buClr>
                <a:srgbClr val="ffffff"/>
              </a:buClr>
              <a:buSzPct val="13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5" marL="2260440" indent="-317160">
              <a:spcBef>
                <a:spcPts val="2401"/>
              </a:spcBef>
              <a:buClr>
                <a:srgbClr val="ffffff"/>
              </a:buClr>
              <a:buSzPct val="13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6" marL="2260440" indent="-317160">
              <a:spcBef>
                <a:spcPts val="2401"/>
              </a:spcBef>
              <a:buClr>
                <a:srgbClr val="ffffff"/>
              </a:buClr>
              <a:buSzPct val="13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6330960" y="9347040"/>
            <a:ext cx="3398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0808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5125-C2F0-4B14-937A-F9CFC782CA9A}" type="slidenum"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1257120"/>
            <a:ext cx="10261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Rockwell"/>
              </a:rPr>
              <a:t>Military Theme</a:t>
            </a:r>
            <a:endParaRPr b="1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5295960"/>
            <a:ext cx="1026144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Insert subtitle or slogan here</a:t>
            </a:r>
            <a:endParaRPr b="1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221000" y="8191440"/>
            <a:ext cx="4572000" cy="787320"/>
            <a:chOff x="4221000" y="8191440"/>
            <a:chExt cx="4572000" cy="787320"/>
          </a:xfrm>
        </p:grpSpPr>
        <p:sp>
          <p:nvSpPr>
            <p:cNvPr id="80" name=""/>
            <p:cNvSpPr/>
            <p:nvPr/>
          </p:nvSpPr>
          <p:spPr>
            <a:xfrm>
              <a:off x="4221000" y="8191440"/>
              <a:ext cx="914400" cy="787320"/>
            </a:xfrm>
            <a:prstGeom prst="rect">
              <a:avLst/>
            </a:prstGeom>
            <a:solidFill>
              <a:srgbClr val="2637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Rockwel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35400" y="8191440"/>
              <a:ext cx="914400" cy="787320"/>
            </a:xfrm>
            <a:prstGeom prst="rect">
              <a:avLst/>
            </a:prstGeom>
            <a:solidFill>
              <a:srgbClr val="5e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Rockwel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49800" y="8191440"/>
              <a:ext cx="914400" cy="787320"/>
            </a:xfrm>
            <a:prstGeom prst="rect">
              <a:avLst/>
            </a:prstGeom>
            <a:solidFill>
              <a:srgbClr val="d4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Rockwel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64200" y="8191440"/>
              <a:ext cx="914400" cy="787320"/>
            </a:xfrm>
            <a:prstGeom prst="rect">
              <a:avLst/>
            </a:prstGeom>
            <a:solidFill>
              <a:srgbClr val="e74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Rockwel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78600" y="8191440"/>
              <a:ext cx="914400" cy="787320"/>
            </a:xfrm>
            <a:prstGeom prst="rect">
              <a:avLst/>
            </a:prstGeom>
            <a:solidFill>
              <a:srgbClr val="b0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4197240" y="7797960"/>
            <a:ext cx="551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54360" bIns="54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lear Sans Medium"/>
                <a:ea typeface="Clear Sans Medium"/>
              </a:rPr>
              <a:t>Haiti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74720" y="3390840"/>
            <a:ext cx="3809880" cy="2844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394840" y="3390840"/>
            <a:ext cx="3809880" cy="2806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07960" y="9398160"/>
            <a:ext cx="274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Your footer text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812520" y="1663200"/>
            <a:ext cx="11341080" cy="149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84280" indent="-3175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3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d nisi. Nulla quis sem at nibh elementum imperdiet. Duis sagittis ipsum. Praesent mauris. Fusce nec tellus sed augue semper porta. Mauris massa. Vestibulum lacinia arcu eget nulla.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0" name=""/>
          <p:cNvSpPr/>
          <p:nvPr/>
        </p:nvSpPr>
        <p:spPr>
          <a:xfrm>
            <a:off x="1231920" y="6400800"/>
            <a:ext cx="31622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  <a:ea typeface="Rockwell"/>
              </a:rPr>
              <a:t>Adipiscing diam, a cursus ipsum ante quis turpis. Nulla facilisi. Ut fringilla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" name=""/>
          <p:cNvSpPr/>
          <p:nvPr/>
        </p:nvSpPr>
        <p:spPr>
          <a:xfrm>
            <a:off x="5143680" y="6413400"/>
            <a:ext cx="316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  <a:ea typeface="Rockwell"/>
              </a:rPr>
              <a:t>Sed lacinia, urna non tincidunt mattis, tortor neque adipiscing diam, a cursus ipsum ante quis turpis. 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"/>
          <p:cNvSpPr/>
          <p:nvPr/>
        </p:nvSpPr>
        <p:spPr>
          <a:xfrm>
            <a:off x="8889840" y="6388200"/>
            <a:ext cx="316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  <a:ea typeface="Rockwell"/>
              </a:rPr>
              <a:t>Nam nec ante. Sed lacinia, urna non tincidunt mattis, tortor neque adipiscing diam, a cursus ipsu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584600" y="3390840"/>
            <a:ext cx="3810240" cy="285768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419040" y="5983200"/>
            <a:ext cx="1119240" cy="2177280"/>
            <a:chOff x="419040" y="5983200"/>
            <a:chExt cx="1119240" cy="2177280"/>
          </a:xfrm>
        </p:grpSpPr>
        <p:sp>
          <p:nvSpPr>
            <p:cNvPr id="95" name=""/>
            <p:cNvSpPr/>
            <p:nvPr/>
          </p:nvSpPr>
          <p:spPr>
            <a:xfrm>
              <a:off x="752400" y="5983200"/>
              <a:ext cx="450720" cy="453960"/>
            </a:xfrm>
            <a:prstGeom prst="ellipse">
              <a:avLst/>
            </a:prstGeom>
            <a:solidFill>
              <a:srgbClr val="7c9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Rockwel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419040" y="6186240"/>
              <a:ext cx="1119240" cy="1974240"/>
              <a:chOff x="419040" y="6186240"/>
              <a:chExt cx="1119240" cy="1974240"/>
            </a:xfrm>
          </p:grpSpPr>
          <p:sp>
            <p:nvSpPr>
              <p:cNvPr id="97" name=""/>
              <p:cNvSpPr/>
              <p:nvPr/>
            </p:nvSpPr>
            <p:spPr>
              <a:xfrm>
                <a:off x="974520" y="6186240"/>
                <a:ext cx="0" cy="1354680"/>
              </a:xfrm>
              <a:prstGeom prst="line">
                <a:avLst/>
              </a:prstGeom>
              <a:ln w="28440">
                <a:solidFill>
                  <a:srgbClr val="fcc631"/>
                </a:solidFill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Rockwell"/>
                </a:endParaRPr>
              </a:p>
            </p:txBody>
          </p:sp>
          <p:grpSp>
            <p:nvGrpSpPr>
              <p:cNvPr id="98" name=""/>
              <p:cNvGrpSpPr/>
              <p:nvPr/>
            </p:nvGrpSpPr>
            <p:grpSpPr>
              <a:xfrm>
                <a:off x="419040" y="7025040"/>
                <a:ext cx="1119240" cy="1135440"/>
                <a:chOff x="419040" y="7025040"/>
                <a:chExt cx="1119240" cy="11354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419040" y="7025040"/>
                  <a:ext cx="1119240" cy="1135440"/>
                </a:xfrm>
                <a:prstGeom prst="pentagon">
                  <a:avLst/>
                </a:prstGeom>
                <a:solidFill>
                  <a:srgbClr val="fcc6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Rockwel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90480" y="7400880"/>
                  <a:ext cx="6336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4360" rIns="54360" tIns="54360" bIns="5436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1a1a"/>
                      </a:solidFill>
                      <a:latin typeface="Aller Bold"/>
                      <a:ea typeface="Aller Bold"/>
                    </a:rPr>
                    <a:t>1994</a:t>
                  </a:r>
                  <a:endParaRPr b="0" lang="en-US" sz="1800" spc="-1" strike="noStrike">
                    <a:solidFill>
                      <a:srgbClr val="ffffff"/>
                    </a:solidFill>
                    <a:latin typeface="Rockwell"/>
                  </a:endParaRPr>
                </a:p>
              </p:txBody>
            </p:sp>
          </p:grpSp>
        </p:grpSp>
      </p:grpSp>
      <p:grpSp>
        <p:nvGrpSpPr>
          <p:cNvPr id="101" name=""/>
          <p:cNvGrpSpPr/>
          <p:nvPr/>
        </p:nvGrpSpPr>
        <p:grpSpPr>
          <a:xfrm>
            <a:off x="4229280" y="5981760"/>
            <a:ext cx="1118880" cy="2177280"/>
            <a:chOff x="4229280" y="5981760"/>
            <a:chExt cx="1118880" cy="2177280"/>
          </a:xfrm>
        </p:grpSpPr>
        <p:sp>
          <p:nvSpPr>
            <p:cNvPr id="102" name=""/>
            <p:cNvSpPr/>
            <p:nvPr/>
          </p:nvSpPr>
          <p:spPr>
            <a:xfrm>
              <a:off x="4562280" y="5981760"/>
              <a:ext cx="450360" cy="453960"/>
            </a:xfrm>
            <a:prstGeom prst="ellipse">
              <a:avLst/>
            </a:prstGeom>
            <a:solidFill>
              <a:srgbClr val="7c9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Rockwel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4229280" y="6184800"/>
              <a:ext cx="1118880" cy="1974240"/>
              <a:chOff x="4229280" y="6184800"/>
              <a:chExt cx="1118880" cy="1974240"/>
            </a:xfrm>
          </p:grpSpPr>
          <p:sp>
            <p:nvSpPr>
              <p:cNvPr id="104" name=""/>
              <p:cNvSpPr/>
              <p:nvPr/>
            </p:nvSpPr>
            <p:spPr>
              <a:xfrm>
                <a:off x="4784400" y="6184800"/>
                <a:ext cx="0" cy="1354680"/>
              </a:xfrm>
              <a:prstGeom prst="line">
                <a:avLst/>
              </a:prstGeom>
              <a:ln w="28440">
                <a:solidFill>
                  <a:srgbClr val="fcc631"/>
                </a:solidFill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Rockwell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4229280" y="7023600"/>
                <a:ext cx="1118880" cy="1135440"/>
                <a:chOff x="4229280" y="7023600"/>
                <a:chExt cx="1118880" cy="113544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4229280" y="7023600"/>
                  <a:ext cx="1118880" cy="1135440"/>
                </a:xfrm>
                <a:prstGeom prst="pentagon">
                  <a:avLst/>
                </a:prstGeom>
                <a:solidFill>
                  <a:srgbClr val="fcc6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Rockwel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500000" y="7399440"/>
                  <a:ext cx="6336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4360" rIns="54360" tIns="54360" bIns="5436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1a1a"/>
                      </a:solidFill>
                      <a:latin typeface="Aller Bold"/>
                      <a:ea typeface="Aller Bold"/>
                    </a:rPr>
                    <a:t>2001</a:t>
                  </a:r>
                  <a:endParaRPr b="0" lang="en-US" sz="1800" spc="-1" strike="noStrike">
                    <a:solidFill>
                      <a:srgbClr val="ffffff"/>
                    </a:solidFill>
                    <a:latin typeface="Rockwell"/>
                  </a:endParaRPr>
                </a:p>
              </p:txBody>
            </p:sp>
          </p:grpSp>
        </p:grpSp>
      </p:grpSp>
      <p:grpSp>
        <p:nvGrpSpPr>
          <p:cNvPr id="108" name=""/>
          <p:cNvGrpSpPr/>
          <p:nvPr/>
        </p:nvGrpSpPr>
        <p:grpSpPr>
          <a:xfrm>
            <a:off x="8039160" y="5981760"/>
            <a:ext cx="1119240" cy="2177280"/>
            <a:chOff x="8039160" y="5981760"/>
            <a:chExt cx="1119240" cy="2177280"/>
          </a:xfrm>
        </p:grpSpPr>
        <p:sp>
          <p:nvSpPr>
            <p:cNvPr id="109" name=""/>
            <p:cNvSpPr/>
            <p:nvPr/>
          </p:nvSpPr>
          <p:spPr>
            <a:xfrm>
              <a:off x="8372520" y="5981760"/>
              <a:ext cx="450720" cy="453960"/>
            </a:xfrm>
            <a:prstGeom prst="ellipse">
              <a:avLst/>
            </a:prstGeom>
            <a:solidFill>
              <a:srgbClr val="7c9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Rockwel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8039160" y="6184800"/>
              <a:ext cx="1119240" cy="1974240"/>
              <a:chOff x="8039160" y="6184800"/>
              <a:chExt cx="1119240" cy="1974240"/>
            </a:xfrm>
          </p:grpSpPr>
          <p:sp>
            <p:nvSpPr>
              <p:cNvPr id="111" name=""/>
              <p:cNvSpPr/>
              <p:nvPr/>
            </p:nvSpPr>
            <p:spPr>
              <a:xfrm>
                <a:off x="8594640" y="6184800"/>
                <a:ext cx="0" cy="1354680"/>
              </a:xfrm>
              <a:prstGeom prst="line">
                <a:avLst/>
              </a:prstGeom>
              <a:ln w="28440">
                <a:solidFill>
                  <a:srgbClr val="fcc631"/>
                </a:solidFill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Rockwel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8039160" y="7023600"/>
                <a:ext cx="1119240" cy="1135440"/>
                <a:chOff x="8039160" y="7023600"/>
                <a:chExt cx="1119240" cy="113544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8039160" y="7023600"/>
                  <a:ext cx="1119240" cy="1135440"/>
                </a:xfrm>
                <a:prstGeom prst="pentagon">
                  <a:avLst/>
                </a:prstGeom>
                <a:solidFill>
                  <a:srgbClr val="fcc6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Rockwel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310600" y="7399440"/>
                  <a:ext cx="6336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4360" rIns="54360" tIns="54360" bIns="5436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1a1a"/>
                      </a:solidFill>
                      <a:latin typeface="Aller Bold"/>
                      <a:ea typeface="Aller Bold"/>
                    </a:rPr>
                    <a:t>2004</a:t>
                  </a:r>
                  <a:endParaRPr b="0" lang="en-US" sz="1800" spc="-1" strike="noStrike">
                    <a:solidFill>
                      <a:srgbClr val="ffffff"/>
                    </a:solidFill>
                    <a:latin typeface="Rockwell"/>
                  </a:endParaRPr>
                </a:p>
              </p:txBody>
            </p:sp>
          </p:grpSp>
        </p:grpSp>
      </p:grpSp>
      <p:sp>
        <p:nvSpPr>
          <p:cNvPr id="115" name=""/>
          <p:cNvSpPr/>
          <p:nvPr/>
        </p:nvSpPr>
        <p:spPr>
          <a:xfrm>
            <a:off x="825480" y="279360"/>
            <a:ext cx="11341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Rockwell"/>
                <a:ea typeface="Rockwell"/>
              </a:rPr>
              <a:t>Insert your title here</a:t>
            </a:r>
            <a:endParaRPr b="0" lang="en-US" sz="6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3DFF2-B94D-40F0-980E-CA1377796A6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286680" y="5460840"/>
            <a:ext cx="5752800" cy="4318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6330960" y="9347040"/>
            <a:ext cx="3398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1CAE-9532-49DA-B9AA-24EE22DADB79}" type="slidenum"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8" name=""/>
          <p:cNvSpPr/>
          <p:nvPr/>
        </p:nvSpPr>
        <p:spPr>
          <a:xfrm>
            <a:off x="507960" y="9398160"/>
            <a:ext cx="274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Your footer text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12520" y="1663200"/>
            <a:ext cx="1134108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84280" indent="-3175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3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urabitur tortor. Pellentesque nibh.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584280" indent="-3175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3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enean quam. In scelerisque sem at dolor. Maecenas mattis. Sed convallis tristique sem.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584280" indent="-3175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3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Proin ut ligula vel nunc egestas porttitor. Morbi lectus risus, iaculis vel, suscipit quis, luctus non, massa.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584280" indent="-3175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3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usce ac turpis quis ligula lacinia aliquet. Mauris ipsum. Nulla metus metus, ullamcorper vel, tincidunt sed, euismod in, nibh. Quisque volutpat condimentum velit.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"/>
          <p:cNvSpPr/>
          <p:nvPr/>
        </p:nvSpPr>
        <p:spPr>
          <a:xfrm>
            <a:off x="825480" y="279360"/>
            <a:ext cx="11341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Rockwell"/>
                <a:ea typeface="Rockwell"/>
              </a:rPr>
              <a:t>Insert your title here</a:t>
            </a:r>
            <a:endParaRPr b="0" lang="en-US" sz="6400" spc="-1" strike="noStrike">
              <a:solidFill>
                <a:srgbClr val="ffffff"/>
              </a:solidFill>
              <a:latin typeface="Rockwel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320920" y="6934320"/>
            <a:ext cx="4580640" cy="1815480"/>
            <a:chOff x="2320920" y="6934320"/>
            <a:chExt cx="4580640" cy="1815480"/>
          </a:xfrm>
        </p:grpSpPr>
        <p:sp>
          <p:nvSpPr>
            <p:cNvPr id="122" name=""/>
            <p:cNvSpPr/>
            <p:nvPr/>
          </p:nvSpPr>
          <p:spPr>
            <a:xfrm>
              <a:off x="2320920" y="7635600"/>
              <a:ext cx="1128240" cy="1114200"/>
            </a:xfrm>
            <a:prstGeom prst="diamond">
              <a:avLst/>
            </a:prstGeom>
            <a:solidFill>
              <a:srgbClr val="475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Rockwel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35720" y="7634160"/>
              <a:ext cx="1128240" cy="1112400"/>
            </a:xfrm>
            <a:prstGeom prst="diamond">
              <a:avLst/>
            </a:prstGeom>
            <a:solidFill>
              <a:srgbClr val="7c9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Rockwel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30120" y="6934320"/>
              <a:ext cx="1127880" cy="1112400"/>
            </a:xfrm>
            <a:prstGeom prst="diamond">
              <a:avLst/>
            </a:prstGeom>
            <a:solidFill>
              <a:srgbClr val="ebbb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Rockwel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3829680" y="7478640"/>
              <a:ext cx="3071880" cy="5760"/>
            </a:xfrm>
            <a:prstGeom prst="line">
              <a:avLst/>
            </a:prstGeom>
            <a:ln w="28440">
              <a:solidFill>
                <a:srgbClr val="ebbb27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Rockwel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67520" y="7026120"/>
              <a:ext cx="112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54360" bIns="5436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ora Bold"/>
                  <a:ea typeface="Lora Bold"/>
                </a:rPr>
                <a:t>Text here</a:t>
              </a: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272D0-8890-49FA-87E0-D0D17EDE860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388200" y="5079960"/>
            <a:ext cx="5753160" cy="4318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553080" y="1434960"/>
            <a:ext cx="5753160" cy="43182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7960" y="9398160"/>
            <a:ext cx="274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Your footer text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"/>
          <p:cNvSpPr/>
          <p:nvPr/>
        </p:nvSpPr>
        <p:spPr>
          <a:xfrm>
            <a:off x="1273320" y="2725560"/>
            <a:ext cx="5638680" cy="18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266760" indent="-26676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  <a:ea typeface="Rockwell"/>
              </a:rPr>
              <a:t>Morbi in dui quis est pulvinar ullamcorper.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66760" indent="-26676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  <a:ea typeface="Rockwell"/>
              </a:rPr>
              <a:t>Nulla facilisi. Integer lacinia sollicitudin massa. Cras metus. Sed aliquet risus a tortor.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"/>
          <p:cNvSpPr/>
          <p:nvPr/>
        </p:nvSpPr>
        <p:spPr>
          <a:xfrm>
            <a:off x="635040" y="1685880"/>
            <a:ext cx="11680920" cy="647640"/>
          </a:xfrm>
          <a:prstGeom prst="rect">
            <a:avLst/>
          </a:prstGeom>
          <a:solidFill>
            <a:srgbClr val="cdcdcd"/>
          </a:solidFill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827360"/>
            <a:ext cx="1139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3434"/>
                </a:solidFill>
                <a:latin typeface="Rockwell"/>
                <a:ea typeface="Rockwell"/>
              </a:rPr>
              <a:t>Enter your title here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3" name=""/>
          <p:cNvSpPr/>
          <p:nvPr/>
        </p:nvSpPr>
        <p:spPr>
          <a:xfrm>
            <a:off x="1384200" y="6210360"/>
            <a:ext cx="555012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266760" indent="-26676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  <a:ea typeface="Rockwell"/>
              </a:rPr>
              <a:t>Nulla facilisi. Integer lacinia sollicitudin massa. Cras metus.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66760" indent="-26676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  <a:ea typeface="Rockwell"/>
              </a:rPr>
              <a:t>Sed aliquet risus a tortor. Integer id quam.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66760" indent="-26676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  <a:ea typeface="Rockwell"/>
              </a:rPr>
              <a:t>Morbi mi. Quisque nisl felis, venenatis tristique, dignissim in, ultrices sit amet, augue.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"/>
          <p:cNvSpPr/>
          <p:nvPr/>
        </p:nvSpPr>
        <p:spPr>
          <a:xfrm>
            <a:off x="660240" y="5067360"/>
            <a:ext cx="11680920" cy="647640"/>
          </a:xfrm>
          <a:prstGeom prst="rect">
            <a:avLst/>
          </a:prstGeom>
          <a:solidFill>
            <a:srgbClr val="cdcdcd"/>
          </a:solidFill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5" name=""/>
          <p:cNvSpPr/>
          <p:nvPr/>
        </p:nvSpPr>
        <p:spPr>
          <a:xfrm>
            <a:off x="787320" y="5207040"/>
            <a:ext cx="113918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3434"/>
                </a:solidFill>
                <a:latin typeface="Rockwell"/>
                <a:ea typeface="Rockwell"/>
              </a:rPr>
              <a:t>Enter your title here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"/>
          <p:cNvSpPr/>
          <p:nvPr/>
        </p:nvSpPr>
        <p:spPr>
          <a:xfrm>
            <a:off x="825480" y="279360"/>
            <a:ext cx="11341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Rockwell"/>
                <a:ea typeface="Rockwell"/>
              </a:rPr>
              <a:t>Insert your title here</a:t>
            </a:r>
            <a:endParaRPr b="0" lang="en-US" sz="6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779400" y="2633760"/>
            <a:ext cx="684360" cy="684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774720" y="3365640"/>
            <a:ext cx="684360" cy="684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901800" y="6108840"/>
            <a:ext cx="684000" cy="684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901800" y="68198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901800" y="7556400"/>
            <a:ext cx="684000" cy="68436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11142720" y="1828800"/>
            <a:ext cx="958320" cy="949320"/>
            <a:chOff x="11142720" y="1828800"/>
            <a:chExt cx="958320" cy="949320"/>
          </a:xfrm>
        </p:grpSpPr>
        <p:sp>
          <p:nvSpPr>
            <p:cNvPr id="143" name=""/>
            <p:cNvSpPr/>
            <p:nvPr/>
          </p:nvSpPr>
          <p:spPr>
            <a:xfrm>
              <a:off x="11142720" y="1828800"/>
              <a:ext cx="958320" cy="949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63639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Rockwel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223720" y="1917720"/>
              <a:ext cx="794880" cy="776160"/>
            </a:xfrm>
            <a:prstGeom prst="pie">
              <a:avLst/>
            </a:prstGeom>
            <a:solidFill>
              <a:srgbClr val="475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Rockwel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377800" y="2073240"/>
              <a:ext cx="486360" cy="461880"/>
            </a:xfrm>
            <a:prstGeom prst="star5">
              <a:avLst/>
            </a:prstGeom>
            <a:solidFill>
              <a:srgbClr val="f1cb2b"/>
            </a:solidFill>
            <a:ln w="25560">
              <a:solidFill>
                <a:srgbClr val="fee52d"/>
              </a:solidFill>
              <a:round/>
            </a:ln>
            <a:effectLst>
              <a:outerShdw dist="0" dir="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Rockwel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5280000">
              <a:off x="11282040" y="1860120"/>
              <a:ext cx="347760" cy="465480"/>
            </a:xfrm>
            <a:prstGeom prst="pie">
              <a:avLst/>
            </a:prstGeom>
            <a:solidFill>
              <a:srgbClr val="7c921c"/>
            </a:solidFill>
            <a:ln w="0">
              <a:noFill/>
            </a:ln>
            <a:effectLst>
              <a:outerShdw dist="38183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1138040" y="5219640"/>
            <a:ext cx="957240" cy="949320"/>
            <a:chOff x="11138040" y="5219640"/>
            <a:chExt cx="957240" cy="949320"/>
          </a:xfrm>
        </p:grpSpPr>
        <p:sp>
          <p:nvSpPr>
            <p:cNvPr id="148" name=""/>
            <p:cNvSpPr/>
            <p:nvPr/>
          </p:nvSpPr>
          <p:spPr>
            <a:xfrm>
              <a:off x="11138040" y="5219640"/>
              <a:ext cx="957240" cy="949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63639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Rockwel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219040" y="5308560"/>
              <a:ext cx="793800" cy="776160"/>
            </a:xfrm>
            <a:prstGeom prst="pie">
              <a:avLst/>
            </a:prstGeom>
            <a:solidFill>
              <a:srgbClr val="475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Rockwel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373120" y="5464080"/>
              <a:ext cx="485640" cy="461880"/>
            </a:xfrm>
            <a:prstGeom prst="star5">
              <a:avLst/>
            </a:prstGeom>
            <a:solidFill>
              <a:srgbClr val="f1cb2b"/>
            </a:solidFill>
            <a:ln w="25560">
              <a:solidFill>
                <a:srgbClr val="fee52d"/>
              </a:solidFill>
              <a:round/>
            </a:ln>
            <a:effectLst>
              <a:outerShdw dist="0" dir="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Rockwel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280000">
              <a:off x="11277720" y="5251320"/>
              <a:ext cx="347760" cy="465120"/>
            </a:xfrm>
            <a:prstGeom prst="pie">
              <a:avLst/>
            </a:prstGeom>
            <a:solidFill>
              <a:srgbClr val="7c921c"/>
            </a:solidFill>
            <a:ln w="0">
              <a:noFill/>
            </a:ln>
            <a:effectLst>
              <a:outerShdw dist="38183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E1D07-1CC7-44D3-96CA-310791E9355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07960" y="9182160"/>
            <a:ext cx="27432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Your footer text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06080" y="1638000"/>
            <a:ext cx="122173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84280" indent="-3175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3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Lorem ipsum dolor sit amet, consectetur adipiscing elit. Integer nec odio. Praesent libero. Sed cursus ante dapibus diam. Sed nisi.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-584280" y="1739880"/>
            <a:ext cx="12192120" cy="8128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H="1" flipV="1">
            <a:off x="5816520" y="4150800"/>
            <a:ext cx="3386160" cy="1800"/>
          </a:xfrm>
          <a:prstGeom prst="line">
            <a:avLst/>
          </a:prstGeom>
          <a:ln w="28440">
            <a:solidFill>
              <a:srgbClr val="7c921c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6" name=""/>
          <p:cNvSpPr/>
          <p:nvPr/>
        </p:nvSpPr>
        <p:spPr>
          <a:xfrm>
            <a:off x="7971480" y="3708360"/>
            <a:ext cx="11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54360" bIns="543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ckwell"/>
                <a:ea typeface="Rockwell"/>
              </a:rPr>
              <a:t>Text $999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5459400" y="5195880"/>
            <a:ext cx="3386160" cy="1440"/>
          </a:xfrm>
          <a:prstGeom prst="line">
            <a:avLst/>
          </a:prstGeom>
          <a:ln w="28440">
            <a:solidFill>
              <a:srgbClr val="7c921c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"/>
          <p:cNvSpPr/>
          <p:nvPr/>
        </p:nvSpPr>
        <p:spPr>
          <a:xfrm>
            <a:off x="7590240" y="4749840"/>
            <a:ext cx="11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54360" bIns="543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ckwell"/>
                <a:ea typeface="Rockwell"/>
              </a:rPr>
              <a:t>Text $999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824000" y="6529320"/>
            <a:ext cx="4483080" cy="0"/>
          </a:xfrm>
          <a:prstGeom prst="line">
            <a:avLst/>
          </a:prstGeom>
          <a:ln w="28440">
            <a:solidFill>
              <a:srgbClr val="7c921c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0" name=""/>
          <p:cNvSpPr/>
          <p:nvPr/>
        </p:nvSpPr>
        <p:spPr>
          <a:xfrm>
            <a:off x="8085600" y="6083280"/>
            <a:ext cx="11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54360" bIns="543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ckwell"/>
                <a:ea typeface="Rockwell"/>
              </a:rPr>
              <a:t>Text $999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256000" y="7861320"/>
            <a:ext cx="5126040" cy="1440"/>
          </a:xfrm>
          <a:prstGeom prst="line">
            <a:avLst/>
          </a:prstGeom>
          <a:ln w="28440">
            <a:solidFill>
              <a:srgbClr val="7c921c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"/>
          <p:cNvSpPr/>
          <p:nvPr/>
        </p:nvSpPr>
        <p:spPr>
          <a:xfrm>
            <a:off x="9139680" y="7416720"/>
            <a:ext cx="11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54360" bIns="543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ckwell"/>
                <a:ea typeface="Rockwell"/>
              </a:rPr>
              <a:t>Text $999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8660880" y="8993160"/>
            <a:ext cx="2622600" cy="1440"/>
          </a:xfrm>
          <a:prstGeom prst="line">
            <a:avLst/>
          </a:prstGeom>
          <a:ln w="28440">
            <a:solidFill>
              <a:srgbClr val="7c921c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4" name=""/>
          <p:cNvSpPr/>
          <p:nvPr/>
        </p:nvSpPr>
        <p:spPr>
          <a:xfrm>
            <a:off x="9927360" y="8547120"/>
            <a:ext cx="11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54360" bIns="543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ckwell"/>
                <a:ea typeface="Rockwell"/>
              </a:rPr>
              <a:t>Text $999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"/>
          <p:cNvSpPr/>
          <p:nvPr/>
        </p:nvSpPr>
        <p:spPr>
          <a:xfrm>
            <a:off x="825480" y="279360"/>
            <a:ext cx="11341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Rockwell"/>
                <a:ea typeface="Rockwell"/>
              </a:rPr>
              <a:t>Insert your title here</a:t>
            </a:r>
            <a:endParaRPr b="0" lang="en-US" sz="6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EC9F9-CF23-4B72-B008-4081CD7CF1B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07960" y="9398160"/>
            <a:ext cx="274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Your footer text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12880" y="1663200"/>
            <a:ext cx="7480080" cy="8217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84280" indent="-3175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3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urabitur tortor. Pellentesque nibh.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584280" indent="-3175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3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enean quam. In scelerisque sem at dolor.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584280" indent="-3175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3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aecenas mattis. Sed convallis tristique sem. Proin ut ligula vel nunc egestas porttitor. Morbi lectus risus, iaculis vel, suscipit quis, luctus non, massa.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584280" indent="-3175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3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usce ac turpis quis ligula lacinia aliquet.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584280" indent="-3175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3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auris ipsum. Nulla metus metus, ullamcorper vel, tincidunt sed, euismod in, nibh. Quisque volutpat condimentum velit.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584280" indent="-3175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3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lass aptent taciti sociosqu ad litora torquent per conubia nostra, per inceptos himenaeos.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8" name=""/>
          <p:cNvSpPr/>
          <p:nvPr/>
        </p:nvSpPr>
        <p:spPr>
          <a:xfrm>
            <a:off x="9220320" y="5727600"/>
            <a:ext cx="27432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ckwell"/>
                <a:ea typeface="Rockwell"/>
              </a:rPr>
              <a:t>Sed lacinia, urna non tincidunt mattis, tortor neque adipiscing diam, a cursus ipsum ante quis turpis. 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8578800" y="1911240"/>
            <a:ext cx="3225960" cy="3124440"/>
          </a:xfrm>
          <a:prstGeom prst="rect">
            <a:avLst/>
          </a:prstGeom>
          <a:ln w="0">
            <a:noFill/>
          </a:ln>
          <a:effectLst>
            <a:outerShdw dist="25560" dir="5400000" blurRad="0" rotWithShape="0">
              <a:srgbClr val="000000">
                <a:alpha val="55000"/>
              </a:srgbClr>
            </a:outerShdw>
          </a:effectLst>
        </p:spPr>
      </p:pic>
      <p:sp>
        <p:nvSpPr>
          <p:cNvPr id="170" name=""/>
          <p:cNvSpPr/>
          <p:nvPr/>
        </p:nvSpPr>
        <p:spPr>
          <a:xfrm>
            <a:off x="825480" y="279360"/>
            <a:ext cx="11341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Rockwell"/>
                <a:ea typeface="Rockwell"/>
              </a:rPr>
              <a:t>Insert your title here</a:t>
            </a:r>
            <a:endParaRPr b="0" lang="en-US" sz="6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8908560" y="3976560"/>
            <a:ext cx="3240" cy="3243240"/>
          </a:xfrm>
          <a:prstGeom prst="line">
            <a:avLst/>
          </a:prstGeom>
          <a:ln w="28440">
            <a:solidFill>
              <a:srgbClr val="ebbb27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8900640" y="5580000"/>
            <a:ext cx="3305160" cy="0"/>
          </a:xfrm>
          <a:prstGeom prst="line">
            <a:avLst/>
          </a:prstGeom>
          <a:ln w="28440">
            <a:solidFill>
              <a:srgbClr val="ebbb27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19ED4-236C-4B4B-88A6-6F110F80577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019240" y="3683160"/>
            <a:ext cx="3543480" cy="43178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07960" y="9398160"/>
            <a:ext cx="274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Your footer text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12520" y="1663560"/>
            <a:ext cx="1134108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84280" indent="-3175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3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aecenas mattis. Sed convallis tristique sem. Proin ut ligula vel nunc egestas porttitor. Morbi lectus risus, iaculis vel, suscipit quis, luctus non, massa.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6" name=""/>
          <p:cNvSpPr/>
          <p:nvPr/>
        </p:nvSpPr>
        <p:spPr>
          <a:xfrm>
            <a:off x="7548480" y="3603600"/>
            <a:ext cx="40323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360" rIns="54360" tIns="54360" bIns="54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Rockwell"/>
                <a:ea typeface="Rockwell"/>
              </a:rPr>
              <a:t>Some cool things here.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  <a:ea typeface="Rockwell"/>
              </a:rPr>
              <a:t>Suspendisse hendrerit fermentum arcu, nec efficitur sem ultrices id.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7" name=""/>
          <p:cNvSpPr/>
          <p:nvPr/>
        </p:nvSpPr>
        <p:spPr>
          <a:xfrm>
            <a:off x="7802640" y="6311880"/>
            <a:ext cx="396864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360" rIns="54360" tIns="54360" bIns="54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Rockwell"/>
                <a:ea typeface="Rockwell"/>
              </a:rPr>
              <a:t>Some cool things here.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  <a:ea typeface="Rockwell"/>
              </a:rPr>
              <a:t>Suspendisse hendrerit fermentum arcu, nec efficitur sem ultrices id.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8" name=""/>
          <p:cNvSpPr/>
          <p:nvPr/>
        </p:nvSpPr>
        <p:spPr>
          <a:xfrm>
            <a:off x="4394160" y="4157640"/>
            <a:ext cx="2933640" cy="266760"/>
          </a:xfrm>
          <a:prstGeom prst="rightArrow">
            <a:avLst>
              <a:gd name="adj1" fmla="val 42556"/>
              <a:gd name="adj2" fmla="val 68784"/>
            </a:avLst>
          </a:prstGeom>
          <a:solidFill>
            <a:srgbClr val="ebbb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"/>
          <p:cNvSpPr/>
          <p:nvPr/>
        </p:nvSpPr>
        <p:spPr>
          <a:xfrm>
            <a:off x="3605040" y="6589800"/>
            <a:ext cx="3962520" cy="266760"/>
          </a:xfrm>
          <a:prstGeom prst="rightArrow">
            <a:avLst>
              <a:gd name="adj1" fmla="val 42556"/>
              <a:gd name="adj2" fmla="val 68770"/>
            </a:avLst>
          </a:prstGeom>
          <a:solidFill>
            <a:srgbClr val="7c92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0" name=""/>
          <p:cNvSpPr/>
          <p:nvPr/>
        </p:nvSpPr>
        <p:spPr>
          <a:xfrm>
            <a:off x="825480" y="279360"/>
            <a:ext cx="11341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Rockwell"/>
                <a:ea typeface="Rockwell"/>
              </a:rPr>
              <a:t>Insert your title here</a:t>
            </a:r>
            <a:endParaRPr b="0" lang="en-US" sz="6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DE2A9-280F-43A5-913C-DAA155C77C6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07960" y="9398160"/>
            <a:ext cx="274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Your footer text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06080" y="1638360"/>
            <a:ext cx="12217320" cy="1930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84280" indent="-3175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3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lass aptent taciti sociosqu ad litora torquent per conubia nostra, per inceptos himenaeos.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584280" indent="-3175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3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urabitur sodales ligula in libero. Sed dignissim lacinia nunc.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3720960"/>
            <a:ext cx="5460840" cy="2425680"/>
          </a:xfrm>
          <a:prstGeom prst="roundRect">
            <a:avLst>
              <a:gd name="adj" fmla="val 7847"/>
            </a:avLst>
          </a:prstGeom>
          <a:solidFill>
            <a:srgbClr val="7c921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4" name=""/>
          <p:cNvSpPr/>
          <p:nvPr/>
        </p:nvSpPr>
        <p:spPr>
          <a:xfrm>
            <a:off x="698400" y="3720960"/>
            <a:ext cx="5435640" cy="584280"/>
          </a:xfrm>
          <a:prstGeom prst="roundRect">
            <a:avLst>
              <a:gd name="adj" fmla="val 32602"/>
            </a:avLst>
          </a:prstGeom>
          <a:solidFill>
            <a:srgbClr val="ebbb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5" name=""/>
          <p:cNvSpPr/>
          <p:nvPr/>
        </p:nvSpPr>
        <p:spPr>
          <a:xfrm>
            <a:off x="2654280" y="44578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  <a:ea typeface="Rockwell"/>
              </a:rPr>
              <a:t>Nam nec ante. Sed lacinia, urna non tincidunt mattis, tortor neque adipiscing diam, a cursus ipsum ante quis turpis. Nulla facilisi. Ut fringilla. Justo eu magna luctus suscipit. 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6" name=""/>
          <p:cNvSpPr/>
          <p:nvPr/>
        </p:nvSpPr>
        <p:spPr>
          <a:xfrm>
            <a:off x="863640" y="3835440"/>
            <a:ext cx="5105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ckwell"/>
                <a:ea typeface="Rockwell"/>
              </a:rPr>
              <a:t>Nam nec ante 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7" name=""/>
          <p:cNvSpPr/>
          <p:nvPr/>
        </p:nvSpPr>
        <p:spPr>
          <a:xfrm>
            <a:off x="6921360" y="3733920"/>
            <a:ext cx="5461200" cy="2425680"/>
          </a:xfrm>
          <a:prstGeom prst="roundRect">
            <a:avLst>
              <a:gd name="adj" fmla="val 7847"/>
            </a:avLst>
          </a:prstGeom>
          <a:solidFill>
            <a:srgbClr val="7c921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8" name=""/>
          <p:cNvSpPr/>
          <p:nvPr/>
        </p:nvSpPr>
        <p:spPr>
          <a:xfrm>
            <a:off x="6934320" y="3733920"/>
            <a:ext cx="5435640" cy="583920"/>
          </a:xfrm>
          <a:prstGeom prst="roundRect">
            <a:avLst>
              <a:gd name="adj" fmla="val 32602"/>
            </a:avLst>
          </a:prstGeom>
          <a:solidFill>
            <a:srgbClr val="7c92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9" name=""/>
          <p:cNvSpPr/>
          <p:nvPr/>
        </p:nvSpPr>
        <p:spPr>
          <a:xfrm>
            <a:off x="8889840" y="4470480"/>
            <a:ext cx="3353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  <a:ea typeface="Rockwell"/>
              </a:rPr>
              <a:t>Urna non tincidunt mattis, tortor neque adipiscing diam, a cursus ipsum ante quis turpis. Nulla facilisi. Ut fringilla. Justo eu magna luctus suscipit. 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"/>
          <p:cNvSpPr/>
          <p:nvPr/>
        </p:nvSpPr>
        <p:spPr>
          <a:xfrm>
            <a:off x="7086600" y="3835440"/>
            <a:ext cx="5105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ckwell"/>
                <a:ea typeface="Rockwell"/>
              </a:rPr>
              <a:t>Tortor neque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1" name=""/>
          <p:cNvSpPr/>
          <p:nvPr/>
        </p:nvSpPr>
        <p:spPr>
          <a:xfrm>
            <a:off x="647640" y="6413400"/>
            <a:ext cx="5461200" cy="2425680"/>
          </a:xfrm>
          <a:prstGeom prst="roundRect">
            <a:avLst>
              <a:gd name="adj" fmla="val 7847"/>
            </a:avLst>
          </a:prstGeom>
          <a:solidFill>
            <a:srgbClr val="7c921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2" name=""/>
          <p:cNvSpPr/>
          <p:nvPr/>
        </p:nvSpPr>
        <p:spPr>
          <a:xfrm>
            <a:off x="660240" y="6413400"/>
            <a:ext cx="5435640" cy="584280"/>
          </a:xfrm>
          <a:prstGeom prst="roundRect">
            <a:avLst>
              <a:gd name="adj" fmla="val 32602"/>
            </a:avLst>
          </a:prstGeom>
          <a:solidFill>
            <a:srgbClr val="7c92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3" name=""/>
          <p:cNvSpPr/>
          <p:nvPr/>
        </p:nvSpPr>
        <p:spPr>
          <a:xfrm>
            <a:off x="2616120" y="7149960"/>
            <a:ext cx="3353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  <a:ea typeface="Rockwell"/>
              </a:rPr>
              <a:t>Sed lacinia, urna non tincidunt mattis, tortor neque adipiscing diam, a cursus ipsum ante quis turpis. Nulla facilisi. Ut fringilla. Justo eu magna luctus suscipit. 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4" name=""/>
          <p:cNvSpPr/>
          <p:nvPr/>
        </p:nvSpPr>
        <p:spPr>
          <a:xfrm>
            <a:off x="825480" y="6527880"/>
            <a:ext cx="5105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ckwell"/>
                <a:ea typeface="Rockwell"/>
              </a:rPr>
              <a:t>Lorem Ipsum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"/>
          <p:cNvSpPr/>
          <p:nvPr/>
        </p:nvSpPr>
        <p:spPr>
          <a:xfrm>
            <a:off x="6883560" y="6426360"/>
            <a:ext cx="5460840" cy="2425680"/>
          </a:xfrm>
          <a:prstGeom prst="roundRect">
            <a:avLst>
              <a:gd name="adj" fmla="val 7847"/>
            </a:avLst>
          </a:prstGeom>
          <a:solidFill>
            <a:srgbClr val="7c921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"/>
          <p:cNvSpPr/>
          <p:nvPr/>
        </p:nvSpPr>
        <p:spPr>
          <a:xfrm>
            <a:off x="6896160" y="6426360"/>
            <a:ext cx="5435640" cy="583920"/>
          </a:xfrm>
          <a:prstGeom prst="roundRect">
            <a:avLst>
              <a:gd name="adj" fmla="val 32602"/>
            </a:avLst>
          </a:prstGeom>
          <a:solidFill>
            <a:srgbClr val="ebbb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7" name=""/>
          <p:cNvSpPr/>
          <p:nvPr/>
        </p:nvSpPr>
        <p:spPr>
          <a:xfrm>
            <a:off x="8852040" y="716292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  <a:ea typeface="Rockwell"/>
              </a:rPr>
              <a:t>Nam nec ante. Sed lacinia, urna non tincidunt mattis, tortor neque adipiscing diam, a cursus ipsum ante quis turpis. Nulla facilisi. Ut fringilla. Justo eu magna luctus suscipit. 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8" name=""/>
          <p:cNvSpPr/>
          <p:nvPr/>
        </p:nvSpPr>
        <p:spPr>
          <a:xfrm>
            <a:off x="7048440" y="6527880"/>
            <a:ext cx="5105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ckwell"/>
                <a:ea typeface="Rockwell"/>
              </a:rPr>
              <a:t>Cursus ipsum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901800" y="439416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901800" y="706104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7074000" y="439416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7137360" y="7086600"/>
            <a:ext cx="1625760" cy="16257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825480" y="279360"/>
            <a:ext cx="11341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Rockwell"/>
                <a:ea typeface="Rockwell"/>
              </a:rPr>
              <a:t>Insert your title here</a:t>
            </a:r>
            <a:endParaRPr b="0" lang="en-US" sz="6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3BEE8-6FA0-48FD-8C00-C259E1FD0B19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