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78787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  <a:p>
            <a:pPr lvl="1" marL="4316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78787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878787"/>
              </a:solidFill>
              <a:latin typeface="Calibri"/>
            </a:endParaRPr>
          </a:p>
          <a:p>
            <a:pPr lvl="2" marL="86364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8787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878787"/>
              </a:solidFill>
              <a:latin typeface="Calibri"/>
            </a:endParaRPr>
          </a:p>
          <a:p>
            <a:pPr lvl="3" marL="128268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4" marL="1714680" algn="ctr">
              <a:spcBef>
                <a:spcPts val="499"/>
              </a:spcBef>
              <a:buClr>
                <a:srgbClr val="878787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5" marL="17146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  <a:p>
            <a:pPr lvl="6" marL="1714680">
              <a:spcBef>
                <a:spcPts val="6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78787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771080" y="3498840"/>
            <a:ext cx="674856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ambria Bold"/>
                <a:ea typeface="Cambria Bold"/>
              </a:rPr>
              <a:t>Presentation Title</a:t>
            </a:r>
            <a:endParaRPr b="0" lang="en-US" sz="6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"/>
          <p:cNvSpPr/>
          <p:nvPr/>
        </p:nvSpPr>
        <p:spPr>
          <a:xfrm>
            <a:off x="4002120" y="4489560"/>
            <a:ext cx="831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A Wonderful Start-up Theme for Keynot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0663560" y="-50760"/>
            <a:ext cx="2511000" cy="4387320"/>
            <a:chOff x="10663560" y="-50760"/>
            <a:chExt cx="2511000" cy="4387320"/>
          </a:xfrm>
        </p:grpSpPr>
        <p:sp>
          <p:nvSpPr>
            <p:cNvPr id="212" name=""/>
            <p:cNvSpPr/>
            <p:nvPr/>
          </p:nvSpPr>
          <p:spPr>
            <a:xfrm>
              <a:off x="11966400" y="-50760"/>
              <a:ext cx="2160" cy="3304800"/>
            </a:xfrm>
            <a:prstGeom prst="line">
              <a:avLst/>
            </a:prstGeom>
            <a:ln w="50760">
              <a:solidFill>
                <a:srgbClr val="513d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20609400">
              <a:off x="10865520" y="2342880"/>
              <a:ext cx="2106000" cy="1730160"/>
            </a:xfrm>
            <a:prstGeom prst="pie">
              <a:avLst/>
            </a:prstGeom>
            <a:solidFill>
              <a:srgbClr val="513d41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8508240" y="-190440"/>
            <a:ext cx="2827080" cy="6357960"/>
            <a:chOff x="8508240" y="-190440"/>
            <a:chExt cx="2827080" cy="6357960"/>
          </a:xfrm>
        </p:grpSpPr>
        <p:sp>
          <p:nvSpPr>
            <p:cNvPr id="215" name=""/>
            <p:cNvSpPr/>
            <p:nvPr/>
          </p:nvSpPr>
          <p:spPr>
            <a:xfrm>
              <a:off x="9950760" y="-190440"/>
              <a:ext cx="0" cy="4889880"/>
            </a:xfrm>
            <a:prstGeom prst="line">
              <a:avLst/>
            </a:prstGeom>
            <a:ln w="50760">
              <a:solidFill>
                <a:srgbClr val="9389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rot="18007800">
              <a:off x="9047520" y="3718440"/>
              <a:ext cx="1747440" cy="2254320"/>
            </a:xfrm>
            <a:prstGeom prst="pie">
              <a:avLst/>
            </a:prstGeom>
            <a:solidFill>
              <a:srgbClr val="938972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495840" y="-851040"/>
            <a:ext cx="2584800" cy="5445720"/>
            <a:chOff x="6495840" y="-851040"/>
            <a:chExt cx="2584800" cy="5445720"/>
          </a:xfrm>
        </p:grpSpPr>
        <p:sp>
          <p:nvSpPr>
            <p:cNvPr id="218" name=""/>
            <p:cNvSpPr/>
            <p:nvPr/>
          </p:nvSpPr>
          <p:spPr>
            <a:xfrm>
              <a:off x="7827480" y="-851040"/>
              <a:ext cx="0" cy="4212000"/>
            </a:xfrm>
            <a:prstGeom prst="line">
              <a:avLst/>
            </a:prstGeom>
            <a:ln w="50760">
              <a:solidFill>
                <a:srgbClr val="ff88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rot="20609400">
              <a:off x="6694560" y="2602440"/>
              <a:ext cx="2187000" cy="1716840"/>
            </a:xfrm>
            <a:prstGeom prst="pie">
              <a:avLst/>
            </a:prstGeom>
            <a:solidFill>
              <a:srgbClr val="ff882c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213440" y="-1727280"/>
            <a:ext cx="2829240" cy="5981040"/>
            <a:chOff x="4213440" y="-1727280"/>
            <a:chExt cx="2829240" cy="5981040"/>
          </a:xfrm>
        </p:grpSpPr>
        <p:sp>
          <p:nvSpPr>
            <p:cNvPr id="221" name=""/>
            <p:cNvSpPr/>
            <p:nvPr/>
          </p:nvSpPr>
          <p:spPr>
            <a:xfrm>
              <a:off x="5687280" y="-1727280"/>
              <a:ext cx="0" cy="4293720"/>
            </a:xfrm>
            <a:prstGeom prst="line">
              <a:avLst/>
            </a:prstGeom>
            <a:ln w="50760">
              <a:solidFill>
                <a:srgbClr val="f668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3215400">
              <a:off x="4779720" y="1766880"/>
              <a:ext cx="1695240" cy="2265120"/>
            </a:xfrm>
            <a:prstGeom prst="pie">
              <a:avLst/>
            </a:prstGeom>
            <a:solidFill>
              <a:srgbClr val="f66835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338920" y="-355680"/>
            <a:ext cx="2871000" cy="5994360"/>
            <a:chOff x="2338920" y="-355680"/>
            <a:chExt cx="2871000" cy="5994360"/>
          </a:xfrm>
        </p:grpSpPr>
        <p:sp>
          <p:nvSpPr>
            <p:cNvPr id="224" name=""/>
            <p:cNvSpPr/>
            <p:nvPr/>
          </p:nvSpPr>
          <p:spPr>
            <a:xfrm>
              <a:off x="3831840" y="-355680"/>
              <a:ext cx="0" cy="4996800"/>
            </a:xfrm>
            <a:prstGeom prst="line">
              <a:avLst/>
            </a:prstGeom>
            <a:ln w="50760">
              <a:solidFill>
                <a:srgbClr val="766b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591200">
              <a:off x="2603880" y="3466440"/>
              <a:ext cx="2339640" cy="1741320"/>
            </a:xfrm>
            <a:prstGeom prst="pie">
              <a:avLst/>
            </a:prstGeom>
            <a:solidFill>
              <a:srgbClr val="766b53"/>
            </a:solidFill>
            <a:ln w="255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060560" y="5816520"/>
            <a:ext cx="128016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Death is something inevitable. When a man has done what he considers to be his duty to his people and his country, he can rest in peace. I believe I have made that effort and that is, therefore, why I will sleep for the eternity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66760" y="243828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be09"/>
                </a:solidFill>
                <a:latin typeface="Lora Bold"/>
                <a:ea typeface="Lora Bold"/>
              </a:rPr>
              <a:t>Visit </a:t>
            </a:r>
            <a:r>
              <a:rPr b="0" lang="en-US" sz="4800" spc="-1" strike="noStrike">
                <a:solidFill>
                  <a:srgbClr val="938972"/>
                </a:solidFill>
                <a:latin typeface="Lora Bold"/>
                <a:ea typeface="Lora Bold"/>
              </a:rPr>
              <a:t>bestpowerpointtemplates.com</a:t>
            </a:r>
            <a:r>
              <a:rPr b="0" lang="en-US" sz="4800" spc="-1" strike="noStrike">
                <a:solidFill>
                  <a:srgbClr val="fdbe09"/>
                </a:solidFill>
                <a:latin typeface="Lora Bold"/>
                <a:ea typeface="Lora Bol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be09"/>
                </a:solidFill>
                <a:latin typeface="Lora Bold"/>
                <a:ea typeface="Lora Bold"/>
              </a:rPr>
              <a:t>for more </a:t>
            </a:r>
            <a:r>
              <a:rPr b="0" lang="en-US" sz="4800" spc="-1" strike="noStrike">
                <a:solidFill>
                  <a:srgbClr val="f66835"/>
                </a:solidFill>
                <a:latin typeface="Lora Bold"/>
                <a:ea typeface="Lora Bold"/>
              </a:rPr>
              <a:t>free</a:t>
            </a:r>
            <a:r>
              <a:rPr b="0" lang="en-US" sz="4800" spc="-1" strike="noStrike">
                <a:solidFill>
                  <a:srgbClr val="fdbe09"/>
                </a:solidFill>
                <a:latin typeface="Lora Bold"/>
                <a:ea typeface="Lora Bold"/>
              </a:rPr>
              <a:t> resources!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"/>
          <p:cNvSpPr/>
          <p:nvPr/>
        </p:nvSpPr>
        <p:spPr>
          <a:xfrm>
            <a:off x="3249000" y="6058080"/>
            <a:ext cx="619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Color Scheme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Cambria Bold"/>
              </a:rPr>
              <a:t>Times Changing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"/>
          <p:cNvSpPr/>
          <p:nvPr/>
        </p:nvSpPr>
        <p:spPr>
          <a:xfrm>
            <a:off x="4377600" y="5270400"/>
            <a:ext cx="392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Font Used: </a:t>
            </a: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Cambria Bold"/>
              </a:rPr>
              <a:t>Cambria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064040" y="6794640"/>
            <a:ext cx="4572000" cy="787320"/>
            <a:chOff x="4064040" y="6794640"/>
            <a:chExt cx="4572000" cy="787320"/>
          </a:xfrm>
        </p:grpSpPr>
        <p:sp>
          <p:nvSpPr>
            <p:cNvPr id="231" name=""/>
            <p:cNvSpPr/>
            <p:nvPr/>
          </p:nvSpPr>
          <p:spPr>
            <a:xfrm>
              <a:off x="4064040" y="6794640"/>
              <a:ext cx="914400" cy="787320"/>
            </a:xfrm>
            <a:prstGeom prst="rect">
              <a:avLst/>
            </a:prstGeom>
            <a:solidFill>
              <a:srgbClr val="261b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8440" y="6794640"/>
              <a:ext cx="914400" cy="787320"/>
            </a:xfrm>
            <a:prstGeom prst="rect">
              <a:avLst/>
            </a:prstGeom>
            <a:solidFill>
              <a:srgbClr val="513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92840" y="6794640"/>
              <a:ext cx="914400" cy="787320"/>
            </a:xfrm>
            <a:prstGeom prst="rect">
              <a:avLst/>
            </a:prstGeom>
            <a:solidFill>
              <a:srgbClr val="f46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07240" y="6794640"/>
              <a:ext cx="914400" cy="787320"/>
            </a:xfrm>
            <a:prstGeom prst="rect">
              <a:avLst/>
            </a:prstGeom>
            <a:solidFill>
              <a:srgbClr val="ff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21640" y="6794640"/>
              <a:ext cx="914400" cy="787320"/>
            </a:xfrm>
            <a:prstGeom prst="rect">
              <a:avLst/>
            </a:prstGeom>
            <a:solidFill>
              <a:srgbClr val="93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Cambria Bold"/>
              </a:rPr>
              <a:t>Lorem Ipsum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cool things here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"/>
          <p:cNvSpPr/>
          <p:nvPr/>
        </p:nvSpPr>
        <p:spPr>
          <a:xfrm>
            <a:off x="1069920" y="2479680"/>
            <a:ext cx="1332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efe"/>
                </a:solidFill>
                <a:latin typeface="Cambria"/>
                <a:ea typeface="Cambria"/>
              </a:rPr>
              <a:t>Science cuts two ways, of course; its products can be used for both good and evil. But there's no turning back from science. The early warnings about technological dangers also come from science.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Cambria"/>
              </a:rPr>
              <a:t>To be the first to enter the cosmos, to engage, single-handed, in an unprecedented duel with nature—could one dream of anything more? Houston, Tranquillity Base here. The Eagle has landed. I don't know what you could say about a day in which you have seen four beautiful sunsets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4240" y="3470400"/>
            <a:ext cx="7088040" cy="2506680"/>
          </a:xfrm>
          <a:prstGeom prst="rect">
            <a:avLst/>
          </a:prstGeom>
          <a:solidFill>
            <a:srgbClr val="ff8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8020080" y="3460680"/>
            <a:ext cx="7076880" cy="540000"/>
          </a:xfrm>
          <a:prstGeom prst="rect">
            <a:avLst/>
          </a:prstGeom>
          <a:solidFill>
            <a:srgbClr val="938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"/>
          <p:cNvSpPr/>
          <p:nvPr/>
        </p:nvSpPr>
        <p:spPr>
          <a:xfrm>
            <a:off x="9255240" y="3500280"/>
            <a:ext cx="5454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"/>
          <p:cNvSpPr/>
          <p:nvPr/>
        </p:nvSpPr>
        <p:spPr>
          <a:xfrm>
            <a:off x="9274320" y="4149720"/>
            <a:ext cx="54594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Vestibulum tr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"/>
          <p:cNvSpPr/>
          <p:nvPr/>
        </p:nvSpPr>
        <p:spPr>
          <a:xfrm>
            <a:off x="922320" y="3471840"/>
            <a:ext cx="7089840" cy="2505240"/>
          </a:xfrm>
          <a:prstGeom prst="rect">
            <a:avLst/>
          </a:prstGeom>
          <a:solidFill>
            <a:srgbClr val="364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"/>
          <p:cNvSpPr/>
          <p:nvPr/>
        </p:nvSpPr>
        <p:spPr>
          <a:xfrm>
            <a:off x="922320" y="3462480"/>
            <a:ext cx="7078680" cy="539640"/>
          </a:xfrm>
          <a:prstGeom prst="rect">
            <a:avLst/>
          </a:prstGeom>
          <a:solidFill>
            <a:srgbClr val="261b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954840" y="2674800"/>
            <a:ext cx="2116080" cy="2117520"/>
            <a:chOff x="6954840" y="2674800"/>
            <a:chExt cx="2116080" cy="2117520"/>
          </a:xfrm>
        </p:grpSpPr>
        <p:sp>
          <p:nvSpPr>
            <p:cNvPr id="88" name=""/>
            <p:cNvSpPr/>
            <p:nvPr/>
          </p:nvSpPr>
          <p:spPr>
            <a:xfrm>
              <a:off x="6954840" y="2674800"/>
              <a:ext cx="2116080" cy="2117520"/>
            </a:xfrm>
            <a:prstGeom prst="ellipse">
              <a:avLst/>
            </a:prstGeom>
            <a:solidFill>
              <a:srgbClr val="261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13680" y="2928960"/>
              <a:ext cx="1587600" cy="1588320"/>
            </a:xfrm>
            <a:prstGeom prst="ellipse">
              <a:avLst/>
            </a:prstGeom>
            <a:solidFill>
              <a:srgbClr val="cc5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238400" y="3502080"/>
            <a:ext cx="5454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4149720"/>
            <a:ext cx="54579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Cambria"/>
              </a:rPr>
              <a:t>Tr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Cambria Bold"/>
              </a:rPr>
              <a:t>Another Data Assessment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To go places and do things that have never been done before – that’s what living is all about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6527880"/>
            <a:ext cx="141411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We want to explore. We’re curious people. Look back over history, people have put their lives at stake to go out and explore … We believe in what we’re doing. Now it’s time to go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01080" y="2921040"/>
            <a:ext cx="1625400" cy="1625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Cambria Bold"/>
              </a:rPr>
              <a:t>Lorem Ipsum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cool things here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"/>
          <p:cNvSpPr/>
          <p:nvPr/>
        </p:nvSpPr>
        <p:spPr>
          <a:xfrm>
            <a:off x="1069920" y="2479680"/>
            <a:ext cx="141210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efe"/>
                </a:solidFill>
                <a:latin typeface="Cambria"/>
                <a:ea typeface="Cambria"/>
              </a:rPr>
              <a:t>It suddenly struck me that that tiny pea, pretty and blue, was the Earth. I put up my thumb and shut one eye, and my thumb blotted out the planet Earth. I didn't feel like a giant. I felt very, very small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"/>
          <p:cNvSpPr/>
          <p:nvPr/>
        </p:nvSpPr>
        <p:spPr>
          <a:xfrm>
            <a:off x="63360" y="6284880"/>
            <a:ext cx="13246200" cy="1752480"/>
          </a:xfrm>
          <a:prstGeom prst="rect">
            <a:avLst/>
          </a:prstGeom>
          <a:solidFill>
            <a:srgbClr val="756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"/>
          <p:cNvSpPr/>
          <p:nvPr/>
        </p:nvSpPr>
        <p:spPr>
          <a:xfrm>
            <a:off x="12522240" y="6286680"/>
            <a:ext cx="1422360" cy="1384200"/>
          </a:xfrm>
          <a:prstGeom prst="ellipse">
            <a:avLst/>
          </a:prstGeom>
          <a:solidFill>
            <a:srgbClr val="756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"/>
          <p:cNvSpPr/>
          <p:nvPr/>
        </p:nvSpPr>
        <p:spPr>
          <a:xfrm>
            <a:off x="12573000" y="5994360"/>
            <a:ext cx="927000" cy="1104840"/>
          </a:xfrm>
          <a:prstGeom prst="ellipse">
            <a:avLst/>
          </a:prstGeom>
          <a:solidFill>
            <a:srgbClr val="756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78040" y="50166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28680" y="651672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"/>
          <p:cNvSpPr/>
          <p:nvPr/>
        </p:nvSpPr>
        <p:spPr>
          <a:xfrm>
            <a:off x="1236600" y="6989760"/>
            <a:ext cx="3282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Cambria Italic"/>
              </a:rPr>
              <a:t>Maecenas vitae consectetur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0" y="6657840"/>
            <a:ext cx="1440" cy="1101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34120" y="473724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49840" y="651528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"/>
          <p:cNvSpPr/>
          <p:nvPr/>
        </p:nvSpPr>
        <p:spPr>
          <a:xfrm>
            <a:off x="4749840" y="6985080"/>
            <a:ext cx="3282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Cambria Italic"/>
              </a:rPr>
              <a:t>Maecenas vitae consectetur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"/>
          <p:cNvSpPr/>
          <p:nvPr/>
        </p:nvSpPr>
        <p:spPr>
          <a:xfrm>
            <a:off x="7835760" y="6603840"/>
            <a:ext cx="0" cy="1100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742320" y="4402080"/>
            <a:ext cx="717480" cy="2014560"/>
            <a:chOff x="9742320" y="4402080"/>
            <a:chExt cx="717480" cy="2014560"/>
          </a:xfrm>
        </p:grpSpPr>
        <p:grpSp>
          <p:nvGrpSpPr>
            <p:cNvPr id="111" name=""/>
            <p:cNvGrpSpPr/>
            <p:nvPr/>
          </p:nvGrpSpPr>
          <p:grpSpPr>
            <a:xfrm>
              <a:off x="9828000" y="4402080"/>
              <a:ext cx="542880" cy="542880"/>
              <a:chOff x="9828000" y="4402080"/>
              <a:chExt cx="542880" cy="542880"/>
            </a:xfrm>
          </p:grpSpPr>
          <p:sp>
            <p:nvSpPr>
              <p:cNvPr id="112" name=""/>
              <p:cNvSpPr/>
              <p:nvPr/>
            </p:nvSpPr>
            <p:spPr>
              <a:xfrm>
                <a:off x="9828000" y="4402080"/>
                <a:ext cx="542880" cy="542880"/>
              </a:xfrm>
              <a:prstGeom prst="ellipse">
                <a:avLst/>
              </a:prstGeom>
              <a:solidFill>
                <a:srgbClr val="54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896400" y="4483080"/>
                <a:ext cx="403200" cy="376200"/>
              </a:xfrm>
              <a:prstGeom prst="ellipse">
                <a:avLst/>
              </a:prstGeom>
              <a:solidFill>
                <a:srgbClr val="ff8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9742320" y="4895640"/>
              <a:ext cx="717480" cy="1521000"/>
              <a:chOff x="9742320" y="4895640"/>
              <a:chExt cx="717480" cy="1521000"/>
            </a:xfrm>
          </p:grpSpPr>
          <p:sp>
            <p:nvSpPr>
              <p:cNvPr id="115" name=""/>
              <p:cNvSpPr/>
              <p:nvPr/>
            </p:nvSpPr>
            <p:spPr>
              <a:xfrm>
                <a:off x="9742320" y="5010120"/>
                <a:ext cx="717480" cy="1406520"/>
              </a:xfrm>
              <a:prstGeom prst="pie">
                <a:avLst/>
              </a:prstGeom>
              <a:solidFill>
                <a:srgbClr val="54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051920" y="4895640"/>
                <a:ext cx="109440" cy="250920"/>
              </a:xfrm>
              <a:prstGeom prst="pie">
                <a:avLst/>
              </a:prstGeom>
              <a:solidFill>
                <a:srgbClr val="544865"/>
              </a:solidFill>
              <a:ln w="1260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8889840" y="4394160"/>
            <a:ext cx="717480" cy="2014560"/>
            <a:chOff x="8889840" y="4394160"/>
            <a:chExt cx="717480" cy="2014560"/>
          </a:xfrm>
        </p:grpSpPr>
        <p:grpSp>
          <p:nvGrpSpPr>
            <p:cNvPr id="118" name=""/>
            <p:cNvGrpSpPr/>
            <p:nvPr/>
          </p:nvGrpSpPr>
          <p:grpSpPr>
            <a:xfrm>
              <a:off x="8975520" y="4394160"/>
              <a:ext cx="542880" cy="542880"/>
              <a:chOff x="8975520" y="4394160"/>
              <a:chExt cx="542880" cy="542880"/>
            </a:xfrm>
          </p:grpSpPr>
          <p:sp>
            <p:nvSpPr>
              <p:cNvPr id="119" name=""/>
              <p:cNvSpPr/>
              <p:nvPr/>
            </p:nvSpPr>
            <p:spPr>
              <a:xfrm>
                <a:off x="8975520" y="4394160"/>
                <a:ext cx="542880" cy="542880"/>
              </a:xfrm>
              <a:prstGeom prst="ellipse">
                <a:avLst/>
              </a:prstGeom>
              <a:solidFill>
                <a:srgbClr val="513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043920" y="4475160"/>
                <a:ext cx="403200" cy="376200"/>
              </a:xfrm>
              <a:prstGeom prst="ellipse">
                <a:avLst/>
              </a:prstGeom>
              <a:solidFill>
                <a:srgbClr val="f668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8889840" y="4887720"/>
              <a:ext cx="717480" cy="1521000"/>
              <a:chOff x="8889840" y="4887720"/>
              <a:chExt cx="717480" cy="1521000"/>
            </a:xfrm>
          </p:grpSpPr>
          <p:sp>
            <p:nvSpPr>
              <p:cNvPr id="122" name=""/>
              <p:cNvSpPr/>
              <p:nvPr/>
            </p:nvSpPr>
            <p:spPr>
              <a:xfrm>
                <a:off x="8889840" y="5002200"/>
                <a:ext cx="717480" cy="1406520"/>
              </a:xfrm>
              <a:prstGeom prst="pie">
                <a:avLst/>
              </a:prstGeom>
              <a:solidFill>
                <a:srgbClr val="513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199440" y="4887720"/>
                <a:ext cx="109440" cy="250920"/>
              </a:xfrm>
              <a:prstGeom prst="pie">
                <a:avLst/>
              </a:prstGeom>
              <a:solidFill>
                <a:srgbClr val="513d41"/>
              </a:solidFill>
              <a:ln w="1260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8267760" y="651528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"/>
          <p:cNvSpPr/>
          <p:nvPr/>
        </p:nvSpPr>
        <p:spPr>
          <a:xfrm>
            <a:off x="8267760" y="6985080"/>
            <a:ext cx="32828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Cambria Italic"/>
              </a:rPr>
              <a:t>Maecenas vitae consectetur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28640" y="4959360"/>
            <a:ext cx="3284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"/>
          <p:cNvSpPr/>
          <p:nvPr/>
        </p:nvSpPr>
        <p:spPr>
          <a:xfrm>
            <a:off x="1636560" y="555156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Maecenas vitae ante quis, dapibus consectetur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"/>
          <p:cNvSpPr/>
          <p:nvPr/>
        </p:nvSpPr>
        <p:spPr>
          <a:xfrm>
            <a:off x="4205160" y="3476520"/>
            <a:ext cx="1219320" cy="762120"/>
          </a:xfrm>
          <a:prstGeom prst="rightArrow">
            <a:avLst>
              <a:gd name="adj1" fmla="val 60824"/>
              <a:gd name="adj2" fmla="val 5088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"/>
          <p:cNvSpPr/>
          <p:nvPr/>
        </p:nvSpPr>
        <p:spPr>
          <a:xfrm>
            <a:off x="5264280" y="495468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"/>
          <p:cNvSpPr/>
          <p:nvPr/>
        </p:nvSpPr>
        <p:spPr>
          <a:xfrm>
            <a:off x="5270400" y="5546880"/>
            <a:ext cx="328464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Maecenas vitae ante quis, dapibus consectetur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"/>
          <p:cNvSpPr/>
          <p:nvPr/>
        </p:nvSpPr>
        <p:spPr>
          <a:xfrm>
            <a:off x="7823160" y="3470400"/>
            <a:ext cx="1219320" cy="761760"/>
          </a:xfrm>
          <a:prstGeom prst="rightArrow">
            <a:avLst>
              <a:gd name="adj1" fmla="val 60824"/>
              <a:gd name="adj2" fmla="val 50910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"/>
          <p:cNvSpPr/>
          <p:nvPr/>
        </p:nvSpPr>
        <p:spPr>
          <a:xfrm>
            <a:off x="8908920" y="4956120"/>
            <a:ext cx="3284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"/>
          <p:cNvSpPr/>
          <p:nvPr/>
        </p:nvSpPr>
        <p:spPr>
          <a:xfrm>
            <a:off x="8916840" y="5548320"/>
            <a:ext cx="3283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Maecenas vitae ante quis, dapibus consectetur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"/>
          <p:cNvSpPr/>
          <p:nvPr/>
        </p:nvSpPr>
        <p:spPr>
          <a:xfrm>
            <a:off x="11436480" y="3470400"/>
            <a:ext cx="1218960" cy="761760"/>
          </a:xfrm>
          <a:prstGeom prst="rightArrow">
            <a:avLst>
              <a:gd name="adj1" fmla="val 60824"/>
              <a:gd name="adj2" fmla="val 5089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33520" y="3238560"/>
            <a:ext cx="1241280" cy="1240920"/>
            <a:chOff x="2333520" y="3238560"/>
            <a:chExt cx="1241280" cy="1240920"/>
          </a:xfrm>
        </p:grpSpPr>
        <p:sp>
          <p:nvSpPr>
            <p:cNvPr id="136" name=""/>
            <p:cNvSpPr/>
            <p:nvPr/>
          </p:nvSpPr>
          <p:spPr>
            <a:xfrm>
              <a:off x="2394000" y="3319560"/>
              <a:ext cx="1118880" cy="1050480"/>
            </a:xfrm>
            <a:prstGeom prst="rect">
              <a:avLst/>
            </a:prstGeom>
            <a:solidFill>
              <a:srgbClr val="cf5a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2333520" y="323856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5938920" y="3238560"/>
            <a:ext cx="1239840" cy="1240920"/>
            <a:chOff x="5938920" y="3238560"/>
            <a:chExt cx="1239840" cy="1240920"/>
          </a:xfrm>
        </p:grpSpPr>
        <p:sp>
          <p:nvSpPr>
            <p:cNvPr id="139" name=""/>
            <p:cNvSpPr/>
            <p:nvPr/>
          </p:nvSpPr>
          <p:spPr>
            <a:xfrm>
              <a:off x="5992920" y="3348000"/>
              <a:ext cx="1117440" cy="1050480"/>
            </a:xfrm>
            <a:prstGeom prst="rect">
              <a:avLst/>
            </a:prstGeom>
            <a:solidFill>
              <a:srgbClr val="9a5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5938920" y="3238560"/>
              <a:ext cx="1239840" cy="12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"/>
          <p:cNvGrpSpPr/>
          <p:nvPr/>
        </p:nvGrpSpPr>
        <p:grpSpPr>
          <a:xfrm>
            <a:off x="9664560" y="3238560"/>
            <a:ext cx="1241280" cy="1240920"/>
            <a:chOff x="9664560" y="3238560"/>
            <a:chExt cx="1241280" cy="1240920"/>
          </a:xfrm>
        </p:grpSpPr>
        <p:sp>
          <p:nvSpPr>
            <p:cNvPr id="142" name=""/>
            <p:cNvSpPr/>
            <p:nvPr/>
          </p:nvSpPr>
          <p:spPr>
            <a:xfrm>
              <a:off x="9725040" y="3295800"/>
              <a:ext cx="1118880" cy="1050480"/>
            </a:xfrm>
            <a:prstGeom prst="rect">
              <a:avLst/>
            </a:prstGeom>
            <a:solidFill>
              <a:srgbClr val="544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9664560" y="3238560"/>
              <a:ext cx="1241280" cy="12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Cambria Bold"/>
              </a:rPr>
              <a:t>Cool Showcase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We want to explore. We’re curious people. Look back over history, people have put their lives at stake to go out and explore …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2890520" y="316224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641680" y="3595680"/>
            <a:ext cx="3746520" cy="863640"/>
          </a:xfrm>
          <a:prstGeom prst="roundRect">
            <a:avLst>
              <a:gd name="adj" fmla="val 50000"/>
            </a:avLst>
          </a:prstGeom>
          <a:solidFill>
            <a:srgbClr val="938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"/>
          <p:cNvSpPr/>
          <p:nvPr/>
        </p:nvSpPr>
        <p:spPr>
          <a:xfrm>
            <a:off x="2873520" y="3814920"/>
            <a:ext cx="3282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uper POWER!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"/>
          <p:cNvSpPr/>
          <p:nvPr/>
        </p:nvSpPr>
        <p:spPr>
          <a:xfrm>
            <a:off x="1008000" y="4950000"/>
            <a:ext cx="3745080" cy="863280"/>
          </a:xfrm>
          <a:prstGeom prst="roundRect">
            <a:avLst>
              <a:gd name="adj" fmla="val 50000"/>
            </a:avLst>
          </a:prstGeom>
          <a:solidFill>
            <a:srgbClr val="ff8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"/>
          <p:cNvSpPr/>
          <p:nvPr/>
        </p:nvSpPr>
        <p:spPr>
          <a:xfrm>
            <a:off x="1238400" y="5168880"/>
            <a:ext cx="3284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uper POWER!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"/>
          <p:cNvSpPr/>
          <p:nvPr/>
        </p:nvSpPr>
        <p:spPr>
          <a:xfrm>
            <a:off x="1751040" y="6364440"/>
            <a:ext cx="3746520" cy="863280"/>
          </a:xfrm>
          <a:prstGeom prst="roundRect">
            <a:avLst>
              <a:gd name="adj" fmla="val 50000"/>
            </a:avLst>
          </a:prstGeom>
          <a:solidFill>
            <a:srgbClr val="513d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"/>
          <p:cNvSpPr/>
          <p:nvPr/>
        </p:nvSpPr>
        <p:spPr>
          <a:xfrm>
            <a:off x="1982880" y="6583320"/>
            <a:ext cx="3282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uper POWER!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613560" y="4013280"/>
            <a:ext cx="3386160" cy="3386160"/>
            <a:chOff x="6613560" y="4013280"/>
            <a:chExt cx="3386160" cy="3386160"/>
          </a:xfrm>
        </p:grpSpPr>
        <p:sp>
          <p:nvSpPr>
            <p:cNvPr id="154" name=""/>
            <p:cNvSpPr/>
            <p:nvPr/>
          </p:nvSpPr>
          <p:spPr>
            <a:xfrm>
              <a:off x="6613560" y="4013280"/>
              <a:ext cx="3386160" cy="3386160"/>
            </a:xfrm>
            <a:prstGeom prst="ellipse">
              <a:avLst/>
            </a:prstGeom>
            <a:solidFill>
              <a:srgbClr val="513d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27920" y="4417920"/>
              <a:ext cx="2539800" cy="2541600"/>
            </a:xfrm>
            <a:prstGeom prst="ellipse">
              <a:avLst/>
            </a:prstGeom>
            <a:solidFill>
              <a:srgbClr val="261b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248600" y="4646520"/>
            <a:ext cx="2116080" cy="2117520"/>
            <a:chOff x="7248600" y="4646520"/>
            <a:chExt cx="2116080" cy="2117520"/>
          </a:xfrm>
        </p:grpSpPr>
        <p:sp>
          <p:nvSpPr>
            <p:cNvPr id="157" name=""/>
            <p:cNvSpPr/>
            <p:nvPr/>
          </p:nvSpPr>
          <p:spPr>
            <a:xfrm>
              <a:off x="7248600" y="4646520"/>
              <a:ext cx="2116080" cy="2117520"/>
            </a:xfrm>
            <a:prstGeom prst="pie">
              <a:avLst/>
            </a:pr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7378920" y="4755960"/>
              <a:ext cx="185400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10472760" y="3879720"/>
            <a:ext cx="3841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Phasellus nec dui accumsan. Lorem ipsum dolor sit amet, consectetur adipiscing elit.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"/>
          <p:cNvSpPr/>
          <p:nvPr/>
        </p:nvSpPr>
        <p:spPr>
          <a:xfrm>
            <a:off x="1039680" y="590400"/>
            <a:ext cx="58950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Cambria Bold"/>
              </a:rPr>
              <a:t>Product Information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"/>
          <p:cNvSpPr/>
          <p:nvPr/>
        </p:nvSpPr>
        <p:spPr>
          <a:xfrm>
            <a:off x="1077840" y="1501920"/>
            <a:ext cx="140922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Science cuts two ways, of course; its products can be used for both good and evil. But there's no turning back from science. The early warnings about technological dangers also come from science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009800" y="3198960"/>
            <a:ext cx="1488600" cy="1488960"/>
            <a:chOff x="1009800" y="3198960"/>
            <a:chExt cx="1488600" cy="1488960"/>
          </a:xfrm>
        </p:grpSpPr>
        <p:sp>
          <p:nvSpPr>
            <p:cNvPr id="163" name=""/>
            <p:cNvSpPr/>
            <p:nvPr/>
          </p:nvSpPr>
          <p:spPr>
            <a:xfrm>
              <a:off x="1009800" y="3198960"/>
              <a:ext cx="1488600" cy="1488960"/>
            </a:xfrm>
            <a:prstGeom prst="pie">
              <a:avLst/>
            </a:pr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1100160" y="3294360"/>
              <a:ext cx="1306080" cy="13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2828880" y="3218040"/>
            <a:ext cx="48704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header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Vivamus finibus eu metus in fin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09800" y="5051520"/>
            <a:ext cx="1488600" cy="1488960"/>
            <a:chOff x="1009800" y="5051520"/>
            <a:chExt cx="1488600" cy="1488960"/>
          </a:xfrm>
        </p:grpSpPr>
        <p:sp>
          <p:nvSpPr>
            <p:cNvPr id="167" name=""/>
            <p:cNvSpPr/>
            <p:nvPr/>
          </p:nvSpPr>
          <p:spPr>
            <a:xfrm>
              <a:off x="1009800" y="5051520"/>
              <a:ext cx="1488600" cy="1488960"/>
            </a:xfrm>
            <a:prstGeom prst="pie">
              <a:avLst/>
            </a:pr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1100160" y="5143680"/>
              <a:ext cx="1306080" cy="13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2828880" y="4986360"/>
            <a:ext cx="487044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header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Vivamus finibus eu metus in finibus. Vivamus congue felis eget mauris convallis fin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172360" y="3138480"/>
            <a:ext cx="1488960" cy="1488960"/>
            <a:chOff x="8172360" y="3138480"/>
            <a:chExt cx="1488960" cy="1488960"/>
          </a:xfrm>
        </p:grpSpPr>
        <p:sp>
          <p:nvSpPr>
            <p:cNvPr id="171" name=""/>
            <p:cNvSpPr/>
            <p:nvPr/>
          </p:nvSpPr>
          <p:spPr>
            <a:xfrm>
              <a:off x="8172360" y="3138480"/>
              <a:ext cx="1488960" cy="1488960"/>
            </a:xfrm>
            <a:prstGeom prst="pie">
              <a:avLst/>
            </a:pr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8262720" y="3230640"/>
              <a:ext cx="1306440" cy="13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10051920" y="3218040"/>
            <a:ext cx="48704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header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Nunc tincidunt semper odio ac tempus. Vivamus eu metus in fin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72360" y="5056200"/>
            <a:ext cx="1488960" cy="1488960"/>
            <a:chOff x="8172360" y="5056200"/>
            <a:chExt cx="1488960" cy="1488960"/>
          </a:xfrm>
        </p:grpSpPr>
        <p:sp>
          <p:nvSpPr>
            <p:cNvPr id="175" name=""/>
            <p:cNvSpPr/>
            <p:nvPr/>
          </p:nvSpPr>
          <p:spPr>
            <a:xfrm>
              <a:off x="8172360" y="5056200"/>
              <a:ext cx="1488960" cy="1488960"/>
            </a:xfrm>
            <a:prstGeom prst="pie">
              <a:avLst/>
            </a:prstGeom>
            <a:solidFill>
              <a:srgbClr val="fefefe"/>
            </a:solidFill>
            <a:ln w="38160">
              <a:solidFill>
                <a:srgbClr val="d4d6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8262720" y="5132520"/>
              <a:ext cx="1306440" cy="13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10051920" y="4983120"/>
            <a:ext cx="3936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Bold"/>
                <a:ea typeface="Cambria Bold"/>
              </a:rPr>
              <a:t>Some header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Vivamus finibus eu metus in finibus. Vivamus congue felis eget mauris convallis fin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"/>
          <p:cNvSpPr/>
          <p:nvPr/>
        </p:nvSpPr>
        <p:spPr>
          <a:xfrm>
            <a:off x="1021320" y="590400"/>
            <a:ext cx="51602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Bold"/>
                <a:ea typeface="Cambria Bold"/>
              </a:rPr>
              <a:t>More Information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We want to explore. We’re curious people. Look back over history, people have put their lives at stake to go out and explore …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3360" y="3295800"/>
            <a:ext cx="15303600" cy="1180800"/>
          </a:xfrm>
          <a:prstGeom prst="rightArrow">
            <a:avLst>
              <a:gd name="adj1" fmla="val 64176"/>
              <a:gd name="adj2" fmla="val 46921"/>
            </a:avLst>
          </a:prstGeom>
          <a:solidFill>
            <a:srgbClr val="766b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6683400"/>
            <a:ext cx="10172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Italic"/>
                <a:ea typeface="Cambria Italic"/>
              </a:rPr>
              <a:t>My mission in life is not merely to survive, but to thrive; and to do so with some passion, some compassion, some humor, and some style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"/>
          <p:cNvSpPr/>
          <p:nvPr/>
        </p:nvSpPr>
        <p:spPr>
          <a:xfrm>
            <a:off x="1592280" y="4570560"/>
            <a:ext cx="2711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Some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"/>
          <p:cNvSpPr/>
          <p:nvPr/>
        </p:nvSpPr>
        <p:spPr>
          <a:xfrm>
            <a:off x="1604880" y="5178600"/>
            <a:ext cx="2685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Cambria Italic"/>
              </a:rPr>
              <a:t>Maecenas, dap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"/>
          <p:cNvSpPr/>
          <p:nvPr/>
        </p:nvSpPr>
        <p:spPr>
          <a:xfrm>
            <a:off x="4681440" y="4578480"/>
            <a:ext cx="2712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Some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"/>
          <p:cNvSpPr/>
          <p:nvPr/>
        </p:nvSpPr>
        <p:spPr>
          <a:xfrm>
            <a:off x="4694400" y="5186520"/>
            <a:ext cx="2687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Cambria Italic"/>
              </a:rPr>
              <a:t>Mapibus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"/>
          <p:cNvSpPr/>
          <p:nvPr/>
        </p:nvSpPr>
        <p:spPr>
          <a:xfrm>
            <a:off x="7993080" y="4578480"/>
            <a:ext cx="2711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Some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"/>
          <p:cNvSpPr/>
          <p:nvPr/>
        </p:nvSpPr>
        <p:spPr>
          <a:xfrm>
            <a:off x="8005680" y="5186520"/>
            <a:ext cx="2685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Cambria Italic"/>
              </a:rPr>
              <a:t>Vitae dap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"/>
          <p:cNvSpPr/>
          <p:nvPr/>
        </p:nvSpPr>
        <p:spPr>
          <a:xfrm>
            <a:off x="11037960" y="4602240"/>
            <a:ext cx="2711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Cambria Bold"/>
              </a:rPr>
              <a:t>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"/>
          <p:cNvSpPr/>
          <p:nvPr/>
        </p:nvSpPr>
        <p:spPr>
          <a:xfrm>
            <a:off x="11050560" y="5210280"/>
            <a:ext cx="2685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Italic"/>
                <a:ea typeface="Cambria Italic"/>
              </a:rPr>
              <a:t>Ante, constetur ipsum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"/>
          <p:cNvSpPr/>
          <p:nvPr/>
        </p:nvSpPr>
        <p:spPr>
          <a:xfrm>
            <a:off x="1650960" y="3538440"/>
            <a:ext cx="2712960" cy="1060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882c"/>
                </a:solidFill>
                <a:latin typeface="Cambria Bold"/>
                <a:ea typeface="Cambria Bold"/>
              </a:rPr>
              <a:t>75</a:t>
            </a:r>
            <a:r>
              <a:rPr b="0" lang="en-US" sz="1800" spc="-1" strike="noStrike">
                <a:solidFill>
                  <a:srgbClr val="ff882c"/>
                </a:solidFill>
                <a:latin typeface="Cambria"/>
                <a:ea typeface="Cambria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"/>
          <p:cNvSpPr/>
          <p:nvPr/>
        </p:nvSpPr>
        <p:spPr>
          <a:xfrm>
            <a:off x="4762440" y="3525840"/>
            <a:ext cx="2711520" cy="1060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882c"/>
                </a:solidFill>
                <a:latin typeface="Cambria Bold"/>
                <a:ea typeface="Cambria Bold"/>
              </a:rPr>
              <a:t>90</a:t>
            </a:r>
            <a:r>
              <a:rPr b="0" lang="en-US" sz="1800" spc="-1" strike="noStrike">
                <a:solidFill>
                  <a:srgbClr val="ff882c"/>
                </a:solidFill>
                <a:latin typeface="Cambria"/>
                <a:ea typeface="Cambria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"/>
          <p:cNvSpPr/>
          <p:nvPr/>
        </p:nvSpPr>
        <p:spPr>
          <a:xfrm>
            <a:off x="8120160" y="3527280"/>
            <a:ext cx="2711520" cy="1060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882c"/>
                </a:solidFill>
                <a:latin typeface="Cambria Bold"/>
                <a:ea typeface="Cambria Bold"/>
              </a:rPr>
              <a:t>80</a:t>
            </a:r>
            <a:r>
              <a:rPr b="0" lang="en-US" sz="1800" spc="-1" strike="noStrike">
                <a:solidFill>
                  <a:srgbClr val="ff882c"/>
                </a:solidFill>
                <a:latin typeface="Cambria"/>
                <a:ea typeface="Cambria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"/>
          <p:cNvSpPr/>
          <p:nvPr/>
        </p:nvSpPr>
        <p:spPr>
          <a:xfrm>
            <a:off x="11145960" y="3525840"/>
            <a:ext cx="2711160" cy="1060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882c"/>
                </a:solidFill>
                <a:latin typeface="Cambria Bold"/>
                <a:ea typeface="Cambria Bold"/>
              </a:rPr>
              <a:t>50</a:t>
            </a:r>
            <a:r>
              <a:rPr b="0" lang="en-US" sz="1800" spc="-1" strike="noStrike">
                <a:solidFill>
                  <a:srgbClr val="ff882c"/>
                </a:solidFill>
                <a:latin typeface="Cambria"/>
                <a:ea typeface="Cambria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"/>
          <p:cNvSpPr/>
          <p:nvPr/>
        </p:nvSpPr>
        <p:spPr>
          <a:xfrm>
            <a:off x="1042200" y="590400"/>
            <a:ext cx="3852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Bold"/>
                <a:ea typeface="Cambria Bold"/>
              </a:rPr>
              <a:t>Plan Summary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Darkness cannot drive out darkness; only light can do that. Hate cannot drive out hate; only love can do that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13720" y="3614760"/>
            <a:ext cx="6642000" cy="625320"/>
          </a:xfrm>
          <a:prstGeom prst="rightArrow">
            <a:avLst>
              <a:gd name="adj1" fmla="val 100000"/>
              <a:gd name="adj2" fmla="val 55715"/>
            </a:avLst>
          </a:prstGeom>
          <a:solidFill>
            <a:srgbClr val="766b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"/>
          <p:cNvSpPr/>
          <p:nvPr/>
        </p:nvSpPr>
        <p:spPr>
          <a:xfrm>
            <a:off x="7499520" y="3675240"/>
            <a:ext cx="83008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"/>
                <a:ea typeface="Cambria"/>
              </a:rPr>
              <a:t>1. Suspendisse arcu, efficitu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"/>
          <p:cNvSpPr/>
          <p:nvPr/>
        </p:nvSpPr>
        <p:spPr>
          <a:xfrm>
            <a:off x="6807240" y="4473720"/>
            <a:ext cx="7550280" cy="625320"/>
          </a:xfrm>
          <a:prstGeom prst="rightArrow">
            <a:avLst>
              <a:gd name="adj1" fmla="val 100000"/>
              <a:gd name="adj2" fmla="val 55732"/>
            </a:avLst>
          </a:prstGeom>
          <a:solidFill>
            <a:srgbClr val="938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"/>
          <p:cNvSpPr/>
          <p:nvPr/>
        </p:nvSpPr>
        <p:spPr>
          <a:xfrm>
            <a:off x="7547040" y="4529160"/>
            <a:ext cx="8300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"/>
                <a:ea typeface="Cambria"/>
              </a:rPr>
              <a:t>2. Fermentum arcu, efficitu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"/>
          <p:cNvSpPr/>
          <p:nvPr/>
        </p:nvSpPr>
        <p:spPr>
          <a:xfrm>
            <a:off x="6831000" y="5332320"/>
            <a:ext cx="7205760" cy="625680"/>
          </a:xfrm>
          <a:prstGeom prst="rightArrow">
            <a:avLst>
              <a:gd name="adj1" fmla="val 100000"/>
              <a:gd name="adj2" fmla="val 60303"/>
            </a:avLst>
          </a:prstGeom>
          <a:solidFill>
            <a:srgbClr val="766b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"/>
          <p:cNvSpPr/>
          <p:nvPr/>
        </p:nvSpPr>
        <p:spPr>
          <a:xfrm>
            <a:off x="7562880" y="5397480"/>
            <a:ext cx="83008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"/>
                <a:ea typeface="Cambria"/>
              </a:rPr>
              <a:t>3. Nendrerit fermentum arcu, efficitu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68480" y="3335400"/>
            <a:ext cx="4403880" cy="5741280"/>
            <a:chOff x="2868480" y="3335400"/>
            <a:chExt cx="4403880" cy="5741280"/>
          </a:xfrm>
        </p:grpSpPr>
        <p:grpSp>
          <p:nvGrpSpPr>
            <p:cNvPr id="203" name=""/>
            <p:cNvGrpSpPr/>
            <p:nvPr/>
          </p:nvGrpSpPr>
          <p:grpSpPr>
            <a:xfrm>
              <a:off x="2868480" y="3335400"/>
              <a:ext cx="4403880" cy="5741280"/>
              <a:chOff x="2868480" y="3335400"/>
              <a:chExt cx="4403880" cy="5741280"/>
            </a:xfrm>
          </p:grpSpPr>
          <p:sp>
            <p:nvSpPr>
              <p:cNvPr id="204" name=""/>
              <p:cNvSpPr/>
              <p:nvPr/>
            </p:nvSpPr>
            <p:spPr>
              <a:xfrm>
                <a:off x="4746600" y="6215400"/>
                <a:ext cx="654120" cy="23328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02160" y="6345720"/>
                <a:ext cx="1143000" cy="27309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68480" y="3335400"/>
                <a:ext cx="4403880" cy="2962800"/>
              </a:xfrm>
              <a:prstGeom prst="pie">
                <a:avLst/>
              </a:prstGeom>
              <a:solidFill>
                <a:srgbClr val="34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71520" y="3540240"/>
                <a:ext cx="4011840" cy="2467440"/>
              </a:xfrm>
              <a:prstGeom prst="rect">
                <a:avLst/>
              </a:prstGeom>
              <a:solidFill>
                <a:srgbClr val="34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3062160" y="3540240"/>
              <a:ext cx="4014720" cy="246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074600" y="590400"/>
            <a:ext cx="43786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Bold"/>
                <a:ea typeface="Cambria Bold"/>
              </a:rPr>
              <a:t>Product Analysis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Cambria"/>
              </a:rPr>
              <a:t>The regret on our side is, they used to say years ago, we are reading about you in science class.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