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1200" y="9296280"/>
            <a:ext cx="64515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767"/>
                </a:solidFill>
                <a:latin typeface="Arial"/>
                <a:ea typeface="Arial"/>
              </a:rPr>
              <a:t>Visi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http://bestpowerpointtemplates.com</a:t>
            </a:r>
            <a:r>
              <a:rPr b="0" lang="en-US" sz="1400" spc="-1" strike="noStrike">
                <a:solidFill>
                  <a:srgbClr val="676767"/>
                </a:solidFill>
                <a:latin typeface="Arial"/>
                <a:ea typeface="Arial"/>
              </a:rPr>
              <a:t> for more free PPT resources!</a:t>
            </a:r>
            <a:endParaRPr b="0" lang="en-US" sz="14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878787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800" spc="-1" strike="noStrike">
              <a:solidFill>
                <a:srgbClr val="878787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878787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878787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878787"/>
              </a:solidFill>
              <a:latin typeface="Calibri"/>
            </a:endParaRPr>
          </a:p>
          <a:p>
            <a:pPr lvl="5" marL="1828800">
              <a:spcBef>
                <a:spcPts val="700"/>
              </a:spcBef>
              <a:buClr>
                <a:srgbClr val="59595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878787"/>
              </a:solidFill>
              <a:latin typeface="Calibri"/>
            </a:endParaRPr>
          </a:p>
          <a:p>
            <a:pPr lvl="6" marL="1828800">
              <a:spcBef>
                <a:spcPts val="700"/>
              </a:spcBef>
              <a:buClr>
                <a:srgbClr val="59595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21800" y="628560"/>
            <a:ext cx="54529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a1a1a"/>
                </a:solidFill>
                <a:latin typeface="Lora Bold"/>
                <a:ea typeface="Lora Bold"/>
              </a:rPr>
              <a:t>Speech Bubbles (1)</a:t>
            </a:r>
            <a:endParaRPr b="0" lang="en-US" sz="48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40" name=""/>
          <p:cNvSpPr/>
          <p:nvPr/>
        </p:nvSpPr>
        <p:spPr>
          <a:xfrm>
            <a:off x="9232920" y="5118120"/>
            <a:ext cx="3581280" cy="2031840"/>
          </a:xfrm>
          <a:prstGeom prst="pie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41" name=""/>
          <p:cNvSpPr/>
          <p:nvPr/>
        </p:nvSpPr>
        <p:spPr>
          <a:xfrm>
            <a:off x="1473120" y="1994040"/>
            <a:ext cx="3670560" cy="1904760"/>
          </a:xfrm>
          <a:prstGeom prst="wedgeEllipseCallout">
            <a:avLst>
              <a:gd name="adj1" fmla="val -46333"/>
              <a:gd name="adj2" fmla="val 67694"/>
            </a:avLst>
          </a:prstGeom>
          <a:blipFill rotWithShape="0">
            <a:blip r:embed="rId2"/>
            <a:srcRect/>
            <a:stretch/>
          </a:blipFill>
          <a:ln w="50760">
            <a:solidFill>
              <a:srgbClr val="cccccc"/>
            </a:solidFill>
            <a:miter/>
          </a:ln>
          <a:effectLst>
            <a:outerShdw dist="0" dir="0" blurRad="0" rotWithShape="0">
              <a:srgbClr val="6767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42" name=""/>
          <p:cNvSpPr/>
          <p:nvPr/>
        </p:nvSpPr>
        <p:spPr>
          <a:xfrm>
            <a:off x="4826160" y="4254480"/>
            <a:ext cx="3073320" cy="2273400"/>
          </a:xfrm>
          <a:prstGeom prst="wedgeEllipseCallout">
            <a:avLst>
              <a:gd name="adj1" fmla="val -29541"/>
              <a:gd name="adj2" fmla="val 123435"/>
            </a:avLst>
          </a:prstGeom>
          <a:blipFill rotWithShape="0">
            <a:blip r:embed="rId3"/>
            <a:srcRect/>
            <a:stretch/>
          </a:blipFill>
          <a:ln w="50760">
            <a:solidFill>
              <a:srgbClr val="cccccc"/>
            </a:solidFill>
            <a:miter/>
          </a:ln>
          <a:effectLst>
            <a:outerShdw dist="0" dir="0" blurRad="0" rotWithShape="0">
              <a:srgbClr val="6767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43" name=""/>
          <p:cNvSpPr/>
          <p:nvPr/>
        </p:nvSpPr>
        <p:spPr>
          <a:xfrm>
            <a:off x="7899480" y="1028880"/>
            <a:ext cx="2870280" cy="1892160"/>
          </a:xfrm>
          <a:prstGeom prst="pie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08400" y="5664240"/>
            <a:ext cx="3671640" cy="3085560"/>
            <a:chOff x="608400" y="5664240"/>
            <a:chExt cx="3671640" cy="3085560"/>
          </a:xfrm>
        </p:grpSpPr>
        <p:sp>
          <p:nvSpPr>
            <p:cNvPr id="45" name=""/>
            <p:cNvSpPr/>
            <p:nvPr/>
          </p:nvSpPr>
          <p:spPr>
            <a:xfrm flipH="1">
              <a:off x="608040" y="5664240"/>
              <a:ext cx="3447720" cy="2204640"/>
            </a:xfrm>
            <a:prstGeom prst="wedgeEllipseCallout">
              <a:avLst>
                <a:gd name="adj1" fmla="val -28703"/>
                <a:gd name="adj2" fmla="val 22069"/>
              </a:avLst>
            </a:prstGeom>
            <a:blipFill rotWithShape="0">
              <a:blip r:embed="rId5"/>
              <a:srcRect/>
              <a:stretch/>
            </a:blipFill>
            <a:ln w="50760">
              <a:solidFill>
                <a:srgbClr val="cccccc"/>
              </a:solidFill>
              <a:miter/>
            </a:ln>
            <a:effectLst>
              <a:outerShdw dist="0" dir="0" blurRad="0" rotWithShape="0">
                <a:srgbClr val="676767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959"/>
                </a:solidFill>
                <a:latin typeface="Lora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3899160" y="8476920"/>
              <a:ext cx="380880" cy="272880"/>
            </a:xfrm>
            <a:prstGeom prst="wedgeEllipseCallout">
              <a:avLst>
                <a:gd name="adj1" fmla="val 42004"/>
                <a:gd name="adj2" fmla="val 24930"/>
              </a:avLst>
            </a:prstGeom>
            <a:blipFill rotWithShape="0">
              <a:blip r:embed="rId6"/>
              <a:srcRect/>
              <a:stretch/>
            </a:blipFill>
            <a:ln w="50760">
              <a:solidFill>
                <a:srgbClr val="cccccc"/>
              </a:solidFill>
              <a:miter/>
            </a:ln>
            <a:effectLst>
              <a:outerShdw dist="0" dir="0" blurRad="0" rotWithShape="0">
                <a:srgbClr val="676767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959"/>
                </a:solidFill>
                <a:latin typeface="Lora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223800" y="7832520"/>
              <a:ext cx="783000" cy="543960"/>
            </a:xfrm>
            <a:prstGeom prst="wedgeEllipseCallout">
              <a:avLst>
                <a:gd name="adj1" fmla="val 8212"/>
                <a:gd name="adj2" fmla="val 33902"/>
              </a:avLst>
            </a:prstGeom>
            <a:blipFill rotWithShape="0">
              <a:blip r:embed="rId7"/>
              <a:srcRect/>
              <a:stretch/>
            </a:blipFill>
            <a:ln w="50760">
              <a:solidFill>
                <a:srgbClr val="cccccc"/>
              </a:solidFill>
              <a:miter/>
            </a:ln>
            <a:effectLst>
              <a:outerShdw dist="0" dir="0" blurRad="0" rotWithShape="0">
                <a:srgbClr val="676767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959"/>
                </a:solidFill>
                <a:latin typeface="Lora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5719680" y="4927680"/>
            <a:ext cx="127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959"/>
                </a:solidFill>
                <a:latin typeface="Lora"/>
                <a:ea typeface="Lora"/>
              </a:rPr>
              <a:t>Text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49" name=""/>
          <p:cNvSpPr/>
          <p:nvPr/>
        </p:nvSpPr>
        <p:spPr>
          <a:xfrm>
            <a:off x="8548920" y="1166760"/>
            <a:ext cx="1564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959"/>
                </a:solidFill>
                <a:latin typeface="Lora"/>
                <a:ea typeface="Lora"/>
              </a:rPr>
              <a:t>Your 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959"/>
                </a:solidFill>
                <a:latin typeface="Lora"/>
                <a:ea typeface="Lora"/>
              </a:rPr>
              <a:t>Text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50" name=""/>
          <p:cNvSpPr/>
          <p:nvPr/>
        </p:nvSpPr>
        <p:spPr>
          <a:xfrm>
            <a:off x="9613800" y="5775480"/>
            <a:ext cx="29210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959"/>
                </a:solidFill>
                <a:latin typeface="Lora"/>
                <a:ea typeface="Lora"/>
              </a:rPr>
              <a:t>Your Text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51" name=""/>
          <p:cNvSpPr/>
          <p:nvPr/>
        </p:nvSpPr>
        <p:spPr>
          <a:xfrm>
            <a:off x="851040" y="6350040"/>
            <a:ext cx="29210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959"/>
                </a:solidFill>
                <a:latin typeface="Lora"/>
                <a:ea typeface="Lora"/>
              </a:rPr>
              <a:t>Text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52" name=""/>
          <p:cNvSpPr/>
          <p:nvPr/>
        </p:nvSpPr>
        <p:spPr>
          <a:xfrm>
            <a:off x="1854360" y="2438280"/>
            <a:ext cx="29206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959"/>
                </a:solidFill>
                <a:latin typeface="Lora"/>
                <a:ea typeface="Lora"/>
              </a:rPr>
              <a:t>Text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57480" y="6032520"/>
            <a:ext cx="2336760" cy="1562040"/>
          </a:xfrm>
          <a:prstGeom prst="wedgeEllipseCallout">
            <a:avLst>
              <a:gd name="adj1" fmla="val 145814"/>
              <a:gd name="adj2" fmla="val 124657"/>
            </a:avLst>
          </a:prstGeom>
          <a:blipFill rotWithShape="0">
            <a:blip r:embed="rId1"/>
            <a:srcRect/>
            <a:stretch/>
          </a:blipFill>
          <a:ln w="50760">
            <a:solidFill>
              <a:srgbClr val="cccccc"/>
            </a:solidFill>
            <a:miter/>
          </a:ln>
          <a:effectLst>
            <a:outerShdw dist="0" dir="0" blurRad="0" rotWithShape="0">
              <a:srgbClr val="6767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54" name=""/>
          <p:cNvSpPr/>
          <p:nvPr/>
        </p:nvSpPr>
        <p:spPr>
          <a:xfrm>
            <a:off x="763920" y="628560"/>
            <a:ext cx="54529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a1a1a"/>
                </a:solidFill>
                <a:latin typeface="Lora Bold"/>
                <a:ea typeface="Lora Bold"/>
              </a:rPr>
              <a:t>Speech Bubbles (2)</a:t>
            </a:r>
            <a:endParaRPr b="0" lang="en-US" sz="48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55" name=""/>
          <p:cNvSpPr/>
          <p:nvPr/>
        </p:nvSpPr>
        <p:spPr>
          <a:xfrm>
            <a:off x="1473120" y="1994040"/>
            <a:ext cx="3670560" cy="2412720"/>
          </a:xfrm>
          <a:prstGeom prst="pie">
            <a:avLst/>
          </a:prstGeom>
          <a:blipFill rotWithShape="0">
            <a:blip r:embed="rId2"/>
            <a:srcRect/>
            <a:stretch/>
          </a:blipFill>
          <a:ln w="50760">
            <a:solidFill>
              <a:srgbClr val="cccccc"/>
            </a:solidFill>
            <a:miter/>
          </a:ln>
          <a:effectLst>
            <a:outerShdw dist="0" dir="0" blurRad="0" rotWithShape="0">
              <a:srgbClr val="6767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56" name=""/>
          <p:cNvSpPr/>
          <p:nvPr/>
        </p:nvSpPr>
        <p:spPr>
          <a:xfrm>
            <a:off x="5931000" y="1790640"/>
            <a:ext cx="3225600" cy="2273400"/>
          </a:xfrm>
          <a:prstGeom prst="pie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cccccc"/>
            </a:solidFill>
            <a:miter/>
          </a:ln>
          <a:effectLst>
            <a:outerShdw dist="0" dir="0" blurRad="0" rotWithShape="0">
              <a:srgbClr val="6767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57" name=""/>
          <p:cNvSpPr/>
          <p:nvPr/>
        </p:nvSpPr>
        <p:spPr>
          <a:xfrm>
            <a:off x="9042480" y="5321160"/>
            <a:ext cx="2870280" cy="1892520"/>
          </a:xfrm>
          <a:prstGeom prst="pie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58" name=""/>
          <p:cNvSpPr/>
          <p:nvPr/>
        </p:nvSpPr>
        <p:spPr>
          <a:xfrm>
            <a:off x="6824520" y="2463840"/>
            <a:ext cx="127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959"/>
                </a:solidFill>
                <a:latin typeface="Lora"/>
                <a:ea typeface="Lora"/>
              </a:rPr>
              <a:t>Text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59" name=""/>
          <p:cNvSpPr/>
          <p:nvPr/>
        </p:nvSpPr>
        <p:spPr>
          <a:xfrm>
            <a:off x="1854360" y="2755800"/>
            <a:ext cx="29206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959"/>
                </a:solidFill>
                <a:latin typeface="Lora"/>
                <a:ea typeface="Lora"/>
              </a:rPr>
              <a:t>Text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60" name=""/>
          <p:cNvSpPr/>
          <p:nvPr/>
        </p:nvSpPr>
        <p:spPr>
          <a:xfrm>
            <a:off x="723960" y="5245200"/>
            <a:ext cx="3479760" cy="3009960"/>
          </a:xfrm>
          <a:prstGeom prst="pie">
            <a:avLst/>
          </a:prstGeom>
          <a:gradFill rotWithShape="0">
            <a:gsLst>
              <a:gs pos="0">
                <a:srgbClr val="f4f3ff"/>
              </a:gs>
              <a:gs pos="100000">
                <a:srgbClr val="c1c0c2"/>
              </a:gs>
            </a:gsLst>
            <a:lin ang="5400000"/>
          </a:gradFill>
          <a:ln w="507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61" name=""/>
          <p:cNvSpPr/>
          <p:nvPr/>
        </p:nvSpPr>
        <p:spPr>
          <a:xfrm>
            <a:off x="1003320" y="6311880"/>
            <a:ext cx="29210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959"/>
                </a:solidFill>
                <a:latin typeface="Lora"/>
                <a:ea typeface="Lora"/>
              </a:rPr>
              <a:t>Text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62" name=""/>
          <p:cNvSpPr/>
          <p:nvPr/>
        </p:nvSpPr>
        <p:spPr>
          <a:xfrm>
            <a:off x="8278920" y="5065560"/>
            <a:ext cx="3873240" cy="256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54" y="7163"/>
                </a:moveTo>
                <a:lnTo>
                  <a:pt x="1853" y="7183"/>
                </a:lnTo>
                <a:lnTo>
                  <a:pt x="1752" y="7203"/>
                </a:lnTo>
                <a:lnTo>
                  <a:pt x="1645" y="7243"/>
                </a:lnTo>
                <a:lnTo>
                  <a:pt x="1544" y="7283"/>
                </a:lnTo>
                <a:lnTo>
                  <a:pt x="1450" y="7324"/>
                </a:lnTo>
                <a:lnTo>
                  <a:pt x="1363" y="7374"/>
                </a:lnTo>
                <a:lnTo>
                  <a:pt x="1262" y="7434"/>
                </a:lnTo>
                <a:lnTo>
                  <a:pt x="1182" y="7494"/>
                </a:lnTo>
                <a:lnTo>
                  <a:pt x="1094" y="7554"/>
                </a:lnTo>
                <a:lnTo>
                  <a:pt x="1000" y="7624"/>
                </a:lnTo>
                <a:lnTo>
                  <a:pt x="927" y="7704"/>
                </a:lnTo>
                <a:lnTo>
                  <a:pt x="846" y="7784"/>
                </a:lnTo>
                <a:lnTo>
                  <a:pt x="692" y="7955"/>
                </a:lnTo>
                <a:lnTo>
                  <a:pt x="631" y="8035"/>
                </a:lnTo>
                <a:lnTo>
                  <a:pt x="564" y="8145"/>
                </a:lnTo>
                <a:lnTo>
                  <a:pt x="497" y="8245"/>
                </a:lnTo>
                <a:lnTo>
                  <a:pt x="436" y="8335"/>
                </a:lnTo>
                <a:lnTo>
                  <a:pt x="369" y="8456"/>
                </a:lnTo>
                <a:lnTo>
                  <a:pt x="322" y="8566"/>
                </a:lnTo>
                <a:lnTo>
                  <a:pt x="269" y="8686"/>
                </a:lnTo>
                <a:lnTo>
                  <a:pt x="228" y="8796"/>
                </a:lnTo>
                <a:lnTo>
                  <a:pt x="188" y="8916"/>
                </a:lnTo>
                <a:lnTo>
                  <a:pt x="154" y="9047"/>
                </a:lnTo>
                <a:lnTo>
                  <a:pt x="114" y="9167"/>
                </a:lnTo>
                <a:lnTo>
                  <a:pt x="87" y="9297"/>
                </a:lnTo>
                <a:lnTo>
                  <a:pt x="60" y="9437"/>
                </a:lnTo>
                <a:lnTo>
                  <a:pt x="34" y="9568"/>
                </a:lnTo>
                <a:lnTo>
                  <a:pt x="27" y="9698"/>
                </a:lnTo>
                <a:lnTo>
                  <a:pt x="13" y="9858"/>
                </a:lnTo>
                <a:lnTo>
                  <a:pt x="0" y="9988"/>
                </a:lnTo>
                <a:lnTo>
                  <a:pt x="0" y="10129"/>
                </a:lnTo>
                <a:lnTo>
                  <a:pt x="0" y="10319"/>
                </a:lnTo>
                <a:lnTo>
                  <a:pt x="13" y="10529"/>
                </a:lnTo>
                <a:lnTo>
                  <a:pt x="34" y="10720"/>
                </a:lnTo>
                <a:lnTo>
                  <a:pt x="74" y="10890"/>
                </a:lnTo>
                <a:lnTo>
                  <a:pt x="114" y="11091"/>
                </a:lnTo>
                <a:lnTo>
                  <a:pt x="168" y="11261"/>
                </a:lnTo>
                <a:lnTo>
                  <a:pt x="215" y="11431"/>
                </a:lnTo>
                <a:lnTo>
                  <a:pt x="282" y="11601"/>
                </a:lnTo>
                <a:lnTo>
                  <a:pt x="356" y="11762"/>
                </a:lnTo>
                <a:lnTo>
                  <a:pt x="436" y="11932"/>
                </a:lnTo>
                <a:lnTo>
                  <a:pt x="524" y="12062"/>
                </a:lnTo>
                <a:lnTo>
                  <a:pt x="631" y="12223"/>
                </a:lnTo>
                <a:lnTo>
                  <a:pt x="732" y="12353"/>
                </a:lnTo>
                <a:lnTo>
                  <a:pt x="833" y="12473"/>
                </a:lnTo>
                <a:lnTo>
                  <a:pt x="953" y="12583"/>
                </a:lnTo>
                <a:lnTo>
                  <a:pt x="1081" y="12704"/>
                </a:lnTo>
                <a:lnTo>
                  <a:pt x="1068" y="12663"/>
                </a:lnTo>
                <a:lnTo>
                  <a:pt x="987" y="12754"/>
                </a:lnTo>
                <a:lnTo>
                  <a:pt x="927" y="12874"/>
                </a:lnTo>
                <a:lnTo>
                  <a:pt x="873" y="12994"/>
                </a:lnTo>
                <a:lnTo>
                  <a:pt x="812" y="13104"/>
                </a:lnTo>
                <a:lnTo>
                  <a:pt x="759" y="13224"/>
                </a:lnTo>
                <a:lnTo>
                  <a:pt x="705" y="13335"/>
                </a:lnTo>
                <a:lnTo>
                  <a:pt x="665" y="13465"/>
                </a:lnTo>
                <a:lnTo>
                  <a:pt x="631" y="13605"/>
                </a:lnTo>
                <a:lnTo>
                  <a:pt x="591" y="13715"/>
                </a:lnTo>
                <a:lnTo>
                  <a:pt x="564" y="13856"/>
                </a:lnTo>
                <a:lnTo>
                  <a:pt x="537" y="13986"/>
                </a:lnTo>
                <a:lnTo>
                  <a:pt x="510" y="14126"/>
                </a:lnTo>
                <a:lnTo>
                  <a:pt x="497" y="14256"/>
                </a:lnTo>
                <a:lnTo>
                  <a:pt x="490" y="14397"/>
                </a:lnTo>
                <a:lnTo>
                  <a:pt x="477" y="14547"/>
                </a:lnTo>
                <a:lnTo>
                  <a:pt x="477" y="14677"/>
                </a:lnTo>
                <a:lnTo>
                  <a:pt x="477" y="14837"/>
                </a:lnTo>
                <a:lnTo>
                  <a:pt x="490" y="14988"/>
                </a:lnTo>
                <a:lnTo>
                  <a:pt x="497" y="15138"/>
                </a:lnTo>
                <a:lnTo>
                  <a:pt x="510" y="15278"/>
                </a:lnTo>
                <a:lnTo>
                  <a:pt x="537" y="15429"/>
                </a:lnTo>
                <a:lnTo>
                  <a:pt x="577" y="15569"/>
                </a:lnTo>
                <a:lnTo>
                  <a:pt x="604" y="15699"/>
                </a:lnTo>
                <a:lnTo>
                  <a:pt x="645" y="15829"/>
                </a:lnTo>
                <a:lnTo>
                  <a:pt x="692" y="15970"/>
                </a:lnTo>
                <a:lnTo>
                  <a:pt x="732" y="16100"/>
                </a:lnTo>
                <a:lnTo>
                  <a:pt x="799" y="16220"/>
                </a:lnTo>
                <a:lnTo>
                  <a:pt x="846" y="16330"/>
                </a:lnTo>
                <a:lnTo>
                  <a:pt x="913" y="16450"/>
                </a:lnTo>
                <a:lnTo>
                  <a:pt x="974" y="16561"/>
                </a:lnTo>
                <a:lnTo>
                  <a:pt x="1041" y="16681"/>
                </a:lnTo>
                <a:lnTo>
                  <a:pt x="1121" y="16771"/>
                </a:lnTo>
                <a:lnTo>
                  <a:pt x="1182" y="16871"/>
                </a:lnTo>
                <a:lnTo>
                  <a:pt x="1276" y="16971"/>
                </a:lnTo>
                <a:lnTo>
                  <a:pt x="1350" y="17042"/>
                </a:lnTo>
                <a:lnTo>
                  <a:pt x="1444" y="17142"/>
                </a:lnTo>
                <a:lnTo>
                  <a:pt x="1517" y="17222"/>
                </a:lnTo>
                <a:lnTo>
                  <a:pt x="1618" y="17272"/>
                </a:lnTo>
                <a:lnTo>
                  <a:pt x="1712" y="17352"/>
                </a:lnTo>
                <a:lnTo>
                  <a:pt x="1799" y="17412"/>
                </a:lnTo>
                <a:lnTo>
                  <a:pt x="1907" y="17462"/>
                </a:lnTo>
                <a:lnTo>
                  <a:pt x="2008" y="17502"/>
                </a:lnTo>
                <a:lnTo>
                  <a:pt x="2108" y="17542"/>
                </a:lnTo>
                <a:lnTo>
                  <a:pt x="2216" y="17583"/>
                </a:lnTo>
                <a:lnTo>
                  <a:pt x="2316" y="17603"/>
                </a:lnTo>
                <a:lnTo>
                  <a:pt x="2431" y="17623"/>
                </a:lnTo>
                <a:lnTo>
                  <a:pt x="2551" y="17643"/>
                </a:lnTo>
                <a:lnTo>
                  <a:pt x="2652" y="17643"/>
                </a:lnTo>
                <a:lnTo>
                  <a:pt x="2780" y="17643"/>
                </a:lnTo>
                <a:lnTo>
                  <a:pt x="2907" y="17623"/>
                </a:lnTo>
                <a:lnTo>
                  <a:pt x="2894" y="17643"/>
                </a:lnTo>
                <a:lnTo>
                  <a:pt x="2961" y="17793"/>
                </a:lnTo>
                <a:lnTo>
                  <a:pt x="3035" y="17943"/>
                </a:lnTo>
                <a:lnTo>
                  <a:pt x="3102" y="18083"/>
                </a:lnTo>
                <a:lnTo>
                  <a:pt x="3183" y="18214"/>
                </a:lnTo>
                <a:lnTo>
                  <a:pt x="3344" y="18484"/>
                </a:lnTo>
                <a:lnTo>
                  <a:pt x="3512" y="18755"/>
                </a:lnTo>
                <a:lnTo>
                  <a:pt x="3693" y="18985"/>
                </a:lnTo>
                <a:lnTo>
                  <a:pt x="3901" y="19196"/>
                </a:lnTo>
                <a:lnTo>
                  <a:pt x="4096" y="19406"/>
                </a:lnTo>
                <a:lnTo>
                  <a:pt x="4311" y="19586"/>
                </a:lnTo>
                <a:lnTo>
                  <a:pt x="4418" y="19656"/>
                </a:lnTo>
                <a:lnTo>
                  <a:pt x="4532" y="19737"/>
                </a:lnTo>
                <a:lnTo>
                  <a:pt x="4646" y="19817"/>
                </a:lnTo>
                <a:lnTo>
                  <a:pt x="4767" y="19887"/>
                </a:lnTo>
                <a:lnTo>
                  <a:pt x="4881" y="19947"/>
                </a:lnTo>
                <a:lnTo>
                  <a:pt x="4995" y="20007"/>
                </a:lnTo>
                <a:lnTo>
                  <a:pt x="5110" y="20057"/>
                </a:lnTo>
                <a:lnTo>
                  <a:pt x="5244" y="20097"/>
                </a:lnTo>
                <a:lnTo>
                  <a:pt x="5358" y="20157"/>
                </a:lnTo>
                <a:lnTo>
                  <a:pt x="5486" y="20197"/>
                </a:lnTo>
                <a:lnTo>
                  <a:pt x="5613" y="20217"/>
                </a:lnTo>
                <a:lnTo>
                  <a:pt x="5727" y="20257"/>
                </a:lnTo>
                <a:lnTo>
                  <a:pt x="5862" y="20278"/>
                </a:lnTo>
                <a:lnTo>
                  <a:pt x="5989" y="20278"/>
                </a:lnTo>
                <a:lnTo>
                  <a:pt x="6117" y="20298"/>
                </a:lnTo>
                <a:lnTo>
                  <a:pt x="6244" y="20298"/>
                </a:lnTo>
                <a:lnTo>
                  <a:pt x="6372" y="20298"/>
                </a:lnTo>
                <a:lnTo>
                  <a:pt x="6513" y="20278"/>
                </a:lnTo>
                <a:lnTo>
                  <a:pt x="6647" y="20278"/>
                </a:lnTo>
                <a:lnTo>
                  <a:pt x="6775" y="20257"/>
                </a:lnTo>
                <a:lnTo>
                  <a:pt x="6902" y="20217"/>
                </a:lnTo>
                <a:lnTo>
                  <a:pt x="7030" y="20177"/>
                </a:lnTo>
                <a:lnTo>
                  <a:pt x="7157" y="20137"/>
                </a:lnTo>
                <a:lnTo>
                  <a:pt x="7278" y="20097"/>
                </a:lnTo>
                <a:lnTo>
                  <a:pt x="7406" y="20047"/>
                </a:lnTo>
                <a:lnTo>
                  <a:pt x="7533" y="20007"/>
                </a:lnTo>
                <a:lnTo>
                  <a:pt x="7648" y="19927"/>
                </a:lnTo>
                <a:lnTo>
                  <a:pt x="7768" y="19867"/>
                </a:lnTo>
                <a:lnTo>
                  <a:pt x="7896" y="19797"/>
                </a:lnTo>
                <a:lnTo>
                  <a:pt x="8010" y="19717"/>
                </a:lnTo>
                <a:lnTo>
                  <a:pt x="8124" y="19616"/>
                </a:lnTo>
                <a:lnTo>
                  <a:pt x="8245" y="19546"/>
                </a:lnTo>
                <a:lnTo>
                  <a:pt x="8232" y="19546"/>
                </a:lnTo>
                <a:lnTo>
                  <a:pt x="8359" y="19777"/>
                </a:lnTo>
                <a:lnTo>
                  <a:pt x="8487" y="20007"/>
                </a:lnTo>
                <a:lnTo>
                  <a:pt x="8628" y="20217"/>
                </a:lnTo>
                <a:lnTo>
                  <a:pt x="8769" y="20408"/>
                </a:lnTo>
                <a:lnTo>
                  <a:pt x="8937" y="20578"/>
                </a:lnTo>
                <a:lnTo>
                  <a:pt x="9091" y="20758"/>
                </a:lnTo>
                <a:lnTo>
                  <a:pt x="9272" y="20909"/>
                </a:lnTo>
                <a:lnTo>
                  <a:pt x="9440" y="21039"/>
                </a:lnTo>
                <a:lnTo>
                  <a:pt x="9635" y="21179"/>
                </a:lnTo>
                <a:lnTo>
                  <a:pt x="9816" y="21269"/>
                </a:lnTo>
                <a:lnTo>
                  <a:pt x="10018" y="21370"/>
                </a:lnTo>
                <a:lnTo>
                  <a:pt x="10212" y="21450"/>
                </a:lnTo>
                <a:lnTo>
                  <a:pt x="10421" y="21500"/>
                </a:lnTo>
                <a:lnTo>
                  <a:pt x="10622" y="21560"/>
                </a:lnTo>
                <a:lnTo>
                  <a:pt x="10830" y="21580"/>
                </a:lnTo>
                <a:lnTo>
                  <a:pt x="11038" y="21600"/>
                </a:lnTo>
                <a:lnTo>
                  <a:pt x="11179" y="21580"/>
                </a:lnTo>
                <a:lnTo>
                  <a:pt x="11320" y="21580"/>
                </a:lnTo>
                <a:lnTo>
                  <a:pt x="11448" y="21560"/>
                </a:lnTo>
                <a:lnTo>
                  <a:pt x="11589" y="21520"/>
                </a:lnTo>
                <a:lnTo>
                  <a:pt x="11723" y="21500"/>
                </a:lnTo>
                <a:lnTo>
                  <a:pt x="11851" y="21450"/>
                </a:lnTo>
                <a:lnTo>
                  <a:pt x="11978" y="21410"/>
                </a:lnTo>
                <a:lnTo>
                  <a:pt x="12106" y="21350"/>
                </a:lnTo>
                <a:lnTo>
                  <a:pt x="12234" y="21289"/>
                </a:lnTo>
                <a:lnTo>
                  <a:pt x="12361" y="21219"/>
                </a:lnTo>
                <a:lnTo>
                  <a:pt x="12482" y="21139"/>
                </a:lnTo>
                <a:lnTo>
                  <a:pt x="12596" y="21059"/>
                </a:lnTo>
                <a:lnTo>
                  <a:pt x="12710" y="20989"/>
                </a:lnTo>
                <a:lnTo>
                  <a:pt x="12831" y="20889"/>
                </a:lnTo>
                <a:lnTo>
                  <a:pt x="12945" y="20788"/>
                </a:lnTo>
                <a:lnTo>
                  <a:pt x="13046" y="20678"/>
                </a:lnTo>
                <a:lnTo>
                  <a:pt x="13147" y="20578"/>
                </a:lnTo>
                <a:lnTo>
                  <a:pt x="13254" y="20448"/>
                </a:lnTo>
                <a:lnTo>
                  <a:pt x="13355" y="20328"/>
                </a:lnTo>
                <a:lnTo>
                  <a:pt x="13449" y="20217"/>
                </a:lnTo>
                <a:lnTo>
                  <a:pt x="13536" y="20077"/>
                </a:lnTo>
                <a:lnTo>
                  <a:pt x="13623" y="19947"/>
                </a:lnTo>
                <a:lnTo>
                  <a:pt x="13717" y="19797"/>
                </a:lnTo>
                <a:lnTo>
                  <a:pt x="13791" y="19636"/>
                </a:lnTo>
                <a:lnTo>
                  <a:pt x="13872" y="19506"/>
                </a:lnTo>
                <a:lnTo>
                  <a:pt x="13939" y="19336"/>
                </a:lnTo>
                <a:lnTo>
                  <a:pt x="13999" y="19175"/>
                </a:lnTo>
                <a:lnTo>
                  <a:pt x="14067" y="19025"/>
                </a:lnTo>
                <a:lnTo>
                  <a:pt x="14127" y="18855"/>
                </a:lnTo>
                <a:lnTo>
                  <a:pt x="14181" y="18675"/>
                </a:lnTo>
                <a:lnTo>
                  <a:pt x="14221" y="18504"/>
                </a:lnTo>
                <a:lnTo>
                  <a:pt x="14268" y="18314"/>
                </a:lnTo>
                <a:lnTo>
                  <a:pt x="14268" y="18354"/>
                </a:lnTo>
                <a:lnTo>
                  <a:pt x="14449" y="18484"/>
                </a:lnTo>
                <a:lnTo>
                  <a:pt x="14631" y="18604"/>
                </a:lnTo>
                <a:lnTo>
                  <a:pt x="14812" y="18695"/>
                </a:lnTo>
                <a:lnTo>
                  <a:pt x="15007" y="18795"/>
                </a:lnTo>
                <a:lnTo>
                  <a:pt x="15201" y="18855"/>
                </a:lnTo>
                <a:lnTo>
                  <a:pt x="15403" y="18905"/>
                </a:lnTo>
                <a:lnTo>
                  <a:pt x="15597" y="18925"/>
                </a:lnTo>
                <a:lnTo>
                  <a:pt x="15698" y="18925"/>
                </a:lnTo>
                <a:lnTo>
                  <a:pt x="15806" y="18945"/>
                </a:lnTo>
                <a:lnTo>
                  <a:pt x="15960" y="18925"/>
                </a:lnTo>
                <a:lnTo>
                  <a:pt x="16101" y="18905"/>
                </a:lnTo>
                <a:lnTo>
                  <a:pt x="16242" y="18885"/>
                </a:lnTo>
                <a:lnTo>
                  <a:pt x="16383" y="18855"/>
                </a:lnTo>
                <a:lnTo>
                  <a:pt x="16524" y="18815"/>
                </a:lnTo>
                <a:lnTo>
                  <a:pt x="16652" y="18755"/>
                </a:lnTo>
                <a:lnTo>
                  <a:pt x="16793" y="18695"/>
                </a:lnTo>
                <a:lnTo>
                  <a:pt x="16927" y="18645"/>
                </a:lnTo>
                <a:lnTo>
                  <a:pt x="17054" y="18564"/>
                </a:lnTo>
                <a:lnTo>
                  <a:pt x="17182" y="18464"/>
                </a:lnTo>
                <a:lnTo>
                  <a:pt x="17296" y="18374"/>
                </a:lnTo>
                <a:lnTo>
                  <a:pt x="17417" y="18274"/>
                </a:lnTo>
                <a:lnTo>
                  <a:pt x="17531" y="18164"/>
                </a:lnTo>
                <a:lnTo>
                  <a:pt x="17632" y="18043"/>
                </a:lnTo>
                <a:lnTo>
                  <a:pt x="17733" y="17933"/>
                </a:lnTo>
                <a:lnTo>
                  <a:pt x="17840" y="17793"/>
                </a:lnTo>
                <a:lnTo>
                  <a:pt x="17941" y="17663"/>
                </a:lnTo>
                <a:lnTo>
                  <a:pt x="18035" y="17522"/>
                </a:lnTo>
                <a:lnTo>
                  <a:pt x="18109" y="17372"/>
                </a:lnTo>
                <a:lnTo>
                  <a:pt x="18203" y="17222"/>
                </a:lnTo>
                <a:lnTo>
                  <a:pt x="18276" y="17062"/>
                </a:lnTo>
                <a:lnTo>
                  <a:pt x="18344" y="16891"/>
                </a:lnTo>
                <a:lnTo>
                  <a:pt x="18404" y="16741"/>
                </a:lnTo>
                <a:lnTo>
                  <a:pt x="18458" y="16561"/>
                </a:lnTo>
                <a:lnTo>
                  <a:pt x="18525" y="16370"/>
                </a:lnTo>
                <a:lnTo>
                  <a:pt x="18558" y="16200"/>
                </a:lnTo>
                <a:lnTo>
                  <a:pt x="18599" y="16010"/>
                </a:lnTo>
                <a:lnTo>
                  <a:pt x="18639" y="15829"/>
                </a:lnTo>
                <a:lnTo>
                  <a:pt x="18666" y="15639"/>
                </a:lnTo>
                <a:lnTo>
                  <a:pt x="18679" y="15429"/>
                </a:lnTo>
                <a:lnTo>
                  <a:pt x="18686" y="15238"/>
                </a:lnTo>
                <a:lnTo>
                  <a:pt x="18699" y="15048"/>
                </a:lnTo>
                <a:lnTo>
                  <a:pt x="18686" y="15028"/>
                </a:lnTo>
                <a:lnTo>
                  <a:pt x="18840" y="14988"/>
                </a:lnTo>
                <a:lnTo>
                  <a:pt x="19002" y="14948"/>
                </a:lnTo>
                <a:lnTo>
                  <a:pt x="19156" y="14888"/>
                </a:lnTo>
                <a:lnTo>
                  <a:pt x="19297" y="14837"/>
                </a:lnTo>
                <a:lnTo>
                  <a:pt x="19438" y="14757"/>
                </a:lnTo>
                <a:lnTo>
                  <a:pt x="19579" y="14677"/>
                </a:lnTo>
                <a:lnTo>
                  <a:pt x="19720" y="14587"/>
                </a:lnTo>
                <a:lnTo>
                  <a:pt x="19848" y="14507"/>
                </a:lnTo>
                <a:lnTo>
                  <a:pt x="19975" y="14397"/>
                </a:lnTo>
                <a:lnTo>
                  <a:pt x="20109" y="14276"/>
                </a:lnTo>
                <a:lnTo>
                  <a:pt x="20224" y="14166"/>
                </a:lnTo>
                <a:lnTo>
                  <a:pt x="20351" y="14046"/>
                </a:lnTo>
                <a:lnTo>
                  <a:pt x="20452" y="13916"/>
                </a:lnTo>
                <a:lnTo>
                  <a:pt x="20573" y="13776"/>
                </a:lnTo>
                <a:lnTo>
                  <a:pt x="20673" y="13625"/>
                </a:lnTo>
                <a:lnTo>
                  <a:pt x="20774" y="13485"/>
                </a:lnTo>
                <a:lnTo>
                  <a:pt x="20868" y="13335"/>
                </a:lnTo>
                <a:lnTo>
                  <a:pt x="20955" y="13164"/>
                </a:lnTo>
                <a:lnTo>
                  <a:pt x="21049" y="13004"/>
                </a:lnTo>
                <a:lnTo>
                  <a:pt x="21123" y="12834"/>
                </a:lnTo>
                <a:lnTo>
                  <a:pt x="21190" y="12663"/>
                </a:lnTo>
                <a:lnTo>
                  <a:pt x="21264" y="12473"/>
                </a:lnTo>
                <a:lnTo>
                  <a:pt x="21331" y="12293"/>
                </a:lnTo>
                <a:lnTo>
                  <a:pt x="21378" y="12102"/>
                </a:lnTo>
                <a:lnTo>
                  <a:pt x="21432" y="11912"/>
                </a:lnTo>
                <a:lnTo>
                  <a:pt x="21472" y="11702"/>
                </a:lnTo>
                <a:lnTo>
                  <a:pt x="21513" y="11511"/>
                </a:lnTo>
                <a:lnTo>
                  <a:pt x="21546" y="11301"/>
                </a:lnTo>
                <a:lnTo>
                  <a:pt x="21573" y="11111"/>
                </a:lnTo>
                <a:lnTo>
                  <a:pt x="21587" y="10890"/>
                </a:lnTo>
                <a:lnTo>
                  <a:pt x="21600" y="10680"/>
                </a:lnTo>
                <a:lnTo>
                  <a:pt x="21600" y="10469"/>
                </a:lnTo>
                <a:lnTo>
                  <a:pt x="21600" y="10279"/>
                </a:lnTo>
                <a:lnTo>
                  <a:pt x="21587" y="10089"/>
                </a:lnTo>
                <a:lnTo>
                  <a:pt x="21573" y="9898"/>
                </a:lnTo>
                <a:lnTo>
                  <a:pt x="21546" y="9698"/>
                </a:lnTo>
                <a:lnTo>
                  <a:pt x="21526" y="9528"/>
                </a:lnTo>
                <a:lnTo>
                  <a:pt x="21499" y="9337"/>
                </a:lnTo>
                <a:lnTo>
                  <a:pt x="21459" y="9167"/>
                </a:lnTo>
                <a:lnTo>
                  <a:pt x="21419" y="8977"/>
                </a:lnTo>
                <a:lnTo>
                  <a:pt x="21372" y="8796"/>
                </a:lnTo>
                <a:lnTo>
                  <a:pt x="21318" y="8626"/>
                </a:lnTo>
                <a:lnTo>
                  <a:pt x="21264" y="8456"/>
                </a:lnTo>
                <a:lnTo>
                  <a:pt x="21204" y="8295"/>
                </a:lnTo>
                <a:lnTo>
                  <a:pt x="21137" y="8125"/>
                </a:lnTo>
                <a:lnTo>
                  <a:pt x="21056" y="7975"/>
                </a:lnTo>
                <a:lnTo>
                  <a:pt x="20982" y="7804"/>
                </a:lnTo>
                <a:lnTo>
                  <a:pt x="20902" y="7664"/>
                </a:lnTo>
                <a:lnTo>
                  <a:pt x="20895" y="7644"/>
                </a:lnTo>
                <a:lnTo>
                  <a:pt x="20942" y="7474"/>
                </a:lnTo>
                <a:lnTo>
                  <a:pt x="20982" y="7304"/>
                </a:lnTo>
                <a:lnTo>
                  <a:pt x="21023" y="7123"/>
                </a:lnTo>
                <a:lnTo>
                  <a:pt x="21056" y="6953"/>
                </a:lnTo>
                <a:lnTo>
                  <a:pt x="21070" y="6763"/>
                </a:lnTo>
                <a:lnTo>
                  <a:pt x="21096" y="6592"/>
                </a:lnTo>
                <a:lnTo>
                  <a:pt x="21110" y="6392"/>
                </a:lnTo>
                <a:lnTo>
                  <a:pt x="21110" y="6222"/>
                </a:lnTo>
                <a:lnTo>
                  <a:pt x="21110" y="6071"/>
                </a:lnTo>
                <a:lnTo>
                  <a:pt x="21096" y="5921"/>
                </a:lnTo>
                <a:lnTo>
                  <a:pt x="21083" y="5761"/>
                </a:lnTo>
                <a:lnTo>
                  <a:pt x="21070" y="5610"/>
                </a:lnTo>
                <a:lnTo>
                  <a:pt x="21049" y="5470"/>
                </a:lnTo>
                <a:lnTo>
                  <a:pt x="21023" y="5320"/>
                </a:lnTo>
                <a:lnTo>
                  <a:pt x="20996" y="5190"/>
                </a:lnTo>
                <a:lnTo>
                  <a:pt x="20969" y="5029"/>
                </a:lnTo>
                <a:lnTo>
                  <a:pt x="20929" y="4899"/>
                </a:lnTo>
                <a:lnTo>
                  <a:pt x="20895" y="4759"/>
                </a:lnTo>
                <a:lnTo>
                  <a:pt x="20841" y="4629"/>
                </a:lnTo>
                <a:lnTo>
                  <a:pt x="20788" y="4498"/>
                </a:lnTo>
                <a:lnTo>
                  <a:pt x="20741" y="4378"/>
                </a:lnTo>
                <a:lnTo>
                  <a:pt x="20687" y="4248"/>
                </a:lnTo>
                <a:lnTo>
                  <a:pt x="20620" y="4128"/>
                </a:lnTo>
                <a:lnTo>
                  <a:pt x="20559" y="4017"/>
                </a:lnTo>
                <a:lnTo>
                  <a:pt x="20492" y="3897"/>
                </a:lnTo>
                <a:lnTo>
                  <a:pt x="20425" y="3787"/>
                </a:lnTo>
                <a:lnTo>
                  <a:pt x="20351" y="3687"/>
                </a:lnTo>
                <a:lnTo>
                  <a:pt x="20271" y="3567"/>
                </a:lnTo>
                <a:lnTo>
                  <a:pt x="20109" y="3376"/>
                </a:lnTo>
                <a:lnTo>
                  <a:pt x="19942" y="3206"/>
                </a:lnTo>
                <a:lnTo>
                  <a:pt x="19848" y="3126"/>
                </a:lnTo>
                <a:lnTo>
                  <a:pt x="19760" y="3056"/>
                </a:lnTo>
                <a:lnTo>
                  <a:pt x="19653" y="2976"/>
                </a:lnTo>
                <a:lnTo>
                  <a:pt x="19552" y="2915"/>
                </a:lnTo>
                <a:lnTo>
                  <a:pt x="19465" y="2865"/>
                </a:lnTo>
                <a:lnTo>
                  <a:pt x="19357" y="2805"/>
                </a:lnTo>
                <a:lnTo>
                  <a:pt x="19243" y="2765"/>
                </a:lnTo>
                <a:lnTo>
                  <a:pt x="19143" y="2705"/>
                </a:lnTo>
                <a:lnTo>
                  <a:pt x="19156" y="2705"/>
                </a:lnTo>
                <a:lnTo>
                  <a:pt x="19129" y="2555"/>
                </a:lnTo>
                <a:lnTo>
                  <a:pt x="19102" y="2414"/>
                </a:lnTo>
                <a:lnTo>
                  <a:pt x="19075" y="2264"/>
                </a:lnTo>
                <a:lnTo>
                  <a:pt x="19035" y="2134"/>
                </a:lnTo>
                <a:lnTo>
                  <a:pt x="19002" y="1994"/>
                </a:lnTo>
                <a:lnTo>
                  <a:pt x="18961" y="1863"/>
                </a:lnTo>
                <a:lnTo>
                  <a:pt x="18908" y="1743"/>
                </a:lnTo>
                <a:lnTo>
                  <a:pt x="18854" y="1613"/>
                </a:lnTo>
                <a:lnTo>
                  <a:pt x="18807" y="1493"/>
                </a:lnTo>
                <a:lnTo>
                  <a:pt x="18740" y="1383"/>
                </a:lnTo>
                <a:lnTo>
                  <a:pt x="18679" y="1262"/>
                </a:lnTo>
                <a:lnTo>
                  <a:pt x="18612" y="1152"/>
                </a:lnTo>
                <a:lnTo>
                  <a:pt x="18545" y="1052"/>
                </a:lnTo>
                <a:lnTo>
                  <a:pt x="18471" y="942"/>
                </a:lnTo>
                <a:lnTo>
                  <a:pt x="18317" y="761"/>
                </a:lnTo>
                <a:lnTo>
                  <a:pt x="18236" y="671"/>
                </a:lnTo>
                <a:lnTo>
                  <a:pt x="18149" y="591"/>
                </a:lnTo>
                <a:lnTo>
                  <a:pt x="18068" y="511"/>
                </a:lnTo>
                <a:lnTo>
                  <a:pt x="17981" y="441"/>
                </a:lnTo>
                <a:lnTo>
                  <a:pt x="17894" y="361"/>
                </a:lnTo>
                <a:lnTo>
                  <a:pt x="17800" y="301"/>
                </a:lnTo>
                <a:lnTo>
                  <a:pt x="17699" y="250"/>
                </a:lnTo>
                <a:lnTo>
                  <a:pt x="17605" y="190"/>
                </a:lnTo>
                <a:lnTo>
                  <a:pt x="17504" y="150"/>
                </a:lnTo>
                <a:lnTo>
                  <a:pt x="17404" y="110"/>
                </a:lnTo>
                <a:lnTo>
                  <a:pt x="17296" y="70"/>
                </a:lnTo>
                <a:lnTo>
                  <a:pt x="17195" y="40"/>
                </a:lnTo>
                <a:lnTo>
                  <a:pt x="17095" y="20"/>
                </a:lnTo>
                <a:lnTo>
                  <a:pt x="16974" y="0"/>
                </a:lnTo>
                <a:lnTo>
                  <a:pt x="16873" y="0"/>
                </a:lnTo>
                <a:lnTo>
                  <a:pt x="16759" y="0"/>
                </a:lnTo>
                <a:lnTo>
                  <a:pt x="16631" y="0"/>
                </a:lnTo>
                <a:lnTo>
                  <a:pt x="16497" y="20"/>
                </a:lnTo>
                <a:lnTo>
                  <a:pt x="16356" y="40"/>
                </a:lnTo>
                <a:lnTo>
                  <a:pt x="16229" y="70"/>
                </a:lnTo>
                <a:lnTo>
                  <a:pt x="16114" y="110"/>
                </a:lnTo>
                <a:lnTo>
                  <a:pt x="15987" y="170"/>
                </a:lnTo>
                <a:lnTo>
                  <a:pt x="15853" y="230"/>
                </a:lnTo>
                <a:lnTo>
                  <a:pt x="15738" y="281"/>
                </a:lnTo>
                <a:lnTo>
                  <a:pt x="15624" y="381"/>
                </a:lnTo>
                <a:lnTo>
                  <a:pt x="15510" y="461"/>
                </a:lnTo>
                <a:lnTo>
                  <a:pt x="15403" y="551"/>
                </a:lnTo>
                <a:lnTo>
                  <a:pt x="15289" y="671"/>
                </a:lnTo>
                <a:lnTo>
                  <a:pt x="15188" y="761"/>
                </a:lnTo>
                <a:lnTo>
                  <a:pt x="15094" y="902"/>
                </a:lnTo>
                <a:lnTo>
                  <a:pt x="14993" y="1012"/>
                </a:lnTo>
                <a:lnTo>
                  <a:pt x="14913" y="1152"/>
                </a:lnTo>
                <a:lnTo>
                  <a:pt x="14913" y="1172"/>
                </a:lnTo>
                <a:lnTo>
                  <a:pt x="14839" y="1032"/>
                </a:lnTo>
                <a:lnTo>
                  <a:pt x="14745" y="902"/>
                </a:lnTo>
                <a:lnTo>
                  <a:pt x="14657" y="781"/>
                </a:lnTo>
                <a:lnTo>
                  <a:pt x="14570" y="671"/>
                </a:lnTo>
                <a:lnTo>
                  <a:pt x="14463" y="551"/>
                </a:lnTo>
                <a:lnTo>
                  <a:pt x="14362" y="461"/>
                </a:lnTo>
                <a:lnTo>
                  <a:pt x="14255" y="381"/>
                </a:lnTo>
                <a:lnTo>
                  <a:pt x="14140" y="301"/>
                </a:lnTo>
                <a:lnTo>
                  <a:pt x="14026" y="230"/>
                </a:lnTo>
                <a:lnTo>
                  <a:pt x="13912" y="170"/>
                </a:lnTo>
                <a:lnTo>
                  <a:pt x="13791" y="110"/>
                </a:lnTo>
                <a:lnTo>
                  <a:pt x="13677" y="70"/>
                </a:lnTo>
                <a:lnTo>
                  <a:pt x="13550" y="40"/>
                </a:lnTo>
                <a:lnTo>
                  <a:pt x="13435" y="20"/>
                </a:lnTo>
                <a:lnTo>
                  <a:pt x="13308" y="0"/>
                </a:lnTo>
                <a:lnTo>
                  <a:pt x="13174" y="0"/>
                </a:lnTo>
                <a:lnTo>
                  <a:pt x="13019" y="0"/>
                </a:lnTo>
                <a:lnTo>
                  <a:pt x="12865" y="20"/>
                </a:lnTo>
                <a:lnTo>
                  <a:pt x="12724" y="50"/>
                </a:lnTo>
                <a:lnTo>
                  <a:pt x="12569" y="110"/>
                </a:lnTo>
                <a:lnTo>
                  <a:pt x="12428" y="170"/>
                </a:lnTo>
                <a:lnTo>
                  <a:pt x="12287" y="250"/>
                </a:lnTo>
                <a:lnTo>
                  <a:pt x="12160" y="321"/>
                </a:lnTo>
                <a:lnTo>
                  <a:pt x="12032" y="441"/>
                </a:lnTo>
                <a:lnTo>
                  <a:pt x="11898" y="551"/>
                </a:lnTo>
                <a:lnTo>
                  <a:pt x="11784" y="671"/>
                </a:lnTo>
                <a:lnTo>
                  <a:pt x="11670" y="801"/>
                </a:lnTo>
                <a:lnTo>
                  <a:pt x="11569" y="962"/>
                </a:lnTo>
                <a:lnTo>
                  <a:pt x="11461" y="1112"/>
                </a:lnTo>
                <a:lnTo>
                  <a:pt x="11374" y="1282"/>
                </a:lnTo>
                <a:lnTo>
                  <a:pt x="11294" y="1453"/>
                </a:lnTo>
                <a:lnTo>
                  <a:pt x="11220" y="1633"/>
                </a:lnTo>
                <a:lnTo>
                  <a:pt x="11233" y="1683"/>
                </a:lnTo>
                <a:lnTo>
                  <a:pt x="11139" y="1553"/>
                </a:lnTo>
                <a:lnTo>
                  <a:pt x="11038" y="1443"/>
                </a:lnTo>
                <a:lnTo>
                  <a:pt x="10938" y="1342"/>
                </a:lnTo>
                <a:lnTo>
                  <a:pt x="10830" y="1242"/>
                </a:lnTo>
                <a:lnTo>
                  <a:pt x="10716" y="1152"/>
                </a:lnTo>
                <a:lnTo>
                  <a:pt x="10602" y="1052"/>
                </a:lnTo>
                <a:lnTo>
                  <a:pt x="10481" y="982"/>
                </a:lnTo>
                <a:lnTo>
                  <a:pt x="10367" y="922"/>
                </a:lnTo>
                <a:lnTo>
                  <a:pt x="10253" y="842"/>
                </a:lnTo>
                <a:lnTo>
                  <a:pt x="10125" y="801"/>
                </a:lnTo>
                <a:lnTo>
                  <a:pt x="10004" y="741"/>
                </a:lnTo>
                <a:lnTo>
                  <a:pt x="9877" y="711"/>
                </a:lnTo>
                <a:lnTo>
                  <a:pt x="9749" y="691"/>
                </a:lnTo>
                <a:lnTo>
                  <a:pt x="9622" y="651"/>
                </a:lnTo>
                <a:lnTo>
                  <a:pt x="9494" y="651"/>
                </a:lnTo>
                <a:lnTo>
                  <a:pt x="9360" y="651"/>
                </a:lnTo>
                <a:lnTo>
                  <a:pt x="9185" y="651"/>
                </a:lnTo>
                <a:lnTo>
                  <a:pt x="8990" y="671"/>
                </a:lnTo>
                <a:lnTo>
                  <a:pt x="8823" y="711"/>
                </a:lnTo>
                <a:lnTo>
                  <a:pt x="8641" y="781"/>
                </a:lnTo>
                <a:lnTo>
                  <a:pt x="8473" y="842"/>
                </a:lnTo>
                <a:lnTo>
                  <a:pt x="8306" y="942"/>
                </a:lnTo>
                <a:lnTo>
                  <a:pt x="8138" y="1032"/>
                </a:lnTo>
                <a:lnTo>
                  <a:pt x="7983" y="1152"/>
                </a:lnTo>
                <a:lnTo>
                  <a:pt x="7829" y="1282"/>
                </a:lnTo>
                <a:lnTo>
                  <a:pt x="7688" y="1443"/>
                </a:lnTo>
                <a:lnTo>
                  <a:pt x="7560" y="1593"/>
                </a:lnTo>
                <a:lnTo>
                  <a:pt x="7433" y="1763"/>
                </a:lnTo>
                <a:lnTo>
                  <a:pt x="7298" y="1954"/>
                </a:lnTo>
                <a:lnTo>
                  <a:pt x="7198" y="2154"/>
                </a:lnTo>
                <a:lnTo>
                  <a:pt x="7097" y="2344"/>
                </a:lnTo>
                <a:lnTo>
                  <a:pt x="7003" y="2575"/>
                </a:lnTo>
                <a:lnTo>
                  <a:pt x="6990" y="2595"/>
                </a:lnTo>
                <a:lnTo>
                  <a:pt x="6802" y="2435"/>
                </a:lnTo>
                <a:lnTo>
                  <a:pt x="6593" y="2324"/>
                </a:lnTo>
                <a:lnTo>
                  <a:pt x="6385" y="2204"/>
                </a:lnTo>
                <a:lnTo>
                  <a:pt x="6285" y="2164"/>
                </a:lnTo>
                <a:lnTo>
                  <a:pt x="6170" y="2134"/>
                </a:lnTo>
                <a:lnTo>
                  <a:pt x="6063" y="2094"/>
                </a:lnTo>
                <a:lnTo>
                  <a:pt x="5962" y="2054"/>
                </a:lnTo>
                <a:lnTo>
                  <a:pt x="5848" y="2034"/>
                </a:lnTo>
                <a:lnTo>
                  <a:pt x="5727" y="1994"/>
                </a:lnTo>
                <a:lnTo>
                  <a:pt x="5627" y="1974"/>
                </a:lnTo>
                <a:lnTo>
                  <a:pt x="5512" y="1974"/>
                </a:lnTo>
                <a:lnTo>
                  <a:pt x="5398" y="1954"/>
                </a:lnTo>
                <a:lnTo>
                  <a:pt x="5291" y="1954"/>
                </a:lnTo>
                <a:lnTo>
                  <a:pt x="5110" y="1974"/>
                </a:lnTo>
                <a:lnTo>
                  <a:pt x="4942" y="1994"/>
                </a:lnTo>
                <a:lnTo>
                  <a:pt x="4774" y="2014"/>
                </a:lnTo>
                <a:lnTo>
                  <a:pt x="4613" y="2054"/>
                </a:lnTo>
                <a:lnTo>
                  <a:pt x="4445" y="2114"/>
                </a:lnTo>
                <a:lnTo>
                  <a:pt x="4290" y="2164"/>
                </a:lnTo>
                <a:lnTo>
                  <a:pt x="4136" y="2244"/>
                </a:lnTo>
                <a:lnTo>
                  <a:pt x="3982" y="2324"/>
                </a:lnTo>
                <a:lnTo>
                  <a:pt x="3820" y="2414"/>
                </a:lnTo>
                <a:lnTo>
                  <a:pt x="3679" y="2515"/>
                </a:lnTo>
                <a:lnTo>
                  <a:pt x="3538" y="2625"/>
                </a:lnTo>
                <a:lnTo>
                  <a:pt x="3397" y="2745"/>
                </a:lnTo>
                <a:lnTo>
                  <a:pt x="3270" y="2875"/>
                </a:lnTo>
                <a:lnTo>
                  <a:pt x="3142" y="3016"/>
                </a:lnTo>
                <a:lnTo>
                  <a:pt x="3015" y="3146"/>
                </a:lnTo>
                <a:lnTo>
                  <a:pt x="2894" y="3306"/>
                </a:lnTo>
                <a:lnTo>
                  <a:pt x="2793" y="3476"/>
                </a:lnTo>
                <a:lnTo>
                  <a:pt x="2679" y="3627"/>
                </a:lnTo>
                <a:lnTo>
                  <a:pt x="2585" y="3807"/>
                </a:lnTo>
                <a:lnTo>
                  <a:pt x="2484" y="3997"/>
                </a:lnTo>
                <a:lnTo>
                  <a:pt x="2404" y="4168"/>
                </a:lnTo>
                <a:lnTo>
                  <a:pt x="2316" y="4358"/>
                </a:lnTo>
                <a:lnTo>
                  <a:pt x="2236" y="4568"/>
                </a:lnTo>
                <a:lnTo>
                  <a:pt x="2175" y="4759"/>
                </a:lnTo>
                <a:lnTo>
                  <a:pt x="2108" y="4979"/>
                </a:lnTo>
                <a:lnTo>
                  <a:pt x="2061" y="5190"/>
                </a:lnTo>
                <a:lnTo>
                  <a:pt x="2021" y="5420"/>
                </a:lnTo>
                <a:lnTo>
                  <a:pt x="1981" y="5630"/>
                </a:lnTo>
                <a:lnTo>
                  <a:pt x="1954" y="5861"/>
                </a:lnTo>
                <a:lnTo>
                  <a:pt x="1927" y="6091"/>
                </a:lnTo>
                <a:lnTo>
                  <a:pt x="1920" y="6322"/>
                </a:lnTo>
                <a:lnTo>
                  <a:pt x="1920" y="6552"/>
                </a:lnTo>
                <a:lnTo>
                  <a:pt x="1920" y="6702"/>
                </a:lnTo>
                <a:lnTo>
                  <a:pt x="1920" y="6873"/>
                </a:lnTo>
                <a:lnTo>
                  <a:pt x="1927" y="7033"/>
                </a:lnTo>
                <a:lnTo>
                  <a:pt x="1940" y="7183"/>
                </a:lnTo>
                <a:lnTo>
                  <a:pt x="1954" y="7163"/>
                </a:lnTo>
                <a:close/>
                <a:moveTo>
                  <a:pt x="1954" y="7163"/>
                </a:move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5400000"/>
          </a:gradFill>
          <a:ln w="50760">
            <a:solidFill>
              <a:srgbClr val="cdcd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63" name=""/>
          <p:cNvSpPr/>
          <p:nvPr/>
        </p:nvSpPr>
        <p:spPr>
          <a:xfrm>
            <a:off x="8763120" y="5905440"/>
            <a:ext cx="29210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959"/>
                </a:solidFill>
                <a:latin typeface="Lora"/>
                <a:ea typeface="Lora"/>
              </a:rPr>
              <a:t>Text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64" name=""/>
          <p:cNvSpPr/>
          <p:nvPr/>
        </p:nvSpPr>
        <p:spPr>
          <a:xfrm>
            <a:off x="5054760" y="4826160"/>
            <a:ext cx="2361960" cy="1663560"/>
          </a:xfrm>
          <a:prstGeom prst="pie">
            <a:avLst/>
          </a:prstGeom>
          <a:solidFill>
            <a:srgbClr val="cdcdcd"/>
          </a:solidFill>
          <a:ln w="507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635360" y="4495680"/>
            <a:ext cx="3200400" cy="231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54" y="7163"/>
                </a:moveTo>
                <a:lnTo>
                  <a:pt x="1853" y="7183"/>
                </a:lnTo>
                <a:lnTo>
                  <a:pt x="1752" y="7203"/>
                </a:lnTo>
                <a:lnTo>
                  <a:pt x="1645" y="7243"/>
                </a:lnTo>
                <a:lnTo>
                  <a:pt x="1544" y="7283"/>
                </a:lnTo>
                <a:lnTo>
                  <a:pt x="1450" y="7324"/>
                </a:lnTo>
                <a:lnTo>
                  <a:pt x="1363" y="7374"/>
                </a:lnTo>
                <a:lnTo>
                  <a:pt x="1262" y="7434"/>
                </a:lnTo>
                <a:lnTo>
                  <a:pt x="1182" y="7494"/>
                </a:lnTo>
                <a:lnTo>
                  <a:pt x="1094" y="7554"/>
                </a:lnTo>
                <a:lnTo>
                  <a:pt x="1000" y="7624"/>
                </a:lnTo>
                <a:lnTo>
                  <a:pt x="927" y="7704"/>
                </a:lnTo>
                <a:lnTo>
                  <a:pt x="846" y="7784"/>
                </a:lnTo>
                <a:lnTo>
                  <a:pt x="692" y="7955"/>
                </a:lnTo>
                <a:lnTo>
                  <a:pt x="631" y="8035"/>
                </a:lnTo>
                <a:lnTo>
                  <a:pt x="564" y="8145"/>
                </a:lnTo>
                <a:lnTo>
                  <a:pt x="497" y="8245"/>
                </a:lnTo>
                <a:lnTo>
                  <a:pt x="436" y="8335"/>
                </a:lnTo>
                <a:lnTo>
                  <a:pt x="369" y="8456"/>
                </a:lnTo>
                <a:lnTo>
                  <a:pt x="322" y="8566"/>
                </a:lnTo>
                <a:lnTo>
                  <a:pt x="269" y="8686"/>
                </a:lnTo>
                <a:lnTo>
                  <a:pt x="228" y="8796"/>
                </a:lnTo>
                <a:lnTo>
                  <a:pt x="188" y="8916"/>
                </a:lnTo>
                <a:lnTo>
                  <a:pt x="154" y="9047"/>
                </a:lnTo>
                <a:lnTo>
                  <a:pt x="114" y="9167"/>
                </a:lnTo>
                <a:lnTo>
                  <a:pt x="87" y="9297"/>
                </a:lnTo>
                <a:lnTo>
                  <a:pt x="60" y="9437"/>
                </a:lnTo>
                <a:lnTo>
                  <a:pt x="34" y="9568"/>
                </a:lnTo>
                <a:lnTo>
                  <a:pt x="27" y="9698"/>
                </a:lnTo>
                <a:lnTo>
                  <a:pt x="13" y="9858"/>
                </a:lnTo>
                <a:lnTo>
                  <a:pt x="0" y="9988"/>
                </a:lnTo>
                <a:lnTo>
                  <a:pt x="0" y="10129"/>
                </a:lnTo>
                <a:lnTo>
                  <a:pt x="0" y="10319"/>
                </a:lnTo>
                <a:lnTo>
                  <a:pt x="13" y="10529"/>
                </a:lnTo>
                <a:lnTo>
                  <a:pt x="34" y="10720"/>
                </a:lnTo>
                <a:lnTo>
                  <a:pt x="74" y="10890"/>
                </a:lnTo>
                <a:lnTo>
                  <a:pt x="114" y="11091"/>
                </a:lnTo>
                <a:lnTo>
                  <a:pt x="168" y="11261"/>
                </a:lnTo>
                <a:lnTo>
                  <a:pt x="215" y="11431"/>
                </a:lnTo>
                <a:lnTo>
                  <a:pt x="282" y="11601"/>
                </a:lnTo>
                <a:lnTo>
                  <a:pt x="356" y="11762"/>
                </a:lnTo>
                <a:lnTo>
                  <a:pt x="436" y="11932"/>
                </a:lnTo>
                <a:lnTo>
                  <a:pt x="524" y="12062"/>
                </a:lnTo>
                <a:lnTo>
                  <a:pt x="631" y="12223"/>
                </a:lnTo>
                <a:lnTo>
                  <a:pt x="732" y="12353"/>
                </a:lnTo>
                <a:lnTo>
                  <a:pt x="833" y="12473"/>
                </a:lnTo>
                <a:lnTo>
                  <a:pt x="953" y="12583"/>
                </a:lnTo>
                <a:lnTo>
                  <a:pt x="1081" y="12704"/>
                </a:lnTo>
                <a:lnTo>
                  <a:pt x="1068" y="12663"/>
                </a:lnTo>
                <a:lnTo>
                  <a:pt x="987" y="12754"/>
                </a:lnTo>
                <a:lnTo>
                  <a:pt x="927" y="12874"/>
                </a:lnTo>
                <a:lnTo>
                  <a:pt x="873" y="12994"/>
                </a:lnTo>
                <a:lnTo>
                  <a:pt x="812" y="13104"/>
                </a:lnTo>
                <a:lnTo>
                  <a:pt x="759" y="13224"/>
                </a:lnTo>
                <a:lnTo>
                  <a:pt x="705" y="13335"/>
                </a:lnTo>
                <a:lnTo>
                  <a:pt x="665" y="13465"/>
                </a:lnTo>
                <a:lnTo>
                  <a:pt x="631" y="13605"/>
                </a:lnTo>
                <a:lnTo>
                  <a:pt x="591" y="13715"/>
                </a:lnTo>
                <a:lnTo>
                  <a:pt x="564" y="13856"/>
                </a:lnTo>
                <a:lnTo>
                  <a:pt x="537" y="13986"/>
                </a:lnTo>
                <a:lnTo>
                  <a:pt x="510" y="14126"/>
                </a:lnTo>
                <a:lnTo>
                  <a:pt x="497" y="14256"/>
                </a:lnTo>
                <a:lnTo>
                  <a:pt x="490" y="14397"/>
                </a:lnTo>
                <a:lnTo>
                  <a:pt x="477" y="14547"/>
                </a:lnTo>
                <a:lnTo>
                  <a:pt x="477" y="14677"/>
                </a:lnTo>
                <a:lnTo>
                  <a:pt x="477" y="14837"/>
                </a:lnTo>
                <a:lnTo>
                  <a:pt x="490" y="14988"/>
                </a:lnTo>
                <a:lnTo>
                  <a:pt x="497" y="15138"/>
                </a:lnTo>
                <a:lnTo>
                  <a:pt x="510" y="15278"/>
                </a:lnTo>
                <a:lnTo>
                  <a:pt x="537" y="15429"/>
                </a:lnTo>
                <a:lnTo>
                  <a:pt x="577" y="15569"/>
                </a:lnTo>
                <a:lnTo>
                  <a:pt x="604" y="15699"/>
                </a:lnTo>
                <a:lnTo>
                  <a:pt x="645" y="15829"/>
                </a:lnTo>
                <a:lnTo>
                  <a:pt x="692" y="15970"/>
                </a:lnTo>
                <a:lnTo>
                  <a:pt x="732" y="16100"/>
                </a:lnTo>
                <a:lnTo>
                  <a:pt x="799" y="16220"/>
                </a:lnTo>
                <a:lnTo>
                  <a:pt x="846" y="16330"/>
                </a:lnTo>
                <a:lnTo>
                  <a:pt x="913" y="16450"/>
                </a:lnTo>
                <a:lnTo>
                  <a:pt x="974" y="16561"/>
                </a:lnTo>
                <a:lnTo>
                  <a:pt x="1041" y="16681"/>
                </a:lnTo>
                <a:lnTo>
                  <a:pt x="1121" y="16771"/>
                </a:lnTo>
                <a:lnTo>
                  <a:pt x="1182" y="16871"/>
                </a:lnTo>
                <a:lnTo>
                  <a:pt x="1276" y="16971"/>
                </a:lnTo>
                <a:lnTo>
                  <a:pt x="1350" y="17042"/>
                </a:lnTo>
                <a:lnTo>
                  <a:pt x="1444" y="17142"/>
                </a:lnTo>
                <a:lnTo>
                  <a:pt x="1517" y="17222"/>
                </a:lnTo>
                <a:lnTo>
                  <a:pt x="1618" y="17272"/>
                </a:lnTo>
                <a:lnTo>
                  <a:pt x="1712" y="17352"/>
                </a:lnTo>
                <a:lnTo>
                  <a:pt x="1799" y="17412"/>
                </a:lnTo>
                <a:lnTo>
                  <a:pt x="1907" y="17462"/>
                </a:lnTo>
                <a:lnTo>
                  <a:pt x="2008" y="17502"/>
                </a:lnTo>
                <a:lnTo>
                  <a:pt x="2108" y="17542"/>
                </a:lnTo>
                <a:lnTo>
                  <a:pt x="2216" y="17583"/>
                </a:lnTo>
                <a:lnTo>
                  <a:pt x="2316" y="17603"/>
                </a:lnTo>
                <a:lnTo>
                  <a:pt x="2431" y="17623"/>
                </a:lnTo>
                <a:lnTo>
                  <a:pt x="2551" y="17643"/>
                </a:lnTo>
                <a:lnTo>
                  <a:pt x="2652" y="17643"/>
                </a:lnTo>
                <a:lnTo>
                  <a:pt x="2780" y="17643"/>
                </a:lnTo>
                <a:lnTo>
                  <a:pt x="2907" y="17623"/>
                </a:lnTo>
                <a:lnTo>
                  <a:pt x="2894" y="17643"/>
                </a:lnTo>
                <a:lnTo>
                  <a:pt x="2961" y="17793"/>
                </a:lnTo>
                <a:lnTo>
                  <a:pt x="3035" y="17943"/>
                </a:lnTo>
                <a:lnTo>
                  <a:pt x="3102" y="18083"/>
                </a:lnTo>
                <a:lnTo>
                  <a:pt x="3183" y="18214"/>
                </a:lnTo>
                <a:lnTo>
                  <a:pt x="3344" y="18484"/>
                </a:lnTo>
                <a:lnTo>
                  <a:pt x="3512" y="18755"/>
                </a:lnTo>
                <a:lnTo>
                  <a:pt x="3693" y="18985"/>
                </a:lnTo>
                <a:lnTo>
                  <a:pt x="3901" y="19196"/>
                </a:lnTo>
                <a:lnTo>
                  <a:pt x="4096" y="19406"/>
                </a:lnTo>
                <a:lnTo>
                  <a:pt x="4311" y="19586"/>
                </a:lnTo>
                <a:lnTo>
                  <a:pt x="4418" y="19656"/>
                </a:lnTo>
                <a:lnTo>
                  <a:pt x="4532" y="19737"/>
                </a:lnTo>
                <a:lnTo>
                  <a:pt x="4646" y="19817"/>
                </a:lnTo>
                <a:lnTo>
                  <a:pt x="4767" y="19887"/>
                </a:lnTo>
                <a:lnTo>
                  <a:pt x="4881" y="19947"/>
                </a:lnTo>
                <a:lnTo>
                  <a:pt x="4995" y="20007"/>
                </a:lnTo>
                <a:lnTo>
                  <a:pt x="5110" y="20057"/>
                </a:lnTo>
                <a:lnTo>
                  <a:pt x="5244" y="20097"/>
                </a:lnTo>
                <a:lnTo>
                  <a:pt x="5358" y="20157"/>
                </a:lnTo>
                <a:lnTo>
                  <a:pt x="5486" y="20197"/>
                </a:lnTo>
                <a:lnTo>
                  <a:pt x="5613" y="20217"/>
                </a:lnTo>
                <a:lnTo>
                  <a:pt x="5727" y="20257"/>
                </a:lnTo>
                <a:lnTo>
                  <a:pt x="5862" y="20278"/>
                </a:lnTo>
                <a:lnTo>
                  <a:pt x="5989" y="20278"/>
                </a:lnTo>
                <a:lnTo>
                  <a:pt x="6117" y="20298"/>
                </a:lnTo>
                <a:lnTo>
                  <a:pt x="6244" y="20298"/>
                </a:lnTo>
                <a:lnTo>
                  <a:pt x="6372" y="20298"/>
                </a:lnTo>
                <a:lnTo>
                  <a:pt x="6513" y="20278"/>
                </a:lnTo>
                <a:lnTo>
                  <a:pt x="6647" y="20278"/>
                </a:lnTo>
                <a:lnTo>
                  <a:pt x="6775" y="20257"/>
                </a:lnTo>
                <a:lnTo>
                  <a:pt x="6902" y="20217"/>
                </a:lnTo>
                <a:lnTo>
                  <a:pt x="7030" y="20177"/>
                </a:lnTo>
                <a:lnTo>
                  <a:pt x="7157" y="20137"/>
                </a:lnTo>
                <a:lnTo>
                  <a:pt x="7278" y="20097"/>
                </a:lnTo>
                <a:lnTo>
                  <a:pt x="7406" y="20047"/>
                </a:lnTo>
                <a:lnTo>
                  <a:pt x="7533" y="20007"/>
                </a:lnTo>
                <a:lnTo>
                  <a:pt x="7648" y="19927"/>
                </a:lnTo>
                <a:lnTo>
                  <a:pt x="7768" y="19867"/>
                </a:lnTo>
                <a:lnTo>
                  <a:pt x="7896" y="19797"/>
                </a:lnTo>
                <a:lnTo>
                  <a:pt x="8010" y="19716"/>
                </a:lnTo>
                <a:lnTo>
                  <a:pt x="8124" y="19616"/>
                </a:lnTo>
                <a:lnTo>
                  <a:pt x="8245" y="19546"/>
                </a:lnTo>
                <a:lnTo>
                  <a:pt x="8232" y="19546"/>
                </a:lnTo>
                <a:lnTo>
                  <a:pt x="8359" y="19777"/>
                </a:lnTo>
                <a:lnTo>
                  <a:pt x="8487" y="20007"/>
                </a:lnTo>
                <a:lnTo>
                  <a:pt x="8628" y="20217"/>
                </a:lnTo>
                <a:lnTo>
                  <a:pt x="8769" y="20408"/>
                </a:lnTo>
                <a:lnTo>
                  <a:pt x="8937" y="20578"/>
                </a:lnTo>
                <a:lnTo>
                  <a:pt x="9091" y="20758"/>
                </a:lnTo>
                <a:lnTo>
                  <a:pt x="9272" y="20909"/>
                </a:lnTo>
                <a:lnTo>
                  <a:pt x="9440" y="21039"/>
                </a:lnTo>
                <a:lnTo>
                  <a:pt x="9635" y="21179"/>
                </a:lnTo>
                <a:lnTo>
                  <a:pt x="9816" y="21269"/>
                </a:lnTo>
                <a:lnTo>
                  <a:pt x="10018" y="21370"/>
                </a:lnTo>
                <a:lnTo>
                  <a:pt x="10212" y="21450"/>
                </a:lnTo>
                <a:lnTo>
                  <a:pt x="10421" y="21500"/>
                </a:lnTo>
                <a:lnTo>
                  <a:pt x="10622" y="21560"/>
                </a:lnTo>
                <a:lnTo>
                  <a:pt x="10830" y="21580"/>
                </a:lnTo>
                <a:lnTo>
                  <a:pt x="11038" y="21600"/>
                </a:lnTo>
                <a:lnTo>
                  <a:pt x="11179" y="21580"/>
                </a:lnTo>
                <a:lnTo>
                  <a:pt x="11320" y="21580"/>
                </a:lnTo>
                <a:lnTo>
                  <a:pt x="11448" y="21560"/>
                </a:lnTo>
                <a:lnTo>
                  <a:pt x="11589" y="21520"/>
                </a:lnTo>
                <a:lnTo>
                  <a:pt x="11723" y="21500"/>
                </a:lnTo>
                <a:lnTo>
                  <a:pt x="11851" y="21450"/>
                </a:lnTo>
                <a:lnTo>
                  <a:pt x="11978" y="21410"/>
                </a:lnTo>
                <a:lnTo>
                  <a:pt x="12106" y="21350"/>
                </a:lnTo>
                <a:lnTo>
                  <a:pt x="12234" y="21289"/>
                </a:lnTo>
                <a:lnTo>
                  <a:pt x="12361" y="21219"/>
                </a:lnTo>
                <a:lnTo>
                  <a:pt x="12482" y="21139"/>
                </a:lnTo>
                <a:lnTo>
                  <a:pt x="12596" y="21059"/>
                </a:lnTo>
                <a:lnTo>
                  <a:pt x="12710" y="20989"/>
                </a:lnTo>
                <a:lnTo>
                  <a:pt x="12831" y="20889"/>
                </a:lnTo>
                <a:lnTo>
                  <a:pt x="12945" y="20788"/>
                </a:lnTo>
                <a:lnTo>
                  <a:pt x="13046" y="20678"/>
                </a:lnTo>
                <a:lnTo>
                  <a:pt x="13147" y="20578"/>
                </a:lnTo>
                <a:lnTo>
                  <a:pt x="13254" y="20448"/>
                </a:lnTo>
                <a:lnTo>
                  <a:pt x="13355" y="20328"/>
                </a:lnTo>
                <a:lnTo>
                  <a:pt x="13449" y="20217"/>
                </a:lnTo>
                <a:lnTo>
                  <a:pt x="13536" y="20077"/>
                </a:lnTo>
                <a:lnTo>
                  <a:pt x="13623" y="19947"/>
                </a:lnTo>
                <a:lnTo>
                  <a:pt x="13717" y="19797"/>
                </a:lnTo>
                <a:lnTo>
                  <a:pt x="13791" y="19636"/>
                </a:lnTo>
                <a:lnTo>
                  <a:pt x="13872" y="19506"/>
                </a:lnTo>
                <a:lnTo>
                  <a:pt x="13939" y="19336"/>
                </a:lnTo>
                <a:lnTo>
                  <a:pt x="13999" y="19175"/>
                </a:lnTo>
                <a:lnTo>
                  <a:pt x="14067" y="19025"/>
                </a:lnTo>
                <a:lnTo>
                  <a:pt x="14127" y="18855"/>
                </a:lnTo>
                <a:lnTo>
                  <a:pt x="14181" y="18675"/>
                </a:lnTo>
                <a:lnTo>
                  <a:pt x="14221" y="18504"/>
                </a:lnTo>
                <a:lnTo>
                  <a:pt x="14268" y="18314"/>
                </a:lnTo>
                <a:lnTo>
                  <a:pt x="14268" y="18354"/>
                </a:lnTo>
                <a:lnTo>
                  <a:pt x="14449" y="18484"/>
                </a:lnTo>
                <a:lnTo>
                  <a:pt x="14631" y="18604"/>
                </a:lnTo>
                <a:lnTo>
                  <a:pt x="14812" y="18695"/>
                </a:lnTo>
                <a:lnTo>
                  <a:pt x="15007" y="18795"/>
                </a:lnTo>
                <a:lnTo>
                  <a:pt x="15201" y="18855"/>
                </a:lnTo>
                <a:lnTo>
                  <a:pt x="15403" y="18905"/>
                </a:lnTo>
                <a:lnTo>
                  <a:pt x="15597" y="18925"/>
                </a:lnTo>
                <a:lnTo>
                  <a:pt x="15698" y="18925"/>
                </a:lnTo>
                <a:lnTo>
                  <a:pt x="15806" y="18945"/>
                </a:lnTo>
                <a:lnTo>
                  <a:pt x="15960" y="18925"/>
                </a:lnTo>
                <a:lnTo>
                  <a:pt x="16101" y="18905"/>
                </a:lnTo>
                <a:lnTo>
                  <a:pt x="16242" y="18885"/>
                </a:lnTo>
                <a:lnTo>
                  <a:pt x="16383" y="18855"/>
                </a:lnTo>
                <a:lnTo>
                  <a:pt x="16524" y="18815"/>
                </a:lnTo>
                <a:lnTo>
                  <a:pt x="16652" y="18755"/>
                </a:lnTo>
                <a:lnTo>
                  <a:pt x="16793" y="18695"/>
                </a:lnTo>
                <a:lnTo>
                  <a:pt x="16927" y="18645"/>
                </a:lnTo>
                <a:lnTo>
                  <a:pt x="17054" y="18564"/>
                </a:lnTo>
                <a:lnTo>
                  <a:pt x="17182" y="18464"/>
                </a:lnTo>
                <a:lnTo>
                  <a:pt x="17296" y="18374"/>
                </a:lnTo>
                <a:lnTo>
                  <a:pt x="17417" y="18274"/>
                </a:lnTo>
                <a:lnTo>
                  <a:pt x="17531" y="18164"/>
                </a:lnTo>
                <a:lnTo>
                  <a:pt x="17632" y="18043"/>
                </a:lnTo>
                <a:lnTo>
                  <a:pt x="17733" y="17933"/>
                </a:lnTo>
                <a:lnTo>
                  <a:pt x="17840" y="17793"/>
                </a:lnTo>
                <a:lnTo>
                  <a:pt x="17941" y="17663"/>
                </a:lnTo>
                <a:lnTo>
                  <a:pt x="18035" y="17522"/>
                </a:lnTo>
                <a:lnTo>
                  <a:pt x="18109" y="17372"/>
                </a:lnTo>
                <a:lnTo>
                  <a:pt x="18203" y="17222"/>
                </a:lnTo>
                <a:lnTo>
                  <a:pt x="18276" y="17062"/>
                </a:lnTo>
                <a:lnTo>
                  <a:pt x="18344" y="16891"/>
                </a:lnTo>
                <a:lnTo>
                  <a:pt x="18404" y="16741"/>
                </a:lnTo>
                <a:lnTo>
                  <a:pt x="18458" y="16561"/>
                </a:lnTo>
                <a:lnTo>
                  <a:pt x="18525" y="16370"/>
                </a:lnTo>
                <a:lnTo>
                  <a:pt x="18558" y="16200"/>
                </a:lnTo>
                <a:lnTo>
                  <a:pt x="18599" y="16010"/>
                </a:lnTo>
                <a:lnTo>
                  <a:pt x="18639" y="15829"/>
                </a:lnTo>
                <a:lnTo>
                  <a:pt x="18666" y="15639"/>
                </a:lnTo>
                <a:lnTo>
                  <a:pt x="18679" y="15429"/>
                </a:lnTo>
                <a:lnTo>
                  <a:pt x="18686" y="15238"/>
                </a:lnTo>
                <a:lnTo>
                  <a:pt x="18699" y="15048"/>
                </a:lnTo>
                <a:lnTo>
                  <a:pt x="18686" y="15028"/>
                </a:lnTo>
                <a:lnTo>
                  <a:pt x="18840" y="14988"/>
                </a:lnTo>
                <a:lnTo>
                  <a:pt x="19002" y="14948"/>
                </a:lnTo>
                <a:lnTo>
                  <a:pt x="19156" y="14888"/>
                </a:lnTo>
                <a:lnTo>
                  <a:pt x="19297" y="14837"/>
                </a:lnTo>
                <a:lnTo>
                  <a:pt x="19438" y="14757"/>
                </a:lnTo>
                <a:lnTo>
                  <a:pt x="19579" y="14677"/>
                </a:lnTo>
                <a:lnTo>
                  <a:pt x="19720" y="14587"/>
                </a:lnTo>
                <a:lnTo>
                  <a:pt x="19848" y="14507"/>
                </a:lnTo>
                <a:lnTo>
                  <a:pt x="19975" y="14397"/>
                </a:lnTo>
                <a:lnTo>
                  <a:pt x="20109" y="14276"/>
                </a:lnTo>
                <a:lnTo>
                  <a:pt x="20224" y="14166"/>
                </a:lnTo>
                <a:lnTo>
                  <a:pt x="20351" y="14046"/>
                </a:lnTo>
                <a:lnTo>
                  <a:pt x="20452" y="13916"/>
                </a:lnTo>
                <a:lnTo>
                  <a:pt x="20573" y="13776"/>
                </a:lnTo>
                <a:lnTo>
                  <a:pt x="20673" y="13625"/>
                </a:lnTo>
                <a:lnTo>
                  <a:pt x="20774" y="13485"/>
                </a:lnTo>
                <a:lnTo>
                  <a:pt x="20868" y="13335"/>
                </a:lnTo>
                <a:lnTo>
                  <a:pt x="20955" y="13164"/>
                </a:lnTo>
                <a:lnTo>
                  <a:pt x="21049" y="13004"/>
                </a:lnTo>
                <a:lnTo>
                  <a:pt x="21123" y="12834"/>
                </a:lnTo>
                <a:lnTo>
                  <a:pt x="21190" y="12663"/>
                </a:lnTo>
                <a:lnTo>
                  <a:pt x="21264" y="12473"/>
                </a:lnTo>
                <a:lnTo>
                  <a:pt x="21331" y="12293"/>
                </a:lnTo>
                <a:lnTo>
                  <a:pt x="21378" y="12102"/>
                </a:lnTo>
                <a:lnTo>
                  <a:pt x="21432" y="11912"/>
                </a:lnTo>
                <a:lnTo>
                  <a:pt x="21472" y="11702"/>
                </a:lnTo>
                <a:lnTo>
                  <a:pt x="21513" y="11511"/>
                </a:lnTo>
                <a:lnTo>
                  <a:pt x="21546" y="11301"/>
                </a:lnTo>
                <a:lnTo>
                  <a:pt x="21573" y="11111"/>
                </a:lnTo>
                <a:lnTo>
                  <a:pt x="21587" y="10890"/>
                </a:lnTo>
                <a:lnTo>
                  <a:pt x="21600" y="10680"/>
                </a:lnTo>
                <a:lnTo>
                  <a:pt x="21600" y="10469"/>
                </a:lnTo>
                <a:lnTo>
                  <a:pt x="21600" y="10279"/>
                </a:lnTo>
                <a:lnTo>
                  <a:pt x="21587" y="10089"/>
                </a:lnTo>
                <a:lnTo>
                  <a:pt x="21573" y="9898"/>
                </a:lnTo>
                <a:lnTo>
                  <a:pt x="21546" y="9698"/>
                </a:lnTo>
                <a:lnTo>
                  <a:pt x="21526" y="9528"/>
                </a:lnTo>
                <a:lnTo>
                  <a:pt x="21499" y="9337"/>
                </a:lnTo>
                <a:lnTo>
                  <a:pt x="21459" y="9167"/>
                </a:lnTo>
                <a:lnTo>
                  <a:pt x="21419" y="8977"/>
                </a:lnTo>
                <a:lnTo>
                  <a:pt x="21372" y="8796"/>
                </a:lnTo>
                <a:lnTo>
                  <a:pt x="21318" y="8626"/>
                </a:lnTo>
                <a:lnTo>
                  <a:pt x="21264" y="8456"/>
                </a:lnTo>
                <a:lnTo>
                  <a:pt x="21204" y="8295"/>
                </a:lnTo>
                <a:lnTo>
                  <a:pt x="21137" y="8125"/>
                </a:lnTo>
                <a:lnTo>
                  <a:pt x="21056" y="7975"/>
                </a:lnTo>
                <a:lnTo>
                  <a:pt x="20982" y="7804"/>
                </a:lnTo>
                <a:lnTo>
                  <a:pt x="20902" y="7664"/>
                </a:lnTo>
                <a:lnTo>
                  <a:pt x="20895" y="7644"/>
                </a:lnTo>
                <a:lnTo>
                  <a:pt x="20942" y="7474"/>
                </a:lnTo>
                <a:lnTo>
                  <a:pt x="20982" y="7304"/>
                </a:lnTo>
                <a:lnTo>
                  <a:pt x="21023" y="7123"/>
                </a:lnTo>
                <a:lnTo>
                  <a:pt x="21056" y="6953"/>
                </a:lnTo>
                <a:lnTo>
                  <a:pt x="21070" y="6763"/>
                </a:lnTo>
                <a:lnTo>
                  <a:pt x="21096" y="6592"/>
                </a:lnTo>
                <a:lnTo>
                  <a:pt x="21110" y="6392"/>
                </a:lnTo>
                <a:lnTo>
                  <a:pt x="21110" y="6222"/>
                </a:lnTo>
                <a:lnTo>
                  <a:pt x="21110" y="6071"/>
                </a:lnTo>
                <a:lnTo>
                  <a:pt x="21096" y="5921"/>
                </a:lnTo>
                <a:lnTo>
                  <a:pt x="21083" y="5761"/>
                </a:lnTo>
                <a:lnTo>
                  <a:pt x="21070" y="5610"/>
                </a:lnTo>
                <a:lnTo>
                  <a:pt x="21049" y="5470"/>
                </a:lnTo>
                <a:lnTo>
                  <a:pt x="21023" y="5320"/>
                </a:lnTo>
                <a:lnTo>
                  <a:pt x="20996" y="5190"/>
                </a:lnTo>
                <a:lnTo>
                  <a:pt x="20969" y="5029"/>
                </a:lnTo>
                <a:lnTo>
                  <a:pt x="20929" y="4899"/>
                </a:lnTo>
                <a:lnTo>
                  <a:pt x="20895" y="4759"/>
                </a:lnTo>
                <a:lnTo>
                  <a:pt x="20841" y="4629"/>
                </a:lnTo>
                <a:lnTo>
                  <a:pt x="20788" y="4498"/>
                </a:lnTo>
                <a:lnTo>
                  <a:pt x="20741" y="4378"/>
                </a:lnTo>
                <a:lnTo>
                  <a:pt x="20687" y="4248"/>
                </a:lnTo>
                <a:lnTo>
                  <a:pt x="20620" y="4128"/>
                </a:lnTo>
                <a:lnTo>
                  <a:pt x="20559" y="4017"/>
                </a:lnTo>
                <a:lnTo>
                  <a:pt x="20492" y="3897"/>
                </a:lnTo>
                <a:lnTo>
                  <a:pt x="20425" y="3787"/>
                </a:lnTo>
                <a:lnTo>
                  <a:pt x="20351" y="3687"/>
                </a:lnTo>
                <a:lnTo>
                  <a:pt x="20271" y="3567"/>
                </a:lnTo>
                <a:lnTo>
                  <a:pt x="20109" y="3376"/>
                </a:lnTo>
                <a:lnTo>
                  <a:pt x="19942" y="3206"/>
                </a:lnTo>
                <a:lnTo>
                  <a:pt x="19848" y="3126"/>
                </a:lnTo>
                <a:lnTo>
                  <a:pt x="19760" y="3056"/>
                </a:lnTo>
                <a:lnTo>
                  <a:pt x="19653" y="2976"/>
                </a:lnTo>
                <a:lnTo>
                  <a:pt x="19552" y="2915"/>
                </a:lnTo>
                <a:lnTo>
                  <a:pt x="19465" y="2865"/>
                </a:lnTo>
                <a:lnTo>
                  <a:pt x="19357" y="2805"/>
                </a:lnTo>
                <a:lnTo>
                  <a:pt x="19243" y="2765"/>
                </a:lnTo>
                <a:lnTo>
                  <a:pt x="19143" y="2705"/>
                </a:lnTo>
                <a:lnTo>
                  <a:pt x="19156" y="2705"/>
                </a:lnTo>
                <a:lnTo>
                  <a:pt x="19129" y="2555"/>
                </a:lnTo>
                <a:lnTo>
                  <a:pt x="19102" y="2414"/>
                </a:lnTo>
                <a:lnTo>
                  <a:pt x="19075" y="2264"/>
                </a:lnTo>
                <a:lnTo>
                  <a:pt x="19035" y="2134"/>
                </a:lnTo>
                <a:lnTo>
                  <a:pt x="19002" y="1994"/>
                </a:lnTo>
                <a:lnTo>
                  <a:pt x="18961" y="1863"/>
                </a:lnTo>
                <a:lnTo>
                  <a:pt x="18908" y="1743"/>
                </a:lnTo>
                <a:lnTo>
                  <a:pt x="18854" y="1613"/>
                </a:lnTo>
                <a:lnTo>
                  <a:pt x="18807" y="1493"/>
                </a:lnTo>
                <a:lnTo>
                  <a:pt x="18740" y="1383"/>
                </a:lnTo>
                <a:lnTo>
                  <a:pt x="18679" y="1262"/>
                </a:lnTo>
                <a:lnTo>
                  <a:pt x="18612" y="1152"/>
                </a:lnTo>
                <a:lnTo>
                  <a:pt x="18545" y="1052"/>
                </a:lnTo>
                <a:lnTo>
                  <a:pt x="18471" y="942"/>
                </a:lnTo>
                <a:lnTo>
                  <a:pt x="18317" y="761"/>
                </a:lnTo>
                <a:lnTo>
                  <a:pt x="18236" y="671"/>
                </a:lnTo>
                <a:lnTo>
                  <a:pt x="18149" y="591"/>
                </a:lnTo>
                <a:lnTo>
                  <a:pt x="18068" y="511"/>
                </a:lnTo>
                <a:lnTo>
                  <a:pt x="17981" y="441"/>
                </a:lnTo>
                <a:lnTo>
                  <a:pt x="17894" y="361"/>
                </a:lnTo>
                <a:lnTo>
                  <a:pt x="17800" y="301"/>
                </a:lnTo>
                <a:lnTo>
                  <a:pt x="17699" y="250"/>
                </a:lnTo>
                <a:lnTo>
                  <a:pt x="17605" y="190"/>
                </a:lnTo>
                <a:lnTo>
                  <a:pt x="17504" y="150"/>
                </a:lnTo>
                <a:lnTo>
                  <a:pt x="17404" y="110"/>
                </a:lnTo>
                <a:lnTo>
                  <a:pt x="17296" y="70"/>
                </a:lnTo>
                <a:lnTo>
                  <a:pt x="17195" y="40"/>
                </a:lnTo>
                <a:lnTo>
                  <a:pt x="17095" y="20"/>
                </a:lnTo>
                <a:lnTo>
                  <a:pt x="16974" y="0"/>
                </a:lnTo>
                <a:lnTo>
                  <a:pt x="16873" y="0"/>
                </a:lnTo>
                <a:lnTo>
                  <a:pt x="16759" y="0"/>
                </a:lnTo>
                <a:lnTo>
                  <a:pt x="16631" y="0"/>
                </a:lnTo>
                <a:lnTo>
                  <a:pt x="16497" y="20"/>
                </a:lnTo>
                <a:lnTo>
                  <a:pt x="16356" y="40"/>
                </a:lnTo>
                <a:lnTo>
                  <a:pt x="16229" y="70"/>
                </a:lnTo>
                <a:lnTo>
                  <a:pt x="16114" y="110"/>
                </a:lnTo>
                <a:lnTo>
                  <a:pt x="15987" y="170"/>
                </a:lnTo>
                <a:lnTo>
                  <a:pt x="15853" y="230"/>
                </a:lnTo>
                <a:lnTo>
                  <a:pt x="15738" y="281"/>
                </a:lnTo>
                <a:lnTo>
                  <a:pt x="15624" y="381"/>
                </a:lnTo>
                <a:lnTo>
                  <a:pt x="15510" y="461"/>
                </a:lnTo>
                <a:lnTo>
                  <a:pt x="15403" y="551"/>
                </a:lnTo>
                <a:lnTo>
                  <a:pt x="15289" y="671"/>
                </a:lnTo>
                <a:lnTo>
                  <a:pt x="15188" y="761"/>
                </a:lnTo>
                <a:lnTo>
                  <a:pt x="15094" y="902"/>
                </a:lnTo>
                <a:lnTo>
                  <a:pt x="14993" y="1012"/>
                </a:lnTo>
                <a:lnTo>
                  <a:pt x="14913" y="1152"/>
                </a:lnTo>
                <a:lnTo>
                  <a:pt x="14913" y="1172"/>
                </a:lnTo>
                <a:lnTo>
                  <a:pt x="14839" y="1032"/>
                </a:lnTo>
                <a:lnTo>
                  <a:pt x="14745" y="902"/>
                </a:lnTo>
                <a:lnTo>
                  <a:pt x="14657" y="781"/>
                </a:lnTo>
                <a:lnTo>
                  <a:pt x="14570" y="671"/>
                </a:lnTo>
                <a:lnTo>
                  <a:pt x="14463" y="551"/>
                </a:lnTo>
                <a:lnTo>
                  <a:pt x="14362" y="461"/>
                </a:lnTo>
                <a:lnTo>
                  <a:pt x="14255" y="381"/>
                </a:lnTo>
                <a:lnTo>
                  <a:pt x="14140" y="301"/>
                </a:lnTo>
                <a:lnTo>
                  <a:pt x="14026" y="230"/>
                </a:lnTo>
                <a:lnTo>
                  <a:pt x="13912" y="170"/>
                </a:lnTo>
                <a:lnTo>
                  <a:pt x="13791" y="110"/>
                </a:lnTo>
                <a:lnTo>
                  <a:pt x="13677" y="70"/>
                </a:lnTo>
                <a:lnTo>
                  <a:pt x="13550" y="40"/>
                </a:lnTo>
                <a:lnTo>
                  <a:pt x="13435" y="20"/>
                </a:lnTo>
                <a:lnTo>
                  <a:pt x="13308" y="0"/>
                </a:lnTo>
                <a:lnTo>
                  <a:pt x="13174" y="0"/>
                </a:lnTo>
                <a:lnTo>
                  <a:pt x="13019" y="0"/>
                </a:lnTo>
                <a:lnTo>
                  <a:pt x="12865" y="20"/>
                </a:lnTo>
                <a:lnTo>
                  <a:pt x="12724" y="50"/>
                </a:lnTo>
                <a:lnTo>
                  <a:pt x="12569" y="110"/>
                </a:lnTo>
                <a:lnTo>
                  <a:pt x="12428" y="170"/>
                </a:lnTo>
                <a:lnTo>
                  <a:pt x="12287" y="250"/>
                </a:lnTo>
                <a:lnTo>
                  <a:pt x="12160" y="321"/>
                </a:lnTo>
                <a:lnTo>
                  <a:pt x="12032" y="441"/>
                </a:lnTo>
                <a:lnTo>
                  <a:pt x="11898" y="551"/>
                </a:lnTo>
                <a:lnTo>
                  <a:pt x="11784" y="671"/>
                </a:lnTo>
                <a:lnTo>
                  <a:pt x="11670" y="801"/>
                </a:lnTo>
                <a:lnTo>
                  <a:pt x="11569" y="962"/>
                </a:lnTo>
                <a:lnTo>
                  <a:pt x="11461" y="1112"/>
                </a:lnTo>
                <a:lnTo>
                  <a:pt x="11374" y="1282"/>
                </a:lnTo>
                <a:lnTo>
                  <a:pt x="11294" y="1453"/>
                </a:lnTo>
                <a:lnTo>
                  <a:pt x="11220" y="1633"/>
                </a:lnTo>
                <a:lnTo>
                  <a:pt x="11233" y="1683"/>
                </a:lnTo>
                <a:lnTo>
                  <a:pt x="11139" y="1553"/>
                </a:lnTo>
                <a:lnTo>
                  <a:pt x="11038" y="1443"/>
                </a:lnTo>
                <a:lnTo>
                  <a:pt x="10938" y="1342"/>
                </a:lnTo>
                <a:lnTo>
                  <a:pt x="10830" y="1242"/>
                </a:lnTo>
                <a:lnTo>
                  <a:pt x="10716" y="1152"/>
                </a:lnTo>
                <a:lnTo>
                  <a:pt x="10602" y="1052"/>
                </a:lnTo>
                <a:lnTo>
                  <a:pt x="10481" y="982"/>
                </a:lnTo>
                <a:lnTo>
                  <a:pt x="10367" y="922"/>
                </a:lnTo>
                <a:lnTo>
                  <a:pt x="10253" y="842"/>
                </a:lnTo>
                <a:lnTo>
                  <a:pt x="10125" y="801"/>
                </a:lnTo>
                <a:lnTo>
                  <a:pt x="10004" y="741"/>
                </a:lnTo>
                <a:lnTo>
                  <a:pt x="9877" y="711"/>
                </a:lnTo>
                <a:lnTo>
                  <a:pt x="9749" y="691"/>
                </a:lnTo>
                <a:lnTo>
                  <a:pt x="9622" y="651"/>
                </a:lnTo>
                <a:lnTo>
                  <a:pt x="9494" y="651"/>
                </a:lnTo>
                <a:lnTo>
                  <a:pt x="9360" y="651"/>
                </a:lnTo>
                <a:lnTo>
                  <a:pt x="9185" y="651"/>
                </a:lnTo>
                <a:lnTo>
                  <a:pt x="8990" y="671"/>
                </a:lnTo>
                <a:lnTo>
                  <a:pt x="8823" y="711"/>
                </a:lnTo>
                <a:lnTo>
                  <a:pt x="8641" y="781"/>
                </a:lnTo>
                <a:lnTo>
                  <a:pt x="8473" y="842"/>
                </a:lnTo>
                <a:lnTo>
                  <a:pt x="8306" y="942"/>
                </a:lnTo>
                <a:lnTo>
                  <a:pt x="8138" y="1032"/>
                </a:lnTo>
                <a:lnTo>
                  <a:pt x="7983" y="1152"/>
                </a:lnTo>
                <a:lnTo>
                  <a:pt x="7829" y="1282"/>
                </a:lnTo>
                <a:lnTo>
                  <a:pt x="7688" y="1443"/>
                </a:lnTo>
                <a:lnTo>
                  <a:pt x="7560" y="1593"/>
                </a:lnTo>
                <a:lnTo>
                  <a:pt x="7433" y="1763"/>
                </a:lnTo>
                <a:lnTo>
                  <a:pt x="7298" y="1954"/>
                </a:lnTo>
                <a:lnTo>
                  <a:pt x="7198" y="2154"/>
                </a:lnTo>
                <a:lnTo>
                  <a:pt x="7097" y="2344"/>
                </a:lnTo>
                <a:lnTo>
                  <a:pt x="7003" y="2575"/>
                </a:lnTo>
                <a:lnTo>
                  <a:pt x="6990" y="2595"/>
                </a:lnTo>
                <a:lnTo>
                  <a:pt x="6802" y="2435"/>
                </a:lnTo>
                <a:lnTo>
                  <a:pt x="6593" y="2324"/>
                </a:lnTo>
                <a:lnTo>
                  <a:pt x="6385" y="2204"/>
                </a:lnTo>
                <a:lnTo>
                  <a:pt x="6285" y="2164"/>
                </a:lnTo>
                <a:lnTo>
                  <a:pt x="6170" y="2134"/>
                </a:lnTo>
                <a:lnTo>
                  <a:pt x="6063" y="2094"/>
                </a:lnTo>
                <a:lnTo>
                  <a:pt x="5962" y="2054"/>
                </a:lnTo>
                <a:lnTo>
                  <a:pt x="5848" y="2034"/>
                </a:lnTo>
                <a:lnTo>
                  <a:pt x="5727" y="1994"/>
                </a:lnTo>
                <a:lnTo>
                  <a:pt x="5627" y="1974"/>
                </a:lnTo>
                <a:lnTo>
                  <a:pt x="5512" y="1974"/>
                </a:lnTo>
                <a:lnTo>
                  <a:pt x="5398" y="1954"/>
                </a:lnTo>
                <a:lnTo>
                  <a:pt x="5291" y="1954"/>
                </a:lnTo>
                <a:lnTo>
                  <a:pt x="5110" y="1974"/>
                </a:lnTo>
                <a:lnTo>
                  <a:pt x="4942" y="1994"/>
                </a:lnTo>
                <a:lnTo>
                  <a:pt x="4774" y="2014"/>
                </a:lnTo>
                <a:lnTo>
                  <a:pt x="4613" y="2054"/>
                </a:lnTo>
                <a:lnTo>
                  <a:pt x="4445" y="2114"/>
                </a:lnTo>
                <a:lnTo>
                  <a:pt x="4290" y="2164"/>
                </a:lnTo>
                <a:lnTo>
                  <a:pt x="4136" y="2244"/>
                </a:lnTo>
                <a:lnTo>
                  <a:pt x="3982" y="2324"/>
                </a:lnTo>
                <a:lnTo>
                  <a:pt x="3820" y="2414"/>
                </a:lnTo>
                <a:lnTo>
                  <a:pt x="3679" y="2515"/>
                </a:lnTo>
                <a:lnTo>
                  <a:pt x="3538" y="2625"/>
                </a:lnTo>
                <a:lnTo>
                  <a:pt x="3397" y="2745"/>
                </a:lnTo>
                <a:lnTo>
                  <a:pt x="3270" y="2875"/>
                </a:lnTo>
                <a:lnTo>
                  <a:pt x="3142" y="3016"/>
                </a:lnTo>
                <a:lnTo>
                  <a:pt x="3015" y="3146"/>
                </a:lnTo>
                <a:lnTo>
                  <a:pt x="2894" y="3306"/>
                </a:lnTo>
                <a:lnTo>
                  <a:pt x="2793" y="3476"/>
                </a:lnTo>
                <a:lnTo>
                  <a:pt x="2679" y="3627"/>
                </a:lnTo>
                <a:lnTo>
                  <a:pt x="2585" y="3807"/>
                </a:lnTo>
                <a:lnTo>
                  <a:pt x="2484" y="3997"/>
                </a:lnTo>
                <a:lnTo>
                  <a:pt x="2404" y="4168"/>
                </a:lnTo>
                <a:lnTo>
                  <a:pt x="2316" y="4358"/>
                </a:lnTo>
                <a:lnTo>
                  <a:pt x="2236" y="4568"/>
                </a:lnTo>
                <a:lnTo>
                  <a:pt x="2175" y="4759"/>
                </a:lnTo>
                <a:lnTo>
                  <a:pt x="2108" y="4979"/>
                </a:lnTo>
                <a:lnTo>
                  <a:pt x="2061" y="5190"/>
                </a:lnTo>
                <a:lnTo>
                  <a:pt x="2021" y="5420"/>
                </a:lnTo>
                <a:lnTo>
                  <a:pt x="1981" y="5630"/>
                </a:lnTo>
                <a:lnTo>
                  <a:pt x="1954" y="5861"/>
                </a:lnTo>
                <a:lnTo>
                  <a:pt x="1927" y="6091"/>
                </a:lnTo>
                <a:lnTo>
                  <a:pt x="1920" y="6322"/>
                </a:lnTo>
                <a:lnTo>
                  <a:pt x="1920" y="6552"/>
                </a:lnTo>
                <a:lnTo>
                  <a:pt x="1920" y="6702"/>
                </a:lnTo>
                <a:lnTo>
                  <a:pt x="1920" y="6873"/>
                </a:lnTo>
                <a:lnTo>
                  <a:pt x="1927" y="7033"/>
                </a:lnTo>
                <a:lnTo>
                  <a:pt x="1940" y="7183"/>
                </a:lnTo>
                <a:lnTo>
                  <a:pt x="1954" y="7163"/>
                </a:lnTo>
                <a:close/>
                <a:moveTo>
                  <a:pt x="1954" y="7163"/>
                </a:move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5400000"/>
          </a:gradFill>
          <a:ln w="50760">
            <a:solidFill>
              <a:srgbClr val="cdcd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66" name=""/>
          <p:cNvSpPr/>
          <p:nvPr/>
        </p:nvSpPr>
        <p:spPr>
          <a:xfrm>
            <a:off x="4863960" y="5207040"/>
            <a:ext cx="29210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959"/>
                </a:solidFill>
                <a:latin typeface="Lora"/>
                <a:ea typeface="Lora"/>
              </a:rPr>
              <a:t>Text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393720" y="5429160"/>
            <a:ext cx="42184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Lora Bold"/>
              </a:rPr>
              <a:t>Change Colors</a:t>
            </a:r>
            <a:endParaRPr b="0" lang="en-US" sz="48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68" name=""/>
          <p:cNvSpPr/>
          <p:nvPr/>
        </p:nvSpPr>
        <p:spPr>
          <a:xfrm>
            <a:off x="3376440" y="6523200"/>
            <a:ext cx="612936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Lora Bold"/>
                <a:ea typeface="Lora Bold"/>
              </a:rPr>
              <a:t>Some cool things here.</a:t>
            </a:r>
            <a:endParaRPr b="0" lang="en-US" sz="2200" spc="-1" strike="noStrike">
              <a:solidFill>
                <a:srgbClr val="595959"/>
              </a:solidFill>
              <a:latin typeface="Lor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Lora"/>
                <a:ea typeface="Lora"/>
              </a:rPr>
              <a:t>Aenean malesuada, arcu non condimentum mattis, massa dolor sollicitudin arcu, non ornare magna orci a neque. </a:t>
            </a:r>
            <a:endParaRPr b="0" lang="en-US" sz="2200" spc="-1" strike="noStrike">
              <a:solidFill>
                <a:srgbClr val="595959"/>
              </a:solidFill>
              <a:latin typeface="Lor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457200" y="127080"/>
            <a:ext cx="4572000" cy="9144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292640" y="139680"/>
            <a:ext cx="3670200" cy="1905120"/>
          </a:xfrm>
          <a:prstGeom prst="wedgeEllipseCallout">
            <a:avLst>
              <a:gd name="adj1" fmla="val -89532"/>
              <a:gd name="adj2" fmla="val 44740"/>
            </a:avLst>
          </a:prstGeom>
          <a:solidFill>
            <a:srgbClr val="779311"/>
          </a:solidFill>
          <a:ln w="25560">
            <a:solidFill>
              <a:srgbClr val="4b5c0d"/>
            </a:solidFill>
            <a:miter/>
          </a:ln>
          <a:effectLst>
            <a:outerShdw dist="0" dir="0" blurRad="0" rotWithShape="0">
              <a:srgbClr val="6767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71" name=""/>
          <p:cNvSpPr/>
          <p:nvPr/>
        </p:nvSpPr>
        <p:spPr>
          <a:xfrm>
            <a:off x="4711680" y="635040"/>
            <a:ext cx="29210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33"/>
                </a:solidFill>
                <a:latin typeface="Lora"/>
                <a:ea typeface="Lora"/>
              </a:rPr>
              <a:t>Hello!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461520" y="3200400"/>
            <a:ext cx="3301920" cy="6743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81480" y="2311560"/>
            <a:ext cx="3073680" cy="2273040"/>
          </a:xfrm>
          <a:prstGeom prst="wedgeEllipseCallout">
            <a:avLst>
              <a:gd name="adj1" fmla="val 139472"/>
              <a:gd name="adj2" fmla="val 152782"/>
            </a:avLst>
          </a:prstGeom>
          <a:gradFill rotWithShape="0">
            <a:gsLst>
              <a:gs pos="0">
                <a:srgbClr val="ffdd00"/>
              </a:gs>
              <a:gs pos="100000">
                <a:srgbClr val="8fb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74" name=""/>
          <p:cNvSpPr/>
          <p:nvPr/>
        </p:nvSpPr>
        <p:spPr>
          <a:xfrm>
            <a:off x="6271920" y="3035160"/>
            <a:ext cx="806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43434"/>
                </a:solidFill>
                <a:latin typeface="Lora"/>
                <a:ea typeface="Lora"/>
              </a:rPr>
              <a:t>Hi!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51840" y="628560"/>
            <a:ext cx="44701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Lora Bold"/>
              </a:rPr>
              <a:t>Easily Resizable</a:t>
            </a:r>
            <a:endParaRPr b="0" lang="en-US" sz="48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76" name=""/>
          <p:cNvSpPr/>
          <p:nvPr/>
        </p:nvSpPr>
        <p:spPr>
          <a:xfrm>
            <a:off x="861840" y="1601640"/>
            <a:ext cx="1127304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Lora Bold"/>
                <a:ea typeface="Lora Bold"/>
              </a:rPr>
              <a:t>Some cool things here.</a:t>
            </a:r>
            <a:endParaRPr b="0" lang="en-US" sz="2200" spc="-1" strike="noStrike">
              <a:solidFill>
                <a:srgbClr val="595959"/>
              </a:solidFill>
              <a:latin typeface="Lor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Lora"/>
                <a:ea typeface="Lora"/>
              </a:rPr>
              <a:t>Phasellus nec dui accumsan. Lorem ipsum dolor sit amet, consectetur adipiscing elit. Suspendisse hendrerit fermentum arcu, nec efficitur sem ultrices id</a:t>
            </a:r>
            <a:endParaRPr b="0" lang="en-US" sz="2200" spc="-1" strike="noStrike">
              <a:solidFill>
                <a:srgbClr val="595959"/>
              </a:solidFill>
              <a:latin typeface="Lor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268640" y="6248520"/>
            <a:ext cx="3011400" cy="2501280"/>
            <a:chOff x="1268640" y="6248520"/>
            <a:chExt cx="3011400" cy="2501280"/>
          </a:xfrm>
        </p:grpSpPr>
        <p:sp>
          <p:nvSpPr>
            <p:cNvPr id="78" name=""/>
            <p:cNvSpPr/>
            <p:nvPr/>
          </p:nvSpPr>
          <p:spPr>
            <a:xfrm flipH="1">
              <a:off x="1268280" y="6248520"/>
              <a:ext cx="2827080" cy="1787040"/>
            </a:xfrm>
            <a:prstGeom prst="wedgeEllipseCallout">
              <a:avLst>
                <a:gd name="adj1" fmla="val -24032"/>
                <a:gd name="adj2" fmla="val 38898"/>
              </a:avLst>
            </a:prstGeom>
            <a:blipFill rotWithShape="0">
              <a:blip r:embed="rId1"/>
              <a:srcRect/>
              <a:stretch/>
            </a:blipFill>
            <a:ln w="50760">
              <a:solidFill>
                <a:srgbClr val="cccccc"/>
              </a:solidFill>
              <a:miter/>
            </a:ln>
            <a:effectLst>
              <a:outerShdw dist="0" dir="0" blurRad="0" rotWithShape="0">
                <a:srgbClr val="676767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959"/>
                </a:solidFill>
                <a:latin typeface="Lora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966840" y="8527680"/>
              <a:ext cx="312840" cy="222120"/>
            </a:xfrm>
            <a:prstGeom prst="wedgeEllipseCallout">
              <a:avLst>
                <a:gd name="adj1" fmla="val -8476"/>
                <a:gd name="adj2" fmla="val 13615"/>
              </a:avLst>
            </a:prstGeom>
            <a:blipFill rotWithShape="0">
              <a:blip r:embed="rId2"/>
              <a:srcRect/>
              <a:stretch/>
            </a:blipFill>
            <a:ln w="50760">
              <a:solidFill>
                <a:srgbClr val="cccccc"/>
              </a:solidFill>
              <a:miter/>
            </a:ln>
            <a:effectLst>
              <a:outerShdw dist="0" dir="0" blurRad="0" rotWithShape="0">
                <a:srgbClr val="676767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959"/>
                </a:solidFill>
                <a:latin typeface="Lora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412440" y="8005680"/>
              <a:ext cx="643320" cy="440640"/>
            </a:xfrm>
            <a:prstGeom prst="wedgeEllipseCallout">
              <a:avLst>
                <a:gd name="adj1" fmla="val 5078"/>
                <a:gd name="adj2" fmla="val -9041"/>
              </a:avLst>
            </a:prstGeom>
            <a:blipFill rotWithShape="0">
              <a:blip r:embed="rId3"/>
              <a:srcRect/>
              <a:stretch/>
            </a:blipFill>
            <a:ln w="50760">
              <a:solidFill>
                <a:srgbClr val="cccccc"/>
              </a:solidFill>
              <a:miter/>
            </a:ln>
            <a:effectLst>
              <a:outerShdw dist="0" dir="0" blurRad="0" rotWithShape="0">
                <a:srgbClr val="676767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959"/>
                </a:solidFill>
                <a:latin typeface="Lora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74680" y="3276720"/>
            <a:ext cx="5954760" cy="5638680"/>
            <a:chOff x="4774680" y="3276720"/>
            <a:chExt cx="5954760" cy="5638680"/>
          </a:xfrm>
        </p:grpSpPr>
        <p:sp>
          <p:nvSpPr>
            <p:cNvPr id="82" name=""/>
            <p:cNvSpPr/>
            <p:nvPr/>
          </p:nvSpPr>
          <p:spPr>
            <a:xfrm flipH="1">
              <a:off x="4774320" y="3276720"/>
              <a:ext cx="5589720" cy="4029120"/>
            </a:xfrm>
            <a:prstGeom prst="wedgeEllipseCallout">
              <a:avLst>
                <a:gd name="adj1" fmla="val -36875"/>
                <a:gd name="adj2" fmla="val -10555"/>
              </a:avLst>
            </a:prstGeom>
            <a:blipFill rotWithShape="0">
              <a:blip r:embed="rId4"/>
              <a:srcRect/>
              <a:stretch/>
            </a:blipFill>
            <a:ln w="50760">
              <a:solidFill>
                <a:srgbClr val="cccccc"/>
              </a:solidFill>
              <a:miter/>
            </a:ln>
            <a:effectLst>
              <a:outerShdw dist="0" dir="0" blurRad="0" rotWithShape="0">
                <a:srgbClr val="676767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959"/>
                </a:solidFill>
                <a:latin typeface="Lora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10110240" y="8417160"/>
              <a:ext cx="619200" cy="498240"/>
            </a:xfrm>
            <a:prstGeom prst="wedgeEllipseCallout">
              <a:avLst>
                <a:gd name="adj1" fmla="val 6694"/>
                <a:gd name="adj2" fmla="val -8990"/>
              </a:avLst>
            </a:prstGeom>
            <a:blipFill rotWithShape="0">
              <a:blip r:embed="rId5"/>
              <a:srcRect/>
              <a:stretch/>
            </a:blipFill>
            <a:ln w="50760">
              <a:solidFill>
                <a:srgbClr val="cccccc"/>
              </a:solidFill>
              <a:miter/>
            </a:ln>
            <a:effectLst>
              <a:outerShdw dist="0" dir="0" blurRad="0" rotWithShape="0">
                <a:srgbClr val="676767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959"/>
                </a:solidFill>
                <a:latin typeface="Lora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9014760" y="7239240"/>
              <a:ext cx="1270080" cy="995400"/>
            </a:xfrm>
            <a:prstGeom prst="wedgeEllipseCallout">
              <a:avLst>
                <a:gd name="adj1" fmla="val -14129"/>
                <a:gd name="adj2" fmla="val -4078"/>
              </a:avLst>
            </a:prstGeom>
            <a:blipFill rotWithShape="0">
              <a:blip r:embed="rId6"/>
              <a:srcRect/>
              <a:stretch/>
            </a:blipFill>
            <a:ln w="50760">
              <a:solidFill>
                <a:srgbClr val="cccccc"/>
              </a:solidFill>
              <a:miter/>
            </a:ln>
            <a:effectLst>
              <a:outerShdw dist="0" dir="0" blurRad="0" rotWithShape="0">
                <a:srgbClr val="676767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959"/>
                </a:solidFill>
                <a:latin typeface="Lor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0440" y="3803760"/>
            <a:ext cx="48661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Lora Bold"/>
              </a:rPr>
              <a:t>Just Drag &amp; Drop</a:t>
            </a:r>
            <a:endParaRPr b="0" lang="en-US" sz="48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86" name=""/>
          <p:cNvSpPr/>
          <p:nvPr/>
        </p:nvSpPr>
        <p:spPr>
          <a:xfrm>
            <a:off x="760320" y="4897440"/>
            <a:ext cx="558324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Lora Bold"/>
                <a:ea typeface="Lora Bold"/>
              </a:rPr>
              <a:t>Some cool things here.</a:t>
            </a:r>
            <a:endParaRPr b="0" lang="en-US" sz="2200" spc="-1" strike="noStrike">
              <a:solidFill>
                <a:srgbClr val="595959"/>
              </a:solidFill>
              <a:latin typeface="Lor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Lora"/>
                <a:ea typeface="Lora"/>
              </a:rPr>
              <a:t>Aenean malesuada, arcu non condimentum mattis, massa dolor sollicitudin arcu, non ornare magna orci a neque. Suspendisse vitae mi quis velit molestie efficitur. Nam cursus nulla enim, a gravida metus fringilla non. </a:t>
            </a:r>
            <a:endParaRPr b="0" lang="en-US" sz="2200" spc="-1" strike="noStrike">
              <a:solidFill>
                <a:srgbClr val="595959"/>
              </a:solidFill>
              <a:latin typeface="Lor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553080" y="2603520"/>
            <a:ext cx="6197760" cy="69850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4126320" y="404640"/>
            <a:ext cx="3671640" cy="3087360"/>
            <a:chOff x="4126320" y="404640"/>
            <a:chExt cx="3671640" cy="3087360"/>
          </a:xfrm>
        </p:grpSpPr>
        <p:sp>
          <p:nvSpPr>
            <p:cNvPr id="89" name=""/>
            <p:cNvSpPr/>
            <p:nvPr/>
          </p:nvSpPr>
          <p:spPr>
            <a:xfrm flipH="1">
              <a:off x="4125960" y="404640"/>
              <a:ext cx="3447720" cy="2205720"/>
            </a:xfrm>
            <a:prstGeom prst="wedgeEllipseCallout">
              <a:avLst>
                <a:gd name="adj1" fmla="val -28703"/>
                <a:gd name="adj2" fmla="val 22069"/>
              </a:avLst>
            </a:prstGeom>
            <a:solidFill>
              <a:srgbClr val="6ca300"/>
            </a:solidFill>
            <a:ln w="0">
              <a:noFill/>
            </a:ln>
            <a:effectLst>
              <a:outerShdw dist="0" dir="0" blurRad="0" rotWithShape="0">
                <a:srgbClr val="676767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959"/>
                </a:solidFill>
                <a:latin typeface="Lora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7417080" y="3218760"/>
              <a:ext cx="380880" cy="273240"/>
            </a:xfrm>
            <a:prstGeom prst="wedgeEllipseCallout">
              <a:avLst>
                <a:gd name="adj1" fmla="val 42004"/>
                <a:gd name="adj2" fmla="val 24930"/>
              </a:avLst>
            </a:prstGeom>
            <a:solidFill>
              <a:srgbClr val="b2d11e"/>
            </a:solidFill>
            <a:ln w="0">
              <a:noFill/>
            </a:ln>
            <a:effectLst>
              <a:outerShdw dist="0" dir="0" blurRad="0" rotWithShape="0">
                <a:srgbClr val="676767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959"/>
                </a:solidFill>
                <a:latin typeface="Lora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741720" y="2574000"/>
              <a:ext cx="783000" cy="544320"/>
            </a:xfrm>
            <a:prstGeom prst="wedgeEllipseCallout">
              <a:avLst>
                <a:gd name="adj1" fmla="val 8212"/>
                <a:gd name="adj2" fmla="val 33902"/>
              </a:avLst>
            </a:prstGeom>
            <a:solidFill>
              <a:srgbClr val="8fbb1c"/>
            </a:solidFill>
            <a:ln w="0">
              <a:noFill/>
            </a:ln>
            <a:effectLst>
              <a:outerShdw dist="0" dir="0" blurRad="0" rotWithShape="0">
                <a:srgbClr val="676767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959"/>
                </a:solidFill>
                <a:latin typeface="Lora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368960" y="1092240"/>
            <a:ext cx="29206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6f37d"/>
                </a:solidFill>
                <a:latin typeface="Lora"/>
                <a:ea typeface="Lora"/>
              </a:rPr>
              <a:t>Hmzzz..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0210680" y="546120"/>
            <a:ext cx="1993680" cy="2108160"/>
            <a:chOff x="10210680" y="546120"/>
            <a:chExt cx="1993680" cy="2108160"/>
          </a:xfrm>
        </p:grpSpPr>
        <p:sp>
          <p:nvSpPr>
            <p:cNvPr id="94" name=""/>
            <p:cNvSpPr/>
            <p:nvPr/>
          </p:nvSpPr>
          <p:spPr>
            <a:xfrm>
              <a:off x="10333080" y="546120"/>
              <a:ext cx="1871280" cy="1506600"/>
            </a:xfrm>
            <a:prstGeom prst="wedgeEllipseCallout">
              <a:avLst>
                <a:gd name="adj1" fmla="val -2578"/>
                <a:gd name="adj2" fmla="val 32648"/>
              </a:avLst>
            </a:prstGeom>
            <a:solidFill>
              <a:srgbClr val="6ca300"/>
            </a:solidFill>
            <a:ln w="0">
              <a:noFill/>
            </a:ln>
            <a:effectLst>
              <a:outerShdw dist="0" dir="0" blurRad="0" rotWithShape="0">
                <a:srgbClr val="676767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959"/>
                </a:solidFill>
                <a:latin typeface="Lor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210680" y="2467080"/>
              <a:ext cx="206280" cy="187200"/>
            </a:xfrm>
            <a:prstGeom prst="wedgeEllipseCallout">
              <a:avLst>
                <a:gd name="adj1" fmla="val -2273"/>
                <a:gd name="adj2" fmla="val -8087"/>
              </a:avLst>
            </a:prstGeom>
            <a:solidFill>
              <a:srgbClr val="b2d11e"/>
            </a:solidFill>
            <a:ln w="0">
              <a:noFill/>
            </a:ln>
            <a:effectLst>
              <a:outerShdw dist="0" dir="0" blurRad="0" rotWithShape="0">
                <a:srgbClr val="676767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959"/>
                </a:solidFill>
                <a:latin typeface="Lor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358280" y="2027160"/>
              <a:ext cx="425880" cy="371520"/>
            </a:xfrm>
            <a:prstGeom prst="wedgeEllipseCallout">
              <a:avLst>
                <a:gd name="adj1" fmla="val -9939"/>
                <a:gd name="adj2" fmla="val -11106"/>
              </a:avLst>
            </a:prstGeom>
            <a:solidFill>
              <a:srgbClr val="8fbb1c"/>
            </a:solidFill>
            <a:ln w="0">
              <a:noFill/>
            </a:ln>
            <a:effectLst>
              <a:outerShdw dist="0" dir="0" blurRad="0" rotWithShape="0">
                <a:srgbClr val="676767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959"/>
                </a:solidFill>
                <a:latin typeface="Lora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9842400" y="838080"/>
            <a:ext cx="292104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6f37d"/>
                </a:solidFill>
                <a:latin typeface="Lora"/>
                <a:ea typeface="Lora"/>
              </a:rPr>
              <a:t>Ok!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6160" y="1073160"/>
            <a:ext cx="38026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Lora Bold"/>
              </a:rPr>
              <a:t>Match Colors</a:t>
            </a:r>
            <a:endParaRPr b="0" lang="en-US" sz="48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99" name=""/>
          <p:cNvSpPr/>
          <p:nvPr/>
        </p:nvSpPr>
        <p:spPr>
          <a:xfrm>
            <a:off x="620640" y="2166840"/>
            <a:ext cx="5570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Lora"/>
                <a:ea typeface="Lora"/>
              </a:rPr>
              <a:t>Match same colors for the best effect.</a:t>
            </a:r>
            <a:endParaRPr b="0" lang="en-US" sz="2200" spc="-1" strike="noStrike">
              <a:solidFill>
                <a:srgbClr val="595959"/>
              </a:solidFill>
              <a:latin typeface="Lor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337440" y="1574640"/>
            <a:ext cx="6769080" cy="8064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83560" y="520560"/>
            <a:ext cx="2869920" cy="1892520"/>
          </a:xfrm>
          <a:prstGeom prst="pie">
            <a:avLst/>
          </a:prstGeom>
          <a:solidFill>
            <a:srgbClr val="ffa800"/>
          </a:solidFill>
          <a:ln w="50760">
            <a:solidFill>
              <a:srgbClr val="ffe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102" name=""/>
          <p:cNvSpPr/>
          <p:nvPr/>
        </p:nvSpPr>
        <p:spPr>
          <a:xfrm>
            <a:off x="6119640" y="264960"/>
            <a:ext cx="3873600" cy="256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54" y="7163"/>
                </a:moveTo>
                <a:lnTo>
                  <a:pt x="1853" y="7183"/>
                </a:lnTo>
                <a:lnTo>
                  <a:pt x="1752" y="7203"/>
                </a:lnTo>
                <a:lnTo>
                  <a:pt x="1645" y="7243"/>
                </a:lnTo>
                <a:lnTo>
                  <a:pt x="1544" y="7283"/>
                </a:lnTo>
                <a:lnTo>
                  <a:pt x="1450" y="7324"/>
                </a:lnTo>
                <a:lnTo>
                  <a:pt x="1363" y="7374"/>
                </a:lnTo>
                <a:lnTo>
                  <a:pt x="1262" y="7434"/>
                </a:lnTo>
                <a:lnTo>
                  <a:pt x="1182" y="7494"/>
                </a:lnTo>
                <a:lnTo>
                  <a:pt x="1094" y="7554"/>
                </a:lnTo>
                <a:lnTo>
                  <a:pt x="1000" y="7624"/>
                </a:lnTo>
                <a:lnTo>
                  <a:pt x="927" y="7704"/>
                </a:lnTo>
                <a:lnTo>
                  <a:pt x="846" y="7784"/>
                </a:lnTo>
                <a:lnTo>
                  <a:pt x="692" y="7955"/>
                </a:lnTo>
                <a:lnTo>
                  <a:pt x="631" y="8035"/>
                </a:lnTo>
                <a:lnTo>
                  <a:pt x="564" y="8145"/>
                </a:lnTo>
                <a:lnTo>
                  <a:pt x="497" y="8245"/>
                </a:lnTo>
                <a:lnTo>
                  <a:pt x="436" y="8335"/>
                </a:lnTo>
                <a:lnTo>
                  <a:pt x="369" y="8456"/>
                </a:lnTo>
                <a:lnTo>
                  <a:pt x="322" y="8566"/>
                </a:lnTo>
                <a:lnTo>
                  <a:pt x="269" y="8686"/>
                </a:lnTo>
                <a:lnTo>
                  <a:pt x="228" y="8796"/>
                </a:lnTo>
                <a:lnTo>
                  <a:pt x="188" y="8916"/>
                </a:lnTo>
                <a:lnTo>
                  <a:pt x="154" y="9047"/>
                </a:lnTo>
                <a:lnTo>
                  <a:pt x="114" y="9167"/>
                </a:lnTo>
                <a:lnTo>
                  <a:pt x="87" y="9297"/>
                </a:lnTo>
                <a:lnTo>
                  <a:pt x="60" y="9437"/>
                </a:lnTo>
                <a:lnTo>
                  <a:pt x="34" y="9568"/>
                </a:lnTo>
                <a:lnTo>
                  <a:pt x="27" y="9698"/>
                </a:lnTo>
                <a:lnTo>
                  <a:pt x="13" y="9858"/>
                </a:lnTo>
                <a:lnTo>
                  <a:pt x="0" y="9988"/>
                </a:lnTo>
                <a:lnTo>
                  <a:pt x="0" y="10129"/>
                </a:lnTo>
                <a:lnTo>
                  <a:pt x="0" y="10319"/>
                </a:lnTo>
                <a:lnTo>
                  <a:pt x="13" y="10529"/>
                </a:lnTo>
                <a:lnTo>
                  <a:pt x="34" y="10720"/>
                </a:lnTo>
                <a:lnTo>
                  <a:pt x="74" y="10890"/>
                </a:lnTo>
                <a:lnTo>
                  <a:pt x="114" y="11091"/>
                </a:lnTo>
                <a:lnTo>
                  <a:pt x="168" y="11261"/>
                </a:lnTo>
                <a:lnTo>
                  <a:pt x="215" y="11431"/>
                </a:lnTo>
                <a:lnTo>
                  <a:pt x="282" y="11601"/>
                </a:lnTo>
                <a:lnTo>
                  <a:pt x="356" y="11762"/>
                </a:lnTo>
                <a:lnTo>
                  <a:pt x="436" y="11932"/>
                </a:lnTo>
                <a:lnTo>
                  <a:pt x="524" y="12062"/>
                </a:lnTo>
                <a:lnTo>
                  <a:pt x="631" y="12223"/>
                </a:lnTo>
                <a:lnTo>
                  <a:pt x="732" y="12353"/>
                </a:lnTo>
                <a:lnTo>
                  <a:pt x="833" y="12473"/>
                </a:lnTo>
                <a:lnTo>
                  <a:pt x="953" y="12583"/>
                </a:lnTo>
                <a:lnTo>
                  <a:pt x="1081" y="12704"/>
                </a:lnTo>
                <a:lnTo>
                  <a:pt x="1068" y="12663"/>
                </a:lnTo>
                <a:lnTo>
                  <a:pt x="987" y="12754"/>
                </a:lnTo>
                <a:lnTo>
                  <a:pt x="927" y="12874"/>
                </a:lnTo>
                <a:lnTo>
                  <a:pt x="873" y="12994"/>
                </a:lnTo>
                <a:lnTo>
                  <a:pt x="812" y="13104"/>
                </a:lnTo>
                <a:lnTo>
                  <a:pt x="759" y="13224"/>
                </a:lnTo>
                <a:lnTo>
                  <a:pt x="705" y="13335"/>
                </a:lnTo>
                <a:lnTo>
                  <a:pt x="665" y="13465"/>
                </a:lnTo>
                <a:lnTo>
                  <a:pt x="631" y="13605"/>
                </a:lnTo>
                <a:lnTo>
                  <a:pt x="591" y="13715"/>
                </a:lnTo>
                <a:lnTo>
                  <a:pt x="564" y="13856"/>
                </a:lnTo>
                <a:lnTo>
                  <a:pt x="537" y="13986"/>
                </a:lnTo>
                <a:lnTo>
                  <a:pt x="510" y="14126"/>
                </a:lnTo>
                <a:lnTo>
                  <a:pt x="497" y="14256"/>
                </a:lnTo>
                <a:lnTo>
                  <a:pt x="490" y="14397"/>
                </a:lnTo>
                <a:lnTo>
                  <a:pt x="477" y="14547"/>
                </a:lnTo>
                <a:lnTo>
                  <a:pt x="477" y="14677"/>
                </a:lnTo>
                <a:lnTo>
                  <a:pt x="477" y="14837"/>
                </a:lnTo>
                <a:lnTo>
                  <a:pt x="490" y="14988"/>
                </a:lnTo>
                <a:lnTo>
                  <a:pt x="497" y="15138"/>
                </a:lnTo>
                <a:lnTo>
                  <a:pt x="510" y="15278"/>
                </a:lnTo>
                <a:lnTo>
                  <a:pt x="537" y="15429"/>
                </a:lnTo>
                <a:lnTo>
                  <a:pt x="577" y="15569"/>
                </a:lnTo>
                <a:lnTo>
                  <a:pt x="604" y="15699"/>
                </a:lnTo>
                <a:lnTo>
                  <a:pt x="645" y="15829"/>
                </a:lnTo>
                <a:lnTo>
                  <a:pt x="692" y="15970"/>
                </a:lnTo>
                <a:lnTo>
                  <a:pt x="732" y="16100"/>
                </a:lnTo>
                <a:lnTo>
                  <a:pt x="799" y="16220"/>
                </a:lnTo>
                <a:lnTo>
                  <a:pt x="846" y="16330"/>
                </a:lnTo>
                <a:lnTo>
                  <a:pt x="913" y="16450"/>
                </a:lnTo>
                <a:lnTo>
                  <a:pt x="974" y="16561"/>
                </a:lnTo>
                <a:lnTo>
                  <a:pt x="1041" y="16681"/>
                </a:lnTo>
                <a:lnTo>
                  <a:pt x="1121" y="16771"/>
                </a:lnTo>
                <a:lnTo>
                  <a:pt x="1182" y="16871"/>
                </a:lnTo>
                <a:lnTo>
                  <a:pt x="1276" y="16971"/>
                </a:lnTo>
                <a:lnTo>
                  <a:pt x="1350" y="17042"/>
                </a:lnTo>
                <a:lnTo>
                  <a:pt x="1444" y="17142"/>
                </a:lnTo>
                <a:lnTo>
                  <a:pt x="1517" y="17222"/>
                </a:lnTo>
                <a:lnTo>
                  <a:pt x="1618" y="17272"/>
                </a:lnTo>
                <a:lnTo>
                  <a:pt x="1712" y="17352"/>
                </a:lnTo>
                <a:lnTo>
                  <a:pt x="1799" y="17412"/>
                </a:lnTo>
                <a:lnTo>
                  <a:pt x="1907" y="17462"/>
                </a:lnTo>
                <a:lnTo>
                  <a:pt x="2008" y="17502"/>
                </a:lnTo>
                <a:lnTo>
                  <a:pt x="2108" y="17542"/>
                </a:lnTo>
                <a:lnTo>
                  <a:pt x="2216" y="17583"/>
                </a:lnTo>
                <a:lnTo>
                  <a:pt x="2316" y="17603"/>
                </a:lnTo>
                <a:lnTo>
                  <a:pt x="2431" y="17623"/>
                </a:lnTo>
                <a:lnTo>
                  <a:pt x="2551" y="17643"/>
                </a:lnTo>
                <a:lnTo>
                  <a:pt x="2652" y="17643"/>
                </a:lnTo>
                <a:lnTo>
                  <a:pt x="2780" y="17643"/>
                </a:lnTo>
                <a:lnTo>
                  <a:pt x="2907" y="17623"/>
                </a:lnTo>
                <a:lnTo>
                  <a:pt x="2894" y="17643"/>
                </a:lnTo>
                <a:lnTo>
                  <a:pt x="2961" y="17793"/>
                </a:lnTo>
                <a:lnTo>
                  <a:pt x="3035" y="17943"/>
                </a:lnTo>
                <a:lnTo>
                  <a:pt x="3102" y="18083"/>
                </a:lnTo>
                <a:lnTo>
                  <a:pt x="3183" y="18214"/>
                </a:lnTo>
                <a:lnTo>
                  <a:pt x="3344" y="18484"/>
                </a:lnTo>
                <a:lnTo>
                  <a:pt x="3512" y="18755"/>
                </a:lnTo>
                <a:lnTo>
                  <a:pt x="3693" y="18985"/>
                </a:lnTo>
                <a:lnTo>
                  <a:pt x="3901" y="19196"/>
                </a:lnTo>
                <a:lnTo>
                  <a:pt x="4096" y="19406"/>
                </a:lnTo>
                <a:lnTo>
                  <a:pt x="4311" y="19586"/>
                </a:lnTo>
                <a:lnTo>
                  <a:pt x="4418" y="19656"/>
                </a:lnTo>
                <a:lnTo>
                  <a:pt x="4532" y="19737"/>
                </a:lnTo>
                <a:lnTo>
                  <a:pt x="4646" y="19817"/>
                </a:lnTo>
                <a:lnTo>
                  <a:pt x="4767" y="19887"/>
                </a:lnTo>
                <a:lnTo>
                  <a:pt x="4881" y="19947"/>
                </a:lnTo>
                <a:lnTo>
                  <a:pt x="4995" y="20007"/>
                </a:lnTo>
                <a:lnTo>
                  <a:pt x="5110" y="20057"/>
                </a:lnTo>
                <a:lnTo>
                  <a:pt x="5244" y="20097"/>
                </a:lnTo>
                <a:lnTo>
                  <a:pt x="5358" y="20157"/>
                </a:lnTo>
                <a:lnTo>
                  <a:pt x="5486" y="20197"/>
                </a:lnTo>
                <a:lnTo>
                  <a:pt x="5613" y="20217"/>
                </a:lnTo>
                <a:lnTo>
                  <a:pt x="5727" y="20257"/>
                </a:lnTo>
                <a:lnTo>
                  <a:pt x="5862" y="20278"/>
                </a:lnTo>
                <a:lnTo>
                  <a:pt x="5989" y="20278"/>
                </a:lnTo>
                <a:lnTo>
                  <a:pt x="6117" y="20298"/>
                </a:lnTo>
                <a:lnTo>
                  <a:pt x="6244" y="20298"/>
                </a:lnTo>
                <a:lnTo>
                  <a:pt x="6372" y="20298"/>
                </a:lnTo>
                <a:lnTo>
                  <a:pt x="6513" y="20278"/>
                </a:lnTo>
                <a:lnTo>
                  <a:pt x="6647" y="20278"/>
                </a:lnTo>
                <a:lnTo>
                  <a:pt x="6775" y="20257"/>
                </a:lnTo>
                <a:lnTo>
                  <a:pt x="6902" y="20217"/>
                </a:lnTo>
                <a:lnTo>
                  <a:pt x="7030" y="20177"/>
                </a:lnTo>
                <a:lnTo>
                  <a:pt x="7157" y="20137"/>
                </a:lnTo>
                <a:lnTo>
                  <a:pt x="7278" y="20097"/>
                </a:lnTo>
                <a:lnTo>
                  <a:pt x="7406" y="20047"/>
                </a:lnTo>
                <a:lnTo>
                  <a:pt x="7533" y="20007"/>
                </a:lnTo>
                <a:lnTo>
                  <a:pt x="7648" y="19927"/>
                </a:lnTo>
                <a:lnTo>
                  <a:pt x="7768" y="19867"/>
                </a:lnTo>
                <a:lnTo>
                  <a:pt x="7896" y="19797"/>
                </a:lnTo>
                <a:lnTo>
                  <a:pt x="8010" y="19717"/>
                </a:lnTo>
                <a:lnTo>
                  <a:pt x="8124" y="19616"/>
                </a:lnTo>
                <a:lnTo>
                  <a:pt x="8245" y="19546"/>
                </a:lnTo>
                <a:lnTo>
                  <a:pt x="8232" y="19546"/>
                </a:lnTo>
                <a:lnTo>
                  <a:pt x="8359" y="19777"/>
                </a:lnTo>
                <a:lnTo>
                  <a:pt x="8487" y="20007"/>
                </a:lnTo>
                <a:lnTo>
                  <a:pt x="8628" y="20217"/>
                </a:lnTo>
                <a:lnTo>
                  <a:pt x="8769" y="20408"/>
                </a:lnTo>
                <a:lnTo>
                  <a:pt x="8937" y="20578"/>
                </a:lnTo>
                <a:lnTo>
                  <a:pt x="9091" y="20758"/>
                </a:lnTo>
                <a:lnTo>
                  <a:pt x="9272" y="20909"/>
                </a:lnTo>
                <a:lnTo>
                  <a:pt x="9440" y="21039"/>
                </a:lnTo>
                <a:lnTo>
                  <a:pt x="9635" y="21179"/>
                </a:lnTo>
                <a:lnTo>
                  <a:pt x="9816" y="21269"/>
                </a:lnTo>
                <a:lnTo>
                  <a:pt x="10018" y="21370"/>
                </a:lnTo>
                <a:lnTo>
                  <a:pt x="10212" y="21450"/>
                </a:lnTo>
                <a:lnTo>
                  <a:pt x="10421" y="21500"/>
                </a:lnTo>
                <a:lnTo>
                  <a:pt x="10622" y="21560"/>
                </a:lnTo>
                <a:lnTo>
                  <a:pt x="10830" y="21580"/>
                </a:lnTo>
                <a:lnTo>
                  <a:pt x="11038" y="21600"/>
                </a:lnTo>
                <a:lnTo>
                  <a:pt x="11179" y="21580"/>
                </a:lnTo>
                <a:lnTo>
                  <a:pt x="11320" y="21580"/>
                </a:lnTo>
                <a:lnTo>
                  <a:pt x="11448" y="21560"/>
                </a:lnTo>
                <a:lnTo>
                  <a:pt x="11589" y="21520"/>
                </a:lnTo>
                <a:lnTo>
                  <a:pt x="11723" y="21500"/>
                </a:lnTo>
                <a:lnTo>
                  <a:pt x="11851" y="21450"/>
                </a:lnTo>
                <a:lnTo>
                  <a:pt x="11978" y="21410"/>
                </a:lnTo>
                <a:lnTo>
                  <a:pt x="12106" y="21350"/>
                </a:lnTo>
                <a:lnTo>
                  <a:pt x="12234" y="21289"/>
                </a:lnTo>
                <a:lnTo>
                  <a:pt x="12361" y="21219"/>
                </a:lnTo>
                <a:lnTo>
                  <a:pt x="12482" y="21139"/>
                </a:lnTo>
                <a:lnTo>
                  <a:pt x="12596" y="21059"/>
                </a:lnTo>
                <a:lnTo>
                  <a:pt x="12710" y="20989"/>
                </a:lnTo>
                <a:lnTo>
                  <a:pt x="12831" y="20889"/>
                </a:lnTo>
                <a:lnTo>
                  <a:pt x="12945" y="20788"/>
                </a:lnTo>
                <a:lnTo>
                  <a:pt x="13046" y="20678"/>
                </a:lnTo>
                <a:lnTo>
                  <a:pt x="13147" y="20578"/>
                </a:lnTo>
                <a:lnTo>
                  <a:pt x="13254" y="20448"/>
                </a:lnTo>
                <a:lnTo>
                  <a:pt x="13355" y="20328"/>
                </a:lnTo>
                <a:lnTo>
                  <a:pt x="13449" y="20217"/>
                </a:lnTo>
                <a:lnTo>
                  <a:pt x="13536" y="20077"/>
                </a:lnTo>
                <a:lnTo>
                  <a:pt x="13623" y="19947"/>
                </a:lnTo>
                <a:lnTo>
                  <a:pt x="13717" y="19797"/>
                </a:lnTo>
                <a:lnTo>
                  <a:pt x="13791" y="19636"/>
                </a:lnTo>
                <a:lnTo>
                  <a:pt x="13872" y="19506"/>
                </a:lnTo>
                <a:lnTo>
                  <a:pt x="13939" y="19336"/>
                </a:lnTo>
                <a:lnTo>
                  <a:pt x="13999" y="19175"/>
                </a:lnTo>
                <a:lnTo>
                  <a:pt x="14067" y="19025"/>
                </a:lnTo>
                <a:lnTo>
                  <a:pt x="14127" y="18855"/>
                </a:lnTo>
                <a:lnTo>
                  <a:pt x="14181" y="18675"/>
                </a:lnTo>
                <a:lnTo>
                  <a:pt x="14221" y="18504"/>
                </a:lnTo>
                <a:lnTo>
                  <a:pt x="14268" y="18314"/>
                </a:lnTo>
                <a:lnTo>
                  <a:pt x="14268" y="18354"/>
                </a:lnTo>
                <a:lnTo>
                  <a:pt x="14449" y="18484"/>
                </a:lnTo>
                <a:lnTo>
                  <a:pt x="14631" y="18604"/>
                </a:lnTo>
                <a:lnTo>
                  <a:pt x="14812" y="18695"/>
                </a:lnTo>
                <a:lnTo>
                  <a:pt x="15007" y="18795"/>
                </a:lnTo>
                <a:lnTo>
                  <a:pt x="15201" y="18855"/>
                </a:lnTo>
                <a:lnTo>
                  <a:pt x="15403" y="18905"/>
                </a:lnTo>
                <a:lnTo>
                  <a:pt x="15597" y="18925"/>
                </a:lnTo>
                <a:lnTo>
                  <a:pt x="15698" y="18925"/>
                </a:lnTo>
                <a:lnTo>
                  <a:pt x="15806" y="18945"/>
                </a:lnTo>
                <a:lnTo>
                  <a:pt x="15960" y="18925"/>
                </a:lnTo>
                <a:lnTo>
                  <a:pt x="16101" y="18905"/>
                </a:lnTo>
                <a:lnTo>
                  <a:pt x="16242" y="18885"/>
                </a:lnTo>
                <a:lnTo>
                  <a:pt x="16383" y="18855"/>
                </a:lnTo>
                <a:lnTo>
                  <a:pt x="16524" y="18815"/>
                </a:lnTo>
                <a:lnTo>
                  <a:pt x="16652" y="18755"/>
                </a:lnTo>
                <a:lnTo>
                  <a:pt x="16793" y="18695"/>
                </a:lnTo>
                <a:lnTo>
                  <a:pt x="16927" y="18645"/>
                </a:lnTo>
                <a:lnTo>
                  <a:pt x="17054" y="18564"/>
                </a:lnTo>
                <a:lnTo>
                  <a:pt x="17182" y="18464"/>
                </a:lnTo>
                <a:lnTo>
                  <a:pt x="17296" y="18374"/>
                </a:lnTo>
                <a:lnTo>
                  <a:pt x="17417" y="18274"/>
                </a:lnTo>
                <a:lnTo>
                  <a:pt x="17531" y="18164"/>
                </a:lnTo>
                <a:lnTo>
                  <a:pt x="17632" y="18043"/>
                </a:lnTo>
                <a:lnTo>
                  <a:pt x="17733" y="17933"/>
                </a:lnTo>
                <a:lnTo>
                  <a:pt x="17840" y="17793"/>
                </a:lnTo>
                <a:lnTo>
                  <a:pt x="17941" y="17663"/>
                </a:lnTo>
                <a:lnTo>
                  <a:pt x="18035" y="17522"/>
                </a:lnTo>
                <a:lnTo>
                  <a:pt x="18109" y="17372"/>
                </a:lnTo>
                <a:lnTo>
                  <a:pt x="18203" y="17222"/>
                </a:lnTo>
                <a:lnTo>
                  <a:pt x="18276" y="17062"/>
                </a:lnTo>
                <a:lnTo>
                  <a:pt x="18344" y="16891"/>
                </a:lnTo>
                <a:lnTo>
                  <a:pt x="18404" y="16741"/>
                </a:lnTo>
                <a:lnTo>
                  <a:pt x="18458" y="16561"/>
                </a:lnTo>
                <a:lnTo>
                  <a:pt x="18525" y="16370"/>
                </a:lnTo>
                <a:lnTo>
                  <a:pt x="18558" y="16200"/>
                </a:lnTo>
                <a:lnTo>
                  <a:pt x="18599" y="16010"/>
                </a:lnTo>
                <a:lnTo>
                  <a:pt x="18639" y="15829"/>
                </a:lnTo>
                <a:lnTo>
                  <a:pt x="18666" y="15639"/>
                </a:lnTo>
                <a:lnTo>
                  <a:pt x="18679" y="15429"/>
                </a:lnTo>
                <a:lnTo>
                  <a:pt x="18686" y="15238"/>
                </a:lnTo>
                <a:lnTo>
                  <a:pt x="18699" y="15048"/>
                </a:lnTo>
                <a:lnTo>
                  <a:pt x="18686" y="15028"/>
                </a:lnTo>
                <a:lnTo>
                  <a:pt x="18840" y="14988"/>
                </a:lnTo>
                <a:lnTo>
                  <a:pt x="19002" y="14948"/>
                </a:lnTo>
                <a:lnTo>
                  <a:pt x="19156" y="14888"/>
                </a:lnTo>
                <a:lnTo>
                  <a:pt x="19297" y="14837"/>
                </a:lnTo>
                <a:lnTo>
                  <a:pt x="19438" y="14757"/>
                </a:lnTo>
                <a:lnTo>
                  <a:pt x="19579" y="14677"/>
                </a:lnTo>
                <a:lnTo>
                  <a:pt x="19720" y="14587"/>
                </a:lnTo>
                <a:lnTo>
                  <a:pt x="19848" y="14507"/>
                </a:lnTo>
                <a:lnTo>
                  <a:pt x="19975" y="14397"/>
                </a:lnTo>
                <a:lnTo>
                  <a:pt x="20109" y="14276"/>
                </a:lnTo>
                <a:lnTo>
                  <a:pt x="20224" y="14166"/>
                </a:lnTo>
                <a:lnTo>
                  <a:pt x="20351" y="14046"/>
                </a:lnTo>
                <a:lnTo>
                  <a:pt x="20452" y="13916"/>
                </a:lnTo>
                <a:lnTo>
                  <a:pt x="20573" y="13776"/>
                </a:lnTo>
                <a:lnTo>
                  <a:pt x="20673" y="13625"/>
                </a:lnTo>
                <a:lnTo>
                  <a:pt x="20774" y="13485"/>
                </a:lnTo>
                <a:lnTo>
                  <a:pt x="20868" y="13335"/>
                </a:lnTo>
                <a:lnTo>
                  <a:pt x="20955" y="13164"/>
                </a:lnTo>
                <a:lnTo>
                  <a:pt x="21049" y="13004"/>
                </a:lnTo>
                <a:lnTo>
                  <a:pt x="21123" y="12834"/>
                </a:lnTo>
                <a:lnTo>
                  <a:pt x="21190" y="12663"/>
                </a:lnTo>
                <a:lnTo>
                  <a:pt x="21264" y="12473"/>
                </a:lnTo>
                <a:lnTo>
                  <a:pt x="21331" y="12293"/>
                </a:lnTo>
                <a:lnTo>
                  <a:pt x="21378" y="12102"/>
                </a:lnTo>
                <a:lnTo>
                  <a:pt x="21432" y="11912"/>
                </a:lnTo>
                <a:lnTo>
                  <a:pt x="21472" y="11702"/>
                </a:lnTo>
                <a:lnTo>
                  <a:pt x="21513" y="11511"/>
                </a:lnTo>
                <a:lnTo>
                  <a:pt x="21546" y="11301"/>
                </a:lnTo>
                <a:lnTo>
                  <a:pt x="21573" y="11111"/>
                </a:lnTo>
                <a:lnTo>
                  <a:pt x="21587" y="10890"/>
                </a:lnTo>
                <a:lnTo>
                  <a:pt x="21600" y="10680"/>
                </a:lnTo>
                <a:lnTo>
                  <a:pt x="21600" y="10469"/>
                </a:lnTo>
                <a:lnTo>
                  <a:pt x="21600" y="10279"/>
                </a:lnTo>
                <a:lnTo>
                  <a:pt x="21587" y="10089"/>
                </a:lnTo>
                <a:lnTo>
                  <a:pt x="21573" y="9898"/>
                </a:lnTo>
                <a:lnTo>
                  <a:pt x="21546" y="9698"/>
                </a:lnTo>
                <a:lnTo>
                  <a:pt x="21526" y="9528"/>
                </a:lnTo>
                <a:lnTo>
                  <a:pt x="21499" y="9337"/>
                </a:lnTo>
                <a:lnTo>
                  <a:pt x="21459" y="9167"/>
                </a:lnTo>
                <a:lnTo>
                  <a:pt x="21419" y="8977"/>
                </a:lnTo>
                <a:lnTo>
                  <a:pt x="21372" y="8796"/>
                </a:lnTo>
                <a:lnTo>
                  <a:pt x="21318" y="8626"/>
                </a:lnTo>
                <a:lnTo>
                  <a:pt x="21264" y="8456"/>
                </a:lnTo>
                <a:lnTo>
                  <a:pt x="21204" y="8295"/>
                </a:lnTo>
                <a:lnTo>
                  <a:pt x="21137" y="8125"/>
                </a:lnTo>
                <a:lnTo>
                  <a:pt x="21056" y="7975"/>
                </a:lnTo>
                <a:lnTo>
                  <a:pt x="20982" y="7804"/>
                </a:lnTo>
                <a:lnTo>
                  <a:pt x="20902" y="7664"/>
                </a:lnTo>
                <a:lnTo>
                  <a:pt x="20895" y="7644"/>
                </a:lnTo>
                <a:lnTo>
                  <a:pt x="20942" y="7474"/>
                </a:lnTo>
                <a:lnTo>
                  <a:pt x="20982" y="7304"/>
                </a:lnTo>
                <a:lnTo>
                  <a:pt x="21023" y="7123"/>
                </a:lnTo>
                <a:lnTo>
                  <a:pt x="21056" y="6953"/>
                </a:lnTo>
                <a:lnTo>
                  <a:pt x="21070" y="6763"/>
                </a:lnTo>
                <a:lnTo>
                  <a:pt x="21096" y="6592"/>
                </a:lnTo>
                <a:lnTo>
                  <a:pt x="21110" y="6392"/>
                </a:lnTo>
                <a:lnTo>
                  <a:pt x="21110" y="6222"/>
                </a:lnTo>
                <a:lnTo>
                  <a:pt x="21110" y="6071"/>
                </a:lnTo>
                <a:lnTo>
                  <a:pt x="21096" y="5921"/>
                </a:lnTo>
                <a:lnTo>
                  <a:pt x="21083" y="5761"/>
                </a:lnTo>
                <a:lnTo>
                  <a:pt x="21070" y="5610"/>
                </a:lnTo>
                <a:lnTo>
                  <a:pt x="21049" y="5470"/>
                </a:lnTo>
                <a:lnTo>
                  <a:pt x="21023" y="5320"/>
                </a:lnTo>
                <a:lnTo>
                  <a:pt x="20996" y="5190"/>
                </a:lnTo>
                <a:lnTo>
                  <a:pt x="20969" y="5029"/>
                </a:lnTo>
                <a:lnTo>
                  <a:pt x="20929" y="4899"/>
                </a:lnTo>
                <a:lnTo>
                  <a:pt x="20895" y="4759"/>
                </a:lnTo>
                <a:lnTo>
                  <a:pt x="20841" y="4629"/>
                </a:lnTo>
                <a:lnTo>
                  <a:pt x="20788" y="4498"/>
                </a:lnTo>
                <a:lnTo>
                  <a:pt x="20741" y="4378"/>
                </a:lnTo>
                <a:lnTo>
                  <a:pt x="20687" y="4248"/>
                </a:lnTo>
                <a:lnTo>
                  <a:pt x="20620" y="4128"/>
                </a:lnTo>
                <a:lnTo>
                  <a:pt x="20559" y="4017"/>
                </a:lnTo>
                <a:lnTo>
                  <a:pt x="20492" y="3897"/>
                </a:lnTo>
                <a:lnTo>
                  <a:pt x="20425" y="3787"/>
                </a:lnTo>
                <a:lnTo>
                  <a:pt x="20351" y="3687"/>
                </a:lnTo>
                <a:lnTo>
                  <a:pt x="20271" y="3567"/>
                </a:lnTo>
                <a:lnTo>
                  <a:pt x="20109" y="3376"/>
                </a:lnTo>
                <a:lnTo>
                  <a:pt x="19942" y="3206"/>
                </a:lnTo>
                <a:lnTo>
                  <a:pt x="19848" y="3126"/>
                </a:lnTo>
                <a:lnTo>
                  <a:pt x="19760" y="3056"/>
                </a:lnTo>
                <a:lnTo>
                  <a:pt x="19653" y="2976"/>
                </a:lnTo>
                <a:lnTo>
                  <a:pt x="19552" y="2915"/>
                </a:lnTo>
                <a:lnTo>
                  <a:pt x="19465" y="2865"/>
                </a:lnTo>
                <a:lnTo>
                  <a:pt x="19357" y="2805"/>
                </a:lnTo>
                <a:lnTo>
                  <a:pt x="19243" y="2765"/>
                </a:lnTo>
                <a:lnTo>
                  <a:pt x="19143" y="2705"/>
                </a:lnTo>
                <a:lnTo>
                  <a:pt x="19156" y="2705"/>
                </a:lnTo>
                <a:lnTo>
                  <a:pt x="19129" y="2555"/>
                </a:lnTo>
                <a:lnTo>
                  <a:pt x="19102" y="2414"/>
                </a:lnTo>
                <a:lnTo>
                  <a:pt x="19075" y="2264"/>
                </a:lnTo>
                <a:lnTo>
                  <a:pt x="19035" y="2134"/>
                </a:lnTo>
                <a:lnTo>
                  <a:pt x="19002" y="1994"/>
                </a:lnTo>
                <a:lnTo>
                  <a:pt x="18961" y="1863"/>
                </a:lnTo>
                <a:lnTo>
                  <a:pt x="18908" y="1743"/>
                </a:lnTo>
                <a:lnTo>
                  <a:pt x="18854" y="1613"/>
                </a:lnTo>
                <a:lnTo>
                  <a:pt x="18807" y="1493"/>
                </a:lnTo>
                <a:lnTo>
                  <a:pt x="18740" y="1383"/>
                </a:lnTo>
                <a:lnTo>
                  <a:pt x="18679" y="1262"/>
                </a:lnTo>
                <a:lnTo>
                  <a:pt x="18612" y="1152"/>
                </a:lnTo>
                <a:lnTo>
                  <a:pt x="18545" y="1052"/>
                </a:lnTo>
                <a:lnTo>
                  <a:pt x="18471" y="942"/>
                </a:lnTo>
                <a:lnTo>
                  <a:pt x="18317" y="761"/>
                </a:lnTo>
                <a:lnTo>
                  <a:pt x="18236" y="671"/>
                </a:lnTo>
                <a:lnTo>
                  <a:pt x="18149" y="591"/>
                </a:lnTo>
                <a:lnTo>
                  <a:pt x="18068" y="511"/>
                </a:lnTo>
                <a:lnTo>
                  <a:pt x="17981" y="441"/>
                </a:lnTo>
                <a:lnTo>
                  <a:pt x="17894" y="361"/>
                </a:lnTo>
                <a:lnTo>
                  <a:pt x="17800" y="301"/>
                </a:lnTo>
                <a:lnTo>
                  <a:pt x="17699" y="250"/>
                </a:lnTo>
                <a:lnTo>
                  <a:pt x="17605" y="190"/>
                </a:lnTo>
                <a:lnTo>
                  <a:pt x="17504" y="150"/>
                </a:lnTo>
                <a:lnTo>
                  <a:pt x="17404" y="110"/>
                </a:lnTo>
                <a:lnTo>
                  <a:pt x="17296" y="70"/>
                </a:lnTo>
                <a:lnTo>
                  <a:pt x="17195" y="40"/>
                </a:lnTo>
                <a:lnTo>
                  <a:pt x="17095" y="20"/>
                </a:lnTo>
                <a:lnTo>
                  <a:pt x="16974" y="0"/>
                </a:lnTo>
                <a:lnTo>
                  <a:pt x="16873" y="0"/>
                </a:lnTo>
                <a:lnTo>
                  <a:pt x="16759" y="0"/>
                </a:lnTo>
                <a:lnTo>
                  <a:pt x="16631" y="0"/>
                </a:lnTo>
                <a:lnTo>
                  <a:pt x="16497" y="20"/>
                </a:lnTo>
                <a:lnTo>
                  <a:pt x="16356" y="40"/>
                </a:lnTo>
                <a:lnTo>
                  <a:pt x="16229" y="70"/>
                </a:lnTo>
                <a:lnTo>
                  <a:pt x="16114" y="110"/>
                </a:lnTo>
                <a:lnTo>
                  <a:pt x="15987" y="170"/>
                </a:lnTo>
                <a:lnTo>
                  <a:pt x="15853" y="230"/>
                </a:lnTo>
                <a:lnTo>
                  <a:pt x="15738" y="281"/>
                </a:lnTo>
                <a:lnTo>
                  <a:pt x="15624" y="381"/>
                </a:lnTo>
                <a:lnTo>
                  <a:pt x="15510" y="461"/>
                </a:lnTo>
                <a:lnTo>
                  <a:pt x="15403" y="551"/>
                </a:lnTo>
                <a:lnTo>
                  <a:pt x="15289" y="671"/>
                </a:lnTo>
                <a:lnTo>
                  <a:pt x="15188" y="761"/>
                </a:lnTo>
                <a:lnTo>
                  <a:pt x="15094" y="902"/>
                </a:lnTo>
                <a:lnTo>
                  <a:pt x="14993" y="1012"/>
                </a:lnTo>
                <a:lnTo>
                  <a:pt x="14913" y="1152"/>
                </a:lnTo>
                <a:lnTo>
                  <a:pt x="14913" y="1172"/>
                </a:lnTo>
                <a:lnTo>
                  <a:pt x="14839" y="1032"/>
                </a:lnTo>
                <a:lnTo>
                  <a:pt x="14745" y="902"/>
                </a:lnTo>
                <a:lnTo>
                  <a:pt x="14657" y="781"/>
                </a:lnTo>
                <a:lnTo>
                  <a:pt x="14570" y="671"/>
                </a:lnTo>
                <a:lnTo>
                  <a:pt x="14463" y="551"/>
                </a:lnTo>
                <a:lnTo>
                  <a:pt x="14362" y="461"/>
                </a:lnTo>
                <a:lnTo>
                  <a:pt x="14255" y="381"/>
                </a:lnTo>
                <a:lnTo>
                  <a:pt x="14140" y="301"/>
                </a:lnTo>
                <a:lnTo>
                  <a:pt x="14026" y="230"/>
                </a:lnTo>
                <a:lnTo>
                  <a:pt x="13912" y="170"/>
                </a:lnTo>
                <a:lnTo>
                  <a:pt x="13791" y="110"/>
                </a:lnTo>
                <a:lnTo>
                  <a:pt x="13677" y="70"/>
                </a:lnTo>
                <a:lnTo>
                  <a:pt x="13550" y="40"/>
                </a:lnTo>
                <a:lnTo>
                  <a:pt x="13435" y="20"/>
                </a:lnTo>
                <a:lnTo>
                  <a:pt x="13308" y="0"/>
                </a:lnTo>
                <a:lnTo>
                  <a:pt x="13174" y="0"/>
                </a:lnTo>
                <a:lnTo>
                  <a:pt x="13019" y="0"/>
                </a:lnTo>
                <a:lnTo>
                  <a:pt x="12865" y="20"/>
                </a:lnTo>
                <a:lnTo>
                  <a:pt x="12724" y="50"/>
                </a:lnTo>
                <a:lnTo>
                  <a:pt x="12569" y="110"/>
                </a:lnTo>
                <a:lnTo>
                  <a:pt x="12428" y="170"/>
                </a:lnTo>
                <a:lnTo>
                  <a:pt x="12287" y="250"/>
                </a:lnTo>
                <a:lnTo>
                  <a:pt x="12160" y="321"/>
                </a:lnTo>
                <a:lnTo>
                  <a:pt x="12032" y="441"/>
                </a:lnTo>
                <a:lnTo>
                  <a:pt x="11898" y="551"/>
                </a:lnTo>
                <a:lnTo>
                  <a:pt x="11784" y="671"/>
                </a:lnTo>
                <a:lnTo>
                  <a:pt x="11670" y="801"/>
                </a:lnTo>
                <a:lnTo>
                  <a:pt x="11569" y="962"/>
                </a:lnTo>
                <a:lnTo>
                  <a:pt x="11461" y="1112"/>
                </a:lnTo>
                <a:lnTo>
                  <a:pt x="11374" y="1282"/>
                </a:lnTo>
                <a:lnTo>
                  <a:pt x="11294" y="1453"/>
                </a:lnTo>
                <a:lnTo>
                  <a:pt x="11220" y="1633"/>
                </a:lnTo>
                <a:lnTo>
                  <a:pt x="11233" y="1683"/>
                </a:lnTo>
                <a:lnTo>
                  <a:pt x="11139" y="1553"/>
                </a:lnTo>
                <a:lnTo>
                  <a:pt x="11038" y="1443"/>
                </a:lnTo>
                <a:lnTo>
                  <a:pt x="10938" y="1342"/>
                </a:lnTo>
                <a:lnTo>
                  <a:pt x="10830" y="1242"/>
                </a:lnTo>
                <a:lnTo>
                  <a:pt x="10716" y="1152"/>
                </a:lnTo>
                <a:lnTo>
                  <a:pt x="10602" y="1052"/>
                </a:lnTo>
                <a:lnTo>
                  <a:pt x="10481" y="982"/>
                </a:lnTo>
                <a:lnTo>
                  <a:pt x="10367" y="922"/>
                </a:lnTo>
                <a:lnTo>
                  <a:pt x="10253" y="842"/>
                </a:lnTo>
                <a:lnTo>
                  <a:pt x="10125" y="801"/>
                </a:lnTo>
                <a:lnTo>
                  <a:pt x="10004" y="741"/>
                </a:lnTo>
                <a:lnTo>
                  <a:pt x="9877" y="711"/>
                </a:lnTo>
                <a:lnTo>
                  <a:pt x="9749" y="691"/>
                </a:lnTo>
                <a:lnTo>
                  <a:pt x="9622" y="651"/>
                </a:lnTo>
                <a:lnTo>
                  <a:pt x="9494" y="651"/>
                </a:lnTo>
                <a:lnTo>
                  <a:pt x="9360" y="651"/>
                </a:lnTo>
                <a:lnTo>
                  <a:pt x="9185" y="651"/>
                </a:lnTo>
                <a:lnTo>
                  <a:pt x="8990" y="671"/>
                </a:lnTo>
                <a:lnTo>
                  <a:pt x="8823" y="711"/>
                </a:lnTo>
                <a:lnTo>
                  <a:pt x="8641" y="781"/>
                </a:lnTo>
                <a:lnTo>
                  <a:pt x="8473" y="842"/>
                </a:lnTo>
                <a:lnTo>
                  <a:pt x="8306" y="942"/>
                </a:lnTo>
                <a:lnTo>
                  <a:pt x="8138" y="1032"/>
                </a:lnTo>
                <a:lnTo>
                  <a:pt x="7983" y="1152"/>
                </a:lnTo>
                <a:lnTo>
                  <a:pt x="7829" y="1282"/>
                </a:lnTo>
                <a:lnTo>
                  <a:pt x="7688" y="1443"/>
                </a:lnTo>
                <a:lnTo>
                  <a:pt x="7560" y="1593"/>
                </a:lnTo>
                <a:lnTo>
                  <a:pt x="7433" y="1763"/>
                </a:lnTo>
                <a:lnTo>
                  <a:pt x="7298" y="1954"/>
                </a:lnTo>
                <a:lnTo>
                  <a:pt x="7198" y="2154"/>
                </a:lnTo>
                <a:lnTo>
                  <a:pt x="7097" y="2344"/>
                </a:lnTo>
                <a:lnTo>
                  <a:pt x="7003" y="2575"/>
                </a:lnTo>
                <a:lnTo>
                  <a:pt x="6990" y="2595"/>
                </a:lnTo>
                <a:lnTo>
                  <a:pt x="6802" y="2435"/>
                </a:lnTo>
                <a:lnTo>
                  <a:pt x="6593" y="2324"/>
                </a:lnTo>
                <a:lnTo>
                  <a:pt x="6385" y="2204"/>
                </a:lnTo>
                <a:lnTo>
                  <a:pt x="6285" y="2164"/>
                </a:lnTo>
                <a:lnTo>
                  <a:pt x="6170" y="2134"/>
                </a:lnTo>
                <a:lnTo>
                  <a:pt x="6063" y="2094"/>
                </a:lnTo>
                <a:lnTo>
                  <a:pt x="5962" y="2054"/>
                </a:lnTo>
                <a:lnTo>
                  <a:pt x="5848" y="2034"/>
                </a:lnTo>
                <a:lnTo>
                  <a:pt x="5727" y="1994"/>
                </a:lnTo>
                <a:lnTo>
                  <a:pt x="5627" y="1974"/>
                </a:lnTo>
                <a:lnTo>
                  <a:pt x="5512" y="1974"/>
                </a:lnTo>
                <a:lnTo>
                  <a:pt x="5398" y="1954"/>
                </a:lnTo>
                <a:lnTo>
                  <a:pt x="5291" y="1954"/>
                </a:lnTo>
                <a:lnTo>
                  <a:pt x="5110" y="1974"/>
                </a:lnTo>
                <a:lnTo>
                  <a:pt x="4942" y="1994"/>
                </a:lnTo>
                <a:lnTo>
                  <a:pt x="4774" y="2014"/>
                </a:lnTo>
                <a:lnTo>
                  <a:pt x="4613" y="2054"/>
                </a:lnTo>
                <a:lnTo>
                  <a:pt x="4445" y="2114"/>
                </a:lnTo>
                <a:lnTo>
                  <a:pt x="4290" y="2164"/>
                </a:lnTo>
                <a:lnTo>
                  <a:pt x="4136" y="2244"/>
                </a:lnTo>
                <a:lnTo>
                  <a:pt x="3982" y="2324"/>
                </a:lnTo>
                <a:lnTo>
                  <a:pt x="3820" y="2414"/>
                </a:lnTo>
                <a:lnTo>
                  <a:pt x="3679" y="2515"/>
                </a:lnTo>
                <a:lnTo>
                  <a:pt x="3538" y="2625"/>
                </a:lnTo>
                <a:lnTo>
                  <a:pt x="3397" y="2745"/>
                </a:lnTo>
                <a:lnTo>
                  <a:pt x="3270" y="2875"/>
                </a:lnTo>
                <a:lnTo>
                  <a:pt x="3142" y="3016"/>
                </a:lnTo>
                <a:lnTo>
                  <a:pt x="3015" y="3146"/>
                </a:lnTo>
                <a:lnTo>
                  <a:pt x="2894" y="3306"/>
                </a:lnTo>
                <a:lnTo>
                  <a:pt x="2793" y="3476"/>
                </a:lnTo>
                <a:lnTo>
                  <a:pt x="2679" y="3627"/>
                </a:lnTo>
                <a:lnTo>
                  <a:pt x="2585" y="3807"/>
                </a:lnTo>
                <a:lnTo>
                  <a:pt x="2484" y="3997"/>
                </a:lnTo>
                <a:lnTo>
                  <a:pt x="2404" y="4168"/>
                </a:lnTo>
                <a:lnTo>
                  <a:pt x="2316" y="4358"/>
                </a:lnTo>
                <a:lnTo>
                  <a:pt x="2236" y="4568"/>
                </a:lnTo>
                <a:lnTo>
                  <a:pt x="2175" y="4759"/>
                </a:lnTo>
                <a:lnTo>
                  <a:pt x="2108" y="4979"/>
                </a:lnTo>
                <a:lnTo>
                  <a:pt x="2061" y="5190"/>
                </a:lnTo>
                <a:lnTo>
                  <a:pt x="2021" y="5420"/>
                </a:lnTo>
                <a:lnTo>
                  <a:pt x="1981" y="5630"/>
                </a:lnTo>
                <a:lnTo>
                  <a:pt x="1954" y="5861"/>
                </a:lnTo>
                <a:lnTo>
                  <a:pt x="1927" y="6091"/>
                </a:lnTo>
                <a:lnTo>
                  <a:pt x="1920" y="6322"/>
                </a:lnTo>
                <a:lnTo>
                  <a:pt x="1920" y="6552"/>
                </a:lnTo>
                <a:lnTo>
                  <a:pt x="1920" y="6702"/>
                </a:lnTo>
                <a:lnTo>
                  <a:pt x="1920" y="6873"/>
                </a:lnTo>
                <a:lnTo>
                  <a:pt x="1927" y="7033"/>
                </a:lnTo>
                <a:lnTo>
                  <a:pt x="1940" y="7183"/>
                </a:lnTo>
                <a:lnTo>
                  <a:pt x="1954" y="7163"/>
                </a:lnTo>
                <a:close/>
                <a:moveTo>
                  <a:pt x="1954" y="7163"/>
                </a:moveTo>
              </a:path>
            </a:pathLst>
          </a:custGeom>
          <a:solidFill>
            <a:srgbClr val="ffa600"/>
          </a:solidFill>
          <a:ln w="50760">
            <a:solidFill>
              <a:srgbClr val="ffec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103" name=""/>
          <p:cNvSpPr/>
          <p:nvPr/>
        </p:nvSpPr>
        <p:spPr>
          <a:xfrm>
            <a:off x="6603840" y="1104840"/>
            <a:ext cx="29210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d4d4d"/>
                </a:solidFill>
                <a:latin typeface="Lora"/>
                <a:ea typeface="Lora"/>
              </a:rPr>
              <a:t>Orange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66760" y="4521240"/>
            <a:ext cx="3860640" cy="4863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229280" y="3746520"/>
            <a:ext cx="2336760" cy="1562040"/>
          </a:xfrm>
          <a:prstGeom prst="wedgeEllipseCallout">
            <a:avLst>
              <a:gd name="adj1" fmla="val -126560"/>
              <a:gd name="adj2" fmla="val 109500"/>
            </a:avLst>
          </a:prstGeom>
          <a:solidFill>
            <a:srgbClr val="e647ca"/>
          </a:solidFill>
          <a:ln w="0">
            <a:noFill/>
          </a:ln>
          <a:effectLst>
            <a:outerShdw dist="0" dir="0" blurRad="0" rotWithShape="0">
              <a:srgbClr val="6767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106" name=""/>
          <p:cNvSpPr/>
          <p:nvPr/>
        </p:nvSpPr>
        <p:spPr>
          <a:xfrm>
            <a:off x="3695760" y="2959200"/>
            <a:ext cx="3479760" cy="3009960"/>
          </a:xfrm>
          <a:prstGeom prst="pie">
            <a:avLst/>
          </a:prstGeom>
          <a:solidFill>
            <a:srgbClr val="e64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959"/>
              </a:solidFill>
              <a:latin typeface="Lora"/>
            </a:endParaRPr>
          </a:p>
        </p:txBody>
      </p:sp>
      <p:sp>
        <p:nvSpPr>
          <p:cNvPr id="107" name=""/>
          <p:cNvSpPr/>
          <p:nvPr/>
        </p:nvSpPr>
        <p:spPr>
          <a:xfrm>
            <a:off x="3975120" y="4025880"/>
            <a:ext cx="29210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dd00"/>
                </a:solidFill>
                <a:latin typeface="Lora"/>
                <a:ea typeface="Lora"/>
              </a:rPr>
              <a:t>Pink</a:t>
            </a:r>
            <a:endParaRPr b="0" lang="en-US" sz="5000" spc="-1" strike="noStrike">
              <a:solidFill>
                <a:srgbClr val="595959"/>
              </a:solidFill>
              <a:latin typeface="Lo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2880" y="4083120"/>
            <a:ext cx="1215252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767"/>
                </a:solidFill>
                <a:latin typeface="Arial"/>
                <a:ea typeface="Arial"/>
              </a:rPr>
              <a:t>Visit </a:t>
            </a:r>
            <a:r>
              <a:rPr b="0" lang="en-US" sz="4400" spc="-1" strike="noStrike">
                <a:solidFill>
                  <a:srgbClr val="f48300"/>
                </a:solidFill>
                <a:latin typeface="Arial"/>
                <a:ea typeface="Arial"/>
              </a:rPr>
              <a:t>bestpowerpointtemplates.com</a:t>
            </a:r>
            <a:r>
              <a:rPr b="0" lang="en-US" sz="4400" spc="-1" strike="noStrike">
                <a:solidFill>
                  <a:srgbClr val="676767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595959"/>
              </a:solidFill>
              <a:latin typeface="Lo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767"/>
                </a:solidFill>
                <a:latin typeface="Arial"/>
                <a:ea typeface="Arial"/>
              </a:rPr>
              <a:t>for more </a:t>
            </a:r>
            <a:r>
              <a:rPr b="0" lang="en-US" sz="44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r>
              <a:rPr b="0" lang="en-US" sz="4400" spc="-1" strike="noStrike">
                <a:solidFill>
                  <a:srgbClr val="676767"/>
                </a:solidFill>
                <a:latin typeface="Arial"/>
                <a:ea typeface="Arial"/>
              </a:rPr>
              <a:t> PPT resources!</a:t>
            </a:r>
            <a:endParaRPr b="0" lang="en-US" sz="4400" spc="-1" strike="noStrike">
              <a:solidFill>
                <a:srgbClr val="595959"/>
              </a:solidFill>
              <a:latin typeface="Lor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