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16257588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146314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812880" y="4909680"/>
            <a:ext cx="146314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1288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831024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759640" y="21394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706760" y="21394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812880" y="49096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5759640" y="49096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10706760" y="49096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812880" y="2139480"/>
            <a:ext cx="146314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146314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812880" y="364680"/>
            <a:ext cx="1463148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81288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812880" y="2139480"/>
            <a:ext cx="146314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831024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812880" y="4909680"/>
            <a:ext cx="146314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146314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812880" y="4909680"/>
            <a:ext cx="146314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1288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831024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759640" y="21394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706760" y="21394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812880" y="49096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5759640" y="49096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10706760" y="49096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146314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812880" y="364680"/>
            <a:ext cx="1463148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81288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1024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12880" y="4909680"/>
            <a:ext cx="146314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hyperlink" Target="http://keynotetemplate.com/" TargetMode="External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hyperlink" Target="http://keynotetemplate.com/" TargetMode="External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"/>
          <p:cNvSpPr/>
          <p:nvPr/>
        </p:nvSpPr>
        <p:spPr>
          <a:xfrm>
            <a:off x="0" y="8702640"/>
            <a:ext cx="43560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3b3b3"/>
                </a:solidFill>
                <a:latin typeface="Cambria"/>
                <a:ea typeface="ＭＳ Ｐゴシック"/>
              </a:rPr>
              <a:t>Visit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mbria"/>
                <a:ea typeface="ＭＳ Ｐゴシック"/>
                <a:hlinkClick r:id="rId3"/>
              </a:rPr>
              <a:t>http://bestpowerpointtemplates</a:t>
            </a:r>
            <a:r>
              <a:rPr b="0" lang="en-US" sz="1200" spc="-1" strike="noStrike">
                <a:solidFill>
                  <a:srgbClr val="b3b3b3"/>
                </a:solidFill>
                <a:latin typeface="Cambria"/>
                <a:ea typeface="ＭＳ Ｐゴシック"/>
              </a:rPr>
              <a:t> for more free resources!</a:t>
            </a:r>
            <a:endParaRPr b="0" lang="en-US" sz="1200" spc="-1" strike="noStrike">
              <a:solidFill>
                <a:srgbClr val="595959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Rectangle 1"/>
          <p:cNvSpPr/>
          <p:nvPr/>
        </p:nvSpPr>
        <p:spPr>
          <a:xfrm>
            <a:off x="0" y="8702640"/>
            <a:ext cx="43560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3b3b3"/>
                </a:solidFill>
                <a:latin typeface="Cambria"/>
                <a:ea typeface="ＭＳ Ｐゴシック"/>
              </a:rPr>
              <a:t>Visit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mbria"/>
                <a:ea typeface="ＭＳ Ｐゴシック"/>
                <a:hlinkClick r:id="rId3"/>
              </a:rPr>
              <a:t>http://bestpowerpointtemplates</a:t>
            </a:r>
            <a:r>
              <a:rPr b="0" lang="en-US" sz="1200" spc="-1" strike="noStrike">
                <a:solidFill>
                  <a:srgbClr val="b3b3b3"/>
                </a:solidFill>
                <a:latin typeface="Cambria"/>
                <a:ea typeface="ＭＳ Ｐゴシック"/>
              </a:rPr>
              <a:t> for more free resources!</a:t>
            </a:r>
            <a:endParaRPr b="0" lang="en-US" sz="12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595959"/>
                </a:solidFill>
                <a:latin typeface="Calibri"/>
              </a:rPr>
              <a:t>Click to edit the title text format</a:t>
            </a:r>
            <a:endParaRPr b="0" lang="en-US" sz="5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812880" y="2139480"/>
            <a:ext cx="146314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78787"/>
                </a:solidFill>
                <a:latin typeface="Calibri"/>
              </a:rPr>
              <a:t>Click to edit the outline text format</a:t>
            </a: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  <a:p>
            <a:pPr lvl="1" marL="43164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878787"/>
                </a:solidFill>
                <a:latin typeface="Calibri"/>
              </a:rPr>
              <a:t>Second Outline Level</a:t>
            </a:r>
            <a:endParaRPr b="0" lang="en-US" sz="3400" spc="-1" strike="noStrike">
              <a:solidFill>
                <a:srgbClr val="878787"/>
              </a:solidFill>
              <a:latin typeface="Calibri"/>
            </a:endParaRPr>
          </a:p>
          <a:p>
            <a:pPr lvl="2" marL="863640" indent="50760" algn="ctr">
              <a:spcBef>
                <a:spcPts val="499"/>
              </a:spcBef>
              <a:buClr>
                <a:srgbClr val="878787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8787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878787"/>
              </a:solidFill>
              <a:latin typeface="Calibri"/>
            </a:endParaRPr>
          </a:p>
          <a:p>
            <a:pPr lvl="3" marL="1282680" indent="88920" algn="ctr">
              <a:spcBef>
                <a:spcPts val="499"/>
              </a:spcBef>
              <a:buClr>
                <a:srgbClr val="878787"/>
              </a:buClr>
              <a:buFont typeface="Calibri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78787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878787"/>
              </a:solidFill>
              <a:latin typeface="Calibri"/>
            </a:endParaRPr>
          </a:p>
          <a:p>
            <a:pPr lvl="4" marL="1714680" indent="114120" algn="ctr">
              <a:spcBef>
                <a:spcPts val="499"/>
              </a:spcBef>
              <a:buClr>
                <a:srgbClr val="878787"/>
              </a:buClr>
              <a:buFont typeface="Calibri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78787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878787"/>
              </a:solidFill>
              <a:latin typeface="Calibri"/>
            </a:endParaRPr>
          </a:p>
          <a:p>
            <a:pPr lvl="5" marL="1714680" indent="114120">
              <a:spcBef>
                <a:spcPts val="649"/>
              </a:spcBef>
              <a:buClr>
                <a:srgbClr val="595959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78787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878787"/>
              </a:solidFill>
              <a:latin typeface="Calibri"/>
            </a:endParaRPr>
          </a:p>
          <a:p>
            <a:pPr lvl="6" marL="1714680" indent="114120">
              <a:spcBef>
                <a:spcPts val="649"/>
              </a:spcBef>
              <a:buClr>
                <a:srgbClr val="595959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78787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"/>
          <p:cNvSpPr/>
          <p:nvPr/>
        </p:nvSpPr>
        <p:spPr>
          <a:xfrm>
            <a:off x="3885840" y="3498840"/>
            <a:ext cx="8519400" cy="10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Cambria Bold"/>
                <a:ea typeface="ＭＳ Ｐゴシック"/>
              </a:rPr>
              <a:t>Outer Space Template</a:t>
            </a:r>
            <a:endParaRPr b="0" lang="en-US" sz="6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4002120" y="4489560"/>
            <a:ext cx="83120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mbria Italic"/>
                <a:ea typeface="ＭＳ Ｐゴシック"/>
              </a:rPr>
              <a:t>Suspendisse hendrerit arcu.</a:t>
            </a:r>
            <a:endParaRPr b="0" lang="en-US" sz="3600" spc="-1" strike="noStrike">
              <a:solidFill>
                <a:srgbClr val="595959"/>
              </a:solidFill>
              <a:latin typeface="Cambri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1"/>
          <p:cNvSpPr/>
          <p:nvPr/>
        </p:nvSpPr>
        <p:spPr>
          <a:xfrm>
            <a:off x="1026000" y="590400"/>
            <a:ext cx="3871080" cy="7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mbria Bold"/>
                <a:ea typeface="ＭＳ Ｐゴシック"/>
              </a:rPr>
              <a:t>Lorem Ipsum</a:t>
            </a:r>
            <a:endParaRPr b="0" lang="en-US" sz="48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1077840" y="1501920"/>
            <a:ext cx="14142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mbria Bold"/>
                <a:ea typeface="ＭＳ Ｐゴシック"/>
              </a:rPr>
              <a:t>Some cool things here.</a:t>
            </a:r>
            <a:endParaRPr b="0" lang="en-US" sz="3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1069920" y="2479680"/>
            <a:ext cx="1412100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noAutofit/>
          </a:bodyPr>
          <a:p>
            <a:pPr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efe"/>
                </a:solidFill>
                <a:latin typeface="Cambria"/>
                <a:ea typeface="ＭＳ Ｐゴシック"/>
              </a:rPr>
              <a:t>When I orbited the Earth in a spaceship, I saw for the first time how beautiful our planet is. Mankind, let us preserve and increase this beauty, and not destroy it!</a:t>
            </a:r>
            <a:endParaRPr b="0" lang="en-US" sz="3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81" name="Rectangle 4"/>
          <p:cNvSpPr/>
          <p:nvPr/>
        </p:nvSpPr>
        <p:spPr>
          <a:xfrm>
            <a:off x="1069920" y="4511520"/>
            <a:ext cx="9294840" cy="30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noAutofit/>
          </a:bodyPr>
          <a:p>
            <a:pPr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  <a:ea typeface="ＭＳ Ｐゴシック"/>
              </a:rPr>
              <a:t>Science has not yet mastered prophecy. We predict too much for the next year and yet far too little for the next 10.</a:t>
            </a:r>
            <a:endParaRPr b="0" lang="en-US" sz="3200" spc="-1" strike="noStrike">
              <a:solidFill>
                <a:srgbClr val="595959"/>
              </a:solidFill>
              <a:latin typeface="Cambria"/>
            </a:endParaRPr>
          </a:p>
          <a:p>
            <a:pPr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  <a:ea typeface="ＭＳ Ｐゴシック"/>
              </a:rPr>
              <a:t>Many say exploration is part of our destiny, but it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Cambria"/>
                <a:ea typeface="Cambria"/>
              </a:rPr>
              <a:t>s actually our duty to future generations and their quest to ensure the survival of the human species.</a:t>
            </a:r>
            <a:endParaRPr b="0" lang="en-US" sz="3200" spc="-1" strike="noStrike">
              <a:solidFill>
                <a:srgbClr val="595959"/>
              </a:solidFill>
              <a:latin typeface="Cambria"/>
            </a:endParaRPr>
          </a:p>
        </p:txBody>
      </p:sp>
      <p:pic>
        <p:nvPicPr>
          <p:cNvPr id="82" name="Picture 5" descr=""/>
          <p:cNvPicPr/>
          <p:nvPr/>
        </p:nvPicPr>
        <p:blipFill>
          <a:blip r:embed="rId1"/>
          <a:stretch/>
        </p:blipFill>
        <p:spPr>
          <a:xfrm>
            <a:off x="10883880" y="4394160"/>
            <a:ext cx="3251160" cy="325116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8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"/>
          <p:cNvSpPr/>
          <p:nvPr/>
        </p:nvSpPr>
        <p:spPr>
          <a:xfrm>
            <a:off x="1095480" y="6568920"/>
            <a:ext cx="3284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 Bold"/>
                <a:ea typeface="ＭＳ Ｐゴシック"/>
              </a:rPr>
              <a:t>Some cool header.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84" name="Rectangle 2"/>
          <p:cNvSpPr/>
          <p:nvPr/>
        </p:nvSpPr>
        <p:spPr>
          <a:xfrm>
            <a:off x="1103400" y="7078680"/>
            <a:ext cx="3260520" cy="14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noAutofit/>
          </a:bodyPr>
          <a:p>
            <a:pPr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  <a:ea typeface="ＭＳ Ｐゴシック"/>
              </a:rPr>
              <a:t>Proin ac nibh quis metus tristique sagittis vel ac ligulnean dictum fringilla hendrerit.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85" name="Rectangle 3"/>
          <p:cNvSpPr/>
          <p:nvPr/>
        </p:nvSpPr>
        <p:spPr>
          <a:xfrm>
            <a:off x="4730760" y="6564240"/>
            <a:ext cx="32828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 Bold"/>
                <a:ea typeface="ＭＳ Ｐゴシック"/>
              </a:rPr>
              <a:t>Some cool header.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4737240" y="7074000"/>
            <a:ext cx="3262320" cy="14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noAutofit/>
          </a:bodyPr>
          <a:p>
            <a:pPr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  <a:ea typeface="ＭＳ Ｐゴシック"/>
              </a:rPr>
              <a:t>Praesent quam justo, tempor ac sollicit igulnean dictum fringilla hendrerit.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8248680" y="6566040"/>
            <a:ext cx="3284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 Bold"/>
                <a:ea typeface="ＭＳ Ｐゴシック"/>
              </a:rPr>
              <a:t>Some cool header.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8256600" y="7075440"/>
            <a:ext cx="326088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noAutofit/>
          </a:bodyPr>
          <a:p>
            <a:pPr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  <a:ea typeface="ＭＳ Ｐゴシック"/>
              </a:rPr>
              <a:t>Proin ac nibh quis metus tristique sagittis vel ac ligulnean dictum fringilla hendrerit.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11880720" y="6558120"/>
            <a:ext cx="3283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 Bold"/>
                <a:ea typeface="ＭＳ Ｐゴシック"/>
              </a:rPr>
              <a:t>Some cool header.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11887200" y="7067520"/>
            <a:ext cx="3262320" cy="11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noAutofit/>
          </a:bodyPr>
          <a:p>
            <a:pPr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  <a:ea typeface="ＭＳ Ｐゴシック"/>
              </a:rPr>
              <a:t>Praesent quam justo, tempor ac sollicitudin sed, mattis vel arcu. 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grpSp>
        <p:nvGrpSpPr>
          <p:cNvPr id="91" name="Group 11"/>
          <p:cNvGrpSpPr/>
          <p:nvPr/>
        </p:nvGrpSpPr>
        <p:grpSpPr>
          <a:xfrm>
            <a:off x="1224000" y="2882880"/>
            <a:ext cx="3106440" cy="3594240"/>
            <a:chOff x="1224000" y="2882880"/>
            <a:chExt cx="3106440" cy="3594240"/>
          </a:xfrm>
        </p:grpSpPr>
        <p:sp>
          <p:nvSpPr>
            <p:cNvPr id="92" name="Rectangle 9"/>
            <p:cNvSpPr/>
            <p:nvPr/>
          </p:nvSpPr>
          <p:spPr>
            <a:xfrm>
              <a:off x="1224000" y="6048360"/>
              <a:ext cx="3106440" cy="428760"/>
            </a:xfrm>
            <a:prstGeom prst="rect">
              <a:avLst/>
            </a:prstGeom>
            <a:solidFill>
              <a:srgbClr val="fcae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600" spc="-1" strike="noStrike">
                <a:solidFill>
                  <a:srgbClr val="595959"/>
                </a:solidFill>
                <a:latin typeface="Cambria"/>
              </a:endParaRPr>
            </a:p>
          </p:txBody>
        </p:sp>
        <p:pic>
          <p:nvPicPr>
            <p:cNvPr id="93" name="Picture 10" descr=""/>
            <p:cNvPicPr/>
            <p:nvPr/>
          </p:nvPicPr>
          <p:blipFill>
            <a:blip r:embed="rId1"/>
            <a:stretch/>
          </p:blipFill>
          <p:spPr>
            <a:xfrm>
              <a:off x="1225440" y="2882880"/>
              <a:ext cx="3100320" cy="3098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4" name="Group 14"/>
          <p:cNvGrpSpPr/>
          <p:nvPr/>
        </p:nvGrpSpPr>
        <p:grpSpPr>
          <a:xfrm>
            <a:off x="4789440" y="2884320"/>
            <a:ext cx="3115800" cy="3592440"/>
            <a:chOff x="4789440" y="2884320"/>
            <a:chExt cx="3115800" cy="3592440"/>
          </a:xfrm>
        </p:grpSpPr>
        <p:sp>
          <p:nvSpPr>
            <p:cNvPr id="95" name="Rectangle 12"/>
            <p:cNvSpPr/>
            <p:nvPr/>
          </p:nvSpPr>
          <p:spPr>
            <a:xfrm>
              <a:off x="4798800" y="6048360"/>
              <a:ext cx="3106440" cy="428400"/>
            </a:xfrm>
            <a:prstGeom prst="rect">
              <a:avLst/>
            </a:prstGeom>
            <a:solidFill>
              <a:srgbClr val="cf5a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600" spc="-1" strike="noStrike">
                <a:solidFill>
                  <a:srgbClr val="595959"/>
                </a:solidFill>
                <a:latin typeface="Cambria"/>
              </a:endParaRPr>
            </a:p>
          </p:txBody>
        </p:sp>
        <p:pic>
          <p:nvPicPr>
            <p:cNvPr id="96" name="Picture 13" descr=""/>
            <p:cNvPicPr/>
            <p:nvPr/>
          </p:nvPicPr>
          <p:blipFill>
            <a:blip r:embed="rId2"/>
            <a:stretch/>
          </p:blipFill>
          <p:spPr>
            <a:xfrm>
              <a:off x="4789440" y="2884320"/>
              <a:ext cx="3111120" cy="3110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7" name="Group 17"/>
          <p:cNvGrpSpPr/>
          <p:nvPr/>
        </p:nvGrpSpPr>
        <p:grpSpPr>
          <a:xfrm>
            <a:off x="8367840" y="2887560"/>
            <a:ext cx="3112920" cy="3589200"/>
            <a:chOff x="8367840" y="2887560"/>
            <a:chExt cx="3112920" cy="3589200"/>
          </a:xfrm>
        </p:grpSpPr>
        <p:sp>
          <p:nvSpPr>
            <p:cNvPr id="98" name="Rectangle 15"/>
            <p:cNvSpPr/>
            <p:nvPr/>
          </p:nvSpPr>
          <p:spPr>
            <a:xfrm>
              <a:off x="8374320" y="6048000"/>
              <a:ext cx="3106440" cy="428760"/>
            </a:xfrm>
            <a:prstGeom prst="rect">
              <a:avLst/>
            </a:prstGeom>
            <a:solidFill>
              <a:srgbClr val="9a56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600" spc="-1" strike="noStrike">
                <a:solidFill>
                  <a:srgbClr val="595959"/>
                </a:solidFill>
                <a:latin typeface="Cambria"/>
              </a:endParaRPr>
            </a:p>
          </p:txBody>
        </p:sp>
        <p:pic>
          <p:nvPicPr>
            <p:cNvPr id="99" name="Picture 16" descr=""/>
            <p:cNvPicPr/>
            <p:nvPr/>
          </p:nvPicPr>
          <p:blipFill>
            <a:blip r:embed="rId3"/>
            <a:stretch/>
          </p:blipFill>
          <p:spPr>
            <a:xfrm>
              <a:off x="8367840" y="2887560"/>
              <a:ext cx="3098880" cy="3100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" name="Group 20"/>
          <p:cNvGrpSpPr/>
          <p:nvPr/>
        </p:nvGrpSpPr>
        <p:grpSpPr>
          <a:xfrm>
            <a:off x="11950560" y="2887560"/>
            <a:ext cx="3105000" cy="3589200"/>
            <a:chOff x="11950560" y="2887560"/>
            <a:chExt cx="3105000" cy="3589200"/>
          </a:xfrm>
        </p:grpSpPr>
        <p:sp>
          <p:nvSpPr>
            <p:cNvPr id="101" name="Rectangle 18"/>
            <p:cNvSpPr/>
            <p:nvPr/>
          </p:nvSpPr>
          <p:spPr>
            <a:xfrm>
              <a:off x="11950560" y="6048000"/>
              <a:ext cx="3105000" cy="428760"/>
            </a:xfrm>
            <a:prstGeom prst="rect">
              <a:avLst/>
            </a:prstGeom>
            <a:solidFill>
              <a:srgbClr val="5448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600" spc="-1" strike="noStrike">
                <a:solidFill>
                  <a:srgbClr val="595959"/>
                </a:solidFill>
                <a:latin typeface="Cambria"/>
              </a:endParaRPr>
            </a:p>
          </p:txBody>
        </p:sp>
        <p:pic>
          <p:nvPicPr>
            <p:cNvPr id="102" name="Picture 19" descr=""/>
            <p:cNvPicPr/>
            <p:nvPr/>
          </p:nvPicPr>
          <p:blipFill>
            <a:blip r:embed="rId4"/>
            <a:stretch/>
          </p:blipFill>
          <p:spPr>
            <a:xfrm>
              <a:off x="11953800" y="2887560"/>
              <a:ext cx="3100320" cy="3100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3" name="Rectangle 21"/>
          <p:cNvSpPr/>
          <p:nvPr/>
        </p:nvSpPr>
        <p:spPr>
          <a:xfrm>
            <a:off x="1073160" y="590400"/>
            <a:ext cx="5555160" cy="7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mbria Bold"/>
                <a:ea typeface="ＭＳ Ｐゴシック"/>
              </a:rPr>
              <a:t>Slides with pictures</a:t>
            </a:r>
            <a:endParaRPr b="0" lang="en-US" sz="48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04" name="Rectangle 22"/>
          <p:cNvSpPr/>
          <p:nvPr/>
        </p:nvSpPr>
        <p:spPr>
          <a:xfrm>
            <a:off x="1077840" y="1501920"/>
            <a:ext cx="14092200" cy="11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mbria"/>
                <a:ea typeface="ＭＳ Ｐゴシック"/>
              </a:rPr>
              <a:t>Many say exploration is part of our destiny, but it</a:t>
            </a:r>
            <a:r>
              <a:rPr b="0" lang="ja-JP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’</a:t>
            </a:r>
            <a:r>
              <a:rPr b="0" lang="en-US" sz="3600" spc="-1" strike="noStrike">
                <a:solidFill>
                  <a:srgbClr val="ffffff"/>
                </a:solidFill>
                <a:latin typeface="Cambria"/>
                <a:ea typeface="Cambria"/>
              </a:rPr>
              <a:t>s actually our duty to future generations and their quest to ensure the survival of the human.</a:t>
            </a:r>
            <a:endParaRPr b="0" lang="en-US" sz="3600" spc="-1" strike="noStrike">
              <a:solidFill>
                <a:srgbClr val="595959"/>
              </a:solidFill>
              <a:latin typeface="Cambria"/>
            </a:endParaRPr>
          </a:p>
        </p:txBody>
      </p:sp>
    </p:spTree>
  </p:cSld>
  <p:transition spd="slow">
    <p:push dir="l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1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6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1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6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81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86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91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1"/>
          <p:cNvSpPr/>
          <p:nvPr/>
        </p:nvSpPr>
        <p:spPr>
          <a:xfrm>
            <a:off x="9655200" y="3648240"/>
            <a:ext cx="328464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 Bold"/>
                <a:ea typeface="ＭＳ Ｐゴシック"/>
              </a:rPr>
              <a:t>Some cool header.</a:t>
            </a:r>
            <a:endParaRPr b="0" lang="en-US" sz="28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9663120" y="4375080"/>
            <a:ext cx="3282840" cy="13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 Italic"/>
                <a:ea typeface="ＭＳ Ｐゴシック"/>
              </a:rPr>
              <a:t>Maecenas vitae ante quis, dapibus consectetur ipsum.</a:t>
            </a:r>
            <a:endParaRPr b="0" lang="en-US" sz="28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8782200" y="6253200"/>
            <a:ext cx="328284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 Bold"/>
                <a:ea typeface="ＭＳ Ｐゴシック"/>
              </a:rPr>
              <a:t>Some cool header.</a:t>
            </a:r>
            <a:endParaRPr b="0" lang="en-US" sz="28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8788320" y="6980400"/>
            <a:ext cx="328464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 Italic"/>
                <a:ea typeface="ＭＳ Ｐゴシック"/>
              </a:rPr>
              <a:t>Maecenas vitae ante quis, dapibus consectetur ipsum.</a:t>
            </a:r>
            <a:endParaRPr b="0" lang="en-US" sz="28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1021320" y="590400"/>
            <a:ext cx="5160240" cy="7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mbria Bold"/>
                <a:ea typeface="ＭＳ Ｐゴシック"/>
              </a:rPr>
              <a:t>More Information</a:t>
            </a:r>
            <a:endParaRPr b="0" lang="en-US" sz="48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10" name="Rectangle 6"/>
          <p:cNvSpPr/>
          <p:nvPr/>
        </p:nvSpPr>
        <p:spPr>
          <a:xfrm>
            <a:off x="1077840" y="1501920"/>
            <a:ext cx="14092200" cy="11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mbria"/>
                <a:ea typeface="ＭＳ Ｐゴシック"/>
              </a:rPr>
              <a:t>We want to explore. We</a:t>
            </a:r>
            <a:r>
              <a:rPr b="0" lang="ja-JP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’</a:t>
            </a:r>
            <a:r>
              <a:rPr b="0" lang="en-US" sz="3600" spc="-1" strike="noStrike">
                <a:solidFill>
                  <a:srgbClr val="ffffff"/>
                </a:solidFill>
                <a:latin typeface="Cambria"/>
                <a:ea typeface="Cambria"/>
              </a:rPr>
              <a:t>re curious people. Look back over history, people have put their lives at stake to go out and explore … </a:t>
            </a:r>
            <a:endParaRPr b="0" lang="en-US" sz="3600" spc="-1" strike="noStrike">
              <a:solidFill>
                <a:srgbClr val="595959"/>
              </a:solidFill>
              <a:latin typeface="Cambria"/>
            </a:endParaRPr>
          </a:p>
        </p:txBody>
      </p:sp>
      <p:pic>
        <p:nvPicPr>
          <p:cNvPr id="111" name="Picture 7" descr=""/>
          <p:cNvPicPr/>
          <p:nvPr/>
        </p:nvPicPr>
        <p:blipFill>
          <a:blip r:embed="rId1"/>
          <a:stretch/>
        </p:blipFill>
        <p:spPr>
          <a:xfrm>
            <a:off x="1790640" y="3568680"/>
            <a:ext cx="5905440" cy="4318200"/>
          </a:xfrm>
          <a:prstGeom prst="rect">
            <a:avLst/>
          </a:prstGeom>
          <a:ln w="0">
            <a:noFill/>
          </a:ln>
        </p:spPr>
      </p:pic>
      <p:grpSp>
        <p:nvGrpSpPr>
          <p:cNvPr id="112" name="Group 10"/>
          <p:cNvGrpSpPr/>
          <p:nvPr/>
        </p:nvGrpSpPr>
        <p:grpSpPr>
          <a:xfrm>
            <a:off x="4575240" y="3719520"/>
            <a:ext cx="4843080" cy="512280"/>
            <a:chOff x="4575240" y="3719520"/>
            <a:chExt cx="4843080" cy="512280"/>
          </a:xfrm>
        </p:grpSpPr>
        <p:sp>
          <p:nvSpPr>
            <p:cNvPr id="113" name="AutoShape 8"/>
            <p:cNvSpPr/>
            <p:nvPr/>
          </p:nvSpPr>
          <p:spPr>
            <a:xfrm>
              <a:off x="8903880" y="3719520"/>
              <a:ext cx="514440" cy="512280"/>
            </a:xfrm>
            <a:custGeom>
              <a:avLst/>
              <a:gdLst/>
              <a:ahLst/>
              <a:rect l="l" t="t" r="r" b="b"/>
              <a:pathLst>
                <a:path w="24942" h="21600">
                  <a:moveTo>
                    <a:pt x="12471" y="0"/>
                  </a:moveTo>
                  <a:lnTo>
                    <a:pt x="23271" y="5400"/>
                  </a:lnTo>
                  <a:lnTo>
                    <a:pt x="23271" y="16200"/>
                  </a:lnTo>
                  <a:lnTo>
                    <a:pt x="12471" y="21600"/>
                  </a:lnTo>
                  <a:lnTo>
                    <a:pt x="1671" y="16200"/>
                  </a:lnTo>
                  <a:lnTo>
                    <a:pt x="1671" y="5400"/>
                  </a:lnTo>
                  <a:lnTo>
                    <a:pt x="12471" y="0"/>
                  </a:lnTo>
                  <a:close/>
                  <a:moveTo>
                    <a:pt x="12471" y="0"/>
                  </a:moveTo>
                </a:path>
              </a:pathLst>
            </a:custGeom>
            <a:solidFill>
              <a:srgbClr val="d6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4600" spc="-1" strike="noStrike">
                <a:solidFill>
                  <a:srgbClr val="595959"/>
                </a:solidFill>
                <a:latin typeface="Cambria"/>
              </a:endParaRPr>
            </a:p>
          </p:txBody>
        </p:sp>
        <p:sp>
          <p:nvSpPr>
            <p:cNvPr id="114" name="Line 9"/>
            <p:cNvSpPr/>
            <p:nvPr/>
          </p:nvSpPr>
          <p:spPr>
            <a:xfrm>
              <a:off x="4575240" y="3957840"/>
              <a:ext cx="4628520" cy="1800"/>
            </a:xfrm>
            <a:prstGeom prst="line">
              <a:avLst/>
            </a:prstGeom>
            <a:ln w="38160">
              <a:solidFill>
                <a:srgbClr val="d6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4600" spc="-1" strike="noStrike">
                <a:solidFill>
                  <a:srgbClr val="595959"/>
                </a:solidFill>
                <a:latin typeface="Cambria"/>
              </a:endParaRPr>
            </a:p>
          </p:txBody>
        </p:sp>
      </p:grpSp>
      <p:grpSp>
        <p:nvGrpSpPr>
          <p:cNvPr id="115" name="Group 13"/>
          <p:cNvGrpSpPr/>
          <p:nvPr/>
        </p:nvGrpSpPr>
        <p:grpSpPr>
          <a:xfrm>
            <a:off x="5735520" y="6261120"/>
            <a:ext cx="2725560" cy="511200"/>
            <a:chOff x="5735520" y="6261120"/>
            <a:chExt cx="2725560" cy="511200"/>
          </a:xfrm>
        </p:grpSpPr>
        <p:sp>
          <p:nvSpPr>
            <p:cNvPr id="116" name="AutoShape 11"/>
            <p:cNvSpPr/>
            <p:nvPr/>
          </p:nvSpPr>
          <p:spPr>
            <a:xfrm>
              <a:off x="7947000" y="6261120"/>
              <a:ext cx="514080" cy="511200"/>
            </a:xfrm>
            <a:custGeom>
              <a:avLst/>
              <a:gdLst/>
              <a:ahLst/>
              <a:rect l="l" t="t" r="r" b="b"/>
              <a:pathLst>
                <a:path w="24942" h="21600">
                  <a:moveTo>
                    <a:pt x="12471" y="0"/>
                  </a:moveTo>
                  <a:lnTo>
                    <a:pt x="23271" y="5400"/>
                  </a:lnTo>
                  <a:lnTo>
                    <a:pt x="23271" y="16200"/>
                  </a:lnTo>
                  <a:lnTo>
                    <a:pt x="12471" y="21600"/>
                  </a:lnTo>
                  <a:lnTo>
                    <a:pt x="1671" y="16200"/>
                  </a:lnTo>
                  <a:lnTo>
                    <a:pt x="1671" y="5400"/>
                  </a:lnTo>
                  <a:lnTo>
                    <a:pt x="12471" y="0"/>
                  </a:lnTo>
                  <a:close/>
                  <a:moveTo>
                    <a:pt x="12471" y="0"/>
                  </a:moveTo>
                </a:path>
              </a:pathLst>
            </a:custGeom>
            <a:solidFill>
              <a:srgbClr val="d6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4600" spc="-1" strike="noStrike">
                <a:solidFill>
                  <a:srgbClr val="595959"/>
                </a:solidFill>
                <a:latin typeface="Cambria"/>
              </a:endParaRPr>
            </a:p>
          </p:txBody>
        </p:sp>
        <p:sp>
          <p:nvSpPr>
            <p:cNvPr id="117" name="Line 12"/>
            <p:cNvSpPr/>
            <p:nvPr/>
          </p:nvSpPr>
          <p:spPr>
            <a:xfrm flipV="1">
              <a:off x="5735520" y="6500880"/>
              <a:ext cx="2511360" cy="1440"/>
            </a:xfrm>
            <a:prstGeom prst="line">
              <a:avLst/>
            </a:prstGeom>
            <a:ln w="38160">
              <a:solidFill>
                <a:srgbClr val="d6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4600" spc="-1" strike="noStrike">
                <a:solidFill>
                  <a:srgbClr val="595959"/>
                </a:solidFill>
                <a:latin typeface="Cambria"/>
              </a:endParaRPr>
            </a:p>
          </p:txBody>
        </p:sp>
      </p:grpSp>
    </p:spTree>
  </p:cSld>
  <p:transition spd="slow">
    <p:push dir="l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4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9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24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Group 3"/>
          <p:cNvGrpSpPr/>
          <p:nvPr/>
        </p:nvGrpSpPr>
        <p:grpSpPr>
          <a:xfrm>
            <a:off x="679320" y="63360"/>
            <a:ext cx="236520" cy="8500680"/>
            <a:chOff x="679320" y="63360"/>
            <a:chExt cx="236520" cy="8500680"/>
          </a:xfrm>
        </p:grpSpPr>
        <p:sp>
          <p:nvSpPr>
            <p:cNvPr id="119" name="Line 1"/>
            <p:cNvSpPr/>
            <p:nvPr/>
          </p:nvSpPr>
          <p:spPr>
            <a:xfrm>
              <a:off x="684000" y="63360"/>
              <a:ext cx="0" cy="8500680"/>
            </a:xfrm>
            <a:prstGeom prst="line">
              <a:avLst/>
            </a:prstGeom>
            <a:ln w="25560">
              <a:solidFill>
                <a:srgbClr val="fcae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4600" spc="-1" strike="noStrike">
                <a:solidFill>
                  <a:srgbClr val="595959"/>
                </a:solidFill>
                <a:latin typeface="Cambria"/>
              </a:endParaRPr>
            </a:p>
          </p:txBody>
        </p:sp>
        <p:sp>
          <p:nvSpPr>
            <p:cNvPr id="120" name="Rectangle 2"/>
            <p:cNvSpPr/>
            <p:nvPr/>
          </p:nvSpPr>
          <p:spPr>
            <a:xfrm>
              <a:off x="679320" y="3306960"/>
              <a:ext cx="236520" cy="642960"/>
            </a:xfrm>
            <a:prstGeom prst="rect">
              <a:avLst/>
            </a:prstGeom>
            <a:solidFill>
              <a:srgbClr val="fcae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600" spc="-1" strike="noStrike">
                <a:solidFill>
                  <a:srgbClr val="595959"/>
                </a:solidFill>
                <a:latin typeface="Cambria"/>
              </a:endParaRPr>
            </a:p>
          </p:txBody>
        </p:sp>
      </p:grpSp>
      <p:grpSp>
        <p:nvGrpSpPr>
          <p:cNvPr id="121" name="Group 6"/>
          <p:cNvGrpSpPr/>
          <p:nvPr/>
        </p:nvGrpSpPr>
        <p:grpSpPr>
          <a:xfrm>
            <a:off x="5630760" y="63360"/>
            <a:ext cx="237960" cy="8500680"/>
            <a:chOff x="5630760" y="63360"/>
            <a:chExt cx="237960" cy="8500680"/>
          </a:xfrm>
        </p:grpSpPr>
        <p:sp>
          <p:nvSpPr>
            <p:cNvPr id="122" name="Line 4"/>
            <p:cNvSpPr/>
            <p:nvPr/>
          </p:nvSpPr>
          <p:spPr>
            <a:xfrm>
              <a:off x="5632200" y="63360"/>
              <a:ext cx="0" cy="8500680"/>
            </a:xfrm>
            <a:prstGeom prst="line">
              <a:avLst/>
            </a:prstGeom>
            <a:ln w="25560">
              <a:solidFill>
                <a:srgbClr val="cf5a6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4600" spc="-1" strike="noStrike">
                <a:solidFill>
                  <a:srgbClr val="595959"/>
                </a:solidFill>
                <a:latin typeface="Cambria"/>
              </a:endParaRPr>
            </a:p>
          </p:txBody>
        </p:sp>
        <p:sp>
          <p:nvSpPr>
            <p:cNvPr id="123" name="Rectangle 5"/>
            <p:cNvSpPr/>
            <p:nvPr/>
          </p:nvSpPr>
          <p:spPr>
            <a:xfrm>
              <a:off x="5630760" y="3306960"/>
              <a:ext cx="237960" cy="642960"/>
            </a:xfrm>
            <a:prstGeom prst="rect">
              <a:avLst/>
            </a:prstGeom>
            <a:solidFill>
              <a:srgbClr val="cf5a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600" spc="-1" strike="noStrike">
                <a:solidFill>
                  <a:srgbClr val="595959"/>
                </a:solidFill>
                <a:latin typeface="Cambria"/>
              </a:endParaRPr>
            </a:p>
          </p:txBody>
        </p:sp>
      </p:grpSp>
      <p:grpSp>
        <p:nvGrpSpPr>
          <p:cNvPr id="124" name="Group 9"/>
          <p:cNvGrpSpPr/>
          <p:nvPr/>
        </p:nvGrpSpPr>
        <p:grpSpPr>
          <a:xfrm>
            <a:off x="10447200" y="63360"/>
            <a:ext cx="237960" cy="8500680"/>
            <a:chOff x="10447200" y="63360"/>
            <a:chExt cx="237960" cy="8500680"/>
          </a:xfrm>
        </p:grpSpPr>
        <p:sp>
          <p:nvSpPr>
            <p:cNvPr id="125" name="Line 7"/>
            <p:cNvSpPr/>
            <p:nvPr/>
          </p:nvSpPr>
          <p:spPr>
            <a:xfrm>
              <a:off x="10450440" y="63360"/>
              <a:ext cx="0" cy="8500680"/>
            </a:xfrm>
            <a:prstGeom prst="line">
              <a:avLst/>
            </a:prstGeom>
            <a:ln w="25560">
              <a:solidFill>
                <a:srgbClr val="9a56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4600" spc="-1" strike="noStrike">
                <a:solidFill>
                  <a:srgbClr val="595959"/>
                </a:solidFill>
                <a:latin typeface="Cambria"/>
              </a:endParaRPr>
            </a:p>
          </p:txBody>
        </p:sp>
        <p:sp>
          <p:nvSpPr>
            <p:cNvPr id="126" name="Rectangle 8"/>
            <p:cNvSpPr/>
            <p:nvPr/>
          </p:nvSpPr>
          <p:spPr>
            <a:xfrm>
              <a:off x="10447200" y="3306960"/>
              <a:ext cx="237960" cy="642960"/>
            </a:xfrm>
            <a:prstGeom prst="rect">
              <a:avLst/>
            </a:prstGeom>
            <a:solidFill>
              <a:srgbClr val="9a56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600" spc="-1" strike="noStrike">
                <a:solidFill>
                  <a:srgbClr val="595959"/>
                </a:solidFill>
                <a:latin typeface="Cambria"/>
              </a:endParaRPr>
            </a:p>
          </p:txBody>
        </p:sp>
      </p:grpSp>
      <p:sp>
        <p:nvSpPr>
          <p:cNvPr id="127" name="Rectangle 10"/>
          <p:cNvSpPr/>
          <p:nvPr/>
        </p:nvSpPr>
        <p:spPr>
          <a:xfrm>
            <a:off x="846000" y="4460760"/>
            <a:ext cx="4388040" cy="36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  <a:ea typeface="ＭＳ Ｐゴシック"/>
              </a:rPr>
              <a:t>Maecenas vitae ante quis, dapibus consectetur ipsum. 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  <a:ea typeface="ＭＳ Ｐゴシック"/>
              </a:rPr>
              <a:t>Lorem ipsum dolor sit amet, consectetur adipiscing elit. Suspendisse hendrerit fermentum arcu, nec efficitur sem ultrices id. Praesent quis magna viverra turpis rutrum pellentesque in ac nulla.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28" name="Rectangle 11"/>
          <p:cNvSpPr/>
          <p:nvPr/>
        </p:nvSpPr>
        <p:spPr>
          <a:xfrm>
            <a:off x="5791320" y="4460760"/>
            <a:ext cx="4389480" cy="36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  <a:ea typeface="ＭＳ Ｐゴシック"/>
              </a:rPr>
              <a:t>Maecenas vitae ante quis, dapibus consectetur ipsum. 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  <a:ea typeface="ＭＳ Ｐゴシック"/>
              </a:rPr>
              <a:t>Lorem ipsum dolor sit amet, consectetur adipiscing elit. Suspendisse hendrerit fermentum arcu, nec efficitur sem ultrices id. Praesent quis magna viverra turpis rutrum pellentesque in ac nulla. 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29" name="Rectangle 12"/>
          <p:cNvSpPr/>
          <p:nvPr/>
        </p:nvSpPr>
        <p:spPr>
          <a:xfrm>
            <a:off x="10636200" y="4460760"/>
            <a:ext cx="4514760" cy="36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  <a:ea typeface="ＭＳ Ｐゴシック"/>
              </a:rPr>
              <a:t>Maecenas vitae ante quis, dapibus consectetur ipsum. 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  <a:ea typeface="ＭＳ Ｐゴシック"/>
              </a:rPr>
              <a:t>Lorem ipsum dolor sit amet, consectetur adipiscing elit. Suspendisse hendrerit fermentum arcu, nec efficitur sem ultrices id. Praesent quis magna viverra turpis rutrum pellentesque in ac nulla. 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30" name="Rectangle 13"/>
          <p:cNvSpPr/>
          <p:nvPr/>
        </p:nvSpPr>
        <p:spPr>
          <a:xfrm>
            <a:off x="1138320" y="3693960"/>
            <a:ext cx="32828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 Bold"/>
                <a:ea typeface="ＭＳ Ｐゴシック"/>
              </a:rPr>
              <a:t>Some cool header.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31" name="Rectangle 14"/>
          <p:cNvSpPr/>
          <p:nvPr/>
        </p:nvSpPr>
        <p:spPr>
          <a:xfrm>
            <a:off x="6083280" y="3693960"/>
            <a:ext cx="32828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 Bold"/>
                <a:ea typeface="ＭＳ Ｐゴシック"/>
              </a:rPr>
              <a:t>Some cool header.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32" name="Rectangle 15"/>
          <p:cNvSpPr/>
          <p:nvPr/>
        </p:nvSpPr>
        <p:spPr>
          <a:xfrm>
            <a:off x="10963440" y="3693960"/>
            <a:ext cx="3284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 Bold"/>
                <a:ea typeface="ＭＳ Ｐゴシック"/>
              </a:rPr>
              <a:t>Some cool header.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pic>
        <p:nvPicPr>
          <p:cNvPr id="133" name="Picture 16" descr=""/>
          <p:cNvPicPr/>
          <p:nvPr/>
        </p:nvPicPr>
        <p:blipFill>
          <a:blip r:embed="rId1"/>
          <a:stretch/>
        </p:blipFill>
        <p:spPr>
          <a:xfrm>
            <a:off x="7010280" y="851040"/>
            <a:ext cx="2222640" cy="22222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7" descr=""/>
          <p:cNvPicPr/>
          <p:nvPr/>
        </p:nvPicPr>
        <p:blipFill>
          <a:blip r:embed="rId2"/>
          <a:stretch/>
        </p:blipFill>
        <p:spPr>
          <a:xfrm>
            <a:off x="1409760" y="3430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8" descr=""/>
          <p:cNvPicPr/>
          <p:nvPr/>
        </p:nvPicPr>
        <p:blipFill>
          <a:blip r:embed="rId3"/>
          <a:stretch/>
        </p:blipFill>
        <p:spPr>
          <a:xfrm>
            <a:off x="11315880" y="673200"/>
            <a:ext cx="2590560" cy="259056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7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2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57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62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67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77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2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87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1"/>
          <p:cNvSpPr/>
          <p:nvPr/>
        </p:nvSpPr>
        <p:spPr>
          <a:xfrm>
            <a:off x="1026000" y="590400"/>
            <a:ext cx="3871080" cy="7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mbria Bold"/>
                <a:ea typeface="ＭＳ Ｐゴシック"/>
              </a:rPr>
              <a:t>Lorem Ipsum</a:t>
            </a:r>
            <a:endParaRPr b="0" lang="en-US" sz="48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37" name="Rectangle 2"/>
          <p:cNvSpPr/>
          <p:nvPr/>
        </p:nvSpPr>
        <p:spPr>
          <a:xfrm>
            <a:off x="1077840" y="1501920"/>
            <a:ext cx="14142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mbria Bold"/>
                <a:ea typeface="ＭＳ Ｐゴシック"/>
              </a:rPr>
              <a:t>Some cool things here.</a:t>
            </a:r>
            <a:endParaRPr b="0" lang="en-US" sz="3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38" name="Rectangle 3"/>
          <p:cNvSpPr/>
          <p:nvPr/>
        </p:nvSpPr>
        <p:spPr>
          <a:xfrm>
            <a:off x="1069920" y="2479680"/>
            <a:ext cx="14121000" cy="49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noAutofit/>
          </a:bodyPr>
          <a:p>
            <a:pPr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efe"/>
                </a:solidFill>
                <a:latin typeface="Cambria"/>
                <a:ea typeface="ＭＳ Ｐゴシック"/>
              </a:rPr>
              <a:t>Science cuts two ways, of course; its products can be used for both good and evil. But there's no turning back from science. The early warnings about technological dangers also come from science.</a:t>
            </a:r>
            <a:br>
              <a:rPr sz="3200"/>
            </a:br>
            <a:endParaRPr b="0" lang="en-US" sz="3600" spc="-1" strike="noStrike">
              <a:solidFill>
                <a:srgbClr val="595959"/>
              </a:solidFill>
              <a:latin typeface="Cambria"/>
            </a:endParaRPr>
          </a:p>
          <a:p>
            <a:pPr>
              <a:spcBef>
                <a:spcPts val="1301"/>
              </a:spcBef>
              <a:buClr>
                <a:srgbClr val="ffffff"/>
              </a:buClr>
              <a:buFont typeface="Arial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  <a:ea typeface="ＭＳ Ｐゴシック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ambria"/>
                <a:ea typeface="ＭＳ Ｐゴシック"/>
              </a:rPr>
              <a:t>To be the first to enter the cosmos, to engage, single-handed, in an unprecedented duel with nature—could one dream of anything more? Houston, Tranquillity Base here. The Eagle has landed. I don't know what you could say about a day in which you have seen four beautiful sunsets.</a:t>
            </a:r>
            <a:endParaRPr b="0" lang="en-US" sz="3200" spc="-1" strike="noStrike">
              <a:solidFill>
                <a:srgbClr val="595959"/>
              </a:solidFill>
              <a:latin typeface="Cambria"/>
            </a:endParaRPr>
          </a:p>
        </p:txBody>
      </p:sp>
    </p:spTree>
  </p:cSld>
  <p:transition spd="slow">
    <p:push dir="l"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0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0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Group 15"/>
          <p:cNvGrpSpPr/>
          <p:nvPr/>
        </p:nvGrpSpPr>
        <p:grpSpPr>
          <a:xfrm>
            <a:off x="1306440" y="3233880"/>
            <a:ext cx="4656240" cy="4716360"/>
            <a:chOff x="1306440" y="3233880"/>
            <a:chExt cx="4656240" cy="4716360"/>
          </a:xfrm>
        </p:grpSpPr>
        <p:grpSp>
          <p:nvGrpSpPr>
            <p:cNvPr id="140" name="Group 6"/>
            <p:cNvGrpSpPr/>
            <p:nvPr/>
          </p:nvGrpSpPr>
          <p:grpSpPr>
            <a:xfrm>
              <a:off x="1306440" y="4994280"/>
              <a:ext cx="4656240" cy="2955960"/>
              <a:chOff x="1306440" y="4994280"/>
              <a:chExt cx="4656240" cy="2955960"/>
            </a:xfrm>
          </p:grpSpPr>
          <p:sp>
            <p:nvSpPr>
              <p:cNvPr id="141" name="AutoShape 1"/>
              <p:cNvSpPr/>
              <p:nvPr/>
            </p:nvSpPr>
            <p:spPr>
              <a:xfrm>
                <a:off x="1668240" y="6060960"/>
                <a:ext cx="3956040" cy="1222560"/>
              </a:xfrm>
              <a:custGeom>
                <a:avLst/>
                <a:gdLst/>
                <a:ahLst/>
                <a:rect l="l" t="t" r="r" b="b"/>
                <a:pathLst>
                  <a:path w="21600" h="18127">
                    <a:moveTo>
                      <a:pt x="0" y="7665"/>
                    </a:moveTo>
                    <a:cubicBezTo>
                      <a:pt x="2210" y="0"/>
                      <a:pt x="2210" y="0"/>
                      <a:pt x="2210" y="0"/>
                    </a:cubicBezTo>
                    <a:cubicBezTo>
                      <a:pt x="4194" y="11690"/>
                      <a:pt x="17271" y="11690"/>
                      <a:pt x="19255" y="0"/>
                    </a:cubicBezTo>
                    <a:cubicBezTo>
                      <a:pt x="21600" y="8206"/>
                      <a:pt x="21600" y="8206"/>
                      <a:pt x="21600" y="8206"/>
                    </a:cubicBezTo>
                    <a:cubicBezTo>
                      <a:pt x="17677" y="21600"/>
                      <a:pt x="3653" y="21445"/>
                      <a:pt x="0" y="7665"/>
                    </a:cubicBezTo>
                    <a:close/>
                    <a:moveTo>
                      <a:pt x="0" y="7665"/>
                    </a:moveTo>
                  </a:path>
                </a:pathLst>
              </a:custGeom>
              <a:solidFill>
                <a:srgbClr val="9a5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4600" spc="-1" strike="noStrike">
                  <a:solidFill>
                    <a:srgbClr val="595959"/>
                  </a:solidFill>
                  <a:latin typeface="Cambria"/>
                </a:endParaRPr>
              </a:p>
            </p:txBody>
          </p:sp>
          <p:sp>
            <p:nvSpPr>
              <p:cNvPr id="142" name="AutoShape 2"/>
              <p:cNvSpPr/>
              <p:nvPr/>
            </p:nvSpPr>
            <p:spPr>
              <a:xfrm>
                <a:off x="1306440" y="6578640"/>
                <a:ext cx="4656240" cy="1371600"/>
              </a:xfrm>
              <a:custGeom>
                <a:avLst/>
                <a:gdLst/>
                <a:ahLst/>
                <a:rect l="l" t="t" r="r" b="b"/>
                <a:pathLst>
                  <a:path w="21600" h="17791">
                    <a:moveTo>
                      <a:pt x="1685" y="0"/>
                    </a:moveTo>
                    <a:cubicBezTo>
                      <a:pt x="0" y="6365"/>
                      <a:pt x="0" y="6365"/>
                      <a:pt x="0" y="6365"/>
                    </a:cubicBezTo>
                    <a:cubicBezTo>
                      <a:pt x="2489" y="21600"/>
                      <a:pt x="19111" y="21600"/>
                      <a:pt x="21600" y="6365"/>
                    </a:cubicBezTo>
                    <a:cubicBezTo>
                      <a:pt x="20030" y="474"/>
                      <a:pt x="20030" y="474"/>
                      <a:pt x="20030" y="474"/>
                    </a:cubicBezTo>
                    <a:cubicBezTo>
                      <a:pt x="16698" y="12188"/>
                      <a:pt x="4787" y="12053"/>
                      <a:pt x="1685" y="0"/>
                    </a:cubicBezTo>
                    <a:close/>
                    <a:moveTo>
                      <a:pt x="1685" y="0"/>
                    </a:moveTo>
                  </a:path>
                </a:pathLst>
              </a:custGeom>
              <a:solidFill>
                <a:srgbClr val="5448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4600" spc="-1" strike="noStrike">
                  <a:solidFill>
                    <a:srgbClr val="595959"/>
                  </a:solidFill>
                  <a:latin typeface="Cambria"/>
                </a:endParaRPr>
              </a:p>
            </p:txBody>
          </p:sp>
          <p:sp>
            <p:nvSpPr>
              <p:cNvPr id="143" name="AutoShape 3"/>
              <p:cNvSpPr/>
              <p:nvPr/>
            </p:nvSpPr>
            <p:spPr>
              <a:xfrm>
                <a:off x="2073240" y="5570640"/>
                <a:ext cx="3122640" cy="1082520"/>
              </a:xfrm>
              <a:custGeom>
                <a:avLst/>
                <a:gdLst/>
                <a:ahLst/>
                <a:rect l="l" t="t" r="r" b="b"/>
                <a:pathLst>
                  <a:path w="21600" h="18272">
                    <a:moveTo>
                      <a:pt x="2571" y="0"/>
                    </a:moveTo>
                    <a:cubicBezTo>
                      <a:pt x="0" y="8287"/>
                      <a:pt x="0" y="8287"/>
                      <a:pt x="0" y="8287"/>
                    </a:cubicBezTo>
                    <a:cubicBezTo>
                      <a:pt x="2514" y="21600"/>
                      <a:pt x="19086" y="21600"/>
                      <a:pt x="21600" y="8287"/>
                    </a:cubicBezTo>
                    <a:cubicBezTo>
                      <a:pt x="19029" y="0"/>
                      <a:pt x="19029" y="0"/>
                      <a:pt x="19029" y="0"/>
                    </a:cubicBezTo>
                    <a:cubicBezTo>
                      <a:pt x="17086" y="10051"/>
                      <a:pt x="4514" y="10051"/>
                      <a:pt x="2571" y="0"/>
                    </a:cubicBezTo>
                    <a:close/>
                    <a:moveTo>
                      <a:pt x="2571" y="0"/>
                    </a:moveTo>
                  </a:path>
                </a:pathLst>
              </a:custGeom>
              <a:solidFill>
                <a:srgbClr val="cf5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4600" spc="-1" strike="noStrike">
                  <a:solidFill>
                    <a:srgbClr val="595959"/>
                  </a:solidFill>
                  <a:latin typeface="Cambria"/>
                </a:endParaRPr>
              </a:p>
            </p:txBody>
          </p:sp>
          <p:sp>
            <p:nvSpPr>
              <p:cNvPr id="144" name="AutoShape 4"/>
              <p:cNvSpPr/>
              <p:nvPr/>
            </p:nvSpPr>
            <p:spPr>
              <a:xfrm>
                <a:off x="2446200" y="5003640"/>
                <a:ext cx="2378160" cy="1013040"/>
              </a:xfrm>
              <a:custGeom>
                <a:avLst/>
                <a:gdLst/>
                <a:ahLst/>
                <a:rect l="l" t="t" r="r" b="b"/>
                <a:pathLst>
                  <a:path w="21600" h="18839">
                    <a:moveTo>
                      <a:pt x="2550" y="3390"/>
                    </a:moveTo>
                    <a:cubicBezTo>
                      <a:pt x="0" y="10558"/>
                      <a:pt x="0" y="10558"/>
                      <a:pt x="0" y="10558"/>
                    </a:cubicBezTo>
                    <a:cubicBezTo>
                      <a:pt x="2475" y="21600"/>
                      <a:pt x="19125" y="21600"/>
                      <a:pt x="21600" y="10558"/>
                    </a:cubicBezTo>
                    <a:cubicBezTo>
                      <a:pt x="18900" y="3003"/>
                      <a:pt x="18900" y="3003"/>
                      <a:pt x="18900" y="3003"/>
                    </a:cubicBezTo>
                    <a:cubicBezTo>
                      <a:pt x="18825" y="3100"/>
                      <a:pt x="18825" y="3100"/>
                      <a:pt x="18825" y="3100"/>
                    </a:cubicBezTo>
                    <a:cubicBezTo>
                      <a:pt x="18525" y="1356"/>
                      <a:pt x="15000" y="0"/>
                      <a:pt x="10725" y="0"/>
                    </a:cubicBezTo>
                    <a:cubicBezTo>
                      <a:pt x="6225" y="0"/>
                      <a:pt x="2550" y="1550"/>
                      <a:pt x="2550" y="3390"/>
                    </a:cubicBezTo>
                    <a:close/>
                    <a:moveTo>
                      <a:pt x="2550" y="3390"/>
                    </a:moveTo>
                  </a:path>
                </a:pathLst>
              </a:custGeom>
              <a:solidFill>
                <a:srgbClr val="fcae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4600" spc="-1" strike="noStrike">
                  <a:solidFill>
                    <a:srgbClr val="595959"/>
                  </a:solidFill>
                  <a:latin typeface="Cambria"/>
                </a:endParaRPr>
              </a:p>
            </p:txBody>
          </p:sp>
          <p:sp>
            <p:nvSpPr>
              <p:cNvPr id="145" name="Oval 5"/>
              <p:cNvSpPr/>
              <p:nvPr/>
            </p:nvSpPr>
            <p:spPr>
              <a:xfrm>
                <a:off x="2759040" y="4994280"/>
                <a:ext cx="1760400" cy="338040"/>
              </a:xfrm>
              <a:prstGeom prst="ellipse">
                <a:avLst/>
              </a:prstGeom>
              <a:solidFill>
                <a:srgbClr val="676666"/>
              </a:solidFill>
              <a:ln w="25560">
                <a:solidFill>
                  <a:srgbClr val="fda5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600" spc="-1" strike="noStrike">
                  <a:solidFill>
                    <a:srgbClr val="595959"/>
                  </a:solidFill>
                  <a:latin typeface="Cambria"/>
                </a:endParaRPr>
              </a:p>
            </p:txBody>
          </p:sp>
        </p:grpSp>
        <p:grpSp>
          <p:nvGrpSpPr>
            <p:cNvPr id="146" name="Group 13"/>
            <p:cNvGrpSpPr/>
            <p:nvPr/>
          </p:nvGrpSpPr>
          <p:grpSpPr>
            <a:xfrm>
              <a:off x="3114720" y="3233880"/>
              <a:ext cx="1100160" cy="1081080"/>
              <a:chOff x="3114720" y="3233880"/>
              <a:chExt cx="1100160" cy="1081080"/>
            </a:xfrm>
          </p:grpSpPr>
          <p:sp>
            <p:nvSpPr>
              <p:cNvPr id="147" name="Oval 7"/>
              <p:cNvSpPr/>
              <p:nvPr/>
            </p:nvSpPr>
            <p:spPr>
              <a:xfrm>
                <a:off x="3114720" y="3233880"/>
                <a:ext cx="1100160" cy="1081080"/>
              </a:xfrm>
              <a:prstGeom prst="ellipse">
                <a:avLst/>
              </a:prstGeom>
              <a:solidFill>
                <a:srgbClr val="fcae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600" spc="-1" strike="noStrike">
                  <a:solidFill>
                    <a:srgbClr val="595959"/>
                  </a:solidFill>
                  <a:latin typeface="Cambria"/>
                </a:endParaRPr>
              </a:p>
            </p:txBody>
          </p:sp>
          <p:sp>
            <p:nvSpPr>
              <p:cNvPr id="148" name="Oval 8"/>
              <p:cNvSpPr/>
              <p:nvPr/>
            </p:nvSpPr>
            <p:spPr>
              <a:xfrm>
                <a:off x="3222720" y="3327480"/>
                <a:ext cx="895320" cy="895320"/>
              </a:xfrm>
              <a:prstGeom prst="ellipse">
                <a:avLst/>
              </a:prstGeom>
              <a:solidFill>
                <a:srgbClr val="9a5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600" spc="-1" strike="noStrike">
                  <a:solidFill>
                    <a:srgbClr val="595959"/>
                  </a:solidFill>
                  <a:latin typeface="Cambria"/>
                </a:endParaRPr>
              </a:p>
            </p:txBody>
          </p:sp>
          <p:grpSp>
            <p:nvGrpSpPr>
              <p:cNvPr id="149" name="Group 12"/>
              <p:cNvGrpSpPr/>
              <p:nvPr/>
            </p:nvGrpSpPr>
            <p:grpSpPr>
              <a:xfrm>
                <a:off x="3368880" y="3497400"/>
                <a:ext cx="642240" cy="595440"/>
                <a:chOff x="3368880" y="3497400"/>
                <a:chExt cx="642240" cy="595440"/>
              </a:xfrm>
            </p:grpSpPr>
            <p:sp>
              <p:nvSpPr>
                <p:cNvPr id="150" name="AutoShape 9"/>
                <p:cNvSpPr/>
                <p:nvPr/>
              </p:nvSpPr>
              <p:spPr>
                <a:xfrm>
                  <a:off x="3368880" y="3497400"/>
                  <a:ext cx="423360" cy="419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18644" y="13239"/>
                      </a:moveTo>
                      <a:cubicBezTo>
                        <a:pt x="18644" y="13239"/>
                        <a:pt x="21600" y="12077"/>
                        <a:pt x="21600" y="11845"/>
                      </a:cubicBezTo>
                      <a:cubicBezTo>
                        <a:pt x="21600" y="9523"/>
                        <a:pt x="21600" y="9523"/>
                        <a:pt x="21600" y="9523"/>
                      </a:cubicBezTo>
                      <a:cubicBezTo>
                        <a:pt x="21600" y="9290"/>
                        <a:pt x="18644" y="8129"/>
                        <a:pt x="18644" y="8129"/>
                      </a:cubicBezTo>
                      <a:cubicBezTo>
                        <a:pt x="18189" y="6968"/>
                        <a:pt x="18189" y="6968"/>
                        <a:pt x="18189" y="6968"/>
                      </a:cubicBezTo>
                      <a:cubicBezTo>
                        <a:pt x="18189" y="6968"/>
                        <a:pt x="19326" y="3948"/>
                        <a:pt x="19326" y="3948"/>
                      </a:cubicBezTo>
                      <a:cubicBezTo>
                        <a:pt x="17507" y="2090"/>
                        <a:pt x="17507" y="2090"/>
                        <a:pt x="17507" y="2090"/>
                      </a:cubicBezTo>
                      <a:cubicBezTo>
                        <a:pt x="17507" y="2090"/>
                        <a:pt x="14552" y="3484"/>
                        <a:pt x="14552" y="3484"/>
                      </a:cubicBezTo>
                      <a:cubicBezTo>
                        <a:pt x="13187" y="2787"/>
                        <a:pt x="13187" y="2787"/>
                        <a:pt x="13187" y="2787"/>
                      </a:cubicBezTo>
                      <a:cubicBezTo>
                        <a:pt x="13187" y="2787"/>
                        <a:pt x="12051" y="0"/>
                        <a:pt x="12051" y="0"/>
                      </a:cubicBezTo>
                      <a:cubicBezTo>
                        <a:pt x="9549" y="0"/>
                        <a:pt x="9549" y="0"/>
                        <a:pt x="9549" y="0"/>
                      </a:cubicBezTo>
                      <a:cubicBezTo>
                        <a:pt x="9322" y="0"/>
                        <a:pt x="8413" y="2787"/>
                        <a:pt x="8413" y="2787"/>
                      </a:cubicBezTo>
                      <a:cubicBezTo>
                        <a:pt x="7048" y="3484"/>
                        <a:pt x="7048" y="3484"/>
                        <a:pt x="7048" y="3484"/>
                      </a:cubicBezTo>
                      <a:cubicBezTo>
                        <a:pt x="7048" y="3484"/>
                        <a:pt x="4093" y="2090"/>
                        <a:pt x="4093" y="2323"/>
                      </a:cubicBezTo>
                      <a:cubicBezTo>
                        <a:pt x="2274" y="3948"/>
                        <a:pt x="2274" y="3948"/>
                        <a:pt x="2274" y="3948"/>
                      </a:cubicBezTo>
                      <a:cubicBezTo>
                        <a:pt x="2274" y="4181"/>
                        <a:pt x="3411" y="6968"/>
                        <a:pt x="3411" y="6968"/>
                      </a:cubicBezTo>
                      <a:cubicBezTo>
                        <a:pt x="2956" y="8361"/>
                        <a:pt x="2956" y="8361"/>
                        <a:pt x="2956" y="8361"/>
                      </a:cubicBezTo>
                      <a:cubicBezTo>
                        <a:pt x="2956" y="8361"/>
                        <a:pt x="0" y="9523"/>
                        <a:pt x="0" y="9523"/>
                      </a:cubicBezTo>
                      <a:cubicBezTo>
                        <a:pt x="0" y="11845"/>
                        <a:pt x="0" y="11845"/>
                        <a:pt x="0" y="11845"/>
                      </a:cubicBezTo>
                      <a:cubicBezTo>
                        <a:pt x="0" y="12077"/>
                        <a:pt x="2956" y="13239"/>
                        <a:pt x="2956" y="13239"/>
                      </a:cubicBezTo>
                      <a:cubicBezTo>
                        <a:pt x="3638" y="14400"/>
                        <a:pt x="3638" y="14400"/>
                        <a:pt x="3638" y="14400"/>
                      </a:cubicBezTo>
                      <a:cubicBezTo>
                        <a:pt x="3638" y="14400"/>
                        <a:pt x="2274" y="17419"/>
                        <a:pt x="2274" y="17652"/>
                      </a:cubicBezTo>
                      <a:cubicBezTo>
                        <a:pt x="4093" y="19277"/>
                        <a:pt x="4093" y="19277"/>
                        <a:pt x="4093" y="19277"/>
                      </a:cubicBezTo>
                      <a:cubicBezTo>
                        <a:pt x="4093" y="19277"/>
                        <a:pt x="7048" y="17884"/>
                        <a:pt x="7048" y="17884"/>
                      </a:cubicBezTo>
                      <a:cubicBezTo>
                        <a:pt x="8413" y="18581"/>
                        <a:pt x="8413" y="18581"/>
                        <a:pt x="8413" y="18581"/>
                      </a:cubicBezTo>
                      <a:cubicBezTo>
                        <a:pt x="8413" y="18581"/>
                        <a:pt x="9549" y="21600"/>
                        <a:pt x="9777" y="21600"/>
                      </a:cubicBezTo>
                      <a:cubicBezTo>
                        <a:pt x="12051" y="21600"/>
                        <a:pt x="12051" y="21600"/>
                        <a:pt x="12051" y="21600"/>
                      </a:cubicBezTo>
                      <a:cubicBezTo>
                        <a:pt x="12278" y="21600"/>
                        <a:pt x="13187" y="18581"/>
                        <a:pt x="13187" y="18581"/>
                      </a:cubicBezTo>
                      <a:cubicBezTo>
                        <a:pt x="14552" y="17884"/>
                        <a:pt x="14552" y="17884"/>
                        <a:pt x="14552" y="17884"/>
                      </a:cubicBezTo>
                      <a:cubicBezTo>
                        <a:pt x="14552" y="17884"/>
                        <a:pt x="17507" y="19277"/>
                        <a:pt x="17735" y="19045"/>
                      </a:cubicBezTo>
                      <a:cubicBezTo>
                        <a:pt x="19326" y="17419"/>
                        <a:pt x="19326" y="17419"/>
                        <a:pt x="19326" y="17419"/>
                      </a:cubicBezTo>
                      <a:cubicBezTo>
                        <a:pt x="19326" y="17419"/>
                        <a:pt x="18189" y="14400"/>
                        <a:pt x="18189" y="14400"/>
                      </a:cubicBezTo>
                      <a:lnTo>
                        <a:pt x="18644" y="13239"/>
                      </a:lnTo>
                      <a:close/>
                      <a:moveTo>
                        <a:pt x="10914" y="14168"/>
                      </a:moveTo>
                      <a:cubicBezTo>
                        <a:pt x="8867" y="14168"/>
                        <a:pt x="7276" y="12542"/>
                        <a:pt x="7276" y="10684"/>
                      </a:cubicBezTo>
                      <a:cubicBezTo>
                        <a:pt x="7276" y="8826"/>
                        <a:pt x="8867" y="7200"/>
                        <a:pt x="10914" y="7200"/>
                      </a:cubicBezTo>
                      <a:cubicBezTo>
                        <a:pt x="12733" y="7200"/>
                        <a:pt x="14324" y="8826"/>
                        <a:pt x="14324" y="10684"/>
                      </a:cubicBezTo>
                      <a:cubicBezTo>
                        <a:pt x="14324" y="12542"/>
                        <a:pt x="12733" y="14168"/>
                        <a:pt x="10914" y="14168"/>
                      </a:cubicBezTo>
                      <a:close/>
                      <a:moveTo>
                        <a:pt x="10914" y="14168"/>
                      </a:moveTo>
                    </a:path>
                  </a:pathLst>
                </a:custGeom>
                <a:solidFill>
                  <a:srgbClr val="fcae5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4600" spc="-1" strike="noStrike">
                    <a:solidFill>
                      <a:srgbClr val="595959"/>
                    </a:solidFill>
                    <a:latin typeface="Cambria"/>
                  </a:endParaRPr>
                </a:p>
              </p:txBody>
            </p:sp>
            <p:sp>
              <p:nvSpPr>
                <p:cNvPr id="151" name="AutoShape 10"/>
                <p:cNvSpPr/>
                <p:nvPr/>
              </p:nvSpPr>
              <p:spPr>
                <a:xfrm>
                  <a:off x="3755880" y="3740400"/>
                  <a:ext cx="255240" cy="250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18644" y="13239"/>
                      </a:moveTo>
                      <a:cubicBezTo>
                        <a:pt x="18644" y="13239"/>
                        <a:pt x="21600" y="12077"/>
                        <a:pt x="21600" y="11845"/>
                      </a:cubicBezTo>
                      <a:cubicBezTo>
                        <a:pt x="21600" y="9523"/>
                        <a:pt x="21600" y="9523"/>
                        <a:pt x="21600" y="9523"/>
                      </a:cubicBezTo>
                      <a:cubicBezTo>
                        <a:pt x="21600" y="9290"/>
                        <a:pt x="18644" y="8129"/>
                        <a:pt x="18644" y="8129"/>
                      </a:cubicBezTo>
                      <a:cubicBezTo>
                        <a:pt x="18189" y="6968"/>
                        <a:pt x="18189" y="6968"/>
                        <a:pt x="18189" y="6968"/>
                      </a:cubicBezTo>
                      <a:cubicBezTo>
                        <a:pt x="18189" y="6968"/>
                        <a:pt x="19326" y="3948"/>
                        <a:pt x="19326" y="3948"/>
                      </a:cubicBezTo>
                      <a:cubicBezTo>
                        <a:pt x="17507" y="2090"/>
                        <a:pt x="17507" y="2090"/>
                        <a:pt x="17507" y="2090"/>
                      </a:cubicBezTo>
                      <a:cubicBezTo>
                        <a:pt x="17507" y="2090"/>
                        <a:pt x="14552" y="3484"/>
                        <a:pt x="14552" y="3484"/>
                      </a:cubicBezTo>
                      <a:cubicBezTo>
                        <a:pt x="13187" y="2787"/>
                        <a:pt x="13187" y="2787"/>
                        <a:pt x="13187" y="2787"/>
                      </a:cubicBezTo>
                      <a:cubicBezTo>
                        <a:pt x="13187" y="2787"/>
                        <a:pt x="12051" y="0"/>
                        <a:pt x="12051" y="0"/>
                      </a:cubicBezTo>
                      <a:cubicBezTo>
                        <a:pt x="9549" y="0"/>
                        <a:pt x="9549" y="0"/>
                        <a:pt x="9549" y="0"/>
                      </a:cubicBezTo>
                      <a:cubicBezTo>
                        <a:pt x="9322" y="0"/>
                        <a:pt x="8413" y="2787"/>
                        <a:pt x="8413" y="2787"/>
                      </a:cubicBezTo>
                      <a:cubicBezTo>
                        <a:pt x="7048" y="3484"/>
                        <a:pt x="7048" y="3484"/>
                        <a:pt x="7048" y="3484"/>
                      </a:cubicBezTo>
                      <a:cubicBezTo>
                        <a:pt x="7048" y="3484"/>
                        <a:pt x="4093" y="2090"/>
                        <a:pt x="4093" y="2323"/>
                      </a:cubicBezTo>
                      <a:cubicBezTo>
                        <a:pt x="2274" y="3948"/>
                        <a:pt x="2274" y="3948"/>
                        <a:pt x="2274" y="3948"/>
                      </a:cubicBezTo>
                      <a:cubicBezTo>
                        <a:pt x="2274" y="4181"/>
                        <a:pt x="3411" y="6968"/>
                        <a:pt x="3411" y="6968"/>
                      </a:cubicBezTo>
                      <a:cubicBezTo>
                        <a:pt x="2956" y="8361"/>
                        <a:pt x="2956" y="8361"/>
                        <a:pt x="2956" y="8361"/>
                      </a:cubicBezTo>
                      <a:cubicBezTo>
                        <a:pt x="2956" y="8361"/>
                        <a:pt x="0" y="9523"/>
                        <a:pt x="0" y="9523"/>
                      </a:cubicBezTo>
                      <a:cubicBezTo>
                        <a:pt x="0" y="11845"/>
                        <a:pt x="0" y="11845"/>
                        <a:pt x="0" y="11845"/>
                      </a:cubicBezTo>
                      <a:cubicBezTo>
                        <a:pt x="0" y="12077"/>
                        <a:pt x="2956" y="13239"/>
                        <a:pt x="2956" y="13239"/>
                      </a:cubicBezTo>
                      <a:cubicBezTo>
                        <a:pt x="3638" y="14400"/>
                        <a:pt x="3638" y="14400"/>
                        <a:pt x="3638" y="14400"/>
                      </a:cubicBezTo>
                      <a:cubicBezTo>
                        <a:pt x="3638" y="14400"/>
                        <a:pt x="2274" y="17419"/>
                        <a:pt x="2274" y="17652"/>
                      </a:cubicBezTo>
                      <a:cubicBezTo>
                        <a:pt x="4093" y="19277"/>
                        <a:pt x="4093" y="19277"/>
                        <a:pt x="4093" y="19277"/>
                      </a:cubicBezTo>
                      <a:cubicBezTo>
                        <a:pt x="4093" y="19277"/>
                        <a:pt x="7048" y="17884"/>
                        <a:pt x="7048" y="17884"/>
                      </a:cubicBezTo>
                      <a:cubicBezTo>
                        <a:pt x="8413" y="18581"/>
                        <a:pt x="8413" y="18581"/>
                        <a:pt x="8413" y="18581"/>
                      </a:cubicBezTo>
                      <a:cubicBezTo>
                        <a:pt x="8413" y="18581"/>
                        <a:pt x="9549" y="21600"/>
                        <a:pt x="9777" y="21600"/>
                      </a:cubicBezTo>
                      <a:cubicBezTo>
                        <a:pt x="12051" y="21600"/>
                        <a:pt x="12051" y="21600"/>
                        <a:pt x="12051" y="21600"/>
                      </a:cubicBezTo>
                      <a:cubicBezTo>
                        <a:pt x="12278" y="21600"/>
                        <a:pt x="13187" y="18581"/>
                        <a:pt x="13187" y="18581"/>
                      </a:cubicBezTo>
                      <a:cubicBezTo>
                        <a:pt x="14552" y="17884"/>
                        <a:pt x="14552" y="17884"/>
                        <a:pt x="14552" y="17884"/>
                      </a:cubicBezTo>
                      <a:cubicBezTo>
                        <a:pt x="14552" y="17884"/>
                        <a:pt x="17507" y="19277"/>
                        <a:pt x="17735" y="19045"/>
                      </a:cubicBezTo>
                      <a:cubicBezTo>
                        <a:pt x="19326" y="17419"/>
                        <a:pt x="19326" y="17419"/>
                        <a:pt x="19326" y="17419"/>
                      </a:cubicBezTo>
                      <a:cubicBezTo>
                        <a:pt x="19326" y="17419"/>
                        <a:pt x="18189" y="14400"/>
                        <a:pt x="18189" y="14400"/>
                      </a:cubicBezTo>
                      <a:lnTo>
                        <a:pt x="18644" y="13239"/>
                      </a:lnTo>
                      <a:close/>
                      <a:moveTo>
                        <a:pt x="10914" y="14168"/>
                      </a:moveTo>
                      <a:cubicBezTo>
                        <a:pt x="8867" y="14168"/>
                        <a:pt x="7276" y="12542"/>
                        <a:pt x="7276" y="10684"/>
                      </a:cubicBezTo>
                      <a:cubicBezTo>
                        <a:pt x="7276" y="8826"/>
                        <a:pt x="8867" y="7200"/>
                        <a:pt x="10914" y="7200"/>
                      </a:cubicBezTo>
                      <a:cubicBezTo>
                        <a:pt x="12733" y="7200"/>
                        <a:pt x="14324" y="8826"/>
                        <a:pt x="14324" y="10684"/>
                      </a:cubicBezTo>
                      <a:cubicBezTo>
                        <a:pt x="14324" y="12542"/>
                        <a:pt x="12733" y="14168"/>
                        <a:pt x="10914" y="14168"/>
                      </a:cubicBezTo>
                      <a:close/>
                      <a:moveTo>
                        <a:pt x="10914" y="14168"/>
                      </a:moveTo>
                    </a:path>
                  </a:pathLst>
                </a:custGeom>
                <a:solidFill>
                  <a:srgbClr val="fcae5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4600" spc="-1" strike="noStrike">
                    <a:solidFill>
                      <a:srgbClr val="595959"/>
                    </a:solidFill>
                    <a:latin typeface="Cambria"/>
                  </a:endParaRPr>
                </a:p>
              </p:txBody>
            </p:sp>
            <p:sp>
              <p:nvSpPr>
                <p:cNvPr id="152" name="AutoShape 11"/>
                <p:cNvSpPr/>
                <p:nvPr/>
              </p:nvSpPr>
              <p:spPr>
                <a:xfrm>
                  <a:off x="3584520" y="3910320"/>
                  <a:ext cx="185400" cy="182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18644" y="13239"/>
                      </a:moveTo>
                      <a:cubicBezTo>
                        <a:pt x="18644" y="13239"/>
                        <a:pt x="21600" y="12077"/>
                        <a:pt x="21600" y="11845"/>
                      </a:cubicBezTo>
                      <a:cubicBezTo>
                        <a:pt x="21600" y="9523"/>
                        <a:pt x="21600" y="9523"/>
                        <a:pt x="21600" y="9523"/>
                      </a:cubicBezTo>
                      <a:cubicBezTo>
                        <a:pt x="21600" y="9290"/>
                        <a:pt x="18644" y="8129"/>
                        <a:pt x="18644" y="8129"/>
                      </a:cubicBezTo>
                      <a:cubicBezTo>
                        <a:pt x="18189" y="6968"/>
                        <a:pt x="18189" y="6968"/>
                        <a:pt x="18189" y="6968"/>
                      </a:cubicBezTo>
                      <a:cubicBezTo>
                        <a:pt x="18189" y="6968"/>
                        <a:pt x="19326" y="3948"/>
                        <a:pt x="19326" y="3948"/>
                      </a:cubicBezTo>
                      <a:cubicBezTo>
                        <a:pt x="17507" y="2090"/>
                        <a:pt x="17507" y="2090"/>
                        <a:pt x="17507" y="2090"/>
                      </a:cubicBezTo>
                      <a:cubicBezTo>
                        <a:pt x="17507" y="2090"/>
                        <a:pt x="14552" y="3484"/>
                        <a:pt x="14552" y="3484"/>
                      </a:cubicBezTo>
                      <a:cubicBezTo>
                        <a:pt x="13187" y="2787"/>
                        <a:pt x="13187" y="2787"/>
                        <a:pt x="13187" y="2787"/>
                      </a:cubicBezTo>
                      <a:cubicBezTo>
                        <a:pt x="13187" y="2787"/>
                        <a:pt x="12051" y="0"/>
                        <a:pt x="12051" y="0"/>
                      </a:cubicBezTo>
                      <a:cubicBezTo>
                        <a:pt x="9549" y="0"/>
                        <a:pt x="9549" y="0"/>
                        <a:pt x="9549" y="0"/>
                      </a:cubicBezTo>
                      <a:cubicBezTo>
                        <a:pt x="9322" y="0"/>
                        <a:pt x="8413" y="2787"/>
                        <a:pt x="8413" y="2787"/>
                      </a:cubicBezTo>
                      <a:cubicBezTo>
                        <a:pt x="7048" y="3484"/>
                        <a:pt x="7048" y="3484"/>
                        <a:pt x="7048" y="3484"/>
                      </a:cubicBezTo>
                      <a:cubicBezTo>
                        <a:pt x="7048" y="3484"/>
                        <a:pt x="4093" y="2090"/>
                        <a:pt x="4093" y="2323"/>
                      </a:cubicBezTo>
                      <a:cubicBezTo>
                        <a:pt x="2274" y="3948"/>
                        <a:pt x="2274" y="3948"/>
                        <a:pt x="2274" y="3948"/>
                      </a:cubicBezTo>
                      <a:cubicBezTo>
                        <a:pt x="2274" y="4181"/>
                        <a:pt x="3411" y="6968"/>
                        <a:pt x="3411" y="6968"/>
                      </a:cubicBezTo>
                      <a:cubicBezTo>
                        <a:pt x="2956" y="8361"/>
                        <a:pt x="2956" y="8361"/>
                        <a:pt x="2956" y="8361"/>
                      </a:cubicBezTo>
                      <a:cubicBezTo>
                        <a:pt x="2956" y="8361"/>
                        <a:pt x="0" y="9523"/>
                        <a:pt x="0" y="9523"/>
                      </a:cubicBezTo>
                      <a:cubicBezTo>
                        <a:pt x="0" y="11845"/>
                        <a:pt x="0" y="11845"/>
                        <a:pt x="0" y="11845"/>
                      </a:cubicBezTo>
                      <a:cubicBezTo>
                        <a:pt x="0" y="12077"/>
                        <a:pt x="2956" y="13239"/>
                        <a:pt x="2956" y="13239"/>
                      </a:cubicBezTo>
                      <a:cubicBezTo>
                        <a:pt x="3638" y="14400"/>
                        <a:pt x="3638" y="14400"/>
                        <a:pt x="3638" y="14400"/>
                      </a:cubicBezTo>
                      <a:cubicBezTo>
                        <a:pt x="3638" y="14400"/>
                        <a:pt x="2274" y="17419"/>
                        <a:pt x="2274" y="17652"/>
                      </a:cubicBezTo>
                      <a:cubicBezTo>
                        <a:pt x="4093" y="19277"/>
                        <a:pt x="4093" y="19277"/>
                        <a:pt x="4093" y="19277"/>
                      </a:cubicBezTo>
                      <a:cubicBezTo>
                        <a:pt x="4093" y="19277"/>
                        <a:pt x="7048" y="17884"/>
                        <a:pt x="7048" y="17884"/>
                      </a:cubicBezTo>
                      <a:cubicBezTo>
                        <a:pt x="8413" y="18581"/>
                        <a:pt x="8413" y="18581"/>
                        <a:pt x="8413" y="18581"/>
                      </a:cubicBezTo>
                      <a:cubicBezTo>
                        <a:pt x="8413" y="18581"/>
                        <a:pt x="9549" y="21600"/>
                        <a:pt x="9777" y="21600"/>
                      </a:cubicBezTo>
                      <a:cubicBezTo>
                        <a:pt x="12051" y="21600"/>
                        <a:pt x="12051" y="21600"/>
                        <a:pt x="12051" y="21600"/>
                      </a:cubicBezTo>
                      <a:cubicBezTo>
                        <a:pt x="12278" y="21600"/>
                        <a:pt x="13187" y="18581"/>
                        <a:pt x="13187" y="18581"/>
                      </a:cubicBezTo>
                      <a:cubicBezTo>
                        <a:pt x="14552" y="17884"/>
                        <a:pt x="14552" y="17884"/>
                        <a:pt x="14552" y="17884"/>
                      </a:cubicBezTo>
                      <a:cubicBezTo>
                        <a:pt x="14552" y="17884"/>
                        <a:pt x="17507" y="19277"/>
                        <a:pt x="17735" y="19045"/>
                      </a:cubicBezTo>
                      <a:cubicBezTo>
                        <a:pt x="19326" y="17419"/>
                        <a:pt x="19326" y="17419"/>
                        <a:pt x="19326" y="17419"/>
                      </a:cubicBezTo>
                      <a:cubicBezTo>
                        <a:pt x="19326" y="17419"/>
                        <a:pt x="18189" y="14400"/>
                        <a:pt x="18189" y="14400"/>
                      </a:cubicBezTo>
                      <a:lnTo>
                        <a:pt x="18644" y="13239"/>
                      </a:lnTo>
                      <a:close/>
                      <a:moveTo>
                        <a:pt x="10914" y="14168"/>
                      </a:moveTo>
                      <a:cubicBezTo>
                        <a:pt x="8867" y="14168"/>
                        <a:pt x="7276" y="12542"/>
                        <a:pt x="7276" y="10684"/>
                      </a:cubicBezTo>
                      <a:cubicBezTo>
                        <a:pt x="7276" y="8826"/>
                        <a:pt x="8867" y="7200"/>
                        <a:pt x="10914" y="7200"/>
                      </a:cubicBezTo>
                      <a:cubicBezTo>
                        <a:pt x="12733" y="7200"/>
                        <a:pt x="14324" y="8826"/>
                        <a:pt x="14324" y="10684"/>
                      </a:cubicBezTo>
                      <a:cubicBezTo>
                        <a:pt x="14324" y="12542"/>
                        <a:pt x="12733" y="14168"/>
                        <a:pt x="10914" y="14168"/>
                      </a:cubicBezTo>
                      <a:close/>
                      <a:moveTo>
                        <a:pt x="10914" y="14168"/>
                      </a:moveTo>
                    </a:path>
                  </a:pathLst>
                </a:custGeom>
                <a:solidFill>
                  <a:srgbClr val="fcae5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4600" spc="-1" strike="noStrike">
                    <a:solidFill>
                      <a:srgbClr val="595959"/>
                    </a:solidFill>
                    <a:latin typeface="Cambria"/>
                  </a:endParaRPr>
                </a:p>
              </p:txBody>
            </p:sp>
          </p:grpSp>
        </p:grpSp>
        <p:sp>
          <p:nvSpPr>
            <p:cNvPr id="153" name="Line 14"/>
            <p:cNvSpPr/>
            <p:nvPr/>
          </p:nvSpPr>
          <p:spPr>
            <a:xfrm flipV="1">
              <a:off x="3674880" y="4236840"/>
              <a:ext cx="0" cy="895320"/>
            </a:xfrm>
            <a:prstGeom prst="line">
              <a:avLst/>
            </a:prstGeom>
            <a:ln w="12600">
              <a:solidFill>
                <a:srgbClr val="fcae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4600" spc="-1" strike="noStrike">
                <a:solidFill>
                  <a:srgbClr val="595959"/>
                </a:solidFill>
                <a:latin typeface="Cambria"/>
              </a:endParaRPr>
            </a:p>
          </p:txBody>
        </p:sp>
      </p:grpSp>
      <p:sp>
        <p:nvSpPr>
          <p:cNvPr id="154" name="AutoShape 16"/>
          <p:cNvSpPr/>
          <p:nvPr/>
        </p:nvSpPr>
        <p:spPr>
          <a:xfrm>
            <a:off x="5083200" y="3429000"/>
            <a:ext cx="3273480" cy="507960"/>
          </a:xfrm>
          <a:prstGeom prst="roundRect">
            <a:avLst>
              <a:gd name="adj" fmla="val 12500"/>
            </a:avLst>
          </a:prstGeom>
          <a:solidFill>
            <a:srgbClr val="faad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55" name="Rectangle 17"/>
          <p:cNvSpPr/>
          <p:nvPr/>
        </p:nvSpPr>
        <p:spPr>
          <a:xfrm>
            <a:off x="5089680" y="3348000"/>
            <a:ext cx="32828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 Bold"/>
                <a:ea typeface="ＭＳ Ｐゴシック"/>
              </a:rPr>
              <a:t>Some cool header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56" name="Rectangle 18"/>
          <p:cNvSpPr/>
          <p:nvPr/>
        </p:nvSpPr>
        <p:spPr>
          <a:xfrm>
            <a:off x="8839080" y="3222720"/>
            <a:ext cx="564516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  <a:ea typeface="ＭＳ Ｐゴシック"/>
              </a:rPr>
              <a:t>Vestibulum tristique mattis felis, quis finibus quam venenatis quis.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57" name="AutoShape 19"/>
          <p:cNvSpPr/>
          <p:nvPr/>
        </p:nvSpPr>
        <p:spPr>
          <a:xfrm>
            <a:off x="6066000" y="4424400"/>
            <a:ext cx="3273120" cy="507960"/>
          </a:xfrm>
          <a:prstGeom prst="roundRect">
            <a:avLst>
              <a:gd name="adj" fmla="val 12500"/>
            </a:avLst>
          </a:prstGeom>
          <a:solidFill>
            <a:srgbClr val="cf5a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58" name="Rectangle 20"/>
          <p:cNvSpPr/>
          <p:nvPr/>
        </p:nvSpPr>
        <p:spPr>
          <a:xfrm>
            <a:off x="6075360" y="4356000"/>
            <a:ext cx="32828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 Bold"/>
                <a:ea typeface="ＭＳ Ｐゴシック"/>
              </a:rPr>
              <a:t>Some cool header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59" name="Rectangle 21"/>
          <p:cNvSpPr/>
          <p:nvPr/>
        </p:nvSpPr>
        <p:spPr>
          <a:xfrm>
            <a:off x="9807480" y="4259160"/>
            <a:ext cx="5137200" cy="8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  <a:ea typeface="ＭＳ Ｐゴシック"/>
              </a:rPr>
              <a:t>Vestibulum tristique mattis felis, quis finibus quam.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60" name="AutoShape 22"/>
          <p:cNvSpPr/>
          <p:nvPr/>
        </p:nvSpPr>
        <p:spPr>
          <a:xfrm>
            <a:off x="6716880" y="5500800"/>
            <a:ext cx="3273120" cy="507960"/>
          </a:xfrm>
          <a:prstGeom prst="roundRect">
            <a:avLst>
              <a:gd name="adj" fmla="val 12500"/>
            </a:avLst>
          </a:prstGeom>
          <a:solidFill>
            <a:srgbClr val="9856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61" name="Rectangle 23"/>
          <p:cNvSpPr/>
          <p:nvPr/>
        </p:nvSpPr>
        <p:spPr>
          <a:xfrm>
            <a:off x="6726240" y="5435640"/>
            <a:ext cx="32828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 Bold"/>
                <a:ea typeface="ＭＳ Ｐゴシック"/>
              </a:rPr>
              <a:t>Some cool header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62" name="Rectangle 24"/>
          <p:cNvSpPr/>
          <p:nvPr/>
        </p:nvSpPr>
        <p:spPr>
          <a:xfrm>
            <a:off x="10379160" y="5326200"/>
            <a:ext cx="48067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  <a:ea typeface="ＭＳ Ｐゴシック"/>
              </a:rPr>
              <a:t>Vestibulum tristique mattis felis, quam venenatis quis.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63" name="AutoShape 25"/>
          <p:cNvSpPr/>
          <p:nvPr/>
        </p:nvSpPr>
        <p:spPr>
          <a:xfrm>
            <a:off x="7311960" y="6534000"/>
            <a:ext cx="3274920" cy="508320"/>
          </a:xfrm>
          <a:prstGeom prst="roundRect">
            <a:avLst>
              <a:gd name="adj" fmla="val 12500"/>
            </a:avLst>
          </a:prstGeom>
          <a:solidFill>
            <a:srgbClr val="5448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64" name="Rectangle 26"/>
          <p:cNvSpPr/>
          <p:nvPr/>
        </p:nvSpPr>
        <p:spPr>
          <a:xfrm>
            <a:off x="7323120" y="6443640"/>
            <a:ext cx="32828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 Bold"/>
                <a:ea typeface="ＭＳ Ｐゴシック"/>
              </a:rPr>
              <a:t>Some cool header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65" name="Rectangle 27"/>
          <p:cNvSpPr/>
          <p:nvPr/>
        </p:nvSpPr>
        <p:spPr>
          <a:xfrm>
            <a:off x="11015640" y="6354720"/>
            <a:ext cx="3767040" cy="11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  <a:ea typeface="ＭＳ Ｐゴシック"/>
              </a:rPr>
              <a:t>Vestibulum tristique mattis felis, venenatis quis. Suspend.</a:t>
            </a:r>
            <a:endParaRPr b="0" lang="en-US" sz="24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66" name="Rectangle 28"/>
          <p:cNvSpPr/>
          <p:nvPr/>
        </p:nvSpPr>
        <p:spPr>
          <a:xfrm>
            <a:off x="1099080" y="590400"/>
            <a:ext cx="2813400" cy="7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mbria Bold"/>
                <a:ea typeface="ＭＳ Ｐゴシック"/>
              </a:rPr>
              <a:t>Hierarchy</a:t>
            </a:r>
            <a:endParaRPr b="0" lang="en-US" sz="48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67" name="Rectangle 29"/>
          <p:cNvSpPr/>
          <p:nvPr/>
        </p:nvSpPr>
        <p:spPr>
          <a:xfrm>
            <a:off x="1077840" y="1498680"/>
            <a:ext cx="14752800" cy="11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mbria"/>
                <a:ea typeface="ＭＳ Ｐゴシック"/>
              </a:rPr>
              <a:t>Our greatest fear should not be of failure but of succeeding at things in life that don't really matter.</a:t>
            </a:r>
            <a:endParaRPr b="0" lang="en-US" sz="3600" spc="-1" strike="noStrike">
              <a:solidFill>
                <a:srgbClr val="595959"/>
              </a:solidFill>
              <a:latin typeface="Cambria"/>
            </a:endParaRPr>
          </a:p>
        </p:txBody>
      </p:sp>
    </p:spTree>
  </p:cSld>
  <p:transition spd="slow">
    <p:push dir="l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0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8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3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8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43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48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53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58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63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68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73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78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83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Group 3"/>
          <p:cNvGrpSpPr/>
          <p:nvPr/>
        </p:nvGrpSpPr>
        <p:grpSpPr>
          <a:xfrm>
            <a:off x="10663560" y="-50760"/>
            <a:ext cx="2511000" cy="4387320"/>
            <a:chOff x="10663560" y="-50760"/>
            <a:chExt cx="2511000" cy="4387320"/>
          </a:xfrm>
        </p:grpSpPr>
        <p:sp>
          <p:nvSpPr>
            <p:cNvPr id="169" name="Line 1"/>
            <p:cNvSpPr/>
            <p:nvPr/>
          </p:nvSpPr>
          <p:spPr>
            <a:xfrm>
              <a:off x="11966400" y="-50760"/>
              <a:ext cx="2160" cy="3304800"/>
            </a:xfrm>
            <a:prstGeom prst="line">
              <a:avLst/>
            </a:prstGeom>
            <a:ln w="50760">
              <a:solidFill>
                <a:srgbClr val="3548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4600" spc="-1" strike="noStrike">
                <a:solidFill>
                  <a:srgbClr val="595959"/>
                </a:solidFill>
                <a:latin typeface="Cambria"/>
              </a:endParaRPr>
            </a:p>
          </p:txBody>
        </p:sp>
        <p:sp>
          <p:nvSpPr>
            <p:cNvPr id="170" name="AutoShape 2"/>
            <p:cNvSpPr/>
            <p:nvPr/>
          </p:nvSpPr>
          <p:spPr>
            <a:xfrm flipH="1" rot="20609400">
              <a:off x="10865520" y="2342880"/>
              <a:ext cx="2106000" cy="1730160"/>
            </a:xfrm>
            <a:custGeom>
              <a:avLst/>
              <a:gdLst/>
              <a:ahLst/>
              <a:rect l="l" t="t" r="r" b="b"/>
              <a:pathLst>
                <a:path w="22712" h="23880">
                  <a:moveTo>
                    <a:pt x="11356" y="0"/>
                  </a:moveTo>
                  <a:lnTo>
                    <a:pt x="14693" y="7110"/>
                  </a:lnTo>
                  <a:lnTo>
                    <a:pt x="22156" y="8250"/>
                  </a:lnTo>
                  <a:lnTo>
                    <a:pt x="16756" y="13785"/>
                  </a:lnTo>
                  <a:lnTo>
                    <a:pt x="18031" y="21600"/>
                  </a:lnTo>
                  <a:lnTo>
                    <a:pt x="11356" y="17910"/>
                  </a:lnTo>
                  <a:lnTo>
                    <a:pt x="4681" y="21600"/>
                  </a:lnTo>
                  <a:lnTo>
                    <a:pt x="5956" y="13785"/>
                  </a:lnTo>
                  <a:lnTo>
                    <a:pt x="556" y="8250"/>
                  </a:lnTo>
                  <a:lnTo>
                    <a:pt x="8019" y="7110"/>
                  </a:lnTo>
                  <a:lnTo>
                    <a:pt x="11356" y="0"/>
                  </a:lnTo>
                  <a:close/>
                  <a:moveTo>
                    <a:pt x="11356" y="0"/>
                  </a:moveTo>
                </a:path>
              </a:pathLst>
            </a:custGeom>
            <a:solidFill>
              <a:srgbClr val="354866"/>
            </a:solidFill>
            <a:ln w="255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4600" spc="-1" strike="noStrike">
                <a:solidFill>
                  <a:srgbClr val="595959"/>
                </a:solidFill>
                <a:latin typeface="Cambria"/>
              </a:endParaRPr>
            </a:p>
          </p:txBody>
        </p:sp>
      </p:grpSp>
      <p:grpSp>
        <p:nvGrpSpPr>
          <p:cNvPr id="171" name="Group 6"/>
          <p:cNvGrpSpPr/>
          <p:nvPr/>
        </p:nvGrpSpPr>
        <p:grpSpPr>
          <a:xfrm>
            <a:off x="8508240" y="-190440"/>
            <a:ext cx="2827080" cy="6357960"/>
            <a:chOff x="8508240" y="-190440"/>
            <a:chExt cx="2827080" cy="6357960"/>
          </a:xfrm>
        </p:grpSpPr>
        <p:sp>
          <p:nvSpPr>
            <p:cNvPr id="172" name="Line 4"/>
            <p:cNvSpPr/>
            <p:nvPr/>
          </p:nvSpPr>
          <p:spPr>
            <a:xfrm>
              <a:off x="9950760" y="-190440"/>
              <a:ext cx="0" cy="4889880"/>
            </a:xfrm>
            <a:prstGeom prst="line">
              <a:avLst/>
            </a:prstGeom>
            <a:ln w="50760">
              <a:solidFill>
                <a:srgbClr val="5448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4600" spc="-1" strike="noStrike">
                <a:solidFill>
                  <a:srgbClr val="595959"/>
                </a:solidFill>
                <a:latin typeface="Cambria"/>
              </a:endParaRPr>
            </a:p>
          </p:txBody>
        </p:sp>
        <p:sp>
          <p:nvSpPr>
            <p:cNvPr id="173" name="AutoShape 5"/>
            <p:cNvSpPr/>
            <p:nvPr/>
          </p:nvSpPr>
          <p:spPr>
            <a:xfrm flipH="1" rot="18007800">
              <a:off x="9047520" y="3718440"/>
              <a:ext cx="1747440" cy="2254320"/>
            </a:xfrm>
            <a:custGeom>
              <a:avLst/>
              <a:gdLst/>
              <a:ahLst/>
              <a:rect l="l" t="t" r="r" b="b"/>
              <a:pathLst>
                <a:path w="22712" h="23880">
                  <a:moveTo>
                    <a:pt x="11356" y="0"/>
                  </a:moveTo>
                  <a:lnTo>
                    <a:pt x="14693" y="7110"/>
                  </a:lnTo>
                  <a:lnTo>
                    <a:pt x="22156" y="8250"/>
                  </a:lnTo>
                  <a:lnTo>
                    <a:pt x="16756" y="13785"/>
                  </a:lnTo>
                  <a:lnTo>
                    <a:pt x="18031" y="21600"/>
                  </a:lnTo>
                  <a:lnTo>
                    <a:pt x="11356" y="17910"/>
                  </a:lnTo>
                  <a:lnTo>
                    <a:pt x="4681" y="21600"/>
                  </a:lnTo>
                  <a:lnTo>
                    <a:pt x="5956" y="13785"/>
                  </a:lnTo>
                  <a:lnTo>
                    <a:pt x="556" y="8250"/>
                  </a:lnTo>
                  <a:lnTo>
                    <a:pt x="8019" y="7110"/>
                  </a:lnTo>
                  <a:lnTo>
                    <a:pt x="11356" y="0"/>
                  </a:lnTo>
                  <a:close/>
                  <a:moveTo>
                    <a:pt x="11356" y="0"/>
                  </a:moveTo>
                </a:path>
              </a:pathLst>
            </a:custGeom>
            <a:solidFill>
              <a:srgbClr val="544865"/>
            </a:solidFill>
            <a:ln w="255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4600" spc="-1" strike="noStrike">
                <a:solidFill>
                  <a:srgbClr val="595959"/>
                </a:solidFill>
                <a:latin typeface="Cambria"/>
              </a:endParaRPr>
            </a:p>
          </p:txBody>
        </p:sp>
      </p:grpSp>
      <p:grpSp>
        <p:nvGrpSpPr>
          <p:cNvPr id="174" name="Group 9"/>
          <p:cNvGrpSpPr/>
          <p:nvPr/>
        </p:nvGrpSpPr>
        <p:grpSpPr>
          <a:xfrm>
            <a:off x="6495840" y="-851040"/>
            <a:ext cx="2584800" cy="5445720"/>
            <a:chOff x="6495840" y="-851040"/>
            <a:chExt cx="2584800" cy="5445720"/>
          </a:xfrm>
        </p:grpSpPr>
        <p:sp>
          <p:nvSpPr>
            <p:cNvPr id="175" name="Line 7"/>
            <p:cNvSpPr/>
            <p:nvPr/>
          </p:nvSpPr>
          <p:spPr>
            <a:xfrm>
              <a:off x="7827480" y="-851040"/>
              <a:ext cx="0" cy="4212000"/>
            </a:xfrm>
            <a:prstGeom prst="line">
              <a:avLst/>
            </a:prstGeom>
            <a:ln w="50760">
              <a:solidFill>
                <a:srgbClr val="9a56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4600" spc="-1" strike="noStrike">
                <a:solidFill>
                  <a:srgbClr val="595959"/>
                </a:solidFill>
                <a:latin typeface="Cambria"/>
              </a:endParaRPr>
            </a:p>
          </p:txBody>
        </p:sp>
        <p:sp>
          <p:nvSpPr>
            <p:cNvPr id="176" name="AutoShape 8"/>
            <p:cNvSpPr/>
            <p:nvPr/>
          </p:nvSpPr>
          <p:spPr>
            <a:xfrm flipH="1" rot="20609400">
              <a:off x="6694560" y="2602440"/>
              <a:ext cx="2187000" cy="1716840"/>
            </a:xfrm>
            <a:custGeom>
              <a:avLst/>
              <a:gdLst/>
              <a:ahLst/>
              <a:rect l="l" t="t" r="r" b="b"/>
              <a:pathLst>
                <a:path w="22712" h="23880">
                  <a:moveTo>
                    <a:pt x="11356" y="0"/>
                  </a:moveTo>
                  <a:lnTo>
                    <a:pt x="14693" y="7110"/>
                  </a:lnTo>
                  <a:lnTo>
                    <a:pt x="22156" y="8250"/>
                  </a:lnTo>
                  <a:lnTo>
                    <a:pt x="16756" y="13785"/>
                  </a:lnTo>
                  <a:lnTo>
                    <a:pt x="18031" y="21600"/>
                  </a:lnTo>
                  <a:lnTo>
                    <a:pt x="11356" y="17910"/>
                  </a:lnTo>
                  <a:lnTo>
                    <a:pt x="4681" y="21600"/>
                  </a:lnTo>
                  <a:lnTo>
                    <a:pt x="5956" y="13785"/>
                  </a:lnTo>
                  <a:lnTo>
                    <a:pt x="556" y="8250"/>
                  </a:lnTo>
                  <a:lnTo>
                    <a:pt x="8019" y="7110"/>
                  </a:lnTo>
                  <a:lnTo>
                    <a:pt x="11356" y="0"/>
                  </a:lnTo>
                  <a:close/>
                  <a:moveTo>
                    <a:pt x="11356" y="0"/>
                  </a:moveTo>
                </a:path>
              </a:pathLst>
            </a:custGeom>
            <a:solidFill>
              <a:srgbClr val="9a566e"/>
            </a:solidFill>
            <a:ln w="255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4600" spc="-1" strike="noStrike">
                <a:solidFill>
                  <a:srgbClr val="595959"/>
                </a:solidFill>
                <a:latin typeface="Cambria"/>
              </a:endParaRPr>
            </a:p>
          </p:txBody>
        </p:sp>
      </p:grpSp>
      <p:grpSp>
        <p:nvGrpSpPr>
          <p:cNvPr id="177" name="Group 12"/>
          <p:cNvGrpSpPr/>
          <p:nvPr/>
        </p:nvGrpSpPr>
        <p:grpSpPr>
          <a:xfrm>
            <a:off x="4213440" y="-1727280"/>
            <a:ext cx="2829240" cy="5981040"/>
            <a:chOff x="4213440" y="-1727280"/>
            <a:chExt cx="2829240" cy="5981040"/>
          </a:xfrm>
        </p:grpSpPr>
        <p:sp>
          <p:nvSpPr>
            <p:cNvPr id="178" name="Line 10"/>
            <p:cNvSpPr/>
            <p:nvPr/>
          </p:nvSpPr>
          <p:spPr>
            <a:xfrm>
              <a:off x="5687280" y="-1727280"/>
              <a:ext cx="0" cy="4293720"/>
            </a:xfrm>
            <a:prstGeom prst="line">
              <a:avLst/>
            </a:prstGeom>
            <a:ln w="50760">
              <a:solidFill>
                <a:srgbClr val="cf5a6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4600" spc="-1" strike="noStrike">
                <a:solidFill>
                  <a:srgbClr val="595959"/>
                </a:solidFill>
                <a:latin typeface="Cambria"/>
              </a:endParaRPr>
            </a:p>
          </p:txBody>
        </p:sp>
        <p:sp>
          <p:nvSpPr>
            <p:cNvPr id="179" name="AutoShape 11"/>
            <p:cNvSpPr/>
            <p:nvPr/>
          </p:nvSpPr>
          <p:spPr>
            <a:xfrm flipH="1" rot="3215400">
              <a:off x="4779720" y="1766880"/>
              <a:ext cx="1695240" cy="2265120"/>
            </a:xfrm>
            <a:custGeom>
              <a:avLst/>
              <a:gdLst/>
              <a:ahLst/>
              <a:rect l="l" t="t" r="r" b="b"/>
              <a:pathLst>
                <a:path w="22712" h="23880">
                  <a:moveTo>
                    <a:pt x="11356" y="0"/>
                  </a:moveTo>
                  <a:lnTo>
                    <a:pt x="14693" y="7110"/>
                  </a:lnTo>
                  <a:lnTo>
                    <a:pt x="22156" y="8250"/>
                  </a:lnTo>
                  <a:lnTo>
                    <a:pt x="16756" y="13785"/>
                  </a:lnTo>
                  <a:lnTo>
                    <a:pt x="18031" y="21600"/>
                  </a:lnTo>
                  <a:lnTo>
                    <a:pt x="11356" y="17910"/>
                  </a:lnTo>
                  <a:lnTo>
                    <a:pt x="4681" y="21600"/>
                  </a:lnTo>
                  <a:lnTo>
                    <a:pt x="5956" y="13785"/>
                  </a:lnTo>
                  <a:lnTo>
                    <a:pt x="556" y="8250"/>
                  </a:lnTo>
                  <a:lnTo>
                    <a:pt x="8019" y="7110"/>
                  </a:lnTo>
                  <a:lnTo>
                    <a:pt x="11356" y="0"/>
                  </a:lnTo>
                  <a:close/>
                  <a:moveTo>
                    <a:pt x="11356" y="0"/>
                  </a:moveTo>
                </a:path>
              </a:pathLst>
            </a:custGeom>
            <a:solidFill>
              <a:srgbClr val="cf5a6a"/>
            </a:solidFill>
            <a:ln w="255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4600" spc="-1" strike="noStrike">
                <a:solidFill>
                  <a:srgbClr val="595959"/>
                </a:solidFill>
                <a:latin typeface="Cambria"/>
              </a:endParaRPr>
            </a:p>
          </p:txBody>
        </p:sp>
      </p:grpSp>
      <p:grpSp>
        <p:nvGrpSpPr>
          <p:cNvPr id="180" name="Group 15"/>
          <p:cNvGrpSpPr/>
          <p:nvPr/>
        </p:nvGrpSpPr>
        <p:grpSpPr>
          <a:xfrm>
            <a:off x="2338920" y="-355680"/>
            <a:ext cx="2871000" cy="5994360"/>
            <a:chOff x="2338920" y="-355680"/>
            <a:chExt cx="2871000" cy="5994360"/>
          </a:xfrm>
        </p:grpSpPr>
        <p:sp>
          <p:nvSpPr>
            <p:cNvPr id="181" name="Line 13"/>
            <p:cNvSpPr/>
            <p:nvPr/>
          </p:nvSpPr>
          <p:spPr>
            <a:xfrm>
              <a:off x="3831840" y="-355680"/>
              <a:ext cx="0" cy="4996800"/>
            </a:xfrm>
            <a:prstGeom prst="line">
              <a:avLst/>
            </a:prstGeom>
            <a:ln w="50760">
              <a:solidFill>
                <a:srgbClr val="fcae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4600" spc="-1" strike="noStrike">
                <a:solidFill>
                  <a:srgbClr val="595959"/>
                </a:solidFill>
                <a:latin typeface="Cambria"/>
              </a:endParaRPr>
            </a:p>
          </p:txBody>
        </p:sp>
        <p:sp>
          <p:nvSpPr>
            <p:cNvPr id="182" name="AutoShape 14"/>
            <p:cNvSpPr/>
            <p:nvPr/>
          </p:nvSpPr>
          <p:spPr>
            <a:xfrm flipH="1" rot="1591200">
              <a:off x="2603880" y="3466440"/>
              <a:ext cx="2339640" cy="1741320"/>
            </a:xfrm>
            <a:custGeom>
              <a:avLst/>
              <a:gdLst/>
              <a:ahLst/>
              <a:rect l="l" t="t" r="r" b="b"/>
              <a:pathLst>
                <a:path w="22712" h="23880">
                  <a:moveTo>
                    <a:pt x="11356" y="0"/>
                  </a:moveTo>
                  <a:lnTo>
                    <a:pt x="14693" y="7110"/>
                  </a:lnTo>
                  <a:lnTo>
                    <a:pt x="22156" y="8250"/>
                  </a:lnTo>
                  <a:lnTo>
                    <a:pt x="16756" y="13785"/>
                  </a:lnTo>
                  <a:lnTo>
                    <a:pt x="18031" y="21600"/>
                  </a:lnTo>
                  <a:lnTo>
                    <a:pt x="11356" y="17910"/>
                  </a:lnTo>
                  <a:lnTo>
                    <a:pt x="4681" y="21600"/>
                  </a:lnTo>
                  <a:lnTo>
                    <a:pt x="5956" y="13785"/>
                  </a:lnTo>
                  <a:lnTo>
                    <a:pt x="556" y="8250"/>
                  </a:lnTo>
                  <a:lnTo>
                    <a:pt x="8019" y="7110"/>
                  </a:lnTo>
                  <a:lnTo>
                    <a:pt x="11356" y="0"/>
                  </a:lnTo>
                  <a:close/>
                  <a:moveTo>
                    <a:pt x="11356" y="0"/>
                  </a:moveTo>
                </a:path>
              </a:pathLst>
            </a:custGeom>
            <a:solidFill>
              <a:srgbClr val="fcae54"/>
            </a:solidFill>
            <a:ln w="255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4600" spc="-1" strike="noStrike">
                <a:solidFill>
                  <a:srgbClr val="595959"/>
                </a:solidFill>
                <a:latin typeface="Cambria"/>
              </a:endParaRPr>
            </a:p>
          </p:txBody>
        </p:sp>
      </p:grpSp>
      <p:sp>
        <p:nvSpPr>
          <p:cNvPr id="183" name="Rectangle 16"/>
          <p:cNvSpPr/>
          <p:nvPr/>
        </p:nvSpPr>
        <p:spPr>
          <a:xfrm>
            <a:off x="1060560" y="5819760"/>
            <a:ext cx="14141520" cy="22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mbria"/>
                <a:ea typeface="ＭＳ Ｐゴシック"/>
              </a:rPr>
              <a:t>Death is something inevitable. When a man has done what he considers to be his duty to his people and his country, he can rest in peace. I believe I have made that effort and that is, therefore, why I will sleep for the eternity.</a:t>
            </a:r>
            <a:endParaRPr b="0" lang="en-US" sz="3600" spc="-1" strike="noStrike">
              <a:solidFill>
                <a:srgbClr val="595959"/>
              </a:solidFill>
              <a:latin typeface="Cambria"/>
            </a:endParaRPr>
          </a:p>
        </p:txBody>
      </p:sp>
    </p:spTree>
  </p:cSld>
  <p:transition spd="slow">
    <p:push dir="l"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0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1" nodeType="afterEffect" fill="hold" presetClass="entr" presetID="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06" nodeType="afterEffect" fill="hold" presetClass="entr" presetID="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11" nodeType="afterEffect" fill="hold" presetClass="entr" presetID="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16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1"/>
          <p:cNvSpPr/>
          <p:nvPr/>
        </p:nvSpPr>
        <p:spPr>
          <a:xfrm>
            <a:off x="2044800" y="2438280"/>
            <a:ext cx="1215072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dcdcd"/>
                </a:solidFill>
                <a:latin typeface="Lora Bold"/>
                <a:ea typeface="ＭＳ Ｐゴシック"/>
              </a:rPr>
              <a:t>Visit</a:t>
            </a:r>
            <a:r>
              <a:rPr b="0" lang="en-US" sz="4800" spc="-1" strike="noStrike">
                <a:solidFill>
                  <a:srgbClr val="676767"/>
                </a:solidFill>
                <a:latin typeface="Lora Bold"/>
                <a:ea typeface="ＭＳ Ｐゴシック"/>
              </a:rPr>
              <a:t> </a:t>
            </a:r>
            <a:r>
              <a:rPr b="0" lang="en-US" sz="4800" spc="-1" strike="noStrike">
                <a:solidFill>
                  <a:srgbClr val="9ab737"/>
                </a:solidFill>
                <a:latin typeface="Lora Bold"/>
                <a:ea typeface="ＭＳ Ｐゴシック"/>
              </a:rPr>
              <a:t>bestpowerpointtemplates.com</a:t>
            </a:r>
            <a:r>
              <a:rPr b="0" lang="en-US" sz="4800" spc="-1" strike="noStrike">
                <a:solidFill>
                  <a:srgbClr val="676767"/>
                </a:solidFill>
                <a:latin typeface="Lora Bold"/>
                <a:ea typeface="ＭＳ Ｐゴシック"/>
              </a:rPr>
              <a:t> </a:t>
            </a:r>
            <a:endParaRPr b="0" lang="en-US" sz="4800" spc="-1" strike="noStrike">
              <a:solidFill>
                <a:srgbClr val="595959"/>
              </a:solidFill>
              <a:latin typeface="Cambr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6e6e6"/>
                </a:solidFill>
                <a:latin typeface="Lora Bold"/>
                <a:ea typeface="ＭＳ Ｐゴシック"/>
              </a:rPr>
              <a:t>for more</a:t>
            </a:r>
            <a:r>
              <a:rPr b="0" lang="en-US" sz="4800" spc="-1" strike="noStrike">
                <a:solidFill>
                  <a:srgbClr val="676767"/>
                </a:solidFill>
                <a:latin typeface="Lora Bold"/>
                <a:ea typeface="ＭＳ Ｐゴシック"/>
              </a:rPr>
              <a:t> </a:t>
            </a:r>
            <a:r>
              <a:rPr b="0" lang="en-US" sz="4800" spc="-1" strike="noStrike">
                <a:solidFill>
                  <a:srgbClr val="fa8c31"/>
                </a:solidFill>
                <a:latin typeface="Lora Bold"/>
                <a:ea typeface="ＭＳ Ｐゴシック"/>
              </a:rPr>
              <a:t>free</a:t>
            </a:r>
            <a:r>
              <a:rPr b="0" lang="en-US" sz="4800" spc="-1" strike="noStrike">
                <a:solidFill>
                  <a:srgbClr val="676767"/>
                </a:solidFill>
                <a:latin typeface="Lora Bold"/>
                <a:ea typeface="ＭＳ Ｐゴシック"/>
              </a:rPr>
              <a:t> </a:t>
            </a:r>
            <a:r>
              <a:rPr b="0" lang="en-US" sz="4800" spc="-1" strike="noStrike">
                <a:solidFill>
                  <a:srgbClr val="e6e6e6"/>
                </a:solidFill>
                <a:latin typeface="Lora Bold"/>
                <a:ea typeface="ＭＳ Ｐゴシック"/>
              </a:rPr>
              <a:t>resources!</a:t>
            </a:r>
            <a:endParaRPr b="0" lang="en-US" sz="48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85" name="Rectangle 2"/>
          <p:cNvSpPr/>
          <p:nvPr/>
        </p:nvSpPr>
        <p:spPr>
          <a:xfrm>
            <a:off x="5367600" y="6095880"/>
            <a:ext cx="55177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mbria"/>
                <a:ea typeface="ＭＳ Ｐゴシック"/>
              </a:rPr>
              <a:t>Color Scheme: </a:t>
            </a:r>
            <a:r>
              <a:rPr b="0" lang="en-US" sz="3600" spc="-1" strike="noStrike">
                <a:solidFill>
                  <a:srgbClr val="ffffff"/>
                </a:solidFill>
                <a:latin typeface="Cambria Bold"/>
                <a:ea typeface="ＭＳ Ｐゴシック"/>
              </a:rPr>
              <a:t>Warm Colors</a:t>
            </a:r>
            <a:endParaRPr b="0" lang="en-US" sz="36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6155280" y="5397480"/>
            <a:ext cx="39294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mbria"/>
                <a:ea typeface="ＭＳ Ｐゴシック"/>
              </a:rPr>
              <a:t>Font Used: </a:t>
            </a:r>
            <a:r>
              <a:rPr b="0" lang="en-US" sz="3600" spc="-1" strike="noStrike">
                <a:solidFill>
                  <a:srgbClr val="ffffff"/>
                </a:solidFill>
                <a:latin typeface="Cambria Bold"/>
                <a:ea typeface="ＭＳ Ｐゴシック"/>
              </a:rPr>
              <a:t>Cambria</a:t>
            </a:r>
            <a:endParaRPr b="0" lang="en-US" sz="3600" spc="-1" strike="noStrike">
              <a:solidFill>
                <a:srgbClr val="595959"/>
              </a:solidFill>
              <a:latin typeface="Cambria"/>
            </a:endParaRPr>
          </a:p>
        </p:txBody>
      </p:sp>
      <p:grpSp>
        <p:nvGrpSpPr>
          <p:cNvPr id="187" name="Group 9"/>
          <p:cNvGrpSpPr/>
          <p:nvPr/>
        </p:nvGrpSpPr>
        <p:grpSpPr>
          <a:xfrm>
            <a:off x="5846760" y="6794640"/>
            <a:ext cx="4572000" cy="787320"/>
            <a:chOff x="5846760" y="6794640"/>
            <a:chExt cx="4572000" cy="787320"/>
          </a:xfrm>
        </p:grpSpPr>
        <p:sp>
          <p:nvSpPr>
            <p:cNvPr id="188" name="Rectangle 4"/>
            <p:cNvSpPr/>
            <p:nvPr/>
          </p:nvSpPr>
          <p:spPr>
            <a:xfrm>
              <a:off x="5846760" y="6794640"/>
              <a:ext cx="914400" cy="787320"/>
            </a:xfrm>
            <a:prstGeom prst="rect">
              <a:avLst/>
            </a:prstGeom>
            <a:solidFill>
              <a:srgbClr val="fcae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600" spc="-1" strike="noStrike">
                <a:solidFill>
                  <a:srgbClr val="595959"/>
                </a:solidFill>
                <a:latin typeface="Cambria"/>
              </a:endParaRPr>
            </a:p>
          </p:txBody>
        </p:sp>
        <p:sp>
          <p:nvSpPr>
            <p:cNvPr id="189" name="Rectangle 5"/>
            <p:cNvSpPr/>
            <p:nvPr/>
          </p:nvSpPr>
          <p:spPr>
            <a:xfrm>
              <a:off x="6761160" y="6794640"/>
              <a:ext cx="914400" cy="787320"/>
            </a:xfrm>
            <a:prstGeom prst="rect">
              <a:avLst/>
            </a:prstGeom>
            <a:solidFill>
              <a:srgbClr val="cf5a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600" spc="-1" strike="noStrike">
                <a:solidFill>
                  <a:srgbClr val="595959"/>
                </a:solidFill>
                <a:latin typeface="Cambria"/>
              </a:endParaRPr>
            </a:p>
          </p:txBody>
        </p:sp>
        <p:sp>
          <p:nvSpPr>
            <p:cNvPr id="190" name="Rectangle 6"/>
            <p:cNvSpPr/>
            <p:nvPr/>
          </p:nvSpPr>
          <p:spPr>
            <a:xfrm>
              <a:off x="7675560" y="6794640"/>
              <a:ext cx="914400" cy="787320"/>
            </a:xfrm>
            <a:prstGeom prst="rect">
              <a:avLst/>
            </a:prstGeom>
            <a:solidFill>
              <a:srgbClr val="9a56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600" spc="-1" strike="noStrike">
                <a:solidFill>
                  <a:srgbClr val="595959"/>
                </a:solidFill>
                <a:latin typeface="Cambria"/>
              </a:endParaRPr>
            </a:p>
          </p:txBody>
        </p:sp>
        <p:sp>
          <p:nvSpPr>
            <p:cNvPr id="191" name="Rectangle 7"/>
            <p:cNvSpPr/>
            <p:nvPr/>
          </p:nvSpPr>
          <p:spPr>
            <a:xfrm>
              <a:off x="8589960" y="6794640"/>
              <a:ext cx="914400" cy="787320"/>
            </a:xfrm>
            <a:prstGeom prst="rect">
              <a:avLst/>
            </a:prstGeom>
            <a:solidFill>
              <a:srgbClr val="5448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600" spc="-1" strike="noStrike">
                <a:solidFill>
                  <a:srgbClr val="595959"/>
                </a:solidFill>
                <a:latin typeface="Cambria"/>
              </a:endParaRPr>
            </a:p>
          </p:txBody>
        </p:sp>
        <p:sp>
          <p:nvSpPr>
            <p:cNvPr id="192" name="Rectangle 8"/>
            <p:cNvSpPr/>
            <p:nvPr/>
          </p:nvSpPr>
          <p:spPr>
            <a:xfrm>
              <a:off x="9504360" y="6794640"/>
              <a:ext cx="914400" cy="787320"/>
            </a:xfrm>
            <a:prstGeom prst="rect">
              <a:avLst/>
            </a:prstGeom>
            <a:solidFill>
              <a:srgbClr val="354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600" spc="-1" strike="noStrike">
                <a:solidFill>
                  <a:srgbClr val="595959"/>
                </a:solidFill>
                <a:latin typeface="Cambria"/>
              </a:endParaRPr>
            </a:p>
          </p:txBody>
        </p:sp>
      </p:grpSp>
    </p:spTree>
  </p:cSld>
  <p:transition spd="slow">
    <p:push dir="l"/>
  </p:transition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0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Rastas Mano</cp:lastModifiedBy>
  <dcterms:modified xsi:type="dcterms:W3CDTF">2017-11-10T22:17:34Z</dcterms:modified>
  <cp:revision>1</cp:revision>
  <dc:subject/>
  <dc:title>PowerPoint Presentation</dc:title>
</cp:coreProperties>
</file>