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1126476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63280" y="5906880"/>
            <a:ext cx="1126476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5520" y="17002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63280" y="59068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5520" y="59068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362700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080" y="1700280"/>
            <a:ext cx="362700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80880" y="1700280"/>
            <a:ext cx="362700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63280" y="5906880"/>
            <a:ext cx="362700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72080" y="5906880"/>
            <a:ext cx="362700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80880" y="5906880"/>
            <a:ext cx="362700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4F2F9-1EA5-423A-B207-A25ED3042F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63280" y="1700280"/>
            <a:ext cx="11264760" cy="80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904B-06B1-49D1-AAD9-ACA28F792D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11264760" cy="805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8D15E-EB68-4F88-ABB8-4175F9216D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5496840" cy="805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5520" y="1700280"/>
            <a:ext cx="5496840" cy="805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37A68-B95D-4CF1-9DDF-99E99AD006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806ED-28AB-4987-8661-C5696812E2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63280" y="-360"/>
            <a:ext cx="112647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667F8-80B6-4392-AB6B-CB7E777257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5520" y="1700280"/>
            <a:ext cx="5496840" cy="805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63280" y="59068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E3ACC-D49E-481C-95E3-BE383F5262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63280" y="1700280"/>
            <a:ext cx="11264760" cy="80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5496840" cy="805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5520" y="17002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5520" y="59068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D29CF-A556-40AA-A700-3D2C24BE52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5520" y="17002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63280" y="5906880"/>
            <a:ext cx="1126476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7930-0B76-4DB2-A448-DDE7ED51B4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1126476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63280" y="5906880"/>
            <a:ext cx="1126476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D9822-CA98-466D-9AD2-9FC6853F15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5520" y="17002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63280" y="59068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5520" y="59068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0A343-7CEA-434C-864E-C7D5852F94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362700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1700280"/>
            <a:ext cx="362700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80880" y="1700280"/>
            <a:ext cx="362700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63280" y="5906880"/>
            <a:ext cx="362700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72080" y="5906880"/>
            <a:ext cx="362700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480880" y="5906880"/>
            <a:ext cx="362700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A6F96-DB72-4DDF-876E-CAE5C689E5B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3770B-BC66-418F-B181-950102E9A8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63280" y="1700280"/>
            <a:ext cx="11264760" cy="80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83B02-A398-4065-90FB-92F8F2A7E32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11264760" cy="805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566DA-6773-4549-AD09-897FEEAC4F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5496840" cy="805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35520" y="1700280"/>
            <a:ext cx="5496840" cy="805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F0B06-1E6B-4C76-8C65-92771422DC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B30B9-021D-4FD2-BB30-44DC54C35C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11264760" cy="805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863280" y="-360"/>
            <a:ext cx="112647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EC6A0-BB37-4CFF-84AF-9392F6591B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5520" y="1700280"/>
            <a:ext cx="5496840" cy="805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63280" y="59068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DEE83-C1CC-42A8-99EE-E1823F3981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5496840" cy="805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5520" y="17002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5520" y="59068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52115-865E-4A8A-BDB1-0E6865F46F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35520" y="17002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63280" y="5906880"/>
            <a:ext cx="1126476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418BE-580C-41DD-A62D-129C4EB8C0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1126476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63280" y="5906880"/>
            <a:ext cx="1126476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DA954-C270-4D27-AC49-8F313F6324C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35520" y="17002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63280" y="59068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35520" y="59068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88516-5E5E-430E-8668-0C36270EF7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362700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2080" y="1700280"/>
            <a:ext cx="362700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480880" y="1700280"/>
            <a:ext cx="362700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63280" y="5906880"/>
            <a:ext cx="362700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72080" y="5906880"/>
            <a:ext cx="362700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480880" y="5906880"/>
            <a:ext cx="362700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FA592-E8FB-4733-8B42-38D40496295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89D5-E383-45E6-97D5-C34B1EC77A3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63280" y="1700280"/>
            <a:ext cx="11264760" cy="80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9574-7C6F-4F62-B80F-B82BBDE9D64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11264760" cy="805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5076-D022-4BE8-ACE5-87011ED45F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5496840" cy="805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5520" y="1700280"/>
            <a:ext cx="5496840" cy="805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5496840" cy="805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5520" y="1700280"/>
            <a:ext cx="5496840" cy="805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1BA2-9122-4794-A898-0939E25C533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FF75-DB41-4DD7-9F01-F597E3E87E4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63280" y="-360"/>
            <a:ext cx="112647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BF33-6B7F-4D6A-9553-D31DBB42BB5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5520" y="1700280"/>
            <a:ext cx="5496840" cy="805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63280" y="59068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B456-BC05-49F8-A90B-F0F389BCAC5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5496840" cy="805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5520" y="17002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35520" y="59068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127D-C889-4059-AFA1-4245DF051F0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35520" y="17002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63280" y="5906880"/>
            <a:ext cx="1126476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3EDC-8564-46F1-8E13-95DF2D64BEF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1126476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63280" y="5906880"/>
            <a:ext cx="1126476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96A7-FBB0-4C8E-A4B0-20BF73CDFB9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35520" y="17002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63280" y="59068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35520" y="59068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371D-CD32-42CE-9F3F-D07DCDA7AA1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362700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2080" y="1700280"/>
            <a:ext cx="362700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480880" y="1700280"/>
            <a:ext cx="362700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63280" y="5906880"/>
            <a:ext cx="362700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672080" y="5906880"/>
            <a:ext cx="362700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480880" y="5906880"/>
            <a:ext cx="362700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FCDF-E0A2-46E1-B4F4-19CE74214F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63280" y="-360"/>
            <a:ext cx="112647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5520" y="1700280"/>
            <a:ext cx="5496840" cy="805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63280" y="59068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5496840" cy="805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5520" y="17002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5520" y="59068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5520" y="1700280"/>
            <a:ext cx="549684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63280" y="5906880"/>
            <a:ext cx="11264760" cy="38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51280" y="-1168560"/>
            <a:ext cx="7746840" cy="599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Palatino Bold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Palatino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51280" y="4848120"/>
            <a:ext cx="7746840" cy="490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Palatino Bold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Palatino Bold"/>
            </a:endParaRPr>
          </a:p>
          <a:p>
            <a:pPr lvl="1" marL="266760">
              <a:spcBef>
                <a:spcPts val="1100"/>
              </a:spcBef>
              <a:buClr>
                <a:srgbClr val="000000"/>
              </a:buClr>
              <a:buFont typeface="Palatino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Palatino Bold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Palatino Bold"/>
            </a:endParaRPr>
          </a:p>
          <a:p>
            <a:pPr lvl="2" marL="914400">
              <a:spcBef>
                <a:spcPts val="1100"/>
              </a:spcBef>
              <a:buClr>
                <a:srgbClr val="000000"/>
              </a:buClr>
              <a:buFont typeface="Palatino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Palatino Bold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Palatino Bold"/>
            </a:endParaRPr>
          </a:p>
          <a:p>
            <a:pPr lvl="3" marL="1562040">
              <a:spcBef>
                <a:spcPts val="1100"/>
              </a:spcBef>
              <a:buClr>
                <a:srgbClr val="000000"/>
              </a:buClr>
              <a:buFont typeface="Palatino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Palatino Bold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Palatino Bold"/>
            </a:endParaRPr>
          </a:p>
          <a:p>
            <a:pPr lvl="4" marL="2209680">
              <a:spcBef>
                <a:spcPts val="1100"/>
              </a:spcBef>
              <a:buClr>
                <a:srgbClr val="000000"/>
              </a:buClr>
              <a:buFont typeface="Palatino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Palatino Bold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Palatino Bold"/>
            </a:endParaRPr>
          </a:p>
          <a:p>
            <a:pPr lvl="5" marL="2209680">
              <a:spcBef>
                <a:spcPts val="1100"/>
              </a:spcBef>
              <a:buClr>
                <a:srgbClr val="000000"/>
              </a:buClr>
              <a:buFont typeface="Palatino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Palatino Bold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Palatino Bold"/>
            </a:endParaRPr>
          </a:p>
          <a:p>
            <a:pPr lvl="6" marL="2209680">
              <a:spcBef>
                <a:spcPts val="1100"/>
              </a:spcBef>
              <a:buClr>
                <a:srgbClr val="000000"/>
              </a:buClr>
              <a:buFont typeface="Palatino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Palatino Bold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Palatin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a1a1a"/>
                </a:solidFill>
                <a:latin typeface="Palatino Bold"/>
              </a:rPr>
              <a:t>Click to edit the title text format</a:t>
            </a: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863280" y="1700280"/>
            <a:ext cx="11264760" cy="805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438120" indent="-285840">
              <a:spcBef>
                <a:spcPts val="1100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838080" indent="-228600">
              <a:spcBef>
                <a:spcPts val="11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295280" indent="-228600">
              <a:spcBef>
                <a:spcPts val="11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4" marL="1752480" indent="-228600">
              <a:spcBef>
                <a:spcPts val="11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5" marL="1752480" indent="-228600">
              <a:spcBef>
                <a:spcPts val="11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6" marL="1752480" indent="-228600">
              <a:spcBef>
                <a:spcPts val="11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6356160" y="9283320"/>
            <a:ext cx="291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767"/>
                </a:solidFill>
                <a:latin typeface="Palatino Bold"/>
                <a:ea typeface="Palatino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B622-19EE-4179-B744-485D19EFDCF9}" type="slidenum">
              <a:rPr b="0" lang="en-US" sz="1400" spc="-1" strike="noStrike">
                <a:solidFill>
                  <a:srgbClr val="676767"/>
                </a:solidFill>
                <a:latin typeface="Palatino Bold"/>
                <a:ea typeface="Palatino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a1a1a"/>
                </a:solidFill>
                <a:latin typeface="Palatino Bold"/>
              </a:rPr>
              <a:t>Click to edit the title text format</a:t>
            </a: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863280" y="1700280"/>
            <a:ext cx="11264760" cy="805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438120" indent="-285840">
              <a:spcBef>
                <a:spcPts val="1100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838080" indent="-228600">
              <a:spcBef>
                <a:spcPts val="11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295280" indent="-228600">
              <a:spcBef>
                <a:spcPts val="11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4" marL="1752480" indent="-228600">
              <a:spcBef>
                <a:spcPts val="11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5" marL="1752480" indent="-228600">
              <a:spcBef>
                <a:spcPts val="11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6" marL="1752480" indent="-228600">
              <a:spcBef>
                <a:spcPts val="11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2"/>
          </p:nvPr>
        </p:nvSpPr>
        <p:spPr>
          <a:xfrm>
            <a:off x="6356160" y="9283320"/>
            <a:ext cx="291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767"/>
                </a:solidFill>
                <a:latin typeface="Palatino Bold"/>
                <a:ea typeface="Palatino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D7C7-16DE-4BF0-BFF6-2EE53EA54FE6}" type="slidenum">
              <a:rPr b="0" lang="en-US" sz="1400" spc="-1" strike="noStrike">
                <a:solidFill>
                  <a:srgbClr val="676767"/>
                </a:solidFill>
                <a:latin typeface="Palatino Bold"/>
                <a:ea typeface="Palatino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a1a1a"/>
                </a:solidFill>
                <a:latin typeface="Palatino Bold"/>
              </a:rPr>
              <a:t>Click to edit the title text format</a:t>
            </a: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63280" y="1700280"/>
            <a:ext cx="11264760" cy="805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438120" indent="-285840">
              <a:spcBef>
                <a:spcPts val="1100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838080" indent="-228600">
              <a:spcBef>
                <a:spcPts val="11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295280" indent="-228600">
              <a:spcBef>
                <a:spcPts val="11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4" marL="1752480" indent="-228600">
              <a:spcBef>
                <a:spcPts val="11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5" marL="1752480" indent="-228600">
              <a:spcBef>
                <a:spcPts val="11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6" marL="1752480" indent="-228600">
              <a:spcBef>
                <a:spcPts val="11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3"/>
          </p:nvPr>
        </p:nvSpPr>
        <p:spPr>
          <a:xfrm>
            <a:off x="6356160" y="9283320"/>
            <a:ext cx="291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767"/>
                </a:solidFill>
                <a:latin typeface="Palatino Bold"/>
                <a:ea typeface="Palatino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7AE2-0FB9-4F58-9510-D4B6CDA2BE92}" type="slidenum">
              <a:rPr b="0" lang="en-US" sz="1400" spc="-1" strike="noStrike">
                <a:solidFill>
                  <a:srgbClr val="676767"/>
                </a:solidFill>
                <a:latin typeface="Palatino Bold"/>
                <a:ea typeface="Palatino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5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095560" y="2844720"/>
            <a:ext cx="3378240" cy="38102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651280" y="-1168560"/>
            <a:ext cx="7746840" cy="599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Palatino Bold"/>
              </a:rPr>
              <a:t>Cartoon Theme</a:t>
            </a:r>
            <a:endParaRPr b="0" lang="en-US" sz="5600" spc="-1" strike="noStrike">
              <a:solidFill>
                <a:srgbClr val="000000"/>
              </a:solidFill>
              <a:latin typeface="Palatino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51280" y="4848120"/>
            <a:ext cx="7746840" cy="490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Palatino Bold"/>
              </a:rPr>
              <a:t>Insert subtitle here</a:t>
            </a:r>
            <a:endParaRPr b="0" lang="en-US" sz="3400" spc="-1" strike="noStrike">
              <a:solidFill>
                <a:srgbClr val="000000"/>
              </a:solidFill>
              <a:latin typeface="Palatino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730920" y="1320840"/>
            <a:ext cx="5689800" cy="43178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77880" y="9298080"/>
            <a:ext cx="5486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y Presentation Design</a:t>
            </a: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0071000" y="7785000"/>
            <a:ext cx="2667240" cy="18543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a1a1a"/>
                </a:solidFill>
                <a:latin typeface="Palatino Bold"/>
              </a:rPr>
              <a:t>Enter your title here</a:t>
            </a: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63640" y="1700280"/>
            <a:ext cx="5689440" cy="657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usce ac turpis quis ligula lacinia aliquet. Mauris ipsum. Nulla metus metus, ullamcorper vel, tincidunt sed, euismod in, nib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Quisque volutpat condimentum velit. Class aptent taciti sociosqu ad litora torquent per conubia nostra, per inceptos himenaeos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3" name=""/>
          <p:cNvSpPr/>
          <p:nvPr/>
        </p:nvSpPr>
        <p:spPr>
          <a:xfrm>
            <a:off x="863640" y="5816520"/>
            <a:ext cx="1127772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66760" indent="-2667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  <a:ea typeface="Palatino"/>
              </a:rPr>
              <a:t>Mac turpis quis ligula lacinia aliquet. Mauris ipsum. Nulla metus metus, ullamcorper vel, tincidunt sed, euismod in, nib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266760" indent="-2667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  <a:ea typeface="Palatino"/>
              </a:rPr>
              <a:t>Puisque volutpat condimentum velit. Class aptent taciti sociosqu ad litora torquent per conubia nostra, per inceptos himenaeos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59932-D2F1-4050-95AF-9F50F43CD2C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333440" y="2730600"/>
            <a:ext cx="2527200" cy="4317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77880" y="9298080"/>
            <a:ext cx="5486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y Presentation Design</a:t>
            </a: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0706040" y="7086600"/>
            <a:ext cx="2222640" cy="25527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a1a1a"/>
                </a:solidFill>
                <a:latin typeface="Palatino Bold"/>
              </a:rPr>
              <a:t>Enter your title here</a:t>
            </a: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343040" y="1700280"/>
            <a:ext cx="7785000" cy="8051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Curabitur tortor. Pellentesque nibh. Aenean quam. In scelerisque sem at dolor. Maecenas mattis. Sed convallis tristique sem. 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"/>
              </a:rPr>
              <a:t>Proin ut ligula vel nunc egestas porttitor. Morbi lectus risus, iaculis vel, suscipit quis, luctus non, massa. </a:t>
            </a:r>
            <a:endParaRPr b="0" lang="en-US" sz="3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usce ac turpis quis ligula lacinia aliquet. Mauris ipsum. Nulla metus metus, ullamcorper vel, tincidunt sed, euismod in, nibh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EBFCB-D34A-4D29-B736-A3E74A5B203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77880" y="9298080"/>
            <a:ext cx="5486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y Presentation Design</a:t>
            </a: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414080" y="73915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a1a1a"/>
                </a:solidFill>
                <a:latin typeface="Palatino Bold"/>
              </a:rPr>
              <a:t>Enter your title here</a:t>
            </a: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11264760" cy="6286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in ut ligula vel nunc egestas porttitor. Morbi lectus risus, iaculis vel, suscipit quis, luctus non, massa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usce ac turpis quis ligula lacinia aliquet. Mauris ipsum. Nulla metus metus, ullamcorper vel, tincidunt sed, euismod in, nibh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ulla metus metus, ullamcorper vel, tincidunt sed, euismod in, nibh. Quisque volutpat condimentum velit. Class aptent taciti sociosqu ad litora torquent per conubia nostra, per inceptos himenaeos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50760" y="5826240"/>
          <a:ext cx="9381960" cy="2679480"/>
        </p:xfrm>
        <a:graphic>
          <a:graphicData uri="http://schemas.openxmlformats.org/drawingml/2006/table">
            <a:tbl>
              <a:tblPr/>
              <a:tblGrid>
                <a:gridCol w="1876320"/>
                <a:gridCol w="1876680"/>
                <a:gridCol w="1876320"/>
                <a:gridCol w="1876320"/>
                <a:gridCol w="1876320"/>
              </a:tblGrid>
              <a:tr h="677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Century Gothic"/>
                        </a:rPr>
                        <a:t>Plan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440">
                      <a:solidFill>
                        <a:srgbClr val="cdcdcd"/>
                      </a:solidFill>
                    </a:lnL>
                    <a:lnR w="1440">
                      <a:solidFill>
                        <a:srgbClr val="cdcdcd"/>
                      </a:solidFill>
                    </a:lnR>
                    <a:lnT w="1440">
                      <a:solidFill>
                        <a:srgbClr val="cdcdcd"/>
                      </a:solidFill>
                    </a:lnT>
                    <a:lnB w="1440">
                      <a:solidFill>
                        <a:srgbClr val="cdcdcd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Century Gothic"/>
                        </a:rPr>
                        <a:t>Plan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440">
                      <a:solidFill>
                        <a:srgbClr val="cdcdcd"/>
                      </a:solidFill>
                    </a:lnL>
                    <a:lnR w="1440">
                      <a:solidFill>
                        <a:srgbClr val="cdcdcd"/>
                      </a:solidFill>
                    </a:lnR>
                    <a:lnT w="1440">
                      <a:solidFill>
                        <a:srgbClr val="cdcdcd"/>
                      </a:solidFill>
                    </a:lnT>
                    <a:lnB w="1440">
                      <a:solidFill>
                        <a:srgbClr val="cdcdcd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Century Gothic"/>
                        </a:rPr>
                        <a:t>Plan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440">
                      <a:solidFill>
                        <a:srgbClr val="cdcdcd"/>
                      </a:solidFill>
                    </a:lnL>
                    <a:lnR w="1440">
                      <a:solidFill>
                        <a:srgbClr val="cdcdcd"/>
                      </a:solidFill>
                    </a:lnR>
                    <a:lnT w="1440">
                      <a:solidFill>
                        <a:srgbClr val="cdcdcd"/>
                      </a:solidFill>
                    </a:lnT>
                    <a:lnB w="1440">
                      <a:solidFill>
                        <a:srgbClr val="cdcdcd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Century Gothic"/>
                        </a:rPr>
                        <a:t>Plan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440">
                      <a:solidFill>
                        <a:srgbClr val="cdcdcd"/>
                      </a:solidFill>
                    </a:lnL>
                    <a:lnR w="1440">
                      <a:solidFill>
                        <a:srgbClr val="cdcdcd"/>
                      </a:solidFill>
                    </a:lnR>
                    <a:lnT w="1440">
                      <a:solidFill>
                        <a:srgbClr val="cdcdcd"/>
                      </a:solidFill>
                    </a:lnT>
                    <a:lnB w="1440">
                      <a:solidFill>
                        <a:srgbClr val="cdcdcd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Century Gothic"/>
                        </a:rPr>
                        <a:t>Plan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440">
                      <a:solidFill>
                        <a:srgbClr val="cdcdcd"/>
                      </a:solidFill>
                    </a:lnL>
                    <a:lnR w="1440">
                      <a:solidFill>
                        <a:srgbClr val="cdcdcd"/>
                      </a:solidFill>
                    </a:lnR>
                    <a:lnT w="1440">
                      <a:solidFill>
                        <a:srgbClr val="cdcdcd"/>
                      </a:solidFill>
                    </a:lnT>
                    <a:lnB w="1440">
                      <a:solidFill>
                        <a:srgbClr val="cdcdcd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7128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440">
                      <a:solidFill>
                        <a:srgbClr val="cdcdcd"/>
                      </a:solidFill>
                    </a:lnL>
                    <a:lnR w="1440">
                      <a:solidFill>
                        <a:srgbClr val="cdcdcd"/>
                      </a:solidFill>
                    </a:lnR>
                    <a:lnT w="1440">
                      <a:solidFill>
                        <a:srgbClr val="cdcdcd"/>
                      </a:solidFill>
                    </a:lnT>
                    <a:lnB w="1440">
                      <a:solidFill>
                        <a:srgbClr val="cdcdcd"/>
                      </a:solidFill>
                    </a:lnB>
                    <a:solidFill>
                      <a:srgbClr val="f6fad3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F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440">
                      <a:solidFill>
                        <a:srgbClr val="cdcdcd"/>
                      </a:solidFill>
                    </a:lnL>
                    <a:lnR w="1440">
                      <a:solidFill>
                        <a:srgbClr val="cdcdcd"/>
                      </a:solidFill>
                    </a:lnR>
                    <a:lnT w="1440">
                      <a:solidFill>
                        <a:srgbClr val="cdcdcd"/>
                      </a:solidFill>
                    </a:lnT>
                    <a:lnB w="1440">
                      <a:solidFill>
                        <a:srgbClr val="cdcdc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440">
                      <a:solidFill>
                        <a:srgbClr val="cdcdcd"/>
                      </a:solidFill>
                    </a:lnL>
                    <a:lnR w="1440">
                      <a:solidFill>
                        <a:srgbClr val="cdcdcd"/>
                      </a:solidFill>
                    </a:lnR>
                    <a:lnT w="1440">
                      <a:solidFill>
                        <a:srgbClr val="cdcdcd"/>
                      </a:solidFill>
                    </a:lnT>
                    <a:lnB w="1440">
                      <a:solidFill>
                        <a:srgbClr val="cdcdc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440">
                      <a:solidFill>
                        <a:srgbClr val="cdcdcd"/>
                      </a:solidFill>
                    </a:lnL>
                    <a:lnR w="1440">
                      <a:solidFill>
                        <a:srgbClr val="cdcdcd"/>
                      </a:solidFill>
                    </a:lnR>
                    <a:lnT w="1440">
                      <a:solidFill>
                        <a:srgbClr val="cdcdcd"/>
                      </a:solidFill>
                    </a:lnT>
                    <a:lnB w="1440">
                      <a:solidFill>
                        <a:srgbClr val="cdcdc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a1a1a"/>
                          </a:solidFill>
                          <a:latin typeface="Century Gothic"/>
                          <a:ea typeface="Century Gothic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440">
                      <a:solidFill>
                        <a:srgbClr val="cdcdcd"/>
                      </a:solidFill>
                    </a:lnL>
                    <a:lnR w="1440">
                      <a:solidFill>
                        <a:srgbClr val="cdcdcd"/>
                      </a:solidFill>
                    </a:lnR>
                    <a:lnT w="1440">
                      <a:solidFill>
                        <a:srgbClr val="cdcdcd"/>
                      </a:solidFill>
                    </a:lnT>
                    <a:lnB w="1440">
                      <a:solidFill>
                        <a:srgbClr val="cdcdc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4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Fea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440">
                      <a:solidFill>
                        <a:srgbClr val="cdcdcd"/>
                      </a:solidFill>
                    </a:lnL>
                    <a:lnR w="1440">
                      <a:solidFill>
                        <a:srgbClr val="cdcdcd"/>
                      </a:solidFill>
                    </a:lnR>
                    <a:lnT w="1440">
                      <a:solidFill>
                        <a:srgbClr val="cdcdcd"/>
                      </a:solidFill>
                    </a:lnT>
                    <a:lnB w="1440">
                      <a:solidFill>
                        <a:srgbClr val="cdcdcd"/>
                      </a:solidFill>
                    </a:lnB>
                    <a:solidFill>
                      <a:srgbClr val="f6fad3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440">
                      <a:solidFill>
                        <a:srgbClr val="cdcdcd"/>
                      </a:solidFill>
                    </a:lnL>
                    <a:lnR w="1440">
                      <a:solidFill>
                        <a:srgbClr val="cdcdcd"/>
                      </a:solidFill>
                    </a:lnR>
                    <a:lnT w="1440">
                      <a:solidFill>
                        <a:srgbClr val="cdcdcd"/>
                      </a:solidFill>
                    </a:lnT>
                    <a:lnB w="1440">
                      <a:solidFill>
                        <a:srgbClr val="cdcdc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440">
                      <a:solidFill>
                        <a:srgbClr val="cdcdcd"/>
                      </a:solidFill>
                    </a:lnL>
                    <a:lnR w="1440">
                      <a:solidFill>
                        <a:srgbClr val="cdcdcd"/>
                      </a:solidFill>
                    </a:lnR>
                    <a:lnT w="1440">
                      <a:solidFill>
                        <a:srgbClr val="cdcdcd"/>
                      </a:solidFill>
                    </a:lnT>
                    <a:lnB w="1440">
                      <a:solidFill>
                        <a:srgbClr val="cdcdc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440">
                      <a:solidFill>
                        <a:srgbClr val="cdcdcd"/>
                      </a:solidFill>
                    </a:lnL>
                    <a:lnR w="1440">
                      <a:solidFill>
                        <a:srgbClr val="cdcdcd"/>
                      </a:solidFill>
                    </a:lnR>
                    <a:lnT w="1440">
                      <a:solidFill>
                        <a:srgbClr val="cdcdcd"/>
                      </a:solidFill>
                    </a:lnT>
                    <a:lnB w="1440">
                      <a:solidFill>
                        <a:srgbClr val="cdcdc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a1a1a"/>
                          </a:solidFill>
                          <a:latin typeface="Century Gothic"/>
                          <a:ea typeface="Century Gothic"/>
                        </a:rPr>
                        <a:t>unlimi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440">
                      <a:solidFill>
                        <a:srgbClr val="cdcdcd"/>
                      </a:solidFill>
                    </a:lnL>
                    <a:lnR w="1440">
                      <a:solidFill>
                        <a:srgbClr val="cdcdcd"/>
                      </a:solidFill>
                    </a:lnR>
                    <a:lnT w="1440">
                      <a:solidFill>
                        <a:srgbClr val="cdcdcd"/>
                      </a:solidFill>
                    </a:lnT>
                    <a:lnB w="1440">
                      <a:solidFill>
                        <a:srgbClr val="cdcdc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4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Extr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440">
                      <a:solidFill>
                        <a:srgbClr val="cdcdcd"/>
                      </a:solidFill>
                    </a:lnL>
                    <a:lnR w="1440">
                      <a:solidFill>
                        <a:srgbClr val="cdcdcd"/>
                      </a:solidFill>
                    </a:lnR>
                    <a:lnT w="1440">
                      <a:solidFill>
                        <a:srgbClr val="cdcdcd"/>
                      </a:solidFill>
                    </a:lnT>
                    <a:lnB w="1440">
                      <a:solidFill>
                        <a:srgbClr val="cdcdcd"/>
                      </a:solidFill>
                    </a:lnB>
                    <a:solidFill>
                      <a:srgbClr val="f6fad3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440">
                      <a:solidFill>
                        <a:srgbClr val="cdcdcd"/>
                      </a:solidFill>
                    </a:lnL>
                    <a:lnR w="1440">
                      <a:solidFill>
                        <a:srgbClr val="cdcdcd"/>
                      </a:solidFill>
                    </a:lnR>
                    <a:lnT w="1440">
                      <a:solidFill>
                        <a:srgbClr val="cdcdcd"/>
                      </a:solidFill>
                    </a:lnT>
                    <a:lnB w="1440">
                      <a:solidFill>
                        <a:srgbClr val="cdcdc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440">
                      <a:solidFill>
                        <a:srgbClr val="cdcdcd"/>
                      </a:solidFill>
                    </a:lnL>
                    <a:lnR w="1440">
                      <a:solidFill>
                        <a:srgbClr val="cdcdcd"/>
                      </a:solidFill>
                    </a:lnR>
                    <a:lnT w="1440">
                      <a:solidFill>
                        <a:srgbClr val="cdcdcd"/>
                      </a:solidFill>
                    </a:lnT>
                    <a:lnB w="1440">
                      <a:solidFill>
                        <a:srgbClr val="cdcdc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unlimi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440">
                      <a:solidFill>
                        <a:srgbClr val="cdcdcd"/>
                      </a:solidFill>
                    </a:lnL>
                    <a:lnR w="1440">
                      <a:solidFill>
                        <a:srgbClr val="cdcdcd"/>
                      </a:solidFill>
                    </a:lnR>
                    <a:lnT w="1440">
                      <a:solidFill>
                        <a:srgbClr val="cdcdcd"/>
                      </a:solidFill>
                    </a:lnT>
                    <a:lnB w="1440">
                      <a:solidFill>
                        <a:srgbClr val="cdcdc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a1a1a"/>
                          </a:solidFill>
                          <a:latin typeface="Century Gothic"/>
                          <a:ea typeface="Century Gothic"/>
                        </a:rPr>
                        <a:t>unlimi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440">
                      <a:solidFill>
                        <a:srgbClr val="cdcdcd"/>
                      </a:solidFill>
                    </a:lnL>
                    <a:lnR w="1440">
                      <a:solidFill>
                        <a:srgbClr val="cdcdcd"/>
                      </a:solidFill>
                    </a:lnR>
                    <a:lnT w="1440">
                      <a:solidFill>
                        <a:srgbClr val="cdcdcd"/>
                      </a:solidFill>
                    </a:lnT>
                    <a:lnB w="1440">
                      <a:solidFill>
                        <a:srgbClr val="cdcdc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0B44-C52B-4139-9BF7-9B0F3AAC306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77880" y="9298080"/>
            <a:ext cx="5486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y Presentation Design</a:t>
            </a: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a1a1a"/>
                </a:solidFill>
                <a:latin typeface="Palatino Bold"/>
              </a:rPr>
              <a:t>Enter your title here</a:t>
            </a: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11264760" cy="8051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usce ac turpis quis ligula lacinia aliquet. Mauris ipsum. Nulla metus metus, ullamcorper vel, tincidunt sed, euismod in, nibh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etus metus, ullamcorper vel, tincidunt sed, euismod in, nibh. Quisque volutpat condimentum velit. Class aptent taciti sociosqu ad litora torquent per conubia nostra, per inceptos himenaeos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73400" y="4660920"/>
            <a:ext cx="8636040" cy="431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D3BA-6DD6-43B7-8CCA-EE92CB1DDC7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102200" y="505476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523880" y="4965840"/>
            <a:ext cx="1625760" cy="1625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77880" y="9298080"/>
            <a:ext cx="5486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y Presentation Design</a:t>
            </a: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0706040" y="7086600"/>
            <a:ext cx="2222640" cy="25527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a1a1a"/>
                </a:solidFill>
                <a:latin typeface="Palatino Bold"/>
              </a:rPr>
              <a:t>Enter your title here</a:t>
            </a: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63280" y="1699920"/>
            <a:ext cx="11264760" cy="5460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am nec ante. Sed lacinia, urna non tincidunt mattis, tortor neque adipiscing diam, a cursus ipsum ante quis turpis. Nulla facilisi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ellentesque nibh. Aenean quam. In scelerisque sem at dolor. Maecenas mattis. Sed convallis tristique sem. Proin ut ligula vel nunc egestas porttitor. Morbi lectus risus, iaculis vel, suscipit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4" name=""/>
          <p:cNvSpPr/>
          <p:nvPr/>
        </p:nvSpPr>
        <p:spPr>
          <a:xfrm>
            <a:off x="1257480" y="6730920"/>
            <a:ext cx="2336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1a"/>
                </a:solidFill>
                <a:latin typeface="Palatino Bold"/>
                <a:ea typeface="Palatino Bold"/>
              </a:rPr>
              <a:t>Nam nec ante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5" name=""/>
          <p:cNvSpPr/>
          <p:nvPr/>
        </p:nvSpPr>
        <p:spPr>
          <a:xfrm>
            <a:off x="1257480" y="7149960"/>
            <a:ext cx="23367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a1a1a"/>
                </a:solidFill>
                <a:latin typeface="Palatino"/>
                <a:ea typeface="Palatino"/>
              </a:rPr>
              <a:t>Nam nec ante. Sed lacinia, urna non tincidunt mattis.</a:t>
            </a:r>
            <a:endParaRPr b="0" lang="en-US" sz="15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6" name=""/>
          <p:cNvSpPr/>
          <p:nvPr/>
        </p:nvSpPr>
        <p:spPr>
          <a:xfrm>
            <a:off x="3632040" y="4749840"/>
            <a:ext cx="1800" cy="2184480"/>
          </a:xfrm>
          <a:prstGeom prst="line">
            <a:avLst/>
          </a:prstGeom>
          <a:ln w="25560">
            <a:solidFill>
              <a:srgbClr val="b3b3b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7" name=""/>
          <p:cNvSpPr/>
          <p:nvPr/>
        </p:nvSpPr>
        <p:spPr>
          <a:xfrm>
            <a:off x="3759120" y="6730920"/>
            <a:ext cx="2336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1a"/>
                </a:solidFill>
                <a:latin typeface="Palatino Bold"/>
                <a:ea typeface="Palatino Bold"/>
              </a:rPr>
              <a:t>Lorem ipsu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8" name=""/>
          <p:cNvSpPr/>
          <p:nvPr/>
        </p:nvSpPr>
        <p:spPr>
          <a:xfrm>
            <a:off x="6210360" y="4749840"/>
            <a:ext cx="1440" cy="2184480"/>
          </a:xfrm>
          <a:prstGeom prst="line">
            <a:avLst/>
          </a:prstGeom>
          <a:ln w="25560">
            <a:solidFill>
              <a:srgbClr val="b3b3b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9" name=""/>
          <p:cNvSpPr/>
          <p:nvPr/>
        </p:nvSpPr>
        <p:spPr>
          <a:xfrm>
            <a:off x="6426360" y="6730920"/>
            <a:ext cx="2336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1a"/>
                </a:solidFill>
                <a:latin typeface="Palatino Bold"/>
                <a:ea typeface="Palatino Bold"/>
              </a:rPr>
              <a:t>A cursus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0" name=""/>
          <p:cNvSpPr/>
          <p:nvPr/>
        </p:nvSpPr>
        <p:spPr>
          <a:xfrm>
            <a:off x="3759120" y="7149960"/>
            <a:ext cx="23367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a1a1a"/>
                </a:solidFill>
                <a:latin typeface="Palatino"/>
                <a:ea typeface="Palatino"/>
              </a:rPr>
              <a:t>Diam, a cursus ipsum ante quis turpis. Nulla facilisi. Ut fringilla.  </a:t>
            </a:r>
            <a:endParaRPr b="0" lang="en-US" sz="15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1" name=""/>
          <p:cNvSpPr/>
          <p:nvPr/>
        </p:nvSpPr>
        <p:spPr>
          <a:xfrm>
            <a:off x="6426360" y="7149960"/>
            <a:ext cx="23367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a1a1a"/>
                </a:solidFill>
                <a:latin typeface="Palatino"/>
                <a:ea typeface="Palatino"/>
              </a:rPr>
              <a:t>Tortor neque adipiscing diam, a cursus ipsum ante quis turpis. </a:t>
            </a:r>
            <a:endParaRPr b="0" lang="en-US" sz="15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07240" y="491508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70534-77E5-4FC7-967C-8C088DE9F24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1117440" y="5219640"/>
            <a:ext cx="4686120" cy="4318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556400" y="1117440"/>
            <a:ext cx="4089600" cy="4318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77880" y="9298080"/>
            <a:ext cx="5486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y Presentation Design</a:t>
            </a: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a1a1a"/>
                </a:solidFill>
                <a:latin typeface="Palatino Bold"/>
              </a:rPr>
              <a:t>Enter your title here</a:t>
            </a: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6134040" cy="4317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in ut ligula vel nunc egestas porttitor. Morbi lectus risus, iaculis vel, suscipit quis, luctus non, massa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usce ac turpis quis ligula lacinia aliquet. Mauris ipsum. Nulla metus metus, ullamcorper vel, tincidunt sed, euismod in, nib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8" name=""/>
          <p:cNvSpPr/>
          <p:nvPr/>
        </p:nvSpPr>
        <p:spPr>
          <a:xfrm>
            <a:off x="5079960" y="6375240"/>
            <a:ext cx="2857680" cy="1587600"/>
          </a:xfrm>
          <a:prstGeom prst="roundRect">
            <a:avLst>
              <a:gd name="adj" fmla="val 12000"/>
            </a:avLst>
          </a:prstGeom>
          <a:gradFill rotWithShape="0">
            <a:gsLst>
              <a:gs pos="0">
                <a:srgbClr val="cccccc">
                  <a:alpha val="80000"/>
                </a:srgbClr>
              </a:gs>
              <a:gs pos="100000">
                <a:srgbClr val="fcffec">
                  <a:alpha val="80000"/>
                </a:srgbClr>
              </a:gs>
            </a:gsLst>
            <a:lin ang="5400000"/>
          </a:gradFill>
          <a:ln w="19080">
            <a:solidFill>
              <a:srgbClr val="e6e6e6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9" name=""/>
          <p:cNvSpPr/>
          <p:nvPr/>
        </p:nvSpPr>
        <p:spPr>
          <a:xfrm>
            <a:off x="5283360" y="6616800"/>
            <a:ext cx="24634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a1a1a"/>
                </a:solidFill>
                <a:latin typeface="Century Gothic"/>
                <a:ea typeface="Century Gothic"/>
              </a:rPr>
              <a:t>Class aptent taciti sociosqu ad litora torquent per conubia nostra.</a:t>
            </a: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0" name=""/>
          <p:cNvSpPr/>
          <p:nvPr/>
        </p:nvSpPr>
        <p:spPr>
          <a:xfrm>
            <a:off x="9258480" y="6375240"/>
            <a:ext cx="2857320" cy="1587600"/>
          </a:xfrm>
          <a:prstGeom prst="roundRect">
            <a:avLst>
              <a:gd name="adj" fmla="val 12000"/>
            </a:avLst>
          </a:prstGeom>
          <a:gradFill rotWithShape="0">
            <a:gsLst>
              <a:gs pos="0">
                <a:srgbClr val="cccccc">
                  <a:alpha val="80000"/>
                </a:srgbClr>
              </a:gs>
              <a:gs pos="100000">
                <a:srgbClr val="fcffec">
                  <a:alpha val="80000"/>
                </a:srgbClr>
              </a:gs>
            </a:gsLst>
            <a:lin ang="5400000"/>
          </a:gradFill>
          <a:ln w="19080">
            <a:solidFill>
              <a:srgbClr val="e6e6e6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1" name=""/>
          <p:cNvSpPr/>
          <p:nvPr/>
        </p:nvSpPr>
        <p:spPr>
          <a:xfrm>
            <a:off x="9461520" y="6743880"/>
            <a:ext cx="2463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a1a1a"/>
                </a:solidFill>
                <a:latin typeface="Century Gothic"/>
                <a:ea typeface="Century Gothic"/>
              </a:rPr>
              <a:t>Morbi lectus risus, iaculis vel, suscipit quis, luctus non, massa.</a:t>
            </a: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152960" y="68072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8292960" y="68072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B851-1CDF-4319-A04D-E14D6B04873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654960" y="5118120"/>
            <a:ext cx="4622760" cy="43178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901800" y="5118120"/>
            <a:ext cx="4876560" cy="43178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77880" y="9298080"/>
            <a:ext cx="5486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y Presentation Design</a:t>
            </a: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112647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a1a1a"/>
                </a:solidFill>
                <a:latin typeface="Palatino Bold"/>
              </a:rPr>
              <a:t>Enter your title here</a:t>
            </a:r>
            <a:endParaRPr b="0" lang="en-US" sz="4600" spc="-1" strike="noStrike">
              <a:solidFill>
                <a:srgbClr val="1a1a1a"/>
              </a:solidFill>
              <a:latin typeface="Palatino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63280" y="1699920"/>
            <a:ext cx="11264760" cy="3733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Ullamcorper vel, tincidunt sed, euismod in, nibh. Quisque volutpat condimentum velit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978440" y="2801880"/>
            <a:ext cx="4280040" cy="2646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014520" y="3327480"/>
            <a:ext cx="2155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  <a:ea typeface="Palatino"/>
              </a:rPr>
              <a:t>Ha ha ha </a:t>
            </a:r>
            <a:endParaRPr b="0" lang="en-US" sz="3600" spc="-1" strike="noStrike">
              <a:solidFill>
                <a:srgbClr val="000000"/>
              </a:solidFill>
              <a:latin typeface="Palatino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  <a:ea typeface="Palatino"/>
              </a:rPr>
              <a:t>Ha ha ha</a:t>
            </a:r>
            <a:endParaRPr b="0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662E4-DE40-413A-9BAB-BDC73DB088F5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Insert the title here</dc:title>
</cp:coreProperties>
</file>