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bestpowerpointtemplates.co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e"/>
        </a:solidFill>
      </p:bgPr>
    </p:bg>
    <p:spTree>
      <p:nvGrpSpPr>
        <p:cNvPr id="1" name=""/>
        <p:cNvGrpSpPr/>
        <p:nvPr/>
      </p:nvGrpSpPr>
      <p:grpSpPr>
        <a:xfrm>
          <a:off x="0" y="0"/>
          <a:ext cx="0" cy="0"/>
          <a:chOff x="0" y="0"/>
          <a:chExt cx="0" cy="0"/>
        </a:xfrm>
      </p:grpSpPr>
      <p:sp>
        <p:nvSpPr>
          <p:cNvPr id="0" name="Rectangle 1"/>
          <p:cNvSpPr/>
          <p:nvPr/>
        </p:nvSpPr>
        <p:spPr>
          <a:xfrm>
            <a:off x="241200" y="9334440"/>
            <a:ext cx="645156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767"/>
                </a:solidFill>
                <a:latin typeface="Arial"/>
                <a:ea typeface="ＭＳ Ｐゴシック"/>
              </a:rPr>
              <a:t>Visit </a:t>
            </a:r>
            <a:r>
              <a:rPr b="0" lang="en-US" sz="1400" spc="-1" strike="noStrike" u="sng">
                <a:solidFill>
                  <a:srgbClr val="009999"/>
                </a:solidFill>
                <a:uFillTx/>
                <a:latin typeface="Arial"/>
                <a:ea typeface="ＭＳ Ｐゴシック"/>
                <a:hlinkClick r:id="rId2"/>
              </a:rPr>
              <a:t>http://bestpowerpointtemplates.com</a:t>
            </a:r>
            <a:r>
              <a:rPr b="0" lang="en-US" sz="1400" spc="-1" strike="noStrike">
                <a:solidFill>
                  <a:srgbClr val="676767"/>
                </a:solidFill>
                <a:latin typeface="Arial"/>
                <a:ea typeface="ＭＳ Ｐゴシック"/>
              </a:rPr>
              <a:t> for more free keynote resources!</a:t>
            </a:r>
            <a:endParaRPr b="0" lang="en-US" sz="1400" spc="-1" strike="noStrike">
              <a:solidFill>
                <a:srgbClr val="595959"/>
              </a:solidFill>
              <a:latin typeface="Lor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Rectangle 1"/>
          <p:cNvSpPr/>
          <p:nvPr/>
        </p:nvSpPr>
        <p:spPr>
          <a:xfrm>
            <a:off x="649800" y="628560"/>
            <a:ext cx="57031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a1a1a"/>
                </a:solidFill>
                <a:latin typeface="Lora Bold"/>
                <a:ea typeface="ＭＳ Ｐゴシック"/>
              </a:rPr>
              <a:t>Timeline Template</a:t>
            </a:r>
            <a:endParaRPr b="0" lang="en-US" sz="4800" spc="-1" strike="noStrike">
              <a:solidFill>
                <a:srgbClr val="595959"/>
              </a:solidFill>
              <a:latin typeface="Lora"/>
            </a:endParaRPr>
          </a:p>
        </p:txBody>
      </p:sp>
      <p:sp>
        <p:nvSpPr>
          <p:cNvPr id="38" name="AutoShape 2"/>
          <p:cNvSpPr/>
          <p:nvPr/>
        </p:nvSpPr>
        <p:spPr>
          <a:xfrm>
            <a:off x="0" y="4402080"/>
            <a:ext cx="2419200" cy="6192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9" name="AutoShape 3"/>
          <p:cNvSpPr/>
          <p:nvPr/>
        </p:nvSpPr>
        <p:spPr>
          <a:xfrm>
            <a:off x="2414520" y="4402080"/>
            <a:ext cx="2422440" cy="6192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b7cc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0" name="AutoShape 4"/>
          <p:cNvSpPr/>
          <p:nvPr/>
        </p:nvSpPr>
        <p:spPr>
          <a:xfrm>
            <a:off x="4824360" y="4402080"/>
            <a:ext cx="2430360" cy="6192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1" name="AutoShape 5"/>
          <p:cNvSpPr/>
          <p:nvPr/>
        </p:nvSpPr>
        <p:spPr>
          <a:xfrm>
            <a:off x="7256520" y="4402080"/>
            <a:ext cx="2423880" cy="6192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b7cc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2" name="AutoShape 6"/>
          <p:cNvSpPr/>
          <p:nvPr/>
        </p:nvSpPr>
        <p:spPr>
          <a:xfrm>
            <a:off x="9666360" y="4400640"/>
            <a:ext cx="3327480" cy="62208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42424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3" name="AutoShape 7"/>
          <p:cNvSpPr/>
          <p:nvPr/>
        </p:nvSpPr>
        <p:spPr>
          <a:xfrm>
            <a:off x="1092240" y="4592520"/>
            <a:ext cx="228600" cy="228600"/>
          </a:xfrm>
          <a:custGeom>
            <a:avLst/>
            <a:gdLst/>
            <a:ahLst/>
            <a:rect l="l" t="t" r="r" b="b"/>
            <a:pathLst>
              <a:path w="21600" h="21600">
                <a:moveTo>
                  <a:pt x="21600" y="10800"/>
                </a:moveTo>
                <a:cubicBezTo>
                  <a:pt x="21600" y="16764"/>
                  <a:pt x="16766" y="21600"/>
                  <a:pt x="10800" y="21600"/>
                </a:cubicBezTo>
                <a:cubicBezTo>
                  <a:pt x="4836" y="21600"/>
                  <a:pt x="0" y="16764"/>
                  <a:pt x="0" y="10800"/>
                </a:cubicBezTo>
                <a:cubicBezTo>
                  <a:pt x="0" y="4836"/>
                  <a:pt x="4836" y="0"/>
                  <a:pt x="10800" y="0"/>
                </a:cubicBezTo>
                <a:cubicBezTo>
                  <a:pt x="16766" y="0"/>
                  <a:pt x="21600" y="4836"/>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4" name="AutoShape 8"/>
          <p:cNvSpPr/>
          <p:nvPr/>
        </p:nvSpPr>
        <p:spPr>
          <a:xfrm>
            <a:off x="5934240" y="4592520"/>
            <a:ext cx="228600" cy="228600"/>
          </a:xfrm>
          <a:custGeom>
            <a:avLst/>
            <a:gdLst/>
            <a:ahLst/>
            <a:rect l="l" t="t" r="r" b="b"/>
            <a:pathLst>
              <a:path w="21600" h="21600">
                <a:moveTo>
                  <a:pt x="21600" y="10800"/>
                </a:moveTo>
                <a:cubicBezTo>
                  <a:pt x="21600" y="16764"/>
                  <a:pt x="16766" y="21600"/>
                  <a:pt x="10800" y="21600"/>
                </a:cubicBezTo>
                <a:cubicBezTo>
                  <a:pt x="4836" y="21600"/>
                  <a:pt x="0" y="16764"/>
                  <a:pt x="0" y="10800"/>
                </a:cubicBezTo>
                <a:cubicBezTo>
                  <a:pt x="0" y="4836"/>
                  <a:pt x="4836" y="0"/>
                  <a:pt x="10800" y="0"/>
                </a:cubicBezTo>
                <a:cubicBezTo>
                  <a:pt x="16766" y="0"/>
                  <a:pt x="21600" y="4836"/>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5" name="AutoShape 9"/>
          <p:cNvSpPr/>
          <p:nvPr/>
        </p:nvSpPr>
        <p:spPr>
          <a:xfrm>
            <a:off x="10775880" y="4592520"/>
            <a:ext cx="228600" cy="228600"/>
          </a:xfrm>
          <a:custGeom>
            <a:avLst/>
            <a:gdLst/>
            <a:ahLst/>
            <a:rect l="l" t="t" r="r" b="b"/>
            <a:pathLst>
              <a:path w="21600" h="21600">
                <a:moveTo>
                  <a:pt x="21600" y="10800"/>
                </a:moveTo>
                <a:cubicBezTo>
                  <a:pt x="21600" y="16764"/>
                  <a:pt x="16764" y="21600"/>
                  <a:pt x="10800" y="21600"/>
                </a:cubicBezTo>
                <a:cubicBezTo>
                  <a:pt x="4836" y="21600"/>
                  <a:pt x="0" y="16764"/>
                  <a:pt x="0" y="10800"/>
                </a:cubicBezTo>
                <a:cubicBezTo>
                  <a:pt x="0" y="4836"/>
                  <a:pt x="4836" y="0"/>
                  <a:pt x="10800" y="0"/>
                </a:cubicBezTo>
                <a:cubicBezTo>
                  <a:pt x="16764" y="0"/>
                  <a:pt x="21600" y="4836"/>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6" name="Line 10"/>
          <p:cNvSpPr/>
          <p:nvPr/>
        </p:nvSpPr>
        <p:spPr>
          <a:xfrm flipV="1">
            <a:off x="1211400" y="4894200"/>
            <a:ext cx="0" cy="1517760"/>
          </a:xfrm>
          <a:prstGeom prst="line">
            <a:avLst/>
          </a:prstGeom>
          <a:ln w="76320">
            <a:solidFill>
              <a:srgbClr val="5a697c"/>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7" name="Line 11"/>
          <p:cNvSpPr/>
          <p:nvPr/>
        </p:nvSpPr>
        <p:spPr>
          <a:xfrm flipV="1">
            <a:off x="10882440" y="4894200"/>
            <a:ext cx="1440" cy="1656000"/>
          </a:xfrm>
          <a:prstGeom prst="line">
            <a:avLst/>
          </a:prstGeom>
          <a:ln w="76320">
            <a:solidFill>
              <a:srgbClr val="424242"/>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8" name="Line 12"/>
          <p:cNvSpPr/>
          <p:nvPr/>
        </p:nvSpPr>
        <p:spPr>
          <a:xfrm flipV="1">
            <a:off x="6046920" y="4893840"/>
            <a:ext cx="0" cy="2684520"/>
          </a:xfrm>
          <a:prstGeom prst="line">
            <a:avLst/>
          </a:prstGeom>
          <a:ln w="76320">
            <a:solidFill>
              <a:srgbClr val="9ab737"/>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49" name="Group 18"/>
          <p:cNvGrpSpPr/>
          <p:nvPr/>
        </p:nvGrpSpPr>
        <p:grpSpPr>
          <a:xfrm>
            <a:off x="7556400" y="749160"/>
            <a:ext cx="4572000" cy="787320"/>
            <a:chOff x="7556400" y="749160"/>
            <a:chExt cx="4572000" cy="787320"/>
          </a:xfrm>
        </p:grpSpPr>
        <p:sp>
          <p:nvSpPr>
            <p:cNvPr id="50" name="Rectangle 13"/>
            <p:cNvSpPr/>
            <p:nvPr/>
          </p:nvSpPr>
          <p:spPr>
            <a:xfrm>
              <a:off x="7556400" y="749160"/>
              <a:ext cx="914400" cy="787320"/>
            </a:xfrm>
            <a:prstGeom prst="rect">
              <a:avLst/>
            </a:prstGeom>
            <a:solidFill>
              <a:srgbClr val="5a69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1" name="Rectangle 14"/>
            <p:cNvSpPr/>
            <p:nvPr/>
          </p:nvSpPr>
          <p:spPr>
            <a:xfrm>
              <a:off x="8470800" y="749160"/>
              <a:ext cx="914400" cy="787320"/>
            </a:xfrm>
            <a:prstGeom prst="rect">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2" name="Rectangle 15"/>
            <p:cNvSpPr/>
            <p:nvPr/>
          </p:nvSpPr>
          <p:spPr>
            <a:xfrm>
              <a:off x="9385200" y="749160"/>
              <a:ext cx="914400" cy="787320"/>
            </a:xfrm>
            <a:prstGeom prst="rect">
              <a:avLst/>
            </a:prstGeom>
            <a:solidFill>
              <a:srgbClr val="9ab642"/>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3" name="Rectangle 16"/>
            <p:cNvSpPr/>
            <p:nvPr/>
          </p:nvSpPr>
          <p:spPr>
            <a:xfrm>
              <a:off x="10299600" y="749160"/>
              <a:ext cx="914400" cy="787320"/>
            </a:xfrm>
            <a:prstGeom prst="rect">
              <a:avLst/>
            </a:prstGeom>
            <a:solidFill>
              <a:srgbClr val="b7cb8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4" name="Rectangle 17"/>
            <p:cNvSpPr/>
            <p:nvPr/>
          </p:nvSpPr>
          <p:spPr>
            <a:xfrm>
              <a:off x="11214000" y="749160"/>
              <a:ext cx="914400" cy="787320"/>
            </a:xfrm>
            <a:prstGeom prst="rect">
              <a:avLst/>
            </a:prstGeom>
            <a:solidFill>
              <a:srgbClr val="f0f0f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sp>
        <p:nvSpPr>
          <p:cNvPr id="55" name="Rectangle 19"/>
          <p:cNvSpPr/>
          <p:nvPr/>
        </p:nvSpPr>
        <p:spPr>
          <a:xfrm>
            <a:off x="7575480" y="355680"/>
            <a:ext cx="71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Clear Sans Medium"/>
                <a:ea typeface="ＭＳ Ｐゴシック"/>
              </a:rPr>
              <a:t>Neutral</a:t>
            </a:r>
            <a:endParaRPr b="0" lang="en-US" sz="1600" spc="-1" strike="noStrike">
              <a:solidFill>
                <a:srgbClr val="595959"/>
              </a:solidFill>
              <a:latin typeface="Lora"/>
            </a:endParaRPr>
          </a:p>
        </p:txBody>
      </p:sp>
      <p:sp>
        <p:nvSpPr>
          <p:cNvPr id="56" name="Oval 20"/>
          <p:cNvSpPr/>
          <p:nvPr/>
        </p:nvSpPr>
        <p:spPr>
          <a:xfrm>
            <a:off x="584280" y="6299280"/>
            <a:ext cx="1236600" cy="123804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7" name="Oval 21"/>
          <p:cNvSpPr/>
          <p:nvPr/>
        </p:nvSpPr>
        <p:spPr>
          <a:xfrm>
            <a:off x="5416560" y="7277040"/>
            <a:ext cx="1238400" cy="123660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8" name="Oval 22"/>
          <p:cNvSpPr/>
          <p:nvPr/>
        </p:nvSpPr>
        <p:spPr>
          <a:xfrm>
            <a:off x="10261440" y="6299280"/>
            <a:ext cx="1236960" cy="1238040"/>
          </a:xfrm>
          <a:prstGeom prst="ellipse">
            <a:avLst/>
          </a:prstGeom>
          <a:solidFill>
            <a:srgbClr val="424242"/>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nvGrpSpPr>
          <p:cNvPr id="59" name="Group 38"/>
          <p:cNvGrpSpPr/>
          <p:nvPr/>
        </p:nvGrpSpPr>
        <p:grpSpPr>
          <a:xfrm>
            <a:off x="5626080" y="7188120"/>
            <a:ext cx="819000" cy="804960"/>
            <a:chOff x="5626080" y="7188120"/>
            <a:chExt cx="819000" cy="804960"/>
          </a:xfrm>
        </p:grpSpPr>
        <p:sp>
          <p:nvSpPr>
            <p:cNvPr id="60" name="AutoShape 23"/>
            <p:cNvSpPr/>
            <p:nvPr/>
          </p:nvSpPr>
          <p:spPr>
            <a:xfrm>
              <a:off x="5626080" y="7188120"/>
              <a:ext cx="819000" cy="804960"/>
            </a:xfrm>
            <a:custGeom>
              <a:avLst/>
              <a:gdLst/>
              <a:ahLst/>
              <a:rect l="l" t="t" r="r" b="b"/>
              <a:pathLst>
                <a:path w="21600" h="21600">
                  <a:moveTo>
                    <a:pt x="21600" y="20485"/>
                  </a:moveTo>
                  <a:cubicBezTo>
                    <a:pt x="21600" y="21098"/>
                    <a:pt x="21106" y="21600"/>
                    <a:pt x="20503" y="21600"/>
                  </a:cubicBezTo>
                  <a:lnTo>
                    <a:pt x="1097" y="21600"/>
                  </a:lnTo>
                  <a:cubicBezTo>
                    <a:pt x="494" y="21600"/>
                    <a:pt x="0" y="21098"/>
                    <a:pt x="0" y="20485"/>
                  </a:cubicBezTo>
                  <a:lnTo>
                    <a:pt x="0" y="1115"/>
                  </a:lnTo>
                  <a:cubicBezTo>
                    <a:pt x="0" y="502"/>
                    <a:pt x="494" y="0"/>
                    <a:pt x="1097" y="0"/>
                  </a:cubicBezTo>
                  <a:lnTo>
                    <a:pt x="20503" y="0"/>
                  </a:lnTo>
                  <a:cubicBezTo>
                    <a:pt x="21106" y="0"/>
                    <a:pt x="21600" y="502"/>
                    <a:pt x="21600" y="1115"/>
                  </a:cubicBezTo>
                  <a:cubicBezTo>
                    <a:pt x="21600" y="1115"/>
                    <a:pt x="21600" y="20485"/>
                    <a:pt x="21600" y="20485"/>
                  </a:cubicBezTo>
                  <a:close/>
                  <a:moveTo>
                    <a:pt x="21600" y="20485"/>
                  </a:move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61" name="AutoShape 24"/>
            <p:cNvSpPr/>
            <p:nvPr/>
          </p:nvSpPr>
          <p:spPr>
            <a:xfrm>
              <a:off x="5626080" y="7188120"/>
              <a:ext cx="819000" cy="804960"/>
            </a:xfrm>
            <a:custGeom>
              <a:avLst/>
              <a:gdLst/>
              <a:ahLst/>
              <a:rect l="l" t="t" r="r" b="b"/>
              <a:pathLst>
                <a:path w="21600" h="21600">
                  <a:moveTo>
                    <a:pt x="21600" y="20485"/>
                  </a:moveTo>
                  <a:cubicBezTo>
                    <a:pt x="21600" y="21098"/>
                    <a:pt x="21106" y="21600"/>
                    <a:pt x="20503" y="21600"/>
                  </a:cubicBezTo>
                  <a:lnTo>
                    <a:pt x="1097" y="21600"/>
                  </a:lnTo>
                  <a:cubicBezTo>
                    <a:pt x="494" y="21600"/>
                    <a:pt x="0" y="21098"/>
                    <a:pt x="0" y="20485"/>
                  </a:cubicBezTo>
                  <a:lnTo>
                    <a:pt x="0" y="1115"/>
                  </a:lnTo>
                  <a:cubicBezTo>
                    <a:pt x="0" y="502"/>
                    <a:pt x="494" y="0"/>
                    <a:pt x="1097" y="0"/>
                  </a:cubicBezTo>
                  <a:lnTo>
                    <a:pt x="20503" y="0"/>
                  </a:lnTo>
                  <a:cubicBezTo>
                    <a:pt x="21106" y="0"/>
                    <a:pt x="21600" y="502"/>
                    <a:pt x="21600" y="1115"/>
                  </a:cubicBezTo>
                  <a:cubicBezTo>
                    <a:pt x="21600" y="1115"/>
                    <a:pt x="21600" y="20485"/>
                    <a:pt x="21600" y="20485"/>
                  </a:cubicBezTo>
                  <a:close/>
                  <a:moveTo>
                    <a:pt x="21600" y="20485"/>
                  </a:moveTo>
                </a:path>
              </a:pathLst>
            </a:custGeom>
            <a:noFill/>
            <a:ln w="76320">
              <a:solidFill>
                <a:srgbClr val="ffef9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62" name="AutoShape 25"/>
            <p:cNvSpPr/>
            <p:nvPr/>
          </p:nvSpPr>
          <p:spPr>
            <a:xfrm>
              <a:off x="5753160" y="7238880"/>
              <a:ext cx="558720" cy="496800"/>
            </a:xfrm>
            <a:custGeom>
              <a:avLst/>
              <a:gdLst/>
              <a:ahLst/>
              <a:rect l="l" t="t" r="r" b="b"/>
              <a:pathLst>
                <a:path w="21600" h="21600">
                  <a:moveTo>
                    <a:pt x="21600" y="19795"/>
                  </a:moveTo>
                  <a:cubicBezTo>
                    <a:pt x="21600" y="20788"/>
                    <a:pt x="20876" y="21600"/>
                    <a:pt x="19992" y="21600"/>
                  </a:cubicBezTo>
                  <a:lnTo>
                    <a:pt x="1607" y="21600"/>
                  </a:lnTo>
                  <a:cubicBezTo>
                    <a:pt x="723" y="21600"/>
                    <a:pt x="0" y="20788"/>
                    <a:pt x="0" y="19795"/>
                  </a:cubicBezTo>
                  <a:lnTo>
                    <a:pt x="0" y="1805"/>
                  </a:lnTo>
                  <a:cubicBezTo>
                    <a:pt x="0" y="812"/>
                    <a:pt x="723" y="0"/>
                    <a:pt x="1607" y="0"/>
                  </a:cubicBezTo>
                  <a:lnTo>
                    <a:pt x="19992" y="0"/>
                  </a:lnTo>
                  <a:cubicBezTo>
                    <a:pt x="20876" y="0"/>
                    <a:pt x="21600" y="812"/>
                    <a:pt x="21600" y="1805"/>
                  </a:cubicBezTo>
                  <a:cubicBezTo>
                    <a:pt x="21600" y="1805"/>
                    <a:pt x="21600" y="19795"/>
                    <a:pt x="21600" y="19795"/>
                  </a:cubicBezTo>
                  <a:close/>
                  <a:moveTo>
                    <a:pt x="21600" y="19795"/>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63" name="AutoShape 26"/>
            <p:cNvSpPr/>
            <p:nvPr/>
          </p:nvSpPr>
          <p:spPr>
            <a:xfrm>
              <a:off x="5753160" y="7785000"/>
              <a:ext cx="558720" cy="135000"/>
            </a:xfrm>
            <a:custGeom>
              <a:avLst/>
              <a:gdLst/>
              <a:ahLst/>
              <a:rect l="l" t="t" r="r" b="b"/>
              <a:pathLst>
                <a:path w="21600" h="21600">
                  <a:moveTo>
                    <a:pt x="21600" y="14958"/>
                  </a:moveTo>
                  <a:cubicBezTo>
                    <a:pt x="21600" y="18611"/>
                    <a:pt x="20876" y="21600"/>
                    <a:pt x="19992" y="21600"/>
                  </a:cubicBezTo>
                  <a:lnTo>
                    <a:pt x="1607" y="21600"/>
                  </a:lnTo>
                  <a:cubicBezTo>
                    <a:pt x="723" y="21600"/>
                    <a:pt x="0" y="18611"/>
                    <a:pt x="0" y="14958"/>
                  </a:cubicBezTo>
                  <a:lnTo>
                    <a:pt x="0" y="6643"/>
                  </a:lnTo>
                  <a:cubicBezTo>
                    <a:pt x="0" y="2989"/>
                    <a:pt x="723" y="0"/>
                    <a:pt x="1607" y="0"/>
                  </a:cubicBezTo>
                  <a:lnTo>
                    <a:pt x="19992" y="0"/>
                  </a:lnTo>
                  <a:cubicBezTo>
                    <a:pt x="20876" y="0"/>
                    <a:pt x="21600" y="2989"/>
                    <a:pt x="21600" y="6643"/>
                  </a:cubicBezTo>
                  <a:cubicBezTo>
                    <a:pt x="21600" y="6643"/>
                    <a:pt x="21600" y="14958"/>
                    <a:pt x="21600" y="14958"/>
                  </a:cubicBezTo>
                  <a:close/>
                  <a:moveTo>
                    <a:pt x="21600" y="14958"/>
                  </a:moveTo>
                </a:path>
              </a:pathLst>
            </a:custGeom>
            <a:solidFill>
              <a:srgbClr val="4d4d4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64" name="AutoShape 27"/>
            <p:cNvSpPr/>
            <p:nvPr/>
          </p:nvSpPr>
          <p:spPr>
            <a:xfrm>
              <a:off x="5638680" y="7353360"/>
              <a:ext cx="76320" cy="63360"/>
            </a:xfrm>
            <a:custGeom>
              <a:avLst/>
              <a:gdLst/>
              <a:ahLst/>
              <a:rect l="l" t="t" r="r" b="b"/>
              <a:pathLst>
                <a:path w="21494" h="21600">
                  <a:moveTo>
                    <a:pt x="18977" y="19378"/>
                  </a:moveTo>
                  <a:cubicBezTo>
                    <a:pt x="18551" y="20600"/>
                    <a:pt x="17293" y="21600"/>
                    <a:pt x="16182" y="21600"/>
                  </a:cubicBezTo>
                  <a:lnTo>
                    <a:pt x="2026" y="21600"/>
                  </a:lnTo>
                  <a:cubicBezTo>
                    <a:pt x="911" y="21600"/>
                    <a:pt x="0" y="20519"/>
                    <a:pt x="0" y="19196"/>
                  </a:cubicBezTo>
                  <a:lnTo>
                    <a:pt x="0" y="2404"/>
                  </a:lnTo>
                  <a:cubicBezTo>
                    <a:pt x="0" y="1081"/>
                    <a:pt x="911" y="0"/>
                    <a:pt x="2026" y="0"/>
                  </a:cubicBezTo>
                  <a:lnTo>
                    <a:pt x="16182" y="0"/>
                  </a:lnTo>
                  <a:cubicBezTo>
                    <a:pt x="17293" y="0"/>
                    <a:pt x="18551" y="1000"/>
                    <a:pt x="18977" y="2222"/>
                  </a:cubicBezTo>
                  <a:lnTo>
                    <a:pt x="21178" y="8578"/>
                  </a:lnTo>
                  <a:cubicBezTo>
                    <a:pt x="21600" y="9798"/>
                    <a:pt x="21600" y="11800"/>
                    <a:pt x="21178" y="13022"/>
                  </a:cubicBezTo>
                  <a:cubicBezTo>
                    <a:pt x="21178" y="13022"/>
                    <a:pt x="18977" y="19378"/>
                    <a:pt x="18977" y="19378"/>
                  </a:cubicBezTo>
                  <a:close/>
                  <a:moveTo>
                    <a:pt x="18977" y="19378"/>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65" name="AutoShape 28"/>
            <p:cNvSpPr/>
            <p:nvPr/>
          </p:nvSpPr>
          <p:spPr>
            <a:xfrm>
              <a:off x="5638680" y="7454880"/>
              <a:ext cx="76320" cy="63360"/>
            </a:xfrm>
            <a:custGeom>
              <a:avLst/>
              <a:gdLst/>
              <a:ahLst/>
              <a:rect l="l" t="t" r="r" b="b"/>
              <a:pathLst>
                <a:path w="21494" h="21600">
                  <a:moveTo>
                    <a:pt x="18977" y="19378"/>
                  </a:moveTo>
                  <a:cubicBezTo>
                    <a:pt x="18551" y="20600"/>
                    <a:pt x="17293" y="21600"/>
                    <a:pt x="16182" y="21600"/>
                  </a:cubicBezTo>
                  <a:lnTo>
                    <a:pt x="2026" y="21600"/>
                  </a:lnTo>
                  <a:cubicBezTo>
                    <a:pt x="911" y="21600"/>
                    <a:pt x="0" y="20519"/>
                    <a:pt x="0" y="19196"/>
                  </a:cubicBezTo>
                  <a:lnTo>
                    <a:pt x="0" y="2404"/>
                  </a:lnTo>
                  <a:cubicBezTo>
                    <a:pt x="0" y="1081"/>
                    <a:pt x="911" y="0"/>
                    <a:pt x="2026" y="0"/>
                  </a:cubicBezTo>
                  <a:lnTo>
                    <a:pt x="16182" y="0"/>
                  </a:lnTo>
                  <a:cubicBezTo>
                    <a:pt x="17293" y="0"/>
                    <a:pt x="18551" y="1000"/>
                    <a:pt x="18977" y="2222"/>
                  </a:cubicBezTo>
                  <a:lnTo>
                    <a:pt x="21178" y="8578"/>
                  </a:lnTo>
                  <a:cubicBezTo>
                    <a:pt x="21600" y="9800"/>
                    <a:pt x="21600" y="11800"/>
                    <a:pt x="21178" y="13022"/>
                  </a:cubicBezTo>
                  <a:cubicBezTo>
                    <a:pt x="21178" y="13022"/>
                    <a:pt x="18977" y="19378"/>
                    <a:pt x="18977" y="19378"/>
                  </a:cubicBezTo>
                  <a:close/>
                  <a:moveTo>
                    <a:pt x="18977" y="19378"/>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66" name="AutoShape 29"/>
            <p:cNvSpPr/>
            <p:nvPr/>
          </p:nvSpPr>
          <p:spPr>
            <a:xfrm>
              <a:off x="5638680" y="7543800"/>
              <a:ext cx="76320" cy="63360"/>
            </a:xfrm>
            <a:custGeom>
              <a:avLst/>
              <a:gdLst/>
              <a:ahLst/>
              <a:rect l="l" t="t" r="r" b="b"/>
              <a:pathLst>
                <a:path w="21494" h="21600">
                  <a:moveTo>
                    <a:pt x="18977" y="19378"/>
                  </a:moveTo>
                  <a:cubicBezTo>
                    <a:pt x="18551" y="20600"/>
                    <a:pt x="17293" y="21600"/>
                    <a:pt x="16182" y="21600"/>
                  </a:cubicBezTo>
                  <a:lnTo>
                    <a:pt x="2026" y="21600"/>
                  </a:lnTo>
                  <a:cubicBezTo>
                    <a:pt x="911" y="21600"/>
                    <a:pt x="0" y="20519"/>
                    <a:pt x="0" y="19196"/>
                  </a:cubicBezTo>
                  <a:lnTo>
                    <a:pt x="0" y="2404"/>
                  </a:lnTo>
                  <a:cubicBezTo>
                    <a:pt x="0" y="1081"/>
                    <a:pt x="911" y="0"/>
                    <a:pt x="2026" y="0"/>
                  </a:cubicBezTo>
                  <a:lnTo>
                    <a:pt x="16182" y="0"/>
                  </a:lnTo>
                  <a:cubicBezTo>
                    <a:pt x="17293" y="0"/>
                    <a:pt x="18551" y="1000"/>
                    <a:pt x="18977" y="2222"/>
                  </a:cubicBezTo>
                  <a:lnTo>
                    <a:pt x="21178" y="8578"/>
                  </a:lnTo>
                  <a:cubicBezTo>
                    <a:pt x="21600" y="9800"/>
                    <a:pt x="21600" y="11800"/>
                    <a:pt x="21178" y="13022"/>
                  </a:cubicBezTo>
                  <a:cubicBezTo>
                    <a:pt x="21178" y="13022"/>
                    <a:pt x="18977" y="19378"/>
                    <a:pt x="18977" y="19378"/>
                  </a:cubicBezTo>
                  <a:close/>
                  <a:moveTo>
                    <a:pt x="18977" y="19378"/>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67" name="AutoShape 30"/>
            <p:cNvSpPr/>
            <p:nvPr/>
          </p:nvSpPr>
          <p:spPr>
            <a:xfrm>
              <a:off x="5638680" y="7645320"/>
              <a:ext cx="76320" cy="63360"/>
            </a:xfrm>
            <a:custGeom>
              <a:avLst/>
              <a:gdLst/>
              <a:ahLst/>
              <a:rect l="l" t="t" r="r" b="b"/>
              <a:pathLst>
                <a:path w="21494" h="21600">
                  <a:moveTo>
                    <a:pt x="18977" y="19376"/>
                  </a:moveTo>
                  <a:cubicBezTo>
                    <a:pt x="18551" y="20598"/>
                    <a:pt x="17293" y="21600"/>
                    <a:pt x="16182" y="21600"/>
                  </a:cubicBezTo>
                  <a:lnTo>
                    <a:pt x="2026" y="21600"/>
                  </a:lnTo>
                  <a:cubicBezTo>
                    <a:pt x="911" y="21600"/>
                    <a:pt x="0" y="20517"/>
                    <a:pt x="0" y="19194"/>
                  </a:cubicBezTo>
                  <a:lnTo>
                    <a:pt x="0" y="2404"/>
                  </a:lnTo>
                  <a:cubicBezTo>
                    <a:pt x="0" y="1081"/>
                    <a:pt x="911" y="0"/>
                    <a:pt x="2026" y="0"/>
                  </a:cubicBezTo>
                  <a:lnTo>
                    <a:pt x="16182" y="0"/>
                  </a:lnTo>
                  <a:cubicBezTo>
                    <a:pt x="17293" y="0"/>
                    <a:pt x="18551" y="1000"/>
                    <a:pt x="18977" y="2221"/>
                  </a:cubicBezTo>
                  <a:lnTo>
                    <a:pt x="21178" y="8577"/>
                  </a:lnTo>
                  <a:cubicBezTo>
                    <a:pt x="21600" y="9799"/>
                    <a:pt x="21600" y="11801"/>
                    <a:pt x="21178" y="13020"/>
                  </a:cubicBezTo>
                  <a:cubicBezTo>
                    <a:pt x="21178" y="13020"/>
                    <a:pt x="18977" y="19376"/>
                    <a:pt x="18977" y="19376"/>
                  </a:cubicBezTo>
                  <a:close/>
                  <a:moveTo>
                    <a:pt x="18977" y="19376"/>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68" name="AutoShape 31"/>
            <p:cNvSpPr/>
            <p:nvPr/>
          </p:nvSpPr>
          <p:spPr>
            <a:xfrm>
              <a:off x="6362640" y="7353360"/>
              <a:ext cx="76320" cy="63360"/>
            </a:xfrm>
            <a:custGeom>
              <a:avLst/>
              <a:gdLst/>
              <a:ahLst/>
              <a:rect l="l" t="t" r="r" b="b"/>
              <a:pathLst>
                <a:path w="21495" h="21600">
                  <a:moveTo>
                    <a:pt x="2516" y="19378"/>
                  </a:moveTo>
                  <a:cubicBezTo>
                    <a:pt x="2942" y="20600"/>
                    <a:pt x="4198" y="21600"/>
                    <a:pt x="5312" y="21600"/>
                  </a:cubicBezTo>
                  <a:lnTo>
                    <a:pt x="19467" y="21600"/>
                  </a:lnTo>
                  <a:cubicBezTo>
                    <a:pt x="20581" y="21600"/>
                    <a:pt x="21495" y="20519"/>
                    <a:pt x="21495" y="19196"/>
                  </a:cubicBezTo>
                  <a:lnTo>
                    <a:pt x="21495" y="2404"/>
                  </a:lnTo>
                  <a:cubicBezTo>
                    <a:pt x="21495" y="1081"/>
                    <a:pt x="20581" y="0"/>
                    <a:pt x="19467" y="0"/>
                  </a:cubicBezTo>
                  <a:lnTo>
                    <a:pt x="5312" y="0"/>
                  </a:lnTo>
                  <a:cubicBezTo>
                    <a:pt x="4198" y="0"/>
                    <a:pt x="2942" y="1000"/>
                    <a:pt x="2516" y="2222"/>
                  </a:cubicBezTo>
                  <a:lnTo>
                    <a:pt x="314" y="8578"/>
                  </a:lnTo>
                  <a:cubicBezTo>
                    <a:pt x="-105" y="9798"/>
                    <a:pt x="-105" y="11800"/>
                    <a:pt x="314" y="13022"/>
                  </a:cubicBezTo>
                  <a:cubicBezTo>
                    <a:pt x="314" y="13022"/>
                    <a:pt x="2516" y="19378"/>
                    <a:pt x="2516" y="19378"/>
                  </a:cubicBezTo>
                  <a:close/>
                  <a:moveTo>
                    <a:pt x="2516" y="19378"/>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69" name="AutoShape 32"/>
            <p:cNvSpPr/>
            <p:nvPr/>
          </p:nvSpPr>
          <p:spPr>
            <a:xfrm>
              <a:off x="6362640" y="7454880"/>
              <a:ext cx="76320" cy="63360"/>
            </a:xfrm>
            <a:custGeom>
              <a:avLst/>
              <a:gdLst/>
              <a:ahLst/>
              <a:rect l="l" t="t" r="r" b="b"/>
              <a:pathLst>
                <a:path w="21495" h="21600">
                  <a:moveTo>
                    <a:pt x="2516" y="19378"/>
                  </a:moveTo>
                  <a:cubicBezTo>
                    <a:pt x="2942" y="20600"/>
                    <a:pt x="4198" y="21600"/>
                    <a:pt x="5312" y="21600"/>
                  </a:cubicBezTo>
                  <a:lnTo>
                    <a:pt x="19467" y="21600"/>
                  </a:lnTo>
                  <a:cubicBezTo>
                    <a:pt x="20581" y="21600"/>
                    <a:pt x="21495" y="20519"/>
                    <a:pt x="21495" y="19196"/>
                  </a:cubicBezTo>
                  <a:lnTo>
                    <a:pt x="21495" y="2404"/>
                  </a:lnTo>
                  <a:cubicBezTo>
                    <a:pt x="21495" y="1081"/>
                    <a:pt x="20581" y="0"/>
                    <a:pt x="19467" y="0"/>
                  </a:cubicBezTo>
                  <a:lnTo>
                    <a:pt x="5312" y="0"/>
                  </a:lnTo>
                  <a:cubicBezTo>
                    <a:pt x="4198" y="0"/>
                    <a:pt x="2942" y="1000"/>
                    <a:pt x="2516" y="2222"/>
                  </a:cubicBezTo>
                  <a:lnTo>
                    <a:pt x="314" y="8578"/>
                  </a:lnTo>
                  <a:cubicBezTo>
                    <a:pt x="-105" y="9800"/>
                    <a:pt x="-105" y="11800"/>
                    <a:pt x="314" y="13022"/>
                  </a:cubicBezTo>
                  <a:cubicBezTo>
                    <a:pt x="314" y="13022"/>
                    <a:pt x="2516" y="19378"/>
                    <a:pt x="2516" y="19378"/>
                  </a:cubicBezTo>
                  <a:close/>
                  <a:moveTo>
                    <a:pt x="2516" y="19378"/>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70" name="AutoShape 33"/>
            <p:cNvSpPr/>
            <p:nvPr/>
          </p:nvSpPr>
          <p:spPr>
            <a:xfrm>
              <a:off x="6362640" y="7543800"/>
              <a:ext cx="76320" cy="63360"/>
            </a:xfrm>
            <a:custGeom>
              <a:avLst/>
              <a:gdLst/>
              <a:ahLst/>
              <a:rect l="l" t="t" r="r" b="b"/>
              <a:pathLst>
                <a:path w="21495" h="21600">
                  <a:moveTo>
                    <a:pt x="2516" y="19378"/>
                  </a:moveTo>
                  <a:cubicBezTo>
                    <a:pt x="2942" y="20600"/>
                    <a:pt x="4198" y="21600"/>
                    <a:pt x="5312" y="21600"/>
                  </a:cubicBezTo>
                  <a:lnTo>
                    <a:pt x="19467" y="21600"/>
                  </a:lnTo>
                  <a:cubicBezTo>
                    <a:pt x="20581" y="21600"/>
                    <a:pt x="21495" y="20519"/>
                    <a:pt x="21495" y="19196"/>
                  </a:cubicBezTo>
                  <a:lnTo>
                    <a:pt x="21495" y="2404"/>
                  </a:lnTo>
                  <a:cubicBezTo>
                    <a:pt x="21495" y="1081"/>
                    <a:pt x="20581" y="0"/>
                    <a:pt x="19467" y="0"/>
                  </a:cubicBezTo>
                  <a:lnTo>
                    <a:pt x="5312" y="0"/>
                  </a:lnTo>
                  <a:cubicBezTo>
                    <a:pt x="4198" y="0"/>
                    <a:pt x="2942" y="1000"/>
                    <a:pt x="2516" y="2222"/>
                  </a:cubicBezTo>
                  <a:lnTo>
                    <a:pt x="314" y="8578"/>
                  </a:lnTo>
                  <a:cubicBezTo>
                    <a:pt x="-105" y="9800"/>
                    <a:pt x="-105" y="11800"/>
                    <a:pt x="314" y="13022"/>
                  </a:cubicBezTo>
                  <a:cubicBezTo>
                    <a:pt x="314" y="13022"/>
                    <a:pt x="2516" y="19378"/>
                    <a:pt x="2516" y="19378"/>
                  </a:cubicBezTo>
                  <a:close/>
                  <a:moveTo>
                    <a:pt x="2516" y="19378"/>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71" name="AutoShape 34"/>
            <p:cNvSpPr/>
            <p:nvPr/>
          </p:nvSpPr>
          <p:spPr>
            <a:xfrm>
              <a:off x="6362640" y="7645320"/>
              <a:ext cx="76320" cy="63360"/>
            </a:xfrm>
            <a:custGeom>
              <a:avLst/>
              <a:gdLst/>
              <a:ahLst/>
              <a:rect l="l" t="t" r="r" b="b"/>
              <a:pathLst>
                <a:path w="21495" h="21600">
                  <a:moveTo>
                    <a:pt x="2516" y="19376"/>
                  </a:moveTo>
                  <a:cubicBezTo>
                    <a:pt x="2942" y="20598"/>
                    <a:pt x="4198" y="21600"/>
                    <a:pt x="5312" y="21600"/>
                  </a:cubicBezTo>
                  <a:lnTo>
                    <a:pt x="19467" y="21600"/>
                  </a:lnTo>
                  <a:cubicBezTo>
                    <a:pt x="20581" y="21600"/>
                    <a:pt x="21495" y="20517"/>
                    <a:pt x="21495" y="19194"/>
                  </a:cubicBezTo>
                  <a:lnTo>
                    <a:pt x="21495" y="2404"/>
                  </a:lnTo>
                  <a:cubicBezTo>
                    <a:pt x="21495" y="1081"/>
                    <a:pt x="20581" y="0"/>
                    <a:pt x="19467" y="0"/>
                  </a:cubicBezTo>
                  <a:lnTo>
                    <a:pt x="5312" y="0"/>
                  </a:lnTo>
                  <a:cubicBezTo>
                    <a:pt x="4198" y="0"/>
                    <a:pt x="2942" y="1000"/>
                    <a:pt x="2516" y="2221"/>
                  </a:cubicBezTo>
                  <a:lnTo>
                    <a:pt x="314" y="8577"/>
                  </a:lnTo>
                  <a:cubicBezTo>
                    <a:pt x="-105" y="9799"/>
                    <a:pt x="-105" y="11801"/>
                    <a:pt x="314" y="13020"/>
                  </a:cubicBezTo>
                  <a:cubicBezTo>
                    <a:pt x="314" y="13020"/>
                    <a:pt x="2516" y="19376"/>
                    <a:pt x="2516" y="19376"/>
                  </a:cubicBezTo>
                  <a:close/>
                  <a:moveTo>
                    <a:pt x="2516" y="19376"/>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72" name="AutoShape 35"/>
            <p:cNvSpPr/>
            <p:nvPr/>
          </p:nvSpPr>
          <p:spPr>
            <a:xfrm>
              <a:off x="5803920" y="7835760"/>
              <a:ext cx="471600" cy="136440"/>
            </a:xfrm>
            <a:custGeom>
              <a:avLst/>
              <a:gdLst/>
              <a:ahLst/>
              <a:rect l="l" t="t" r="r" b="b"/>
              <a:pathLst>
                <a:path w="21600" h="21600">
                  <a:moveTo>
                    <a:pt x="21600" y="21600"/>
                  </a:moveTo>
                  <a:lnTo>
                    <a:pt x="0" y="21600"/>
                  </a:lnTo>
                  <a:lnTo>
                    <a:pt x="564" y="0"/>
                  </a:lnTo>
                  <a:lnTo>
                    <a:pt x="20911" y="111"/>
                  </a:lnTo>
                  <a:cubicBezTo>
                    <a:pt x="20911" y="111"/>
                    <a:pt x="21600" y="21600"/>
                    <a:pt x="21600" y="21600"/>
                  </a:cubicBezTo>
                  <a:close/>
                  <a:moveTo>
                    <a:pt x="21600" y="21600"/>
                  </a:move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73" name="AutoShape 36"/>
            <p:cNvSpPr/>
            <p:nvPr/>
          </p:nvSpPr>
          <p:spPr>
            <a:xfrm>
              <a:off x="5827680" y="7848360"/>
              <a:ext cx="419040" cy="87480"/>
            </a:xfrm>
            <a:custGeom>
              <a:avLst/>
              <a:gdLst/>
              <a:ahLst/>
              <a:rect l="l" t="t" r="r" b="b"/>
              <a:pathLst>
                <a:path w="21600" h="21600">
                  <a:moveTo>
                    <a:pt x="21600" y="17569"/>
                  </a:moveTo>
                  <a:lnTo>
                    <a:pt x="21232" y="134"/>
                  </a:lnTo>
                  <a:lnTo>
                    <a:pt x="294" y="0"/>
                  </a:lnTo>
                  <a:lnTo>
                    <a:pt x="0" y="17519"/>
                  </a:lnTo>
                  <a:cubicBezTo>
                    <a:pt x="450" y="17519"/>
                    <a:pt x="787" y="19326"/>
                    <a:pt x="753" y="21570"/>
                  </a:cubicBezTo>
                  <a:lnTo>
                    <a:pt x="20871" y="21600"/>
                  </a:lnTo>
                  <a:cubicBezTo>
                    <a:pt x="20828" y="19367"/>
                    <a:pt x="21154" y="17569"/>
                    <a:pt x="21600" y="17569"/>
                  </a:cubicBezTo>
                </a:path>
              </a:pathLst>
            </a:custGeom>
            <a:solidFill>
              <a:srgbClr val="ffff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74" name="AutoShape 37"/>
            <p:cNvSpPr/>
            <p:nvPr/>
          </p:nvSpPr>
          <p:spPr>
            <a:xfrm>
              <a:off x="5981760" y="7835760"/>
              <a:ext cx="120600" cy="74520"/>
            </a:xfrm>
            <a:custGeom>
              <a:avLst/>
              <a:gdLst/>
              <a:ahLst/>
              <a:rect l="l" t="t" r="r" b="b"/>
              <a:pathLst>
                <a:path w="21407" h="21577">
                  <a:moveTo>
                    <a:pt x="21404" y="10626"/>
                  </a:moveTo>
                  <a:cubicBezTo>
                    <a:pt x="21529" y="16634"/>
                    <a:pt x="16766" y="21584"/>
                    <a:pt x="10758" y="21577"/>
                  </a:cubicBezTo>
                  <a:cubicBezTo>
                    <a:pt x="4746" y="21570"/>
                    <a:pt x="-71" y="16604"/>
                    <a:pt x="0" y="10591"/>
                  </a:cubicBezTo>
                  <a:cubicBezTo>
                    <a:pt x="71" y="4682"/>
                    <a:pt x="4847" y="-16"/>
                    <a:pt x="10661" y="0"/>
                  </a:cubicBezTo>
                  <a:cubicBezTo>
                    <a:pt x="16474" y="11"/>
                    <a:pt x="21279" y="4728"/>
                    <a:pt x="21404" y="10626"/>
                  </a:cubicBez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75" name="Group 46"/>
          <p:cNvGrpSpPr/>
          <p:nvPr/>
        </p:nvGrpSpPr>
        <p:grpSpPr>
          <a:xfrm>
            <a:off x="10490040" y="6553080"/>
            <a:ext cx="793800" cy="1270080"/>
            <a:chOff x="10490040" y="6553080"/>
            <a:chExt cx="793800" cy="1270080"/>
          </a:xfrm>
        </p:grpSpPr>
        <p:sp>
          <p:nvSpPr>
            <p:cNvPr id="76" name="AutoShape 39"/>
            <p:cNvSpPr/>
            <p:nvPr/>
          </p:nvSpPr>
          <p:spPr>
            <a:xfrm>
              <a:off x="10947240" y="7035840"/>
              <a:ext cx="209520" cy="258480"/>
            </a:xfrm>
            <a:custGeom>
              <a:avLst/>
              <a:gdLst/>
              <a:ahLst/>
              <a:rect l="l" t="t" r="r" b="b"/>
              <a:pathLst>
                <a:path w="21600" h="21600">
                  <a:moveTo>
                    <a:pt x="16089" y="21600"/>
                  </a:moveTo>
                  <a:lnTo>
                    <a:pt x="5510" y="21600"/>
                  </a:lnTo>
                  <a:cubicBezTo>
                    <a:pt x="2466" y="21600"/>
                    <a:pt x="0" y="19590"/>
                    <a:pt x="0" y="17109"/>
                  </a:cubicBezTo>
                  <a:lnTo>
                    <a:pt x="0" y="4490"/>
                  </a:lnTo>
                  <a:cubicBezTo>
                    <a:pt x="0" y="2010"/>
                    <a:pt x="2466" y="0"/>
                    <a:pt x="5510" y="0"/>
                  </a:cubicBezTo>
                  <a:lnTo>
                    <a:pt x="9853" y="0"/>
                  </a:lnTo>
                  <a:lnTo>
                    <a:pt x="8195" y="6833"/>
                  </a:lnTo>
                  <a:lnTo>
                    <a:pt x="10799" y="10136"/>
                  </a:lnTo>
                  <a:lnTo>
                    <a:pt x="13471" y="6797"/>
                  </a:lnTo>
                  <a:lnTo>
                    <a:pt x="11858" y="0"/>
                  </a:lnTo>
                  <a:lnTo>
                    <a:pt x="16089" y="0"/>
                  </a:lnTo>
                  <a:cubicBezTo>
                    <a:pt x="19132" y="0"/>
                    <a:pt x="21600" y="2010"/>
                    <a:pt x="21600" y="4490"/>
                  </a:cubicBezTo>
                  <a:lnTo>
                    <a:pt x="21600" y="17109"/>
                  </a:lnTo>
                  <a:cubicBezTo>
                    <a:pt x="21600" y="19590"/>
                    <a:pt x="19132" y="21600"/>
                    <a:pt x="16089" y="21600"/>
                  </a:cubicBez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77" name="AutoShape 40"/>
            <p:cNvSpPr/>
            <p:nvPr/>
          </p:nvSpPr>
          <p:spPr>
            <a:xfrm>
              <a:off x="10604520" y="7035840"/>
              <a:ext cx="209520" cy="258480"/>
            </a:xfrm>
            <a:custGeom>
              <a:avLst/>
              <a:gdLst/>
              <a:ahLst/>
              <a:rect l="l" t="t" r="r" b="b"/>
              <a:pathLst>
                <a:path w="21600" h="21600">
                  <a:moveTo>
                    <a:pt x="16089" y="21600"/>
                  </a:moveTo>
                  <a:lnTo>
                    <a:pt x="5510" y="21600"/>
                  </a:lnTo>
                  <a:cubicBezTo>
                    <a:pt x="2467" y="21600"/>
                    <a:pt x="0" y="19590"/>
                    <a:pt x="0" y="17109"/>
                  </a:cubicBezTo>
                  <a:lnTo>
                    <a:pt x="0" y="4490"/>
                  </a:lnTo>
                  <a:cubicBezTo>
                    <a:pt x="0" y="2010"/>
                    <a:pt x="2467" y="0"/>
                    <a:pt x="5510" y="0"/>
                  </a:cubicBezTo>
                  <a:lnTo>
                    <a:pt x="9853" y="0"/>
                  </a:lnTo>
                  <a:lnTo>
                    <a:pt x="8195" y="6833"/>
                  </a:lnTo>
                  <a:lnTo>
                    <a:pt x="10799" y="10136"/>
                  </a:lnTo>
                  <a:lnTo>
                    <a:pt x="13471" y="6797"/>
                  </a:lnTo>
                  <a:lnTo>
                    <a:pt x="11858" y="0"/>
                  </a:lnTo>
                  <a:lnTo>
                    <a:pt x="16089" y="0"/>
                  </a:lnTo>
                  <a:cubicBezTo>
                    <a:pt x="19132" y="0"/>
                    <a:pt x="21600" y="2010"/>
                    <a:pt x="21600" y="4490"/>
                  </a:cubicBezTo>
                  <a:lnTo>
                    <a:pt x="21600" y="17109"/>
                  </a:lnTo>
                  <a:cubicBezTo>
                    <a:pt x="21600" y="19590"/>
                    <a:pt x="19132" y="21600"/>
                    <a:pt x="16089" y="21600"/>
                  </a:cubicBez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78" name="AutoShape 41"/>
            <p:cNvSpPr/>
            <p:nvPr/>
          </p:nvSpPr>
          <p:spPr>
            <a:xfrm>
              <a:off x="10807560" y="6946920"/>
              <a:ext cx="158760" cy="158760"/>
            </a:xfrm>
            <a:custGeom>
              <a:avLst/>
              <a:gdLst/>
              <a:ahLst/>
              <a:rect l="l" t="t" r="r" b="b"/>
              <a:pathLst>
                <a:path w="21600" h="21600">
                  <a:moveTo>
                    <a:pt x="21600" y="10800"/>
                  </a:moveTo>
                  <a:cubicBezTo>
                    <a:pt x="21600" y="16764"/>
                    <a:pt x="16765" y="21600"/>
                    <a:pt x="10801" y="21600"/>
                  </a:cubicBezTo>
                  <a:cubicBezTo>
                    <a:pt x="4835" y="21600"/>
                    <a:pt x="0" y="16764"/>
                    <a:pt x="0" y="10800"/>
                  </a:cubicBezTo>
                  <a:cubicBezTo>
                    <a:pt x="0" y="4835"/>
                    <a:pt x="4835" y="0"/>
                    <a:pt x="10801" y="0"/>
                  </a:cubicBezTo>
                  <a:cubicBezTo>
                    <a:pt x="16765" y="0"/>
                    <a:pt x="21600" y="4835"/>
                    <a:pt x="21600" y="10800"/>
                  </a:cubicBez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79" name="AutoShape 42"/>
            <p:cNvSpPr/>
            <p:nvPr/>
          </p:nvSpPr>
          <p:spPr>
            <a:xfrm>
              <a:off x="10769400" y="7124760"/>
              <a:ext cx="235080" cy="288720"/>
            </a:xfrm>
            <a:custGeom>
              <a:avLst/>
              <a:gdLst/>
              <a:ahLst/>
              <a:rect l="l" t="t" r="r" b="b"/>
              <a:pathLst>
                <a:path w="21600" h="21600">
                  <a:moveTo>
                    <a:pt x="16091" y="21600"/>
                  </a:moveTo>
                  <a:lnTo>
                    <a:pt x="5510" y="21600"/>
                  </a:lnTo>
                  <a:cubicBezTo>
                    <a:pt x="2467" y="21600"/>
                    <a:pt x="0" y="19589"/>
                    <a:pt x="0" y="17110"/>
                  </a:cubicBezTo>
                  <a:lnTo>
                    <a:pt x="0" y="4490"/>
                  </a:lnTo>
                  <a:cubicBezTo>
                    <a:pt x="0" y="2010"/>
                    <a:pt x="2467" y="0"/>
                    <a:pt x="5510" y="0"/>
                  </a:cubicBezTo>
                  <a:lnTo>
                    <a:pt x="9854" y="0"/>
                  </a:lnTo>
                  <a:lnTo>
                    <a:pt x="8197" y="6833"/>
                  </a:lnTo>
                  <a:lnTo>
                    <a:pt x="10801" y="10136"/>
                  </a:lnTo>
                  <a:lnTo>
                    <a:pt x="13472" y="6797"/>
                  </a:lnTo>
                  <a:lnTo>
                    <a:pt x="11859" y="0"/>
                  </a:lnTo>
                  <a:lnTo>
                    <a:pt x="16091" y="0"/>
                  </a:lnTo>
                  <a:cubicBezTo>
                    <a:pt x="19134" y="0"/>
                    <a:pt x="21600" y="2010"/>
                    <a:pt x="21600" y="4490"/>
                  </a:cubicBezTo>
                  <a:lnTo>
                    <a:pt x="21600" y="17110"/>
                  </a:lnTo>
                  <a:cubicBezTo>
                    <a:pt x="21600" y="19589"/>
                    <a:pt x="19134" y="21600"/>
                    <a:pt x="16091" y="21600"/>
                  </a:cubicBez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0" name="AutoShape 43"/>
            <p:cNvSpPr/>
            <p:nvPr/>
          </p:nvSpPr>
          <p:spPr>
            <a:xfrm>
              <a:off x="10490040" y="6553080"/>
              <a:ext cx="793800" cy="1270080"/>
            </a:xfrm>
            <a:custGeom>
              <a:avLst/>
              <a:gdLst/>
              <a:ahLst/>
              <a:rect l="l" t="t" r="r" b="b"/>
              <a:pathLst>
                <a:path w="21600" h="21600">
                  <a:moveTo>
                    <a:pt x="11802" y="12109"/>
                  </a:moveTo>
                  <a:cubicBezTo>
                    <a:pt x="11475" y="12128"/>
                    <a:pt x="11154" y="12147"/>
                    <a:pt x="10800" y="12147"/>
                  </a:cubicBezTo>
                  <a:cubicBezTo>
                    <a:pt x="10446" y="12147"/>
                    <a:pt x="10125" y="12128"/>
                    <a:pt x="9798" y="12109"/>
                  </a:cubicBezTo>
                  <a:cubicBezTo>
                    <a:pt x="5495" y="11798"/>
                    <a:pt x="2163" y="9518"/>
                    <a:pt x="2163" y="6750"/>
                  </a:cubicBezTo>
                  <a:cubicBezTo>
                    <a:pt x="2163" y="3767"/>
                    <a:pt x="6028" y="1352"/>
                    <a:pt x="10800" y="1352"/>
                  </a:cubicBezTo>
                  <a:cubicBezTo>
                    <a:pt x="15567" y="1352"/>
                    <a:pt x="19437" y="3767"/>
                    <a:pt x="19437" y="6750"/>
                  </a:cubicBezTo>
                  <a:cubicBezTo>
                    <a:pt x="19437" y="9518"/>
                    <a:pt x="16100" y="11798"/>
                    <a:pt x="11802" y="12109"/>
                  </a:cubicBezTo>
                  <a:moveTo>
                    <a:pt x="10800" y="0"/>
                  </a:moveTo>
                  <a:cubicBezTo>
                    <a:pt x="4836" y="0"/>
                    <a:pt x="0" y="3022"/>
                    <a:pt x="0" y="6750"/>
                  </a:cubicBezTo>
                  <a:cubicBezTo>
                    <a:pt x="0" y="11476"/>
                    <a:pt x="10800" y="21600"/>
                    <a:pt x="10800" y="21600"/>
                  </a:cubicBezTo>
                  <a:cubicBezTo>
                    <a:pt x="10800" y="21600"/>
                    <a:pt x="21600" y="11476"/>
                    <a:pt x="21600" y="6750"/>
                  </a:cubicBezTo>
                  <a:cubicBezTo>
                    <a:pt x="21600" y="3022"/>
                    <a:pt x="16764" y="0"/>
                    <a:pt x="10800" y="0"/>
                  </a:cubicBez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1" name="AutoShape 44"/>
            <p:cNvSpPr/>
            <p:nvPr/>
          </p:nvSpPr>
          <p:spPr>
            <a:xfrm>
              <a:off x="10642320" y="6883200"/>
              <a:ext cx="136800" cy="136440"/>
            </a:xfrm>
            <a:custGeom>
              <a:avLst/>
              <a:gdLst/>
              <a:ahLst/>
              <a:rect l="l" t="t" r="r" b="b"/>
              <a:pathLst>
                <a:path w="21600" h="21600">
                  <a:moveTo>
                    <a:pt x="21600" y="10800"/>
                  </a:moveTo>
                  <a:cubicBezTo>
                    <a:pt x="21600" y="16765"/>
                    <a:pt x="16765" y="21600"/>
                    <a:pt x="10801" y="21600"/>
                  </a:cubicBezTo>
                  <a:cubicBezTo>
                    <a:pt x="4835" y="21600"/>
                    <a:pt x="0" y="16765"/>
                    <a:pt x="0" y="10800"/>
                  </a:cubicBezTo>
                  <a:cubicBezTo>
                    <a:pt x="0" y="4835"/>
                    <a:pt x="4835" y="0"/>
                    <a:pt x="10801" y="0"/>
                  </a:cubicBezTo>
                  <a:cubicBezTo>
                    <a:pt x="16765" y="0"/>
                    <a:pt x="21600" y="4835"/>
                    <a:pt x="21600" y="10800"/>
                  </a:cubicBez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2" name="AutoShape 45"/>
            <p:cNvSpPr/>
            <p:nvPr/>
          </p:nvSpPr>
          <p:spPr>
            <a:xfrm>
              <a:off x="10985400" y="6883200"/>
              <a:ext cx="136440" cy="136440"/>
            </a:xfrm>
            <a:custGeom>
              <a:avLst/>
              <a:gdLst/>
              <a:ahLst/>
              <a:rect l="l" t="t" r="r" b="b"/>
              <a:pathLst>
                <a:path w="21600" h="21600">
                  <a:moveTo>
                    <a:pt x="21600" y="10800"/>
                  </a:moveTo>
                  <a:cubicBezTo>
                    <a:pt x="21600" y="16765"/>
                    <a:pt x="16765" y="21600"/>
                    <a:pt x="10801" y="21600"/>
                  </a:cubicBezTo>
                  <a:cubicBezTo>
                    <a:pt x="4835" y="21600"/>
                    <a:pt x="0" y="16765"/>
                    <a:pt x="0" y="10800"/>
                  </a:cubicBezTo>
                  <a:cubicBezTo>
                    <a:pt x="0" y="4835"/>
                    <a:pt x="4835" y="0"/>
                    <a:pt x="10801" y="0"/>
                  </a:cubicBezTo>
                  <a:cubicBezTo>
                    <a:pt x="16765" y="0"/>
                    <a:pt x="21600" y="4835"/>
                    <a:pt x="21600" y="10800"/>
                  </a:cubicBez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83" name="Group 58"/>
          <p:cNvGrpSpPr/>
          <p:nvPr/>
        </p:nvGrpSpPr>
        <p:grpSpPr>
          <a:xfrm>
            <a:off x="747720" y="6489720"/>
            <a:ext cx="896400" cy="792000"/>
            <a:chOff x="747720" y="6489720"/>
            <a:chExt cx="896400" cy="792000"/>
          </a:xfrm>
        </p:grpSpPr>
        <p:sp>
          <p:nvSpPr>
            <p:cNvPr id="84" name="AutoShape 47"/>
            <p:cNvSpPr/>
            <p:nvPr/>
          </p:nvSpPr>
          <p:spPr>
            <a:xfrm>
              <a:off x="760320" y="6502320"/>
              <a:ext cx="864720" cy="762120"/>
            </a:xfrm>
            <a:custGeom>
              <a:avLst/>
              <a:gdLst/>
              <a:ahLst/>
              <a:rect l="l" t="t" r="r" b="b"/>
              <a:pathLst>
                <a:path w="21600" h="21600">
                  <a:moveTo>
                    <a:pt x="380" y="21600"/>
                  </a:moveTo>
                  <a:cubicBezTo>
                    <a:pt x="303" y="21600"/>
                    <a:pt x="225" y="21573"/>
                    <a:pt x="161" y="21520"/>
                  </a:cubicBezTo>
                  <a:cubicBezTo>
                    <a:pt x="60" y="21440"/>
                    <a:pt x="0" y="21308"/>
                    <a:pt x="0" y="21169"/>
                  </a:cubicBezTo>
                  <a:lnTo>
                    <a:pt x="0" y="3200"/>
                  </a:lnTo>
                  <a:cubicBezTo>
                    <a:pt x="0" y="3017"/>
                    <a:pt x="102" y="2854"/>
                    <a:pt x="255" y="2794"/>
                  </a:cubicBezTo>
                  <a:lnTo>
                    <a:pt x="7201" y="24"/>
                  </a:lnTo>
                  <a:cubicBezTo>
                    <a:pt x="7241" y="8"/>
                    <a:pt x="7284" y="0"/>
                    <a:pt x="7327" y="0"/>
                  </a:cubicBezTo>
                  <a:cubicBezTo>
                    <a:pt x="7369" y="0"/>
                    <a:pt x="7412" y="8"/>
                    <a:pt x="7453" y="24"/>
                  </a:cubicBezTo>
                  <a:lnTo>
                    <a:pt x="14273" y="2743"/>
                  </a:lnTo>
                  <a:lnTo>
                    <a:pt x="21094" y="24"/>
                  </a:lnTo>
                  <a:cubicBezTo>
                    <a:pt x="21135" y="8"/>
                    <a:pt x="21177" y="0"/>
                    <a:pt x="21219" y="0"/>
                  </a:cubicBezTo>
                  <a:cubicBezTo>
                    <a:pt x="21297" y="0"/>
                    <a:pt x="21374" y="27"/>
                    <a:pt x="21440" y="79"/>
                  </a:cubicBezTo>
                  <a:cubicBezTo>
                    <a:pt x="21540" y="160"/>
                    <a:pt x="21600" y="291"/>
                    <a:pt x="21600" y="431"/>
                  </a:cubicBezTo>
                  <a:lnTo>
                    <a:pt x="21600" y="18400"/>
                  </a:lnTo>
                  <a:cubicBezTo>
                    <a:pt x="21600" y="18583"/>
                    <a:pt x="21498" y="18746"/>
                    <a:pt x="21346" y="18806"/>
                  </a:cubicBezTo>
                  <a:lnTo>
                    <a:pt x="14399" y="21575"/>
                  </a:lnTo>
                  <a:cubicBezTo>
                    <a:pt x="14359" y="21592"/>
                    <a:pt x="14316" y="21600"/>
                    <a:pt x="14273" y="21600"/>
                  </a:cubicBezTo>
                  <a:cubicBezTo>
                    <a:pt x="14231" y="21600"/>
                    <a:pt x="14188" y="21592"/>
                    <a:pt x="14147" y="21575"/>
                  </a:cubicBezTo>
                  <a:lnTo>
                    <a:pt x="7327" y="18857"/>
                  </a:lnTo>
                  <a:lnTo>
                    <a:pt x="506" y="21575"/>
                  </a:lnTo>
                  <a:cubicBezTo>
                    <a:pt x="465" y="21592"/>
                    <a:pt x="423" y="21600"/>
                    <a:pt x="380" y="21600"/>
                  </a:cubicBez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5" name="AutoShape 48"/>
            <p:cNvSpPr/>
            <p:nvPr/>
          </p:nvSpPr>
          <p:spPr>
            <a:xfrm>
              <a:off x="747720" y="6489720"/>
              <a:ext cx="896400" cy="792000"/>
            </a:xfrm>
            <a:custGeom>
              <a:avLst/>
              <a:gdLst/>
              <a:ahLst/>
              <a:rect l="l" t="t" r="r" b="b"/>
              <a:pathLst>
                <a:path w="21600" h="21600">
                  <a:moveTo>
                    <a:pt x="20866" y="0"/>
                  </a:moveTo>
                  <a:cubicBezTo>
                    <a:pt x="20784" y="0"/>
                    <a:pt x="20701" y="16"/>
                    <a:pt x="20622" y="47"/>
                  </a:cubicBezTo>
                  <a:lnTo>
                    <a:pt x="14155" y="2613"/>
                  </a:lnTo>
                  <a:lnTo>
                    <a:pt x="7689" y="47"/>
                  </a:lnTo>
                  <a:cubicBezTo>
                    <a:pt x="7610" y="16"/>
                    <a:pt x="7527" y="0"/>
                    <a:pt x="7445" y="0"/>
                  </a:cubicBezTo>
                  <a:cubicBezTo>
                    <a:pt x="7362" y="0"/>
                    <a:pt x="7280" y="16"/>
                    <a:pt x="7201" y="47"/>
                  </a:cubicBezTo>
                  <a:lnTo>
                    <a:pt x="491" y="2710"/>
                  </a:lnTo>
                  <a:cubicBezTo>
                    <a:pt x="197" y="2826"/>
                    <a:pt x="0" y="3140"/>
                    <a:pt x="0" y="3492"/>
                  </a:cubicBezTo>
                  <a:lnTo>
                    <a:pt x="0" y="20771"/>
                  </a:lnTo>
                  <a:cubicBezTo>
                    <a:pt x="0" y="21040"/>
                    <a:pt x="115" y="21292"/>
                    <a:pt x="310" y="21447"/>
                  </a:cubicBezTo>
                  <a:cubicBezTo>
                    <a:pt x="436" y="21548"/>
                    <a:pt x="585" y="21600"/>
                    <a:pt x="734" y="21600"/>
                  </a:cubicBezTo>
                  <a:cubicBezTo>
                    <a:pt x="816" y="21600"/>
                    <a:pt x="899" y="21584"/>
                    <a:pt x="978" y="21553"/>
                  </a:cubicBezTo>
                  <a:lnTo>
                    <a:pt x="7445" y="18987"/>
                  </a:lnTo>
                  <a:lnTo>
                    <a:pt x="13911" y="21553"/>
                  </a:lnTo>
                  <a:cubicBezTo>
                    <a:pt x="13990" y="21584"/>
                    <a:pt x="14073" y="21600"/>
                    <a:pt x="14155" y="21600"/>
                  </a:cubicBezTo>
                  <a:cubicBezTo>
                    <a:pt x="14238" y="21600"/>
                    <a:pt x="14320" y="21584"/>
                    <a:pt x="14399" y="21553"/>
                  </a:cubicBezTo>
                  <a:lnTo>
                    <a:pt x="21109" y="18890"/>
                  </a:lnTo>
                  <a:cubicBezTo>
                    <a:pt x="21403" y="18773"/>
                    <a:pt x="21600" y="18460"/>
                    <a:pt x="21600" y="18108"/>
                  </a:cubicBezTo>
                  <a:lnTo>
                    <a:pt x="21600" y="829"/>
                  </a:lnTo>
                  <a:cubicBezTo>
                    <a:pt x="21600" y="560"/>
                    <a:pt x="21485" y="308"/>
                    <a:pt x="21290" y="152"/>
                  </a:cubicBezTo>
                  <a:cubicBezTo>
                    <a:pt x="21164" y="52"/>
                    <a:pt x="21015" y="0"/>
                    <a:pt x="20866" y="0"/>
                  </a:cubicBezTo>
                  <a:moveTo>
                    <a:pt x="20866" y="829"/>
                  </a:moveTo>
                  <a:lnTo>
                    <a:pt x="20866" y="18108"/>
                  </a:lnTo>
                  <a:lnTo>
                    <a:pt x="14155" y="20771"/>
                  </a:lnTo>
                  <a:lnTo>
                    <a:pt x="7445" y="18108"/>
                  </a:lnTo>
                  <a:lnTo>
                    <a:pt x="734" y="20771"/>
                  </a:lnTo>
                  <a:lnTo>
                    <a:pt x="734" y="3492"/>
                  </a:lnTo>
                  <a:lnTo>
                    <a:pt x="7445" y="829"/>
                  </a:lnTo>
                  <a:lnTo>
                    <a:pt x="14155" y="3492"/>
                  </a:lnTo>
                  <a:lnTo>
                    <a:pt x="20866" y="829"/>
                  </a:ln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6" name="AutoShape 49"/>
            <p:cNvSpPr/>
            <p:nvPr/>
          </p:nvSpPr>
          <p:spPr>
            <a:xfrm>
              <a:off x="1051200" y="6527880"/>
              <a:ext cx="279720" cy="731880"/>
            </a:xfrm>
            <a:custGeom>
              <a:avLst/>
              <a:gdLst/>
              <a:ahLst/>
              <a:rect l="l" t="t" r="r" b="b"/>
              <a:pathLst>
                <a:path w="21600" h="21600">
                  <a:moveTo>
                    <a:pt x="0" y="18716"/>
                  </a:moveTo>
                  <a:lnTo>
                    <a:pt x="21600" y="21600"/>
                  </a:lnTo>
                  <a:lnTo>
                    <a:pt x="21600" y="2884"/>
                  </a:lnTo>
                  <a:lnTo>
                    <a:pt x="0" y="0"/>
                  </a:lnTo>
                  <a:cubicBezTo>
                    <a:pt x="0" y="0"/>
                    <a:pt x="0" y="18716"/>
                    <a:pt x="0" y="18716"/>
                  </a:cubicBezTo>
                  <a:close/>
                  <a:moveTo>
                    <a:pt x="0" y="18716"/>
                  </a:moveTo>
                </a:path>
              </a:pathLst>
            </a:custGeom>
            <a:solidFill>
              <a:srgbClr val="d4d4d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7" name="Line 50"/>
            <p:cNvSpPr/>
            <p:nvPr/>
          </p:nvSpPr>
          <p:spPr>
            <a:xfrm>
              <a:off x="1485360" y="6620040"/>
              <a:ext cx="0" cy="201600"/>
            </a:xfrm>
            <a:prstGeom prst="line">
              <a:avLst/>
            </a:prstGeom>
            <a:ln w="10080">
              <a:solidFill>
                <a:srgbClr val="d47270"/>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8" name="AutoShape 51"/>
            <p:cNvSpPr/>
            <p:nvPr/>
          </p:nvSpPr>
          <p:spPr>
            <a:xfrm>
              <a:off x="1485360" y="6616800"/>
              <a:ext cx="87480" cy="101520"/>
            </a:xfrm>
            <a:custGeom>
              <a:avLst/>
              <a:gdLst/>
              <a:ahLst/>
              <a:rect l="l" t="t" r="r" b="b"/>
              <a:pathLst>
                <a:path w="21600" h="21600">
                  <a:moveTo>
                    <a:pt x="0" y="0"/>
                  </a:moveTo>
                  <a:lnTo>
                    <a:pt x="21600" y="10798"/>
                  </a:lnTo>
                  <a:lnTo>
                    <a:pt x="0" y="21600"/>
                  </a:lnTo>
                  <a:cubicBezTo>
                    <a:pt x="0" y="21600"/>
                    <a:pt x="0" y="0"/>
                    <a:pt x="0" y="0"/>
                  </a:cubicBezTo>
                  <a:close/>
                  <a:moveTo>
                    <a:pt x="0" y="0"/>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9" name="AutoShape 52"/>
            <p:cNvSpPr/>
            <p:nvPr/>
          </p:nvSpPr>
          <p:spPr>
            <a:xfrm>
              <a:off x="824040" y="6870600"/>
              <a:ext cx="222120" cy="223920"/>
            </a:xfrm>
            <a:custGeom>
              <a:avLst/>
              <a:gdLst/>
              <a:ahLst/>
              <a:rect l="l" t="t" r="r" b="b"/>
              <a:pathLst>
                <a:path w="21600" h="21600">
                  <a:moveTo>
                    <a:pt x="0" y="15633"/>
                  </a:moveTo>
                  <a:lnTo>
                    <a:pt x="6015" y="21600"/>
                  </a:lnTo>
                  <a:lnTo>
                    <a:pt x="21600" y="8026"/>
                  </a:lnTo>
                  <a:lnTo>
                    <a:pt x="21600" y="0"/>
                  </a:lnTo>
                  <a:cubicBezTo>
                    <a:pt x="21600" y="0"/>
                    <a:pt x="0" y="15633"/>
                    <a:pt x="0" y="15633"/>
                  </a:cubicBezTo>
                  <a:close/>
                  <a:moveTo>
                    <a:pt x="0" y="15633"/>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90" name="AutoShape 53"/>
            <p:cNvSpPr/>
            <p:nvPr/>
          </p:nvSpPr>
          <p:spPr>
            <a:xfrm>
              <a:off x="1051200" y="6870600"/>
              <a:ext cx="279720" cy="149400"/>
            </a:xfrm>
            <a:custGeom>
              <a:avLst/>
              <a:gdLst/>
              <a:ahLst/>
              <a:rect l="l" t="t" r="r" b="b"/>
              <a:pathLst>
                <a:path w="21600" h="21600">
                  <a:moveTo>
                    <a:pt x="21600" y="12971"/>
                  </a:moveTo>
                  <a:lnTo>
                    <a:pt x="21600" y="21600"/>
                  </a:lnTo>
                  <a:lnTo>
                    <a:pt x="0" y="12031"/>
                  </a:lnTo>
                  <a:lnTo>
                    <a:pt x="0" y="0"/>
                  </a:lnTo>
                  <a:cubicBezTo>
                    <a:pt x="0" y="0"/>
                    <a:pt x="21600" y="12971"/>
                    <a:pt x="21600" y="12971"/>
                  </a:cubicBezTo>
                  <a:close/>
                  <a:moveTo>
                    <a:pt x="21600" y="12971"/>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91" name="AutoShape 54"/>
            <p:cNvSpPr/>
            <p:nvPr/>
          </p:nvSpPr>
          <p:spPr>
            <a:xfrm>
              <a:off x="1332720" y="6819840"/>
              <a:ext cx="158760" cy="204840"/>
            </a:xfrm>
            <a:custGeom>
              <a:avLst/>
              <a:gdLst/>
              <a:ahLst/>
              <a:rect l="l" t="t" r="r" b="b"/>
              <a:pathLst>
                <a:path w="21600" h="21600">
                  <a:moveTo>
                    <a:pt x="0" y="15336"/>
                  </a:moveTo>
                  <a:lnTo>
                    <a:pt x="0" y="21600"/>
                  </a:lnTo>
                  <a:lnTo>
                    <a:pt x="21600" y="0"/>
                  </a:lnTo>
                  <a:cubicBezTo>
                    <a:pt x="21600" y="0"/>
                    <a:pt x="0" y="15336"/>
                    <a:pt x="0" y="15336"/>
                  </a:cubicBezTo>
                  <a:close/>
                  <a:moveTo>
                    <a:pt x="0" y="15336"/>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92" name="Line 55"/>
            <p:cNvSpPr/>
            <p:nvPr/>
          </p:nvSpPr>
          <p:spPr>
            <a:xfrm flipH="1">
              <a:off x="825480" y="7029360"/>
              <a:ext cx="68400" cy="69840"/>
            </a:xfrm>
            <a:prstGeom prst="line">
              <a:avLst/>
            </a:prstGeom>
            <a:ln w="20160">
              <a:solidFill>
                <a:srgbClr val="d47270"/>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93" name="Line 56"/>
            <p:cNvSpPr/>
            <p:nvPr/>
          </p:nvSpPr>
          <p:spPr>
            <a:xfrm>
              <a:off x="825480" y="7029360"/>
              <a:ext cx="68400" cy="69840"/>
            </a:xfrm>
            <a:prstGeom prst="line">
              <a:avLst/>
            </a:prstGeom>
            <a:ln w="20160">
              <a:solidFill>
                <a:srgbClr val="d47270"/>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94" name="AutoShape 57"/>
            <p:cNvSpPr/>
            <p:nvPr/>
          </p:nvSpPr>
          <p:spPr>
            <a:xfrm>
              <a:off x="1408680" y="6807240"/>
              <a:ext cx="81000" cy="85680"/>
            </a:xfrm>
            <a:custGeom>
              <a:avLst/>
              <a:gdLst/>
              <a:ahLst/>
              <a:rect l="l" t="t" r="r" b="b"/>
              <a:pathLst>
                <a:path w="21600" h="21600">
                  <a:moveTo>
                    <a:pt x="0" y="11185"/>
                  </a:moveTo>
                  <a:lnTo>
                    <a:pt x="21600" y="0"/>
                  </a:lnTo>
                  <a:lnTo>
                    <a:pt x="12481" y="21600"/>
                  </a:lnTo>
                  <a:cubicBezTo>
                    <a:pt x="12481" y="21600"/>
                    <a:pt x="0" y="11185"/>
                    <a:pt x="0" y="11185"/>
                  </a:cubicBezTo>
                  <a:close/>
                  <a:moveTo>
                    <a:pt x="0" y="11185"/>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95" name="Rectangle 59"/>
          <p:cNvSpPr/>
          <p:nvPr/>
        </p:nvSpPr>
        <p:spPr>
          <a:xfrm>
            <a:off x="4000680" y="7467480"/>
            <a:ext cx="1212840" cy="5907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a1a"/>
                </a:solidFill>
                <a:latin typeface="Lora Bold"/>
                <a:ea typeface="ＭＳ Ｐゴシック"/>
              </a:rPr>
              <a:t>Year</a:t>
            </a:r>
            <a:endParaRPr b="0" lang="en-US" sz="3000" spc="-1" strike="noStrike">
              <a:solidFill>
                <a:srgbClr val="595959"/>
              </a:solidFill>
              <a:latin typeface="Lora"/>
            </a:endParaRPr>
          </a:p>
        </p:txBody>
      </p:sp>
      <p:sp>
        <p:nvSpPr>
          <p:cNvPr id="96" name="Rectangle 60"/>
          <p:cNvSpPr/>
          <p:nvPr/>
        </p:nvSpPr>
        <p:spPr>
          <a:xfrm>
            <a:off x="4191120" y="7912080"/>
            <a:ext cx="85716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1999</a:t>
            </a:r>
            <a:endParaRPr b="0" lang="en-US" sz="1800" spc="-1" strike="noStrike">
              <a:solidFill>
                <a:srgbClr val="595959"/>
              </a:solidFill>
              <a:latin typeface="Lora"/>
            </a:endParaRPr>
          </a:p>
        </p:txBody>
      </p:sp>
      <p:sp>
        <p:nvSpPr>
          <p:cNvPr id="97" name="Rectangle 61"/>
          <p:cNvSpPr/>
          <p:nvPr/>
        </p:nvSpPr>
        <p:spPr>
          <a:xfrm>
            <a:off x="8889840" y="6489720"/>
            <a:ext cx="1212840" cy="5904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a1a"/>
                </a:solidFill>
                <a:latin typeface="Lora Bold"/>
                <a:ea typeface="ＭＳ Ｐゴシック"/>
              </a:rPr>
              <a:t>Year</a:t>
            </a:r>
            <a:endParaRPr b="0" lang="en-US" sz="3000" spc="-1" strike="noStrike">
              <a:solidFill>
                <a:srgbClr val="595959"/>
              </a:solidFill>
              <a:latin typeface="Lora"/>
            </a:endParaRPr>
          </a:p>
        </p:txBody>
      </p:sp>
      <p:sp>
        <p:nvSpPr>
          <p:cNvPr id="98" name="Rectangle 62"/>
          <p:cNvSpPr/>
          <p:nvPr/>
        </p:nvSpPr>
        <p:spPr>
          <a:xfrm>
            <a:off x="9080640" y="6934320"/>
            <a:ext cx="85716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2015</a:t>
            </a:r>
            <a:endParaRPr b="0" lang="en-US" sz="1800" spc="-1" strike="noStrike">
              <a:solidFill>
                <a:srgbClr val="595959"/>
              </a:solidFill>
              <a:latin typeface="Lora"/>
            </a:endParaRPr>
          </a:p>
        </p:txBody>
      </p:sp>
      <p:sp>
        <p:nvSpPr>
          <p:cNvPr id="99" name="Rectangle 63"/>
          <p:cNvSpPr/>
          <p:nvPr/>
        </p:nvSpPr>
        <p:spPr>
          <a:xfrm>
            <a:off x="1841400" y="6489720"/>
            <a:ext cx="1212840" cy="5904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a1a"/>
                </a:solidFill>
                <a:latin typeface="Lora Bold"/>
                <a:ea typeface="ＭＳ Ｐゴシック"/>
              </a:rPr>
              <a:t>Year</a:t>
            </a:r>
            <a:endParaRPr b="0" lang="en-US" sz="3000" spc="-1" strike="noStrike">
              <a:solidFill>
                <a:srgbClr val="595959"/>
              </a:solidFill>
              <a:latin typeface="Lora"/>
            </a:endParaRPr>
          </a:p>
        </p:txBody>
      </p:sp>
      <p:sp>
        <p:nvSpPr>
          <p:cNvPr id="100" name="Rectangle 64"/>
          <p:cNvSpPr/>
          <p:nvPr/>
        </p:nvSpPr>
        <p:spPr>
          <a:xfrm>
            <a:off x="2031840" y="6934320"/>
            <a:ext cx="85752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1992</a:t>
            </a:r>
            <a:endParaRPr b="0" lang="en-US" sz="1800" spc="-1" strike="noStrike">
              <a:solidFill>
                <a:srgbClr val="595959"/>
              </a:solidFill>
              <a:latin typeface="Lora"/>
            </a:endParaRPr>
          </a:p>
        </p:txBody>
      </p:sp>
      <p:sp>
        <p:nvSpPr>
          <p:cNvPr id="101" name="Rectangle 65"/>
          <p:cNvSpPr/>
          <p:nvPr/>
        </p:nvSpPr>
        <p:spPr>
          <a:xfrm>
            <a:off x="861840" y="2490840"/>
            <a:ext cx="11273040" cy="1390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Lora Bold"/>
                <a:ea typeface="ＭＳ Ｐゴシック"/>
              </a:rPr>
              <a:t>Easily Modify as all assets are vector based</a:t>
            </a:r>
            <a:endParaRPr b="0" lang="en-US" sz="18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Phasellus nec dui accumsan. Lorem ipsum dolor sit amet, consectetur adipiscing elit. Suspendisse hendrerit fermentum arcu, nec efficitur sem ultrices id. Praesent quis magna viverra turpis rutrum pellentesque in ac nulla. </a:t>
            </a:r>
            <a:endParaRPr b="0" lang="en-US" sz="1800" spc="-1" strike="noStrike">
              <a:solidFill>
                <a:srgbClr val="595959"/>
              </a:solidFill>
              <a:latin typeface="Lo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Line 1"/>
          <p:cNvSpPr/>
          <p:nvPr/>
        </p:nvSpPr>
        <p:spPr>
          <a:xfrm>
            <a:off x="4410000" y="5291280"/>
            <a:ext cx="4195800" cy="0"/>
          </a:xfrm>
          <a:prstGeom prst="line">
            <a:avLst/>
          </a:prstGeom>
          <a:ln w="101520">
            <a:solidFill>
              <a:srgbClr val="9ab737"/>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512" name="Line 2"/>
          <p:cNvSpPr/>
          <p:nvPr/>
        </p:nvSpPr>
        <p:spPr>
          <a:xfrm>
            <a:off x="1592280" y="5291280"/>
            <a:ext cx="2787480" cy="0"/>
          </a:xfrm>
          <a:prstGeom prst="line">
            <a:avLst/>
          </a:prstGeom>
          <a:ln w="101520">
            <a:solidFill>
              <a:srgbClr val="b7cc7c"/>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513" name="Oval 3"/>
          <p:cNvSpPr/>
          <p:nvPr/>
        </p:nvSpPr>
        <p:spPr>
          <a:xfrm>
            <a:off x="2760840" y="5068800"/>
            <a:ext cx="450720" cy="453960"/>
          </a:xfrm>
          <a:prstGeom prst="ellipse">
            <a:avLst/>
          </a:prstGeom>
          <a:solidFill>
            <a:srgbClr val="b7cc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14" name="Oval 4"/>
          <p:cNvSpPr/>
          <p:nvPr/>
        </p:nvSpPr>
        <p:spPr>
          <a:xfrm>
            <a:off x="4168800" y="5068800"/>
            <a:ext cx="4525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15" name="Oval 5"/>
          <p:cNvSpPr/>
          <p:nvPr/>
        </p:nvSpPr>
        <p:spPr>
          <a:xfrm>
            <a:off x="5578560" y="5068800"/>
            <a:ext cx="4507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16" name="Oval 6"/>
          <p:cNvSpPr/>
          <p:nvPr/>
        </p:nvSpPr>
        <p:spPr>
          <a:xfrm>
            <a:off x="6986520" y="5068800"/>
            <a:ext cx="45108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17" name="Oval 7"/>
          <p:cNvSpPr/>
          <p:nvPr/>
        </p:nvSpPr>
        <p:spPr>
          <a:xfrm>
            <a:off x="8396280" y="5068800"/>
            <a:ext cx="450720" cy="45396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18" name="Oval 8"/>
          <p:cNvSpPr/>
          <p:nvPr/>
        </p:nvSpPr>
        <p:spPr>
          <a:xfrm>
            <a:off x="9804240" y="5068800"/>
            <a:ext cx="451080" cy="45396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19" name="Oval 9"/>
          <p:cNvSpPr/>
          <p:nvPr/>
        </p:nvSpPr>
        <p:spPr>
          <a:xfrm>
            <a:off x="11212560" y="5068800"/>
            <a:ext cx="452520" cy="45396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nvGrpSpPr>
          <p:cNvPr id="520" name="Group 12"/>
          <p:cNvGrpSpPr/>
          <p:nvPr/>
        </p:nvGrpSpPr>
        <p:grpSpPr>
          <a:xfrm>
            <a:off x="865080" y="2746440"/>
            <a:ext cx="1390680" cy="2477520"/>
            <a:chOff x="865080" y="2746440"/>
            <a:chExt cx="1390680" cy="2477520"/>
          </a:xfrm>
        </p:grpSpPr>
        <p:sp>
          <p:nvSpPr>
            <p:cNvPr id="521" name="Rectangle 10"/>
            <p:cNvSpPr/>
            <p:nvPr/>
          </p:nvSpPr>
          <p:spPr>
            <a:xfrm>
              <a:off x="1536480" y="4087080"/>
              <a:ext cx="88920" cy="1136880"/>
            </a:xfrm>
            <a:prstGeom prst="rect">
              <a:avLst/>
            </a:prstGeom>
            <a:solidFill>
              <a:srgbClr val="b7cc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22" name="AutoShape 11"/>
            <p:cNvSpPr/>
            <p:nvPr/>
          </p:nvSpPr>
          <p:spPr>
            <a:xfrm>
              <a:off x="865080" y="2746440"/>
              <a:ext cx="1390680" cy="138492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b7cc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523" name="Rectangle 13"/>
          <p:cNvSpPr/>
          <p:nvPr/>
        </p:nvSpPr>
        <p:spPr>
          <a:xfrm>
            <a:off x="5592600" y="2719440"/>
            <a:ext cx="6053400" cy="1670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Suspendisse hendrerit fermentum arcu, nec efficitur sem ultrices id. Praesent quis magna viverra turpis rutrum pellentesque in ac nulla.</a:t>
            </a:r>
            <a:endParaRPr b="0" lang="en-US" sz="2200" spc="-1" strike="noStrike">
              <a:solidFill>
                <a:srgbClr val="595959"/>
              </a:solidFill>
              <a:latin typeface="Lora"/>
            </a:endParaRPr>
          </a:p>
        </p:txBody>
      </p:sp>
      <p:sp>
        <p:nvSpPr>
          <p:cNvPr id="524" name="Rectangle 14"/>
          <p:cNvSpPr/>
          <p:nvPr/>
        </p:nvSpPr>
        <p:spPr>
          <a:xfrm>
            <a:off x="825480" y="6172200"/>
            <a:ext cx="4133880" cy="1670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raesent quis magna viverra turpis rutrum pellentesque in ac nulla. Nulla facilisi.</a:t>
            </a:r>
            <a:endParaRPr b="0" lang="en-US" sz="2200" spc="-1" strike="noStrike">
              <a:solidFill>
                <a:srgbClr val="595959"/>
              </a:solidFill>
              <a:latin typeface="Lora"/>
            </a:endParaRPr>
          </a:p>
        </p:txBody>
      </p:sp>
      <p:grpSp>
        <p:nvGrpSpPr>
          <p:cNvPr id="525" name="Group 17"/>
          <p:cNvGrpSpPr/>
          <p:nvPr/>
        </p:nvGrpSpPr>
        <p:grpSpPr>
          <a:xfrm>
            <a:off x="3665520" y="2746440"/>
            <a:ext cx="1390680" cy="2477520"/>
            <a:chOff x="3665520" y="2746440"/>
            <a:chExt cx="1390680" cy="2477520"/>
          </a:xfrm>
        </p:grpSpPr>
        <p:sp>
          <p:nvSpPr>
            <p:cNvPr id="526" name="Rectangle 15"/>
            <p:cNvSpPr/>
            <p:nvPr/>
          </p:nvSpPr>
          <p:spPr>
            <a:xfrm>
              <a:off x="4336920" y="4087080"/>
              <a:ext cx="88920" cy="1136880"/>
            </a:xfrm>
            <a:prstGeom prst="rect">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27" name="AutoShape 16"/>
            <p:cNvSpPr/>
            <p:nvPr/>
          </p:nvSpPr>
          <p:spPr>
            <a:xfrm>
              <a:off x="3665520" y="2746440"/>
              <a:ext cx="1390680" cy="138492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528" name="Rectangle 18"/>
          <p:cNvSpPr/>
          <p:nvPr/>
        </p:nvSpPr>
        <p:spPr>
          <a:xfrm>
            <a:off x="10866600" y="6634080"/>
            <a:ext cx="1214280" cy="4651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Results</a:t>
            </a:r>
            <a:endParaRPr b="0" lang="en-US" sz="2200" spc="-1" strike="noStrike">
              <a:solidFill>
                <a:srgbClr val="595959"/>
              </a:solidFill>
              <a:latin typeface="Lora"/>
            </a:endParaRPr>
          </a:p>
        </p:txBody>
      </p:sp>
      <p:grpSp>
        <p:nvGrpSpPr>
          <p:cNvPr id="529" name="Group 21"/>
          <p:cNvGrpSpPr/>
          <p:nvPr/>
        </p:nvGrpSpPr>
        <p:grpSpPr>
          <a:xfrm>
            <a:off x="10772280" y="5199120"/>
            <a:ext cx="1390680" cy="2477520"/>
            <a:chOff x="10772280" y="5199120"/>
            <a:chExt cx="1390680" cy="2477520"/>
          </a:xfrm>
        </p:grpSpPr>
        <p:sp>
          <p:nvSpPr>
            <p:cNvPr id="530" name="Rectangle 19"/>
            <p:cNvSpPr/>
            <p:nvPr/>
          </p:nvSpPr>
          <p:spPr>
            <a:xfrm rot="10800000">
              <a:off x="11402640" y="5199120"/>
              <a:ext cx="88920" cy="1136880"/>
            </a:xfrm>
            <a:prstGeom prst="rect">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31" name="AutoShape 20"/>
            <p:cNvSpPr/>
            <p:nvPr/>
          </p:nvSpPr>
          <p:spPr>
            <a:xfrm rot="10800000">
              <a:off x="10772280" y="6291720"/>
              <a:ext cx="1390680" cy="138492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532" name="Rectangle 22"/>
          <p:cNvSpPr/>
          <p:nvPr/>
        </p:nvSpPr>
        <p:spPr>
          <a:xfrm>
            <a:off x="6645240" y="6093000"/>
            <a:ext cx="3676680" cy="1670040"/>
          </a:xfrm>
          <a:prstGeom prst="rect">
            <a:avLst/>
          </a:prstGeom>
          <a:noFill/>
          <a:ln w="0">
            <a:noFill/>
          </a:ln>
        </p:spPr>
        <p:style>
          <a:lnRef idx="0"/>
          <a:fillRef idx="0"/>
          <a:effectRef idx="0"/>
          <a:fontRef idx="minor"/>
        </p:style>
        <p:txBody>
          <a:bodyPr lIns="0" rIns="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Suspendisse hendrerit fermentum arcu, nec efficitur sem ultrices id.</a:t>
            </a:r>
            <a:endParaRPr b="0" lang="en-US" sz="2200" spc="-1" strike="noStrike">
              <a:solidFill>
                <a:srgbClr val="595959"/>
              </a:solidFill>
              <a:latin typeface="Lora"/>
            </a:endParaRPr>
          </a:p>
        </p:txBody>
      </p:sp>
      <p:sp>
        <p:nvSpPr>
          <p:cNvPr id="533" name="Oval 23"/>
          <p:cNvSpPr/>
          <p:nvPr/>
        </p:nvSpPr>
        <p:spPr>
          <a:xfrm>
            <a:off x="1360440" y="5060880"/>
            <a:ext cx="450720" cy="453960"/>
          </a:xfrm>
          <a:prstGeom prst="ellipse">
            <a:avLst/>
          </a:prstGeom>
          <a:solidFill>
            <a:srgbClr val="b7cc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34" name="Rectangle 24"/>
          <p:cNvSpPr/>
          <p:nvPr/>
        </p:nvSpPr>
        <p:spPr>
          <a:xfrm>
            <a:off x="10866600" y="6981840"/>
            <a:ext cx="121428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Lorem</a:t>
            </a:r>
            <a:endParaRPr b="0" lang="en-US" sz="1800" spc="-1" strike="noStrike">
              <a:solidFill>
                <a:srgbClr val="595959"/>
              </a:solidFill>
              <a:latin typeface="Lora"/>
            </a:endParaRPr>
          </a:p>
        </p:txBody>
      </p:sp>
      <p:sp>
        <p:nvSpPr>
          <p:cNvPr id="535" name="Rectangle 25"/>
          <p:cNvSpPr/>
          <p:nvPr/>
        </p:nvSpPr>
        <p:spPr>
          <a:xfrm>
            <a:off x="954000" y="3060720"/>
            <a:ext cx="1212840" cy="4636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tart</a:t>
            </a:r>
            <a:endParaRPr b="0" lang="en-US" sz="2200" spc="-1" strike="noStrike">
              <a:solidFill>
                <a:srgbClr val="595959"/>
              </a:solidFill>
              <a:latin typeface="Lora"/>
            </a:endParaRPr>
          </a:p>
        </p:txBody>
      </p:sp>
      <p:sp>
        <p:nvSpPr>
          <p:cNvPr id="536" name="Rectangle 26"/>
          <p:cNvSpPr/>
          <p:nvPr/>
        </p:nvSpPr>
        <p:spPr>
          <a:xfrm>
            <a:off x="954000" y="3406680"/>
            <a:ext cx="121284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Ipsum</a:t>
            </a:r>
            <a:endParaRPr b="0" lang="en-US" sz="1800" spc="-1" strike="noStrike">
              <a:solidFill>
                <a:srgbClr val="595959"/>
              </a:solidFill>
              <a:latin typeface="Lora"/>
            </a:endParaRPr>
          </a:p>
        </p:txBody>
      </p:sp>
      <p:sp>
        <p:nvSpPr>
          <p:cNvPr id="537" name="Rectangle 27"/>
          <p:cNvSpPr/>
          <p:nvPr/>
        </p:nvSpPr>
        <p:spPr>
          <a:xfrm>
            <a:off x="3749760" y="3068640"/>
            <a:ext cx="1212840" cy="4636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Data</a:t>
            </a:r>
            <a:endParaRPr b="0" lang="en-US" sz="2200" spc="-1" strike="noStrike">
              <a:solidFill>
                <a:srgbClr val="595959"/>
              </a:solidFill>
              <a:latin typeface="Lora"/>
            </a:endParaRPr>
          </a:p>
        </p:txBody>
      </p:sp>
      <p:sp>
        <p:nvSpPr>
          <p:cNvPr id="538" name="Rectangle 28"/>
          <p:cNvSpPr/>
          <p:nvPr/>
        </p:nvSpPr>
        <p:spPr>
          <a:xfrm>
            <a:off x="3749760" y="3414600"/>
            <a:ext cx="121284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Lorem</a:t>
            </a:r>
            <a:endParaRPr b="0" lang="en-US" sz="1800" spc="-1" strike="noStrike">
              <a:solidFill>
                <a:srgbClr val="595959"/>
              </a:solidFill>
              <a:latin typeface="Lora"/>
            </a:endParaRPr>
          </a:p>
        </p:txBody>
      </p:sp>
      <p:sp>
        <p:nvSpPr>
          <p:cNvPr id="539" name="Line 29"/>
          <p:cNvSpPr/>
          <p:nvPr/>
        </p:nvSpPr>
        <p:spPr>
          <a:xfrm>
            <a:off x="8636040" y="5291280"/>
            <a:ext cx="2787480" cy="0"/>
          </a:xfrm>
          <a:prstGeom prst="line">
            <a:avLst/>
          </a:prstGeom>
          <a:ln w="101520">
            <a:solidFill>
              <a:srgbClr val="5a697c"/>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540" name="Rectangle 30"/>
          <p:cNvSpPr/>
          <p:nvPr/>
        </p:nvSpPr>
        <p:spPr>
          <a:xfrm>
            <a:off x="833760" y="628560"/>
            <a:ext cx="36806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Timeline (·9·)</a:t>
            </a:r>
            <a:endParaRPr b="0" lang="en-US" sz="4800" spc="-1" strike="noStrike">
              <a:solidFill>
                <a:srgbClr val="595959"/>
              </a:solidFill>
              <a:latin typeface="Lora"/>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
          <p:cNvSpPr/>
          <p:nvPr/>
        </p:nvSpPr>
        <p:spPr>
          <a:xfrm>
            <a:off x="272880" y="4210200"/>
            <a:ext cx="12152520" cy="129384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76767"/>
                </a:solidFill>
                <a:latin typeface="Arial"/>
                <a:ea typeface="ＭＳ Ｐゴシック"/>
              </a:rPr>
              <a:t>Visit </a:t>
            </a:r>
            <a:r>
              <a:rPr b="1" lang="en-US" sz="4400" spc="-1" strike="noStrike">
                <a:solidFill>
                  <a:srgbClr val="9ab737"/>
                </a:solidFill>
                <a:latin typeface="Arial"/>
                <a:ea typeface="ＭＳ Ｐゴシック"/>
              </a:rPr>
              <a:t>bestpowerpointtemplates.com</a:t>
            </a:r>
            <a:r>
              <a:rPr b="1" lang="en-US" sz="4400" spc="-1" strike="noStrike">
                <a:solidFill>
                  <a:srgbClr val="676767"/>
                </a:solidFill>
                <a:latin typeface="Arial"/>
                <a:ea typeface="ＭＳ Ｐゴシック"/>
              </a:rPr>
              <a:t> </a:t>
            </a:r>
            <a:endParaRPr b="0" lang="en-US" sz="4400" spc="-1" strike="noStrike">
              <a:solidFill>
                <a:srgbClr val="595959"/>
              </a:solidFill>
              <a:latin typeface="Lo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76767"/>
                </a:solidFill>
                <a:latin typeface="Arial"/>
                <a:ea typeface="ＭＳ Ｐゴシック"/>
              </a:rPr>
              <a:t>for more </a:t>
            </a:r>
            <a:r>
              <a:rPr b="1" lang="en-US" sz="4400" spc="-1" strike="noStrike">
                <a:solidFill>
                  <a:srgbClr val="b7cc7c"/>
                </a:solidFill>
                <a:latin typeface="Arial"/>
                <a:ea typeface="ＭＳ Ｐゴシック"/>
              </a:rPr>
              <a:t>free</a:t>
            </a:r>
            <a:r>
              <a:rPr b="1" lang="en-US" sz="4400" spc="-1" strike="noStrike">
                <a:solidFill>
                  <a:srgbClr val="676767"/>
                </a:solidFill>
                <a:latin typeface="Arial"/>
                <a:ea typeface="ＭＳ Ｐゴシック"/>
              </a:rPr>
              <a:t> PowerPoint resources!</a:t>
            </a:r>
            <a:endParaRPr b="0" lang="en-US" sz="4400" spc="-1" strike="noStrike">
              <a:solidFill>
                <a:srgbClr val="595959"/>
              </a:solidFill>
              <a:latin typeface="Lora"/>
            </a:endParaRPr>
          </a:p>
        </p:txBody>
      </p:sp>
      <p:sp>
        <p:nvSpPr>
          <p:cNvPr id="542" name="Line 2"/>
          <p:cNvSpPr/>
          <p:nvPr/>
        </p:nvSpPr>
        <p:spPr>
          <a:xfrm>
            <a:off x="3543480" y="7912080"/>
            <a:ext cx="5219640" cy="0"/>
          </a:xfrm>
          <a:prstGeom prst="line">
            <a:avLst/>
          </a:prstGeom>
          <a:ln w="38160">
            <a:solidFill>
              <a:srgbClr val="3d4147"/>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543" name="Group 8"/>
          <p:cNvGrpSpPr/>
          <p:nvPr/>
        </p:nvGrpSpPr>
        <p:grpSpPr>
          <a:xfrm>
            <a:off x="876240" y="609480"/>
            <a:ext cx="4572000" cy="787320"/>
            <a:chOff x="876240" y="609480"/>
            <a:chExt cx="4572000" cy="787320"/>
          </a:xfrm>
        </p:grpSpPr>
        <p:sp>
          <p:nvSpPr>
            <p:cNvPr id="544" name="Rectangle 3"/>
            <p:cNvSpPr/>
            <p:nvPr/>
          </p:nvSpPr>
          <p:spPr>
            <a:xfrm>
              <a:off x="876240" y="609480"/>
              <a:ext cx="914400" cy="787320"/>
            </a:xfrm>
            <a:prstGeom prst="rect">
              <a:avLst/>
            </a:prstGeom>
            <a:solidFill>
              <a:srgbClr val="5a69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45" name="Rectangle 4"/>
            <p:cNvSpPr/>
            <p:nvPr/>
          </p:nvSpPr>
          <p:spPr>
            <a:xfrm>
              <a:off x="1790640" y="609480"/>
              <a:ext cx="914400" cy="787320"/>
            </a:xfrm>
            <a:prstGeom prst="rect">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46" name="Rectangle 5"/>
            <p:cNvSpPr/>
            <p:nvPr/>
          </p:nvSpPr>
          <p:spPr>
            <a:xfrm>
              <a:off x="2705040" y="609480"/>
              <a:ext cx="914400" cy="787320"/>
            </a:xfrm>
            <a:prstGeom prst="rect">
              <a:avLst/>
            </a:prstGeom>
            <a:solidFill>
              <a:srgbClr val="9ab642"/>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47" name="Rectangle 6"/>
            <p:cNvSpPr/>
            <p:nvPr/>
          </p:nvSpPr>
          <p:spPr>
            <a:xfrm>
              <a:off x="3619440" y="609480"/>
              <a:ext cx="914400" cy="787320"/>
            </a:xfrm>
            <a:prstGeom prst="rect">
              <a:avLst/>
            </a:prstGeom>
            <a:solidFill>
              <a:srgbClr val="b7cb8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48" name="Rectangle 7"/>
            <p:cNvSpPr/>
            <p:nvPr/>
          </p:nvSpPr>
          <p:spPr>
            <a:xfrm>
              <a:off x="4533840" y="609480"/>
              <a:ext cx="914400" cy="787320"/>
            </a:xfrm>
            <a:prstGeom prst="rect">
              <a:avLst/>
            </a:prstGeom>
            <a:solidFill>
              <a:srgbClr val="f0f0f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sp>
        <p:nvSpPr>
          <p:cNvPr id="549" name="Rectangle 9"/>
          <p:cNvSpPr/>
          <p:nvPr/>
        </p:nvSpPr>
        <p:spPr>
          <a:xfrm>
            <a:off x="895320" y="216000"/>
            <a:ext cx="71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Clear Sans Medium"/>
                <a:ea typeface="ＭＳ Ｐゴシック"/>
              </a:rPr>
              <a:t>Neutral</a:t>
            </a:r>
            <a:endParaRPr b="0" lang="en-US" sz="1600" spc="-1" strike="noStrike">
              <a:solidFill>
                <a:srgbClr val="595959"/>
              </a:solidFill>
              <a:latin typeface="Lora"/>
            </a:endParaRPr>
          </a:p>
        </p:txBody>
      </p:sp>
      <p:sp>
        <p:nvSpPr>
          <p:cNvPr id="550" name="Line 10"/>
          <p:cNvSpPr/>
          <p:nvPr/>
        </p:nvSpPr>
        <p:spPr>
          <a:xfrm>
            <a:off x="1591560" y="2370240"/>
            <a:ext cx="9890280" cy="0"/>
          </a:xfrm>
          <a:prstGeom prst="line">
            <a:avLst/>
          </a:prstGeom>
          <a:ln w="38160">
            <a:solidFill>
              <a:srgbClr val="5a697c"/>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551" name="AutoShape 11"/>
          <p:cNvSpPr/>
          <p:nvPr/>
        </p:nvSpPr>
        <p:spPr>
          <a:xfrm>
            <a:off x="7721640" y="1343160"/>
            <a:ext cx="2070000" cy="206208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3d414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552" name="Rectangle 12"/>
          <p:cNvSpPr/>
          <p:nvPr/>
        </p:nvSpPr>
        <p:spPr>
          <a:xfrm>
            <a:off x="8233200" y="2031840"/>
            <a:ext cx="1056240" cy="64584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0f3"/>
                </a:solidFill>
                <a:latin typeface="Lora Bold"/>
                <a:ea typeface="ＭＳ Ｐゴシック"/>
              </a:rPr>
              <a:t>Text</a:t>
            </a:r>
            <a:endParaRPr b="0" lang="en-US" sz="4000" spc="-1" strike="noStrike">
              <a:solidFill>
                <a:srgbClr val="595959"/>
              </a:solidFill>
              <a:latin typeface="Lora"/>
            </a:endParaRPr>
          </a:p>
        </p:txBody>
      </p:sp>
      <p:grpSp>
        <p:nvGrpSpPr>
          <p:cNvPr id="553" name="Group 15"/>
          <p:cNvGrpSpPr/>
          <p:nvPr/>
        </p:nvGrpSpPr>
        <p:grpSpPr>
          <a:xfrm>
            <a:off x="8066160" y="-757080"/>
            <a:ext cx="1390680" cy="2476440"/>
            <a:chOff x="8066160" y="-757080"/>
            <a:chExt cx="1390680" cy="2476440"/>
          </a:xfrm>
        </p:grpSpPr>
        <p:sp>
          <p:nvSpPr>
            <p:cNvPr id="554" name="Rectangle 13"/>
            <p:cNvSpPr/>
            <p:nvPr/>
          </p:nvSpPr>
          <p:spPr>
            <a:xfrm>
              <a:off x="8737560" y="582840"/>
              <a:ext cx="88920" cy="1136520"/>
            </a:xfrm>
            <a:prstGeom prst="rect">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55" name="AutoShape 14"/>
            <p:cNvSpPr/>
            <p:nvPr/>
          </p:nvSpPr>
          <p:spPr>
            <a:xfrm>
              <a:off x="8066160" y="-757080"/>
              <a:ext cx="1390680" cy="138420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3d414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556" name="Rectangle 16"/>
          <p:cNvSpPr/>
          <p:nvPr/>
        </p:nvSpPr>
        <p:spPr>
          <a:xfrm>
            <a:off x="8364600" y="23760"/>
            <a:ext cx="85860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1992</a:t>
            </a:r>
            <a:endParaRPr b="0" lang="en-US" sz="1800" spc="-1" strike="noStrike">
              <a:solidFill>
                <a:srgbClr val="595959"/>
              </a:solidFill>
              <a:latin typeface="Lora"/>
            </a:endParaRPr>
          </a:p>
        </p:txBody>
      </p:sp>
      <p:sp>
        <p:nvSpPr>
          <p:cNvPr id="557" name="Oval 17"/>
          <p:cNvSpPr/>
          <p:nvPr/>
        </p:nvSpPr>
        <p:spPr>
          <a:xfrm>
            <a:off x="2846520" y="2055960"/>
            <a:ext cx="631800" cy="63468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58" name="Oval 18"/>
          <p:cNvSpPr/>
          <p:nvPr/>
        </p:nvSpPr>
        <p:spPr>
          <a:xfrm>
            <a:off x="1257480" y="2057400"/>
            <a:ext cx="631800" cy="63504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nvGrpSpPr>
          <p:cNvPr id="559" name="Group 22"/>
          <p:cNvGrpSpPr/>
          <p:nvPr/>
        </p:nvGrpSpPr>
        <p:grpSpPr>
          <a:xfrm>
            <a:off x="1015920" y="6772320"/>
            <a:ext cx="1119240" cy="2442600"/>
            <a:chOff x="1015920" y="6772320"/>
            <a:chExt cx="1119240" cy="2442600"/>
          </a:xfrm>
        </p:grpSpPr>
        <p:sp>
          <p:nvSpPr>
            <p:cNvPr id="560" name="AutoShape 19"/>
            <p:cNvSpPr/>
            <p:nvPr/>
          </p:nvSpPr>
          <p:spPr>
            <a:xfrm>
              <a:off x="1015920" y="8083800"/>
              <a:ext cx="1119240" cy="1131120"/>
            </a:xfrm>
            <a:prstGeom prst="diamond">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61" name="Line 20"/>
            <p:cNvSpPr/>
            <p:nvPr/>
          </p:nvSpPr>
          <p:spPr>
            <a:xfrm>
              <a:off x="1571400" y="6772320"/>
              <a:ext cx="0" cy="1348560"/>
            </a:xfrm>
            <a:prstGeom prst="line">
              <a:avLst/>
            </a:prstGeom>
            <a:ln w="28440">
              <a:solidFill>
                <a:srgbClr val="3d4147"/>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562" name="Rectangle 21"/>
            <p:cNvSpPr/>
            <p:nvPr/>
          </p:nvSpPr>
          <p:spPr>
            <a:xfrm>
              <a:off x="1365480" y="8444880"/>
              <a:ext cx="45936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Text</a:t>
              </a:r>
              <a:endParaRPr b="0" lang="en-US" sz="1800" spc="-1" strike="noStrike">
                <a:solidFill>
                  <a:srgbClr val="595959"/>
                </a:solidFill>
                <a:latin typeface="Lora"/>
              </a:endParaRPr>
            </a:p>
          </p:txBody>
        </p:sp>
      </p:grpSp>
      <p:sp>
        <p:nvSpPr>
          <p:cNvPr id="563" name="Oval 23"/>
          <p:cNvSpPr/>
          <p:nvPr/>
        </p:nvSpPr>
        <p:spPr>
          <a:xfrm>
            <a:off x="4432320" y="2057400"/>
            <a:ext cx="631800" cy="63504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64" name="Oval 24"/>
          <p:cNvSpPr/>
          <p:nvPr/>
        </p:nvSpPr>
        <p:spPr>
          <a:xfrm>
            <a:off x="6019920" y="2057400"/>
            <a:ext cx="631800" cy="63504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65" name="Oval 25"/>
          <p:cNvSpPr/>
          <p:nvPr/>
        </p:nvSpPr>
        <p:spPr>
          <a:xfrm>
            <a:off x="11036160" y="2057400"/>
            <a:ext cx="631800" cy="63504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nvGrpSpPr>
          <p:cNvPr id="566" name="Group 28"/>
          <p:cNvGrpSpPr/>
          <p:nvPr/>
        </p:nvGrpSpPr>
        <p:grpSpPr>
          <a:xfrm>
            <a:off x="8402760" y="6746760"/>
            <a:ext cx="3611520" cy="3611520"/>
            <a:chOff x="8402760" y="6746760"/>
            <a:chExt cx="3611520" cy="3611520"/>
          </a:xfrm>
        </p:grpSpPr>
        <p:sp>
          <p:nvSpPr>
            <p:cNvPr id="567" name="Oval 26"/>
            <p:cNvSpPr/>
            <p:nvPr/>
          </p:nvSpPr>
          <p:spPr>
            <a:xfrm>
              <a:off x="8402760" y="6746760"/>
              <a:ext cx="3611520" cy="361152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68" name="Oval 27"/>
            <p:cNvSpPr/>
            <p:nvPr/>
          </p:nvSpPr>
          <p:spPr>
            <a:xfrm>
              <a:off x="8845560" y="7180200"/>
              <a:ext cx="2708280" cy="2708280"/>
            </a:xfrm>
            <a:prstGeom prst="ellipse">
              <a:avLst/>
            </a:prstGeom>
            <a:solidFill>
              <a:srgbClr val="b7cc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sp>
        <p:nvSpPr>
          <p:cNvPr id="569" name="Rectangle 29"/>
          <p:cNvSpPr/>
          <p:nvPr/>
        </p:nvSpPr>
        <p:spPr>
          <a:xfrm>
            <a:off x="9573840" y="7977600"/>
            <a:ext cx="1268640" cy="1150560"/>
          </a:xfrm>
          <a:prstGeom prst="rect">
            <a:avLst/>
          </a:prstGeom>
          <a:noFill/>
          <a:ln w="0">
            <a:noFill/>
          </a:ln>
        </p:spPr>
        <p:style>
          <a:lnRef idx="0"/>
          <a:fillRef idx="0"/>
          <a:effectRef idx="0"/>
          <a:fontRef idx="minor"/>
        </p:style>
        <p:txBody>
          <a:bodyPr wrap="none" lIns="72360" rIns="72360" tIns="72360" bIns="7236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a1a1a"/>
                </a:solidFill>
                <a:latin typeface="Lora Bold"/>
                <a:ea typeface="ＭＳ Ｐゴシック"/>
              </a:rPr>
              <a:t>Text</a:t>
            </a:r>
            <a:endParaRPr b="0" lang="en-US" sz="4400" spc="-1" strike="noStrike">
              <a:solidFill>
                <a:srgbClr val="595959"/>
              </a:solidFill>
              <a:latin typeface="Lora"/>
            </a:endParaRPr>
          </a:p>
        </p:txBody>
      </p:sp>
      <p:sp>
        <p:nvSpPr>
          <p:cNvPr id="570" name="Oval 30"/>
          <p:cNvSpPr/>
          <p:nvPr/>
        </p:nvSpPr>
        <p:spPr>
          <a:xfrm>
            <a:off x="3316320" y="7677000"/>
            <a:ext cx="450720" cy="45432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71" name="Oval 31"/>
          <p:cNvSpPr/>
          <p:nvPr/>
        </p:nvSpPr>
        <p:spPr>
          <a:xfrm>
            <a:off x="4716360" y="7684920"/>
            <a:ext cx="451080" cy="45432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72" name="Oval 32"/>
          <p:cNvSpPr/>
          <p:nvPr/>
        </p:nvSpPr>
        <p:spPr>
          <a:xfrm>
            <a:off x="6124680" y="7684920"/>
            <a:ext cx="452160" cy="45432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73" name="Rectangle 33"/>
          <p:cNvSpPr/>
          <p:nvPr/>
        </p:nvSpPr>
        <p:spPr>
          <a:xfrm>
            <a:off x="2935440" y="6824520"/>
            <a:ext cx="1212840" cy="641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75</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574" name="Rectangle 34"/>
          <p:cNvSpPr/>
          <p:nvPr/>
        </p:nvSpPr>
        <p:spPr>
          <a:xfrm>
            <a:off x="4338720" y="6821640"/>
            <a:ext cx="121428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77</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575" name="Rectangle 35"/>
          <p:cNvSpPr/>
          <p:nvPr/>
        </p:nvSpPr>
        <p:spPr>
          <a:xfrm>
            <a:off x="5743440" y="6815160"/>
            <a:ext cx="1212840" cy="641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78</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576" name="Rectangle 36"/>
          <p:cNvSpPr/>
          <p:nvPr/>
        </p:nvSpPr>
        <p:spPr>
          <a:xfrm>
            <a:off x="3112920" y="8424720"/>
            <a:ext cx="85752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1</a:t>
            </a:r>
            <a:endParaRPr b="0" lang="en-US" sz="1800" spc="-1" strike="noStrike">
              <a:solidFill>
                <a:srgbClr val="595959"/>
              </a:solidFill>
              <a:latin typeface="Lora"/>
            </a:endParaRPr>
          </a:p>
        </p:txBody>
      </p:sp>
      <p:sp>
        <p:nvSpPr>
          <p:cNvPr id="577" name="Rectangle 37"/>
          <p:cNvSpPr/>
          <p:nvPr/>
        </p:nvSpPr>
        <p:spPr>
          <a:xfrm>
            <a:off x="4516560" y="8424720"/>
            <a:ext cx="85860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2</a:t>
            </a:r>
            <a:endParaRPr b="0" lang="en-US" sz="1800" spc="-1" strike="noStrike">
              <a:solidFill>
                <a:srgbClr val="595959"/>
              </a:solidFill>
              <a:latin typeface="Lora"/>
            </a:endParaRPr>
          </a:p>
        </p:txBody>
      </p:sp>
      <p:sp>
        <p:nvSpPr>
          <p:cNvPr id="578" name="Rectangle 38"/>
          <p:cNvSpPr/>
          <p:nvPr/>
        </p:nvSpPr>
        <p:spPr>
          <a:xfrm>
            <a:off x="5921280" y="8424720"/>
            <a:ext cx="85752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3</a:t>
            </a:r>
            <a:endParaRPr b="0" lang="en-US" sz="1800" spc="-1" strike="noStrike">
              <a:solidFill>
                <a:srgbClr val="595959"/>
              </a:solidFill>
              <a:latin typeface="Lora"/>
            </a:endParaRPr>
          </a:p>
        </p:txBody>
      </p:sp>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769680" y="628560"/>
            <a:ext cx="36806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Timeline (·1·)</a:t>
            </a:r>
            <a:endParaRPr b="0" lang="en-US" sz="4800" spc="-1" strike="noStrike">
              <a:solidFill>
                <a:srgbClr val="595959"/>
              </a:solidFill>
              <a:latin typeface="Lora"/>
            </a:endParaRPr>
          </a:p>
        </p:txBody>
      </p:sp>
      <p:sp>
        <p:nvSpPr>
          <p:cNvPr id="103" name="AutoShape 2"/>
          <p:cNvSpPr/>
          <p:nvPr/>
        </p:nvSpPr>
        <p:spPr>
          <a:xfrm>
            <a:off x="0" y="4927680"/>
            <a:ext cx="1866960" cy="46512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4" name="AutoShape 3"/>
          <p:cNvSpPr/>
          <p:nvPr/>
        </p:nvSpPr>
        <p:spPr>
          <a:xfrm>
            <a:off x="1863720" y="4927680"/>
            <a:ext cx="1871640" cy="46512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3d414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5" name="AutoShape 4"/>
          <p:cNvSpPr/>
          <p:nvPr/>
        </p:nvSpPr>
        <p:spPr>
          <a:xfrm>
            <a:off x="3726000" y="4927680"/>
            <a:ext cx="1876320" cy="46512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6" name="AutoShape 5"/>
          <p:cNvSpPr/>
          <p:nvPr/>
        </p:nvSpPr>
        <p:spPr>
          <a:xfrm>
            <a:off x="5603760" y="4927680"/>
            <a:ext cx="1873440" cy="46512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b7cc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7" name="AutoShape 6"/>
          <p:cNvSpPr/>
          <p:nvPr/>
        </p:nvSpPr>
        <p:spPr>
          <a:xfrm>
            <a:off x="843120" y="5070600"/>
            <a:ext cx="176040" cy="171360"/>
          </a:xfrm>
          <a:custGeom>
            <a:avLst/>
            <a:gdLst/>
            <a:ahLst/>
            <a:rect l="l" t="t" r="r" b="b"/>
            <a:pathLst>
              <a:path w="21600" h="21600">
                <a:moveTo>
                  <a:pt x="21600" y="10800"/>
                </a:moveTo>
                <a:cubicBezTo>
                  <a:pt x="21600" y="16764"/>
                  <a:pt x="16766" y="21600"/>
                  <a:pt x="10800" y="21600"/>
                </a:cubicBezTo>
                <a:cubicBezTo>
                  <a:pt x="4836" y="21600"/>
                  <a:pt x="0" y="16764"/>
                  <a:pt x="0" y="10800"/>
                </a:cubicBezTo>
                <a:cubicBezTo>
                  <a:pt x="0" y="4836"/>
                  <a:pt x="4836" y="0"/>
                  <a:pt x="10800" y="0"/>
                </a:cubicBezTo>
                <a:cubicBezTo>
                  <a:pt x="16766" y="0"/>
                  <a:pt x="21600" y="4836"/>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8" name="AutoShape 7"/>
          <p:cNvSpPr/>
          <p:nvPr/>
        </p:nvSpPr>
        <p:spPr>
          <a:xfrm>
            <a:off x="2706840" y="5070600"/>
            <a:ext cx="177480" cy="171360"/>
          </a:xfrm>
          <a:custGeom>
            <a:avLst/>
            <a:gdLst/>
            <a:ahLst/>
            <a:rect l="l" t="t" r="r" b="b"/>
            <a:pathLst>
              <a:path w="21600" h="21600">
                <a:moveTo>
                  <a:pt x="21600" y="10800"/>
                </a:moveTo>
                <a:cubicBezTo>
                  <a:pt x="21600" y="16764"/>
                  <a:pt x="16766" y="21600"/>
                  <a:pt x="10800" y="21600"/>
                </a:cubicBezTo>
                <a:cubicBezTo>
                  <a:pt x="4836" y="21600"/>
                  <a:pt x="0" y="16764"/>
                  <a:pt x="0" y="10800"/>
                </a:cubicBezTo>
                <a:cubicBezTo>
                  <a:pt x="0" y="4836"/>
                  <a:pt x="4836" y="0"/>
                  <a:pt x="10800" y="0"/>
                </a:cubicBezTo>
                <a:cubicBezTo>
                  <a:pt x="16766" y="0"/>
                  <a:pt x="21600" y="4836"/>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9" name="AutoShape 8"/>
          <p:cNvSpPr/>
          <p:nvPr/>
        </p:nvSpPr>
        <p:spPr>
          <a:xfrm>
            <a:off x="4581360" y="5070600"/>
            <a:ext cx="177840" cy="171360"/>
          </a:xfrm>
          <a:custGeom>
            <a:avLst/>
            <a:gdLst/>
            <a:ahLst/>
            <a:rect l="l" t="t" r="r" b="b"/>
            <a:pathLst>
              <a:path w="21600" h="21600">
                <a:moveTo>
                  <a:pt x="21600" y="10800"/>
                </a:moveTo>
                <a:cubicBezTo>
                  <a:pt x="21600" y="16764"/>
                  <a:pt x="16766" y="21600"/>
                  <a:pt x="10800" y="21600"/>
                </a:cubicBezTo>
                <a:cubicBezTo>
                  <a:pt x="4836" y="21600"/>
                  <a:pt x="0" y="16764"/>
                  <a:pt x="0" y="10800"/>
                </a:cubicBezTo>
                <a:cubicBezTo>
                  <a:pt x="0" y="4836"/>
                  <a:pt x="4836" y="0"/>
                  <a:pt x="10800" y="0"/>
                </a:cubicBezTo>
                <a:cubicBezTo>
                  <a:pt x="16766" y="0"/>
                  <a:pt x="21600" y="4836"/>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10" name="AutoShape 9"/>
          <p:cNvSpPr/>
          <p:nvPr/>
        </p:nvSpPr>
        <p:spPr>
          <a:xfrm>
            <a:off x="6434280" y="5070600"/>
            <a:ext cx="177480" cy="171360"/>
          </a:xfrm>
          <a:custGeom>
            <a:avLst/>
            <a:gdLst/>
            <a:ahLst/>
            <a:rect l="l" t="t" r="r" b="b"/>
            <a:pathLst>
              <a:path w="21600" h="21600">
                <a:moveTo>
                  <a:pt x="21600" y="10800"/>
                </a:moveTo>
                <a:cubicBezTo>
                  <a:pt x="21600" y="16764"/>
                  <a:pt x="16764" y="21600"/>
                  <a:pt x="10800" y="21600"/>
                </a:cubicBezTo>
                <a:cubicBezTo>
                  <a:pt x="4836" y="21600"/>
                  <a:pt x="0" y="16764"/>
                  <a:pt x="0" y="10800"/>
                </a:cubicBezTo>
                <a:cubicBezTo>
                  <a:pt x="0" y="4836"/>
                  <a:pt x="4836" y="0"/>
                  <a:pt x="10800" y="0"/>
                </a:cubicBezTo>
                <a:cubicBezTo>
                  <a:pt x="16764" y="0"/>
                  <a:pt x="21600" y="4836"/>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11" name="Line 10"/>
          <p:cNvSpPr/>
          <p:nvPr/>
        </p:nvSpPr>
        <p:spPr>
          <a:xfrm flipV="1">
            <a:off x="934920" y="5392440"/>
            <a:ext cx="0" cy="1143000"/>
          </a:xfrm>
          <a:prstGeom prst="line">
            <a:avLst/>
          </a:prstGeom>
          <a:ln w="76320">
            <a:solidFill>
              <a:srgbClr val="5a697c"/>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12" name="Line 11"/>
          <p:cNvSpPr/>
          <p:nvPr/>
        </p:nvSpPr>
        <p:spPr>
          <a:xfrm>
            <a:off x="6532560" y="3781440"/>
            <a:ext cx="0" cy="1181160"/>
          </a:xfrm>
          <a:prstGeom prst="line">
            <a:avLst/>
          </a:prstGeom>
          <a:ln w="76320">
            <a:solidFill>
              <a:srgbClr val="b7cc7c"/>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13" name="Line 12"/>
          <p:cNvSpPr/>
          <p:nvPr/>
        </p:nvSpPr>
        <p:spPr>
          <a:xfrm flipV="1">
            <a:off x="4668840" y="5392800"/>
            <a:ext cx="0" cy="2022480"/>
          </a:xfrm>
          <a:prstGeom prst="line">
            <a:avLst/>
          </a:prstGeom>
          <a:ln w="76320">
            <a:solidFill>
              <a:srgbClr val="9ab737"/>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14" name="Line 13"/>
          <p:cNvSpPr/>
          <p:nvPr/>
        </p:nvSpPr>
        <p:spPr>
          <a:xfrm>
            <a:off x="2793960" y="3517920"/>
            <a:ext cx="0" cy="1409760"/>
          </a:xfrm>
          <a:prstGeom prst="line">
            <a:avLst/>
          </a:prstGeom>
          <a:ln w="76320">
            <a:solidFill>
              <a:srgbClr val="3d4147"/>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15" name="Oval 14"/>
          <p:cNvSpPr/>
          <p:nvPr/>
        </p:nvSpPr>
        <p:spPr>
          <a:xfrm>
            <a:off x="6060960" y="2952720"/>
            <a:ext cx="957240" cy="932040"/>
          </a:xfrm>
          <a:prstGeom prst="ellipse">
            <a:avLst/>
          </a:prstGeom>
          <a:solidFill>
            <a:srgbClr val="b7cc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16" name="Oval 15"/>
          <p:cNvSpPr/>
          <p:nvPr/>
        </p:nvSpPr>
        <p:spPr>
          <a:xfrm>
            <a:off x="2313000" y="2633760"/>
            <a:ext cx="957240" cy="93348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17" name="Oval 16"/>
          <p:cNvSpPr/>
          <p:nvPr/>
        </p:nvSpPr>
        <p:spPr>
          <a:xfrm>
            <a:off x="449280" y="6451560"/>
            <a:ext cx="957240" cy="93204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18" name="Oval 17"/>
          <p:cNvSpPr/>
          <p:nvPr/>
        </p:nvSpPr>
        <p:spPr>
          <a:xfrm>
            <a:off x="4183200" y="7061040"/>
            <a:ext cx="955440" cy="93204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nvGrpSpPr>
          <p:cNvPr id="119" name="Group 25"/>
          <p:cNvGrpSpPr/>
          <p:nvPr/>
        </p:nvGrpSpPr>
        <p:grpSpPr>
          <a:xfrm>
            <a:off x="2490840" y="2557440"/>
            <a:ext cx="608040" cy="755640"/>
            <a:chOff x="2490840" y="2557440"/>
            <a:chExt cx="608040" cy="755640"/>
          </a:xfrm>
        </p:grpSpPr>
        <p:sp>
          <p:nvSpPr>
            <p:cNvPr id="120" name="AutoShape 18"/>
            <p:cNvSpPr/>
            <p:nvPr/>
          </p:nvSpPr>
          <p:spPr>
            <a:xfrm>
              <a:off x="2608200" y="2852640"/>
              <a:ext cx="405000" cy="460440"/>
            </a:xfrm>
            <a:custGeom>
              <a:avLst/>
              <a:gdLst/>
              <a:ahLst/>
              <a:rect l="l" t="t" r="r" b="b"/>
              <a:pathLst>
                <a:path w="21600" h="21600">
                  <a:moveTo>
                    <a:pt x="0" y="21403"/>
                  </a:moveTo>
                  <a:lnTo>
                    <a:pt x="10506" y="0"/>
                  </a:lnTo>
                  <a:lnTo>
                    <a:pt x="21600" y="21600"/>
                  </a:lnTo>
                </a:path>
              </a:pathLst>
            </a:custGeom>
            <a:noFill/>
            <a:ln w="44280">
              <a:solidFill>
                <a:srgbClr val="00a8e6"/>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1" name="Line 19"/>
            <p:cNvSpPr/>
            <p:nvPr/>
          </p:nvSpPr>
          <p:spPr>
            <a:xfrm flipV="1">
              <a:off x="2798640" y="2941560"/>
              <a:ext cx="0" cy="317520"/>
            </a:xfrm>
            <a:prstGeom prst="line">
              <a:avLst/>
            </a:prstGeom>
            <a:ln w="44280">
              <a:solidFill>
                <a:srgbClr val="00a8e6"/>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2" name="AutoShape 20"/>
            <p:cNvSpPr/>
            <p:nvPr/>
          </p:nvSpPr>
          <p:spPr>
            <a:xfrm>
              <a:off x="2490840" y="2557440"/>
              <a:ext cx="608040" cy="450720"/>
            </a:xfrm>
            <a:custGeom>
              <a:avLst/>
              <a:gdLst/>
              <a:ahLst/>
              <a:rect l="l" t="t" r="r" b="b"/>
              <a:pathLst>
                <a:path w="21600" h="21600">
                  <a:moveTo>
                    <a:pt x="21600" y="19332"/>
                  </a:moveTo>
                  <a:cubicBezTo>
                    <a:pt x="21600" y="20580"/>
                    <a:pt x="20824" y="21600"/>
                    <a:pt x="19875" y="21600"/>
                  </a:cubicBezTo>
                  <a:lnTo>
                    <a:pt x="1725" y="21600"/>
                  </a:lnTo>
                  <a:cubicBezTo>
                    <a:pt x="776" y="21600"/>
                    <a:pt x="0" y="20580"/>
                    <a:pt x="0" y="19332"/>
                  </a:cubicBezTo>
                  <a:lnTo>
                    <a:pt x="0" y="2268"/>
                  </a:lnTo>
                  <a:cubicBezTo>
                    <a:pt x="0" y="1021"/>
                    <a:pt x="776" y="0"/>
                    <a:pt x="1725" y="0"/>
                  </a:cubicBezTo>
                  <a:lnTo>
                    <a:pt x="19875" y="0"/>
                  </a:lnTo>
                  <a:cubicBezTo>
                    <a:pt x="20824" y="0"/>
                    <a:pt x="21600" y="1021"/>
                    <a:pt x="21600" y="2268"/>
                  </a:cubicBezTo>
                  <a:cubicBezTo>
                    <a:pt x="21600" y="2268"/>
                    <a:pt x="21600" y="19332"/>
                    <a:pt x="21600" y="19332"/>
                  </a:cubicBezTo>
                  <a:close/>
                  <a:moveTo>
                    <a:pt x="21600" y="19332"/>
                  </a:move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3" name="AutoShape 21"/>
            <p:cNvSpPr/>
            <p:nvPr/>
          </p:nvSpPr>
          <p:spPr>
            <a:xfrm>
              <a:off x="2490840" y="2557440"/>
              <a:ext cx="608040" cy="450720"/>
            </a:xfrm>
            <a:custGeom>
              <a:avLst/>
              <a:gdLst/>
              <a:ahLst/>
              <a:rect l="l" t="t" r="r" b="b"/>
              <a:pathLst>
                <a:path w="21600" h="21600">
                  <a:moveTo>
                    <a:pt x="21600" y="19332"/>
                  </a:moveTo>
                  <a:cubicBezTo>
                    <a:pt x="21600" y="20580"/>
                    <a:pt x="20824" y="21600"/>
                    <a:pt x="19875" y="21600"/>
                  </a:cubicBezTo>
                  <a:lnTo>
                    <a:pt x="1725" y="21600"/>
                  </a:lnTo>
                  <a:cubicBezTo>
                    <a:pt x="776" y="21600"/>
                    <a:pt x="0" y="20580"/>
                    <a:pt x="0" y="19332"/>
                  </a:cubicBezTo>
                  <a:lnTo>
                    <a:pt x="0" y="2268"/>
                  </a:lnTo>
                  <a:cubicBezTo>
                    <a:pt x="0" y="1021"/>
                    <a:pt x="776" y="0"/>
                    <a:pt x="1725" y="0"/>
                  </a:cubicBezTo>
                  <a:lnTo>
                    <a:pt x="19875" y="0"/>
                  </a:lnTo>
                  <a:cubicBezTo>
                    <a:pt x="20824" y="0"/>
                    <a:pt x="21600" y="1021"/>
                    <a:pt x="21600" y="2268"/>
                  </a:cubicBezTo>
                  <a:cubicBezTo>
                    <a:pt x="21600" y="2268"/>
                    <a:pt x="21600" y="19332"/>
                    <a:pt x="21600" y="19332"/>
                  </a:cubicBezTo>
                  <a:close/>
                  <a:moveTo>
                    <a:pt x="21600" y="19332"/>
                  </a:moveTo>
                </a:path>
              </a:pathLst>
            </a:custGeom>
            <a:noFill/>
            <a:ln w="33120">
              <a:solidFill>
                <a:srgbClr val="00a8e6"/>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4" name="AutoShape 22"/>
            <p:cNvSpPr/>
            <p:nvPr/>
          </p:nvSpPr>
          <p:spPr>
            <a:xfrm>
              <a:off x="2608200" y="2681280"/>
              <a:ext cx="360360" cy="225360"/>
            </a:xfrm>
            <a:custGeom>
              <a:avLst/>
              <a:gdLst/>
              <a:ahLst/>
              <a:rect l="l" t="t" r="r" b="b"/>
              <a:pathLst>
                <a:path w="21600" h="21600">
                  <a:moveTo>
                    <a:pt x="0" y="21600"/>
                  </a:moveTo>
                  <a:lnTo>
                    <a:pt x="8656" y="10746"/>
                  </a:lnTo>
                  <a:lnTo>
                    <a:pt x="14470" y="10746"/>
                  </a:lnTo>
                  <a:lnTo>
                    <a:pt x="21600" y="0"/>
                  </a:lnTo>
                </a:path>
              </a:pathLst>
            </a:custGeom>
            <a:noFill/>
            <a:ln w="44280">
              <a:solidFill>
                <a:srgbClr val="d47270"/>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5" name="AutoShape 23"/>
            <p:cNvSpPr/>
            <p:nvPr/>
          </p:nvSpPr>
          <p:spPr>
            <a:xfrm>
              <a:off x="2559240" y="2852640"/>
              <a:ext cx="102960" cy="101520"/>
            </a:xfrm>
            <a:custGeom>
              <a:avLst/>
              <a:gdLst/>
              <a:ahLst/>
              <a:rect l="l" t="t" r="r" b="b"/>
              <a:pathLst>
                <a:path w="19188" h="19188">
                  <a:moveTo>
                    <a:pt x="15593" y="17081"/>
                  </a:moveTo>
                  <a:cubicBezTo>
                    <a:pt x="11458" y="20394"/>
                    <a:pt x="5420" y="19728"/>
                    <a:pt x="2108" y="15591"/>
                  </a:cubicBezTo>
                  <a:cubicBezTo>
                    <a:pt x="-1206" y="11459"/>
                    <a:pt x="-539" y="5420"/>
                    <a:pt x="3595" y="2107"/>
                  </a:cubicBezTo>
                  <a:cubicBezTo>
                    <a:pt x="7730" y="-1206"/>
                    <a:pt x="13768" y="-540"/>
                    <a:pt x="17082" y="3597"/>
                  </a:cubicBezTo>
                  <a:cubicBezTo>
                    <a:pt x="20394" y="7729"/>
                    <a:pt x="19728" y="13768"/>
                    <a:pt x="15593" y="17081"/>
                  </a:cubicBez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6" name="AutoShape 24"/>
            <p:cNvSpPr/>
            <p:nvPr/>
          </p:nvSpPr>
          <p:spPr>
            <a:xfrm>
              <a:off x="2892600" y="2614680"/>
              <a:ext cx="152280" cy="145800"/>
            </a:xfrm>
            <a:custGeom>
              <a:avLst/>
              <a:gdLst/>
              <a:ahLst/>
              <a:rect l="l" t="t" r="r" b="b"/>
              <a:pathLst>
                <a:path w="21600" h="21600">
                  <a:moveTo>
                    <a:pt x="12479" y="21600"/>
                  </a:moveTo>
                  <a:lnTo>
                    <a:pt x="8992" y="12328"/>
                  </a:lnTo>
                  <a:lnTo>
                    <a:pt x="0" y="8441"/>
                  </a:lnTo>
                  <a:lnTo>
                    <a:pt x="21600" y="0"/>
                  </a:lnTo>
                  <a:cubicBezTo>
                    <a:pt x="21600" y="0"/>
                    <a:pt x="12479" y="21600"/>
                    <a:pt x="12479" y="21600"/>
                  </a:cubicBezTo>
                  <a:close/>
                  <a:moveTo>
                    <a:pt x="12479" y="21600"/>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127" name="Group 41"/>
          <p:cNvGrpSpPr/>
          <p:nvPr/>
        </p:nvGrpSpPr>
        <p:grpSpPr>
          <a:xfrm>
            <a:off x="4344840" y="6993000"/>
            <a:ext cx="631800" cy="607680"/>
            <a:chOff x="4344840" y="6993000"/>
            <a:chExt cx="631800" cy="607680"/>
          </a:xfrm>
        </p:grpSpPr>
        <p:sp>
          <p:nvSpPr>
            <p:cNvPr id="128" name="AutoShape 26"/>
            <p:cNvSpPr/>
            <p:nvPr/>
          </p:nvSpPr>
          <p:spPr>
            <a:xfrm>
              <a:off x="4344840" y="6993000"/>
              <a:ext cx="631800" cy="607680"/>
            </a:xfrm>
            <a:custGeom>
              <a:avLst/>
              <a:gdLst/>
              <a:ahLst/>
              <a:rect l="l" t="t" r="r" b="b"/>
              <a:pathLst>
                <a:path w="21600" h="21600">
                  <a:moveTo>
                    <a:pt x="21600" y="20485"/>
                  </a:moveTo>
                  <a:cubicBezTo>
                    <a:pt x="21600" y="21098"/>
                    <a:pt x="21106" y="21600"/>
                    <a:pt x="20503" y="21600"/>
                  </a:cubicBezTo>
                  <a:lnTo>
                    <a:pt x="1097" y="21600"/>
                  </a:lnTo>
                  <a:cubicBezTo>
                    <a:pt x="494" y="21600"/>
                    <a:pt x="0" y="21098"/>
                    <a:pt x="0" y="20485"/>
                  </a:cubicBezTo>
                  <a:lnTo>
                    <a:pt x="0" y="1115"/>
                  </a:lnTo>
                  <a:cubicBezTo>
                    <a:pt x="0" y="502"/>
                    <a:pt x="494" y="0"/>
                    <a:pt x="1097" y="0"/>
                  </a:cubicBezTo>
                  <a:lnTo>
                    <a:pt x="20503" y="0"/>
                  </a:lnTo>
                  <a:cubicBezTo>
                    <a:pt x="21106" y="0"/>
                    <a:pt x="21600" y="502"/>
                    <a:pt x="21600" y="1115"/>
                  </a:cubicBezTo>
                  <a:cubicBezTo>
                    <a:pt x="21600" y="1115"/>
                    <a:pt x="21600" y="20485"/>
                    <a:pt x="21600" y="20485"/>
                  </a:cubicBezTo>
                  <a:close/>
                  <a:moveTo>
                    <a:pt x="21600" y="20485"/>
                  </a:move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9" name="AutoShape 27"/>
            <p:cNvSpPr/>
            <p:nvPr/>
          </p:nvSpPr>
          <p:spPr>
            <a:xfrm>
              <a:off x="4344840" y="6993000"/>
              <a:ext cx="631800" cy="607680"/>
            </a:xfrm>
            <a:custGeom>
              <a:avLst/>
              <a:gdLst/>
              <a:ahLst/>
              <a:rect l="l" t="t" r="r" b="b"/>
              <a:pathLst>
                <a:path w="21600" h="21600">
                  <a:moveTo>
                    <a:pt x="21600" y="20485"/>
                  </a:moveTo>
                  <a:cubicBezTo>
                    <a:pt x="21600" y="21098"/>
                    <a:pt x="21106" y="21600"/>
                    <a:pt x="20503" y="21600"/>
                  </a:cubicBezTo>
                  <a:lnTo>
                    <a:pt x="1097" y="21600"/>
                  </a:lnTo>
                  <a:cubicBezTo>
                    <a:pt x="494" y="21600"/>
                    <a:pt x="0" y="21098"/>
                    <a:pt x="0" y="20485"/>
                  </a:cubicBezTo>
                  <a:lnTo>
                    <a:pt x="0" y="1115"/>
                  </a:lnTo>
                  <a:cubicBezTo>
                    <a:pt x="0" y="502"/>
                    <a:pt x="494" y="0"/>
                    <a:pt x="1097" y="0"/>
                  </a:cubicBezTo>
                  <a:lnTo>
                    <a:pt x="20503" y="0"/>
                  </a:lnTo>
                  <a:cubicBezTo>
                    <a:pt x="21106" y="0"/>
                    <a:pt x="21600" y="502"/>
                    <a:pt x="21600" y="1115"/>
                  </a:cubicBezTo>
                  <a:cubicBezTo>
                    <a:pt x="21600" y="1115"/>
                    <a:pt x="21600" y="20485"/>
                    <a:pt x="21600" y="20485"/>
                  </a:cubicBezTo>
                  <a:close/>
                  <a:moveTo>
                    <a:pt x="21600" y="20485"/>
                  </a:moveTo>
                </a:path>
              </a:pathLst>
            </a:custGeom>
            <a:noFill/>
            <a:ln w="76320">
              <a:solidFill>
                <a:srgbClr val="ffef9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0" name="AutoShape 28"/>
            <p:cNvSpPr/>
            <p:nvPr/>
          </p:nvSpPr>
          <p:spPr>
            <a:xfrm>
              <a:off x="4441680" y="7031160"/>
              <a:ext cx="431640" cy="375480"/>
            </a:xfrm>
            <a:custGeom>
              <a:avLst/>
              <a:gdLst/>
              <a:ahLst/>
              <a:rect l="l" t="t" r="r" b="b"/>
              <a:pathLst>
                <a:path w="21600" h="21600">
                  <a:moveTo>
                    <a:pt x="21600" y="19795"/>
                  </a:moveTo>
                  <a:cubicBezTo>
                    <a:pt x="21600" y="20788"/>
                    <a:pt x="20876" y="21600"/>
                    <a:pt x="19992" y="21600"/>
                  </a:cubicBezTo>
                  <a:lnTo>
                    <a:pt x="1607" y="21600"/>
                  </a:lnTo>
                  <a:cubicBezTo>
                    <a:pt x="723" y="21600"/>
                    <a:pt x="0" y="20788"/>
                    <a:pt x="0" y="19795"/>
                  </a:cubicBezTo>
                  <a:lnTo>
                    <a:pt x="0" y="1805"/>
                  </a:lnTo>
                  <a:cubicBezTo>
                    <a:pt x="0" y="812"/>
                    <a:pt x="723" y="0"/>
                    <a:pt x="1607" y="0"/>
                  </a:cubicBezTo>
                  <a:lnTo>
                    <a:pt x="19992" y="0"/>
                  </a:lnTo>
                  <a:cubicBezTo>
                    <a:pt x="20876" y="0"/>
                    <a:pt x="21600" y="812"/>
                    <a:pt x="21600" y="1805"/>
                  </a:cubicBezTo>
                  <a:cubicBezTo>
                    <a:pt x="21600" y="1805"/>
                    <a:pt x="21600" y="19795"/>
                    <a:pt x="21600" y="19795"/>
                  </a:cubicBezTo>
                  <a:close/>
                  <a:moveTo>
                    <a:pt x="21600" y="19795"/>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1" name="AutoShape 29"/>
            <p:cNvSpPr/>
            <p:nvPr/>
          </p:nvSpPr>
          <p:spPr>
            <a:xfrm>
              <a:off x="4441680" y="7443000"/>
              <a:ext cx="431640" cy="101520"/>
            </a:xfrm>
            <a:custGeom>
              <a:avLst/>
              <a:gdLst/>
              <a:ahLst/>
              <a:rect l="l" t="t" r="r" b="b"/>
              <a:pathLst>
                <a:path w="21600" h="21600">
                  <a:moveTo>
                    <a:pt x="21600" y="14958"/>
                  </a:moveTo>
                  <a:cubicBezTo>
                    <a:pt x="21600" y="18611"/>
                    <a:pt x="20876" y="21600"/>
                    <a:pt x="19992" y="21600"/>
                  </a:cubicBezTo>
                  <a:lnTo>
                    <a:pt x="1607" y="21600"/>
                  </a:lnTo>
                  <a:cubicBezTo>
                    <a:pt x="723" y="21600"/>
                    <a:pt x="0" y="18611"/>
                    <a:pt x="0" y="14958"/>
                  </a:cubicBezTo>
                  <a:lnTo>
                    <a:pt x="0" y="6643"/>
                  </a:lnTo>
                  <a:cubicBezTo>
                    <a:pt x="0" y="2989"/>
                    <a:pt x="723" y="0"/>
                    <a:pt x="1607" y="0"/>
                  </a:cubicBezTo>
                  <a:lnTo>
                    <a:pt x="19992" y="0"/>
                  </a:lnTo>
                  <a:cubicBezTo>
                    <a:pt x="20876" y="0"/>
                    <a:pt x="21600" y="2989"/>
                    <a:pt x="21600" y="6643"/>
                  </a:cubicBezTo>
                  <a:cubicBezTo>
                    <a:pt x="21600" y="6643"/>
                    <a:pt x="21600" y="14958"/>
                    <a:pt x="21600" y="14958"/>
                  </a:cubicBezTo>
                  <a:close/>
                  <a:moveTo>
                    <a:pt x="21600" y="14958"/>
                  </a:moveTo>
                </a:path>
              </a:pathLst>
            </a:custGeom>
            <a:solidFill>
              <a:srgbClr val="4d4d4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2" name="AutoShape 30"/>
            <p:cNvSpPr/>
            <p:nvPr/>
          </p:nvSpPr>
          <p:spPr>
            <a:xfrm>
              <a:off x="4354200" y="7116840"/>
              <a:ext cx="59040" cy="49320"/>
            </a:xfrm>
            <a:custGeom>
              <a:avLst/>
              <a:gdLst/>
              <a:ahLst/>
              <a:rect l="l" t="t" r="r" b="b"/>
              <a:pathLst>
                <a:path w="21494" h="21600">
                  <a:moveTo>
                    <a:pt x="18977" y="19378"/>
                  </a:moveTo>
                  <a:cubicBezTo>
                    <a:pt x="18551" y="20600"/>
                    <a:pt x="17293" y="21600"/>
                    <a:pt x="16182" y="21600"/>
                  </a:cubicBezTo>
                  <a:lnTo>
                    <a:pt x="2026" y="21600"/>
                  </a:lnTo>
                  <a:cubicBezTo>
                    <a:pt x="911" y="21600"/>
                    <a:pt x="0" y="20519"/>
                    <a:pt x="0" y="19196"/>
                  </a:cubicBezTo>
                  <a:lnTo>
                    <a:pt x="0" y="2404"/>
                  </a:lnTo>
                  <a:cubicBezTo>
                    <a:pt x="0" y="1081"/>
                    <a:pt x="911" y="0"/>
                    <a:pt x="2026" y="0"/>
                  </a:cubicBezTo>
                  <a:lnTo>
                    <a:pt x="16182" y="0"/>
                  </a:lnTo>
                  <a:cubicBezTo>
                    <a:pt x="17293" y="0"/>
                    <a:pt x="18551" y="1000"/>
                    <a:pt x="18977" y="2222"/>
                  </a:cubicBezTo>
                  <a:lnTo>
                    <a:pt x="21178" y="8578"/>
                  </a:lnTo>
                  <a:cubicBezTo>
                    <a:pt x="21600" y="9798"/>
                    <a:pt x="21600" y="11800"/>
                    <a:pt x="21178" y="13022"/>
                  </a:cubicBezTo>
                  <a:cubicBezTo>
                    <a:pt x="21178" y="13022"/>
                    <a:pt x="18977" y="19378"/>
                    <a:pt x="18977" y="19378"/>
                  </a:cubicBezTo>
                  <a:close/>
                  <a:moveTo>
                    <a:pt x="18977" y="19378"/>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3" name="AutoShape 31"/>
            <p:cNvSpPr/>
            <p:nvPr/>
          </p:nvSpPr>
          <p:spPr>
            <a:xfrm>
              <a:off x="4354200" y="7193520"/>
              <a:ext cx="59040" cy="48960"/>
            </a:xfrm>
            <a:custGeom>
              <a:avLst/>
              <a:gdLst/>
              <a:ahLst/>
              <a:rect l="l" t="t" r="r" b="b"/>
              <a:pathLst>
                <a:path w="21494" h="21600">
                  <a:moveTo>
                    <a:pt x="18977" y="19378"/>
                  </a:moveTo>
                  <a:cubicBezTo>
                    <a:pt x="18551" y="20600"/>
                    <a:pt x="17293" y="21600"/>
                    <a:pt x="16182" y="21600"/>
                  </a:cubicBezTo>
                  <a:lnTo>
                    <a:pt x="2026" y="21600"/>
                  </a:lnTo>
                  <a:cubicBezTo>
                    <a:pt x="911" y="21600"/>
                    <a:pt x="0" y="20519"/>
                    <a:pt x="0" y="19196"/>
                  </a:cubicBezTo>
                  <a:lnTo>
                    <a:pt x="0" y="2404"/>
                  </a:lnTo>
                  <a:cubicBezTo>
                    <a:pt x="0" y="1081"/>
                    <a:pt x="911" y="0"/>
                    <a:pt x="2026" y="0"/>
                  </a:cubicBezTo>
                  <a:lnTo>
                    <a:pt x="16182" y="0"/>
                  </a:lnTo>
                  <a:cubicBezTo>
                    <a:pt x="17293" y="0"/>
                    <a:pt x="18551" y="1000"/>
                    <a:pt x="18977" y="2222"/>
                  </a:cubicBezTo>
                  <a:lnTo>
                    <a:pt x="21178" y="8578"/>
                  </a:lnTo>
                  <a:cubicBezTo>
                    <a:pt x="21600" y="9800"/>
                    <a:pt x="21600" y="11800"/>
                    <a:pt x="21178" y="13022"/>
                  </a:cubicBezTo>
                  <a:cubicBezTo>
                    <a:pt x="21178" y="13022"/>
                    <a:pt x="18977" y="19378"/>
                    <a:pt x="18977" y="19378"/>
                  </a:cubicBezTo>
                  <a:close/>
                  <a:moveTo>
                    <a:pt x="18977" y="19378"/>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4" name="AutoShape 32"/>
            <p:cNvSpPr/>
            <p:nvPr/>
          </p:nvSpPr>
          <p:spPr>
            <a:xfrm>
              <a:off x="4354200" y="7260120"/>
              <a:ext cx="59040" cy="49320"/>
            </a:xfrm>
            <a:custGeom>
              <a:avLst/>
              <a:gdLst/>
              <a:ahLst/>
              <a:rect l="l" t="t" r="r" b="b"/>
              <a:pathLst>
                <a:path w="21494" h="21600">
                  <a:moveTo>
                    <a:pt x="18977" y="19378"/>
                  </a:moveTo>
                  <a:cubicBezTo>
                    <a:pt x="18551" y="20600"/>
                    <a:pt x="17293" y="21600"/>
                    <a:pt x="16182" y="21600"/>
                  </a:cubicBezTo>
                  <a:lnTo>
                    <a:pt x="2026" y="21600"/>
                  </a:lnTo>
                  <a:cubicBezTo>
                    <a:pt x="911" y="21600"/>
                    <a:pt x="0" y="20519"/>
                    <a:pt x="0" y="19196"/>
                  </a:cubicBezTo>
                  <a:lnTo>
                    <a:pt x="0" y="2404"/>
                  </a:lnTo>
                  <a:cubicBezTo>
                    <a:pt x="0" y="1081"/>
                    <a:pt x="911" y="0"/>
                    <a:pt x="2026" y="0"/>
                  </a:cubicBezTo>
                  <a:lnTo>
                    <a:pt x="16182" y="0"/>
                  </a:lnTo>
                  <a:cubicBezTo>
                    <a:pt x="17293" y="0"/>
                    <a:pt x="18551" y="1000"/>
                    <a:pt x="18977" y="2222"/>
                  </a:cubicBezTo>
                  <a:lnTo>
                    <a:pt x="21178" y="8578"/>
                  </a:lnTo>
                  <a:cubicBezTo>
                    <a:pt x="21600" y="9800"/>
                    <a:pt x="21600" y="11800"/>
                    <a:pt x="21178" y="13022"/>
                  </a:cubicBezTo>
                  <a:cubicBezTo>
                    <a:pt x="21178" y="13022"/>
                    <a:pt x="18977" y="19378"/>
                    <a:pt x="18977" y="19378"/>
                  </a:cubicBezTo>
                  <a:close/>
                  <a:moveTo>
                    <a:pt x="18977" y="19378"/>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5" name="AutoShape 33"/>
            <p:cNvSpPr/>
            <p:nvPr/>
          </p:nvSpPr>
          <p:spPr>
            <a:xfrm>
              <a:off x="4354200" y="7336800"/>
              <a:ext cx="59040" cy="48960"/>
            </a:xfrm>
            <a:custGeom>
              <a:avLst/>
              <a:gdLst/>
              <a:ahLst/>
              <a:rect l="l" t="t" r="r" b="b"/>
              <a:pathLst>
                <a:path w="21494" h="21600">
                  <a:moveTo>
                    <a:pt x="18977" y="19376"/>
                  </a:moveTo>
                  <a:cubicBezTo>
                    <a:pt x="18551" y="20598"/>
                    <a:pt x="17293" y="21600"/>
                    <a:pt x="16182" y="21600"/>
                  </a:cubicBezTo>
                  <a:lnTo>
                    <a:pt x="2026" y="21600"/>
                  </a:lnTo>
                  <a:cubicBezTo>
                    <a:pt x="911" y="21600"/>
                    <a:pt x="0" y="20517"/>
                    <a:pt x="0" y="19194"/>
                  </a:cubicBezTo>
                  <a:lnTo>
                    <a:pt x="0" y="2404"/>
                  </a:lnTo>
                  <a:cubicBezTo>
                    <a:pt x="0" y="1081"/>
                    <a:pt x="911" y="0"/>
                    <a:pt x="2026" y="0"/>
                  </a:cubicBezTo>
                  <a:lnTo>
                    <a:pt x="16182" y="0"/>
                  </a:lnTo>
                  <a:cubicBezTo>
                    <a:pt x="17293" y="0"/>
                    <a:pt x="18551" y="1000"/>
                    <a:pt x="18977" y="2221"/>
                  </a:cubicBezTo>
                  <a:lnTo>
                    <a:pt x="21178" y="8577"/>
                  </a:lnTo>
                  <a:cubicBezTo>
                    <a:pt x="21600" y="9799"/>
                    <a:pt x="21600" y="11801"/>
                    <a:pt x="21178" y="13020"/>
                  </a:cubicBezTo>
                  <a:cubicBezTo>
                    <a:pt x="21178" y="13020"/>
                    <a:pt x="18977" y="19376"/>
                    <a:pt x="18977" y="19376"/>
                  </a:cubicBezTo>
                  <a:close/>
                  <a:moveTo>
                    <a:pt x="18977" y="19376"/>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6" name="AutoShape 34"/>
            <p:cNvSpPr/>
            <p:nvPr/>
          </p:nvSpPr>
          <p:spPr>
            <a:xfrm>
              <a:off x="4913280" y="7116840"/>
              <a:ext cx="58680" cy="49320"/>
            </a:xfrm>
            <a:custGeom>
              <a:avLst/>
              <a:gdLst/>
              <a:ahLst/>
              <a:rect l="l" t="t" r="r" b="b"/>
              <a:pathLst>
                <a:path w="21495" h="21600">
                  <a:moveTo>
                    <a:pt x="2516" y="19378"/>
                  </a:moveTo>
                  <a:cubicBezTo>
                    <a:pt x="2942" y="20600"/>
                    <a:pt x="4198" y="21600"/>
                    <a:pt x="5312" y="21600"/>
                  </a:cubicBezTo>
                  <a:lnTo>
                    <a:pt x="19467" y="21600"/>
                  </a:lnTo>
                  <a:cubicBezTo>
                    <a:pt x="20581" y="21600"/>
                    <a:pt x="21495" y="20519"/>
                    <a:pt x="21495" y="19196"/>
                  </a:cubicBezTo>
                  <a:lnTo>
                    <a:pt x="21495" y="2404"/>
                  </a:lnTo>
                  <a:cubicBezTo>
                    <a:pt x="21495" y="1081"/>
                    <a:pt x="20581" y="0"/>
                    <a:pt x="19467" y="0"/>
                  </a:cubicBezTo>
                  <a:lnTo>
                    <a:pt x="5312" y="0"/>
                  </a:lnTo>
                  <a:cubicBezTo>
                    <a:pt x="4198" y="0"/>
                    <a:pt x="2942" y="1000"/>
                    <a:pt x="2516" y="2222"/>
                  </a:cubicBezTo>
                  <a:lnTo>
                    <a:pt x="314" y="8578"/>
                  </a:lnTo>
                  <a:cubicBezTo>
                    <a:pt x="-105" y="9798"/>
                    <a:pt x="-105" y="11800"/>
                    <a:pt x="314" y="13022"/>
                  </a:cubicBezTo>
                  <a:cubicBezTo>
                    <a:pt x="314" y="13022"/>
                    <a:pt x="2516" y="19378"/>
                    <a:pt x="2516" y="19378"/>
                  </a:cubicBezTo>
                  <a:close/>
                  <a:moveTo>
                    <a:pt x="2516" y="19378"/>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7" name="AutoShape 35"/>
            <p:cNvSpPr/>
            <p:nvPr/>
          </p:nvSpPr>
          <p:spPr>
            <a:xfrm>
              <a:off x="4913280" y="7193520"/>
              <a:ext cx="58680" cy="48960"/>
            </a:xfrm>
            <a:custGeom>
              <a:avLst/>
              <a:gdLst/>
              <a:ahLst/>
              <a:rect l="l" t="t" r="r" b="b"/>
              <a:pathLst>
                <a:path w="21495" h="21600">
                  <a:moveTo>
                    <a:pt x="2516" y="19378"/>
                  </a:moveTo>
                  <a:cubicBezTo>
                    <a:pt x="2942" y="20600"/>
                    <a:pt x="4198" y="21600"/>
                    <a:pt x="5312" y="21600"/>
                  </a:cubicBezTo>
                  <a:lnTo>
                    <a:pt x="19467" y="21600"/>
                  </a:lnTo>
                  <a:cubicBezTo>
                    <a:pt x="20581" y="21600"/>
                    <a:pt x="21495" y="20519"/>
                    <a:pt x="21495" y="19196"/>
                  </a:cubicBezTo>
                  <a:lnTo>
                    <a:pt x="21495" y="2404"/>
                  </a:lnTo>
                  <a:cubicBezTo>
                    <a:pt x="21495" y="1081"/>
                    <a:pt x="20581" y="0"/>
                    <a:pt x="19467" y="0"/>
                  </a:cubicBezTo>
                  <a:lnTo>
                    <a:pt x="5312" y="0"/>
                  </a:lnTo>
                  <a:cubicBezTo>
                    <a:pt x="4198" y="0"/>
                    <a:pt x="2942" y="1000"/>
                    <a:pt x="2516" y="2222"/>
                  </a:cubicBezTo>
                  <a:lnTo>
                    <a:pt x="314" y="8578"/>
                  </a:lnTo>
                  <a:cubicBezTo>
                    <a:pt x="-105" y="9800"/>
                    <a:pt x="-105" y="11800"/>
                    <a:pt x="314" y="13022"/>
                  </a:cubicBezTo>
                  <a:cubicBezTo>
                    <a:pt x="314" y="13022"/>
                    <a:pt x="2516" y="19378"/>
                    <a:pt x="2516" y="19378"/>
                  </a:cubicBezTo>
                  <a:close/>
                  <a:moveTo>
                    <a:pt x="2516" y="19378"/>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8" name="AutoShape 36"/>
            <p:cNvSpPr/>
            <p:nvPr/>
          </p:nvSpPr>
          <p:spPr>
            <a:xfrm>
              <a:off x="4913280" y="7260120"/>
              <a:ext cx="58680" cy="49320"/>
            </a:xfrm>
            <a:custGeom>
              <a:avLst/>
              <a:gdLst/>
              <a:ahLst/>
              <a:rect l="l" t="t" r="r" b="b"/>
              <a:pathLst>
                <a:path w="21495" h="21600">
                  <a:moveTo>
                    <a:pt x="2516" y="19378"/>
                  </a:moveTo>
                  <a:cubicBezTo>
                    <a:pt x="2942" y="20600"/>
                    <a:pt x="4198" y="21600"/>
                    <a:pt x="5312" y="21600"/>
                  </a:cubicBezTo>
                  <a:lnTo>
                    <a:pt x="19467" y="21600"/>
                  </a:lnTo>
                  <a:cubicBezTo>
                    <a:pt x="20581" y="21600"/>
                    <a:pt x="21495" y="20519"/>
                    <a:pt x="21495" y="19196"/>
                  </a:cubicBezTo>
                  <a:lnTo>
                    <a:pt x="21495" y="2404"/>
                  </a:lnTo>
                  <a:cubicBezTo>
                    <a:pt x="21495" y="1081"/>
                    <a:pt x="20581" y="0"/>
                    <a:pt x="19467" y="0"/>
                  </a:cubicBezTo>
                  <a:lnTo>
                    <a:pt x="5312" y="0"/>
                  </a:lnTo>
                  <a:cubicBezTo>
                    <a:pt x="4198" y="0"/>
                    <a:pt x="2942" y="1000"/>
                    <a:pt x="2516" y="2222"/>
                  </a:cubicBezTo>
                  <a:lnTo>
                    <a:pt x="314" y="8578"/>
                  </a:lnTo>
                  <a:cubicBezTo>
                    <a:pt x="-105" y="9800"/>
                    <a:pt x="-105" y="11800"/>
                    <a:pt x="314" y="13022"/>
                  </a:cubicBezTo>
                  <a:cubicBezTo>
                    <a:pt x="314" y="13022"/>
                    <a:pt x="2516" y="19378"/>
                    <a:pt x="2516" y="19378"/>
                  </a:cubicBezTo>
                  <a:close/>
                  <a:moveTo>
                    <a:pt x="2516" y="19378"/>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9" name="AutoShape 37"/>
            <p:cNvSpPr/>
            <p:nvPr/>
          </p:nvSpPr>
          <p:spPr>
            <a:xfrm>
              <a:off x="4913280" y="7336800"/>
              <a:ext cx="58680" cy="48960"/>
            </a:xfrm>
            <a:custGeom>
              <a:avLst/>
              <a:gdLst/>
              <a:ahLst/>
              <a:rect l="l" t="t" r="r" b="b"/>
              <a:pathLst>
                <a:path w="21495" h="21600">
                  <a:moveTo>
                    <a:pt x="2516" y="19376"/>
                  </a:moveTo>
                  <a:cubicBezTo>
                    <a:pt x="2942" y="20598"/>
                    <a:pt x="4198" y="21600"/>
                    <a:pt x="5312" y="21600"/>
                  </a:cubicBezTo>
                  <a:lnTo>
                    <a:pt x="19467" y="21600"/>
                  </a:lnTo>
                  <a:cubicBezTo>
                    <a:pt x="20581" y="21600"/>
                    <a:pt x="21495" y="20517"/>
                    <a:pt x="21495" y="19194"/>
                  </a:cubicBezTo>
                  <a:lnTo>
                    <a:pt x="21495" y="2404"/>
                  </a:lnTo>
                  <a:cubicBezTo>
                    <a:pt x="21495" y="1081"/>
                    <a:pt x="20581" y="0"/>
                    <a:pt x="19467" y="0"/>
                  </a:cubicBezTo>
                  <a:lnTo>
                    <a:pt x="5312" y="0"/>
                  </a:lnTo>
                  <a:cubicBezTo>
                    <a:pt x="4198" y="0"/>
                    <a:pt x="2942" y="1000"/>
                    <a:pt x="2516" y="2221"/>
                  </a:cubicBezTo>
                  <a:lnTo>
                    <a:pt x="314" y="8577"/>
                  </a:lnTo>
                  <a:cubicBezTo>
                    <a:pt x="-105" y="9799"/>
                    <a:pt x="-105" y="11801"/>
                    <a:pt x="314" y="13020"/>
                  </a:cubicBezTo>
                  <a:cubicBezTo>
                    <a:pt x="314" y="13020"/>
                    <a:pt x="2516" y="19376"/>
                    <a:pt x="2516" y="19376"/>
                  </a:cubicBezTo>
                  <a:close/>
                  <a:moveTo>
                    <a:pt x="2516" y="19376"/>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0" name="AutoShape 38"/>
            <p:cNvSpPr/>
            <p:nvPr/>
          </p:nvSpPr>
          <p:spPr>
            <a:xfrm>
              <a:off x="4481280" y="7481520"/>
              <a:ext cx="365040" cy="102960"/>
            </a:xfrm>
            <a:custGeom>
              <a:avLst/>
              <a:gdLst/>
              <a:ahLst/>
              <a:rect l="l" t="t" r="r" b="b"/>
              <a:pathLst>
                <a:path w="21600" h="21600">
                  <a:moveTo>
                    <a:pt x="21600" y="21600"/>
                  </a:moveTo>
                  <a:lnTo>
                    <a:pt x="0" y="21600"/>
                  </a:lnTo>
                  <a:lnTo>
                    <a:pt x="564" y="0"/>
                  </a:lnTo>
                  <a:lnTo>
                    <a:pt x="20911" y="111"/>
                  </a:lnTo>
                  <a:cubicBezTo>
                    <a:pt x="20911" y="111"/>
                    <a:pt x="21600" y="21600"/>
                    <a:pt x="21600" y="21600"/>
                  </a:cubicBezTo>
                  <a:close/>
                  <a:moveTo>
                    <a:pt x="21600" y="21600"/>
                  </a:move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1" name="AutoShape 39"/>
            <p:cNvSpPr/>
            <p:nvPr/>
          </p:nvSpPr>
          <p:spPr>
            <a:xfrm>
              <a:off x="4500360" y="7490880"/>
              <a:ext cx="324000" cy="66600"/>
            </a:xfrm>
            <a:custGeom>
              <a:avLst/>
              <a:gdLst/>
              <a:ahLst/>
              <a:rect l="l" t="t" r="r" b="b"/>
              <a:pathLst>
                <a:path w="21600" h="21600">
                  <a:moveTo>
                    <a:pt x="21600" y="17569"/>
                  </a:moveTo>
                  <a:lnTo>
                    <a:pt x="21232" y="134"/>
                  </a:lnTo>
                  <a:lnTo>
                    <a:pt x="294" y="0"/>
                  </a:lnTo>
                  <a:lnTo>
                    <a:pt x="0" y="17519"/>
                  </a:lnTo>
                  <a:cubicBezTo>
                    <a:pt x="450" y="17519"/>
                    <a:pt x="787" y="19326"/>
                    <a:pt x="753" y="21570"/>
                  </a:cubicBezTo>
                  <a:lnTo>
                    <a:pt x="20871" y="21600"/>
                  </a:lnTo>
                  <a:cubicBezTo>
                    <a:pt x="20828" y="19367"/>
                    <a:pt x="21154" y="17569"/>
                    <a:pt x="21600" y="17569"/>
                  </a:cubicBezTo>
                </a:path>
              </a:pathLst>
            </a:custGeom>
            <a:solidFill>
              <a:srgbClr val="ffff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2" name="AutoShape 40"/>
            <p:cNvSpPr/>
            <p:nvPr/>
          </p:nvSpPr>
          <p:spPr>
            <a:xfrm>
              <a:off x="4619520" y="7481520"/>
              <a:ext cx="92160" cy="57240"/>
            </a:xfrm>
            <a:custGeom>
              <a:avLst/>
              <a:gdLst/>
              <a:ahLst/>
              <a:rect l="l" t="t" r="r" b="b"/>
              <a:pathLst>
                <a:path w="21407" h="21577">
                  <a:moveTo>
                    <a:pt x="21404" y="10626"/>
                  </a:moveTo>
                  <a:cubicBezTo>
                    <a:pt x="21529" y="16634"/>
                    <a:pt x="16766" y="21584"/>
                    <a:pt x="10758" y="21577"/>
                  </a:cubicBezTo>
                  <a:cubicBezTo>
                    <a:pt x="4746" y="21570"/>
                    <a:pt x="-71" y="16604"/>
                    <a:pt x="0" y="10591"/>
                  </a:cubicBezTo>
                  <a:cubicBezTo>
                    <a:pt x="71" y="4682"/>
                    <a:pt x="4847" y="-16"/>
                    <a:pt x="10661" y="0"/>
                  </a:cubicBezTo>
                  <a:cubicBezTo>
                    <a:pt x="16474" y="11"/>
                    <a:pt x="21279" y="4728"/>
                    <a:pt x="21404" y="10626"/>
                  </a:cubicBez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143" name="Group 53"/>
          <p:cNvGrpSpPr/>
          <p:nvPr/>
        </p:nvGrpSpPr>
        <p:grpSpPr>
          <a:xfrm>
            <a:off x="577800" y="6594480"/>
            <a:ext cx="690480" cy="596880"/>
            <a:chOff x="577800" y="6594480"/>
            <a:chExt cx="690480" cy="596880"/>
          </a:xfrm>
        </p:grpSpPr>
        <p:sp>
          <p:nvSpPr>
            <p:cNvPr id="144" name="AutoShape 42"/>
            <p:cNvSpPr/>
            <p:nvPr/>
          </p:nvSpPr>
          <p:spPr>
            <a:xfrm>
              <a:off x="587160" y="6603840"/>
              <a:ext cx="668520" cy="573120"/>
            </a:xfrm>
            <a:custGeom>
              <a:avLst/>
              <a:gdLst/>
              <a:ahLst/>
              <a:rect l="l" t="t" r="r" b="b"/>
              <a:pathLst>
                <a:path w="21600" h="21600">
                  <a:moveTo>
                    <a:pt x="380" y="21600"/>
                  </a:moveTo>
                  <a:cubicBezTo>
                    <a:pt x="303" y="21600"/>
                    <a:pt x="225" y="21573"/>
                    <a:pt x="161" y="21520"/>
                  </a:cubicBezTo>
                  <a:cubicBezTo>
                    <a:pt x="60" y="21440"/>
                    <a:pt x="0" y="21308"/>
                    <a:pt x="0" y="21169"/>
                  </a:cubicBezTo>
                  <a:lnTo>
                    <a:pt x="0" y="3200"/>
                  </a:lnTo>
                  <a:cubicBezTo>
                    <a:pt x="0" y="3017"/>
                    <a:pt x="102" y="2854"/>
                    <a:pt x="255" y="2794"/>
                  </a:cubicBezTo>
                  <a:lnTo>
                    <a:pt x="7201" y="24"/>
                  </a:lnTo>
                  <a:cubicBezTo>
                    <a:pt x="7241" y="8"/>
                    <a:pt x="7284" y="0"/>
                    <a:pt x="7327" y="0"/>
                  </a:cubicBezTo>
                  <a:cubicBezTo>
                    <a:pt x="7369" y="0"/>
                    <a:pt x="7412" y="8"/>
                    <a:pt x="7453" y="24"/>
                  </a:cubicBezTo>
                  <a:lnTo>
                    <a:pt x="14273" y="2743"/>
                  </a:lnTo>
                  <a:lnTo>
                    <a:pt x="21094" y="24"/>
                  </a:lnTo>
                  <a:cubicBezTo>
                    <a:pt x="21135" y="8"/>
                    <a:pt x="21177" y="0"/>
                    <a:pt x="21219" y="0"/>
                  </a:cubicBezTo>
                  <a:cubicBezTo>
                    <a:pt x="21297" y="0"/>
                    <a:pt x="21374" y="27"/>
                    <a:pt x="21440" y="79"/>
                  </a:cubicBezTo>
                  <a:cubicBezTo>
                    <a:pt x="21540" y="160"/>
                    <a:pt x="21600" y="291"/>
                    <a:pt x="21600" y="431"/>
                  </a:cubicBezTo>
                  <a:lnTo>
                    <a:pt x="21600" y="18400"/>
                  </a:lnTo>
                  <a:cubicBezTo>
                    <a:pt x="21600" y="18583"/>
                    <a:pt x="21498" y="18746"/>
                    <a:pt x="21346" y="18806"/>
                  </a:cubicBezTo>
                  <a:lnTo>
                    <a:pt x="14399" y="21575"/>
                  </a:lnTo>
                  <a:cubicBezTo>
                    <a:pt x="14359" y="21592"/>
                    <a:pt x="14316" y="21600"/>
                    <a:pt x="14273" y="21600"/>
                  </a:cubicBezTo>
                  <a:cubicBezTo>
                    <a:pt x="14231" y="21600"/>
                    <a:pt x="14188" y="21592"/>
                    <a:pt x="14147" y="21575"/>
                  </a:cubicBezTo>
                  <a:lnTo>
                    <a:pt x="7327" y="18857"/>
                  </a:lnTo>
                  <a:lnTo>
                    <a:pt x="506" y="21575"/>
                  </a:lnTo>
                  <a:cubicBezTo>
                    <a:pt x="465" y="21592"/>
                    <a:pt x="423" y="21600"/>
                    <a:pt x="380" y="21600"/>
                  </a:cubicBez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5" name="AutoShape 43"/>
            <p:cNvSpPr/>
            <p:nvPr/>
          </p:nvSpPr>
          <p:spPr>
            <a:xfrm>
              <a:off x="577800" y="6594480"/>
              <a:ext cx="690480" cy="596880"/>
            </a:xfrm>
            <a:custGeom>
              <a:avLst/>
              <a:gdLst/>
              <a:ahLst/>
              <a:rect l="l" t="t" r="r" b="b"/>
              <a:pathLst>
                <a:path w="21600" h="21600">
                  <a:moveTo>
                    <a:pt x="20866" y="0"/>
                  </a:moveTo>
                  <a:cubicBezTo>
                    <a:pt x="20784" y="0"/>
                    <a:pt x="20701" y="16"/>
                    <a:pt x="20622" y="47"/>
                  </a:cubicBezTo>
                  <a:lnTo>
                    <a:pt x="14155" y="2613"/>
                  </a:lnTo>
                  <a:lnTo>
                    <a:pt x="7689" y="47"/>
                  </a:lnTo>
                  <a:cubicBezTo>
                    <a:pt x="7610" y="16"/>
                    <a:pt x="7527" y="0"/>
                    <a:pt x="7445" y="0"/>
                  </a:cubicBezTo>
                  <a:cubicBezTo>
                    <a:pt x="7362" y="0"/>
                    <a:pt x="7280" y="16"/>
                    <a:pt x="7201" y="47"/>
                  </a:cubicBezTo>
                  <a:lnTo>
                    <a:pt x="491" y="2710"/>
                  </a:lnTo>
                  <a:cubicBezTo>
                    <a:pt x="197" y="2826"/>
                    <a:pt x="0" y="3140"/>
                    <a:pt x="0" y="3492"/>
                  </a:cubicBezTo>
                  <a:lnTo>
                    <a:pt x="0" y="20771"/>
                  </a:lnTo>
                  <a:cubicBezTo>
                    <a:pt x="0" y="21040"/>
                    <a:pt x="115" y="21292"/>
                    <a:pt x="310" y="21447"/>
                  </a:cubicBezTo>
                  <a:cubicBezTo>
                    <a:pt x="436" y="21548"/>
                    <a:pt x="585" y="21600"/>
                    <a:pt x="734" y="21600"/>
                  </a:cubicBezTo>
                  <a:cubicBezTo>
                    <a:pt x="816" y="21600"/>
                    <a:pt x="899" y="21584"/>
                    <a:pt x="978" y="21553"/>
                  </a:cubicBezTo>
                  <a:lnTo>
                    <a:pt x="7445" y="18987"/>
                  </a:lnTo>
                  <a:lnTo>
                    <a:pt x="13911" y="21553"/>
                  </a:lnTo>
                  <a:cubicBezTo>
                    <a:pt x="13990" y="21584"/>
                    <a:pt x="14073" y="21600"/>
                    <a:pt x="14155" y="21600"/>
                  </a:cubicBezTo>
                  <a:cubicBezTo>
                    <a:pt x="14238" y="21600"/>
                    <a:pt x="14320" y="21584"/>
                    <a:pt x="14399" y="21553"/>
                  </a:cubicBezTo>
                  <a:lnTo>
                    <a:pt x="21109" y="18890"/>
                  </a:lnTo>
                  <a:cubicBezTo>
                    <a:pt x="21403" y="18773"/>
                    <a:pt x="21600" y="18460"/>
                    <a:pt x="21600" y="18108"/>
                  </a:cubicBezTo>
                  <a:lnTo>
                    <a:pt x="21600" y="829"/>
                  </a:lnTo>
                  <a:cubicBezTo>
                    <a:pt x="21600" y="560"/>
                    <a:pt x="21485" y="308"/>
                    <a:pt x="21290" y="152"/>
                  </a:cubicBezTo>
                  <a:cubicBezTo>
                    <a:pt x="21164" y="52"/>
                    <a:pt x="21015" y="0"/>
                    <a:pt x="20866" y="0"/>
                  </a:cubicBezTo>
                  <a:moveTo>
                    <a:pt x="20866" y="829"/>
                  </a:moveTo>
                  <a:lnTo>
                    <a:pt x="20866" y="18108"/>
                  </a:lnTo>
                  <a:lnTo>
                    <a:pt x="14155" y="20771"/>
                  </a:lnTo>
                  <a:lnTo>
                    <a:pt x="7445" y="18108"/>
                  </a:lnTo>
                  <a:lnTo>
                    <a:pt x="734" y="20771"/>
                  </a:lnTo>
                  <a:lnTo>
                    <a:pt x="734" y="3492"/>
                  </a:lnTo>
                  <a:lnTo>
                    <a:pt x="7445" y="829"/>
                  </a:lnTo>
                  <a:lnTo>
                    <a:pt x="14155" y="3492"/>
                  </a:lnTo>
                  <a:lnTo>
                    <a:pt x="20866" y="829"/>
                  </a:ln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6" name="AutoShape 44"/>
            <p:cNvSpPr/>
            <p:nvPr/>
          </p:nvSpPr>
          <p:spPr>
            <a:xfrm>
              <a:off x="812880" y="6622920"/>
              <a:ext cx="214200" cy="551160"/>
            </a:xfrm>
            <a:custGeom>
              <a:avLst/>
              <a:gdLst/>
              <a:ahLst/>
              <a:rect l="l" t="t" r="r" b="b"/>
              <a:pathLst>
                <a:path w="21600" h="21600">
                  <a:moveTo>
                    <a:pt x="0" y="18716"/>
                  </a:moveTo>
                  <a:lnTo>
                    <a:pt x="21600" y="21600"/>
                  </a:lnTo>
                  <a:lnTo>
                    <a:pt x="21600" y="2884"/>
                  </a:lnTo>
                  <a:lnTo>
                    <a:pt x="0" y="0"/>
                  </a:lnTo>
                  <a:cubicBezTo>
                    <a:pt x="0" y="0"/>
                    <a:pt x="0" y="18716"/>
                    <a:pt x="0" y="18716"/>
                  </a:cubicBezTo>
                  <a:close/>
                  <a:moveTo>
                    <a:pt x="0" y="18716"/>
                  </a:moveTo>
                </a:path>
              </a:pathLst>
            </a:custGeom>
            <a:solidFill>
              <a:srgbClr val="d4d4d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7" name="Line 45"/>
            <p:cNvSpPr/>
            <p:nvPr/>
          </p:nvSpPr>
          <p:spPr>
            <a:xfrm>
              <a:off x="1147680" y="6692760"/>
              <a:ext cx="0" cy="150840"/>
            </a:xfrm>
            <a:prstGeom prst="line">
              <a:avLst/>
            </a:prstGeom>
            <a:ln w="10080">
              <a:solidFill>
                <a:srgbClr val="d47270"/>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8" name="AutoShape 46"/>
            <p:cNvSpPr/>
            <p:nvPr/>
          </p:nvSpPr>
          <p:spPr>
            <a:xfrm>
              <a:off x="1146240" y="6689880"/>
              <a:ext cx="68040" cy="75960"/>
            </a:xfrm>
            <a:custGeom>
              <a:avLst/>
              <a:gdLst/>
              <a:ahLst/>
              <a:rect l="l" t="t" r="r" b="b"/>
              <a:pathLst>
                <a:path w="21600" h="21600">
                  <a:moveTo>
                    <a:pt x="0" y="0"/>
                  </a:moveTo>
                  <a:lnTo>
                    <a:pt x="21600" y="10798"/>
                  </a:lnTo>
                  <a:lnTo>
                    <a:pt x="0" y="21600"/>
                  </a:lnTo>
                  <a:cubicBezTo>
                    <a:pt x="0" y="21600"/>
                    <a:pt x="0" y="0"/>
                    <a:pt x="0" y="0"/>
                  </a:cubicBezTo>
                  <a:close/>
                  <a:moveTo>
                    <a:pt x="0" y="0"/>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9" name="AutoShape 47"/>
            <p:cNvSpPr/>
            <p:nvPr/>
          </p:nvSpPr>
          <p:spPr>
            <a:xfrm>
              <a:off x="636480" y="6880320"/>
              <a:ext cx="171360" cy="169920"/>
            </a:xfrm>
            <a:custGeom>
              <a:avLst/>
              <a:gdLst/>
              <a:ahLst/>
              <a:rect l="l" t="t" r="r" b="b"/>
              <a:pathLst>
                <a:path w="21600" h="21600">
                  <a:moveTo>
                    <a:pt x="0" y="15633"/>
                  </a:moveTo>
                  <a:lnTo>
                    <a:pt x="6015" y="21600"/>
                  </a:lnTo>
                  <a:lnTo>
                    <a:pt x="21600" y="8026"/>
                  </a:lnTo>
                  <a:lnTo>
                    <a:pt x="21600" y="0"/>
                  </a:lnTo>
                  <a:cubicBezTo>
                    <a:pt x="21600" y="0"/>
                    <a:pt x="0" y="15633"/>
                    <a:pt x="0" y="15633"/>
                  </a:cubicBezTo>
                  <a:close/>
                  <a:moveTo>
                    <a:pt x="0" y="15633"/>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50" name="AutoShape 48"/>
            <p:cNvSpPr/>
            <p:nvPr/>
          </p:nvSpPr>
          <p:spPr>
            <a:xfrm>
              <a:off x="812880" y="6880320"/>
              <a:ext cx="214200" cy="112680"/>
            </a:xfrm>
            <a:custGeom>
              <a:avLst/>
              <a:gdLst/>
              <a:ahLst/>
              <a:rect l="l" t="t" r="r" b="b"/>
              <a:pathLst>
                <a:path w="21600" h="21600">
                  <a:moveTo>
                    <a:pt x="21600" y="12971"/>
                  </a:moveTo>
                  <a:lnTo>
                    <a:pt x="21600" y="21600"/>
                  </a:lnTo>
                  <a:lnTo>
                    <a:pt x="0" y="12031"/>
                  </a:lnTo>
                  <a:lnTo>
                    <a:pt x="0" y="0"/>
                  </a:lnTo>
                  <a:cubicBezTo>
                    <a:pt x="0" y="0"/>
                    <a:pt x="21600" y="12971"/>
                    <a:pt x="21600" y="12971"/>
                  </a:cubicBezTo>
                  <a:close/>
                  <a:moveTo>
                    <a:pt x="21600" y="12971"/>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51" name="AutoShape 49"/>
            <p:cNvSpPr/>
            <p:nvPr/>
          </p:nvSpPr>
          <p:spPr>
            <a:xfrm>
              <a:off x="1028520" y="6842160"/>
              <a:ext cx="122400" cy="155520"/>
            </a:xfrm>
            <a:custGeom>
              <a:avLst/>
              <a:gdLst/>
              <a:ahLst/>
              <a:rect l="l" t="t" r="r" b="b"/>
              <a:pathLst>
                <a:path w="21600" h="21600">
                  <a:moveTo>
                    <a:pt x="0" y="15336"/>
                  </a:moveTo>
                  <a:lnTo>
                    <a:pt x="0" y="21600"/>
                  </a:lnTo>
                  <a:lnTo>
                    <a:pt x="21600" y="0"/>
                  </a:lnTo>
                  <a:cubicBezTo>
                    <a:pt x="21600" y="0"/>
                    <a:pt x="0" y="15336"/>
                    <a:pt x="0" y="15336"/>
                  </a:cubicBezTo>
                  <a:close/>
                  <a:moveTo>
                    <a:pt x="0" y="15336"/>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52" name="Line 50"/>
            <p:cNvSpPr/>
            <p:nvPr/>
          </p:nvSpPr>
          <p:spPr>
            <a:xfrm flipH="1">
              <a:off x="637920" y="7000920"/>
              <a:ext cx="52200" cy="52200"/>
            </a:xfrm>
            <a:prstGeom prst="line">
              <a:avLst/>
            </a:prstGeom>
            <a:ln w="20160">
              <a:solidFill>
                <a:srgbClr val="d47270"/>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53" name="Line 51"/>
            <p:cNvSpPr/>
            <p:nvPr/>
          </p:nvSpPr>
          <p:spPr>
            <a:xfrm>
              <a:off x="638280" y="7000920"/>
              <a:ext cx="52200" cy="52200"/>
            </a:xfrm>
            <a:prstGeom prst="line">
              <a:avLst/>
            </a:prstGeom>
            <a:ln w="20160">
              <a:solidFill>
                <a:srgbClr val="d47270"/>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54" name="AutoShape 52"/>
            <p:cNvSpPr/>
            <p:nvPr/>
          </p:nvSpPr>
          <p:spPr>
            <a:xfrm>
              <a:off x="1087560" y="6832440"/>
              <a:ext cx="63360" cy="65160"/>
            </a:xfrm>
            <a:custGeom>
              <a:avLst/>
              <a:gdLst/>
              <a:ahLst/>
              <a:rect l="l" t="t" r="r" b="b"/>
              <a:pathLst>
                <a:path w="21600" h="21600">
                  <a:moveTo>
                    <a:pt x="0" y="11185"/>
                  </a:moveTo>
                  <a:lnTo>
                    <a:pt x="21600" y="0"/>
                  </a:lnTo>
                  <a:lnTo>
                    <a:pt x="12481" y="21600"/>
                  </a:lnTo>
                  <a:cubicBezTo>
                    <a:pt x="12481" y="21600"/>
                    <a:pt x="0" y="11185"/>
                    <a:pt x="0" y="11185"/>
                  </a:cubicBezTo>
                  <a:close/>
                  <a:moveTo>
                    <a:pt x="0" y="11185"/>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155" name="Group 77"/>
          <p:cNvGrpSpPr/>
          <p:nvPr/>
        </p:nvGrpSpPr>
        <p:grpSpPr>
          <a:xfrm>
            <a:off x="6267600" y="2882880"/>
            <a:ext cx="581040" cy="706320"/>
            <a:chOff x="6267600" y="2882880"/>
            <a:chExt cx="581040" cy="706320"/>
          </a:xfrm>
        </p:grpSpPr>
        <p:sp>
          <p:nvSpPr>
            <p:cNvPr id="156" name="AutoShape 54"/>
            <p:cNvSpPr/>
            <p:nvPr/>
          </p:nvSpPr>
          <p:spPr>
            <a:xfrm>
              <a:off x="6276960" y="2892240"/>
              <a:ext cx="555840" cy="682920"/>
            </a:xfrm>
            <a:custGeom>
              <a:avLst/>
              <a:gdLst/>
              <a:ahLst/>
              <a:rect l="l" t="t" r="r" b="b"/>
              <a:pathLst>
                <a:path w="21600" h="21600">
                  <a:moveTo>
                    <a:pt x="0" y="21600"/>
                  </a:moveTo>
                  <a:lnTo>
                    <a:pt x="0" y="0"/>
                  </a:lnTo>
                  <a:lnTo>
                    <a:pt x="17852" y="0"/>
                  </a:lnTo>
                  <a:lnTo>
                    <a:pt x="21600" y="2980"/>
                  </a:lnTo>
                  <a:lnTo>
                    <a:pt x="21600" y="21600"/>
                  </a:lnTo>
                  <a:cubicBezTo>
                    <a:pt x="21600" y="21600"/>
                    <a:pt x="0" y="21600"/>
                    <a:pt x="0" y="21600"/>
                  </a:cubicBezTo>
                  <a:close/>
                  <a:moveTo>
                    <a:pt x="0" y="21600"/>
                  </a:move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57" name="AutoShape 55"/>
            <p:cNvSpPr/>
            <p:nvPr/>
          </p:nvSpPr>
          <p:spPr>
            <a:xfrm>
              <a:off x="6267600" y="2882880"/>
              <a:ext cx="581040" cy="706320"/>
            </a:xfrm>
            <a:custGeom>
              <a:avLst/>
              <a:gdLst/>
              <a:ahLst/>
              <a:rect l="l" t="t" r="r" b="b"/>
              <a:pathLst>
                <a:path w="21600" h="21600">
                  <a:moveTo>
                    <a:pt x="17743" y="0"/>
                  </a:moveTo>
                  <a:lnTo>
                    <a:pt x="0" y="0"/>
                  </a:lnTo>
                  <a:lnTo>
                    <a:pt x="0" y="21600"/>
                  </a:lnTo>
                  <a:lnTo>
                    <a:pt x="21600" y="21600"/>
                  </a:lnTo>
                  <a:lnTo>
                    <a:pt x="21600" y="3094"/>
                  </a:lnTo>
                  <a:cubicBezTo>
                    <a:pt x="21600" y="3094"/>
                    <a:pt x="17743" y="0"/>
                    <a:pt x="17743" y="0"/>
                  </a:cubicBezTo>
                  <a:close/>
                  <a:moveTo>
                    <a:pt x="17364" y="734"/>
                  </a:moveTo>
                  <a:lnTo>
                    <a:pt x="20685" y="3398"/>
                  </a:lnTo>
                  <a:lnTo>
                    <a:pt x="20685" y="20866"/>
                  </a:lnTo>
                  <a:lnTo>
                    <a:pt x="915" y="20866"/>
                  </a:lnTo>
                  <a:lnTo>
                    <a:pt x="915" y="734"/>
                  </a:lnTo>
                  <a:cubicBezTo>
                    <a:pt x="915" y="734"/>
                    <a:pt x="17364" y="734"/>
                    <a:pt x="17364" y="734"/>
                  </a:cubicBezTo>
                  <a:close/>
                  <a:moveTo>
                    <a:pt x="17364" y="734"/>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58" name="AutoShape 56"/>
            <p:cNvSpPr/>
            <p:nvPr/>
          </p:nvSpPr>
          <p:spPr>
            <a:xfrm>
              <a:off x="6728040" y="2901960"/>
              <a:ext cx="109440" cy="101520"/>
            </a:xfrm>
            <a:custGeom>
              <a:avLst/>
              <a:gdLst/>
              <a:ahLst/>
              <a:rect l="l" t="t" r="r" b="b"/>
              <a:pathLst>
                <a:path w="21600" h="21600">
                  <a:moveTo>
                    <a:pt x="0" y="0"/>
                  </a:moveTo>
                  <a:lnTo>
                    <a:pt x="0" y="21600"/>
                  </a:lnTo>
                  <a:lnTo>
                    <a:pt x="21600" y="21600"/>
                  </a:lnTo>
                </a:path>
              </a:pathLst>
            </a:custGeom>
            <a:solidFill>
              <a:srgbClr val="b391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59" name="AutoShape 57"/>
            <p:cNvSpPr/>
            <p:nvPr/>
          </p:nvSpPr>
          <p:spPr>
            <a:xfrm>
              <a:off x="6728040" y="2901960"/>
              <a:ext cx="109440" cy="101520"/>
            </a:xfrm>
            <a:custGeom>
              <a:avLst/>
              <a:gdLst/>
              <a:ahLst/>
              <a:rect l="l" t="t" r="r" b="b"/>
              <a:pathLst>
                <a:path w="21600" h="21600">
                  <a:moveTo>
                    <a:pt x="0" y="0"/>
                  </a:moveTo>
                  <a:lnTo>
                    <a:pt x="0" y="21600"/>
                  </a:lnTo>
                  <a:lnTo>
                    <a:pt x="21600" y="21600"/>
                  </a:lnTo>
                </a:path>
              </a:pathLst>
            </a:custGeom>
            <a:noFill/>
            <a:ln w="32040">
              <a:solidFill>
                <a:srgbClr val="00a8e6"/>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0" name="AutoShape 58"/>
            <p:cNvSpPr/>
            <p:nvPr/>
          </p:nvSpPr>
          <p:spPr>
            <a:xfrm>
              <a:off x="6326280" y="2940120"/>
              <a:ext cx="354240" cy="2196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1" name="AutoShape 59"/>
            <p:cNvSpPr/>
            <p:nvPr/>
          </p:nvSpPr>
          <p:spPr>
            <a:xfrm>
              <a:off x="6326280" y="2987640"/>
              <a:ext cx="354240" cy="2232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2" name="AutoShape 60"/>
            <p:cNvSpPr/>
            <p:nvPr/>
          </p:nvSpPr>
          <p:spPr>
            <a:xfrm>
              <a:off x="6326280" y="3035160"/>
              <a:ext cx="354240" cy="2232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3" name="AutoShape 61"/>
            <p:cNvSpPr/>
            <p:nvPr/>
          </p:nvSpPr>
          <p:spPr>
            <a:xfrm>
              <a:off x="6512040" y="3389400"/>
              <a:ext cx="285840" cy="2196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4" name="AutoShape 62"/>
            <p:cNvSpPr/>
            <p:nvPr/>
          </p:nvSpPr>
          <p:spPr>
            <a:xfrm>
              <a:off x="6512040" y="3436920"/>
              <a:ext cx="285840" cy="2232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5" name="AutoShape 63"/>
            <p:cNvSpPr/>
            <p:nvPr/>
          </p:nvSpPr>
          <p:spPr>
            <a:xfrm>
              <a:off x="6512040" y="3484440"/>
              <a:ext cx="285840" cy="2232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6" name="AutoShape 64"/>
            <p:cNvSpPr/>
            <p:nvPr/>
          </p:nvSpPr>
          <p:spPr>
            <a:xfrm>
              <a:off x="6708960" y="3178080"/>
              <a:ext cx="93600" cy="1584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7" name="AutoShape 65"/>
            <p:cNvSpPr/>
            <p:nvPr/>
          </p:nvSpPr>
          <p:spPr>
            <a:xfrm>
              <a:off x="6708960" y="3206880"/>
              <a:ext cx="93600" cy="1584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8" name="AutoShape 66"/>
            <p:cNvSpPr/>
            <p:nvPr/>
          </p:nvSpPr>
          <p:spPr>
            <a:xfrm>
              <a:off x="6708960" y="3235320"/>
              <a:ext cx="93600" cy="1584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9" name="AutoShape 67"/>
            <p:cNvSpPr/>
            <p:nvPr/>
          </p:nvSpPr>
          <p:spPr>
            <a:xfrm>
              <a:off x="6708960" y="3265560"/>
              <a:ext cx="93600" cy="1404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0" name="AutoShape 68"/>
            <p:cNvSpPr/>
            <p:nvPr/>
          </p:nvSpPr>
          <p:spPr>
            <a:xfrm>
              <a:off x="6708960" y="3294000"/>
              <a:ext cx="93600" cy="144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1" name="AutoShape 69"/>
            <p:cNvSpPr/>
            <p:nvPr/>
          </p:nvSpPr>
          <p:spPr>
            <a:xfrm>
              <a:off x="6336000" y="3187800"/>
              <a:ext cx="54000" cy="1188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2" name="AutoShape 70"/>
            <p:cNvSpPr/>
            <p:nvPr/>
          </p:nvSpPr>
          <p:spPr>
            <a:xfrm>
              <a:off x="6404040" y="3083040"/>
              <a:ext cx="55800" cy="22356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3" name="AutoShape 71"/>
            <p:cNvSpPr/>
            <p:nvPr/>
          </p:nvSpPr>
          <p:spPr>
            <a:xfrm>
              <a:off x="6481800" y="3120840"/>
              <a:ext cx="55800" cy="18576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b391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4" name="AutoShape 72"/>
            <p:cNvSpPr/>
            <p:nvPr/>
          </p:nvSpPr>
          <p:spPr>
            <a:xfrm>
              <a:off x="6551640" y="3159000"/>
              <a:ext cx="54000" cy="1494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005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5" name="AutoShape 73"/>
            <p:cNvSpPr/>
            <p:nvPr/>
          </p:nvSpPr>
          <p:spPr>
            <a:xfrm>
              <a:off x="6629400" y="3225960"/>
              <a:ext cx="55800" cy="792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6" name="AutoShape 74"/>
            <p:cNvSpPr/>
            <p:nvPr/>
          </p:nvSpPr>
          <p:spPr>
            <a:xfrm>
              <a:off x="6326280" y="3360600"/>
              <a:ext cx="79560" cy="150840"/>
            </a:xfrm>
            <a:custGeom>
              <a:avLst/>
              <a:gdLst/>
              <a:ahLst/>
              <a:rect l="l" t="t" r="r" b="b"/>
              <a:pathLst>
                <a:path w="21600" h="21600">
                  <a:moveTo>
                    <a:pt x="16102" y="16448"/>
                  </a:moveTo>
                  <a:lnTo>
                    <a:pt x="10296" y="21600"/>
                  </a:lnTo>
                  <a:cubicBezTo>
                    <a:pt x="4095" y="19484"/>
                    <a:pt x="0" y="15872"/>
                    <a:pt x="0" y="11768"/>
                  </a:cubicBezTo>
                  <a:cubicBezTo>
                    <a:pt x="0" y="5498"/>
                    <a:pt x="9550" y="384"/>
                    <a:pt x="21600" y="0"/>
                  </a:cubicBezTo>
                  <a:lnTo>
                    <a:pt x="21600" y="5939"/>
                  </a:lnTo>
                  <a:cubicBezTo>
                    <a:pt x="15933" y="6308"/>
                    <a:pt x="11520" y="8766"/>
                    <a:pt x="11520" y="11768"/>
                  </a:cubicBezTo>
                  <a:cubicBezTo>
                    <a:pt x="11520" y="13683"/>
                    <a:pt x="13336" y="15371"/>
                    <a:pt x="16102" y="16448"/>
                  </a:cubicBez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7" name="AutoShape 75"/>
            <p:cNvSpPr/>
            <p:nvPr/>
          </p:nvSpPr>
          <p:spPr>
            <a:xfrm>
              <a:off x="6413760" y="3360600"/>
              <a:ext cx="64800" cy="57240"/>
            </a:xfrm>
            <a:custGeom>
              <a:avLst/>
              <a:gdLst/>
              <a:ahLst/>
              <a:rect l="l" t="t" r="r" b="b"/>
              <a:pathLst>
                <a:path w="21600" h="21600">
                  <a:moveTo>
                    <a:pt x="9364" y="21600"/>
                  </a:moveTo>
                  <a:lnTo>
                    <a:pt x="21600" y="13778"/>
                  </a:lnTo>
                  <a:cubicBezTo>
                    <a:pt x="16881" y="5924"/>
                    <a:pt x="9017" y="619"/>
                    <a:pt x="0" y="0"/>
                  </a:cubicBezTo>
                  <a:lnTo>
                    <a:pt x="0" y="15623"/>
                  </a:lnTo>
                  <a:cubicBezTo>
                    <a:pt x="3821" y="16158"/>
                    <a:pt x="7140" y="18366"/>
                    <a:pt x="9364" y="21600"/>
                  </a:cubicBez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8" name="AutoShape 76"/>
            <p:cNvSpPr/>
            <p:nvPr/>
          </p:nvSpPr>
          <p:spPr>
            <a:xfrm>
              <a:off x="6373800" y="3408480"/>
              <a:ext cx="122400" cy="118800"/>
            </a:xfrm>
            <a:custGeom>
              <a:avLst/>
              <a:gdLst/>
              <a:ahLst/>
              <a:rect l="l" t="t" r="r" b="b"/>
              <a:pathLst>
                <a:path w="21600" h="21600">
                  <a:moveTo>
                    <a:pt x="20026" y="0"/>
                  </a:moveTo>
                  <a:lnTo>
                    <a:pt x="13536" y="3747"/>
                  </a:lnTo>
                  <a:cubicBezTo>
                    <a:pt x="13913" y="4638"/>
                    <a:pt x="14122" y="5618"/>
                    <a:pt x="14122" y="6646"/>
                  </a:cubicBezTo>
                  <a:cubicBezTo>
                    <a:pt x="14122" y="10770"/>
                    <a:pt x="10770" y="14124"/>
                    <a:pt x="6646" y="14124"/>
                  </a:cubicBezTo>
                  <a:cubicBezTo>
                    <a:pt x="5620" y="14124"/>
                    <a:pt x="4638" y="13916"/>
                    <a:pt x="3749" y="13538"/>
                  </a:cubicBezTo>
                  <a:lnTo>
                    <a:pt x="0" y="20027"/>
                  </a:lnTo>
                  <a:cubicBezTo>
                    <a:pt x="2005" y="21026"/>
                    <a:pt x="4255" y="21600"/>
                    <a:pt x="6646" y="21600"/>
                  </a:cubicBezTo>
                  <a:cubicBezTo>
                    <a:pt x="14904" y="21600"/>
                    <a:pt x="21600" y="14906"/>
                    <a:pt x="21600" y="6646"/>
                  </a:cubicBezTo>
                  <a:cubicBezTo>
                    <a:pt x="21600" y="4255"/>
                    <a:pt x="21024" y="2005"/>
                    <a:pt x="20026" y="0"/>
                  </a:cubicBez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179" name="AutoShape 78"/>
          <p:cNvSpPr/>
          <p:nvPr/>
        </p:nvSpPr>
        <p:spPr>
          <a:xfrm>
            <a:off x="7391520" y="4930920"/>
            <a:ext cx="1868400" cy="46512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80" name="AutoShape 79"/>
          <p:cNvSpPr/>
          <p:nvPr/>
        </p:nvSpPr>
        <p:spPr>
          <a:xfrm>
            <a:off x="9258480" y="4930920"/>
            <a:ext cx="1871640" cy="46512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3d414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81" name="AutoShape 80"/>
          <p:cNvSpPr/>
          <p:nvPr/>
        </p:nvSpPr>
        <p:spPr>
          <a:xfrm>
            <a:off x="11113920" y="4930920"/>
            <a:ext cx="1876680" cy="46512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82" name="AutoShape 81"/>
          <p:cNvSpPr/>
          <p:nvPr/>
        </p:nvSpPr>
        <p:spPr>
          <a:xfrm>
            <a:off x="8242200" y="5076720"/>
            <a:ext cx="177840" cy="171720"/>
          </a:xfrm>
          <a:custGeom>
            <a:avLst/>
            <a:gdLst/>
            <a:ahLst/>
            <a:rect l="l" t="t" r="r" b="b"/>
            <a:pathLst>
              <a:path w="21600" h="21600">
                <a:moveTo>
                  <a:pt x="21600" y="10800"/>
                </a:moveTo>
                <a:cubicBezTo>
                  <a:pt x="21600" y="16764"/>
                  <a:pt x="16766" y="21600"/>
                  <a:pt x="10800" y="21600"/>
                </a:cubicBezTo>
                <a:cubicBezTo>
                  <a:pt x="4836" y="21600"/>
                  <a:pt x="0" y="16764"/>
                  <a:pt x="0" y="10800"/>
                </a:cubicBezTo>
                <a:cubicBezTo>
                  <a:pt x="0" y="4836"/>
                  <a:pt x="4836" y="0"/>
                  <a:pt x="10800" y="0"/>
                </a:cubicBezTo>
                <a:cubicBezTo>
                  <a:pt x="16766" y="0"/>
                  <a:pt x="21600" y="4836"/>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83" name="AutoShape 82"/>
          <p:cNvSpPr/>
          <p:nvPr/>
        </p:nvSpPr>
        <p:spPr>
          <a:xfrm>
            <a:off x="10096560" y="5076720"/>
            <a:ext cx="177840" cy="171720"/>
          </a:xfrm>
          <a:custGeom>
            <a:avLst/>
            <a:gdLst/>
            <a:ahLst/>
            <a:rect l="l" t="t" r="r" b="b"/>
            <a:pathLst>
              <a:path w="21600" h="21600">
                <a:moveTo>
                  <a:pt x="21600" y="10800"/>
                </a:moveTo>
                <a:cubicBezTo>
                  <a:pt x="21600" y="16764"/>
                  <a:pt x="16766" y="21600"/>
                  <a:pt x="10800" y="21600"/>
                </a:cubicBezTo>
                <a:cubicBezTo>
                  <a:pt x="4836" y="21600"/>
                  <a:pt x="0" y="16764"/>
                  <a:pt x="0" y="10800"/>
                </a:cubicBezTo>
                <a:cubicBezTo>
                  <a:pt x="0" y="4836"/>
                  <a:pt x="4836" y="0"/>
                  <a:pt x="10800" y="0"/>
                </a:cubicBezTo>
                <a:cubicBezTo>
                  <a:pt x="16766" y="0"/>
                  <a:pt x="21600" y="4836"/>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84" name="AutoShape 83"/>
          <p:cNvSpPr/>
          <p:nvPr/>
        </p:nvSpPr>
        <p:spPr>
          <a:xfrm>
            <a:off x="11977560" y="5076720"/>
            <a:ext cx="176400" cy="171720"/>
          </a:xfrm>
          <a:custGeom>
            <a:avLst/>
            <a:gdLst/>
            <a:ahLst/>
            <a:rect l="l" t="t" r="r" b="b"/>
            <a:pathLst>
              <a:path w="21600" h="21600">
                <a:moveTo>
                  <a:pt x="21600" y="10800"/>
                </a:moveTo>
                <a:cubicBezTo>
                  <a:pt x="21600" y="16764"/>
                  <a:pt x="16766" y="21600"/>
                  <a:pt x="10800" y="21600"/>
                </a:cubicBezTo>
                <a:cubicBezTo>
                  <a:pt x="4836" y="21600"/>
                  <a:pt x="0" y="16764"/>
                  <a:pt x="0" y="10800"/>
                </a:cubicBezTo>
                <a:cubicBezTo>
                  <a:pt x="0" y="4836"/>
                  <a:pt x="4836" y="0"/>
                  <a:pt x="10800" y="0"/>
                </a:cubicBezTo>
                <a:cubicBezTo>
                  <a:pt x="16766" y="0"/>
                  <a:pt x="21600" y="4836"/>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85" name="Line 84"/>
          <p:cNvSpPr/>
          <p:nvPr/>
        </p:nvSpPr>
        <p:spPr>
          <a:xfrm flipV="1">
            <a:off x="8331120" y="5397120"/>
            <a:ext cx="0" cy="1143000"/>
          </a:xfrm>
          <a:prstGeom prst="line">
            <a:avLst/>
          </a:prstGeom>
          <a:ln w="76320">
            <a:solidFill>
              <a:srgbClr val="5a697c"/>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86" name="Line 85"/>
          <p:cNvSpPr/>
          <p:nvPr/>
        </p:nvSpPr>
        <p:spPr>
          <a:xfrm flipV="1">
            <a:off x="12066480" y="5397480"/>
            <a:ext cx="0" cy="2022480"/>
          </a:xfrm>
          <a:prstGeom prst="line">
            <a:avLst/>
          </a:prstGeom>
          <a:ln w="76320">
            <a:solidFill>
              <a:srgbClr val="9ab737"/>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87" name="Line 86"/>
          <p:cNvSpPr/>
          <p:nvPr/>
        </p:nvSpPr>
        <p:spPr>
          <a:xfrm>
            <a:off x="10185480" y="3514680"/>
            <a:ext cx="0" cy="1409760"/>
          </a:xfrm>
          <a:prstGeom prst="line">
            <a:avLst/>
          </a:prstGeom>
          <a:ln w="76320">
            <a:solidFill>
              <a:srgbClr val="3d4147"/>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88" name="Oval 87"/>
          <p:cNvSpPr/>
          <p:nvPr/>
        </p:nvSpPr>
        <p:spPr>
          <a:xfrm>
            <a:off x="9702720" y="2638440"/>
            <a:ext cx="957240" cy="93168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89" name="Oval 88"/>
          <p:cNvSpPr/>
          <p:nvPr/>
        </p:nvSpPr>
        <p:spPr>
          <a:xfrm>
            <a:off x="7848720" y="6448320"/>
            <a:ext cx="955440" cy="93348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90" name="Oval 89"/>
          <p:cNvSpPr/>
          <p:nvPr/>
        </p:nvSpPr>
        <p:spPr>
          <a:xfrm>
            <a:off x="11571120" y="7192800"/>
            <a:ext cx="955800" cy="93348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nvGrpSpPr>
          <p:cNvPr id="191" name="Group 103"/>
          <p:cNvGrpSpPr/>
          <p:nvPr/>
        </p:nvGrpSpPr>
        <p:grpSpPr>
          <a:xfrm>
            <a:off x="7958160" y="6804000"/>
            <a:ext cx="771480" cy="723600"/>
            <a:chOff x="7958160" y="6804000"/>
            <a:chExt cx="771480" cy="723600"/>
          </a:xfrm>
        </p:grpSpPr>
        <p:sp>
          <p:nvSpPr>
            <p:cNvPr id="192" name="AutoShape 90"/>
            <p:cNvSpPr/>
            <p:nvPr/>
          </p:nvSpPr>
          <p:spPr>
            <a:xfrm>
              <a:off x="8267760" y="7363800"/>
              <a:ext cx="155520" cy="14508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979799"/>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93" name="AutoShape 91"/>
            <p:cNvSpPr/>
            <p:nvPr/>
          </p:nvSpPr>
          <p:spPr>
            <a:xfrm>
              <a:off x="8134200" y="7489800"/>
              <a:ext cx="411480" cy="378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dbdbdb"/>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94" name="AutoShape 92"/>
            <p:cNvSpPr/>
            <p:nvPr/>
          </p:nvSpPr>
          <p:spPr>
            <a:xfrm>
              <a:off x="7958160" y="6804000"/>
              <a:ext cx="771480" cy="569520"/>
            </a:xfrm>
            <a:custGeom>
              <a:avLst/>
              <a:gdLst/>
              <a:ahLst/>
              <a:rect l="l" t="t" r="r" b="b"/>
              <a:pathLst>
                <a:path w="21600" h="21600">
                  <a:moveTo>
                    <a:pt x="20781" y="21600"/>
                  </a:moveTo>
                  <a:lnTo>
                    <a:pt x="819" y="21600"/>
                  </a:lnTo>
                  <a:cubicBezTo>
                    <a:pt x="366" y="21600"/>
                    <a:pt x="0" y="21102"/>
                    <a:pt x="0" y="20489"/>
                  </a:cubicBezTo>
                  <a:lnTo>
                    <a:pt x="0" y="1111"/>
                  </a:lnTo>
                  <a:cubicBezTo>
                    <a:pt x="0" y="497"/>
                    <a:pt x="366" y="0"/>
                    <a:pt x="819" y="0"/>
                  </a:cubicBezTo>
                  <a:lnTo>
                    <a:pt x="20781" y="0"/>
                  </a:lnTo>
                  <a:cubicBezTo>
                    <a:pt x="21234" y="0"/>
                    <a:pt x="21600" y="497"/>
                    <a:pt x="21600" y="1111"/>
                  </a:cubicBezTo>
                  <a:lnTo>
                    <a:pt x="21600" y="20489"/>
                  </a:lnTo>
                  <a:cubicBezTo>
                    <a:pt x="21600" y="21102"/>
                    <a:pt x="21234" y="21600"/>
                    <a:pt x="20781" y="21600"/>
                  </a:cubicBez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95" name="AutoShape 93"/>
            <p:cNvSpPr/>
            <p:nvPr/>
          </p:nvSpPr>
          <p:spPr>
            <a:xfrm>
              <a:off x="7958160" y="6804000"/>
              <a:ext cx="771480" cy="569520"/>
            </a:xfrm>
            <a:custGeom>
              <a:avLst/>
              <a:gdLst/>
              <a:ahLst/>
              <a:rect l="l" t="t" r="r" b="b"/>
              <a:pathLst>
                <a:path w="21600" h="21600">
                  <a:moveTo>
                    <a:pt x="20781" y="21600"/>
                  </a:moveTo>
                  <a:lnTo>
                    <a:pt x="819" y="21600"/>
                  </a:lnTo>
                  <a:cubicBezTo>
                    <a:pt x="366" y="21600"/>
                    <a:pt x="0" y="21102"/>
                    <a:pt x="0" y="20489"/>
                  </a:cubicBezTo>
                  <a:lnTo>
                    <a:pt x="0" y="1111"/>
                  </a:lnTo>
                  <a:cubicBezTo>
                    <a:pt x="0" y="497"/>
                    <a:pt x="366" y="0"/>
                    <a:pt x="819" y="0"/>
                  </a:cubicBezTo>
                  <a:lnTo>
                    <a:pt x="20781" y="0"/>
                  </a:lnTo>
                  <a:cubicBezTo>
                    <a:pt x="21234" y="0"/>
                    <a:pt x="21600" y="497"/>
                    <a:pt x="21600" y="1111"/>
                  </a:cubicBezTo>
                  <a:lnTo>
                    <a:pt x="21600" y="20489"/>
                  </a:lnTo>
                  <a:cubicBezTo>
                    <a:pt x="21600" y="21102"/>
                    <a:pt x="21234" y="21600"/>
                    <a:pt x="20781" y="21600"/>
                  </a:cubicBezTo>
                  <a:close/>
                  <a:moveTo>
                    <a:pt x="20781" y="21600"/>
                  </a:moveTo>
                </a:path>
              </a:pathLst>
            </a:custGeom>
            <a:noFill/>
            <a:ln w="50760">
              <a:solidFill>
                <a:srgbClr val="dbdbdb"/>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96" name="AutoShape 94"/>
            <p:cNvSpPr/>
            <p:nvPr/>
          </p:nvSpPr>
          <p:spPr>
            <a:xfrm>
              <a:off x="8050320" y="6865920"/>
              <a:ext cx="222120" cy="163800"/>
            </a:xfrm>
            <a:custGeom>
              <a:avLst/>
              <a:gdLst/>
              <a:ahLst/>
              <a:rect l="l" t="t" r="r" b="b"/>
              <a:pathLst>
                <a:path w="21600" h="21600">
                  <a:moveTo>
                    <a:pt x="5642" y="21600"/>
                  </a:moveTo>
                  <a:cubicBezTo>
                    <a:pt x="4355" y="19819"/>
                    <a:pt x="3557" y="17381"/>
                    <a:pt x="3557" y="14693"/>
                  </a:cubicBezTo>
                  <a:cubicBezTo>
                    <a:pt x="3557" y="9257"/>
                    <a:pt x="6806" y="4837"/>
                    <a:pt x="10800" y="4837"/>
                  </a:cubicBezTo>
                  <a:cubicBezTo>
                    <a:pt x="14794" y="4837"/>
                    <a:pt x="18044" y="9257"/>
                    <a:pt x="18044" y="14693"/>
                  </a:cubicBezTo>
                  <a:cubicBezTo>
                    <a:pt x="18044" y="17381"/>
                    <a:pt x="17246" y="19819"/>
                    <a:pt x="15958" y="21600"/>
                  </a:cubicBezTo>
                  <a:lnTo>
                    <a:pt x="20326" y="21600"/>
                  </a:lnTo>
                  <a:cubicBezTo>
                    <a:pt x="21138" y="19539"/>
                    <a:pt x="21600" y="17187"/>
                    <a:pt x="21600" y="14693"/>
                  </a:cubicBezTo>
                  <a:cubicBezTo>
                    <a:pt x="21600" y="6592"/>
                    <a:pt x="16755" y="0"/>
                    <a:pt x="10800" y="0"/>
                  </a:cubicBezTo>
                  <a:cubicBezTo>
                    <a:pt x="4844" y="0"/>
                    <a:pt x="0" y="6592"/>
                    <a:pt x="0" y="14693"/>
                  </a:cubicBezTo>
                  <a:cubicBezTo>
                    <a:pt x="0" y="17187"/>
                    <a:pt x="463" y="19539"/>
                    <a:pt x="1274" y="21600"/>
                  </a:cubicBezTo>
                  <a:cubicBezTo>
                    <a:pt x="1274" y="21600"/>
                    <a:pt x="5642" y="21600"/>
                    <a:pt x="5642" y="21600"/>
                  </a:cubicBezTo>
                  <a:close/>
                  <a:moveTo>
                    <a:pt x="5642" y="21600"/>
                  </a:move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97" name="AutoShape 95"/>
            <p:cNvSpPr/>
            <p:nvPr/>
          </p:nvSpPr>
          <p:spPr>
            <a:xfrm>
              <a:off x="8434440" y="6865920"/>
              <a:ext cx="222120" cy="163800"/>
            </a:xfrm>
            <a:custGeom>
              <a:avLst/>
              <a:gdLst/>
              <a:ahLst/>
              <a:rect l="l" t="t" r="r" b="b"/>
              <a:pathLst>
                <a:path w="21600" h="21600">
                  <a:moveTo>
                    <a:pt x="5643" y="21600"/>
                  </a:moveTo>
                  <a:cubicBezTo>
                    <a:pt x="4355" y="19819"/>
                    <a:pt x="3557" y="17381"/>
                    <a:pt x="3557" y="14693"/>
                  </a:cubicBezTo>
                  <a:cubicBezTo>
                    <a:pt x="3557" y="9257"/>
                    <a:pt x="6806" y="4837"/>
                    <a:pt x="10800" y="4837"/>
                  </a:cubicBezTo>
                  <a:cubicBezTo>
                    <a:pt x="14795" y="4837"/>
                    <a:pt x="18044" y="9257"/>
                    <a:pt x="18044" y="14693"/>
                  </a:cubicBezTo>
                  <a:cubicBezTo>
                    <a:pt x="18044" y="17381"/>
                    <a:pt x="17246" y="19819"/>
                    <a:pt x="15959" y="21600"/>
                  </a:cubicBezTo>
                  <a:lnTo>
                    <a:pt x="20327" y="21600"/>
                  </a:lnTo>
                  <a:cubicBezTo>
                    <a:pt x="21138" y="19539"/>
                    <a:pt x="21600" y="17187"/>
                    <a:pt x="21600" y="14693"/>
                  </a:cubicBezTo>
                  <a:cubicBezTo>
                    <a:pt x="21600" y="6592"/>
                    <a:pt x="16755" y="0"/>
                    <a:pt x="10800" y="0"/>
                  </a:cubicBezTo>
                  <a:cubicBezTo>
                    <a:pt x="4845" y="0"/>
                    <a:pt x="0" y="6592"/>
                    <a:pt x="0" y="14693"/>
                  </a:cubicBezTo>
                  <a:cubicBezTo>
                    <a:pt x="0" y="17187"/>
                    <a:pt x="463" y="19539"/>
                    <a:pt x="1275" y="21600"/>
                  </a:cubicBezTo>
                  <a:cubicBezTo>
                    <a:pt x="1275" y="21600"/>
                    <a:pt x="5643" y="21600"/>
                    <a:pt x="5643" y="21600"/>
                  </a:cubicBezTo>
                  <a:close/>
                  <a:moveTo>
                    <a:pt x="5643" y="21600"/>
                  </a:move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98" name="AutoShape 96"/>
            <p:cNvSpPr/>
            <p:nvPr/>
          </p:nvSpPr>
          <p:spPr>
            <a:xfrm>
              <a:off x="8143920" y="6854760"/>
              <a:ext cx="47520" cy="120600"/>
            </a:xfrm>
            <a:custGeom>
              <a:avLst/>
              <a:gdLst/>
              <a:ahLst/>
              <a:rect l="l" t="t" r="r" b="b"/>
              <a:pathLst>
                <a:path w="21600" h="21600">
                  <a:moveTo>
                    <a:pt x="0" y="21600"/>
                  </a:moveTo>
                  <a:lnTo>
                    <a:pt x="21600" y="21600"/>
                  </a:lnTo>
                  <a:lnTo>
                    <a:pt x="10802" y="0"/>
                  </a:lnTo>
                  <a:cubicBezTo>
                    <a:pt x="10802" y="0"/>
                    <a:pt x="0" y="21600"/>
                    <a:pt x="0" y="21600"/>
                  </a:cubicBezTo>
                  <a:close/>
                  <a:moveTo>
                    <a:pt x="0" y="21600"/>
                  </a:moveTo>
                </a:path>
              </a:pathLst>
            </a:custGeom>
            <a:solidFill>
              <a:srgbClr val="8956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99" name="AutoShape 97"/>
            <p:cNvSpPr/>
            <p:nvPr/>
          </p:nvSpPr>
          <p:spPr>
            <a:xfrm>
              <a:off x="8164440" y="6854760"/>
              <a:ext cx="23760" cy="120600"/>
            </a:xfrm>
            <a:custGeom>
              <a:avLst/>
              <a:gdLst/>
              <a:ahLst/>
              <a:rect l="l" t="t" r="r" b="b"/>
              <a:pathLst>
                <a:path w="21600" h="21600">
                  <a:moveTo>
                    <a:pt x="0" y="21600"/>
                  </a:moveTo>
                  <a:lnTo>
                    <a:pt x="21600" y="21600"/>
                  </a:lnTo>
                  <a:lnTo>
                    <a:pt x="0" y="0"/>
                  </a:lnTo>
                  <a:cubicBezTo>
                    <a:pt x="0" y="0"/>
                    <a:pt x="0" y="21600"/>
                    <a:pt x="0" y="21600"/>
                  </a:cubicBezTo>
                  <a:close/>
                  <a:moveTo>
                    <a:pt x="0" y="21600"/>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0" name="AutoShape 98"/>
            <p:cNvSpPr/>
            <p:nvPr/>
          </p:nvSpPr>
          <p:spPr>
            <a:xfrm>
              <a:off x="8143920" y="6958440"/>
              <a:ext cx="47520" cy="47520"/>
            </a:xfrm>
            <a:custGeom>
              <a:avLst/>
              <a:gdLst/>
              <a:ahLst/>
              <a:rect l="l" t="t" r="r" b="b"/>
              <a:pathLst>
                <a:path w="21600" h="21600">
                  <a:moveTo>
                    <a:pt x="21600" y="10800"/>
                  </a:moveTo>
                  <a:cubicBezTo>
                    <a:pt x="21600" y="16764"/>
                    <a:pt x="16768" y="21600"/>
                    <a:pt x="10798" y="21600"/>
                  </a:cubicBezTo>
                  <a:cubicBezTo>
                    <a:pt x="4832" y="21600"/>
                    <a:pt x="0" y="16764"/>
                    <a:pt x="0" y="10800"/>
                  </a:cubicBezTo>
                  <a:cubicBezTo>
                    <a:pt x="0" y="4836"/>
                    <a:pt x="4832" y="0"/>
                    <a:pt x="10798" y="0"/>
                  </a:cubicBezTo>
                  <a:cubicBezTo>
                    <a:pt x="16768" y="0"/>
                    <a:pt x="21600" y="4836"/>
                    <a:pt x="21600" y="10800"/>
                  </a:cubicBez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1" name="AutoShape 99"/>
            <p:cNvSpPr/>
            <p:nvPr/>
          </p:nvSpPr>
          <p:spPr>
            <a:xfrm>
              <a:off x="8475840" y="6875280"/>
              <a:ext cx="88920" cy="113040"/>
            </a:xfrm>
            <a:custGeom>
              <a:avLst/>
              <a:gdLst/>
              <a:ahLst/>
              <a:rect l="l" t="t" r="r" b="b"/>
              <a:pathLst>
                <a:path w="21600" h="21600">
                  <a:moveTo>
                    <a:pt x="12262" y="21600"/>
                  </a:moveTo>
                  <a:lnTo>
                    <a:pt x="21600" y="16465"/>
                  </a:lnTo>
                  <a:lnTo>
                    <a:pt x="0" y="0"/>
                  </a:lnTo>
                  <a:cubicBezTo>
                    <a:pt x="0" y="0"/>
                    <a:pt x="12262" y="21600"/>
                    <a:pt x="12262" y="21600"/>
                  </a:cubicBezTo>
                  <a:close/>
                  <a:moveTo>
                    <a:pt x="12262" y="21600"/>
                  </a:moveTo>
                </a:path>
              </a:pathLst>
            </a:custGeom>
            <a:solidFill>
              <a:srgbClr val="6d8c59"/>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2" name="AutoShape 100"/>
            <p:cNvSpPr/>
            <p:nvPr/>
          </p:nvSpPr>
          <p:spPr>
            <a:xfrm>
              <a:off x="8475840" y="6875280"/>
              <a:ext cx="88920" cy="100080"/>
            </a:xfrm>
            <a:custGeom>
              <a:avLst/>
              <a:gdLst/>
              <a:ahLst/>
              <a:rect l="l" t="t" r="r" b="b"/>
              <a:pathLst>
                <a:path w="21600" h="21600">
                  <a:moveTo>
                    <a:pt x="16931" y="21600"/>
                  </a:moveTo>
                  <a:lnTo>
                    <a:pt x="21600" y="18686"/>
                  </a:lnTo>
                  <a:lnTo>
                    <a:pt x="0" y="0"/>
                  </a:lnTo>
                  <a:cubicBezTo>
                    <a:pt x="0" y="0"/>
                    <a:pt x="16931" y="21600"/>
                    <a:pt x="16931" y="21600"/>
                  </a:cubicBezTo>
                  <a:close/>
                  <a:moveTo>
                    <a:pt x="16931" y="21600"/>
                  </a:move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3" name="AutoShape 101"/>
            <p:cNvSpPr/>
            <p:nvPr/>
          </p:nvSpPr>
          <p:spPr>
            <a:xfrm>
              <a:off x="8528040" y="6958440"/>
              <a:ext cx="46080" cy="47520"/>
            </a:xfrm>
            <a:custGeom>
              <a:avLst/>
              <a:gdLst/>
              <a:ahLst/>
              <a:rect l="l" t="t" r="r" b="b"/>
              <a:pathLst>
                <a:path w="21600" h="21600">
                  <a:moveTo>
                    <a:pt x="21600" y="10800"/>
                  </a:moveTo>
                  <a:cubicBezTo>
                    <a:pt x="21600" y="16764"/>
                    <a:pt x="16764" y="21600"/>
                    <a:pt x="10795" y="21600"/>
                  </a:cubicBezTo>
                  <a:cubicBezTo>
                    <a:pt x="4836" y="21600"/>
                    <a:pt x="0" y="16764"/>
                    <a:pt x="0" y="10800"/>
                  </a:cubicBezTo>
                  <a:cubicBezTo>
                    <a:pt x="0" y="4836"/>
                    <a:pt x="4836" y="0"/>
                    <a:pt x="10795" y="0"/>
                  </a:cubicBezTo>
                  <a:cubicBezTo>
                    <a:pt x="16764" y="0"/>
                    <a:pt x="21600" y="4836"/>
                    <a:pt x="21600" y="10800"/>
                  </a:cubicBezTo>
                </a:path>
              </a:pathLst>
            </a:custGeom>
            <a:solidFill>
              <a:srgbClr val="baed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4" name="AutoShape 102"/>
            <p:cNvSpPr/>
            <p:nvPr/>
          </p:nvSpPr>
          <p:spPr>
            <a:xfrm>
              <a:off x="7978680" y="7083720"/>
              <a:ext cx="728640" cy="206640"/>
            </a:xfrm>
            <a:custGeom>
              <a:avLst/>
              <a:gdLst/>
              <a:ahLst/>
              <a:rect l="l" t="t" r="r" b="b"/>
              <a:pathLst>
                <a:path w="21600" h="21600">
                  <a:moveTo>
                    <a:pt x="0" y="16320"/>
                  </a:moveTo>
                  <a:lnTo>
                    <a:pt x="1482" y="16320"/>
                  </a:lnTo>
                  <a:lnTo>
                    <a:pt x="2462" y="9241"/>
                  </a:lnTo>
                  <a:lnTo>
                    <a:pt x="4446" y="19611"/>
                  </a:lnTo>
                  <a:lnTo>
                    <a:pt x="7040" y="2811"/>
                  </a:lnTo>
                  <a:lnTo>
                    <a:pt x="8623" y="16320"/>
                  </a:lnTo>
                  <a:lnTo>
                    <a:pt x="10137" y="16320"/>
                  </a:lnTo>
                  <a:lnTo>
                    <a:pt x="11823" y="10423"/>
                  </a:lnTo>
                  <a:lnTo>
                    <a:pt x="14147" y="21600"/>
                  </a:lnTo>
                  <a:lnTo>
                    <a:pt x="17145" y="0"/>
                  </a:lnTo>
                  <a:lnTo>
                    <a:pt x="18661" y="14057"/>
                  </a:lnTo>
                  <a:lnTo>
                    <a:pt x="21600" y="14057"/>
                  </a:lnTo>
                </a:path>
              </a:pathLst>
            </a:custGeom>
            <a:noFill/>
            <a:ln w="30240">
              <a:solidFill>
                <a:srgbClr val="d47270"/>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205" name="Group 123"/>
          <p:cNvGrpSpPr/>
          <p:nvPr/>
        </p:nvGrpSpPr>
        <p:grpSpPr>
          <a:xfrm>
            <a:off x="9748800" y="2558880"/>
            <a:ext cx="863280" cy="739800"/>
            <a:chOff x="9748800" y="2558880"/>
            <a:chExt cx="863280" cy="739800"/>
          </a:xfrm>
        </p:grpSpPr>
        <p:sp>
          <p:nvSpPr>
            <p:cNvPr id="206" name="AutoShape 104"/>
            <p:cNvSpPr/>
            <p:nvPr/>
          </p:nvSpPr>
          <p:spPr>
            <a:xfrm>
              <a:off x="10103400" y="3133440"/>
              <a:ext cx="155880" cy="14472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979799"/>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7" name="AutoShape 105"/>
            <p:cNvSpPr/>
            <p:nvPr/>
          </p:nvSpPr>
          <p:spPr>
            <a:xfrm>
              <a:off x="9977760" y="3259080"/>
              <a:ext cx="416520" cy="396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dbdbdb"/>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8" name="AutoShape 106"/>
            <p:cNvSpPr/>
            <p:nvPr/>
          </p:nvSpPr>
          <p:spPr>
            <a:xfrm>
              <a:off x="9790200" y="2558880"/>
              <a:ext cx="779040" cy="573120"/>
            </a:xfrm>
            <a:custGeom>
              <a:avLst/>
              <a:gdLst/>
              <a:ahLst/>
              <a:rect l="l" t="t" r="r" b="b"/>
              <a:pathLst>
                <a:path w="21600" h="21600">
                  <a:moveTo>
                    <a:pt x="20782" y="21600"/>
                  </a:moveTo>
                  <a:lnTo>
                    <a:pt x="818" y="21600"/>
                  </a:lnTo>
                  <a:cubicBezTo>
                    <a:pt x="367" y="21600"/>
                    <a:pt x="0" y="21103"/>
                    <a:pt x="0" y="20489"/>
                  </a:cubicBezTo>
                  <a:lnTo>
                    <a:pt x="0" y="1111"/>
                  </a:lnTo>
                  <a:cubicBezTo>
                    <a:pt x="0" y="498"/>
                    <a:pt x="367" y="0"/>
                    <a:pt x="818" y="0"/>
                  </a:cubicBezTo>
                  <a:lnTo>
                    <a:pt x="20782" y="0"/>
                  </a:lnTo>
                  <a:cubicBezTo>
                    <a:pt x="21234" y="0"/>
                    <a:pt x="21600" y="498"/>
                    <a:pt x="21600" y="1111"/>
                  </a:cubicBezTo>
                  <a:lnTo>
                    <a:pt x="21600" y="20489"/>
                  </a:lnTo>
                  <a:cubicBezTo>
                    <a:pt x="21600" y="21103"/>
                    <a:pt x="21234" y="21600"/>
                    <a:pt x="20782" y="21600"/>
                  </a:cubicBez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9" name="AutoShape 107"/>
            <p:cNvSpPr/>
            <p:nvPr/>
          </p:nvSpPr>
          <p:spPr>
            <a:xfrm>
              <a:off x="10050840" y="2746080"/>
              <a:ext cx="262080" cy="160560"/>
            </a:xfrm>
            <a:custGeom>
              <a:avLst/>
              <a:gdLst/>
              <a:ahLst/>
              <a:rect l="l" t="t" r="r" b="b"/>
              <a:pathLst>
                <a:path w="21600" h="21600">
                  <a:moveTo>
                    <a:pt x="13040" y="0"/>
                  </a:moveTo>
                  <a:cubicBezTo>
                    <a:pt x="13040" y="0"/>
                    <a:pt x="17039" y="3251"/>
                    <a:pt x="18310" y="4774"/>
                  </a:cubicBezTo>
                  <a:cubicBezTo>
                    <a:pt x="19660" y="6394"/>
                    <a:pt x="21600" y="8753"/>
                    <a:pt x="21600" y="13323"/>
                  </a:cubicBezTo>
                  <a:cubicBezTo>
                    <a:pt x="21600" y="17894"/>
                    <a:pt x="20037" y="21600"/>
                    <a:pt x="18104" y="21600"/>
                  </a:cubicBezTo>
                  <a:lnTo>
                    <a:pt x="3708" y="21600"/>
                  </a:lnTo>
                  <a:cubicBezTo>
                    <a:pt x="1603" y="21600"/>
                    <a:pt x="0" y="17894"/>
                    <a:pt x="0" y="13323"/>
                  </a:cubicBezTo>
                  <a:cubicBezTo>
                    <a:pt x="0" y="8753"/>
                    <a:pt x="2021" y="5925"/>
                    <a:pt x="3432" y="5047"/>
                  </a:cubicBezTo>
                  <a:lnTo>
                    <a:pt x="9163" y="1861"/>
                  </a:lnTo>
                </a:path>
              </a:pathLst>
            </a:custGeom>
            <a:noFill/>
            <a:ln w="88920">
              <a:solidFill>
                <a:srgbClr val="d47270"/>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0" name="AutoShape 108"/>
            <p:cNvSpPr/>
            <p:nvPr/>
          </p:nvSpPr>
          <p:spPr>
            <a:xfrm>
              <a:off x="10229040" y="2808000"/>
              <a:ext cx="194040" cy="60480"/>
            </a:xfrm>
            <a:custGeom>
              <a:avLst/>
              <a:gdLst/>
              <a:ahLst/>
              <a:rect l="l" t="t" r="r" b="b"/>
              <a:pathLst>
                <a:path w="21600" h="21600">
                  <a:moveTo>
                    <a:pt x="3350" y="21600"/>
                  </a:moveTo>
                  <a:cubicBezTo>
                    <a:pt x="1503" y="21600"/>
                    <a:pt x="0" y="16758"/>
                    <a:pt x="0" y="10796"/>
                  </a:cubicBezTo>
                  <a:cubicBezTo>
                    <a:pt x="0" y="4842"/>
                    <a:pt x="1503" y="0"/>
                    <a:pt x="3350" y="0"/>
                  </a:cubicBezTo>
                  <a:lnTo>
                    <a:pt x="18249" y="0"/>
                  </a:lnTo>
                  <a:cubicBezTo>
                    <a:pt x="20098" y="0"/>
                    <a:pt x="21600" y="4842"/>
                    <a:pt x="21600" y="10796"/>
                  </a:cubicBezTo>
                  <a:cubicBezTo>
                    <a:pt x="21600" y="16758"/>
                    <a:pt x="20098" y="21600"/>
                    <a:pt x="18249" y="21600"/>
                  </a:cubicBezTo>
                  <a:cubicBezTo>
                    <a:pt x="18249" y="21600"/>
                    <a:pt x="3350" y="21600"/>
                    <a:pt x="3350" y="21600"/>
                  </a:cubicBezTo>
                  <a:close/>
                  <a:moveTo>
                    <a:pt x="3350" y="21600"/>
                  </a:moveTo>
                </a:path>
              </a:pathLst>
            </a:custGeom>
            <a:solidFill>
              <a:srgbClr val="4d4d4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1" name="AutoShape 109"/>
            <p:cNvSpPr/>
            <p:nvPr/>
          </p:nvSpPr>
          <p:spPr>
            <a:xfrm>
              <a:off x="10219320" y="2808000"/>
              <a:ext cx="203760" cy="71640"/>
            </a:xfrm>
            <a:custGeom>
              <a:avLst/>
              <a:gdLst/>
              <a:ahLst/>
              <a:rect l="l" t="t" r="r" b="b"/>
              <a:pathLst>
                <a:path w="21600" h="21600">
                  <a:moveTo>
                    <a:pt x="17868" y="0"/>
                  </a:moveTo>
                  <a:lnTo>
                    <a:pt x="3732" y="0"/>
                  </a:lnTo>
                  <a:cubicBezTo>
                    <a:pt x="1675" y="0"/>
                    <a:pt x="0" y="4842"/>
                    <a:pt x="0" y="10798"/>
                  </a:cubicBezTo>
                  <a:cubicBezTo>
                    <a:pt x="0" y="16751"/>
                    <a:pt x="1675" y="21600"/>
                    <a:pt x="3732" y="21600"/>
                  </a:cubicBezTo>
                  <a:lnTo>
                    <a:pt x="17868" y="21600"/>
                  </a:lnTo>
                  <a:cubicBezTo>
                    <a:pt x="19926" y="21600"/>
                    <a:pt x="21600" y="16751"/>
                    <a:pt x="21600" y="10798"/>
                  </a:cubicBezTo>
                  <a:cubicBezTo>
                    <a:pt x="21600" y="4842"/>
                    <a:pt x="19926" y="0"/>
                    <a:pt x="17868" y="0"/>
                  </a:cubicBezTo>
                  <a:moveTo>
                    <a:pt x="17868" y="3203"/>
                  </a:moveTo>
                  <a:cubicBezTo>
                    <a:pt x="19318" y="3203"/>
                    <a:pt x="20493" y="6604"/>
                    <a:pt x="20493" y="10798"/>
                  </a:cubicBezTo>
                  <a:cubicBezTo>
                    <a:pt x="20493" y="14993"/>
                    <a:pt x="19318" y="18397"/>
                    <a:pt x="17868" y="18397"/>
                  </a:cubicBezTo>
                  <a:lnTo>
                    <a:pt x="3732" y="18397"/>
                  </a:lnTo>
                  <a:cubicBezTo>
                    <a:pt x="2282" y="18397"/>
                    <a:pt x="1107" y="14993"/>
                    <a:pt x="1107" y="10798"/>
                  </a:cubicBezTo>
                  <a:cubicBezTo>
                    <a:pt x="1107" y="6604"/>
                    <a:pt x="2282" y="3203"/>
                    <a:pt x="3732" y="3203"/>
                  </a:cubicBezTo>
                  <a:lnTo>
                    <a:pt x="17868" y="3203"/>
                  </a:lnTo>
                </a:path>
              </a:pathLst>
            </a:custGeom>
            <a:solidFill>
              <a:srgbClr val="23b3e9"/>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2" name="AutoShape 110"/>
            <p:cNvSpPr/>
            <p:nvPr/>
          </p:nvSpPr>
          <p:spPr>
            <a:xfrm>
              <a:off x="9925200" y="2808000"/>
              <a:ext cx="194040" cy="60480"/>
            </a:xfrm>
            <a:custGeom>
              <a:avLst/>
              <a:gdLst/>
              <a:ahLst/>
              <a:rect l="l" t="t" r="r" b="b"/>
              <a:pathLst>
                <a:path w="21600" h="21600">
                  <a:moveTo>
                    <a:pt x="3350" y="21600"/>
                  </a:moveTo>
                  <a:cubicBezTo>
                    <a:pt x="1502" y="21600"/>
                    <a:pt x="0" y="16758"/>
                    <a:pt x="0" y="10796"/>
                  </a:cubicBezTo>
                  <a:cubicBezTo>
                    <a:pt x="0" y="4842"/>
                    <a:pt x="1502" y="0"/>
                    <a:pt x="3350" y="0"/>
                  </a:cubicBezTo>
                  <a:lnTo>
                    <a:pt x="18250" y="0"/>
                  </a:lnTo>
                  <a:cubicBezTo>
                    <a:pt x="20097" y="0"/>
                    <a:pt x="21600" y="4842"/>
                    <a:pt x="21600" y="10796"/>
                  </a:cubicBezTo>
                  <a:cubicBezTo>
                    <a:pt x="21600" y="16758"/>
                    <a:pt x="20097" y="21600"/>
                    <a:pt x="18250" y="21600"/>
                  </a:cubicBezTo>
                  <a:cubicBezTo>
                    <a:pt x="18250" y="21600"/>
                    <a:pt x="3350" y="21600"/>
                    <a:pt x="3350" y="21600"/>
                  </a:cubicBezTo>
                  <a:close/>
                  <a:moveTo>
                    <a:pt x="3350" y="21600"/>
                  </a:moveTo>
                </a:path>
              </a:pathLst>
            </a:custGeom>
            <a:solidFill>
              <a:srgbClr val="4d4d4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3" name="AutoShape 111"/>
            <p:cNvSpPr/>
            <p:nvPr/>
          </p:nvSpPr>
          <p:spPr>
            <a:xfrm>
              <a:off x="9925200" y="2808000"/>
              <a:ext cx="205200" cy="71640"/>
            </a:xfrm>
            <a:custGeom>
              <a:avLst/>
              <a:gdLst/>
              <a:ahLst/>
              <a:rect l="l" t="t" r="r" b="b"/>
              <a:pathLst>
                <a:path w="21600" h="21600">
                  <a:moveTo>
                    <a:pt x="17868" y="0"/>
                  </a:moveTo>
                  <a:lnTo>
                    <a:pt x="3732" y="0"/>
                  </a:lnTo>
                  <a:cubicBezTo>
                    <a:pt x="1674" y="0"/>
                    <a:pt x="0" y="4842"/>
                    <a:pt x="0" y="10798"/>
                  </a:cubicBezTo>
                  <a:cubicBezTo>
                    <a:pt x="0" y="16751"/>
                    <a:pt x="1674" y="21600"/>
                    <a:pt x="3732" y="21600"/>
                  </a:cubicBezTo>
                  <a:lnTo>
                    <a:pt x="17868" y="21600"/>
                  </a:lnTo>
                  <a:cubicBezTo>
                    <a:pt x="19926" y="21600"/>
                    <a:pt x="21600" y="16751"/>
                    <a:pt x="21600" y="10798"/>
                  </a:cubicBezTo>
                  <a:cubicBezTo>
                    <a:pt x="21600" y="4842"/>
                    <a:pt x="19926" y="0"/>
                    <a:pt x="17868" y="0"/>
                  </a:cubicBezTo>
                  <a:moveTo>
                    <a:pt x="17868" y="3203"/>
                  </a:moveTo>
                  <a:cubicBezTo>
                    <a:pt x="19318" y="3203"/>
                    <a:pt x="20493" y="6604"/>
                    <a:pt x="20493" y="10798"/>
                  </a:cubicBezTo>
                  <a:cubicBezTo>
                    <a:pt x="20493" y="14993"/>
                    <a:pt x="19318" y="18397"/>
                    <a:pt x="17868" y="18397"/>
                  </a:cubicBezTo>
                  <a:lnTo>
                    <a:pt x="3732" y="18397"/>
                  </a:lnTo>
                  <a:cubicBezTo>
                    <a:pt x="2282" y="18397"/>
                    <a:pt x="1107" y="14993"/>
                    <a:pt x="1107" y="10798"/>
                  </a:cubicBezTo>
                  <a:cubicBezTo>
                    <a:pt x="1107" y="6604"/>
                    <a:pt x="2282" y="3203"/>
                    <a:pt x="3732" y="3203"/>
                  </a:cubicBezTo>
                  <a:lnTo>
                    <a:pt x="17868" y="3203"/>
                  </a:lnTo>
                </a:path>
              </a:pathLst>
            </a:custGeom>
            <a:solidFill>
              <a:srgbClr val="23b3e9"/>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4" name="AutoShape 112"/>
            <p:cNvSpPr/>
            <p:nvPr/>
          </p:nvSpPr>
          <p:spPr>
            <a:xfrm>
              <a:off x="9904320" y="2808000"/>
              <a:ext cx="101520" cy="60480"/>
            </a:xfrm>
            <a:custGeom>
              <a:avLst/>
              <a:gdLst/>
              <a:ahLst/>
              <a:rect l="l" t="t" r="r" b="b"/>
              <a:pathLst>
                <a:path w="21600" h="21600">
                  <a:moveTo>
                    <a:pt x="21600" y="10798"/>
                  </a:moveTo>
                  <a:cubicBezTo>
                    <a:pt x="21600" y="16761"/>
                    <a:pt x="18494" y="21600"/>
                    <a:pt x="16880" y="21600"/>
                  </a:cubicBezTo>
                  <a:lnTo>
                    <a:pt x="4704" y="21600"/>
                  </a:lnTo>
                  <a:cubicBezTo>
                    <a:pt x="3088" y="21600"/>
                    <a:pt x="0" y="16761"/>
                    <a:pt x="0" y="10798"/>
                  </a:cubicBezTo>
                  <a:cubicBezTo>
                    <a:pt x="0" y="4835"/>
                    <a:pt x="3088" y="0"/>
                    <a:pt x="4704" y="0"/>
                  </a:cubicBezTo>
                  <a:lnTo>
                    <a:pt x="16880" y="0"/>
                  </a:lnTo>
                  <a:cubicBezTo>
                    <a:pt x="18494" y="0"/>
                    <a:pt x="21600" y="4835"/>
                    <a:pt x="21600" y="10798"/>
                  </a:cubicBezTo>
                  <a:close/>
                  <a:moveTo>
                    <a:pt x="21600" y="10798"/>
                  </a:moveTo>
                </a:path>
              </a:pathLst>
            </a:custGeom>
            <a:noFill/>
            <a:ln w="38160">
              <a:solidFill>
                <a:srgbClr val="4d4d4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5" name="AutoShape 113"/>
            <p:cNvSpPr/>
            <p:nvPr/>
          </p:nvSpPr>
          <p:spPr>
            <a:xfrm>
              <a:off x="9748800" y="2808000"/>
              <a:ext cx="100080" cy="60480"/>
            </a:xfrm>
            <a:custGeom>
              <a:avLst/>
              <a:gdLst/>
              <a:ahLst/>
              <a:rect l="l" t="t" r="r" b="b"/>
              <a:pathLst>
                <a:path w="21600" h="21600">
                  <a:moveTo>
                    <a:pt x="21600" y="10798"/>
                  </a:moveTo>
                  <a:cubicBezTo>
                    <a:pt x="21600" y="16761"/>
                    <a:pt x="18495" y="21600"/>
                    <a:pt x="16880" y="21600"/>
                  </a:cubicBezTo>
                  <a:lnTo>
                    <a:pt x="4704" y="21600"/>
                  </a:lnTo>
                  <a:cubicBezTo>
                    <a:pt x="3088" y="21600"/>
                    <a:pt x="0" y="16761"/>
                    <a:pt x="0" y="10798"/>
                  </a:cubicBezTo>
                  <a:cubicBezTo>
                    <a:pt x="0" y="4835"/>
                    <a:pt x="3088" y="0"/>
                    <a:pt x="4704" y="0"/>
                  </a:cubicBezTo>
                  <a:lnTo>
                    <a:pt x="16880" y="0"/>
                  </a:lnTo>
                  <a:cubicBezTo>
                    <a:pt x="18495" y="0"/>
                    <a:pt x="21600" y="4835"/>
                    <a:pt x="21600" y="10798"/>
                  </a:cubicBezTo>
                  <a:close/>
                  <a:moveTo>
                    <a:pt x="21600" y="10798"/>
                  </a:moveTo>
                </a:path>
              </a:pathLst>
            </a:custGeom>
            <a:noFill/>
            <a:ln w="38160">
              <a:solidFill>
                <a:srgbClr val="4d4d4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6" name="AutoShape 114"/>
            <p:cNvSpPr/>
            <p:nvPr/>
          </p:nvSpPr>
          <p:spPr>
            <a:xfrm>
              <a:off x="9810720" y="2819160"/>
              <a:ext cx="127080" cy="38160"/>
            </a:xfrm>
            <a:custGeom>
              <a:avLst/>
              <a:gdLst/>
              <a:ahLst/>
              <a:rect l="l" t="t" r="r" b="b"/>
              <a:pathLst>
                <a:path w="21600" h="21600">
                  <a:moveTo>
                    <a:pt x="3577" y="21600"/>
                  </a:moveTo>
                  <a:cubicBezTo>
                    <a:pt x="1604" y="21600"/>
                    <a:pt x="0" y="16755"/>
                    <a:pt x="0" y="10800"/>
                  </a:cubicBezTo>
                  <a:cubicBezTo>
                    <a:pt x="0" y="4851"/>
                    <a:pt x="1604" y="0"/>
                    <a:pt x="3577" y="0"/>
                  </a:cubicBezTo>
                  <a:lnTo>
                    <a:pt x="18023" y="0"/>
                  </a:lnTo>
                  <a:cubicBezTo>
                    <a:pt x="19995" y="0"/>
                    <a:pt x="21600" y="4851"/>
                    <a:pt x="21600" y="10800"/>
                  </a:cubicBezTo>
                  <a:cubicBezTo>
                    <a:pt x="21600" y="16755"/>
                    <a:pt x="19995" y="21600"/>
                    <a:pt x="18023" y="21600"/>
                  </a:cubicBezTo>
                  <a:cubicBezTo>
                    <a:pt x="18023" y="21600"/>
                    <a:pt x="3577" y="21600"/>
                    <a:pt x="3577" y="21600"/>
                  </a:cubicBezTo>
                  <a:close/>
                  <a:moveTo>
                    <a:pt x="3577" y="21600"/>
                  </a:moveTo>
                </a:path>
              </a:pathLst>
            </a:custGeom>
            <a:solidFill>
              <a:srgbClr val="4d4d4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7" name="AutoShape 115"/>
            <p:cNvSpPr/>
            <p:nvPr/>
          </p:nvSpPr>
          <p:spPr>
            <a:xfrm>
              <a:off x="9810720" y="2819160"/>
              <a:ext cx="136440" cy="47520"/>
            </a:xfrm>
            <a:custGeom>
              <a:avLst/>
              <a:gdLst/>
              <a:ahLst/>
              <a:rect l="l" t="t" r="r" b="b"/>
              <a:pathLst>
                <a:path w="21600" h="21600">
                  <a:moveTo>
                    <a:pt x="17472" y="0"/>
                  </a:moveTo>
                  <a:lnTo>
                    <a:pt x="4130" y="0"/>
                  </a:lnTo>
                  <a:cubicBezTo>
                    <a:pt x="1852" y="0"/>
                    <a:pt x="0" y="4846"/>
                    <a:pt x="0" y="10805"/>
                  </a:cubicBezTo>
                  <a:cubicBezTo>
                    <a:pt x="0" y="16754"/>
                    <a:pt x="1852" y="21600"/>
                    <a:pt x="4130" y="21600"/>
                  </a:cubicBezTo>
                  <a:lnTo>
                    <a:pt x="17472" y="21600"/>
                  </a:lnTo>
                  <a:cubicBezTo>
                    <a:pt x="19748" y="21600"/>
                    <a:pt x="21600" y="16754"/>
                    <a:pt x="21600" y="10805"/>
                  </a:cubicBezTo>
                  <a:cubicBezTo>
                    <a:pt x="21600" y="4846"/>
                    <a:pt x="19748" y="0"/>
                    <a:pt x="17472" y="0"/>
                  </a:cubicBezTo>
                  <a:moveTo>
                    <a:pt x="17472" y="4686"/>
                  </a:moveTo>
                  <a:cubicBezTo>
                    <a:pt x="18840" y="4686"/>
                    <a:pt x="19950" y="7423"/>
                    <a:pt x="19950" y="10805"/>
                  </a:cubicBezTo>
                  <a:cubicBezTo>
                    <a:pt x="19950" y="14177"/>
                    <a:pt x="18840" y="16914"/>
                    <a:pt x="17472" y="16914"/>
                  </a:cubicBezTo>
                  <a:lnTo>
                    <a:pt x="4130" y="16914"/>
                  </a:lnTo>
                  <a:cubicBezTo>
                    <a:pt x="2760" y="16914"/>
                    <a:pt x="1650" y="14177"/>
                    <a:pt x="1650" y="10805"/>
                  </a:cubicBezTo>
                  <a:cubicBezTo>
                    <a:pt x="1650" y="7423"/>
                    <a:pt x="2760" y="4686"/>
                    <a:pt x="4130" y="4686"/>
                  </a:cubicBezTo>
                  <a:lnTo>
                    <a:pt x="17472" y="4686"/>
                  </a:ln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8" name="AutoShape 116"/>
            <p:cNvSpPr/>
            <p:nvPr/>
          </p:nvSpPr>
          <p:spPr>
            <a:xfrm>
              <a:off x="10512360" y="2808000"/>
              <a:ext cx="99720" cy="60480"/>
            </a:xfrm>
            <a:custGeom>
              <a:avLst/>
              <a:gdLst/>
              <a:ahLst/>
              <a:rect l="l" t="t" r="r" b="b"/>
              <a:pathLst>
                <a:path w="21600" h="21600">
                  <a:moveTo>
                    <a:pt x="21600" y="10798"/>
                  </a:moveTo>
                  <a:cubicBezTo>
                    <a:pt x="21600" y="16761"/>
                    <a:pt x="18494" y="21600"/>
                    <a:pt x="16880" y="21600"/>
                  </a:cubicBezTo>
                  <a:lnTo>
                    <a:pt x="4705" y="21600"/>
                  </a:lnTo>
                  <a:cubicBezTo>
                    <a:pt x="3087" y="21600"/>
                    <a:pt x="0" y="16761"/>
                    <a:pt x="0" y="10798"/>
                  </a:cubicBezTo>
                  <a:cubicBezTo>
                    <a:pt x="0" y="4835"/>
                    <a:pt x="3087" y="0"/>
                    <a:pt x="4705" y="0"/>
                  </a:cubicBezTo>
                  <a:lnTo>
                    <a:pt x="16880" y="0"/>
                  </a:lnTo>
                  <a:cubicBezTo>
                    <a:pt x="18494" y="0"/>
                    <a:pt x="21600" y="4835"/>
                    <a:pt x="21600" y="10798"/>
                  </a:cubicBezTo>
                  <a:close/>
                  <a:moveTo>
                    <a:pt x="21600" y="10798"/>
                  </a:moveTo>
                </a:path>
              </a:pathLst>
            </a:custGeom>
            <a:noFill/>
            <a:ln w="38160">
              <a:solidFill>
                <a:srgbClr val="4d4d4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9" name="AutoShape 117"/>
            <p:cNvSpPr/>
            <p:nvPr/>
          </p:nvSpPr>
          <p:spPr>
            <a:xfrm>
              <a:off x="10354680" y="2808000"/>
              <a:ext cx="101520" cy="60480"/>
            </a:xfrm>
            <a:custGeom>
              <a:avLst/>
              <a:gdLst/>
              <a:ahLst/>
              <a:rect l="l" t="t" r="r" b="b"/>
              <a:pathLst>
                <a:path w="21600" h="21600">
                  <a:moveTo>
                    <a:pt x="21600" y="10798"/>
                  </a:moveTo>
                  <a:cubicBezTo>
                    <a:pt x="21600" y="16761"/>
                    <a:pt x="18494" y="21600"/>
                    <a:pt x="16880" y="21600"/>
                  </a:cubicBezTo>
                  <a:lnTo>
                    <a:pt x="4704" y="21600"/>
                  </a:lnTo>
                  <a:cubicBezTo>
                    <a:pt x="3088" y="21600"/>
                    <a:pt x="0" y="16761"/>
                    <a:pt x="0" y="10798"/>
                  </a:cubicBezTo>
                  <a:cubicBezTo>
                    <a:pt x="0" y="4835"/>
                    <a:pt x="3088" y="0"/>
                    <a:pt x="4704" y="0"/>
                  </a:cubicBezTo>
                  <a:lnTo>
                    <a:pt x="16880" y="0"/>
                  </a:lnTo>
                  <a:cubicBezTo>
                    <a:pt x="18494" y="0"/>
                    <a:pt x="21600" y="4835"/>
                    <a:pt x="21600" y="10798"/>
                  </a:cubicBezTo>
                  <a:close/>
                  <a:moveTo>
                    <a:pt x="21600" y="10798"/>
                  </a:moveTo>
                </a:path>
              </a:pathLst>
            </a:custGeom>
            <a:noFill/>
            <a:ln w="38160">
              <a:solidFill>
                <a:srgbClr val="4d4d4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0" name="AutoShape 118"/>
            <p:cNvSpPr/>
            <p:nvPr/>
          </p:nvSpPr>
          <p:spPr>
            <a:xfrm>
              <a:off x="10427760" y="2830320"/>
              <a:ext cx="115920" cy="27000"/>
            </a:xfrm>
            <a:custGeom>
              <a:avLst/>
              <a:gdLst/>
              <a:ahLst/>
              <a:rect l="l" t="t" r="r" b="b"/>
              <a:pathLst>
                <a:path w="21600" h="21600">
                  <a:moveTo>
                    <a:pt x="21600" y="10800"/>
                  </a:moveTo>
                  <a:cubicBezTo>
                    <a:pt x="21600" y="16758"/>
                    <a:pt x="20291" y="21600"/>
                    <a:pt x="18676" y="21600"/>
                  </a:cubicBezTo>
                  <a:lnTo>
                    <a:pt x="2924" y="21600"/>
                  </a:lnTo>
                  <a:cubicBezTo>
                    <a:pt x="1309" y="21600"/>
                    <a:pt x="0" y="16758"/>
                    <a:pt x="0" y="10800"/>
                  </a:cubicBezTo>
                  <a:cubicBezTo>
                    <a:pt x="0" y="4842"/>
                    <a:pt x="1309" y="0"/>
                    <a:pt x="2924" y="0"/>
                  </a:cubicBezTo>
                  <a:lnTo>
                    <a:pt x="18676" y="0"/>
                  </a:lnTo>
                  <a:cubicBezTo>
                    <a:pt x="20291" y="0"/>
                    <a:pt x="21600" y="4842"/>
                    <a:pt x="21600" y="10800"/>
                  </a:cubicBezTo>
                </a:path>
              </a:pathLst>
            </a:custGeom>
            <a:solidFill>
              <a:srgbClr val="4d4d4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1" name="AutoShape 119"/>
            <p:cNvSpPr/>
            <p:nvPr/>
          </p:nvSpPr>
          <p:spPr>
            <a:xfrm>
              <a:off x="10427760" y="2830320"/>
              <a:ext cx="115920" cy="27000"/>
            </a:xfrm>
            <a:custGeom>
              <a:avLst/>
              <a:gdLst/>
              <a:ahLst/>
              <a:rect l="l" t="t" r="r" b="b"/>
              <a:pathLst>
                <a:path w="21600" h="21600">
                  <a:moveTo>
                    <a:pt x="21600" y="10800"/>
                  </a:moveTo>
                  <a:cubicBezTo>
                    <a:pt x="21600" y="16758"/>
                    <a:pt x="20291" y="21600"/>
                    <a:pt x="18676" y="21600"/>
                  </a:cubicBezTo>
                  <a:lnTo>
                    <a:pt x="2924" y="21600"/>
                  </a:lnTo>
                  <a:cubicBezTo>
                    <a:pt x="1309" y="21600"/>
                    <a:pt x="0" y="16758"/>
                    <a:pt x="0" y="10800"/>
                  </a:cubicBezTo>
                  <a:cubicBezTo>
                    <a:pt x="0" y="4842"/>
                    <a:pt x="1309" y="0"/>
                    <a:pt x="2924" y="0"/>
                  </a:cubicBezTo>
                  <a:lnTo>
                    <a:pt x="18676" y="0"/>
                  </a:lnTo>
                  <a:cubicBezTo>
                    <a:pt x="20291" y="0"/>
                    <a:pt x="21600" y="4842"/>
                    <a:pt x="21600" y="10800"/>
                  </a:cubicBezTo>
                  <a:close/>
                  <a:moveTo>
                    <a:pt x="21600" y="10800"/>
                  </a:moveTo>
                </a:path>
              </a:pathLst>
            </a:custGeom>
            <a:noFill/>
            <a:ln w="12600">
              <a:solidFill>
                <a:srgbClr val="00a8e6"/>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2" name="AutoShape 120"/>
            <p:cNvSpPr/>
            <p:nvPr/>
          </p:nvSpPr>
          <p:spPr>
            <a:xfrm>
              <a:off x="9790200" y="2558880"/>
              <a:ext cx="779040" cy="573120"/>
            </a:xfrm>
            <a:custGeom>
              <a:avLst/>
              <a:gdLst/>
              <a:ahLst/>
              <a:rect l="l" t="t" r="r" b="b"/>
              <a:pathLst>
                <a:path w="21600" h="21600">
                  <a:moveTo>
                    <a:pt x="20782" y="21600"/>
                  </a:moveTo>
                  <a:lnTo>
                    <a:pt x="818" y="21600"/>
                  </a:lnTo>
                  <a:cubicBezTo>
                    <a:pt x="367" y="21600"/>
                    <a:pt x="0" y="21103"/>
                    <a:pt x="0" y="20489"/>
                  </a:cubicBezTo>
                  <a:lnTo>
                    <a:pt x="0" y="1111"/>
                  </a:lnTo>
                  <a:cubicBezTo>
                    <a:pt x="0" y="498"/>
                    <a:pt x="367" y="0"/>
                    <a:pt x="818" y="0"/>
                  </a:cubicBezTo>
                  <a:lnTo>
                    <a:pt x="20782" y="0"/>
                  </a:lnTo>
                  <a:cubicBezTo>
                    <a:pt x="21234" y="0"/>
                    <a:pt x="21600" y="498"/>
                    <a:pt x="21600" y="1111"/>
                  </a:cubicBezTo>
                  <a:lnTo>
                    <a:pt x="21600" y="20489"/>
                  </a:lnTo>
                  <a:cubicBezTo>
                    <a:pt x="21600" y="21103"/>
                    <a:pt x="21234" y="21600"/>
                    <a:pt x="20782" y="21600"/>
                  </a:cubicBezTo>
                  <a:close/>
                  <a:moveTo>
                    <a:pt x="20782" y="21600"/>
                  </a:moveTo>
                </a:path>
              </a:pathLst>
            </a:custGeom>
            <a:noFill/>
            <a:ln w="50760">
              <a:solidFill>
                <a:srgbClr val="dbdbdb"/>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3" name="AutoShape 121"/>
            <p:cNvSpPr/>
            <p:nvPr/>
          </p:nvSpPr>
          <p:spPr>
            <a:xfrm>
              <a:off x="9957240" y="2609640"/>
              <a:ext cx="444960" cy="444600"/>
            </a:xfrm>
            <a:custGeom>
              <a:avLst/>
              <a:gdLst/>
              <a:ahLst/>
              <a:rect l="l" t="t" r="r" b="b"/>
              <a:pathLst>
                <a:path w="19021" h="19021">
                  <a:moveTo>
                    <a:pt x="13889" y="15737"/>
                  </a:moveTo>
                  <a:cubicBezTo>
                    <a:pt x="10450" y="18155"/>
                    <a:pt x="5702" y="17328"/>
                    <a:pt x="3283" y="13889"/>
                  </a:cubicBezTo>
                  <a:cubicBezTo>
                    <a:pt x="865" y="10449"/>
                    <a:pt x="1693" y="5701"/>
                    <a:pt x="5132" y="3282"/>
                  </a:cubicBezTo>
                  <a:cubicBezTo>
                    <a:pt x="8571" y="865"/>
                    <a:pt x="13320" y="1692"/>
                    <a:pt x="15738" y="5131"/>
                  </a:cubicBezTo>
                  <a:cubicBezTo>
                    <a:pt x="18156" y="8571"/>
                    <a:pt x="17329" y="13319"/>
                    <a:pt x="13889" y="15737"/>
                  </a:cubicBezTo>
                  <a:moveTo>
                    <a:pt x="17290" y="4040"/>
                  </a:moveTo>
                  <a:cubicBezTo>
                    <a:pt x="14269" y="-256"/>
                    <a:pt x="8337" y="-1290"/>
                    <a:pt x="4041" y="1731"/>
                  </a:cubicBezTo>
                  <a:cubicBezTo>
                    <a:pt x="-255" y="4752"/>
                    <a:pt x="-1289" y="10683"/>
                    <a:pt x="1732" y="14980"/>
                  </a:cubicBezTo>
                  <a:cubicBezTo>
                    <a:pt x="4753" y="19276"/>
                    <a:pt x="10684" y="20310"/>
                    <a:pt x="14980" y="17289"/>
                  </a:cubicBezTo>
                  <a:cubicBezTo>
                    <a:pt x="19277" y="14268"/>
                    <a:pt x="20311" y="8336"/>
                    <a:pt x="17290" y="4040"/>
                  </a:cubicBez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4" name="AutoShape 122"/>
            <p:cNvSpPr/>
            <p:nvPr/>
          </p:nvSpPr>
          <p:spPr>
            <a:xfrm>
              <a:off x="10313280" y="2985840"/>
              <a:ext cx="234000" cy="249480"/>
            </a:xfrm>
            <a:custGeom>
              <a:avLst/>
              <a:gdLst/>
              <a:ahLst/>
              <a:rect l="l" t="t" r="r" b="b"/>
              <a:pathLst>
                <a:path w="20860" h="20783">
                  <a:moveTo>
                    <a:pt x="1042" y="834"/>
                  </a:moveTo>
                  <a:lnTo>
                    <a:pt x="1091" y="790"/>
                  </a:lnTo>
                  <a:cubicBezTo>
                    <a:pt x="2451" y="-379"/>
                    <a:pt x="4623" y="-234"/>
                    <a:pt x="5942" y="1114"/>
                  </a:cubicBezTo>
                  <a:lnTo>
                    <a:pt x="19712" y="15192"/>
                  </a:lnTo>
                  <a:cubicBezTo>
                    <a:pt x="21170" y="16682"/>
                    <a:pt x="21249" y="18838"/>
                    <a:pt x="19890" y="20009"/>
                  </a:cubicBezTo>
                  <a:lnTo>
                    <a:pt x="19840" y="20052"/>
                  </a:lnTo>
                  <a:cubicBezTo>
                    <a:pt x="18480" y="21221"/>
                    <a:pt x="16196" y="20961"/>
                    <a:pt x="14738" y="19471"/>
                  </a:cubicBezTo>
                  <a:lnTo>
                    <a:pt x="968" y="5393"/>
                  </a:lnTo>
                  <a:cubicBezTo>
                    <a:pt x="-351" y="4045"/>
                    <a:pt x="-318" y="2003"/>
                    <a:pt x="1042" y="834"/>
                  </a:cubicBez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225" name="Group 134"/>
          <p:cNvGrpSpPr/>
          <p:nvPr/>
        </p:nvGrpSpPr>
        <p:grpSpPr>
          <a:xfrm>
            <a:off x="11814120" y="7351560"/>
            <a:ext cx="571680" cy="533160"/>
            <a:chOff x="11814120" y="7351560"/>
            <a:chExt cx="571680" cy="533160"/>
          </a:xfrm>
        </p:grpSpPr>
        <p:sp>
          <p:nvSpPr>
            <p:cNvPr id="226" name="AutoShape 124"/>
            <p:cNvSpPr/>
            <p:nvPr/>
          </p:nvSpPr>
          <p:spPr>
            <a:xfrm>
              <a:off x="11860200" y="7494480"/>
              <a:ext cx="237960" cy="144360"/>
            </a:xfrm>
            <a:custGeom>
              <a:avLst/>
              <a:gdLst/>
              <a:ahLst/>
              <a:rect l="l" t="t" r="r" b="b"/>
              <a:pathLst>
                <a:path w="21600" h="21600">
                  <a:moveTo>
                    <a:pt x="0" y="21600"/>
                  </a:moveTo>
                  <a:lnTo>
                    <a:pt x="18959" y="21600"/>
                  </a:lnTo>
                  <a:lnTo>
                    <a:pt x="21600" y="17249"/>
                  </a:lnTo>
                  <a:lnTo>
                    <a:pt x="21600" y="0"/>
                  </a:lnTo>
                </a:path>
              </a:pathLst>
            </a:custGeom>
            <a:noFill/>
            <a:ln w="34200">
              <a:solidFill>
                <a:srgbClr val="ffef9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7" name="AutoShape 125"/>
            <p:cNvSpPr/>
            <p:nvPr/>
          </p:nvSpPr>
          <p:spPr>
            <a:xfrm>
              <a:off x="11860200" y="7480080"/>
              <a:ext cx="352440" cy="200160"/>
            </a:xfrm>
            <a:custGeom>
              <a:avLst/>
              <a:gdLst/>
              <a:ahLst/>
              <a:rect l="l" t="t" r="r" b="b"/>
              <a:pathLst>
                <a:path w="21600" h="21600">
                  <a:moveTo>
                    <a:pt x="0" y="21600"/>
                  </a:moveTo>
                  <a:lnTo>
                    <a:pt x="19749" y="21600"/>
                  </a:lnTo>
                  <a:lnTo>
                    <a:pt x="21600" y="18787"/>
                  </a:lnTo>
                  <a:lnTo>
                    <a:pt x="21600" y="0"/>
                  </a:lnTo>
                </a:path>
              </a:pathLst>
            </a:custGeom>
            <a:noFill/>
            <a:ln w="34200">
              <a:solidFill>
                <a:srgbClr val="ffef9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8" name="AutoShape 126"/>
            <p:cNvSpPr/>
            <p:nvPr/>
          </p:nvSpPr>
          <p:spPr>
            <a:xfrm>
              <a:off x="11860200" y="7480080"/>
              <a:ext cx="479520" cy="249480"/>
            </a:xfrm>
            <a:custGeom>
              <a:avLst/>
              <a:gdLst/>
              <a:ahLst/>
              <a:rect l="l" t="t" r="r" b="b"/>
              <a:pathLst>
                <a:path w="21600" h="21600">
                  <a:moveTo>
                    <a:pt x="0" y="21600"/>
                  </a:moveTo>
                  <a:lnTo>
                    <a:pt x="20341" y="21600"/>
                  </a:lnTo>
                  <a:lnTo>
                    <a:pt x="21600" y="19077"/>
                  </a:lnTo>
                  <a:lnTo>
                    <a:pt x="21600" y="0"/>
                  </a:lnTo>
                </a:path>
              </a:pathLst>
            </a:custGeom>
            <a:noFill/>
            <a:ln w="34200">
              <a:solidFill>
                <a:srgbClr val="ffef9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9" name="Line 127"/>
            <p:cNvSpPr/>
            <p:nvPr/>
          </p:nvSpPr>
          <p:spPr>
            <a:xfrm flipH="1">
              <a:off x="11891880" y="7777080"/>
              <a:ext cx="77760" cy="0"/>
            </a:xfrm>
            <a:prstGeom prst="line">
              <a:avLst/>
            </a:prstGeom>
            <a:ln w="45720">
              <a:solidFill>
                <a:srgbClr val="ffef9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0" name="Line 128"/>
            <p:cNvSpPr/>
            <p:nvPr/>
          </p:nvSpPr>
          <p:spPr>
            <a:xfrm flipH="1">
              <a:off x="11891880" y="7819920"/>
              <a:ext cx="77760" cy="0"/>
            </a:xfrm>
            <a:prstGeom prst="line">
              <a:avLst/>
            </a:prstGeom>
            <a:ln w="45720">
              <a:solidFill>
                <a:srgbClr val="ffef9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1" name="Line 129"/>
            <p:cNvSpPr/>
            <p:nvPr/>
          </p:nvSpPr>
          <p:spPr>
            <a:xfrm flipH="1" flipV="1">
              <a:off x="11837880" y="7882920"/>
              <a:ext cx="349200" cy="1800"/>
            </a:xfrm>
            <a:prstGeom prst="line">
              <a:avLst/>
            </a:prstGeom>
            <a:ln w="79920">
              <a:solidFill>
                <a:srgbClr val="ffef9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2" name="AutoShape 130"/>
            <p:cNvSpPr/>
            <p:nvPr/>
          </p:nvSpPr>
          <p:spPr>
            <a:xfrm>
              <a:off x="11814120" y="7351560"/>
              <a:ext cx="230040" cy="235080"/>
            </a:xfrm>
            <a:custGeom>
              <a:avLst/>
              <a:gdLst/>
              <a:ahLst/>
              <a:rect l="l" t="t" r="r" b="b"/>
              <a:pathLst>
                <a:path w="21600" h="21600">
                  <a:moveTo>
                    <a:pt x="21600" y="10800"/>
                  </a:moveTo>
                  <a:cubicBezTo>
                    <a:pt x="21600" y="16765"/>
                    <a:pt x="16765" y="21600"/>
                    <a:pt x="10800" y="21600"/>
                  </a:cubicBezTo>
                  <a:cubicBezTo>
                    <a:pt x="4836" y="21600"/>
                    <a:pt x="0" y="16765"/>
                    <a:pt x="0" y="10800"/>
                  </a:cubicBezTo>
                  <a:cubicBezTo>
                    <a:pt x="0" y="4835"/>
                    <a:pt x="4836" y="0"/>
                    <a:pt x="10800" y="0"/>
                  </a:cubicBezTo>
                  <a:cubicBezTo>
                    <a:pt x="16765" y="0"/>
                    <a:pt x="21600" y="4835"/>
                    <a:pt x="21600" y="10800"/>
                  </a:cubicBez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3" name="AutoShape 131"/>
            <p:cNvSpPr/>
            <p:nvPr/>
          </p:nvSpPr>
          <p:spPr>
            <a:xfrm>
              <a:off x="12074400" y="7446960"/>
              <a:ext cx="55800" cy="56880"/>
            </a:xfrm>
            <a:custGeom>
              <a:avLst/>
              <a:gdLst/>
              <a:ahLst/>
              <a:rect l="l" t="t" r="r" b="b"/>
              <a:pathLst>
                <a:path w="21600" h="21600">
                  <a:moveTo>
                    <a:pt x="21600" y="10800"/>
                  </a:moveTo>
                  <a:cubicBezTo>
                    <a:pt x="21600" y="16766"/>
                    <a:pt x="16764" y="21600"/>
                    <a:pt x="10801" y="21600"/>
                  </a:cubicBezTo>
                  <a:cubicBezTo>
                    <a:pt x="4836" y="21600"/>
                    <a:pt x="0" y="16766"/>
                    <a:pt x="0" y="10800"/>
                  </a:cubicBezTo>
                  <a:cubicBezTo>
                    <a:pt x="0" y="4834"/>
                    <a:pt x="4836" y="0"/>
                    <a:pt x="10801" y="0"/>
                  </a:cubicBezTo>
                  <a:cubicBezTo>
                    <a:pt x="16764" y="0"/>
                    <a:pt x="21600" y="4834"/>
                    <a:pt x="21600" y="10800"/>
                  </a:cubicBezTo>
                </a:path>
              </a:pathLst>
            </a:custGeom>
            <a:solidFill>
              <a:srgbClr val="74c8f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4" name="AutoShape 132"/>
            <p:cNvSpPr/>
            <p:nvPr/>
          </p:nvSpPr>
          <p:spPr>
            <a:xfrm>
              <a:off x="12168000" y="7426080"/>
              <a:ext cx="95400" cy="96840"/>
            </a:xfrm>
            <a:custGeom>
              <a:avLst/>
              <a:gdLst/>
              <a:ahLst/>
              <a:rect l="l" t="t" r="r" b="b"/>
              <a:pathLst>
                <a:path w="21600" h="21600">
                  <a:moveTo>
                    <a:pt x="21600" y="10800"/>
                  </a:moveTo>
                  <a:cubicBezTo>
                    <a:pt x="21600" y="16765"/>
                    <a:pt x="16766" y="21600"/>
                    <a:pt x="10801" y="21600"/>
                  </a:cubicBezTo>
                  <a:cubicBezTo>
                    <a:pt x="4837" y="21600"/>
                    <a:pt x="0" y="16765"/>
                    <a:pt x="0" y="10800"/>
                  </a:cubicBezTo>
                  <a:cubicBezTo>
                    <a:pt x="0" y="4835"/>
                    <a:pt x="4837" y="0"/>
                    <a:pt x="10801" y="0"/>
                  </a:cubicBezTo>
                  <a:cubicBezTo>
                    <a:pt x="16766" y="0"/>
                    <a:pt x="21600" y="4835"/>
                    <a:pt x="21600" y="10800"/>
                  </a:cubicBez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5" name="AutoShape 133"/>
            <p:cNvSpPr/>
            <p:nvPr/>
          </p:nvSpPr>
          <p:spPr>
            <a:xfrm>
              <a:off x="12295080" y="7432560"/>
              <a:ext cx="90720" cy="92160"/>
            </a:xfrm>
            <a:custGeom>
              <a:avLst/>
              <a:gdLst/>
              <a:ahLst/>
              <a:rect l="l" t="t" r="r" b="b"/>
              <a:pathLst>
                <a:path w="21600" h="21600">
                  <a:moveTo>
                    <a:pt x="21600" y="10800"/>
                  </a:moveTo>
                  <a:cubicBezTo>
                    <a:pt x="21600" y="16765"/>
                    <a:pt x="16765" y="21600"/>
                    <a:pt x="10801" y="21600"/>
                  </a:cubicBezTo>
                  <a:cubicBezTo>
                    <a:pt x="4836" y="21600"/>
                    <a:pt x="0" y="16765"/>
                    <a:pt x="0" y="10800"/>
                  </a:cubicBezTo>
                  <a:cubicBezTo>
                    <a:pt x="0" y="4835"/>
                    <a:pt x="4836" y="0"/>
                    <a:pt x="10801" y="0"/>
                  </a:cubicBezTo>
                  <a:cubicBezTo>
                    <a:pt x="16765" y="0"/>
                    <a:pt x="21600" y="4835"/>
                    <a:pt x="21600" y="10800"/>
                  </a:cubicBezTo>
                </a:path>
              </a:pathLst>
            </a:custGeom>
            <a:solidFill>
              <a:srgbClr val="b391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236" name="Rectangle 135"/>
          <p:cNvSpPr/>
          <p:nvPr/>
        </p:nvSpPr>
        <p:spPr>
          <a:xfrm>
            <a:off x="503280" y="7453440"/>
            <a:ext cx="85896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2005</a:t>
            </a:r>
            <a:endParaRPr b="0" lang="en-US" sz="1800" spc="-1" strike="noStrike">
              <a:solidFill>
                <a:srgbClr val="595959"/>
              </a:solidFill>
              <a:latin typeface="Lora"/>
            </a:endParaRPr>
          </a:p>
        </p:txBody>
      </p:sp>
      <p:sp>
        <p:nvSpPr>
          <p:cNvPr id="237" name="Rectangle 136"/>
          <p:cNvSpPr/>
          <p:nvPr/>
        </p:nvSpPr>
        <p:spPr>
          <a:xfrm>
            <a:off x="2362320" y="2082960"/>
            <a:ext cx="85716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2007</a:t>
            </a:r>
            <a:endParaRPr b="0" lang="en-US" sz="1800" spc="-1" strike="noStrike">
              <a:solidFill>
                <a:srgbClr val="595959"/>
              </a:solidFill>
              <a:latin typeface="Lora"/>
            </a:endParaRPr>
          </a:p>
        </p:txBody>
      </p:sp>
      <p:sp>
        <p:nvSpPr>
          <p:cNvPr id="238" name="Rectangle 137"/>
          <p:cNvSpPr/>
          <p:nvPr/>
        </p:nvSpPr>
        <p:spPr>
          <a:xfrm>
            <a:off x="4241880" y="8077320"/>
            <a:ext cx="85716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2009</a:t>
            </a:r>
            <a:endParaRPr b="0" lang="en-US" sz="1800" spc="-1" strike="noStrike">
              <a:solidFill>
                <a:srgbClr val="595959"/>
              </a:solidFill>
              <a:latin typeface="Lora"/>
            </a:endParaRPr>
          </a:p>
        </p:txBody>
      </p:sp>
      <p:sp>
        <p:nvSpPr>
          <p:cNvPr id="239" name="Rectangle 138"/>
          <p:cNvSpPr/>
          <p:nvPr/>
        </p:nvSpPr>
        <p:spPr>
          <a:xfrm>
            <a:off x="6121440" y="2387520"/>
            <a:ext cx="85716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2011</a:t>
            </a:r>
            <a:endParaRPr b="0" lang="en-US" sz="1800" spc="-1" strike="noStrike">
              <a:solidFill>
                <a:srgbClr val="595959"/>
              </a:solidFill>
              <a:latin typeface="Lora"/>
            </a:endParaRPr>
          </a:p>
        </p:txBody>
      </p:sp>
      <p:sp>
        <p:nvSpPr>
          <p:cNvPr id="240" name="Rectangle 139"/>
          <p:cNvSpPr/>
          <p:nvPr/>
        </p:nvSpPr>
        <p:spPr>
          <a:xfrm>
            <a:off x="7962840" y="7683480"/>
            <a:ext cx="85716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2013</a:t>
            </a:r>
            <a:endParaRPr b="0" lang="en-US" sz="1800" spc="-1" strike="noStrike">
              <a:solidFill>
                <a:srgbClr val="595959"/>
              </a:solidFill>
              <a:latin typeface="Lora"/>
            </a:endParaRPr>
          </a:p>
        </p:txBody>
      </p:sp>
      <p:sp>
        <p:nvSpPr>
          <p:cNvPr id="241" name="Rectangle 140"/>
          <p:cNvSpPr/>
          <p:nvPr/>
        </p:nvSpPr>
        <p:spPr>
          <a:xfrm>
            <a:off x="9740880" y="2006640"/>
            <a:ext cx="85716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2015</a:t>
            </a:r>
            <a:endParaRPr b="0" lang="en-US" sz="1800" spc="-1" strike="noStrike">
              <a:solidFill>
                <a:srgbClr val="595959"/>
              </a:solidFill>
              <a:latin typeface="Lora"/>
            </a:endParaRPr>
          </a:p>
        </p:txBody>
      </p:sp>
      <p:sp>
        <p:nvSpPr>
          <p:cNvPr id="242" name="Rectangle 141"/>
          <p:cNvSpPr/>
          <p:nvPr/>
        </p:nvSpPr>
        <p:spPr>
          <a:xfrm>
            <a:off x="11620440" y="8280360"/>
            <a:ext cx="85716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Future</a:t>
            </a:r>
            <a:endParaRPr b="0" lang="en-US" sz="1800" spc="-1" strike="noStrike">
              <a:solidFill>
                <a:srgbClr val="595959"/>
              </a:solidFill>
              <a:latin typeface="Lora"/>
            </a:endParaRPr>
          </a:p>
        </p:txBody>
      </p:sp>
      <p:sp>
        <p:nvSpPr>
          <p:cNvPr id="243" name="Rectangle 142"/>
          <p:cNvSpPr/>
          <p:nvPr/>
        </p:nvSpPr>
        <p:spPr>
          <a:xfrm>
            <a:off x="279360" y="2519280"/>
            <a:ext cx="1879560" cy="18716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ora Bold"/>
                <a:ea typeface="ＭＳ Ｐゴシック"/>
              </a:rPr>
              <a:t>Some things here</a:t>
            </a:r>
            <a:r>
              <a:rPr b="0" lang="en-US" sz="1600" spc="-1" strike="noStrike">
                <a:solidFill>
                  <a:srgbClr val="595959"/>
                </a:solidFill>
                <a:latin typeface="Lora Bold"/>
                <a:ea typeface="ＭＳ Ｐゴシック"/>
              </a:rPr>
              <a:t>.</a:t>
            </a:r>
            <a:endParaRPr b="0" lang="en-US" sz="16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raesent quis magna viverra turpis rutrum pellentesque in ac nulla. Nulla facilisi.</a:t>
            </a:r>
            <a:endParaRPr b="0" lang="en-US" sz="1600" spc="-1" strike="noStrike">
              <a:solidFill>
                <a:srgbClr val="595959"/>
              </a:solidFill>
              <a:latin typeface="Lora"/>
            </a:endParaRPr>
          </a:p>
        </p:txBody>
      </p:sp>
      <p:sp>
        <p:nvSpPr>
          <p:cNvPr id="244" name="Rectangle 143"/>
          <p:cNvSpPr/>
          <p:nvPr/>
        </p:nvSpPr>
        <p:spPr>
          <a:xfrm>
            <a:off x="3746520" y="2068560"/>
            <a:ext cx="1879560" cy="18716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ora Bold"/>
                <a:ea typeface="ＭＳ Ｐゴシック"/>
              </a:rPr>
              <a:t>Some things here.</a:t>
            </a:r>
            <a:endParaRPr b="0" lang="en-US" sz="16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raesent quis magna viverra turpis rutrum pellentesque in ac nulla. Nulla facilisi.</a:t>
            </a:r>
            <a:endParaRPr b="0" lang="en-US" sz="1600" spc="-1" strike="noStrike">
              <a:solidFill>
                <a:srgbClr val="595959"/>
              </a:solidFill>
              <a:latin typeface="Lora"/>
            </a:endParaRPr>
          </a:p>
        </p:txBody>
      </p:sp>
      <p:sp>
        <p:nvSpPr>
          <p:cNvPr id="245" name="Rectangle 144"/>
          <p:cNvSpPr/>
          <p:nvPr/>
        </p:nvSpPr>
        <p:spPr>
          <a:xfrm>
            <a:off x="7404120" y="2525760"/>
            <a:ext cx="1879560" cy="18716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ora Bold"/>
                <a:ea typeface="ＭＳ Ｐゴシック"/>
              </a:rPr>
              <a:t>Some things here.</a:t>
            </a:r>
            <a:endParaRPr b="0" lang="en-US" sz="16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raesent quis magna viverra turpis rutrum pellentesque in ac nulla. Nulla facilisi.</a:t>
            </a:r>
            <a:endParaRPr b="0" lang="en-US" sz="1600" spc="-1" strike="noStrike">
              <a:solidFill>
                <a:srgbClr val="595959"/>
              </a:solidFill>
              <a:latin typeface="Lora"/>
            </a:endParaRPr>
          </a:p>
        </p:txBody>
      </p:sp>
      <p:sp>
        <p:nvSpPr>
          <p:cNvPr id="246" name="Rectangle 145"/>
          <p:cNvSpPr/>
          <p:nvPr/>
        </p:nvSpPr>
        <p:spPr>
          <a:xfrm>
            <a:off x="2006640" y="5791320"/>
            <a:ext cx="1879560" cy="17017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ora Bold"/>
                <a:ea typeface="ＭＳ Ｐゴシック"/>
              </a:rPr>
              <a:t>Some things here.</a:t>
            </a:r>
            <a:endParaRPr b="0" lang="en-US" sz="16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raesent quis magna viverra turpis rutrum pellentesque in ac nulla. Nulla facilisi.</a:t>
            </a:r>
            <a:endParaRPr b="0" lang="en-US" sz="1600" spc="-1" strike="noStrike">
              <a:solidFill>
                <a:srgbClr val="595959"/>
              </a:solidFill>
              <a:latin typeface="Lora"/>
            </a:endParaRPr>
          </a:p>
        </p:txBody>
      </p:sp>
      <p:sp>
        <p:nvSpPr>
          <p:cNvPr id="247" name="Rectangle 146"/>
          <p:cNvSpPr/>
          <p:nvPr/>
        </p:nvSpPr>
        <p:spPr>
          <a:xfrm>
            <a:off x="5486400" y="6438960"/>
            <a:ext cx="1879560" cy="17017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ora Bold"/>
                <a:ea typeface="ＭＳ Ｐゴシック"/>
              </a:rPr>
              <a:t>Some things here.</a:t>
            </a:r>
            <a:endParaRPr b="0" lang="en-US" sz="16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raesent quis magna viverra turpis rutrum pellentesque in ac nulla. Nulla facilisi.</a:t>
            </a:r>
            <a:endParaRPr b="0" lang="en-US" sz="1600" spc="-1" strike="noStrike">
              <a:solidFill>
                <a:srgbClr val="595959"/>
              </a:solidFill>
              <a:latin typeface="Lora"/>
            </a:endParaRPr>
          </a:p>
        </p:txBody>
      </p:sp>
      <p:sp>
        <p:nvSpPr>
          <p:cNvPr id="248" name="Rectangle 147"/>
          <p:cNvSpPr/>
          <p:nvPr/>
        </p:nvSpPr>
        <p:spPr>
          <a:xfrm>
            <a:off x="9258480" y="5892840"/>
            <a:ext cx="1879560" cy="17017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ora Bold"/>
                <a:ea typeface="ＭＳ Ｐゴシック"/>
              </a:rPr>
              <a:t>Some things here.</a:t>
            </a:r>
            <a:endParaRPr b="0" lang="en-US" sz="16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raesent quis magna viverra turpis rutrum pellentesque in ac nulla. Nulla facilisi.</a:t>
            </a:r>
            <a:endParaRPr b="0" lang="en-US" sz="1600" spc="-1" strike="noStrike">
              <a:solidFill>
                <a:srgbClr val="595959"/>
              </a:solidFill>
              <a:latin typeface="Lor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1"/>
          <p:cNvSpPr/>
          <p:nvPr/>
        </p:nvSpPr>
        <p:spPr>
          <a:xfrm>
            <a:off x="1591560" y="4021200"/>
            <a:ext cx="9890280" cy="0"/>
          </a:xfrm>
          <a:prstGeom prst="line">
            <a:avLst/>
          </a:prstGeom>
          <a:ln w="38160">
            <a:solidFill>
              <a:srgbClr val="3d4147"/>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50" name="Oval 2"/>
          <p:cNvSpPr/>
          <p:nvPr/>
        </p:nvSpPr>
        <p:spPr>
          <a:xfrm>
            <a:off x="1360440" y="3790800"/>
            <a:ext cx="450720" cy="45432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51" name="Oval 3"/>
          <p:cNvSpPr/>
          <p:nvPr/>
        </p:nvSpPr>
        <p:spPr>
          <a:xfrm>
            <a:off x="2760840" y="3798720"/>
            <a:ext cx="450720" cy="45432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52" name="Oval 4"/>
          <p:cNvSpPr/>
          <p:nvPr/>
        </p:nvSpPr>
        <p:spPr>
          <a:xfrm>
            <a:off x="4168800" y="3798720"/>
            <a:ext cx="452520" cy="45432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53" name="Oval 5"/>
          <p:cNvSpPr/>
          <p:nvPr/>
        </p:nvSpPr>
        <p:spPr>
          <a:xfrm>
            <a:off x="5578560" y="3798720"/>
            <a:ext cx="450720" cy="45432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54" name="Oval 6"/>
          <p:cNvSpPr/>
          <p:nvPr/>
        </p:nvSpPr>
        <p:spPr>
          <a:xfrm>
            <a:off x="6986520" y="3798720"/>
            <a:ext cx="451080" cy="45432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55" name="Oval 7"/>
          <p:cNvSpPr/>
          <p:nvPr/>
        </p:nvSpPr>
        <p:spPr>
          <a:xfrm>
            <a:off x="8396280" y="3798720"/>
            <a:ext cx="450720" cy="45432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56" name="Oval 8"/>
          <p:cNvSpPr/>
          <p:nvPr/>
        </p:nvSpPr>
        <p:spPr>
          <a:xfrm>
            <a:off x="9804240" y="3798720"/>
            <a:ext cx="451080" cy="45432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57" name="Oval 9"/>
          <p:cNvSpPr/>
          <p:nvPr/>
        </p:nvSpPr>
        <p:spPr>
          <a:xfrm>
            <a:off x="11212560" y="3798720"/>
            <a:ext cx="452520" cy="45432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58" name="Rectangle 10"/>
          <p:cNvSpPr/>
          <p:nvPr/>
        </p:nvSpPr>
        <p:spPr>
          <a:xfrm>
            <a:off x="979560" y="2938320"/>
            <a:ext cx="1212840" cy="641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75</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259" name="Rectangle 11"/>
          <p:cNvSpPr/>
          <p:nvPr/>
        </p:nvSpPr>
        <p:spPr>
          <a:xfrm>
            <a:off x="2382840" y="2935440"/>
            <a:ext cx="121428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77</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260" name="Rectangle 12"/>
          <p:cNvSpPr/>
          <p:nvPr/>
        </p:nvSpPr>
        <p:spPr>
          <a:xfrm>
            <a:off x="3787920" y="2928960"/>
            <a:ext cx="1212840" cy="641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78</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261" name="Rectangle 13"/>
          <p:cNvSpPr/>
          <p:nvPr/>
        </p:nvSpPr>
        <p:spPr>
          <a:xfrm>
            <a:off x="5192640" y="2925720"/>
            <a:ext cx="1212840" cy="641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75</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262" name="Rectangle 14"/>
          <p:cNvSpPr/>
          <p:nvPr/>
        </p:nvSpPr>
        <p:spPr>
          <a:xfrm>
            <a:off x="6597720" y="2922480"/>
            <a:ext cx="121284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88</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263" name="Rectangle 15"/>
          <p:cNvSpPr/>
          <p:nvPr/>
        </p:nvSpPr>
        <p:spPr>
          <a:xfrm>
            <a:off x="8002440" y="2928960"/>
            <a:ext cx="1212840" cy="641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84</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264" name="Rectangle 16"/>
          <p:cNvSpPr/>
          <p:nvPr/>
        </p:nvSpPr>
        <p:spPr>
          <a:xfrm>
            <a:off x="9406080" y="2913120"/>
            <a:ext cx="121428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83</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265" name="Rectangle 17"/>
          <p:cNvSpPr/>
          <p:nvPr/>
        </p:nvSpPr>
        <p:spPr>
          <a:xfrm>
            <a:off x="10810800" y="2911320"/>
            <a:ext cx="1212840" cy="641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65</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266" name="Rectangle 18"/>
          <p:cNvSpPr/>
          <p:nvPr/>
        </p:nvSpPr>
        <p:spPr>
          <a:xfrm>
            <a:off x="1157400" y="4411800"/>
            <a:ext cx="8571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1</a:t>
            </a:r>
            <a:endParaRPr b="0" lang="en-US" sz="1800" spc="-1" strike="noStrike">
              <a:solidFill>
                <a:srgbClr val="595959"/>
              </a:solidFill>
              <a:latin typeface="Lora"/>
            </a:endParaRPr>
          </a:p>
        </p:txBody>
      </p:sp>
      <p:sp>
        <p:nvSpPr>
          <p:cNvPr id="267" name="Rectangle 19"/>
          <p:cNvSpPr/>
          <p:nvPr/>
        </p:nvSpPr>
        <p:spPr>
          <a:xfrm>
            <a:off x="2560680" y="4411800"/>
            <a:ext cx="8589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2</a:t>
            </a:r>
            <a:endParaRPr b="0" lang="en-US" sz="1800" spc="-1" strike="noStrike">
              <a:solidFill>
                <a:srgbClr val="595959"/>
              </a:solidFill>
              <a:latin typeface="Lora"/>
            </a:endParaRPr>
          </a:p>
        </p:txBody>
      </p:sp>
      <p:sp>
        <p:nvSpPr>
          <p:cNvPr id="268" name="Rectangle 20"/>
          <p:cNvSpPr/>
          <p:nvPr/>
        </p:nvSpPr>
        <p:spPr>
          <a:xfrm>
            <a:off x="3965400" y="4411800"/>
            <a:ext cx="85752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3</a:t>
            </a:r>
            <a:endParaRPr b="0" lang="en-US" sz="1800" spc="-1" strike="noStrike">
              <a:solidFill>
                <a:srgbClr val="595959"/>
              </a:solidFill>
              <a:latin typeface="Lora"/>
            </a:endParaRPr>
          </a:p>
        </p:txBody>
      </p:sp>
      <p:sp>
        <p:nvSpPr>
          <p:cNvPr id="269" name="Rectangle 21"/>
          <p:cNvSpPr/>
          <p:nvPr/>
        </p:nvSpPr>
        <p:spPr>
          <a:xfrm>
            <a:off x="6783480" y="4411800"/>
            <a:ext cx="8571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5</a:t>
            </a:r>
            <a:endParaRPr b="0" lang="en-US" sz="1800" spc="-1" strike="noStrike">
              <a:solidFill>
                <a:srgbClr val="595959"/>
              </a:solidFill>
              <a:latin typeface="Lora"/>
            </a:endParaRPr>
          </a:p>
        </p:txBody>
      </p:sp>
      <p:sp>
        <p:nvSpPr>
          <p:cNvPr id="270" name="Rectangle 22"/>
          <p:cNvSpPr/>
          <p:nvPr/>
        </p:nvSpPr>
        <p:spPr>
          <a:xfrm>
            <a:off x="8196120" y="4411800"/>
            <a:ext cx="8589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6</a:t>
            </a:r>
            <a:endParaRPr b="0" lang="en-US" sz="1800" spc="-1" strike="noStrike">
              <a:solidFill>
                <a:srgbClr val="595959"/>
              </a:solidFill>
              <a:latin typeface="Lora"/>
            </a:endParaRPr>
          </a:p>
        </p:txBody>
      </p:sp>
      <p:sp>
        <p:nvSpPr>
          <p:cNvPr id="271" name="Rectangle 23"/>
          <p:cNvSpPr/>
          <p:nvPr/>
        </p:nvSpPr>
        <p:spPr>
          <a:xfrm>
            <a:off x="9583560" y="4419720"/>
            <a:ext cx="8589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7</a:t>
            </a:r>
            <a:endParaRPr b="0" lang="en-US" sz="1800" spc="-1" strike="noStrike">
              <a:solidFill>
                <a:srgbClr val="595959"/>
              </a:solidFill>
              <a:latin typeface="Lora"/>
            </a:endParaRPr>
          </a:p>
        </p:txBody>
      </p:sp>
      <p:sp>
        <p:nvSpPr>
          <p:cNvPr id="272" name="Rectangle 24"/>
          <p:cNvSpPr/>
          <p:nvPr/>
        </p:nvSpPr>
        <p:spPr>
          <a:xfrm>
            <a:off x="11014200" y="4419720"/>
            <a:ext cx="8571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8</a:t>
            </a:r>
            <a:endParaRPr b="0" lang="en-US" sz="1800" spc="-1" strike="noStrike">
              <a:solidFill>
                <a:srgbClr val="595959"/>
              </a:solidFill>
              <a:latin typeface="Lora"/>
            </a:endParaRPr>
          </a:p>
        </p:txBody>
      </p:sp>
      <p:sp>
        <p:nvSpPr>
          <p:cNvPr id="273" name="Rectangle 25"/>
          <p:cNvSpPr/>
          <p:nvPr/>
        </p:nvSpPr>
        <p:spPr>
          <a:xfrm>
            <a:off x="861840" y="6889680"/>
            <a:ext cx="11273040" cy="16718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Suspendisse hendrerit fermentum arcu, nec efficitur sem ultrices id. Praesent quis magna viverra turpis rutrum pellentesque in ac nulla. Nulla facilisi. Interdum et malesuada fames ac ante ipsum primis in faucibus.</a:t>
            </a:r>
            <a:endParaRPr b="0" lang="en-US" sz="2200" spc="-1" strike="noStrike">
              <a:solidFill>
                <a:srgbClr val="595959"/>
              </a:solidFill>
              <a:latin typeface="Lora"/>
            </a:endParaRPr>
          </a:p>
        </p:txBody>
      </p:sp>
      <p:grpSp>
        <p:nvGrpSpPr>
          <p:cNvPr id="274" name="Group 30"/>
          <p:cNvGrpSpPr/>
          <p:nvPr/>
        </p:nvGrpSpPr>
        <p:grpSpPr>
          <a:xfrm>
            <a:off x="5245200" y="4003560"/>
            <a:ext cx="1119240" cy="1972800"/>
            <a:chOff x="5245200" y="4003560"/>
            <a:chExt cx="1119240" cy="1972800"/>
          </a:xfrm>
        </p:grpSpPr>
        <p:sp>
          <p:nvSpPr>
            <p:cNvPr id="275" name="Line 26"/>
            <p:cNvSpPr/>
            <p:nvPr/>
          </p:nvSpPr>
          <p:spPr>
            <a:xfrm>
              <a:off x="5800680" y="4003560"/>
              <a:ext cx="0" cy="1353600"/>
            </a:xfrm>
            <a:prstGeom prst="line">
              <a:avLst/>
            </a:prstGeom>
            <a:ln w="28440">
              <a:solidFill>
                <a:srgbClr val="b7cc7c"/>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276" name="Group 29"/>
            <p:cNvGrpSpPr/>
            <p:nvPr/>
          </p:nvGrpSpPr>
          <p:grpSpPr>
            <a:xfrm>
              <a:off x="5245200" y="4841640"/>
              <a:ext cx="1119240" cy="1134720"/>
              <a:chOff x="5245200" y="4841640"/>
              <a:chExt cx="1119240" cy="1134720"/>
            </a:xfrm>
          </p:grpSpPr>
          <p:sp>
            <p:nvSpPr>
              <p:cNvPr id="277" name="AutoShape 27"/>
              <p:cNvSpPr/>
              <p:nvPr/>
            </p:nvSpPr>
            <p:spPr>
              <a:xfrm>
                <a:off x="5245200" y="4841640"/>
                <a:ext cx="1119240" cy="1134720"/>
              </a:xfrm>
              <a:prstGeom prst="diamond">
                <a:avLst/>
              </a:prstGeom>
              <a:solidFill>
                <a:srgbClr val="b7cc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78" name="Rectangle 28"/>
              <p:cNvSpPr/>
              <p:nvPr/>
            </p:nvSpPr>
            <p:spPr>
              <a:xfrm>
                <a:off x="5562720" y="520416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1994</a:t>
                </a:r>
                <a:endParaRPr b="0" lang="en-US" sz="1800" spc="-1" strike="noStrike">
                  <a:solidFill>
                    <a:srgbClr val="595959"/>
                  </a:solidFill>
                  <a:latin typeface="Lora"/>
                </a:endParaRPr>
              </a:p>
            </p:txBody>
          </p:sp>
        </p:grpSp>
      </p:grpSp>
      <p:sp>
        <p:nvSpPr>
          <p:cNvPr id="279" name="Rectangle 31"/>
          <p:cNvSpPr/>
          <p:nvPr/>
        </p:nvSpPr>
        <p:spPr>
          <a:xfrm>
            <a:off x="807480" y="628560"/>
            <a:ext cx="36806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Timeline (·2·)</a:t>
            </a:r>
            <a:endParaRPr b="0" lang="en-US" sz="4800" spc="-1" strike="noStrike">
              <a:solidFill>
                <a:srgbClr val="595959"/>
              </a:solidFill>
              <a:latin typeface="Lor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14"/>
          <p:cNvGrpSpPr/>
          <p:nvPr/>
        </p:nvGrpSpPr>
        <p:grpSpPr>
          <a:xfrm>
            <a:off x="712800" y="2666880"/>
            <a:ext cx="11569680" cy="1827360"/>
            <a:chOff x="712800" y="2666880"/>
            <a:chExt cx="11569680" cy="1827360"/>
          </a:xfrm>
        </p:grpSpPr>
        <p:sp>
          <p:nvSpPr>
            <p:cNvPr id="281" name="Oval 1"/>
            <p:cNvSpPr/>
            <p:nvPr/>
          </p:nvSpPr>
          <p:spPr>
            <a:xfrm>
              <a:off x="712800" y="3857400"/>
              <a:ext cx="631800" cy="63684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82" name="Line 2"/>
            <p:cNvSpPr/>
            <p:nvPr/>
          </p:nvSpPr>
          <p:spPr>
            <a:xfrm>
              <a:off x="974880" y="4182840"/>
              <a:ext cx="11053800" cy="0"/>
            </a:xfrm>
            <a:prstGeom prst="line">
              <a:avLst/>
            </a:prstGeom>
            <a:ln w="38160">
              <a:solidFill>
                <a:srgbClr val="3d4147"/>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83" name="Oval 3"/>
            <p:cNvSpPr/>
            <p:nvPr/>
          </p:nvSpPr>
          <p:spPr>
            <a:xfrm>
              <a:off x="11650680" y="3857400"/>
              <a:ext cx="631800" cy="63684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84" name="Oval 4"/>
            <p:cNvSpPr/>
            <p:nvPr/>
          </p:nvSpPr>
          <p:spPr>
            <a:xfrm>
              <a:off x="2185920" y="3930480"/>
              <a:ext cx="505080" cy="5097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85" name="Rectangle 5"/>
            <p:cNvSpPr/>
            <p:nvPr/>
          </p:nvSpPr>
          <p:spPr>
            <a:xfrm>
              <a:off x="1119240" y="2687400"/>
              <a:ext cx="2624040" cy="959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95959"/>
                  </a:solidFill>
                  <a:latin typeface="Lora Bold"/>
                  <a:ea typeface="ＭＳ Ｐゴシック"/>
                </a:rPr>
                <a:t>1022</a:t>
              </a:r>
              <a:br>
                <a:rPr sz="1800"/>
              </a:br>
              <a:r>
                <a:rPr b="0" lang="en-US" sz="1600" spc="-1" strike="noStrike">
                  <a:solidFill>
                    <a:srgbClr val="595959"/>
                  </a:solidFill>
                  <a:latin typeface="Lora Italic"/>
                  <a:ea typeface="ＭＳ Ｐゴシック"/>
                </a:rPr>
                <a:t>Year</a:t>
              </a:r>
              <a:endParaRPr b="0" lang="en-US" sz="1600" spc="-1" strike="noStrike">
                <a:solidFill>
                  <a:srgbClr val="595959"/>
                </a:solidFill>
                <a:latin typeface="Lora"/>
              </a:endParaRPr>
            </a:p>
          </p:txBody>
        </p:sp>
        <p:sp>
          <p:nvSpPr>
            <p:cNvPr id="286" name="Oval 6"/>
            <p:cNvSpPr/>
            <p:nvPr/>
          </p:nvSpPr>
          <p:spPr>
            <a:xfrm>
              <a:off x="4098960" y="3919320"/>
              <a:ext cx="506520" cy="5097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87" name="Rectangle 7"/>
            <p:cNvSpPr/>
            <p:nvPr/>
          </p:nvSpPr>
          <p:spPr>
            <a:xfrm>
              <a:off x="3637080" y="2687400"/>
              <a:ext cx="1454040" cy="959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95959"/>
                  </a:solidFill>
                  <a:latin typeface="Lora Bold"/>
                  <a:ea typeface="ＭＳ Ｐゴシック"/>
                </a:rPr>
                <a:t>1288</a:t>
              </a:r>
              <a:br>
                <a:rPr sz="1800"/>
              </a:br>
              <a:r>
                <a:rPr b="0" lang="en-US" sz="1600" spc="-1" strike="noStrike">
                  <a:solidFill>
                    <a:srgbClr val="595959"/>
                  </a:solidFill>
                  <a:latin typeface="Lora Italic"/>
                  <a:ea typeface="ＭＳ Ｐゴシック"/>
                </a:rPr>
                <a:t>Year</a:t>
              </a:r>
              <a:endParaRPr b="0" lang="en-US" sz="1600" spc="-1" strike="noStrike">
                <a:solidFill>
                  <a:srgbClr val="595959"/>
                </a:solidFill>
                <a:latin typeface="Lora"/>
              </a:endParaRPr>
            </a:p>
          </p:txBody>
        </p:sp>
        <p:sp>
          <p:nvSpPr>
            <p:cNvPr id="288" name="Oval 8"/>
            <p:cNvSpPr/>
            <p:nvPr/>
          </p:nvSpPr>
          <p:spPr>
            <a:xfrm>
              <a:off x="5508720" y="3919320"/>
              <a:ext cx="504720" cy="5097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89" name="Rectangle 9"/>
            <p:cNvSpPr/>
            <p:nvPr/>
          </p:nvSpPr>
          <p:spPr>
            <a:xfrm>
              <a:off x="5051520" y="2687400"/>
              <a:ext cx="1455480" cy="959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95959"/>
                  </a:solidFill>
                  <a:latin typeface="Lora Bold"/>
                  <a:ea typeface="ＭＳ Ｐゴシック"/>
                </a:rPr>
                <a:t>1462</a:t>
              </a:r>
              <a:br>
                <a:rPr sz="1800"/>
              </a:br>
              <a:r>
                <a:rPr b="0" lang="en-US" sz="1600" spc="-1" strike="noStrike">
                  <a:solidFill>
                    <a:srgbClr val="595959"/>
                  </a:solidFill>
                  <a:latin typeface="Lora Italic"/>
                  <a:ea typeface="ＭＳ Ｐゴシック"/>
                </a:rPr>
                <a:t>Year</a:t>
              </a:r>
              <a:endParaRPr b="0" lang="en-US" sz="1600" spc="-1" strike="noStrike">
                <a:solidFill>
                  <a:srgbClr val="595959"/>
                </a:solidFill>
                <a:latin typeface="Lora"/>
              </a:endParaRPr>
            </a:p>
          </p:txBody>
        </p:sp>
        <p:sp>
          <p:nvSpPr>
            <p:cNvPr id="290" name="Oval 10"/>
            <p:cNvSpPr/>
            <p:nvPr/>
          </p:nvSpPr>
          <p:spPr>
            <a:xfrm>
              <a:off x="8470800" y="3919320"/>
              <a:ext cx="505080" cy="5097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91" name="Rectangle 11"/>
            <p:cNvSpPr/>
            <p:nvPr/>
          </p:nvSpPr>
          <p:spPr>
            <a:xfrm>
              <a:off x="7961400" y="2666880"/>
              <a:ext cx="1454040" cy="958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95959"/>
                  </a:solidFill>
                  <a:latin typeface="Lora Bold"/>
                  <a:ea typeface="ＭＳ Ｐゴシック"/>
                </a:rPr>
                <a:t>1722</a:t>
              </a:r>
              <a:br>
                <a:rPr sz="1800"/>
              </a:br>
              <a:r>
                <a:rPr b="0" lang="en-US" sz="1600" spc="-1" strike="noStrike">
                  <a:solidFill>
                    <a:srgbClr val="595959"/>
                  </a:solidFill>
                  <a:latin typeface="Lora Italic"/>
                  <a:ea typeface="ＭＳ Ｐゴシック"/>
                </a:rPr>
                <a:t>Year</a:t>
              </a:r>
              <a:endParaRPr b="0" lang="en-US" sz="1600" spc="-1" strike="noStrike">
                <a:solidFill>
                  <a:srgbClr val="595959"/>
                </a:solidFill>
                <a:latin typeface="Lora"/>
              </a:endParaRPr>
            </a:p>
          </p:txBody>
        </p:sp>
        <p:sp>
          <p:nvSpPr>
            <p:cNvPr id="292" name="Oval 12"/>
            <p:cNvSpPr/>
            <p:nvPr/>
          </p:nvSpPr>
          <p:spPr>
            <a:xfrm>
              <a:off x="10294920" y="3902040"/>
              <a:ext cx="504720" cy="50940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93" name="Rectangle 13"/>
            <p:cNvSpPr/>
            <p:nvPr/>
          </p:nvSpPr>
          <p:spPr>
            <a:xfrm>
              <a:off x="9820440" y="2687400"/>
              <a:ext cx="1454040" cy="959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95959"/>
                  </a:solidFill>
                  <a:latin typeface="Lora Bold"/>
                  <a:ea typeface="ＭＳ Ｐゴシック"/>
                </a:rPr>
                <a:t>1922</a:t>
              </a:r>
              <a:br>
                <a:rPr sz="1800"/>
              </a:br>
              <a:r>
                <a:rPr b="0" lang="en-US" sz="1600" spc="-1" strike="noStrike">
                  <a:solidFill>
                    <a:srgbClr val="595959"/>
                  </a:solidFill>
                  <a:latin typeface="Lora Italic"/>
                  <a:ea typeface="ＭＳ Ｐゴシック"/>
                </a:rPr>
                <a:t>Year</a:t>
              </a:r>
              <a:endParaRPr b="0" lang="en-US" sz="1600" spc="-1" strike="noStrike">
                <a:solidFill>
                  <a:srgbClr val="595959"/>
                </a:solidFill>
                <a:latin typeface="Lora"/>
              </a:endParaRPr>
            </a:p>
          </p:txBody>
        </p:sp>
      </p:grpSp>
      <p:sp>
        <p:nvSpPr>
          <p:cNvPr id="294" name="Rectangle 15"/>
          <p:cNvSpPr/>
          <p:nvPr/>
        </p:nvSpPr>
        <p:spPr>
          <a:xfrm>
            <a:off x="861840" y="5365800"/>
            <a:ext cx="11273040" cy="23572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Suspendisse hendrerit fermentum arcu, nec efficitur sem ultrices id. Praesent quis magna viverra turpis rutrum pellentesque in ac nulla. Nulla facilisi. Interdum et malesuada fames ac ante ipsum primis in faucibus.er odio ac tempus. Vivamus finibus eu metus in finibus. Vivamus congue felis eget mauris convallis finibus. Duis pulvinar at massa imperdiet finibus.</a:t>
            </a:r>
            <a:endParaRPr b="0" lang="en-US" sz="2200" spc="-1" strike="noStrike">
              <a:solidFill>
                <a:srgbClr val="595959"/>
              </a:solidFill>
              <a:latin typeface="Lora"/>
            </a:endParaRPr>
          </a:p>
        </p:txBody>
      </p:sp>
      <p:sp>
        <p:nvSpPr>
          <p:cNvPr id="295" name="Rectangle 16"/>
          <p:cNvSpPr/>
          <p:nvPr/>
        </p:nvSpPr>
        <p:spPr>
          <a:xfrm>
            <a:off x="821880" y="628560"/>
            <a:ext cx="36806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Timeline (·3·)</a:t>
            </a:r>
            <a:endParaRPr b="0" lang="en-US" sz="4800" spc="-1" strike="noStrike">
              <a:solidFill>
                <a:srgbClr val="595959"/>
              </a:solidFill>
              <a:latin typeface="Lora"/>
            </a:endParaRPr>
          </a:p>
        </p:txBody>
      </p:sp>
      <p:grpSp>
        <p:nvGrpSpPr>
          <p:cNvPr id="296" name="Group 24"/>
          <p:cNvGrpSpPr/>
          <p:nvPr/>
        </p:nvGrpSpPr>
        <p:grpSpPr>
          <a:xfrm>
            <a:off x="11660040" y="3497400"/>
            <a:ext cx="608040" cy="755640"/>
            <a:chOff x="11660040" y="3497400"/>
            <a:chExt cx="608040" cy="755640"/>
          </a:xfrm>
        </p:grpSpPr>
        <p:sp>
          <p:nvSpPr>
            <p:cNvPr id="297" name="AutoShape 17"/>
            <p:cNvSpPr/>
            <p:nvPr/>
          </p:nvSpPr>
          <p:spPr>
            <a:xfrm>
              <a:off x="11777400" y="3792600"/>
              <a:ext cx="405000" cy="460440"/>
            </a:xfrm>
            <a:custGeom>
              <a:avLst/>
              <a:gdLst/>
              <a:ahLst/>
              <a:rect l="l" t="t" r="r" b="b"/>
              <a:pathLst>
                <a:path w="21600" h="21600">
                  <a:moveTo>
                    <a:pt x="0" y="21403"/>
                  </a:moveTo>
                  <a:lnTo>
                    <a:pt x="10506" y="0"/>
                  </a:lnTo>
                  <a:lnTo>
                    <a:pt x="21600" y="21600"/>
                  </a:lnTo>
                </a:path>
              </a:pathLst>
            </a:custGeom>
            <a:noFill/>
            <a:ln w="44280">
              <a:solidFill>
                <a:srgbClr val="00a8e6"/>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98" name="Line 18"/>
            <p:cNvSpPr/>
            <p:nvPr/>
          </p:nvSpPr>
          <p:spPr>
            <a:xfrm flipV="1">
              <a:off x="11967840" y="3881520"/>
              <a:ext cx="0" cy="317520"/>
            </a:xfrm>
            <a:prstGeom prst="line">
              <a:avLst/>
            </a:prstGeom>
            <a:ln w="44280">
              <a:solidFill>
                <a:srgbClr val="00a8e6"/>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99" name="AutoShape 19"/>
            <p:cNvSpPr/>
            <p:nvPr/>
          </p:nvSpPr>
          <p:spPr>
            <a:xfrm>
              <a:off x="11660040" y="3497400"/>
              <a:ext cx="608040" cy="450720"/>
            </a:xfrm>
            <a:custGeom>
              <a:avLst/>
              <a:gdLst/>
              <a:ahLst/>
              <a:rect l="l" t="t" r="r" b="b"/>
              <a:pathLst>
                <a:path w="21600" h="21600">
                  <a:moveTo>
                    <a:pt x="21600" y="19332"/>
                  </a:moveTo>
                  <a:cubicBezTo>
                    <a:pt x="21600" y="20580"/>
                    <a:pt x="20824" y="21600"/>
                    <a:pt x="19875" y="21600"/>
                  </a:cubicBezTo>
                  <a:lnTo>
                    <a:pt x="1725" y="21600"/>
                  </a:lnTo>
                  <a:cubicBezTo>
                    <a:pt x="776" y="21600"/>
                    <a:pt x="0" y="20580"/>
                    <a:pt x="0" y="19332"/>
                  </a:cubicBezTo>
                  <a:lnTo>
                    <a:pt x="0" y="2268"/>
                  </a:lnTo>
                  <a:cubicBezTo>
                    <a:pt x="0" y="1021"/>
                    <a:pt x="776" y="0"/>
                    <a:pt x="1725" y="0"/>
                  </a:cubicBezTo>
                  <a:lnTo>
                    <a:pt x="19875" y="0"/>
                  </a:lnTo>
                  <a:cubicBezTo>
                    <a:pt x="20824" y="0"/>
                    <a:pt x="21600" y="1021"/>
                    <a:pt x="21600" y="2268"/>
                  </a:cubicBezTo>
                  <a:cubicBezTo>
                    <a:pt x="21600" y="2268"/>
                    <a:pt x="21600" y="19332"/>
                    <a:pt x="21600" y="19332"/>
                  </a:cubicBezTo>
                  <a:close/>
                  <a:moveTo>
                    <a:pt x="21600" y="19332"/>
                  </a:move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00" name="AutoShape 20"/>
            <p:cNvSpPr/>
            <p:nvPr/>
          </p:nvSpPr>
          <p:spPr>
            <a:xfrm>
              <a:off x="11660040" y="3497400"/>
              <a:ext cx="608040" cy="450720"/>
            </a:xfrm>
            <a:custGeom>
              <a:avLst/>
              <a:gdLst/>
              <a:ahLst/>
              <a:rect l="l" t="t" r="r" b="b"/>
              <a:pathLst>
                <a:path w="21600" h="21600">
                  <a:moveTo>
                    <a:pt x="21600" y="19332"/>
                  </a:moveTo>
                  <a:cubicBezTo>
                    <a:pt x="21600" y="20580"/>
                    <a:pt x="20824" y="21600"/>
                    <a:pt x="19875" y="21600"/>
                  </a:cubicBezTo>
                  <a:lnTo>
                    <a:pt x="1725" y="21600"/>
                  </a:lnTo>
                  <a:cubicBezTo>
                    <a:pt x="776" y="21600"/>
                    <a:pt x="0" y="20580"/>
                    <a:pt x="0" y="19332"/>
                  </a:cubicBezTo>
                  <a:lnTo>
                    <a:pt x="0" y="2268"/>
                  </a:lnTo>
                  <a:cubicBezTo>
                    <a:pt x="0" y="1021"/>
                    <a:pt x="776" y="0"/>
                    <a:pt x="1725" y="0"/>
                  </a:cubicBezTo>
                  <a:lnTo>
                    <a:pt x="19875" y="0"/>
                  </a:lnTo>
                  <a:cubicBezTo>
                    <a:pt x="20824" y="0"/>
                    <a:pt x="21600" y="1021"/>
                    <a:pt x="21600" y="2268"/>
                  </a:cubicBezTo>
                  <a:cubicBezTo>
                    <a:pt x="21600" y="2268"/>
                    <a:pt x="21600" y="19332"/>
                    <a:pt x="21600" y="19332"/>
                  </a:cubicBezTo>
                  <a:close/>
                  <a:moveTo>
                    <a:pt x="21600" y="19332"/>
                  </a:moveTo>
                </a:path>
              </a:pathLst>
            </a:custGeom>
            <a:noFill/>
            <a:ln w="33120">
              <a:solidFill>
                <a:srgbClr val="00a8e6"/>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01" name="AutoShape 21"/>
            <p:cNvSpPr/>
            <p:nvPr/>
          </p:nvSpPr>
          <p:spPr>
            <a:xfrm>
              <a:off x="11777400" y="3621240"/>
              <a:ext cx="360360" cy="225360"/>
            </a:xfrm>
            <a:custGeom>
              <a:avLst/>
              <a:gdLst/>
              <a:ahLst/>
              <a:rect l="l" t="t" r="r" b="b"/>
              <a:pathLst>
                <a:path w="21600" h="21600">
                  <a:moveTo>
                    <a:pt x="0" y="21600"/>
                  </a:moveTo>
                  <a:lnTo>
                    <a:pt x="8656" y="10746"/>
                  </a:lnTo>
                  <a:lnTo>
                    <a:pt x="14470" y="10746"/>
                  </a:lnTo>
                  <a:lnTo>
                    <a:pt x="21600" y="0"/>
                  </a:lnTo>
                </a:path>
              </a:pathLst>
            </a:custGeom>
            <a:noFill/>
            <a:ln w="44280">
              <a:solidFill>
                <a:srgbClr val="d47270"/>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02" name="AutoShape 22"/>
            <p:cNvSpPr/>
            <p:nvPr/>
          </p:nvSpPr>
          <p:spPr>
            <a:xfrm>
              <a:off x="11728440" y="3792600"/>
              <a:ext cx="102960" cy="101520"/>
            </a:xfrm>
            <a:custGeom>
              <a:avLst/>
              <a:gdLst/>
              <a:ahLst/>
              <a:rect l="l" t="t" r="r" b="b"/>
              <a:pathLst>
                <a:path w="19188" h="19188">
                  <a:moveTo>
                    <a:pt x="15593" y="17081"/>
                  </a:moveTo>
                  <a:cubicBezTo>
                    <a:pt x="11458" y="20394"/>
                    <a:pt x="5420" y="19728"/>
                    <a:pt x="2108" y="15591"/>
                  </a:cubicBezTo>
                  <a:cubicBezTo>
                    <a:pt x="-1206" y="11459"/>
                    <a:pt x="-539" y="5420"/>
                    <a:pt x="3595" y="2107"/>
                  </a:cubicBezTo>
                  <a:cubicBezTo>
                    <a:pt x="7730" y="-1206"/>
                    <a:pt x="13768" y="-540"/>
                    <a:pt x="17082" y="3597"/>
                  </a:cubicBezTo>
                  <a:cubicBezTo>
                    <a:pt x="20394" y="7729"/>
                    <a:pt x="19728" y="13768"/>
                    <a:pt x="15593" y="17081"/>
                  </a:cubicBez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03" name="AutoShape 23"/>
            <p:cNvSpPr/>
            <p:nvPr/>
          </p:nvSpPr>
          <p:spPr>
            <a:xfrm>
              <a:off x="12061800" y="3554640"/>
              <a:ext cx="152280" cy="145800"/>
            </a:xfrm>
            <a:custGeom>
              <a:avLst/>
              <a:gdLst/>
              <a:ahLst/>
              <a:rect l="l" t="t" r="r" b="b"/>
              <a:pathLst>
                <a:path w="21600" h="21600">
                  <a:moveTo>
                    <a:pt x="12479" y="21600"/>
                  </a:moveTo>
                  <a:lnTo>
                    <a:pt x="8992" y="12328"/>
                  </a:lnTo>
                  <a:lnTo>
                    <a:pt x="0" y="8441"/>
                  </a:lnTo>
                  <a:lnTo>
                    <a:pt x="21600" y="0"/>
                  </a:lnTo>
                  <a:cubicBezTo>
                    <a:pt x="21600" y="0"/>
                    <a:pt x="12479" y="21600"/>
                    <a:pt x="12479" y="21600"/>
                  </a:cubicBezTo>
                  <a:close/>
                  <a:moveTo>
                    <a:pt x="12479" y="21600"/>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304" name="Group 38"/>
          <p:cNvGrpSpPr/>
          <p:nvPr/>
        </p:nvGrpSpPr>
        <p:grpSpPr>
          <a:xfrm>
            <a:off x="642960" y="3527280"/>
            <a:ext cx="771480" cy="723600"/>
            <a:chOff x="642960" y="3527280"/>
            <a:chExt cx="771480" cy="723600"/>
          </a:xfrm>
        </p:grpSpPr>
        <p:sp>
          <p:nvSpPr>
            <p:cNvPr id="305" name="AutoShape 25"/>
            <p:cNvSpPr/>
            <p:nvPr/>
          </p:nvSpPr>
          <p:spPr>
            <a:xfrm>
              <a:off x="952560" y="4087080"/>
              <a:ext cx="155520" cy="14508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979799"/>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06" name="AutoShape 26"/>
            <p:cNvSpPr/>
            <p:nvPr/>
          </p:nvSpPr>
          <p:spPr>
            <a:xfrm>
              <a:off x="819000" y="4213080"/>
              <a:ext cx="411480" cy="378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dbdbdb"/>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07" name="AutoShape 27"/>
            <p:cNvSpPr/>
            <p:nvPr/>
          </p:nvSpPr>
          <p:spPr>
            <a:xfrm>
              <a:off x="642960" y="3527280"/>
              <a:ext cx="771480" cy="569520"/>
            </a:xfrm>
            <a:custGeom>
              <a:avLst/>
              <a:gdLst/>
              <a:ahLst/>
              <a:rect l="l" t="t" r="r" b="b"/>
              <a:pathLst>
                <a:path w="21600" h="21600">
                  <a:moveTo>
                    <a:pt x="20781" y="21600"/>
                  </a:moveTo>
                  <a:lnTo>
                    <a:pt x="819" y="21600"/>
                  </a:lnTo>
                  <a:cubicBezTo>
                    <a:pt x="366" y="21600"/>
                    <a:pt x="0" y="21102"/>
                    <a:pt x="0" y="20489"/>
                  </a:cubicBezTo>
                  <a:lnTo>
                    <a:pt x="0" y="1111"/>
                  </a:lnTo>
                  <a:cubicBezTo>
                    <a:pt x="0" y="497"/>
                    <a:pt x="366" y="0"/>
                    <a:pt x="819" y="0"/>
                  </a:cubicBezTo>
                  <a:lnTo>
                    <a:pt x="20781" y="0"/>
                  </a:lnTo>
                  <a:cubicBezTo>
                    <a:pt x="21234" y="0"/>
                    <a:pt x="21600" y="497"/>
                    <a:pt x="21600" y="1111"/>
                  </a:cubicBezTo>
                  <a:lnTo>
                    <a:pt x="21600" y="20489"/>
                  </a:lnTo>
                  <a:cubicBezTo>
                    <a:pt x="21600" y="21102"/>
                    <a:pt x="21234" y="21600"/>
                    <a:pt x="20781" y="21600"/>
                  </a:cubicBez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08" name="AutoShape 28"/>
            <p:cNvSpPr/>
            <p:nvPr/>
          </p:nvSpPr>
          <p:spPr>
            <a:xfrm>
              <a:off x="642960" y="3527280"/>
              <a:ext cx="771480" cy="569520"/>
            </a:xfrm>
            <a:custGeom>
              <a:avLst/>
              <a:gdLst/>
              <a:ahLst/>
              <a:rect l="l" t="t" r="r" b="b"/>
              <a:pathLst>
                <a:path w="21600" h="21600">
                  <a:moveTo>
                    <a:pt x="20781" y="21600"/>
                  </a:moveTo>
                  <a:lnTo>
                    <a:pt x="819" y="21600"/>
                  </a:lnTo>
                  <a:cubicBezTo>
                    <a:pt x="366" y="21600"/>
                    <a:pt x="0" y="21102"/>
                    <a:pt x="0" y="20489"/>
                  </a:cubicBezTo>
                  <a:lnTo>
                    <a:pt x="0" y="1111"/>
                  </a:lnTo>
                  <a:cubicBezTo>
                    <a:pt x="0" y="497"/>
                    <a:pt x="366" y="0"/>
                    <a:pt x="819" y="0"/>
                  </a:cubicBezTo>
                  <a:lnTo>
                    <a:pt x="20781" y="0"/>
                  </a:lnTo>
                  <a:cubicBezTo>
                    <a:pt x="21234" y="0"/>
                    <a:pt x="21600" y="497"/>
                    <a:pt x="21600" y="1111"/>
                  </a:cubicBezTo>
                  <a:lnTo>
                    <a:pt x="21600" y="20489"/>
                  </a:lnTo>
                  <a:cubicBezTo>
                    <a:pt x="21600" y="21102"/>
                    <a:pt x="21234" y="21600"/>
                    <a:pt x="20781" y="21600"/>
                  </a:cubicBezTo>
                  <a:close/>
                  <a:moveTo>
                    <a:pt x="20781" y="21600"/>
                  </a:moveTo>
                </a:path>
              </a:pathLst>
            </a:custGeom>
            <a:noFill/>
            <a:ln w="50760">
              <a:solidFill>
                <a:srgbClr val="dbdbdb"/>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09" name="AutoShape 29"/>
            <p:cNvSpPr/>
            <p:nvPr/>
          </p:nvSpPr>
          <p:spPr>
            <a:xfrm>
              <a:off x="735120" y="3589200"/>
              <a:ext cx="222120" cy="163800"/>
            </a:xfrm>
            <a:custGeom>
              <a:avLst/>
              <a:gdLst/>
              <a:ahLst/>
              <a:rect l="l" t="t" r="r" b="b"/>
              <a:pathLst>
                <a:path w="21600" h="21600">
                  <a:moveTo>
                    <a:pt x="5642" y="21600"/>
                  </a:moveTo>
                  <a:cubicBezTo>
                    <a:pt x="4355" y="19819"/>
                    <a:pt x="3557" y="17381"/>
                    <a:pt x="3557" y="14693"/>
                  </a:cubicBezTo>
                  <a:cubicBezTo>
                    <a:pt x="3557" y="9257"/>
                    <a:pt x="6806" y="4837"/>
                    <a:pt x="10800" y="4837"/>
                  </a:cubicBezTo>
                  <a:cubicBezTo>
                    <a:pt x="14794" y="4837"/>
                    <a:pt x="18044" y="9257"/>
                    <a:pt x="18044" y="14693"/>
                  </a:cubicBezTo>
                  <a:cubicBezTo>
                    <a:pt x="18044" y="17381"/>
                    <a:pt x="17246" y="19819"/>
                    <a:pt x="15958" y="21600"/>
                  </a:cubicBezTo>
                  <a:lnTo>
                    <a:pt x="20326" y="21600"/>
                  </a:lnTo>
                  <a:cubicBezTo>
                    <a:pt x="21138" y="19539"/>
                    <a:pt x="21600" y="17187"/>
                    <a:pt x="21600" y="14693"/>
                  </a:cubicBezTo>
                  <a:cubicBezTo>
                    <a:pt x="21600" y="6592"/>
                    <a:pt x="16755" y="0"/>
                    <a:pt x="10800" y="0"/>
                  </a:cubicBezTo>
                  <a:cubicBezTo>
                    <a:pt x="4844" y="0"/>
                    <a:pt x="0" y="6592"/>
                    <a:pt x="0" y="14693"/>
                  </a:cubicBezTo>
                  <a:cubicBezTo>
                    <a:pt x="0" y="17187"/>
                    <a:pt x="463" y="19539"/>
                    <a:pt x="1274" y="21600"/>
                  </a:cubicBezTo>
                  <a:cubicBezTo>
                    <a:pt x="1274" y="21600"/>
                    <a:pt x="5642" y="21600"/>
                    <a:pt x="5642" y="21600"/>
                  </a:cubicBezTo>
                  <a:close/>
                  <a:moveTo>
                    <a:pt x="5642" y="21600"/>
                  </a:move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10" name="AutoShape 30"/>
            <p:cNvSpPr/>
            <p:nvPr/>
          </p:nvSpPr>
          <p:spPr>
            <a:xfrm>
              <a:off x="1119240" y="3589200"/>
              <a:ext cx="222120" cy="163800"/>
            </a:xfrm>
            <a:custGeom>
              <a:avLst/>
              <a:gdLst/>
              <a:ahLst/>
              <a:rect l="l" t="t" r="r" b="b"/>
              <a:pathLst>
                <a:path w="21600" h="21600">
                  <a:moveTo>
                    <a:pt x="5643" y="21600"/>
                  </a:moveTo>
                  <a:cubicBezTo>
                    <a:pt x="4355" y="19819"/>
                    <a:pt x="3557" y="17381"/>
                    <a:pt x="3557" y="14693"/>
                  </a:cubicBezTo>
                  <a:cubicBezTo>
                    <a:pt x="3557" y="9257"/>
                    <a:pt x="6806" y="4837"/>
                    <a:pt x="10800" y="4837"/>
                  </a:cubicBezTo>
                  <a:cubicBezTo>
                    <a:pt x="14795" y="4837"/>
                    <a:pt x="18044" y="9257"/>
                    <a:pt x="18044" y="14693"/>
                  </a:cubicBezTo>
                  <a:cubicBezTo>
                    <a:pt x="18044" y="17381"/>
                    <a:pt x="17246" y="19819"/>
                    <a:pt x="15959" y="21600"/>
                  </a:cubicBezTo>
                  <a:lnTo>
                    <a:pt x="20327" y="21600"/>
                  </a:lnTo>
                  <a:cubicBezTo>
                    <a:pt x="21138" y="19539"/>
                    <a:pt x="21600" y="17187"/>
                    <a:pt x="21600" y="14693"/>
                  </a:cubicBezTo>
                  <a:cubicBezTo>
                    <a:pt x="21600" y="6592"/>
                    <a:pt x="16755" y="0"/>
                    <a:pt x="10800" y="0"/>
                  </a:cubicBezTo>
                  <a:cubicBezTo>
                    <a:pt x="4845" y="0"/>
                    <a:pt x="0" y="6592"/>
                    <a:pt x="0" y="14693"/>
                  </a:cubicBezTo>
                  <a:cubicBezTo>
                    <a:pt x="0" y="17187"/>
                    <a:pt x="463" y="19539"/>
                    <a:pt x="1275" y="21600"/>
                  </a:cubicBezTo>
                  <a:cubicBezTo>
                    <a:pt x="1275" y="21600"/>
                    <a:pt x="5643" y="21600"/>
                    <a:pt x="5643" y="21600"/>
                  </a:cubicBezTo>
                  <a:close/>
                  <a:moveTo>
                    <a:pt x="5643" y="21600"/>
                  </a:move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11" name="AutoShape 31"/>
            <p:cNvSpPr/>
            <p:nvPr/>
          </p:nvSpPr>
          <p:spPr>
            <a:xfrm>
              <a:off x="828720" y="3578040"/>
              <a:ext cx="47520" cy="120600"/>
            </a:xfrm>
            <a:custGeom>
              <a:avLst/>
              <a:gdLst/>
              <a:ahLst/>
              <a:rect l="l" t="t" r="r" b="b"/>
              <a:pathLst>
                <a:path w="21600" h="21600">
                  <a:moveTo>
                    <a:pt x="0" y="21600"/>
                  </a:moveTo>
                  <a:lnTo>
                    <a:pt x="21600" y="21600"/>
                  </a:lnTo>
                  <a:lnTo>
                    <a:pt x="10802" y="0"/>
                  </a:lnTo>
                  <a:cubicBezTo>
                    <a:pt x="10802" y="0"/>
                    <a:pt x="0" y="21600"/>
                    <a:pt x="0" y="21600"/>
                  </a:cubicBezTo>
                  <a:close/>
                  <a:moveTo>
                    <a:pt x="0" y="21600"/>
                  </a:moveTo>
                </a:path>
              </a:pathLst>
            </a:custGeom>
            <a:solidFill>
              <a:srgbClr val="8956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12" name="AutoShape 32"/>
            <p:cNvSpPr/>
            <p:nvPr/>
          </p:nvSpPr>
          <p:spPr>
            <a:xfrm>
              <a:off x="849240" y="3578040"/>
              <a:ext cx="23760" cy="120600"/>
            </a:xfrm>
            <a:custGeom>
              <a:avLst/>
              <a:gdLst/>
              <a:ahLst/>
              <a:rect l="l" t="t" r="r" b="b"/>
              <a:pathLst>
                <a:path w="21600" h="21600">
                  <a:moveTo>
                    <a:pt x="0" y="21600"/>
                  </a:moveTo>
                  <a:lnTo>
                    <a:pt x="21600" y="21600"/>
                  </a:lnTo>
                  <a:lnTo>
                    <a:pt x="0" y="0"/>
                  </a:lnTo>
                  <a:cubicBezTo>
                    <a:pt x="0" y="0"/>
                    <a:pt x="0" y="21600"/>
                    <a:pt x="0" y="21600"/>
                  </a:cubicBezTo>
                  <a:close/>
                  <a:moveTo>
                    <a:pt x="0" y="21600"/>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13" name="AutoShape 33"/>
            <p:cNvSpPr/>
            <p:nvPr/>
          </p:nvSpPr>
          <p:spPr>
            <a:xfrm>
              <a:off x="828720" y="3681720"/>
              <a:ext cx="47520" cy="47520"/>
            </a:xfrm>
            <a:custGeom>
              <a:avLst/>
              <a:gdLst/>
              <a:ahLst/>
              <a:rect l="l" t="t" r="r" b="b"/>
              <a:pathLst>
                <a:path w="21600" h="21600">
                  <a:moveTo>
                    <a:pt x="21600" y="10800"/>
                  </a:moveTo>
                  <a:cubicBezTo>
                    <a:pt x="21600" y="16764"/>
                    <a:pt x="16768" y="21600"/>
                    <a:pt x="10798" y="21600"/>
                  </a:cubicBezTo>
                  <a:cubicBezTo>
                    <a:pt x="4832" y="21600"/>
                    <a:pt x="0" y="16764"/>
                    <a:pt x="0" y="10800"/>
                  </a:cubicBezTo>
                  <a:cubicBezTo>
                    <a:pt x="0" y="4836"/>
                    <a:pt x="4832" y="0"/>
                    <a:pt x="10798" y="0"/>
                  </a:cubicBezTo>
                  <a:cubicBezTo>
                    <a:pt x="16768" y="0"/>
                    <a:pt x="21600" y="4836"/>
                    <a:pt x="21600" y="10800"/>
                  </a:cubicBez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14" name="AutoShape 34"/>
            <p:cNvSpPr/>
            <p:nvPr/>
          </p:nvSpPr>
          <p:spPr>
            <a:xfrm>
              <a:off x="1160640" y="3598560"/>
              <a:ext cx="88920" cy="113040"/>
            </a:xfrm>
            <a:custGeom>
              <a:avLst/>
              <a:gdLst/>
              <a:ahLst/>
              <a:rect l="l" t="t" r="r" b="b"/>
              <a:pathLst>
                <a:path w="21600" h="21600">
                  <a:moveTo>
                    <a:pt x="12262" y="21600"/>
                  </a:moveTo>
                  <a:lnTo>
                    <a:pt x="21600" y="16465"/>
                  </a:lnTo>
                  <a:lnTo>
                    <a:pt x="0" y="0"/>
                  </a:lnTo>
                  <a:cubicBezTo>
                    <a:pt x="0" y="0"/>
                    <a:pt x="12262" y="21600"/>
                    <a:pt x="12262" y="21600"/>
                  </a:cubicBezTo>
                  <a:close/>
                  <a:moveTo>
                    <a:pt x="12262" y="21600"/>
                  </a:moveTo>
                </a:path>
              </a:pathLst>
            </a:custGeom>
            <a:solidFill>
              <a:srgbClr val="6d8c59"/>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15" name="AutoShape 35"/>
            <p:cNvSpPr/>
            <p:nvPr/>
          </p:nvSpPr>
          <p:spPr>
            <a:xfrm>
              <a:off x="1160640" y="3598560"/>
              <a:ext cx="88920" cy="100080"/>
            </a:xfrm>
            <a:custGeom>
              <a:avLst/>
              <a:gdLst/>
              <a:ahLst/>
              <a:rect l="l" t="t" r="r" b="b"/>
              <a:pathLst>
                <a:path w="21600" h="21600">
                  <a:moveTo>
                    <a:pt x="16931" y="21600"/>
                  </a:moveTo>
                  <a:lnTo>
                    <a:pt x="21600" y="18686"/>
                  </a:lnTo>
                  <a:lnTo>
                    <a:pt x="0" y="0"/>
                  </a:lnTo>
                  <a:cubicBezTo>
                    <a:pt x="0" y="0"/>
                    <a:pt x="16931" y="21600"/>
                    <a:pt x="16931" y="21600"/>
                  </a:cubicBezTo>
                  <a:close/>
                  <a:moveTo>
                    <a:pt x="16931" y="21600"/>
                  </a:move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16" name="AutoShape 36"/>
            <p:cNvSpPr/>
            <p:nvPr/>
          </p:nvSpPr>
          <p:spPr>
            <a:xfrm>
              <a:off x="1212840" y="3681720"/>
              <a:ext cx="46080" cy="47520"/>
            </a:xfrm>
            <a:custGeom>
              <a:avLst/>
              <a:gdLst/>
              <a:ahLst/>
              <a:rect l="l" t="t" r="r" b="b"/>
              <a:pathLst>
                <a:path w="21600" h="21600">
                  <a:moveTo>
                    <a:pt x="21600" y="10800"/>
                  </a:moveTo>
                  <a:cubicBezTo>
                    <a:pt x="21600" y="16764"/>
                    <a:pt x="16764" y="21600"/>
                    <a:pt x="10795" y="21600"/>
                  </a:cubicBezTo>
                  <a:cubicBezTo>
                    <a:pt x="4836" y="21600"/>
                    <a:pt x="0" y="16764"/>
                    <a:pt x="0" y="10800"/>
                  </a:cubicBezTo>
                  <a:cubicBezTo>
                    <a:pt x="0" y="4836"/>
                    <a:pt x="4836" y="0"/>
                    <a:pt x="10795" y="0"/>
                  </a:cubicBezTo>
                  <a:cubicBezTo>
                    <a:pt x="16764" y="0"/>
                    <a:pt x="21600" y="4836"/>
                    <a:pt x="21600" y="10800"/>
                  </a:cubicBezTo>
                </a:path>
              </a:pathLst>
            </a:custGeom>
            <a:solidFill>
              <a:srgbClr val="baed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17" name="AutoShape 37"/>
            <p:cNvSpPr/>
            <p:nvPr/>
          </p:nvSpPr>
          <p:spPr>
            <a:xfrm>
              <a:off x="663480" y="3807000"/>
              <a:ext cx="728640" cy="206640"/>
            </a:xfrm>
            <a:custGeom>
              <a:avLst/>
              <a:gdLst/>
              <a:ahLst/>
              <a:rect l="l" t="t" r="r" b="b"/>
              <a:pathLst>
                <a:path w="21600" h="21600">
                  <a:moveTo>
                    <a:pt x="0" y="16320"/>
                  </a:moveTo>
                  <a:lnTo>
                    <a:pt x="1482" y="16320"/>
                  </a:lnTo>
                  <a:lnTo>
                    <a:pt x="2462" y="9241"/>
                  </a:lnTo>
                  <a:lnTo>
                    <a:pt x="4446" y="19611"/>
                  </a:lnTo>
                  <a:lnTo>
                    <a:pt x="7040" y="2811"/>
                  </a:lnTo>
                  <a:lnTo>
                    <a:pt x="8623" y="16320"/>
                  </a:lnTo>
                  <a:lnTo>
                    <a:pt x="10137" y="16320"/>
                  </a:lnTo>
                  <a:lnTo>
                    <a:pt x="11823" y="10423"/>
                  </a:lnTo>
                  <a:lnTo>
                    <a:pt x="14147" y="21600"/>
                  </a:lnTo>
                  <a:lnTo>
                    <a:pt x="17145" y="0"/>
                  </a:lnTo>
                  <a:lnTo>
                    <a:pt x="18661" y="14057"/>
                  </a:lnTo>
                  <a:lnTo>
                    <a:pt x="21600" y="14057"/>
                  </a:lnTo>
                </a:path>
              </a:pathLst>
            </a:custGeom>
            <a:noFill/>
            <a:ln w="30240">
              <a:solidFill>
                <a:srgbClr val="d47270"/>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
          <p:cNvSpPr/>
          <p:nvPr/>
        </p:nvSpPr>
        <p:spPr>
          <a:xfrm>
            <a:off x="861840" y="1601640"/>
            <a:ext cx="11273040" cy="1327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hasellus nec dui accumsan. Lorem ipsum dolor sit amet, consectetur adipiscing elit. Suspendisse hendrerit fermentum arcu, nec efficitur sem ultrices id. </a:t>
            </a:r>
            <a:endParaRPr b="0" lang="en-US" sz="2200" spc="-1" strike="noStrike">
              <a:solidFill>
                <a:srgbClr val="595959"/>
              </a:solidFill>
              <a:latin typeface="Lora"/>
            </a:endParaRPr>
          </a:p>
        </p:txBody>
      </p:sp>
      <p:sp>
        <p:nvSpPr>
          <p:cNvPr id="319" name="Line 2"/>
          <p:cNvSpPr/>
          <p:nvPr/>
        </p:nvSpPr>
        <p:spPr>
          <a:xfrm>
            <a:off x="1591560" y="4656240"/>
            <a:ext cx="9890280" cy="0"/>
          </a:xfrm>
          <a:prstGeom prst="line">
            <a:avLst/>
          </a:prstGeom>
          <a:ln w="38160">
            <a:solidFill>
              <a:srgbClr val="b7cc7c"/>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20" name="Oval 3"/>
          <p:cNvSpPr/>
          <p:nvPr/>
        </p:nvSpPr>
        <p:spPr>
          <a:xfrm>
            <a:off x="1360440" y="4425840"/>
            <a:ext cx="4507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21" name="Oval 4"/>
          <p:cNvSpPr/>
          <p:nvPr/>
        </p:nvSpPr>
        <p:spPr>
          <a:xfrm>
            <a:off x="2760840" y="4433760"/>
            <a:ext cx="450720" cy="45432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22" name="Oval 5"/>
          <p:cNvSpPr/>
          <p:nvPr/>
        </p:nvSpPr>
        <p:spPr>
          <a:xfrm>
            <a:off x="4168800" y="4433760"/>
            <a:ext cx="452520" cy="45432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23" name="Oval 6"/>
          <p:cNvSpPr/>
          <p:nvPr/>
        </p:nvSpPr>
        <p:spPr>
          <a:xfrm>
            <a:off x="5578560" y="4433760"/>
            <a:ext cx="450720" cy="45432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24" name="Rectangle 7"/>
          <p:cNvSpPr/>
          <p:nvPr/>
        </p:nvSpPr>
        <p:spPr>
          <a:xfrm>
            <a:off x="979560" y="3573360"/>
            <a:ext cx="1212840" cy="641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75</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325" name="Rectangle 8"/>
          <p:cNvSpPr/>
          <p:nvPr/>
        </p:nvSpPr>
        <p:spPr>
          <a:xfrm>
            <a:off x="2382840" y="3570120"/>
            <a:ext cx="121428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77</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326" name="Rectangle 9"/>
          <p:cNvSpPr/>
          <p:nvPr/>
        </p:nvSpPr>
        <p:spPr>
          <a:xfrm>
            <a:off x="3787920" y="3564000"/>
            <a:ext cx="1212840" cy="641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78</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327" name="Rectangle 10"/>
          <p:cNvSpPr/>
          <p:nvPr/>
        </p:nvSpPr>
        <p:spPr>
          <a:xfrm>
            <a:off x="5192640" y="3560760"/>
            <a:ext cx="1212840" cy="641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d4147"/>
                </a:solidFill>
                <a:latin typeface="Lora"/>
                <a:ea typeface="ＭＳ Ｐゴシック"/>
              </a:rPr>
              <a:t>75</a:t>
            </a:r>
            <a:r>
              <a:rPr b="0" lang="en-US" sz="1600" spc="-1" strike="noStrike">
                <a:solidFill>
                  <a:srgbClr val="3d4147"/>
                </a:solidFill>
                <a:latin typeface="Lora"/>
                <a:ea typeface="ＭＳ Ｐゴシック"/>
              </a:rPr>
              <a:t>%</a:t>
            </a:r>
            <a:endParaRPr b="0" lang="en-US" sz="1600" spc="-1" strike="noStrike">
              <a:solidFill>
                <a:srgbClr val="595959"/>
              </a:solidFill>
              <a:latin typeface="Lora"/>
            </a:endParaRPr>
          </a:p>
        </p:txBody>
      </p:sp>
      <p:sp>
        <p:nvSpPr>
          <p:cNvPr id="328" name="Rectangle 11"/>
          <p:cNvSpPr/>
          <p:nvPr/>
        </p:nvSpPr>
        <p:spPr>
          <a:xfrm>
            <a:off x="1157400" y="5046840"/>
            <a:ext cx="857160" cy="3870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1</a:t>
            </a:r>
            <a:endParaRPr b="0" lang="en-US" sz="1800" spc="-1" strike="noStrike">
              <a:solidFill>
                <a:srgbClr val="595959"/>
              </a:solidFill>
              <a:latin typeface="Lora"/>
            </a:endParaRPr>
          </a:p>
        </p:txBody>
      </p:sp>
      <p:sp>
        <p:nvSpPr>
          <p:cNvPr id="329" name="Rectangle 12"/>
          <p:cNvSpPr/>
          <p:nvPr/>
        </p:nvSpPr>
        <p:spPr>
          <a:xfrm>
            <a:off x="2560680" y="5046840"/>
            <a:ext cx="858960" cy="3870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2</a:t>
            </a:r>
            <a:endParaRPr b="0" lang="en-US" sz="1800" spc="-1" strike="noStrike">
              <a:solidFill>
                <a:srgbClr val="595959"/>
              </a:solidFill>
              <a:latin typeface="Lora"/>
            </a:endParaRPr>
          </a:p>
        </p:txBody>
      </p:sp>
      <p:sp>
        <p:nvSpPr>
          <p:cNvPr id="330" name="Rectangle 13"/>
          <p:cNvSpPr/>
          <p:nvPr/>
        </p:nvSpPr>
        <p:spPr>
          <a:xfrm>
            <a:off x="3965400" y="5046840"/>
            <a:ext cx="857520" cy="3870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3</a:t>
            </a:r>
            <a:endParaRPr b="0" lang="en-US" sz="1800" spc="-1" strike="noStrike">
              <a:solidFill>
                <a:srgbClr val="595959"/>
              </a:solidFill>
              <a:latin typeface="Lora"/>
            </a:endParaRPr>
          </a:p>
        </p:txBody>
      </p:sp>
      <p:sp>
        <p:nvSpPr>
          <p:cNvPr id="331" name="Rectangle 14"/>
          <p:cNvSpPr/>
          <p:nvPr/>
        </p:nvSpPr>
        <p:spPr>
          <a:xfrm>
            <a:off x="5370480" y="5019840"/>
            <a:ext cx="857160" cy="3888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4</a:t>
            </a:r>
            <a:endParaRPr b="0" lang="en-US" sz="1800" spc="-1" strike="noStrike">
              <a:solidFill>
                <a:srgbClr val="595959"/>
              </a:solidFill>
              <a:latin typeface="Lora"/>
            </a:endParaRPr>
          </a:p>
        </p:txBody>
      </p:sp>
      <p:sp>
        <p:nvSpPr>
          <p:cNvPr id="332" name="Rectangle 15"/>
          <p:cNvSpPr/>
          <p:nvPr/>
        </p:nvSpPr>
        <p:spPr>
          <a:xfrm>
            <a:off x="861840" y="6127920"/>
            <a:ext cx="5723280" cy="20142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Vestibulum tristique mattis felis, quis finibus quam venenatis quis. Suspendisse blandit lorem hendrerit, et dapibus lectus ante vitae enim. Vivamus tempor turpis.</a:t>
            </a:r>
            <a:endParaRPr b="0" lang="en-US" sz="2200" spc="-1" strike="noStrike">
              <a:solidFill>
                <a:srgbClr val="595959"/>
              </a:solidFill>
              <a:latin typeface="Lora"/>
            </a:endParaRPr>
          </a:p>
        </p:txBody>
      </p:sp>
      <p:grpSp>
        <p:nvGrpSpPr>
          <p:cNvPr id="333" name="Group 21"/>
          <p:cNvGrpSpPr/>
          <p:nvPr/>
        </p:nvGrpSpPr>
        <p:grpSpPr>
          <a:xfrm>
            <a:off x="6794640" y="3489480"/>
            <a:ext cx="5325840" cy="5023800"/>
            <a:chOff x="6794640" y="3489480"/>
            <a:chExt cx="5325840" cy="5023800"/>
          </a:xfrm>
        </p:grpSpPr>
        <p:sp>
          <p:nvSpPr>
            <p:cNvPr id="334" name="AutoShape 16"/>
            <p:cNvSpPr/>
            <p:nvPr/>
          </p:nvSpPr>
          <p:spPr>
            <a:xfrm>
              <a:off x="7522920" y="8165880"/>
              <a:ext cx="3860640" cy="347400"/>
            </a:xfrm>
            <a:prstGeom prst="roundRect">
              <a:avLst>
                <a:gd name="adj" fmla="val 47523"/>
              </a:avLst>
            </a:prstGeom>
            <a:solidFill>
              <a:srgbClr val="71717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35" name="AutoShape 17"/>
            <p:cNvSpPr/>
            <p:nvPr/>
          </p:nvSpPr>
          <p:spPr>
            <a:xfrm>
              <a:off x="9065880" y="6973560"/>
              <a:ext cx="792000" cy="280800"/>
            </a:xfrm>
            <a:custGeom>
              <a:avLst/>
              <a:gdLst/>
              <a:ahLst/>
              <a:rect l="l" t="t" r="r" b="b"/>
              <a:pathLst>
                <a:path w="21600" h="21600">
                  <a:moveTo>
                    <a:pt x="0" y="0"/>
                  </a:moveTo>
                  <a:cubicBezTo>
                    <a:pt x="0" y="8100"/>
                    <a:pt x="2257" y="15300"/>
                    <a:pt x="5803" y="18900"/>
                  </a:cubicBezTo>
                  <a:cubicBezTo>
                    <a:pt x="7415" y="20700"/>
                    <a:pt x="9027" y="21600"/>
                    <a:pt x="10639" y="21600"/>
                  </a:cubicBezTo>
                  <a:cubicBezTo>
                    <a:pt x="12573" y="21600"/>
                    <a:pt x="14185" y="20700"/>
                    <a:pt x="15797" y="18900"/>
                  </a:cubicBezTo>
                  <a:cubicBezTo>
                    <a:pt x="19343" y="15300"/>
                    <a:pt x="21600" y="8100"/>
                    <a:pt x="21600" y="0"/>
                  </a:cubicBezTo>
                  <a:cubicBezTo>
                    <a:pt x="14507" y="0"/>
                    <a:pt x="14507" y="0"/>
                    <a:pt x="14507" y="0"/>
                  </a:cubicBezTo>
                  <a:cubicBezTo>
                    <a:pt x="10639" y="0"/>
                    <a:pt x="10639" y="0"/>
                    <a:pt x="10639" y="0"/>
                  </a:cubicBezTo>
                  <a:cubicBezTo>
                    <a:pt x="7093" y="0"/>
                    <a:pt x="7093" y="0"/>
                    <a:pt x="7093" y="0"/>
                  </a:cubicBezTo>
                  <a:lnTo>
                    <a:pt x="0" y="0"/>
                  </a:lnTo>
                  <a:close/>
                  <a:moveTo>
                    <a:pt x="0" y="0"/>
                  </a:moveTo>
                </a:path>
              </a:pathLst>
            </a:custGeom>
            <a:solidFill>
              <a:srgbClr val="a5a5a5"/>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36" name="AutoShape 18"/>
            <p:cNvSpPr/>
            <p:nvPr/>
          </p:nvSpPr>
          <p:spPr>
            <a:xfrm>
              <a:off x="8772480" y="7221240"/>
              <a:ext cx="1379160" cy="1060200"/>
            </a:xfrm>
            <a:custGeom>
              <a:avLst/>
              <a:gdLst/>
              <a:ahLst/>
              <a:rect l="l" t="t" r="r" b="b"/>
              <a:pathLst>
                <a:path w="21600" h="21600">
                  <a:moveTo>
                    <a:pt x="10708" y="720"/>
                  </a:moveTo>
                  <a:cubicBezTo>
                    <a:pt x="9785" y="720"/>
                    <a:pt x="8862" y="480"/>
                    <a:pt x="7938" y="0"/>
                  </a:cubicBezTo>
                  <a:cubicBezTo>
                    <a:pt x="6092" y="9120"/>
                    <a:pt x="1477" y="18480"/>
                    <a:pt x="0" y="21600"/>
                  </a:cubicBezTo>
                  <a:cubicBezTo>
                    <a:pt x="10708" y="21600"/>
                    <a:pt x="10708" y="21600"/>
                    <a:pt x="10708" y="21600"/>
                  </a:cubicBezTo>
                  <a:cubicBezTo>
                    <a:pt x="21600" y="21600"/>
                    <a:pt x="21600" y="21600"/>
                    <a:pt x="21600" y="21600"/>
                  </a:cubicBezTo>
                  <a:cubicBezTo>
                    <a:pt x="19938" y="18480"/>
                    <a:pt x="15692" y="9120"/>
                    <a:pt x="13662" y="0"/>
                  </a:cubicBezTo>
                  <a:cubicBezTo>
                    <a:pt x="12738" y="480"/>
                    <a:pt x="11815" y="720"/>
                    <a:pt x="10708" y="720"/>
                  </a:cubicBezTo>
                  <a:close/>
                  <a:moveTo>
                    <a:pt x="10708" y="720"/>
                  </a:moveTo>
                </a:path>
              </a:pathLst>
            </a:custGeom>
            <a:solidFill>
              <a:srgbClr val="7f7f7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37" name="AutoShape 19"/>
            <p:cNvSpPr/>
            <p:nvPr/>
          </p:nvSpPr>
          <p:spPr>
            <a:xfrm>
              <a:off x="6794640" y="3489480"/>
              <a:ext cx="5325840" cy="3584160"/>
            </a:xfrm>
            <a:custGeom>
              <a:avLst/>
              <a:gdLst/>
              <a:ahLst/>
              <a:rect l="l" t="t" r="r" b="b"/>
              <a:pathLst>
                <a:path w="21600" h="21600">
                  <a:moveTo>
                    <a:pt x="21600" y="20636"/>
                  </a:moveTo>
                  <a:cubicBezTo>
                    <a:pt x="21600" y="21168"/>
                    <a:pt x="21376" y="21600"/>
                    <a:pt x="21108" y="21600"/>
                  </a:cubicBezTo>
                  <a:cubicBezTo>
                    <a:pt x="514" y="21600"/>
                    <a:pt x="514" y="21600"/>
                    <a:pt x="514" y="21600"/>
                  </a:cubicBezTo>
                  <a:cubicBezTo>
                    <a:pt x="224" y="21600"/>
                    <a:pt x="0" y="21168"/>
                    <a:pt x="0" y="20636"/>
                  </a:cubicBezTo>
                  <a:cubicBezTo>
                    <a:pt x="0" y="964"/>
                    <a:pt x="0" y="964"/>
                    <a:pt x="0" y="964"/>
                  </a:cubicBezTo>
                  <a:cubicBezTo>
                    <a:pt x="0" y="432"/>
                    <a:pt x="224" y="0"/>
                    <a:pt x="514" y="0"/>
                  </a:cubicBezTo>
                  <a:cubicBezTo>
                    <a:pt x="21108" y="0"/>
                    <a:pt x="21108" y="0"/>
                    <a:pt x="21108" y="0"/>
                  </a:cubicBezTo>
                  <a:cubicBezTo>
                    <a:pt x="21376" y="0"/>
                    <a:pt x="21600" y="432"/>
                    <a:pt x="21600" y="964"/>
                  </a:cubicBezTo>
                  <a:lnTo>
                    <a:pt x="21600" y="20636"/>
                  </a:lnTo>
                  <a:close/>
                  <a:moveTo>
                    <a:pt x="21600" y="20636"/>
                  </a:moveTo>
                </a:path>
              </a:pathLst>
            </a:custGeom>
            <a:solidFill>
              <a:srgbClr val="67666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38" name="Rectangle 20"/>
            <p:cNvSpPr/>
            <p:nvPr/>
          </p:nvSpPr>
          <p:spPr>
            <a:xfrm>
              <a:off x="7040520" y="3736800"/>
              <a:ext cx="4851000" cy="2984040"/>
            </a:xfrm>
            <a:prstGeom prst="rect">
              <a:avLst/>
            </a:prstGeom>
            <a:solidFill>
              <a:srgbClr val="34333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sp>
        <p:nvSpPr>
          <p:cNvPr id="339" name="Rectangle 22"/>
          <p:cNvSpPr/>
          <p:nvPr/>
        </p:nvSpPr>
        <p:spPr>
          <a:xfrm>
            <a:off x="8048880" y="4838760"/>
            <a:ext cx="27615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0f0f3"/>
                </a:solidFill>
                <a:latin typeface="Lora Bold"/>
                <a:ea typeface="ＭＳ Ｐゴシック"/>
              </a:rPr>
              <a:t>Your Text</a:t>
            </a:r>
            <a:endParaRPr b="0" lang="en-US" sz="4800" spc="-1" strike="noStrike">
              <a:solidFill>
                <a:srgbClr val="595959"/>
              </a:solidFill>
              <a:latin typeface="Lora"/>
            </a:endParaRPr>
          </a:p>
        </p:txBody>
      </p:sp>
      <p:sp>
        <p:nvSpPr>
          <p:cNvPr id="340" name="Rectangle 23"/>
          <p:cNvSpPr/>
          <p:nvPr/>
        </p:nvSpPr>
        <p:spPr>
          <a:xfrm>
            <a:off x="825120" y="628560"/>
            <a:ext cx="36806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Timeline (·4·)</a:t>
            </a:r>
            <a:endParaRPr b="0" lang="en-US" sz="4800" spc="-1" strike="noStrike">
              <a:solidFill>
                <a:srgbClr val="595959"/>
              </a:solidFill>
              <a:latin typeface="Lora"/>
            </a:endParaRPr>
          </a:p>
        </p:txBody>
      </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861840" y="1601640"/>
            <a:ext cx="11273040" cy="1327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hasellus nec dui accumsan. Lorem ipsum dolor sit amet, consectetur adipiscing elit. Suspendisse hendrerit fermentum arcu, nec efficitur sem ultrices id. </a:t>
            </a:r>
            <a:endParaRPr b="0" lang="en-US" sz="2200" spc="-1" strike="noStrike">
              <a:solidFill>
                <a:srgbClr val="595959"/>
              </a:solidFill>
              <a:latin typeface="Lora"/>
            </a:endParaRPr>
          </a:p>
        </p:txBody>
      </p:sp>
      <p:sp>
        <p:nvSpPr>
          <p:cNvPr id="342" name="Line 2"/>
          <p:cNvSpPr/>
          <p:nvPr/>
        </p:nvSpPr>
        <p:spPr>
          <a:xfrm>
            <a:off x="1591560" y="5545080"/>
            <a:ext cx="9890280" cy="0"/>
          </a:xfrm>
          <a:prstGeom prst="line">
            <a:avLst/>
          </a:prstGeom>
          <a:ln w="38160">
            <a:solidFill>
              <a:srgbClr val="5a697c"/>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43" name="Oval 3"/>
          <p:cNvSpPr/>
          <p:nvPr/>
        </p:nvSpPr>
        <p:spPr>
          <a:xfrm>
            <a:off x="1271520" y="5251320"/>
            <a:ext cx="571680" cy="57492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44" name="Oval 4"/>
          <p:cNvSpPr/>
          <p:nvPr/>
        </p:nvSpPr>
        <p:spPr>
          <a:xfrm>
            <a:off x="2709720" y="5234040"/>
            <a:ext cx="571680" cy="57456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45" name="Oval 5"/>
          <p:cNvSpPr/>
          <p:nvPr/>
        </p:nvSpPr>
        <p:spPr>
          <a:xfrm>
            <a:off x="9728280" y="5259240"/>
            <a:ext cx="571320" cy="57492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46" name="Oval 6"/>
          <p:cNvSpPr/>
          <p:nvPr/>
        </p:nvSpPr>
        <p:spPr>
          <a:xfrm>
            <a:off x="11161800" y="5259240"/>
            <a:ext cx="571320" cy="57492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47" name="Rectangle 7"/>
          <p:cNvSpPr/>
          <p:nvPr/>
        </p:nvSpPr>
        <p:spPr>
          <a:xfrm>
            <a:off x="979560" y="4462560"/>
            <a:ext cx="1212840" cy="641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a697c"/>
                </a:solidFill>
                <a:latin typeface="Lora"/>
                <a:ea typeface="ＭＳ Ｐゴシック"/>
              </a:rPr>
              <a:t>75</a:t>
            </a:r>
            <a:r>
              <a:rPr b="0" lang="en-US" sz="1600" spc="-1" strike="noStrike">
                <a:solidFill>
                  <a:srgbClr val="5a697c"/>
                </a:solidFill>
                <a:latin typeface="Lora"/>
                <a:ea typeface="ＭＳ Ｐゴシック"/>
              </a:rPr>
              <a:t>%</a:t>
            </a:r>
            <a:endParaRPr b="0" lang="en-US" sz="1600" spc="-1" strike="noStrike">
              <a:solidFill>
                <a:srgbClr val="595959"/>
              </a:solidFill>
              <a:latin typeface="Lora"/>
            </a:endParaRPr>
          </a:p>
        </p:txBody>
      </p:sp>
      <p:sp>
        <p:nvSpPr>
          <p:cNvPr id="348" name="Rectangle 8"/>
          <p:cNvSpPr/>
          <p:nvPr/>
        </p:nvSpPr>
        <p:spPr>
          <a:xfrm>
            <a:off x="2382840" y="4459320"/>
            <a:ext cx="121428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a697c"/>
                </a:solidFill>
                <a:latin typeface="Lora"/>
                <a:ea typeface="ＭＳ Ｐゴシック"/>
              </a:rPr>
              <a:t>77</a:t>
            </a:r>
            <a:r>
              <a:rPr b="0" lang="en-US" sz="1600" spc="-1" strike="noStrike">
                <a:solidFill>
                  <a:srgbClr val="5a697c"/>
                </a:solidFill>
                <a:latin typeface="Lora"/>
                <a:ea typeface="ＭＳ Ｐゴシック"/>
              </a:rPr>
              <a:t>%</a:t>
            </a:r>
            <a:endParaRPr b="0" lang="en-US" sz="1600" spc="-1" strike="noStrike">
              <a:solidFill>
                <a:srgbClr val="595959"/>
              </a:solidFill>
              <a:latin typeface="Lora"/>
            </a:endParaRPr>
          </a:p>
        </p:txBody>
      </p:sp>
      <p:sp>
        <p:nvSpPr>
          <p:cNvPr id="349" name="Rectangle 9"/>
          <p:cNvSpPr/>
          <p:nvPr/>
        </p:nvSpPr>
        <p:spPr>
          <a:xfrm>
            <a:off x="9406080" y="4437000"/>
            <a:ext cx="121428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a697c"/>
                </a:solidFill>
                <a:latin typeface="Lora"/>
                <a:ea typeface="ＭＳ Ｐゴシック"/>
              </a:rPr>
              <a:t>83</a:t>
            </a:r>
            <a:r>
              <a:rPr b="0" lang="en-US" sz="1600" spc="-1" strike="noStrike">
                <a:solidFill>
                  <a:srgbClr val="5a697c"/>
                </a:solidFill>
                <a:latin typeface="Lora"/>
                <a:ea typeface="ＭＳ Ｐゴシック"/>
              </a:rPr>
              <a:t>%</a:t>
            </a:r>
            <a:endParaRPr b="0" lang="en-US" sz="1600" spc="-1" strike="noStrike">
              <a:solidFill>
                <a:srgbClr val="595959"/>
              </a:solidFill>
              <a:latin typeface="Lora"/>
            </a:endParaRPr>
          </a:p>
        </p:txBody>
      </p:sp>
      <p:sp>
        <p:nvSpPr>
          <p:cNvPr id="350" name="Rectangle 10"/>
          <p:cNvSpPr/>
          <p:nvPr/>
        </p:nvSpPr>
        <p:spPr>
          <a:xfrm>
            <a:off x="10810800" y="4435560"/>
            <a:ext cx="1212840" cy="641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a697c"/>
                </a:solidFill>
                <a:latin typeface="Lora"/>
                <a:ea typeface="ＭＳ Ｐゴシック"/>
              </a:rPr>
              <a:t>65</a:t>
            </a:r>
            <a:r>
              <a:rPr b="0" lang="en-US" sz="1600" spc="-1" strike="noStrike">
                <a:solidFill>
                  <a:srgbClr val="5a697c"/>
                </a:solidFill>
                <a:latin typeface="Lora"/>
                <a:ea typeface="ＭＳ Ｐゴシック"/>
              </a:rPr>
              <a:t>%</a:t>
            </a:r>
            <a:endParaRPr b="0" lang="en-US" sz="1600" spc="-1" strike="noStrike">
              <a:solidFill>
                <a:srgbClr val="595959"/>
              </a:solidFill>
              <a:latin typeface="Lora"/>
            </a:endParaRPr>
          </a:p>
        </p:txBody>
      </p:sp>
      <p:sp>
        <p:nvSpPr>
          <p:cNvPr id="351" name="Rectangle 11"/>
          <p:cNvSpPr/>
          <p:nvPr/>
        </p:nvSpPr>
        <p:spPr>
          <a:xfrm>
            <a:off x="1131840" y="5935680"/>
            <a:ext cx="8571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1</a:t>
            </a:r>
            <a:endParaRPr b="0" lang="en-US" sz="1800" spc="-1" strike="noStrike">
              <a:solidFill>
                <a:srgbClr val="595959"/>
              </a:solidFill>
              <a:latin typeface="Lora"/>
            </a:endParaRPr>
          </a:p>
        </p:txBody>
      </p:sp>
      <p:sp>
        <p:nvSpPr>
          <p:cNvPr id="352" name="Rectangle 12"/>
          <p:cNvSpPr/>
          <p:nvPr/>
        </p:nvSpPr>
        <p:spPr>
          <a:xfrm>
            <a:off x="2585880" y="5935680"/>
            <a:ext cx="8589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2</a:t>
            </a:r>
            <a:endParaRPr b="0" lang="en-US" sz="1800" spc="-1" strike="noStrike">
              <a:solidFill>
                <a:srgbClr val="595959"/>
              </a:solidFill>
              <a:latin typeface="Lora"/>
            </a:endParaRPr>
          </a:p>
        </p:txBody>
      </p:sp>
      <p:sp>
        <p:nvSpPr>
          <p:cNvPr id="353" name="Rectangle 13"/>
          <p:cNvSpPr/>
          <p:nvPr/>
        </p:nvSpPr>
        <p:spPr>
          <a:xfrm>
            <a:off x="9583560" y="5943600"/>
            <a:ext cx="8589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7</a:t>
            </a:r>
            <a:endParaRPr b="0" lang="en-US" sz="1800" spc="-1" strike="noStrike">
              <a:solidFill>
                <a:srgbClr val="595959"/>
              </a:solidFill>
              <a:latin typeface="Lora"/>
            </a:endParaRPr>
          </a:p>
        </p:txBody>
      </p:sp>
      <p:sp>
        <p:nvSpPr>
          <p:cNvPr id="354" name="Rectangle 14"/>
          <p:cNvSpPr/>
          <p:nvPr/>
        </p:nvSpPr>
        <p:spPr>
          <a:xfrm>
            <a:off x="11014200" y="5943600"/>
            <a:ext cx="8571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a:ea typeface="ＭＳ Ｐゴシック"/>
              </a:rPr>
              <a:t>1998</a:t>
            </a:r>
            <a:endParaRPr b="0" lang="en-US" sz="1800" spc="-1" strike="noStrike">
              <a:solidFill>
                <a:srgbClr val="595959"/>
              </a:solidFill>
              <a:latin typeface="Lora"/>
            </a:endParaRPr>
          </a:p>
        </p:txBody>
      </p:sp>
      <p:grpSp>
        <p:nvGrpSpPr>
          <p:cNvPr id="355" name="Group 17"/>
          <p:cNvGrpSpPr/>
          <p:nvPr/>
        </p:nvGrpSpPr>
        <p:grpSpPr>
          <a:xfrm>
            <a:off x="4707000" y="3736800"/>
            <a:ext cx="3611520" cy="3611520"/>
            <a:chOff x="4707000" y="3736800"/>
            <a:chExt cx="3611520" cy="3611520"/>
          </a:xfrm>
        </p:grpSpPr>
        <p:sp>
          <p:nvSpPr>
            <p:cNvPr id="356" name="Oval 15"/>
            <p:cNvSpPr/>
            <p:nvPr/>
          </p:nvSpPr>
          <p:spPr>
            <a:xfrm>
              <a:off x="4707000" y="3736800"/>
              <a:ext cx="3611520" cy="361152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57" name="Oval 16"/>
            <p:cNvSpPr/>
            <p:nvPr/>
          </p:nvSpPr>
          <p:spPr>
            <a:xfrm>
              <a:off x="5149800" y="4170240"/>
              <a:ext cx="2708280" cy="2708280"/>
            </a:xfrm>
            <a:prstGeom prst="ellipse">
              <a:avLst/>
            </a:prstGeom>
            <a:solidFill>
              <a:srgbClr val="b7cc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sp>
        <p:nvSpPr>
          <p:cNvPr id="358" name="Rectangle 18"/>
          <p:cNvSpPr/>
          <p:nvPr/>
        </p:nvSpPr>
        <p:spPr>
          <a:xfrm>
            <a:off x="822600" y="628560"/>
            <a:ext cx="36806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Timeline (·5·)</a:t>
            </a:r>
            <a:endParaRPr b="0" lang="en-US" sz="4800" spc="-1" strike="noStrike">
              <a:solidFill>
                <a:srgbClr val="595959"/>
              </a:solidFill>
              <a:latin typeface="Lora"/>
            </a:endParaRPr>
          </a:p>
        </p:txBody>
      </p:sp>
      <p:grpSp>
        <p:nvGrpSpPr>
          <p:cNvPr id="359" name="Group 24"/>
          <p:cNvGrpSpPr/>
          <p:nvPr/>
        </p:nvGrpSpPr>
        <p:grpSpPr>
          <a:xfrm>
            <a:off x="6121440" y="4317840"/>
            <a:ext cx="1554120" cy="1554120"/>
            <a:chOff x="6121440" y="4317840"/>
            <a:chExt cx="1554120" cy="1554120"/>
          </a:xfrm>
        </p:grpSpPr>
        <p:sp>
          <p:nvSpPr>
            <p:cNvPr id="360" name="AutoShape 19"/>
            <p:cNvSpPr/>
            <p:nvPr/>
          </p:nvSpPr>
          <p:spPr>
            <a:xfrm>
              <a:off x="6121440" y="4317840"/>
              <a:ext cx="1554120" cy="1554120"/>
            </a:xfrm>
            <a:custGeom>
              <a:avLst/>
              <a:gdLst/>
              <a:ahLst/>
              <a:rect l="l" t="t" r="r" b="b"/>
              <a:pathLst>
                <a:path w="21600" h="21600">
                  <a:moveTo>
                    <a:pt x="21600" y="17992"/>
                  </a:moveTo>
                  <a:lnTo>
                    <a:pt x="12511" y="9050"/>
                  </a:lnTo>
                  <a:cubicBezTo>
                    <a:pt x="12003" y="8550"/>
                    <a:pt x="11674" y="7897"/>
                    <a:pt x="11574" y="7191"/>
                  </a:cubicBezTo>
                  <a:cubicBezTo>
                    <a:pt x="11280" y="5120"/>
                    <a:pt x="10937" y="2964"/>
                    <a:pt x="9619" y="1646"/>
                  </a:cubicBezTo>
                  <a:cubicBezTo>
                    <a:pt x="8558" y="585"/>
                    <a:pt x="7178" y="38"/>
                    <a:pt x="5787" y="0"/>
                  </a:cubicBezTo>
                  <a:lnTo>
                    <a:pt x="5515" y="272"/>
                  </a:lnTo>
                  <a:lnTo>
                    <a:pt x="8167" y="2923"/>
                  </a:lnTo>
                  <a:cubicBezTo>
                    <a:pt x="8277" y="3033"/>
                    <a:pt x="8320" y="3193"/>
                    <a:pt x="8279" y="3343"/>
                  </a:cubicBezTo>
                  <a:lnTo>
                    <a:pt x="7301" y="6994"/>
                  </a:lnTo>
                  <a:cubicBezTo>
                    <a:pt x="7261" y="7144"/>
                    <a:pt x="7144" y="7261"/>
                    <a:pt x="6994" y="7301"/>
                  </a:cubicBezTo>
                  <a:lnTo>
                    <a:pt x="3343" y="8279"/>
                  </a:lnTo>
                  <a:cubicBezTo>
                    <a:pt x="3193" y="8320"/>
                    <a:pt x="3033" y="8277"/>
                    <a:pt x="2923" y="8167"/>
                  </a:cubicBezTo>
                  <a:lnTo>
                    <a:pt x="272" y="5515"/>
                  </a:lnTo>
                  <a:lnTo>
                    <a:pt x="0" y="5787"/>
                  </a:lnTo>
                  <a:cubicBezTo>
                    <a:pt x="38" y="7178"/>
                    <a:pt x="585" y="8557"/>
                    <a:pt x="1647" y="9619"/>
                  </a:cubicBezTo>
                  <a:cubicBezTo>
                    <a:pt x="2975" y="10948"/>
                    <a:pt x="5025" y="11351"/>
                    <a:pt x="7087" y="11709"/>
                  </a:cubicBezTo>
                  <a:cubicBezTo>
                    <a:pt x="7761" y="11826"/>
                    <a:pt x="8383" y="12146"/>
                    <a:pt x="8871" y="12626"/>
                  </a:cubicBezTo>
                  <a:lnTo>
                    <a:pt x="17992" y="21600"/>
                  </a:lnTo>
                  <a:cubicBezTo>
                    <a:pt x="17992" y="21600"/>
                    <a:pt x="21600" y="17992"/>
                    <a:pt x="21600" y="17992"/>
                  </a:cubicBezTo>
                  <a:close/>
                  <a:moveTo>
                    <a:pt x="21600" y="17992"/>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61" name="AutoShape 20"/>
            <p:cNvSpPr/>
            <p:nvPr/>
          </p:nvSpPr>
          <p:spPr>
            <a:xfrm>
              <a:off x="6172200" y="4381200"/>
              <a:ext cx="487440" cy="487440"/>
            </a:xfrm>
            <a:custGeom>
              <a:avLst/>
              <a:gdLst/>
              <a:ahLst/>
              <a:rect l="l" t="t" r="r" b="b"/>
              <a:pathLst>
                <a:path w="21467" h="21466">
                  <a:moveTo>
                    <a:pt x="7657" y="15085"/>
                  </a:moveTo>
                  <a:cubicBezTo>
                    <a:pt x="4655" y="12931"/>
                    <a:pt x="4655" y="8535"/>
                    <a:pt x="7657" y="6380"/>
                  </a:cubicBezTo>
                  <a:cubicBezTo>
                    <a:pt x="9474" y="5076"/>
                    <a:pt x="11992" y="5076"/>
                    <a:pt x="13809" y="6380"/>
                  </a:cubicBezTo>
                  <a:cubicBezTo>
                    <a:pt x="16810" y="8535"/>
                    <a:pt x="16811" y="12931"/>
                    <a:pt x="13809" y="15085"/>
                  </a:cubicBezTo>
                  <a:cubicBezTo>
                    <a:pt x="11992" y="16390"/>
                    <a:pt x="9474" y="16390"/>
                    <a:pt x="7657" y="15085"/>
                  </a:cubicBezTo>
                  <a:moveTo>
                    <a:pt x="21132" y="7355"/>
                  </a:moveTo>
                  <a:lnTo>
                    <a:pt x="14111" y="334"/>
                  </a:lnTo>
                  <a:cubicBezTo>
                    <a:pt x="13822" y="46"/>
                    <a:pt x="13401" y="-67"/>
                    <a:pt x="13007" y="39"/>
                  </a:cubicBezTo>
                  <a:lnTo>
                    <a:pt x="3416" y="2608"/>
                  </a:lnTo>
                  <a:cubicBezTo>
                    <a:pt x="3022" y="2714"/>
                    <a:pt x="2714" y="3022"/>
                    <a:pt x="2608" y="3416"/>
                  </a:cubicBezTo>
                  <a:lnTo>
                    <a:pt x="38" y="13007"/>
                  </a:lnTo>
                  <a:cubicBezTo>
                    <a:pt x="-67" y="13401"/>
                    <a:pt x="46" y="13822"/>
                    <a:pt x="334" y="14110"/>
                  </a:cubicBezTo>
                  <a:lnTo>
                    <a:pt x="7355" y="21131"/>
                  </a:lnTo>
                  <a:cubicBezTo>
                    <a:pt x="7644" y="21420"/>
                    <a:pt x="8064" y="21533"/>
                    <a:pt x="8459" y="21427"/>
                  </a:cubicBezTo>
                  <a:lnTo>
                    <a:pt x="18050" y="18858"/>
                  </a:lnTo>
                  <a:cubicBezTo>
                    <a:pt x="18444" y="18751"/>
                    <a:pt x="18751" y="18444"/>
                    <a:pt x="18857" y="18050"/>
                  </a:cubicBezTo>
                  <a:lnTo>
                    <a:pt x="21428" y="8459"/>
                  </a:lnTo>
                  <a:cubicBezTo>
                    <a:pt x="21533" y="8064"/>
                    <a:pt x="21420" y="7644"/>
                    <a:pt x="21132" y="7355"/>
                  </a:cubicBez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62" name="AutoShape 21"/>
            <p:cNvSpPr/>
            <p:nvPr/>
          </p:nvSpPr>
          <p:spPr>
            <a:xfrm>
              <a:off x="6172200" y="4381200"/>
              <a:ext cx="487440" cy="487440"/>
            </a:xfrm>
            <a:custGeom>
              <a:avLst/>
              <a:gdLst/>
              <a:ahLst/>
              <a:rect l="l" t="t" r="r" b="b"/>
              <a:pathLst>
                <a:path w="21467" h="21466">
                  <a:moveTo>
                    <a:pt x="7657" y="15085"/>
                  </a:moveTo>
                  <a:cubicBezTo>
                    <a:pt x="4655" y="12931"/>
                    <a:pt x="4655" y="8535"/>
                    <a:pt x="7657" y="6380"/>
                  </a:cubicBezTo>
                  <a:cubicBezTo>
                    <a:pt x="9474" y="5076"/>
                    <a:pt x="11992" y="5076"/>
                    <a:pt x="13809" y="6380"/>
                  </a:cubicBezTo>
                  <a:cubicBezTo>
                    <a:pt x="16810" y="8535"/>
                    <a:pt x="16811" y="12931"/>
                    <a:pt x="13809" y="15085"/>
                  </a:cubicBezTo>
                  <a:cubicBezTo>
                    <a:pt x="11992" y="16390"/>
                    <a:pt x="9474" y="16390"/>
                    <a:pt x="7657" y="15085"/>
                  </a:cubicBezTo>
                  <a:close/>
                  <a:moveTo>
                    <a:pt x="21132" y="7355"/>
                  </a:moveTo>
                  <a:lnTo>
                    <a:pt x="14111" y="334"/>
                  </a:lnTo>
                  <a:cubicBezTo>
                    <a:pt x="13822" y="46"/>
                    <a:pt x="13401" y="-67"/>
                    <a:pt x="13007" y="39"/>
                  </a:cubicBezTo>
                  <a:lnTo>
                    <a:pt x="3416" y="2608"/>
                  </a:lnTo>
                  <a:cubicBezTo>
                    <a:pt x="3022" y="2714"/>
                    <a:pt x="2714" y="3022"/>
                    <a:pt x="2608" y="3416"/>
                  </a:cubicBezTo>
                  <a:lnTo>
                    <a:pt x="38" y="13007"/>
                  </a:lnTo>
                  <a:cubicBezTo>
                    <a:pt x="-67" y="13401"/>
                    <a:pt x="46" y="13822"/>
                    <a:pt x="334" y="14110"/>
                  </a:cubicBezTo>
                  <a:lnTo>
                    <a:pt x="7355" y="21131"/>
                  </a:lnTo>
                  <a:cubicBezTo>
                    <a:pt x="7644" y="21420"/>
                    <a:pt x="8064" y="21533"/>
                    <a:pt x="8459" y="21427"/>
                  </a:cubicBezTo>
                  <a:lnTo>
                    <a:pt x="18050" y="18858"/>
                  </a:lnTo>
                  <a:cubicBezTo>
                    <a:pt x="18444" y="18751"/>
                    <a:pt x="18751" y="18444"/>
                    <a:pt x="18857" y="18050"/>
                  </a:cubicBezTo>
                  <a:lnTo>
                    <a:pt x="21428" y="8459"/>
                  </a:lnTo>
                  <a:cubicBezTo>
                    <a:pt x="21533" y="8064"/>
                    <a:pt x="21420" y="7644"/>
                    <a:pt x="21132" y="7355"/>
                  </a:cubicBezTo>
                  <a:close/>
                  <a:moveTo>
                    <a:pt x="21132" y="7355"/>
                  </a:moveTo>
                </a:path>
              </a:pathLst>
            </a:custGeom>
            <a:noFill/>
            <a:ln w="12600">
              <a:solidFill>
                <a:srgbClr val="ffef9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63" name="AutoShape 22"/>
            <p:cNvSpPr/>
            <p:nvPr/>
          </p:nvSpPr>
          <p:spPr>
            <a:xfrm>
              <a:off x="6121440" y="4317840"/>
              <a:ext cx="817560" cy="814320"/>
            </a:xfrm>
            <a:custGeom>
              <a:avLst/>
              <a:gdLst/>
              <a:ahLst/>
              <a:rect l="l" t="t" r="r" b="b"/>
              <a:pathLst>
                <a:path w="20846" h="20935">
                  <a:moveTo>
                    <a:pt x="20320" y="14532"/>
                  </a:moveTo>
                  <a:cubicBezTo>
                    <a:pt x="21600" y="10290"/>
                    <a:pt x="20482" y="5919"/>
                    <a:pt x="17636" y="3047"/>
                  </a:cubicBezTo>
                  <a:cubicBezTo>
                    <a:pt x="15690" y="1082"/>
                    <a:pt x="13161" y="69"/>
                    <a:pt x="10610" y="0"/>
                  </a:cubicBezTo>
                  <a:lnTo>
                    <a:pt x="10112" y="503"/>
                  </a:lnTo>
                  <a:lnTo>
                    <a:pt x="14974" y="5409"/>
                  </a:lnTo>
                  <a:cubicBezTo>
                    <a:pt x="15175" y="5612"/>
                    <a:pt x="15254" y="5909"/>
                    <a:pt x="15180" y="6186"/>
                  </a:cubicBezTo>
                  <a:lnTo>
                    <a:pt x="13387" y="12942"/>
                  </a:lnTo>
                  <a:cubicBezTo>
                    <a:pt x="13313" y="13219"/>
                    <a:pt x="13098" y="13436"/>
                    <a:pt x="12823" y="13511"/>
                  </a:cubicBezTo>
                  <a:lnTo>
                    <a:pt x="6129" y="15321"/>
                  </a:lnTo>
                  <a:cubicBezTo>
                    <a:pt x="5855" y="15395"/>
                    <a:pt x="5561" y="15316"/>
                    <a:pt x="5360" y="15113"/>
                  </a:cubicBezTo>
                  <a:lnTo>
                    <a:pt x="498" y="10206"/>
                  </a:lnTo>
                  <a:lnTo>
                    <a:pt x="0" y="10709"/>
                  </a:lnTo>
                  <a:cubicBezTo>
                    <a:pt x="69" y="13282"/>
                    <a:pt x="1072" y="15835"/>
                    <a:pt x="3019" y="17799"/>
                  </a:cubicBezTo>
                  <a:cubicBezTo>
                    <a:pt x="5864" y="20671"/>
                    <a:pt x="9976" y="21600"/>
                    <a:pt x="14282" y="20462"/>
                  </a:cubicBezTo>
                  <a:cubicBezTo>
                    <a:pt x="16597" y="19850"/>
                    <a:pt x="19622" y="16842"/>
                    <a:pt x="20320" y="14532"/>
                  </a:cubicBezTo>
                </a:path>
              </a:pathLst>
            </a:custGeom>
            <a:solidFill>
              <a:srgbClr val="74c8f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64" name="AutoShape 23"/>
            <p:cNvSpPr/>
            <p:nvPr/>
          </p:nvSpPr>
          <p:spPr>
            <a:xfrm>
              <a:off x="6907320" y="5118120"/>
              <a:ext cx="601560" cy="599760"/>
            </a:xfrm>
            <a:custGeom>
              <a:avLst/>
              <a:gdLst/>
              <a:ahLst/>
              <a:rect l="l" t="t" r="r" b="b"/>
              <a:pathLst>
                <a:path w="21022" h="21022">
                  <a:moveTo>
                    <a:pt x="15926" y="20154"/>
                  </a:moveTo>
                  <a:lnTo>
                    <a:pt x="867" y="5096"/>
                  </a:lnTo>
                  <a:cubicBezTo>
                    <a:pt x="-289" y="3940"/>
                    <a:pt x="-289" y="2066"/>
                    <a:pt x="867" y="910"/>
                  </a:cubicBezTo>
                  <a:lnTo>
                    <a:pt x="909" y="867"/>
                  </a:lnTo>
                  <a:cubicBezTo>
                    <a:pt x="2065" y="-289"/>
                    <a:pt x="3940" y="-289"/>
                    <a:pt x="5096" y="867"/>
                  </a:cubicBezTo>
                  <a:lnTo>
                    <a:pt x="20155" y="15926"/>
                  </a:lnTo>
                  <a:cubicBezTo>
                    <a:pt x="21311" y="17082"/>
                    <a:pt x="21311" y="18956"/>
                    <a:pt x="20155" y="20112"/>
                  </a:cubicBezTo>
                  <a:lnTo>
                    <a:pt x="20113" y="20154"/>
                  </a:lnTo>
                  <a:cubicBezTo>
                    <a:pt x="18957" y="21311"/>
                    <a:pt x="17082" y="21311"/>
                    <a:pt x="15926" y="20154"/>
                  </a:cubicBezTo>
                </a:path>
              </a:pathLst>
            </a:custGeom>
            <a:solidFill>
              <a:srgbClr val="005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365" name="Rectangle 25"/>
          <p:cNvSpPr/>
          <p:nvPr/>
        </p:nvSpPr>
        <p:spPr>
          <a:xfrm>
            <a:off x="5521680" y="5095800"/>
            <a:ext cx="1524600" cy="1402200"/>
          </a:xfrm>
          <a:prstGeom prst="rect">
            <a:avLst/>
          </a:prstGeom>
          <a:noFill/>
          <a:ln w="0">
            <a:noFill/>
          </a:ln>
        </p:spPr>
        <p:style>
          <a:lnRef idx="0"/>
          <a:fillRef idx="0"/>
          <a:effectRef idx="0"/>
          <a:fontRef idx="minor"/>
        </p:style>
        <p:txBody>
          <a:bodyPr wrap="none" lIns="72360" rIns="72360" tIns="72360" bIns="7236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1a1a1a"/>
                </a:solidFill>
                <a:latin typeface="Lora"/>
                <a:ea typeface="ＭＳ Ｐゴシック"/>
              </a:rPr>
              <a:t>98%</a:t>
            </a:r>
            <a:endParaRPr b="0" lang="en-US" sz="5500" spc="-1" strike="noStrike">
              <a:solidFill>
                <a:srgbClr val="595959"/>
              </a:solidFill>
              <a:latin typeface="Lora"/>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Line 1"/>
          <p:cNvSpPr/>
          <p:nvPr/>
        </p:nvSpPr>
        <p:spPr>
          <a:xfrm>
            <a:off x="1591560" y="5925960"/>
            <a:ext cx="9890280" cy="0"/>
          </a:xfrm>
          <a:prstGeom prst="line">
            <a:avLst/>
          </a:prstGeom>
          <a:ln w="38160">
            <a:solidFill>
              <a:srgbClr val="5a697c"/>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67" name="Rectangle 2"/>
          <p:cNvSpPr/>
          <p:nvPr/>
        </p:nvSpPr>
        <p:spPr>
          <a:xfrm>
            <a:off x="861840" y="1601640"/>
            <a:ext cx="11273040" cy="1670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hasellus nec dui accumsan. Lorem ipsum dolor sit amet, consectetur adipiscing elit. Suspendisse hendrerit fermentum arcu, nec efficitur sem ultrices id. Praesent quis magna viverra turpis rutrum pellentesque in ac nulla. </a:t>
            </a:r>
            <a:endParaRPr b="0" lang="en-US" sz="2200" spc="-1" strike="noStrike">
              <a:solidFill>
                <a:srgbClr val="595959"/>
              </a:solidFill>
              <a:latin typeface="Lora"/>
            </a:endParaRPr>
          </a:p>
        </p:txBody>
      </p:sp>
      <p:sp>
        <p:nvSpPr>
          <p:cNvPr id="368" name="AutoShape 3"/>
          <p:cNvSpPr/>
          <p:nvPr/>
        </p:nvSpPr>
        <p:spPr>
          <a:xfrm>
            <a:off x="2670120" y="5369040"/>
            <a:ext cx="1119240" cy="111420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69" name="AutoShape 4"/>
          <p:cNvSpPr/>
          <p:nvPr/>
        </p:nvSpPr>
        <p:spPr>
          <a:xfrm>
            <a:off x="1028880" y="5372280"/>
            <a:ext cx="1118880" cy="111276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70" name="AutoShape 5"/>
          <p:cNvSpPr/>
          <p:nvPr/>
        </p:nvSpPr>
        <p:spPr>
          <a:xfrm>
            <a:off x="4229280" y="4660920"/>
            <a:ext cx="2425680" cy="241452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3d414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71" name="AutoShape 6"/>
          <p:cNvSpPr/>
          <p:nvPr/>
        </p:nvSpPr>
        <p:spPr>
          <a:xfrm>
            <a:off x="7099200" y="5372280"/>
            <a:ext cx="1119240" cy="111276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72" name="AutoShape 7"/>
          <p:cNvSpPr/>
          <p:nvPr/>
        </p:nvSpPr>
        <p:spPr>
          <a:xfrm>
            <a:off x="8864640" y="5372280"/>
            <a:ext cx="1119240" cy="111276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73" name="AutoShape 8"/>
          <p:cNvSpPr/>
          <p:nvPr/>
        </p:nvSpPr>
        <p:spPr>
          <a:xfrm>
            <a:off x="10630080" y="5372280"/>
            <a:ext cx="1118880" cy="111276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74" name="Rectangle 9"/>
          <p:cNvSpPr/>
          <p:nvPr/>
        </p:nvSpPr>
        <p:spPr>
          <a:xfrm>
            <a:off x="979560" y="5618160"/>
            <a:ext cx="1212840" cy="641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75</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375" name="Rectangle 10"/>
          <p:cNvSpPr/>
          <p:nvPr/>
        </p:nvSpPr>
        <p:spPr>
          <a:xfrm>
            <a:off x="2662200" y="5614920"/>
            <a:ext cx="121464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77</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376" name="Rectangle 11"/>
          <p:cNvSpPr/>
          <p:nvPr/>
        </p:nvSpPr>
        <p:spPr>
          <a:xfrm>
            <a:off x="7081920" y="5592600"/>
            <a:ext cx="121428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83</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377" name="Rectangle 12"/>
          <p:cNvSpPr/>
          <p:nvPr/>
        </p:nvSpPr>
        <p:spPr>
          <a:xfrm>
            <a:off x="8842320" y="5591160"/>
            <a:ext cx="1212840" cy="641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65</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378" name="Rectangle 13"/>
          <p:cNvSpPr/>
          <p:nvPr/>
        </p:nvSpPr>
        <p:spPr>
          <a:xfrm>
            <a:off x="10604520" y="5600880"/>
            <a:ext cx="1212840" cy="641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65</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379" name="Rectangle 14"/>
          <p:cNvSpPr/>
          <p:nvPr/>
        </p:nvSpPr>
        <p:spPr>
          <a:xfrm>
            <a:off x="4871160" y="5295960"/>
            <a:ext cx="12621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0f0f3"/>
                </a:solidFill>
                <a:latin typeface="Lora Bold"/>
                <a:ea typeface="ＭＳ Ｐゴシック"/>
              </a:rPr>
              <a:t>Text</a:t>
            </a:r>
            <a:endParaRPr b="0" lang="en-US" sz="4800" spc="-1" strike="noStrike">
              <a:solidFill>
                <a:srgbClr val="595959"/>
              </a:solidFill>
              <a:latin typeface="Lora"/>
            </a:endParaRPr>
          </a:p>
        </p:txBody>
      </p:sp>
      <p:sp>
        <p:nvSpPr>
          <p:cNvPr id="380" name="Rectangle 15"/>
          <p:cNvSpPr/>
          <p:nvPr/>
        </p:nvSpPr>
        <p:spPr>
          <a:xfrm>
            <a:off x="833760" y="628560"/>
            <a:ext cx="36806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Timeline (·6·)</a:t>
            </a:r>
            <a:endParaRPr b="0" lang="en-US" sz="4800" spc="-1" strike="noStrike">
              <a:solidFill>
                <a:srgbClr val="595959"/>
              </a:solidFill>
              <a:latin typeface="Lora"/>
            </a:endParaRPr>
          </a:p>
        </p:txBody>
      </p:sp>
      <p:grpSp>
        <p:nvGrpSpPr>
          <p:cNvPr id="381" name="Group 22"/>
          <p:cNvGrpSpPr/>
          <p:nvPr/>
        </p:nvGrpSpPr>
        <p:grpSpPr>
          <a:xfrm>
            <a:off x="5054760" y="6159600"/>
            <a:ext cx="799920" cy="1279440"/>
            <a:chOff x="5054760" y="6159600"/>
            <a:chExt cx="799920" cy="1279440"/>
          </a:xfrm>
        </p:grpSpPr>
        <p:sp>
          <p:nvSpPr>
            <p:cNvPr id="382" name="AutoShape 16"/>
            <p:cNvSpPr/>
            <p:nvPr/>
          </p:nvSpPr>
          <p:spPr>
            <a:xfrm>
              <a:off x="5054760" y="6159600"/>
              <a:ext cx="799920" cy="1279440"/>
            </a:xfrm>
            <a:custGeom>
              <a:avLst/>
              <a:gdLst/>
              <a:ahLst/>
              <a:rect l="l" t="t" r="r" b="b"/>
              <a:pathLst>
                <a:path w="21600" h="21600">
                  <a:moveTo>
                    <a:pt x="11802" y="12108"/>
                  </a:moveTo>
                  <a:cubicBezTo>
                    <a:pt x="11475" y="12128"/>
                    <a:pt x="11154" y="12147"/>
                    <a:pt x="10800" y="12147"/>
                  </a:cubicBezTo>
                  <a:cubicBezTo>
                    <a:pt x="10447" y="12147"/>
                    <a:pt x="10125" y="12128"/>
                    <a:pt x="9799" y="12108"/>
                  </a:cubicBezTo>
                  <a:cubicBezTo>
                    <a:pt x="5495" y="11798"/>
                    <a:pt x="2163" y="9518"/>
                    <a:pt x="2163" y="6749"/>
                  </a:cubicBezTo>
                  <a:cubicBezTo>
                    <a:pt x="2163" y="3767"/>
                    <a:pt x="6028" y="1352"/>
                    <a:pt x="10800" y="1352"/>
                  </a:cubicBezTo>
                  <a:cubicBezTo>
                    <a:pt x="15567" y="1352"/>
                    <a:pt x="19437" y="3767"/>
                    <a:pt x="19437" y="6749"/>
                  </a:cubicBezTo>
                  <a:cubicBezTo>
                    <a:pt x="19437" y="9518"/>
                    <a:pt x="16100" y="11798"/>
                    <a:pt x="11802" y="12108"/>
                  </a:cubicBezTo>
                  <a:moveTo>
                    <a:pt x="10800" y="0"/>
                  </a:moveTo>
                  <a:cubicBezTo>
                    <a:pt x="4836" y="0"/>
                    <a:pt x="0" y="3022"/>
                    <a:pt x="0" y="6749"/>
                  </a:cubicBezTo>
                  <a:cubicBezTo>
                    <a:pt x="0" y="11476"/>
                    <a:pt x="10800" y="21600"/>
                    <a:pt x="10800" y="21600"/>
                  </a:cubicBezTo>
                  <a:cubicBezTo>
                    <a:pt x="10800" y="21600"/>
                    <a:pt x="21600" y="11476"/>
                    <a:pt x="21600" y="6749"/>
                  </a:cubicBezTo>
                  <a:cubicBezTo>
                    <a:pt x="21600" y="3022"/>
                    <a:pt x="16764" y="0"/>
                    <a:pt x="10800" y="0"/>
                  </a:cubicBez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83" name="AutoShape 17"/>
            <p:cNvSpPr/>
            <p:nvPr/>
          </p:nvSpPr>
          <p:spPr>
            <a:xfrm>
              <a:off x="5270400" y="6299280"/>
              <a:ext cx="174240" cy="157320"/>
            </a:xfrm>
            <a:custGeom>
              <a:avLst/>
              <a:gdLst/>
              <a:ahLst/>
              <a:rect l="l" t="t" r="r" b="b"/>
              <a:pathLst>
                <a:path w="21600" h="21600">
                  <a:moveTo>
                    <a:pt x="21600" y="0"/>
                  </a:moveTo>
                  <a:cubicBezTo>
                    <a:pt x="13187" y="398"/>
                    <a:pt x="5598" y="4322"/>
                    <a:pt x="0" y="10475"/>
                  </a:cubicBezTo>
                  <a:lnTo>
                    <a:pt x="10231" y="21600"/>
                  </a:lnTo>
                  <a:cubicBezTo>
                    <a:pt x="13226" y="18387"/>
                    <a:pt x="17194" y="16302"/>
                    <a:pt x="21600" y="15928"/>
                  </a:cubicBezTo>
                  <a:cubicBezTo>
                    <a:pt x="21600" y="15928"/>
                    <a:pt x="21600" y="0"/>
                    <a:pt x="21600" y="0"/>
                  </a:cubicBezTo>
                  <a:close/>
                  <a:moveTo>
                    <a:pt x="21600" y="0"/>
                  </a:moveTo>
                </a:path>
              </a:pathLst>
            </a:custGeom>
            <a:solidFill>
              <a:srgbClr val="74c8f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84" name="AutoShape 18"/>
            <p:cNvSpPr/>
            <p:nvPr/>
          </p:nvSpPr>
          <p:spPr>
            <a:xfrm>
              <a:off x="5473440" y="6297840"/>
              <a:ext cx="253800" cy="263520"/>
            </a:xfrm>
            <a:custGeom>
              <a:avLst/>
              <a:gdLst/>
              <a:ahLst/>
              <a:rect l="l" t="t" r="r" b="b"/>
              <a:pathLst>
                <a:path w="21600" h="21600">
                  <a:moveTo>
                    <a:pt x="0" y="9559"/>
                  </a:moveTo>
                  <a:cubicBezTo>
                    <a:pt x="6498" y="10037"/>
                    <a:pt x="11624" y="15225"/>
                    <a:pt x="11722" y="21600"/>
                  </a:cubicBezTo>
                  <a:lnTo>
                    <a:pt x="21600" y="21600"/>
                  </a:lnTo>
                  <a:cubicBezTo>
                    <a:pt x="21499" y="9958"/>
                    <a:pt x="11955" y="492"/>
                    <a:pt x="0" y="0"/>
                  </a:cubicBezTo>
                  <a:cubicBezTo>
                    <a:pt x="0" y="0"/>
                    <a:pt x="0" y="9559"/>
                    <a:pt x="0" y="9559"/>
                  </a:cubicBezTo>
                  <a:close/>
                  <a:moveTo>
                    <a:pt x="0" y="9559"/>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85" name="AutoShape 19"/>
            <p:cNvSpPr/>
            <p:nvPr/>
          </p:nvSpPr>
          <p:spPr>
            <a:xfrm>
              <a:off x="5244840" y="6654960"/>
              <a:ext cx="118800" cy="123840"/>
            </a:xfrm>
            <a:custGeom>
              <a:avLst/>
              <a:gdLst/>
              <a:ahLst/>
              <a:rect l="l" t="t" r="r" b="b"/>
              <a:pathLst>
                <a:path w="21600" h="21600">
                  <a:moveTo>
                    <a:pt x="21600" y="4097"/>
                  </a:moveTo>
                  <a:cubicBezTo>
                    <a:pt x="19890" y="2910"/>
                    <a:pt x="18333" y="1535"/>
                    <a:pt x="16954" y="0"/>
                  </a:cubicBezTo>
                  <a:lnTo>
                    <a:pt x="0" y="11836"/>
                  </a:lnTo>
                  <a:cubicBezTo>
                    <a:pt x="3138" y="15627"/>
                    <a:pt x="6878" y="18925"/>
                    <a:pt x="11085" y="21600"/>
                  </a:cubicBezTo>
                  <a:cubicBezTo>
                    <a:pt x="11085" y="21600"/>
                    <a:pt x="21600" y="4097"/>
                    <a:pt x="21600" y="4097"/>
                  </a:cubicBezTo>
                  <a:close/>
                  <a:moveTo>
                    <a:pt x="21600" y="4097"/>
                  </a:moveTo>
                </a:path>
              </a:pathLst>
            </a:custGeom>
            <a:solidFill>
              <a:srgbClr val="7c424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86" name="AutoShape 20"/>
            <p:cNvSpPr/>
            <p:nvPr/>
          </p:nvSpPr>
          <p:spPr>
            <a:xfrm>
              <a:off x="5332320" y="6578640"/>
              <a:ext cx="391680" cy="244440"/>
            </a:xfrm>
            <a:custGeom>
              <a:avLst/>
              <a:gdLst/>
              <a:ahLst/>
              <a:rect l="l" t="t" r="r" b="b"/>
              <a:pathLst>
                <a:path w="21600" h="21600">
                  <a:moveTo>
                    <a:pt x="15137" y="0"/>
                  </a:moveTo>
                  <a:cubicBezTo>
                    <a:pt x="14576" y="6414"/>
                    <a:pt x="11133" y="11356"/>
                    <a:pt x="6956" y="11356"/>
                  </a:cubicBezTo>
                  <a:cubicBezTo>
                    <a:pt x="5618" y="11356"/>
                    <a:pt x="4357" y="10837"/>
                    <a:pt x="3238" y="9937"/>
                  </a:cubicBezTo>
                  <a:lnTo>
                    <a:pt x="0" y="18811"/>
                  </a:lnTo>
                  <a:cubicBezTo>
                    <a:pt x="2071" y="20589"/>
                    <a:pt x="4439" y="21600"/>
                    <a:pt x="6956" y="21600"/>
                  </a:cubicBezTo>
                  <a:cubicBezTo>
                    <a:pt x="14684" y="21600"/>
                    <a:pt x="21014" y="12083"/>
                    <a:pt x="21600" y="0"/>
                  </a:cubicBezTo>
                  <a:cubicBezTo>
                    <a:pt x="21600" y="0"/>
                    <a:pt x="15137" y="0"/>
                    <a:pt x="15137" y="0"/>
                  </a:cubicBezTo>
                  <a:close/>
                  <a:moveTo>
                    <a:pt x="15137" y="0"/>
                  </a:moveTo>
                </a:path>
              </a:pathLst>
            </a:custGeom>
            <a:solidFill>
              <a:srgbClr val="b391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87" name="AutoShape 21"/>
            <p:cNvSpPr/>
            <p:nvPr/>
          </p:nvSpPr>
          <p:spPr>
            <a:xfrm>
              <a:off x="5194080" y="6388200"/>
              <a:ext cx="145800" cy="318960"/>
            </a:xfrm>
            <a:custGeom>
              <a:avLst/>
              <a:gdLst/>
              <a:ahLst/>
              <a:rect l="l" t="t" r="r" b="b"/>
              <a:pathLst>
                <a:path w="21600" h="21600">
                  <a:moveTo>
                    <a:pt x="20502" y="16997"/>
                  </a:moveTo>
                  <a:cubicBezTo>
                    <a:pt x="18364" y="15439"/>
                    <a:pt x="17110" y="13600"/>
                    <a:pt x="17110" y="11623"/>
                  </a:cubicBezTo>
                  <a:cubicBezTo>
                    <a:pt x="17110" y="9329"/>
                    <a:pt x="18795" y="7220"/>
                    <a:pt x="21600" y="5524"/>
                  </a:cubicBezTo>
                  <a:lnTo>
                    <a:pt x="9308" y="0"/>
                  </a:lnTo>
                  <a:cubicBezTo>
                    <a:pt x="3507" y="3133"/>
                    <a:pt x="0" y="7189"/>
                    <a:pt x="0" y="11623"/>
                  </a:cubicBezTo>
                  <a:cubicBezTo>
                    <a:pt x="0" y="15316"/>
                    <a:pt x="2427" y="18746"/>
                    <a:pt x="6589" y="21600"/>
                  </a:cubicBezTo>
                  <a:cubicBezTo>
                    <a:pt x="6589" y="21600"/>
                    <a:pt x="20502" y="16997"/>
                    <a:pt x="20502" y="16997"/>
                  </a:cubicBezTo>
                  <a:close/>
                  <a:moveTo>
                    <a:pt x="20502" y="16997"/>
                  </a:move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Oval 1"/>
          <p:cNvSpPr/>
          <p:nvPr/>
        </p:nvSpPr>
        <p:spPr>
          <a:xfrm>
            <a:off x="1360440" y="5187960"/>
            <a:ext cx="4507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89" name="Rectangle 2"/>
          <p:cNvSpPr/>
          <p:nvPr/>
        </p:nvSpPr>
        <p:spPr>
          <a:xfrm>
            <a:off x="1157400" y="5808600"/>
            <a:ext cx="85716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1991</a:t>
            </a:r>
            <a:endParaRPr b="0" lang="en-US" sz="1800" spc="-1" strike="noStrike">
              <a:solidFill>
                <a:srgbClr val="595959"/>
              </a:solidFill>
              <a:latin typeface="Lora"/>
            </a:endParaRPr>
          </a:p>
        </p:txBody>
      </p:sp>
      <p:sp>
        <p:nvSpPr>
          <p:cNvPr id="390" name="Line 3"/>
          <p:cNvSpPr/>
          <p:nvPr/>
        </p:nvSpPr>
        <p:spPr>
          <a:xfrm>
            <a:off x="1591560" y="5418000"/>
            <a:ext cx="9890280" cy="0"/>
          </a:xfrm>
          <a:prstGeom prst="line">
            <a:avLst/>
          </a:prstGeom>
          <a:ln w="38160">
            <a:solidFill>
              <a:srgbClr val="9ab737"/>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91" name="Oval 4"/>
          <p:cNvSpPr/>
          <p:nvPr/>
        </p:nvSpPr>
        <p:spPr>
          <a:xfrm>
            <a:off x="2760840" y="5195880"/>
            <a:ext cx="4507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92" name="Oval 5"/>
          <p:cNvSpPr/>
          <p:nvPr/>
        </p:nvSpPr>
        <p:spPr>
          <a:xfrm>
            <a:off x="4168800" y="5195880"/>
            <a:ext cx="4525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93" name="Oval 6"/>
          <p:cNvSpPr/>
          <p:nvPr/>
        </p:nvSpPr>
        <p:spPr>
          <a:xfrm>
            <a:off x="5578560" y="5195880"/>
            <a:ext cx="4507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94" name="Oval 7"/>
          <p:cNvSpPr/>
          <p:nvPr/>
        </p:nvSpPr>
        <p:spPr>
          <a:xfrm>
            <a:off x="6986520" y="5195880"/>
            <a:ext cx="45108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95" name="Oval 8"/>
          <p:cNvSpPr/>
          <p:nvPr/>
        </p:nvSpPr>
        <p:spPr>
          <a:xfrm>
            <a:off x="8396280" y="5195880"/>
            <a:ext cx="4507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96" name="Oval 9"/>
          <p:cNvSpPr/>
          <p:nvPr/>
        </p:nvSpPr>
        <p:spPr>
          <a:xfrm>
            <a:off x="9804240" y="5195880"/>
            <a:ext cx="45108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397" name="Oval 10"/>
          <p:cNvSpPr/>
          <p:nvPr/>
        </p:nvSpPr>
        <p:spPr>
          <a:xfrm>
            <a:off x="11212560" y="5195880"/>
            <a:ext cx="4525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nvGrpSpPr>
          <p:cNvPr id="398" name="Group 13"/>
          <p:cNvGrpSpPr/>
          <p:nvPr/>
        </p:nvGrpSpPr>
        <p:grpSpPr>
          <a:xfrm>
            <a:off x="2287440" y="2873520"/>
            <a:ext cx="1390680" cy="2477520"/>
            <a:chOff x="2287440" y="2873520"/>
            <a:chExt cx="1390680" cy="2477520"/>
          </a:xfrm>
        </p:grpSpPr>
        <p:sp>
          <p:nvSpPr>
            <p:cNvPr id="399" name="Rectangle 11"/>
            <p:cNvSpPr/>
            <p:nvPr/>
          </p:nvSpPr>
          <p:spPr>
            <a:xfrm>
              <a:off x="2958840" y="4214160"/>
              <a:ext cx="88920" cy="1136880"/>
            </a:xfrm>
            <a:prstGeom prst="rect">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00" name="AutoShape 12"/>
            <p:cNvSpPr/>
            <p:nvPr/>
          </p:nvSpPr>
          <p:spPr>
            <a:xfrm>
              <a:off x="2287440" y="2873520"/>
              <a:ext cx="1390680" cy="138492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401" name="Rectangle 14"/>
          <p:cNvSpPr/>
          <p:nvPr/>
        </p:nvSpPr>
        <p:spPr>
          <a:xfrm>
            <a:off x="2585880" y="2424240"/>
            <a:ext cx="85896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1992</a:t>
            </a:r>
            <a:endParaRPr b="0" lang="en-US" sz="1800" spc="-1" strike="noStrike">
              <a:solidFill>
                <a:srgbClr val="595959"/>
              </a:solidFill>
              <a:latin typeface="Lora"/>
            </a:endParaRPr>
          </a:p>
        </p:txBody>
      </p:sp>
      <p:sp>
        <p:nvSpPr>
          <p:cNvPr id="402" name="Rectangle 15"/>
          <p:cNvSpPr/>
          <p:nvPr/>
        </p:nvSpPr>
        <p:spPr>
          <a:xfrm>
            <a:off x="4038480" y="2809800"/>
            <a:ext cx="3676680" cy="1670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Suspendisse hendrerit fermentum arcu, nec efficitur sem ultrices id. </a:t>
            </a:r>
            <a:endParaRPr b="0" lang="en-US" sz="2200" spc="-1" strike="noStrike">
              <a:solidFill>
                <a:srgbClr val="595959"/>
              </a:solidFill>
              <a:latin typeface="Lora"/>
            </a:endParaRPr>
          </a:p>
        </p:txBody>
      </p:sp>
      <p:grpSp>
        <p:nvGrpSpPr>
          <p:cNvPr id="403" name="Group 18"/>
          <p:cNvGrpSpPr/>
          <p:nvPr/>
        </p:nvGrpSpPr>
        <p:grpSpPr>
          <a:xfrm>
            <a:off x="3725640" y="5326200"/>
            <a:ext cx="1390680" cy="2477520"/>
            <a:chOff x="3725640" y="5326200"/>
            <a:chExt cx="1390680" cy="2477520"/>
          </a:xfrm>
        </p:grpSpPr>
        <p:sp>
          <p:nvSpPr>
            <p:cNvPr id="404" name="Rectangle 16"/>
            <p:cNvSpPr/>
            <p:nvPr/>
          </p:nvSpPr>
          <p:spPr>
            <a:xfrm rot="10800000">
              <a:off x="4356000" y="5326200"/>
              <a:ext cx="88920" cy="1136880"/>
            </a:xfrm>
            <a:prstGeom prst="rect">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05" name="AutoShape 17"/>
            <p:cNvSpPr/>
            <p:nvPr/>
          </p:nvSpPr>
          <p:spPr>
            <a:xfrm rot="10800000">
              <a:off x="3725640" y="6418800"/>
              <a:ext cx="1390680" cy="138492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406" name="Rectangle 19"/>
          <p:cNvSpPr/>
          <p:nvPr/>
        </p:nvSpPr>
        <p:spPr>
          <a:xfrm>
            <a:off x="4017960" y="7858080"/>
            <a:ext cx="85716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1993</a:t>
            </a:r>
            <a:endParaRPr b="0" lang="en-US" sz="1800" spc="-1" strike="noStrike">
              <a:solidFill>
                <a:srgbClr val="595959"/>
              </a:solidFill>
              <a:latin typeface="Lora"/>
            </a:endParaRPr>
          </a:p>
        </p:txBody>
      </p:sp>
      <p:grpSp>
        <p:nvGrpSpPr>
          <p:cNvPr id="407" name="Group 22"/>
          <p:cNvGrpSpPr/>
          <p:nvPr/>
        </p:nvGrpSpPr>
        <p:grpSpPr>
          <a:xfrm>
            <a:off x="7915320" y="2870280"/>
            <a:ext cx="1390680" cy="2476440"/>
            <a:chOff x="7915320" y="2870280"/>
            <a:chExt cx="1390680" cy="2476440"/>
          </a:xfrm>
        </p:grpSpPr>
        <p:sp>
          <p:nvSpPr>
            <p:cNvPr id="408" name="Rectangle 20"/>
            <p:cNvSpPr/>
            <p:nvPr/>
          </p:nvSpPr>
          <p:spPr>
            <a:xfrm>
              <a:off x="8586720" y="4210200"/>
              <a:ext cx="88920" cy="1136520"/>
            </a:xfrm>
            <a:prstGeom prst="rect">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09" name="AutoShape 21"/>
            <p:cNvSpPr/>
            <p:nvPr/>
          </p:nvSpPr>
          <p:spPr>
            <a:xfrm>
              <a:off x="7915320" y="2870280"/>
              <a:ext cx="1390680" cy="138420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410" name="Rectangle 23"/>
          <p:cNvSpPr/>
          <p:nvPr/>
        </p:nvSpPr>
        <p:spPr>
          <a:xfrm>
            <a:off x="8180280" y="2436840"/>
            <a:ext cx="85752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1996</a:t>
            </a:r>
            <a:endParaRPr b="0" lang="en-US" sz="1800" spc="-1" strike="noStrike">
              <a:solidFill>
                <a:srgbClr val="595959"/>
              </a:solidFill>
              <a:latin typeface="Lora"/>
            </a:endParaRPr>
          </a:p>
        </p:txBody>
      </p:sp>
      <p:sp>
        <p:nvSpPr>
          <p:cNvPr id="411" name="Rectangle 24"/>
          <p:cNvSpPr/>
          <p:nvPr/>
        </p:nvSpPr>
        <p:spPr>
          <a:xfrm>
            <a:off x="9672480" y="7861320"/>
            <a:ext cx="85896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1997</a:t>
            </a:r>
            <a:endParaRPr b="0" lang="en-US" sz="1800" spc="-1" strike="noStrike">
              <a:solidFill>
                <a:srgbClr val="595959"/>
              </a:solidFill>
              <a:latin typeface="Lora"/>
            </a:endParaRPr>
          </a:p>
        </p:txBody>
      </p:sp>
      <p:grpSp>
        <p:nvGrpSpPr>
          <p:cNvPr id="412" name="Group 27"/>
          <p:cNvGrpSpPr/>
          <p:nvPr/>
        </p:nvGrpSpPr>
        <p:grpSpPr>
          <a:xfrm>
            <a:off x="9375480" y="5326200"/>
            <a:ext cx="1390680" cy="2477520"/>
            <a:chOff x="9375480" y="5326200"/>
            <a:chExt cx="1390680" cy="2477520"/>
          </a:xfrm>
        </p:grpSpPr>
        <p:sp>
          <p:nvSpPr>
            <p:cNvPr id="413" name="Rectangle 25"/>
            <p:cNvSpPr/>
            <p:nvPr/>
          </p:nvSpPr>
          <p:spPr>
            <a:xfrm rot="10800000">
              <a:off x="10005840" y="5326200"/>
              <a:ext cx="88920" cy="1136880"/>
            </a:xfrm>
            <a:prstGeom prst="rect">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14" name="AutoShape 26"/>
            <p:cNvSpPr/>
            <p:nvPr/>
          </p:nvSpPr>
          <p:spPr>
            <a:xfrm rot="10800000">
              <a:off x="9375480" y="6418800"/>
              <a:ext cx="1390680" cy="138492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415" name="Rectangle 28"/>
          <p:cNvSpPr/>
          <p:nvPr/>
        </p:nvSpPr>
        <p:spPr>
          <a:xfrm>
            <a:off x="5624640" y="6219720"/>
            <a:ext cx="3676680" cy="1327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Suspendisse hendrerit fermentum arcus.</a:t>
            </a:r>
            <a:endParaRPr b="0" lang="en-US" sz="2200" spc="-1" strike="noStrike">
              <a:solidFill>
                <a:srgbClr val="595959"/>
              </a:solidFill>
              <a:latin typeface="Lora"/>
            </a:endParaRPr>
          </a:p>
        </p:txBody>
      </p:sp>
      <p:sp>
        <p:nvSpPr>
          <p:cNvPr id="416" name="Rectangle 29"/>
          <p:cNvSpPr/>
          <p:nvPr/>
        </p:nvSpPr>
        <p:spPr>
          <a:xfrm>
            <a:off x="777600" y="628560"/>
            <a:ext cx="36806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Timeline (·7·)</a:t>
            </a:r>
            <a:endParaRPr b="0" lang="en-US" sz="4800" spc="-1" strike="noStrike">
              <a:solidFill>
                <a:srgbClr val="595959"/>
              </a:solidFill>
              <a:latin typeface="Lora"/>
            </a:endParaRPr>
          </a:p>
        </p:txBody>
      </p:sp>
      <p:grpSp>
        <p:nvGrpSpPr>
          <p:cNvPr id="417" name="Group 37"/>
          <p:cNvGrpSpPr/>
          <p:nvPr/>
        </p:nvGrpSpPr>
        <p:grpSpPr>
          <a:xfrm>
            <a:off x="2603520" y="3263760"/>
            <a:ext cx="793800" cy="1270080"/>
            <a:chOff x="2603520" y="3263760"/>
            <a:chExt cx="793800" cy="1270080"/>
          </a:xfrm>
        </p:grpSpPr>
        <p:sp>
          <p:nvSpPr>
            <p:cNvPr id="418" name="AutoShape 30"/>
            <p:cNvSpPr/>
            <p:nvPr/>
          </p:nvSpPr>
          <p:spPr>
            <a:xfrm>
              <a:off x="3060720" y="3746520"/>
              <a:ext cx="209520" cy="258480"/>
            </a:xfrm>
            <a:custGeom>
              <a:avLst/>
              <a:gdLst/>
              <a:ahLst/>
              <a:rect l="l" t="t" r="r" b="b"/>
              <a:pathLst>
                <a:path w="21600" h="21600">
                  <a:moveTo>
                    <a:pt x="16089" y="21600"/>
                  </a:moveTo>
                  <a:lnTo>
                    <a:pt x="5510" y="21600"/>
                  </a:lnTo>
                  <a:cubicBezTo>
                    <a:pt x="2466" y="21600"/>
                    <a:pt x="0" y="19590"/>
                    <a:pt x="0" y="17109"/>
                  </a:cubicBezTo>
                  <a:lnTo>
                    <a:pt x="0" y="4490"/>
                  </a:lnTo>
                  <a:cubicBezTo>
                    <a:pt x="0" y="2010"/>
                    <a:pt x="2466" y="0"/>
                    <a:pt x="5510" y="0"/>
                  </a:cubicBezTo>
                  <a:lnTo>
                    <a:pt x="9853" y="0"/>
                  </a:lnTo>
                  <a:lnTo>
                    <a:pt x="8195" y="6833"/>
                  </a:lnTo>
                  <a:lnTo>
                    <a:pt x="10799" y="10136"/>
                  </a:lnTo>
                  <a:lnTo>
                    <a:pt x="13471" y="6797"/>
                  </a:lnTo>
                  <a:lnTo>
                    <a:pt x="11858" y="0"/>
                  </a:lnTo>
                  <a:lnTo>
                    <a:pt x="16089" y="0"/>
                  </a:lnTo>
                  <a:cubicBezTo>
                    <a:pt x="19132" y="0"/>
                    <a:pt x="21600" y="2010"/>
                    <a:pt x="21600" y="4490"/>
                  </a:cubicBezTo>
                  <a:lnTo>
                    <a:pt x="21600" y="17109"/>
                  </a:lnTo>
                  <a:cubicBezTo>
                    <a:pt x="21600" y="19590"/>
                    <a:pt x="19132" y="21600"/>
                    <a:pt x="16089" y="21600"/>
                  </a:cubicBez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19" name="AutoShape 31"/>
            <p:cNvSpPr/>
            <p:nvPr/>
          </p:nvSpPr>
          <p:spPr>
            <a:xfrm>
              <a:off x="2718000" y="3746520"/>
              <a:ext cx="209520" cy="258480"/>
            </a:xfrm>
            <a:custGeom>
              <a:avLst/>
              <a:gdLst/>
              <a:ahLst/>
              <a:rect l="l" t="t" r="r" b="b"/>
              <a:pathLst>
                <a:path w="21600" h="21600">
                  <a:moveTo>
                    <a:pt x="16089" y="21600"/>
                  </a:moveTo>
                  <a:lnTo>
                    <a:pt x="5510" y="21600"/>
                  </a:lnTo>
                  <a:cubicBezTo>
                    <a:pt x="2467" y="21600"/>
                    <a:pt x="0" y="19590"/>
                    <a:pt x="0" y="17109"/>
                  </a:cubicBezTo>
                  <a:lnTo>
                    <a:pt x="0" y="4490"/>
                  </a:lnTo>
                  <a:cubicBezTo>
                    <a:pt x="0" y="2010"/>
                    <a:pt x="2467" y="0"/>
                    <a:pt x="5510" y="0"/>
                  </a:cubicBezTo>
                  <a:lnTo>
                    <a:pt x="9853" y="0"/>
                  </a:lnTo>
                  <a:lnTo>
                    <a:pt x="8195" y="6833"/>
                  </a:lnTo>
                  <a:lnTo>
                    <a:pt x="10799" y="10136"/>
                  </a:lnTo>
                  <a:lnTo>
                    <a:pt x="13471" y="6797"/>
                  </a:lnTo>
                  <a:lnTo>
                    <a:pt x="11858" y="0"/>
                  </a:lnTo>
                  <a:lnTo>
                    <a:pt x="16089" y="0"/>
                  </a:lnTo>
                  <a:cubicBezTo>
                    <a:pt x="19132" y="0"/>
                    <a:pt x="21600" y="2010"/>
                    <a:pt x="21600" y="4490"/>
                  </a:cubicBezTo>
                  <a:lnTo>
                    <a:pt x="21600" y="17109"/>
                  </a:lnTo>
                  <a:cubicBezTo>
                    <a:pt x="21600" y="19590"/>
                    <a:pt x="19132" y="21600"/>
                    <a:pt x="16089" y="21600"/>
                  </a:cubicBez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20" name="AutoShape 32"/>
            <p:cNvSpPr/>
            <p:nvPr/>
          </p:nvSpPr>
          <p:spPr>
            <a:xfrm>
              <a:off x="2921040" y="3657600"/>
              <a:ext cx="158760" cy="158760"/>
            </a:xfrm>
            <a:custGeom>
              <a:avLst/>
              <a:gdLst/>
              <a:ahLst/>
              <a:rect l="l" t="t" r="r" b="b"/>
              <a:pathLst>
                <a:path w="21600" h="21600">
                  <a:moveTo>
                    <a:pt x="21600" y="10800"/>
                  </a:moveTo>
                  <a:cubicBezTo>
                    <a:pt x="21600" y="16764"/>
                    <a:pt x="16765" y="21600"/>
                    <a:pt x="10801" y="21600"/>
                  </a:cubicBezTo>
                  <a:cubicBezTo>
                    <a:pt x="4835" y="21600"/>
                    <a:pt x="0" y="16764"/>
                    <a:pt x="0" y="10800"/>
                  </a:cubicBezTo>
                  <a:cubicBezTo>
                    <a:pt x="0" y="4835"/>
                    <a:pt x="4835" y="0"/>
                    <a:pt x="10801" y="0"/>
                  </a:cubicBezTo>
                  <a:cubicBezTo>
                    <a:pt x="16765" y="0"/>
                    <a:pt x="21600" y="4835"/>
                    <a:pt x="21600" y="10800"/>
                  </a:cubicBez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21" name="AutoShape 33"/>
            <p:cNvSpPr/>
            <p:nvPr/>
          </p:nvSpPr>
          <p:spPr>
            <a:xfrm>
              <a:off x="2882880" y="3835440"/>
              <a:ext cx="235080" cy="288720"/>
            </a:xfrm>
            <a:custGeom>
              <a:avLst/>
              <a:gdLst/>
              <a:ahLst/>
              <a:rect l="l" t="t" r="r" b="b"/>
              <a:pathLst>
                <a:path w="21600" h="21600">
                  <a:moveTo>
                    <a:pt x="16091" y="21600"/>
                  </a:moveTo>
                  <a:lnTo>
                    <a:pt x="5510" y="21600"/>
                  </a:lnTo>
                  <a:cubicBezTo>
                    <a:pt x="2467" y="21600"/>
                    <a:pt x="0" y="19589"/>
                    <a:pt x="0" y="17110"/>
                  </a:cubicBezTo>
                  <a:lnTo>
                    <a:pt x="0" y="4490"/>
                  </a:lnTo>
                  <a:cubicBezTo>
                    <a:pt x="0" y="2010"/>
                    <a:pt x="2467" y="0"/>
                    <a:pt x="5510" y="0"/>
                  </a:cubicBezTo>
                  <a:lnTo>
                    <a:pt x="9854" y="0"/>
                  </a:lnTo>
                  <a:lnTo>
                    <a:pt x="8197" y="6833"/>
                  </a:lnTo>
                  <a:lnTo>
                    <a:pt x="10801" y="10136"/>
                  </a:lnTo>
                  <a:lnTo>
                    <a:pt x="13472" y="6797"/>
                  </a:lnTo>
                  <a:lnTo>
                    <a:pt x="11859" y="0"/>
                  </a:lnTo>
                  <a:lnTo>
                    <a:pt x="16091" y="0"/>
                  </a:lnTo>
                  <a:cubicBezTo>
                    <a:pt x="19134" y="0"/>
                    <a:pt x="21600" y="2010"/>
                    <a:pt x="21600" y="4490"/>
                  </a:cubicBezTo>
                  <a:lnTo>
                    <a:pt x="21600" y="17110"/>
                  </a:lnTo>
                  <a:cubicBezTo>
                    <a:pt x="21600" y="19589"/>
                    <a:pt x="19134" y="21600"/>
                    <a:pt x="16091" y="21600"/>
                  </a:cubicBez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22" name="AutoShape 34"/>
            <p:cNvSpPr/>
            <p:nvPr/>
          </p:nvSpPr>
          <p:spPr>
            <a:xfrm>
              <a:off x="2603520" y="3263760"/>
              <a:ext cx="793800" cy="1270080"/>
            </a:xfrm>
            <a:custGeom>
              <a:avLst/>
              <a:gdLst/>
              <a:ahLst/>
              <a:rect l="l" t="t" r="r" b="b"/>
              <a:pathLst>
                <a:path w="21600" h="21600">
                  <a:moveTo>
                    <a:pt x="11802" y="12109"/>
                  </a:moveTo>
                  <a:cubicBezTo>
                    <a:pt x="11475" y="12128"/>
                    <a:pt x="11154" y="12147"/>
                    <a:pt x="10800" y="12147"/>
                  </a:cubicBezTo>
                  <a:cubicBezTo>
                    <a:pt x="10446" y="12147"/>
                    <a:pt x="10125" y="12128"/>
                    <a:pt x="9798" y="12109"/>
                  </a:cubicBezTo>
                  <a:cubicBezTo>
                    <a:pt x="5495" y="11798"/>
                    <a:pt x="2163" y="9518"/>
                    <a:pt x="2163" y="6750"/>
                  </a:cubicBezTo>
                  <a:cubicBezTo>
                    <a:pt x="2163" y="3767"/>
                    <a:pt x="6028" y="1352"/>
                    <a:pt x="10800" y="1352"/>
                  </a:cubicBezTo>
                  <a:cubicBezTo>
                    <a:pt x="15567" y="1352"/>
                    <a:pt x="19437" y="3767"/>
                    <a:pt x="19437" y="6750"/>
                  </a:cubicBezTo>
                  <a:cubicBezTo>
                    <a:pt x="19437" y="9518"/>
                    <a:pt x="16100" y="11798"/>
                    <a:pt x="11802" y="12109"/>
                  </a:cubicBezTo>
                  <a:moveTo>
                    <a:pt x="10800" y="0"/>
                  </a:moveTo>
                  <a:cubicBezTo>
                    <a:pt x="4836" y="0"/>
                    <a:pt x="0" y="3022"/>
                    <a:pt x="0" y="6750"/>
                  </a:cubicBezTo>
                  <a:cubicBezTo>
                    <a:pt x="0" y="11476"/>
                    <a:pt x="10800" y="21600"/>
                    <a:pt x="10800" y="21600"/>
                  </a:cubicBezTo>
                  <a:cubicBezTo>
                    <a:pt x="10800" y="21600"/>
                    <a:pt x="21600" y="11476"/>
                    <a:pt x="21600" y="6750"/>
                  </a:cubicBezTo>
                  <a:cubicBezTo>
                    <a:pt x="21600" y="3022"/>
                    <a:pt x="16764" y="0"/>
                    <a:pt x="10800" y="0"/>
                  </a:cubicBezTo>
                </a:path>
              </a:pathLst>
            </a:custGeom>
            <a:solidFill>
              <a:srgbClr val="3d414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23" name="AutoShape 35"/>
            <p:cNvSpPr/>
            <p:nvPr/>
          </p:nvSpPr>
          <p:spPr>
            <a:xfrm>
              <a:off x="2755800" y="3593880"/>
              <a:ext cx="136800" cy="136440"/>
            </a:xfrm>
            <a:custGeom>
              <a:avLst/>
              <a:gdLst/>
              <a:ahLst/>
              <a:rect l="l" t="t" r="r" b="b"/>
              <a:pathLst>
                <a:path w="21600" h="21600">
                  <a:moveTo>
                    <a:pt x="21600" y="10800"/>
                  </a:moveTo>
                  <a:cubicBezTo>
                    <a:pt x="21600" y="16765"/>
                    <a:pt x="16765" y="21600"/>
                    <a:pt x="10801" y="21600"/>
                  </a:cubicBezTo>
                  <a:cubicBezTo>
                    <a:pt x="4835" y="21600"/>
                    <a:pt x="0" y="16765"/>
                    <a:pt x="0" y="10800"/>
                  </a:cubicBezTo>
                  <a:cubicBezTo>
                    <a:pt x="0" y="4835"/>
                    <a:pt x="4835" y="0"/>
                    <a:pt x="10801" y="0"/>
                  </a:cubicBezTo>
                  <a:cubicBezTo>
                    <a:pt x="16765" y="0"/>
                    <a:pt x="21600" y="4835"/>
                    <a:pt x="21600" y="10800"/>
                  </a:cubicBez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24" name="AutoShape 36"/>
            <p:cNvSpPr/>
            <p:nvPr/>
          </p:nvSpPr>
          <p:spPr>
            <a:xfrm>
              <a:off x="3098880" y="3593880"/>
              <a:ext cx="136440" cy="136440"/>
            </a:xfrm>
            <a:custGeom>
              <a:avLst/>
              <a:gdLst/>
              <a:ahLst/>
              <a:rect l="l" t="t" r="r" b="b"/>
              <a:pathLst>
                <a:path w="21600" h="21600">
                  <a:moveTo>
                    <a:pt x="21600" y="10800"/>
                  </a:moveTo>
                  <a:cubicBezTo>
                    <a:pt x="21600" y="16765"/>
                    <a:pt x="16765" y="21600"/>
                    <a:pt x="10801" y="21600"/>
                  </a:cubicBezTo>
                  <a:cubicBezTo>
                    <a:pt x="4835" y="21600"/>
                    <a:pt x="0" y="16765"/>
                    <a:pt x="0" y="10800"/>
                  </a:cubicBezTo>
                  <a:cubicBezTo>
                    <a:pt x="0" y="4835"/>
                    <a:pt x="4835" y="0"/>
                    <a:pt x="10801" y="0"/>
                  </a:cubicBezTo>
                  <a:cubicBezTo>
                    <a:pt x="16765" y="0"/>
                    <a:pt x="21600" y="4835"/>
                    <a:pt x="21600" y="10800"/>
                  </a:cubicBez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425" name="Group 42"/>
          <p:cNvGrpSpPr/>
          <p:nvPr/>
        </p:nvGrpSpPr>
        <p:grpSpPr>
          <a:xfrm>
            <a:off x="8204040" y="3276720"/>
            <a:ext cx="804960" cy="888840"/>
            <a:chOff x="8204040" y="3276720"/>
            <a:chExt cx="804960" cy="888840"/>
          </a:xfrm>
        </p:grpSpPr>
        <p:sp>
          <p:nvSpPr>
            <p:cNvPr id="426" name="AutoShape 38"/>
            <p:cNvSpPr/>
            <p:nvPr/>
          </p:nvSpPr>
          <p:spPr>
            <a:xfrm>
              <a:off x="8204040" y="3936960"/>
              <a:ext cx="804960" cy="228600"/>
            </a:xfrm>
            <a:custGeom>
              <a:avLst/>
              <a:gdLst/>
              <a:ahLst/>
              <a:rect l="l" t="t" r="r" b="b"/>
              <a:pathLst>
                <a:path w="21600" h="21600">
                  <a:moveTo>
                    <a:pt x="20021" y="21600"/>
                  </a:moveTo>
                  <a:lnTo>
                    <a:pt x="1579" y="21600"/>
                  </a:lnTo>
                  <a:cubicBezTo>
                    <a:pt x="707" y="21600"/>
                    <a:pt x="0" y="19117"/>
                    <a:pt x="0" y="16054"/>
                  </a:cubicBezTo>
                  <a:lnTo>
                    <a:pt x="0" y="5548"/>
                  </a:lnTo>
                  <a:cubicBezTo>
                    <a:pt x="0" y="2484"/>
                    <a:pt x="707" y="0"/>
                    <a:pt x="1579" y="0"/>
                  </a:cubicBezTo>
                  <a:lnTo>
                    <a:pt x="20021" y="0"/>
                  </a:lnTo>
                  <a:cubicBezTo>
                    <a:pt x="20893" y="0"/>
                    <a:pt x="21600" y="2484"/>
                    <a:pt x="21600" y="5548"/>
                  </a:cubicBezTo>
                  <a:lnTo>
                    <a:pt x="21600" y="16054"/>
                  </a:lnTo>
                  <a:cubicBezTo>
                    <a:pt x="21600" y="19117"/>
                    <a:pt x="20893" y="21600"/>
                    <a:pt x="20021" y="21600"/>
                  </a:cubicBezTo>
                </a:path>
              </a:pathLst>
            </a:custGeom>
            <a:solidFill>
              <a:srgbClr val="3d414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27" name="AutoShape 39"/>
            <p:cNvSpPr/>
            <p:nvPr/>
          </p:nvSpPr>
          <p:spPr>
            <a:xfrm>
              <a:off x="8267400" y="3962520"/>
              <a:ext cx="695520" cy="174600"/>
            </a:xfrm>
            <a:custGeom>
              <a:avLst/>
              <a:gdLst/>
              <a:ahLst/>
              <a:rect l="l" t="t" r="r" b="b"/>
              <a:pathLst>
                <a:path w="21600" h="21600">
                  <a:moveTo>
                    <a:pt x="20021" y="21600"/>
                  </a:moveTo>
                  <a:lnTo>
                    <a:pt x="1579" y="21600"/>
                  </a:lnTo>
                  <a:cubicBezTo>
                    <a:pt x="707" y="21600"/>
                    <a:pt x="0" y="19116"/>
                    <a:pt x="0" y="16052"/>
                  </a:cubicBezTo>
                  <a:lnTo>
                    <a:pt x="0" y="5547"/>
                  </a:lnTo>
                  <a:cubicBezTo>
                    <a:pt x="0" y="2483"/>
                    <a:pt x="707" y="0"/>
                    <a:pt x="1579" y="0"/>
                  </a:cubicBezTo>
                  <a:lnTo>
                    <a:pt x="20021" y="0"/>
                  </a:lnTo>
                  <a:cubicBezTo>
                    <a:pt x="20893" y="0"/>
                    <a:pt x="21600" y="2483"/>
                    <a:pt x="21600" y="5547"/>
                  </a:cubicBezTo>
                  <a:lnTo>
                    <a:pt x="21600" y="16052"/>
                  </a:lnTo>
                  <a:cubicBezTo>
                    <a:pt x="21600" y="19116"/>
                    <a:pt x="20893" y="21600"/>
                    <a:pt x="20021" y="21600"/>
                  </a:cubicBezTo>
                </a:path>
              </a:pathLst>
            </a:custGeom>
            <a:solidFill>
              <a:srgbClr val="3d414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28" name="AutoShape 40"/>
            <p:cNvSpPr/>
            <p:nvPr/>
          </p:nvSpPr>
          <p:spPr>
            <a:xfrm>
              <a:off x="8343720" y="3276720"/>
              <a:ext cx="530280" cy="588960"/>
            </a:xfrm>
            <a:custGeom>
              <a:avLst/>
              <a:gdLst/>
              <a:ahLst/>
              <a:rect l="l" t="t" r="r" b="b"/>
              <a:pathLst>
                <a:path w="21045" h="21443">
                  <a:moveTo>
                    <a:pt x="15240" y="11175"/>
                  </a:moveTo>
                  <a:lnTo>
                    <a:pt x="15240" y="1484"/>
                  </a:lnTo>
                  <a:cubicBezTo>
                    <a:pt x="15240" y="665"/>
                    <a:pt x="14456" y="0"/>
                    <a:pt x="13490" y="0"/>
                  </a:cubicBezTo>
                  <a:lnTo>
                    <a:pt x="7557" y="0"/>
                  </a:lnTo>
                  <a:cubicBezTo>
                    <a:pt x="6590" y="0"/>
                    <a:pt x="5806" y="665"/>
                    <a:pt x="5806" y="1484"/>
                  </a:cubicBezTo>
                  <a:lnTo>
                    <a:pt x="5806" y="11175"/>
                  </a:lnTo>
                  <a:cubicBezTo>
                    <a:pt x="5806" y="11994"/>
                    <a:pt x="5022" y="12659"/>
                    <a:pt x="4056" y="12659"/>
                  </a:cubicBezTo>
                  <a:lnTo>
                    <a:pt x="813" y="12659"/>
                  </a:lnTo>
                  <a:cubicBezTo>
                    <a:pt x="80" y="12659"/>
                    <a:pt x="-277" y="13418"/>
                    <a:pt x="256" y="13845"/>
                  </a:cubicBezTo>
                  <a:lnTo>
                    <a:pt x="9132" y="20974"/>
                  </a:lnTo>
                  <a:cubicBezTo>
                    <a:pt x="9913" y="21600"/>
                    <a:pt x="11134" y="21600"/>
                    <a:pt x="11914" y="20974"/>
                  </a:cubicBezTo>
                  <a:lnTo>
                    <a:pt x="20791" y="13845"/>
                  </a:lnTo>
                  <a:cubicBezTo>
                    <a:pt x="21323" y="13418"/>
                    <a:pt x="20967" y="12659"/>
                    <a:pt x="20233" y="12659"/>
                  </a:cubicBezTo>
                  <a:lnTo>
                    <a:pt x="16990" y="12659"/>
                  </a:lnTo>
                  <a:cubicBezTo>
                    <a:pt x="16024" y="12659"/>
                    <a:pt x="15240" y="11994"/>
                    <a:pt x="15240" y="11175"/>
                  </a:cubicBezTo>
                </a:path>
              </a:pathLst>
            </a:custGeom>
            <a:solidFill>
              <a:srgbClr val="3d414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29" name="AutoShape 41"/>
            <p:cNvSpPr/>
            <p:nvPr/>
          </p:nvSpPr>
          <p:spPr>
            <a:xfrm>
              <a:off x="8458200" y="3327480"/>
              <a:ext cx="304560" cy="476280"/>
            </a:xfrm>
            <a:custGeom>
              <a:avLst/>
              <a:gdLst/>
              <a:ahLst/>
              <a:rect l="l" t="t" r="r" b="b"/>
              <a:pathLst>
                <a:path w="21046" h="21488">
                  <a:moveTo>
                    <a:pt x="15240" y="14173"/>
                  </a:moveTo>
                  <a:lnTo>
                    <a:pt x="15240" y="1057"/>
                  </a:lnTo>
                  <a:cubicBezTo>
                    <a:pt x="15240" y="473"/>
                    <a:pt x="14456" y="0"/>
                    <a:pt x="13490" y="0"/>
                  </a:cubicBezTo>
                  <a:lnTo>
                    <a:pt x="7557" y="0"/>
                  </a:lnTo>
                  <a:cubicBezTo>
                    <a:pt x="6590" y="0"/>
                    <a:pt x="5806" y="473"/>
                    <a:pt x="5806" y="1057"/>
                  </a:cubicBezTo>
                  <a:lnTo>
                    <a:pt x="5806" y="14173"/>
                  </a:lnTo>
                  <a:cubicBezTo>
                    <a:pt x="5806" y="14757"/>
                    <a:pt x="5022" y="15230"/>
                    <a:pt x="4055" y="15230"/>
                  </a:cubicBezTo>
                  <a:lnTo>
                    <a:pt x="813" y="15230"/>
                  </a:lnTo>
                  <a:cubicBezTo>
                    <a:pt x="80" y="15230"/>
                    <a:pt x="-277" y="15771"/>
                    <a:pt x="255" y="16075"/>
                  </a:cubicBezTo>
                  <a:lnTo>
                    <a:pt x="9133" y="21154"/>
                  </a:lnTo>
                  <a:cubicBezTo>
                    <a:pt x="9912" y="21600"/>
                    <a:pt x="11134" y="21600"/>
                    <a:pt x="11915" y="21154"/>
                  </a:cubicBezTo>
                  <a:lnTo>
                    <a:pt x="20791" y="16075"/>
                  </a:lnTo>
                  <a:cubicBezTo>
                    <a:pt x="21323" y="15771"/>
                    <a:pt x="20967" y="15230"/>
                    <a:pt x="20234" y="15230"/>
                  </a:cubicBezTo>
                  <a:lnTo>
                    <a:pt x="16991" y="15230"/>
                  </a:lnTo>
                  <a:cubicBezTo>
                    <a:pt x="16024" y="15230"/>
                    <a:pt x="15240" y="14757"/>
                    <a:pt x="15240" y="14173"/>
                  </a:cubicBezTo>
                </a:path>
              </a:pathLst>
            </a:custGeom>
            <a:solidFill>
              <a:srgbClr val="3d414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430" name="Group 75"/>
          <p:cNvGrpSpPr/>
          <p:nvPr/>
        </p:nvGrpSpPr>
        <p:grpSpPr>
          <a:xfrm>
            <a:off x="4127400" y="6845400"/>
            <a:ext cx="1255680" cy="507960"/>
            <a:chOff x="4127400" y="6845400"/>
            <a:chExt cx="1255680" cy="507960"/>
          </a:xfrm>
        </p:grpSpPr>
        <p:sp>
          <p:nvSpPr>
            <p:cNvPr id="431" name="AutoShape 43"/>
            <p:cNvSpPr/>
            <p:nvPr/>
          </p:nvSpPr>
          <p:spPr>
            <a:xfrm>
              <a:off x="4546440" y="7010640"/>
              <a:ext cx="836640" cy="180720"/>
            </a:xfrm>
            <a:custGeom>
              <a:avLst/>
              <a:gdLst/>
              <a:ahLst/>
              <a:rect l="l" t="t" r="r" b="b"/>
              <a:pathLst>
                <a:path w="21600" h="21600">
                  <a:moveTo>
                    <a:pt x="20284" y="21600"/>
                  </a:moveTo>
                  <a:lnTo>
                    <a:pt x="0" y="21600"/>
                  </a:lnTo>
                  <a:lnTo>
                    <a:pt x="0" y="0"/>
                  </a:lnTo>
                  <a:lnTo>
                    <a:pt x="20284" y="0"/>
                  </a:lnTo>
                  <a:lnTo>
                    <a:pt x="21600" y="6082"/>
                  </a:lnTo>
                  <a:lnTo>
                    <a:pt x="21600" y="15519"/>
                  </a:lnTo>
                  <a:cubicBezTo>
                    <a:pt x="21600" y="15519"/>
                    <a:pt x="20284" y="21600"/>
                    <a:pt x="20284" y="21600"/>
                  </a:cubicBezTo>
                  <a:close/>
                  <a:moveTo>
                    <a:pt x="20284"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32" name="AutoShape 44"/>
            <p:cNvSpPr/>
            <p:nvPr/>
          </p:nvSpPr>
          <p:spPr>
            <a:xfrm>
              <a:off x="4546440" y="6985080"/>
              <a:ext cx="177840" cy="239760"/>
            </a:xfrm>
            <a:custGeom>
              <a:avLst/>
              <a:gdLst/>
              <a:ahLst/>
              <a:rect l="l" t="t" r="r" b="b"/>
              <a:pathLst>
                <a:path w="21600" h="21600">
                  <a:moveTo>
                    <a:pt x="19233" y="21600"/>
                  </a:moveTo>
                  <a:lnTo>
                    <a:pt x="0" y="21600"/>
                  </a:lnTo>
                  <a:lnTo>
                    <a:pt x="0" y="0"/>
                  </a:lnTo>
                  <a:lnTo>
                    <a:pt x="19233" y="0"/>
                  </a:lnTo>
                  <a:cubicBezTo>
                    <a:pt x="20540" y="0"/>
                    <a:pt x="21600" y="789"/>
                    <a:pt x="21600" y="1763"/>
                  </a:cubicBezTo>
                  <a:lnTo>
                    <a:pt x="21600" y="19837"/>
                  </a:lnTo>
                  <a:cubicBezTo>
                    <a:pt x="21600" y="20811"/>
                    <a:pt x="20540" y="21600"/>
                    <a:pt x="19233" y="21600"/>
                  </a:cubicBez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33" name="AutoShape 45"/>
            <p:cNvSpPr/>
            <p:nvPr/>
          </p:nvSpPr>
          <p:spPr>
            <a:xfrm>
              <a:off x="4127400" y="6845400"/>
              <a:ext cx="466560" cy="507960"/>
            </a:xfrm>
            <a:custGeom>
              <a:avLst/>
              <a:gdLst/>
              <a:ahLst/>
              <a:rect l="l" t="t" r="r" b="b"/>
              <a:pathLst>
                <a:path w="21600" h="21600">
                  <a:moveTo>
                    <a:pt x="5484" y="13090"/>
                  </a:moveTo>
                  <a:cubicBezTo>
                    <a:pt x="4110" y="13090"/>
                    <a:pt x="2996" y="12064"/>
                    <a:pt x="2996" y="10800"/>
                  </a:cubicBezTo>
                  <a:cubicBezTo>
                    <a:pt x="2996" y="9535"/>
                    <a:pt x="4110" y="8510"/>
                    <a:pt x="5484" y="8510"/>
                  </a:cubicBezTo>
                  <a:cubicBezTo>
                    <a:pt x="6858" y="8510"/>
                    <a:pt x="7972" y="9535"/>
                    <a:pt x="7972" y="10800"/>
                  </a:cubicBezTo>
                  <a:cubicBezTo>
                    <a:pt x="7972" y="12064"/>
                    <a:pt x="6858" y="13090"/>
                    <a:pt x="5484" y="13090"/>
                  </a:cubicBezTo>
                  <a:moveTo>
                    <a:pt x="16356" y="0"/>
                  </a:moveTo>
                  <a:lnTo>
                    <a:pt x="2497" y="0"/>
                  </a:lnTo>
                  <a:cubicBezTo>
                    <a:pt x="1118" y="0"/>
                    <a:pt x="0" y="1029"/>
                    <a:pt x="0" y="2298"/>
                  </a:cubicBezTo>
                  <a:lnTo>
                    <a:pt x="0" y="19302"/>
                  </a:lnTo>
                  <a:cubicBezTo>
                    <a:pt x="0" y="20571"/>
                    <a:pt x="1118" y="21600"/>
                    <a:pt x="2497" y="21600"/>
                  </a:cubicBezTo>
                  <a:lnTo>
                    <a:pt x="16356" y="21600"/>
                  </a:lnTo>
                  <a:cubicBezTo>
                    <a:pt x="17735" y="21600"/>
                    <a:pt x="21600" y="15899"/>
                    <a:pt x="21600" y="15899"/>
                  </a:cubicBezTo>
                  <a:lnTo>
                    <a:pt x="21600" y="5701"/>
                  </a:lnTo>
                  <a:cubicBezTo>
                    <a:pt x="21600" y="5701"/>
                    <a:pt x="17735" y="0"/>
                    <a:pt x="16356" y="0"/>
                  </a:cubicBez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34" name="Line 46"/>
            <p:cNvSpPr/>
            <p:nvPr/>
          </p:nvSpPr>
          <p:spPr>
            <a:xfrm flipH="1">
              <a:off x="4650840" y="7031160"/>
              <a:ext cx="700200" cy="0"/>
            </a:xfrm>
            <a:prstGeom prst="line">
              <a:avLst/>
            </a:prstGeom>
            <a:ln w="9360">
              <a:solidFill>
                <a:srgbClr val="a3a3a5"/>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35" name="Line 47"/>
            <p:cNvSpPr/>
            <p:nvPr/>
          </p:nvSpPr>
          <p:spPr>
            <a:xfrm flipH="1">
              <a:off x="4599000" y="7099560"/>
              <a:ext cx="784080" cy="0"/>
            </a:xfrm>
            <a:prstGeom prst="line">
              <a:avLst/>
            </a:prstGeom>
            <a:ln w="9720">
              <a:solidFill>
                <a:srgbClr val="a3a3a5"/>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36" name="Line 48"/>
            <p:cNvSpPr/>
            <p:nvPr/>
          </p:nvSpPr>
          <p:spPr>
            <a:xfrm flipH="1">
              <a:off x="4650840" y="7167600"/>
              <a:ext cx="700200" cy="0"/>
            </a:xfrm>
            <a:prstGeom prst="line">
              <a:avLst/>
            </a:prstGeom>
            <a:ln w="9360">
              <a:solidFill>
                <a:srgbClr val="a3a3a5"/>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37" name="AutoShape 49"/>
            <p:cNvSpPr/>
            <p:nvPr/>
          </p:nvSpPr>
          <p:spPr>
            <a:xfrm>
              <a:off x="4724280" y="7048440"/>
              <a:ext cx="58680" cy="59040"/>
            </a:xfrm>
            <a:custGeom>
              <a:avLst/>
              <a:gdLst/>
              <a:ahLst/>
              <a:rect l="l" t="t" r="r" b="b"/>
              <a:pathLst>
                <a:path w="21600" h="21600">
                  <a:moveTo>
                    <a:pt x="21600" y="10799"/>
                  </a:moveTo>
                  <a:cubicBezTo>
                    <a:pt x="21600" y="16762"/>
                    <a:pt x="16766" y="21600"/>
                    <a:pt x="10797" y="21600"/>
                  </a:cubicBezTo>
                  <a:cubicBezTo>
                    <a:pt x="4834" y="21600"/>
                    <a:pt x="0" y="16762"/>
                    <a:pt x="0" y="10799"/>
                  </a:cubicBezTo>
                  <a:cubicBezTo>
                    <a:pt x="0" y="4838"/>
                    <a:pt x="4834" y="0"/>
                    <a:pt x="10797" y="0"/>
                  </a:cubicBezTo>
                  <a:cubicBezTo>
                    <a:pt x="16766" y="0"/>
                    <a:pt x="21600" y="4838"/>
                    <a:pt x="21600" y="10799"/>
                  </a:cubicBezTo>
                </a:path>
              </a:pathLst>
            </a:custGeom>
            <a:solidFill>
              <a:srgbClr val="5e5e6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38" name="AutoShape 50"/>
            <p:cNvSpPr/>
            <p:nvPr/>
          </p:nvSpPr>
          <p:spPr>
            <a:xfrm>
              <a:off x="4749840" y="7061400"/>
              <a:ext cx="20520" cy="20520"/>
            </a:xfrm>
            <a:custGeom>
              <a:avLst/>
              <a:gdLst/>
              <a:ahLst/>
              <a:rect l="l" t="t" r="r" b="b"/>
              <a:pathLst>
                <a:path w="21600" h="21600">
                  <a:moveTo>
                    <a:pt x="21600" y="10797"/>
                  </a:moveTo>
                  <a:cubicBezTo>
                    <a:pt x="21600" y="16762"/>
                    <a:pt x="16766" y="21600"/>
                    <a:pt x="10806" y="21600"/>
                  </a:cubicBezTo>
                  <a:cubicBezTo>
                    <a:pt x="4834" y="21600"/>
                    <a:pt x="0" y="16762"/>
                    <a:pt x="0" y="10797"/>
                  </a:cubicBezTo>
                  <a:cubicBezTo>
                    <a:pt x="0" y="4832"/>
                    <a:pt x="4834" y="0"/>
                    <a:pt x="10806" y="0"/>
                  </a:cubicBezTo>
                  <a:cubicBezTo>
                    <a:pt x="16766" y="0"/>
                    <a:pt x="21600" y="4832"/>
                    <a:pt x="21600" y="10797"/>
                  </a:cubicBez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39" name="AutoShape 51"/>
            <p:cNvSpPr/>
            <p:nvPr/>
          </p:nvSpPr>
          <p:spPr>
            <a:xfrm>
              <a:off x="4825800" y="7099560"/>
              <a:ext cx="63720" cy="63360"/>
            </a:xfrm>
            <a:custGeom>
              <a:avLst/>
              <a:gdLst/>
              <a:ahLst/>
              <a:rect l="l" t="t" r="r" b="b"/>
              <a:pathLst>
                <a:path w="21600" h="21600">
                  <a:moveTo>
                    <a:pt x="10801" y="21600"/>
                  </a:moveTo>
                  <a:cubicBezTo>
                    <a:pt x="4847" y="21600"/>
                    <a:pt x="0" y="16755"/>
                    <a:pt x="0" y="10799"/>
                  </a:cubicBezTo>
                  <a:cubicBezTo>
                    <a:pt x="0" y="4843"/>
                    <a:pt x="4847" y="0"/>
                    <a:pt x="10801" y="0"/>
                  </a:cubicBezTo>
                  <a:cubicBezTo>
                    <a:pt x="16756" y="0"/>
                    <a:pt x="21600" y="4843"/>
                    <a:pt x="21600" y="10799"/>
                  </a:cubicBezTo>
                  <a:cubicBezTo>
                    <a:pt x="21600" y="16755"/>
                    <a:pt x="16756" y="21600"/>
                    <a:pt x="10801" y="21600"/>
                  </a:cubicBez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40" name="AutoShape 52"/>
            <p:cNvSpPr/>
            <p:nvPr/>
          </p:nvSpPr>
          <p:spPr>
            <a:xfrm>
              <a:off x="4825800" y="7086600"/>
              <a:ext cx="79560" cy="79560"/>
            </a:xfrm>
            <a:custGeom>
              <a:avLst/>
              <a:gdLst/>
              <a:ahLst/>
              <a:rect l="l" t="t" r="r" b="b"/>
              <a:pathLst>
                <a:path w="21600" h="21600">
                  <a:moveTo>
                    <a:pt x="10801" y="0"/>
                  </a:moveTo>
                  <a:cubicBezTo>
                    <a:pt x="4847" y="0"/>
                    <a:pt x="0" y="4845"/>
                    <a:pt x="0" y="10799"/>
                  </a:cubicBezTo>
                  <a:cubicBezTo>
                    <a:pt x="0" y="16755"/>
                    <a:pt x="4847" y="21600"/>
                    <a:pt x="10801" y="21600"/>
                  </a:cubicBezTo>
                  <a:cubicBezTo>
                    <a:pt x="16755" y="21600"/>
                    <a:pt x="21600" y="16755"/>
                    <a:pt x="21600" y="10799"/>
                  </a:cubicBezTo>
                  <a:cubicBezTo>
                    <a:pt x="21600" y="4845"/>
                    <a:pt x="16755" y="0"/>
                    <a:pt x="10801" y="0"/>
                  </a:cubicBezTo>
                  <a:moveTo>
                    <a:pt x="10801" y="4394"/>
                  </a:moveTo>
                  <a:cubicBezTo>
                    <a:pt x="14339" y="4394"/>
                    <a:pt x="17206" y="7261"/>
                    <a:pt x="17206" y="10799"/>
                  </a:cubicBezTo>
                  <a:cubicBezTo>
                    <a:pt x="17206" y="14337"/>
                    <a:pt x="14339" y="17206"/>
                    <a:pt x="10801" y="17206"/>
                  </a:cubicBezTo>
                  <a:cubicBezTo>
                    <a:pt x="7263" y="17206"/>
                    <a:pt x="4394" y="14337"/>
                    <a:pt x="4394" y="10799"/>
                  </a:cubicBezTo>
                  <a:cubicBezTo>
                    <a:pt x="4394" y="7261"/>
                    <a:pt x="7263" y="4394"/>
                    <a:pt x="10801" y="4394"/>
                  </a:cubicBezTo>
                </a:path>
              </a:pathLst>
            </a:custGeom>
            <a:solidFill>
              <a:srgbClr val="62626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41" name="AutoShape 53"/>
            <p:cNvSpPr/>
            <p:nvPr/>
          </p:nvSpPr>
          <p:spPr>
            <a:xfrm>
              <a:off x="4876560" y="7023240"/>
              <a:ext cx="42840" cy="42840"/>
            </a:xfrm>
            <a:custGeom>
              <a:avLst/>
              <a:gdLst/>
              <a:ahLst/>
              <a:rect l="l" t="t" r="r" b="b"/>
              <a:pathLst>
                <a:path w="21600" h="21600">
                  <a:moveTo>
                    <a:pt x="21600" y="10798"/>
                  </a:moveTo>
                  <a:cubicBezTo>
                    <a:pt x="21600" y="16767"/>
                    <a:pt x="16769" y="21600"/>
                    <a:pt x="10805" y="21600"/>
                  </a:cubicBezTo>
                  <a:cubicBezTo>
                    <a:pt x="4840" y="21600"/>
                    <a:pt x="0" y="16767"/>
                    <a:pt x="0" y="10798"/>
                  </a:cubicBezTo>
                  <a:cubicBezTo>
                    <a:pt x="0" y="4833"/>
                    <a:pt x="4840" y="0"/>
                    <a:pt x="10805" y="0"/>
                  </a:cubicBezTo>
                  <a:cubicBezTo>
                    <a:pt x="16769" y="0"/>
                    <a:pt x="21600" y="4833"/>
                    <a:pt x="21600" y="10798"/>
                  </a:cubicBezTo>
                </a:path>
              </a:pathLst>
            </a:custGeom>
            <a:solidFill>
              <a:srgbClr val="5e5e6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42" name="AutoShape 54"/>
            <p:cNvSpPr/>
            <p:nvPr/>
          </p:nvSpPr>
          <p:spPr>
            <a:xfrm>
              <a:off x="4965480" y="7099560"/>
              <a:ext cx="47880" cy="47520"/>
            </a:xfrm>
            <a:custGeom>
              <a:avLst/>
              <a:gdLst/>
              <a:ahLst/>
              <a:rect l="l" t="t" r="r" b="b"/>
              <a:pathLst>
                <a:path w="21600" h="21600">
                  <a:moveTo>
                    <a:pt x="21600" y="10800"/>
                  </a:moveTo>
                  <a:cubicBezTo>
                    <a:pt x="21600" y="16765"/>
                    <a:pt x="16765" y="21600"/>
                    <a:pt x="10804" y="21600"/>
                  </a:cubicBezTo>
                  <a:cubicBezTo>
                    <a:pt x="4835" y="21600"/>
                    <a:pt x="0" y="16765"/>
                    <a:pt x="0" y="10800"/>
                  </a:cubicBezTo>
                  <a:cubicBezTo>
                    <a:pt x="0" y="4838"/>
                    <a:pt x="4835" y="0"/>
                    <a:pt x="10804" y="0"/>
                  </a:cubicBezTo>
                  <a:cubicBezTo>
                    <a:pt x="16765" y="0"/>
                    <a:pt x="21600" y="4838"/>
                    <a:pt x="21600" y="10800"/>
                  </a:cubicBezTo>
                </a:path>
              </a:pathLst>
            </a:custGeom>
            <a:solidFill>
              <a:srgbClr val="4d4d4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43" name="AutoShape 55"/>
            <p:cNvSpPr/>
            <p:nvPr/>
          </p:nvSpPr>
          <p:spPr>
            <a:xfrm>
              <a:off x="4978440" y="7112160"/>
              <a:ext cx="23760" cy="23760"/>
            </a:xfrm>
            <a:custGeom>
              <a:avLst/>
              <a:gdLst/>
              <a:ahLst/>
              <a:rect l="l" t="t" r="r" b="b"/>
              <a:pathLst>
                <a:path w="21600" h="21600">
                  <a:moveTo>
                    <a:pt x="21600" y="10797"/>
                  </a:moveTo>
                  <a:cubicBezTo>
                    <a:pt x="21600" y="16763"/>
                    <a:pt x="16770" y="21600"/>
                    <a:pt x="10806" y="21600"/>
                  </a:cubicBezTo>
                  <a:cubicBezTo>
                    <a:pt x="4841" y="21600"/>
                    <a:pt x="0" y="16763"/>
                    <a:pt x="0" y="10797"/>
                  </a:cubicBezTo>
                  <a:cubicBezTo>
                    <a:pt x="0" y="4831"/>
                    <a:pt x="4841" y="0"/>
                    <a:pt x="10806" y="0"/>
                  </a:cubicBezTo>
                  <a:cubicBezTo>
                    <a:pt x="16770" y="0"/>
                    <a:pt x="21600" y="4831"/>
                    <a:pt x="21600" y="10797"/>
                  </a:cubicBez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44" name="AutoShape 56"/>
            <p:cNvSpPr/>
            <p:nvPr/>
          </p:nvSpPr>
          <p:spPr>
            <a:xfrm>
              <a:off x="5079960" y="7061400"/>
              <a:ext cx="57240" cy="56880"/>
            </a:xfrm>
            <a:custGeom>
              <a:avLst/>
              <a:gdLst/>
              <a:ahLst/>
              <a:rect l="l" t="t" r="r" b="b"/>
              <a:pathLst>
                <a:path w="21600" h="21600">
                  <a:moveTo>
                    <a:pt x="21600" y="10800"/>
                  </a:moveTo>
                  <a:cubicBezTo>
                    <a:pt x="21600" y="16767"/>
                    <a:pt x="16765" y="21600"/>
                    <a:pt x="10801" y="21600"/>
                  </a:cubicBezTo>
                  <a:cubicBezTo>
                    <a:pt x="4835" y="21600"/>
                    <a:pt x="0" y="16767"/>
                    <a:pt x="0" y="10800"/>
                  </a:cubicBezTo>
                  <a:cubicBezTo>
                    <a:pt x="0" y="4833"/>
                    <a:pt x="4835" y="0"/>
                    <a:pt x="10801" y="0"/>
                  </a:cubicBezTo>
                  <a:cubicBezTo>
                    <a:pt x="16765" y="0"/>
                    <a:pt x="21600" y="4833"/>
                    <a:pt x="21600" y="10800"/>
                  </a:cubicBezTo>
                </a:path>
              </a:pathLst>
            </a:custGeom>
            <a:solidFill>
              <a:srgbClr val="4d4d4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45" name="AutoShape 57"/>
            <p:cNvSpPr/>
            <p:nvPr/>
          </p:nvSpPr>
          <p:spPr>
            <a:xfrm>
              <a:off x="5092560" y="7074000"/>
              <a:ext cx="27000" cy="27000"/>
            </a:xfrm>
            <a:custGeom>
              <a:avLst/>
              <a:gdLst/>
              <a:ahLst/>
              <a:rect l="l" t="t" r="r" b="b"/>
              <a:pathLst>
                <a:path w="21600" h="21600">
                  <a:moveTo>
                    <a:pt x="21600" y="10800"/>
                  </a:moveTo>
                  <a:cubicBezTo>
                    <a:pt x="21600" y="16763"/>
                    <a:pt x="16768" y="21600"/>
                    <a:pt x="10800" y="21600"/>
                  </a:cubicBezTo>
                  <a:cubicBezTo>
                    <a:pt x="4837" y="21600"/>
                    <a:pt x="0" y="16763"/>
                    <a:pt x="0" y="10800"/>
                  </a:cubicBezTo>
                  <a:cubicBezTo>
                    <a:pt x="0" y="4832"/>
                    <a:pt x="4837" y="0"/>
                    <a:pt x="10800" y="0"/>
                  </a:cubicBezTo>
                  <a:cubicBezTo>
                    <a:pt x="16768" y="0"/>
                    <a:pt x="21600" y="4832"/>
                    <a:pt x="21600" y="10800"/>
                  </a:cubicBezTo>
                </a:path>
              </a:pathLst>
            </a:custGeom>
            <a:solidFill>
              <a:srgbClr val="b391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46" name="AutoShape 58"/>
            <p:cNvSpPr/>
            <p:nvPr/>
          </p:nvSpPr>
          <p:spPr>
            <a:xfrm>
              <a:off x="5194080" y="7061400"/>
              <a:ext cx="127080" cy="85680"/>
            </a:xfrm>
            <a:custGeom>
              <a:avLst/>
              <a:gdLst/>
              <a:ahLst/>
              <a:rect l="l" t="t" r="r" b="b"/>
              <a:pathLst>
                <a:path w="21600" h="21600">
                  <a:moveTo>
                    <a:pt x="0" y="21600"/>
                  </a:moveTo>
                  <a:lnTo>
                    <a:pt x="0" y="0"/>
                  </a:lnTo>
                  <a:lnTo>
                    <a:pt x="8768" y="0"/>
                  </a:lnTo>
                  <a:lnTo>
                    <a:pt x="13987" y="5394"/>
                  </a:lnTo>
                  <a:lnTo>
                    <a:pt x="21600" y="5394"/>
                  </a:lnTo>
                  <a:lnTo>
                    <a:pt x="21600" y="16838"/>
                  </a:lnTo>
                  <a:lnTo>
                    <a:pt x="14169" y="16838"/>
                  </a:lnTo>
                  <a:lnTo>
                    <a:pt x="8478" y="21600"/>
                  </a:lnTo>
                  <a:cubicBezTo>
                    <a:pt x="8478" y="21600"/>
                    <a:pt x="0" y="21600"/>
                    <a:pt x="0" y="21600"/>
                  </a:cubicBezTo>
                  <a:close/>
                  <a:moveTo>
                    <a:pt x="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47" name="AutoShape 59"/>
            <p:cNvSpPr/>
            <p:nvPr/>
          </p:nvSpPr>
          <p:spPr>
            <a:xfrm>
              <a:off x="5194080" y="7047000"/>
              <a:ext cx="139680" cy="100080"/>
            </a:xfrm>
            <a:custGeom>
              <a:avLst/>
              <a:gdLst/>
              <a:ahLst/>
              <a:rect l="l" t="t" r="r" b="b"/>
              <a:pathLst>
                <a:path w="21600" h="21600">
                  <a:moveTo>
                    <a:pt x="9264" y="0"/>
                  </a:moveTo>
                  <a:lnTo>
                    <a:pt x="8643" y="0"/>
                  </a:lnTo>
                  <a:lnTo>
                    <a:pt x="1957" y="0"/>
                  </a:lnTo>
                  <a:lnTo>
                    <a:pt x="0" y="0"/>
                  </a:lnTo>
                  <a:lnTo>
                    <a:pt x="0" y="2755"/>
                  </a:lnTo>
                  <a:lnTo>
                    <a:pt x="0" y="18845"/>
                  </a:lnTo>
                  <a:lnTo>
                    <a:pt x="0" y="21600"/>
                  </a:lnTo>
                  <a:lnTo>
                    <a:pt x="1957" y="21600"/>
                  </a:lnTo>
                  <a:lnTo>
                    <a:pt x="8428" y="21600"/>
                  </a:lnTo>
                  <a:lnTo>
                    <a:pt x="8947" y="21600"/>
                  </a:lnTo>
                  <a:lnTo>
                    <a:pt x="9397" y="21239"/>
                  </a:lnTo>
                  <a:lnTo>
                    <a:pt x="14124" y="17446"/>
                  </a:lnTo>
                  <a:lnTo>
                    <a:pt x="19643" y="17446"/>
                  </a:lnTo>
                  <a:lnTo>
                    <a:pt x="21600" y="17446"/>
                  </a:lnTo>
                  <a:lnTo>
                    <a:pt x="21600" y="14691"/>
                  </a:lnTo>
                  <a:lnTo>
                    <a:pt x="21600" y="7461"/>
                  </a:lnTo>
                  <a:lnTo>
                    <a:pt x="21600" y="4706"/>
                  </a:lnTo>
                  <a:lnTo>
                    <a:pt x="19643" y="4706"/>
                  </a:lnTo>
                  <a:lnTo>
                    <a:pt x="14008" y="4706"/>
                  </a:lnTo>
                  <a:lnTo>
                    <a:pt x="9771" y="503"/>
                  </a:lnTo>
                  <a:cubicBezTo>
                    <a:pt x="9771" y="503"/>
                    <a:pt x="9264" y="0"/>
                    <a:pt x="9264" y="0"/>
                  </a:cubicBezTo>
                  <a:close/>
                  <a:moveTo>
                    <a:pt x="8643" y="2755"/>
                  </a:moveTo>
                  <a:lnTo>
                    <a:pt x="13388" y="7461"/>
                  </a:lnTo>
                  <a:lnTo>
                    <a:pt x="19643" y="7461"/>
                  </a:lnTo>
                  <a:lnTo>
                    <a:pt x="19643" y="14691"/>
                  </a:lnTo>
                  <a:lnTo>
                    <a:pt x="13603" y="14691"/>
                  </a:lnTo>
                  <a:lnTo>
                    <a:pt x="8428" y="18845"/>
                  </a:lnTo>
                  <a:lnTo>
                    <a:pt x="1957" y="18845"/>
                  </a:lnTo>
                  <a:lnTo>
                    <a:pt x="1957" y="2755"/>
                  </a:lnTo>
                  <a:cubicBezTo>
                    <a:pt x="1957" y="2755"/>
                    <a:pt x="8643" y="2755"/>
                    <a:pt x="8643" y="2755"/>
                  </a:cubicBezTo>
                  <a:close/>
                  <a:moveTo>
                    <a:pt x="8643" y="2755"/>
                  </a:moveTo>
                </a:path>
              </a:pathLst>
            </a:custGeom>
            <a:solidFill>
              <a:srgbClr val="4d4d4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48" name="AutoShape 60"/>
            <p:cNvSpPr/>
            <p:nvPr/>
          </p:nvSpPr>
          <p:spPr>
            <a:xfrm>
              <a:off x="4889520" y="7035840"/>
              <a:ext cx="20520" cy="20520"/>
            </a:xfrm>
            <a:custGeom>
              <a:avLst/>
              <a:gdLst/>
              <a:ahLst/>
              <a:rect l="l" t="t" r="r" b="b"/>
              <a:pathLst>
                <a:path w="21600" h="21600">
                  <a:moveTo>
                    <a:pt x="21600" y="10800"/>
                  </a:moveTo>
                  <a:cubicBezTo>
                    <a:pt x="21600" y="16766"/>
                    <a:pt x="16759" y="21600"/>
                    <a:pt x="10800" y="21600"/>
                  </a:cubicBezTo>
                  <a:cubicBezTo>
                    <a:pt x="4834" y="21600"/>
                    <a:pt x="0" y="16766"/>
                    <a:pt x="0" y="10800"/>
                  </a:cubicBezTo>
                  <a:cubicBezTo>
                    <a:pt x="0" y="4841"/>
                    <a:pt x="4834" y="0"/>
                    <a:pt x="10800" y="0"/>
                  </a:cubicBezTo>
                  <a:cubicBezTo>
                    <a:pt x="16759" y="0"/>
                    <a:pt x="21600" y="4841"/>
                    <a:pt x="21600" y="10800"/>
                  </a:cubicBez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49" name="AutoShape 61"/>
            <p:cNvSpPr/>
            <p:nvPr/>
          </p:nvSpPr>
          <p:spPr>
            <a:xfrm>
              <a:off x="4152960" y="6870960"/>
              <a:ext cx="120600" cy="228600"/>
            </a:xfrm>
            <a:custGeom>
              <a:avLst/>
              <a:gdLst/>
              <a:ahLst/>
              <a:rect l="l" t="t" r="r" b="b"/>
              <a:pathLst>
                <a:path w="21600" h="21600">
                  <a:moveTo>
                    <a:pt x="21600" y="0"/>
                  </a:moveTo>
                  <a:lnTo>
                    <a:pt x="20126" y="0"/>
                  </a:lnTo>
                  <a:lnTo>
                    <a:pt x="0" y="20124"/>
                  </a:lnTo>
                  <a:lnTo>
                    <a:pt x="0" y="21600"/>
                  </a:lnTo>
                  <a:cubicBezTo>
                    <a:pt x="0" y="21600"/>
                    <a:pt x="21600" y="0"/>
                    <a:pt x="21600" y="0"/>
                  </a:cubicBezTo>
                  <a:close/>
                  <a:moveTo>
                    <a:pt x="21600" y="0"/>
                  </a:moveTo>
                </a:path>
              </a:pathLst>
            </a:custGeom>
            <a:solidFill>
              <a:srgbClr val="a5a5a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50" name="AutoShape 62"/>
            <p:cNvSpPr/>
            <p:nvPr/>
          </p:nvSpPr>
          <p:spPr>
            <a:xfrm>
              <a:off x="4151160" y="6870960"/>
              <a:ext cx="176400" cy="328320"/>
            </a:xfrm>
            <a:custGeom>
              <a:avLst/>
              <a:gdLst/>
              <a:ahLst/>
              <a:rect l="l" t="t" r="r" b="b"/>
              <a:pathLst>
                <a:path w="21600" h="21600">
                  <a:moveTo>
                    <a:pt x="21600" y="0"/>
                  </a:moveTo>
                  <a:lnTo>
                    <a:pt x="20572" y="0"/>
                  </a:lnTo>
                  <a:lnTo>
                    <a:pt x="0" y="20572"/>
                  </a:lnTo>
                  <a:lnTo>
                    <a:pt x="0" y="21600"/>
                  </a:lnTo>
                  <a:cubicBezTo>
                    <a:pt x="0" y="21600"/>
                    <a:pt x="21600" y="0"/>
                    <a:pt x="21600" y="0"/>
                  </a:cubicBezTo>
                  <a:close/>
                  <a:moveTo>
                    <a:pt x="21600" y="0"/>
                  </a:moveTo>
                </a:path>
              </a:pathLst>
            </a:custGeom>
            <a:solidFill>
              <a:srgbClr val="a5a5a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51" name="AutoShape 63"/>
            <p:cNvSpPr/>
            <p:nvPr/>
          </p:nvSpPr>
          <p:spPr>
            <a:xfrm>
              <a:off x="4152960" y="6870960"/>
              <a:ext cx="225360" cy="423720"/>
            </a:xfrm>
            <a:custGeom>
              <a:avLst/>
              <a:gdLst/>
              <a:ahLst/>
              <a:rect l="l" t="t" r="r" b="b"/>
              <a:pathLst>
                <a:path w="21600" h="21600">
                  <a:moveTo>
                    <a:pt x="21600" y="0"/>
                  </a:moveTo>
                  <a:lnTo>
                    <a:pt x="20808" y="0"/>
                  </a:lnTo>
                  <a:lnTo>
                    <a:pt x="0" y="21016"/>
                  </a:lnTo>
                  <a:cubicBezTo>
                    <a:pt x="44" y="21232"/>
                    <a:pt x="113" y="21426"/>
                    <a:pt x="214" y="21600"/>
                  </a:cubicBezTo>
                  <a:cubicBezTo>
                    <a:pt x="214" y="21600"/>
                    <a:pt x="21600" y="0"/>
                    <a:pt x="21600" y="0"/>
                  </a:cubicBezTo>
                  <a:close/>
                  <a:moveTo>
                    <a:pt x="21600" y="0"/>
                  </a:moveTo>
                </a:path>
              </a:pathLst>
            </a:custGeom>
            <a:solidFill>
              <a:srgbClr val="a5a5a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52" name="AutoShape 64"/>
            <p:cNvSpPr/>
            <p:nvPr/>
          </p:nvSpPr>
          <p:spPr>
            <a:xfrm>
              <a:off x="4152960" y="6883560"/>
              <a:ext cx="6120" cy="12600"/>
            </a:xfrm>
            <a:custGeom>
              <a:avLst/>
              <a:gdLst/>
              <a:ahLst/>
              <a:rect l="l" t="t" r="r" b="b"/>
              <a:pathLst>
                <a:path w="21600" h="21600">
                  <a:moveTo>
                    <a:pt x="21600" y="0"/>
                  </a:moveTo>
                  <a:cubicBezTo>
                    <a:pt x="12063" y="5742"/>
                    <a:pt x="4825" y="12851"/>
                    <a:pt x="0" y="21600"/>
                  </a:cubicBezTo>
                  <a:cubicBezTo>
                    <a:pt x="0" y="21600"/>
                    <a:pt x="21600" y="0"/>
                    <a:pt x="21600" y="0"/>
                  </a:cubicBezTo>
                  <a:close/>
                  <a:moveTo>
                    <a:pt x="21600" y="0"/>
                  </a:moveTo>
                </a:path>
              </a:pathLst>
            </a:custGeom>
            <a:solidFill>
              <a:srgbClr val="a5a5a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53" name="AutoShape 65"/>
            <p:cNvSpPr/>
            <p:nvPr/>
          </p:nvSpPr>
          <p:spPr>
            <a:xfrm>
              <a:off x="4152960" y="6870960"/>
              <a:ext cx="68040" cy="129960"/>
            </a:xfrm>
            <a:custGeom>
              <a:avLst/>
              <a:gdLst/>
              <a:ahLst/>
              <a:rect l="l" t="t" r="r" b="b"/>
              <a:pathLst>
                <a:path w="21600" h="21600">
                  <a:moveTo>
                    <a:pt x="21600" y="0"/>
                  </a:moveTo>
                  <a:lnTo>
                    <a:pt x="18994" y="0"/>
                  </a:lnTo>
                  <a:lnTo>
                    <a:pt x="0" y="18996"/>
                  </a:lnTo>
                  <a:lnTo>
                    <a:pt x="0" y="21600"/>
                  </a:lnTo>
                  <a:cubicBezTo>
                    <a:pt x="0" y="21600"/>
                    <a:pt x="21600" y="0"/>
                    <a:pt x="21600" y="0"/>
                  </a:cubicBezTo>
                  <a:close/>
                  <a:moveTo>
                    <a:pt x="21600" y="0"/>
                  </a:moveTo>
                </a:path>
              </a:pathLst>
            </a:custGeom>
            <a:solidFill>
              <a:srgbClr val="a5a5a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54" name="AutoShape 66"/>
            <p:cNvSpPr/>
            <p:nvPr/>
          </p:nvSpPr>
          <p:spPr>
            <a:xfrm>
              <a:off x="4292640" y="6908760"/>
              <a:ext cx="220680" cy="408240"/>
            </a:xfrm>
            <a:custGeom>
              <a:avLst/>
              <a:gdLst/>
              <a:ahLst/>
              <a:rect l="l" t="t" r="r" b="b"/>
              <a:pathLst>
                <a:path w="21600" h="21600">
                  <a:moveTo>
                    <a:pt x="21600" y="333"/>
                  </a:moveTo>
                  <a:cubicBezTo>
                    <a:pt x="21439" y="221"/>
                    <a:pt x="21276" y="109"/>
                    <a:pt x="21114" y="0"/>
                  </a:cubicBezTo>
                  <a:lnTo>
                    <a:pt x="0" y="21600"/>
                  </a:lnTo>
                  <a:lnTo>
                    <a:pt x="811" y="21600"/>
                  </a:lnTo>
                  <a:cubicBezTo>
                    <a:pt x="811" y="21600"/>
                    <a:pt x="21600" y="333"/>
                    <a:pt x="21600" y="333"/>
                  </a:cubicBezTo>
                  <a:close/>
                  <a:moveTo>
                    <a:pt x="21600" y="333"/>
                  </a:moveTo>
                </a:path>
              </a:pathLst>
            </a:custGeom>
            <a:solidFill>
              <a:srgbClr val="a5a5a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55" name="AutoShape 67"/>
            <p:cNvSpPr/>
            <p:nvPr/>
          </p:nvSpPr>
          <p:spPr>
            <a:xfrm>
              <a:off x="4190760" y="6870960"/>
              <a:ext cx="244440" cy="447480"/>
            </a:xfrm>
            <a:custGeom>
              <a:avLst/>
              <a:gdLst/>
              <a:ahLst/>
              <a:rect l="l" t="t" r="r" b="b"/>
              <a:pathLst>
                <a:path w="21600" h="21600">
                  <a:moveTo>
                    <a:pt x="21600" y="0"/>
                  </a:moveTo>
                  <a:lnTo>
                    <a:pt x="20867" y="0"/>
                  </a:lnTo>
                  <a:lnTo>
                    <a:pt x="0" y="21573"/>
                  </a:lnTo>
                  <a:cubicBezTo>
                    <a:pt x="220" y="21586"/>
                    <a:pt x="456" y="21595"/>
                    <a:pt x="706" y="21600"/>
                  </a:cubicBezTo>
                  <a:cubicBezTo>
                    <a:pt x="706" y="21600"/>
                    <a:pt x="21600" y="0"/>
                    <a:pt x="21600" y="0"/>
                  </a:cubicBezTo>
                  <a:close/>
                  <a:moveTo>
                    <a:pt x="21600" y="0"/>
                  </a:moveTo>
                </a:path>
              </a:pathLst>
            </a:custGeom>
            <a:solidFill>
              <a:srgbClr val="a5a5a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56" name="AutoShape 68"/>
            <p:cNvSpPr/>
            <p:nvPr/>
          </p:nvSpPr>
          <p:spPr>
            <a:xfrm>
              <a:off x="4444920" y="7112160"/>
              <a:ext cx="112680" cy="214200"/>
            </a:xfrm>
            <a:custGeom>
              <a:avLst/>
              <a:gdLst/>
              <a:ahLst/>
              <a:rect l="l" t="t" r="r" b="b"/>
              <a:pathLst>
                <a:path w="21600" h="21600">
                  <a:moveTo>
                    <a:pt x="21600" y="1583"/>
                  </a:moveTo>
                  <a:lnTo>
                    <a:pt x="21600" y="0"/>
                  </a:lnTo>
                  <a:lnTo>
                    <a:pt x="0" y="21600"/>
                  </a:lnTo>
                  <a:lnTo>
                    <a:pt x="1583" y="21600"/>
                  </a:lnTo>
                  <a:cubicBezTo>
                    <a:pt x="1583" y="21600"/>
                    <a:pt x="21600" y="1583"/>
                    <a:pt x="21600" y="1583"/>
                  </a:cubicBezTo>
                  <a:close/>
                  <a:moveTo>
                    <a:pt x="21600" y="1583"/>
                  </a:moveTo>
                </a:path>
              </a:pathLst>
            </a:custGeom>
            <a:solidFill>
              <a:srgbClr val="a5a5a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57" name="AutoShape 69"/>
            <p:cNvSpPr/>
            <p:nvPr/>
          </p:nvSpPr>
          <p:spPr>
            <a:xfrm>
              <a:off x="4394160" y="7008840"/>
              <a:ext cx="164880" cy="314280"/>
            </a:xfrm>
            <a:custGeom>
              <a:avLst/>
              <a:gdLst/>
              <a:ahLst/>
              <a:rect l="l" t="t" r="r" b="b"/>
              <a:pathLst>
                <a:path w="21600" h="21600">
                  <a:moveTo>
                    <a:pt x="21600" y="1080"/>
                  </a:moveTo>
                  <a:lnTo>
                    <a:pt x="21600" y="0"/>
                  </a:lnTo>
                  <a:lnTo>
                    <a:pt x="0" y="21600"/>
                  </a:lnTo>
                  <a:lnTo>
                    <a:pt x="1080" y="21600"/>
                  </a:lnTo>
                  <a:cubicBezTo>
                    <a:pt x="1080" y="21600"/>
                    <a:pt x="21600" y="1080"/>
                    <a:pt x="21600" y="1080"/>
                  </a:cubicBezTo>
                  <a:close/>
                  <a:moveTo>
                    <a:pt x="21600" y="1080"/>
                  </a:moveTo>
                </a:path>
              </a:pathLst>
            </a:custGeom>
            <a:solidFill>
              <a:srgbClr val="a5a5a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58" name="AutoShape 70"/>
            <p:cNvSpPr/>
            <p:nvPr/>
          </p:nvSpPr>
          <p:spPr>
            <a:xfrm>
              <a:off x="4343400" y="6958080"/>
              <a:ext cx="198360" cy="368280"/>
            </a:xfrm>
            <a:custGeom>
              <a:avLst/>
              <a:gdLst/>
              <a:ahLst/>
              <a:rect l="l" t="t" r="r" b="b"/>
              <a:pathLst>
                <a:path w="21600" h="21600">
                  <a:moveTo>
                    <a:pt x="21600" y="403"/>
                  </a:moveTo>
                  <a:cubicBezTo>
                    <a:pt x="21437" y="272"/>
                    <a:pt x="21267" y="137"/>
                    <a:pt x="21092" y="0"/>
                  </a:cubicBezTo>
                  <a:lnTo>
                    <a:pt x="0" y="21600"/>
                  </a:lnTo>
                  <a:lnTo>
                    <a:pt x="902" y="21600"/>
                  </a:lnTo>
                  <a:cubicBezTo>
                    <a:pt x="902" y="21600"/>
                    <a:pt x="21600" y="403"/>
                    <a:pt x="21600" y="403"/>
                  </a:cubicBezTo>
                  <a:close/>
                  <a:moveTo>
                    <a:pt x="21600" y="403"/>
                  </a:moveTo>
                </a:path>
              </a:pathLst>
            </a:custGeom>
            <a:solidFill>
              <a:srgbClr val="a5a5a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59" name="AutoShape 71"/>
            <p:cNvSpPr/>
            <p:nvPr/>
          </p:nvSpPr>
          <p:spPr>
            <a:xfrm>
              <a:off x="4241880" y="6883560"/>
              <a:ext cx="239400" cy="442800"/>
            </a:xfrm>
            <a:custGeom>
              <a:avLst/>
              <a:gdLst/>
              <a:ahLst/>
              <a:rect l="l" t="t" r="r" b="b"/>
              <a:pathLst>
                <a:path w="21600" h="21600">
                  <a:moveTo>
                    <a:pt x="21600" y="219"/>
                  </a:moveTo>
                  <a:cubicBezTo>
                    <a:pt x="21416" y="134"/>
                    <a:pt x="21237" y="60"/>
                    <a:pt x="21069" y="0"/>
                  </a:cubicBezTo>
                  <a:lnTo>
                    <a:pt x="0" y="21600"/>
                  </a:lnTo>
                  <a:lnTo>
                    <a:pt x="745" y="21600"/>
                  </a:lnTo>
                  <a:cubicBezTo>
                    <a:pt x="745" y="21600"/>
                    <a:pt x="21600" y="219"/>
                    <a:pt x="21600" y="219"/>
                  </a:cubicBezTo>
                  <a:close/>
                  <a:moveTo>
                    <a:pt x="21600" y="219"/>
                  </a:moveTo>
                </a:path>
              </a:pathLst>
            </a:custGeom>
            <a:solidFill>
              <a:srgbClr val="a5a5a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60" name="AutoShape 72"/>
            <p:cNvSpPr/>
            <p:nvPr/>
          </p:nvSpPr>
          <p:spPr>
            <a:xfrm>
              <a:off x="4152960" y="6870960"/>
              <a:ext cx="411120" cy="447480"/>
            </a:xfrm>
            <a:custGeom>
              <a:avLst/>
              <a:gdLst/>
              <a:ahLst/>
              <a:rect l="l" t="t" r="r" b="b"/>
              <a:pathLst>
                <a:path w="21600" h="21600">
                  <a:moveTo>
                    <a:pt x="16356" y="0"/>
                  </a:moveTo>
                  <a:lnTo>
                    <a:pt x="2498" y="0"/>
                  </a:lnTo>
                  <a:cubicBezTo>
                    <a:pt x="727" y="0"/>
                    <a:pt x="0" y="586"/>
                    <a:pt x="0" y="2298"/>
                  </a:cubicBezTo>
                  <a:lnTo>
                    <a:pt x="0" y="19302"/>
                  </a:lnTo>
                  <a:cubicBezTo>
                    <a:pt x="0" y="20911"/>
                    <a:pt x="535" y="21600"/>
                    <a:pt x="2498" y="21600"/>
                  </a:cubicBezTo>
                  <a:lnTo>
                    <a:pt x="16356" y="21600"/>
                  </a:lnTo>
                  <a:cubicBezTo>
                    <a:pt x="17735" y="21600"/>
                    <a:pt x="21600" y="15900"/>
                    <a:pt x="21600" y="15900"/>
                  </a:cubicBezTo>
                  <a:lnTo>
                    <a:pt x="21600" y="5701"/>
                  </a:lnTo>
                  <a:cubicBezTo>
                    <a:pt x="21600" y="5701"/>
                    <a:pt x="17735" y="0"/>
                    <a:pt x="16356" y="0"/>
                  </a:cubicBezTo>
                  <a:close/>
                  <a:moveTo>
                    <a:pt x="16356" y="0"/>
                  </a:moveTo>
                </a:path>
              </a:pathLst>
            </a:custGeom>
            <a:noFill/>
            <a:ln w="5040">
              <a:solidFill>
                <a:srgbClr val="4d4d4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61" name="AutoShape 73"/>
            <p:cNvSpPr/>
            <p:nvPr/>
          </p:nvSpPr>
          <p:spPr>
            <a:xfrm>
              <a:off x="4190760" y="7047000"/>
              <a:ext cx="119160" cy="120600"/>
            </a:xfrm>
            <a:custGeom>
              <a:avLst/>
              <a:gdLst/>
              <a:ahLst/>
              <a:rect l="l" t="t" r="r" b="b"/>
              <a:pathLst>
                <a:path w="21600" h="21600">
                  <a:moveTo>
                    <a:pt x="21600" y="10800"/>
                  </a:moveTo>
                  <a:cubicBezTo>
                    <a:pt x="21600" y="16766"/>
                    <a:pt x="16765" y="21600"/>
                    <a:pt x="10800" y="21600"/>
                  </a:cubicBezTo>
                  <a:cubicBezTo>
                    <a:pt x="4836" y="21600"/>
                    <a:pt x="0" y="16766"/>
                    <a:pt x="0" y="10800"/>
                  </a:cubicBezTo>
                  <a:cubicBezTo>
                    <a:pt x="0" y="4835"/>
                    <a:pt x="4836" y="0"/>
                    <a:pt x="10800" y="0"/>
                  </a:cubicBezTo>
                  <a:cubicBezTo>
                    <a:pt x="16765" y="0"/>
                    <a:pt x="21600" y="4835"/>
                    <a:pt x="21600" y="10800"/>
                  </a:cubicBezTo>
                </a:path>
              </a:pathLst>
            </a:custGeom>
            <a:solidFill>
              <a:srgbClr val="4d4d4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62" name="AutoShape 74"/>
            <p:cNvSpPr/>
            <p:nvPr/>
          </p:nvSpPr>
          <p:spPr>
            <a:xfrm>
              <a:off x="4190760" y="7047000"/>
              <a:ext cx="119160" cy="120600"/>
            </a:xfrm>
            <a:custGeom>
              <a:avLst/>
              <a:gdLst/>
              <a:ahLst/>
              <a:rect l="l" t="t" r="r" b="b"/>
              <a:pathLst>
                <a:path w="21600" h="21600">
                  <a:moveTo>
                    <a:pt x="21600" y="10800"/>
                  </a:moveTo>
                  <a:cubicBezTo>
                    <a:pt x="21600" y="16766"/>
                    <a:pt x="16765" y="21600"/>
                    <a:pt x="10800" y="21600"/>
                  </a:cubicBezTo>
                  <a:cubicBezTo>
                    <a:pt x="4836" y="21600"/>
                    <a:pt x="0" y="16766"/>
                    <a:pt x="0" y="10800"/>
                  </a:cubicBezTo>
                  <a:cubicBezTo>
                    <a:pt x="0" y="4835"/>
                    <a:pt x="4836" y="0"/>
                    <a:pt x="10800" y="0"/>
                  </a:cubicBezTo>
                  <a:cubicBezTo>
                    <a:pt x="16765" y="0"/>
                    <a:pt x="21600" y="4835"/>
                    <a:pt x="21600" y="10800"/>
                  </a:cubicBezTo>
                  <a:close/>
                  <a:moveTo>
                    <a:pt x="21600" y="10800"/>
                  </a:moveTo>
                </a:path>
              </a:pathLst>
            </a:custGeom>
            <a:noFill/>
            <a:ln w="16560">
              <a:solidFill>
                <a:srgbClr val="707072"/>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463" name="Group 99"/>
          <p:cNvGrpSpPr/>
          <p:nvPr/>
        </p:nvGrpSpPr>
        <p:grpSpPr>
          <a:xfrm>
            <a:off x="9820440" y="6703920"/>
            <a:ext cx="558360" cy="774720"/>
            <a:chOff x="9820440" y="6703920"/>
            <a:chExt cx="558360" cy="774720"/>
          </a:xfrm>
        </p:grpSpPr>
        <p:sp>
          <p:nvSpPr>
            <p:cNvPr id="464" name="AutoShape 76"/>
            <p:cNvSpPr/>
            <p:nvPr/>
          </p:nvSpPr>
          <p:spPr>
            <a:xfrm>
              <a:off x="9828360" y="6713280"/>
              <a:ext cx="537840" cy="749520"/>
            </a:xfrm>
            <a:custGeom>
              <a:avLst/>
              <a:gdLst/>
              <a:ahLst/>
              <a:rect l="l" t="t" r="r" b="b"/>
              <a:pathLst>
                <a:path w="21600" h="21600">
                  <a:moveTo>
                    <a:pt x="0" y="21600"/>
                  </a:moveTo>
                  <a:lnTo>
                    <a:pt x="0" y="0"/>
                  </a:lnTo>
                  <a:lnTo>
                    <a:pt x="17852" y="0"/>
                  </a:lnTo>
                  <a:lnTo>
                    <a:pt x="21600" y="2980"/>
                  </a:lnTo>
                  <a:lnTo>
                    <a:pt x="21600" y="21600"/>
                  </a:lnTo>
                  <a:cubicBezTo>
                    <a:pt x="21600" y="21600"/>
                    <a:pt x="0" y="21600"/>
                    <a:pt x="0" y="21600"/>
                  </a:cubicBezTo>
                  <a:close/>
                  <a:moveTo>
                    <a:pt x="0" y="21600"/>
                  </a:moveTo>
                </a:path>
              </a:pathLst>
            </a:custGeom>
            <a:solidFill>
              <a:srgbClr val="ffef9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65" name="AutoShape 77"/>
            <p:cNvSpPr/>
            <p:nvPr/>
          </p:nvSpPr>
          <p:spPr>
            <a:xfrm>
              <a:off x="9820440" y="6703920"/>
              <a:ext cx="558360" cy="774720"/>
            </a:xfrm>
            <a:custGeom>
              <a:avLst/>
              <a:gdLst/>
              <a:ahLst/>
              <a:rect l="l" t="t" r="r" b="b"/>
              <a:pathLst>
                <a:path w="21600" h="21600">
                  <a:moveTo>
                    <a:pt x="17743" y="0"/>
                  </a:moveTo>
                  <a:lnTo>
                    <a:pt x="0" y="0"/>
                  </a:lnTo>
                  <a:lnTo>
                    <a:pt x="0" y="21600"/>
                  </a:lnTo>
                  <a:lnTo>
                    <a:pt x="21600" y="21600"/>
                  </a:lnTo>
                  <a:lnTo>
                    <a:pt x="21600" y="3094"/>
                  </a:lnTo>
                  <a:cubicBezTo>
                    <a:pt x="21600" y="3094"/>
                    <a:pt x="17743" y="0"/>
                    <a:pt x="17743" y="0"/>
                  </a:cubicBezTo>
                  <a:close/>
                  <a:moveTo>
                    <a:pt x="17364" y="734"/>
                  </a:moveTo>
                  <a:lnTo>
                    <a:pt x="20685" y="3398"/>
                  </a:lnTo>
                  <a:lnTo>
                    <a:pt x="20685" y="20866"/>
                  </a:lnTo>
                  <a:lnTo>
                    <a:pt x="915" y="20866"/>
                  </a:lnTo>
                  <a:lnTo>
                    <a:pt x="915" y="734"/>
                  </a:lnTo>
                  <a:cubicBezTo>
                    <a:pt x="915" y="734"/>
                    <a:pt x="17364" y="734"/>
                    <a:pt x="17364" y="734"/>
                  </a:cubicBezTo>
                  <a:close/>
                  <a:moveTo>
                    <a:pt x="17364" y="734"/>
                  </a:moveTo>
                </a:path>
              </a:pathLst>
            </a:custGeom>
            <a:solidFill>
              <a:srgbClr val="3d414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66" name="AutoShape 78"/>
            <p:cNvSpPr/>
            <p:nvPr/>
          </p:nvSpPr>
          <p:spPr>
            <a:xfrm>
              <a:off x="10264320" y="6724440"/>
              <a:ext cx="104760" cy="112680"/>
            </a:xfrm>
            <a:custGeom>
              <a:avLst/>
              <a:gdLst/>
              <a:ahLst/>
              <a:rect l="l" t="t" r="r" b="b"/>
              <a:pathLst>
                <a:path w="21600" h="21600">
                  <a:moveTo>
                    <a:pt x="0" y="0"/>
                  </a:moveTo>
                  <a:lnTo>
                    <a:pt x="0" y="21600"/>
                  </a:lnTo>
                  <a:lnTo>
                    <a:pt x="21600" y="21600"/>
                  </a:lnTo>
                </a:path>
              </a:pathLst>
            </a:custGeom>
            <a:solidFill>
              <a:srgbClr val="b391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67" name="AutoShape 79"/>
            <p:cNvSpPr/>
            <p:nvPr/>
          </p:nvSpPr>
          <p:spPr>
            <a:xfrm>
              <a:off x="10264320" y="6724440"/>
              <a:ext cx="104760" cy="112680"/>
            </a:xfrm>
            <a:custGeom>
              <a:avLst/>
              <a:gdLst/>
              <a:ahLst/>
              <a:rect l="l" t="t" r="r" b="b"/>
              <a:pathLst>
                <a:path w="21600" h="21600">
                  <a:moveTo>
                    <a:pt x="0" y="0"/>
                  </a:moveTo>
                  <a:lnTo>
                    <a:pt x="0" y="21600"/>
                  </a:lnTo>
                  <a:lnTo>
                    <a:pt x="21600" y="21600"/>
                  </a:lnTo>
                </a:path>
              </a:pathLst>
            </a:custGeom>
            <a:noFill/>
            <a:ln w="32040">
              <a:solidFill>
                <a:srgbClr val="00a8e6"/>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68" name="AutoShape 80"/>
            <p:cNvSpPr/>
            <p:nvPr/>
          </p:nvSpPr>
          <p:spPr>
            <a:xfrm>
              <a:off x="9875880" y="6765840"/>
              <a:ext cx="342000" cy="2376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69" name="AutoShape 81"/>
            <p:cNvSpPr/>
            <p:nvPr/>
          </p:nvSpPr>
          <p:spPr>
            <a:xfrm>
              <a:off x="9875880" y="6818400"/>
              <a:ext cx="342000" cy="2376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70" name="AutoShape 82"/>
            <p:cNvSpPr/>
            <p:nvPr/>
          </p:nvSpPr>
          <p:spPr>
            <a:xfrm>
              <a:off x="9875880" y="6870600"/>
              <a:ext cx="342000" cy="2376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71" name="AutoShape 83"/>
            <p:cNvSpPr/>
            <p:nvPr/>
          </p:nvSpPr>
          <p:spPr>
            <a:xfrm>
              <a:off x="10055880" y="7257960"/>
              <a:ext cx="275040" cy="2556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72" name="AutoShape 84"/>
            <p:cNvSpPr/>
            <p:nvPr/>
          </p:nvSpPr>
          <p:spPr>
            <a:xfrm>
              <a:off x="10055880" y="7310520"/>
              <a:ext cx="275040" cy="252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73" name="AutoShape 85"/>
            <p:cNvSpPr/>
            <p:nvPr/>
          </p:nvSpPr>
          <p:spPr>
            <a:xfrm>
              <a:off x="10055880" y="7362720"/>
              <a:ext cx="275040" cy="2556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74" name="AutoShape 86"/>
            <p:cNvSpPr/>
            <p:nvPr/>
          </p:nvSpPr>
          <p:spPr>
            <a:xfrm>
              <a:off x="10245240" y="7027920"/>
              <a:ext cx="90720" cy="1584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75" name="AutoShape 87"/>
            <p:cNvSpPr/>
            <p:nvPr/>
          </p:nvSpPr>
          <p:spPr>
            <a:xfrm>
              <a:off x="10245240" y="7059600"/>
              <a:ext cx="90720" cy="1584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76" name="AutoShape 88"/>
            <p:cNvSpPr/>
            <p:nvPr/>
          </p:nvSpPr>
          <p:spPr>
            <a:xfrm>
              <a:off x="10245240" y="7091280"/>
              <a:ext cx="90720" cy="1584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77" name="AutoShape 89"/>
            <p:cNvSpPr/>
            <p:nvPr/>
          </p:nvSpPr>
          <p:spPr>
            <a:xfrm>
              <a:off x="10245240" y="7122960"/>
              <a:ext cx="90720" cy="1584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78" name="AutoShape 90"/>
            <p:cNvSpPr/>
            <p:nvPr/>
          </p:nvSpPr>
          <p:spPr>
            <a:xfrm>
              <a:off x="10245240" y="7153200"/>
              <a:ext cx="90720" cy="1728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707072"/>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79" name="AutoShape 91"/>
            <p:cNvSpPr/>
            <p:nvPr/>
          </p:nvSpPr>
          <p:spPr>
            <a:xfrm>
              <a:off x="9885600" y="7038720"/>
              <a:ext cx="52200" cy="13032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80" name="AutoShape 92"/>
            <p:cNvSpPr/>
            <p:nvPr/>
          </p:nvSpPr>
          <p:spPr>
            <a:xfrm>
              <a:off x="9952200" y="6923160"/>
              <a:ext cx="52560" cy="24588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81" name="AutoShape 93"/>
            <p:cNvSpPr/>
            <p:nvPr/>
          </p:nvSpPr>
          <p:spPr>
            <a:xfrm>
              <a:off x="10027080" y="6966000"/>
              <a:ext cx="52560" cy="2016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b391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82" name="AutoShape 94"/>
            <p:cNvSpPr/>
            <p:nvPr/>
          </p:nvSpPr>
          <p:spPr>
            <a:xfrm>
              <a:off x="10093680" y="7007040"/>
              <a:ext cx="52560" cy="16200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005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83" name="AutoShape 95"/>
            <p:cNvSpPr/>
            <p:nvPr/>
          </p:nvSpPr>
          <p:spPr>
            <a:xfrm>
              <a:off x="10168920" y="7080120"/>
              <a:ext cx="52200" cy="87480"/>
            </a:xfrm>
            <a:custGeom>
              <a:avLst/>
              <a:gdLst/>
              <a:ahLst/>
              <a:rect l="l" t="t" r="r" b="b"/>
              <a:pathLst>
                <a:path w="21600" h="21600">
                  <a:moveTo>
                    <a:pt x="21600" y="21600"/>
                  </a:moveTo>
                  <a:lnTo>
                    <a:pt x="0" y="21600"/>
                  </a:lnTo>
                  <a:lnTo>
                    <a:pt x="0" y="0"/>
                  </a:lnTo>
                  <a:lnTo>
                    <a:pt x="21600" y="0"/>
                  </a:lnTo>
                  <a:cubicBezTo>
                    <a:pt x="21600" y="0"/>
                    <a:pt x="21600" y="21600"/>
                    <a:pt x="21600" y="21600"/>
                  </a:cubicBezTo>
                  <a:close/>
                  <a:moveTo>
                    <a:pt x="21600" y="21600"/>
                  </a:move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84" name="AutoShape 96"/>
            <p:cNvSpPr/>
            <p:nvPr/>
          </p:nvSpPr>
          <p:spPr>
            <a:xfrm>
              <a:off x="9875880" y="7227720"/>
              <a:ext cx="76320" cy="165240"/>
            </a:xfrm>
            <a:custGeom>
              <a:avLst/>
              <a:gdLst/>
              <a:ahLst/>
              <a:rect l="l" t="t" r="r" b="b"/>
              <a:pathLst>
                <a:path w="21600" h="21600">
                  <a:moveTo>
                    <a:pt x="16102" y="16448"/>
                  </a:moveTo>
                  <a:lnTo>
                    <a:pt x="10296" y="21600"/>
                  </a:lnTo>
                  <a:cubicBezTo>
                    <a:pt x="4095" y="19484"/>
                    <a:pt x="0" y="15872"/>
                    <a:pt x="0" y="11768"/>
                  </a:cubicBezTo>
                  <a:cubicBezTo>
                    <a:pt x="0" y="5498"/>
                    <a:pt x="9550" y="384"/>
                    <a:pt x="21600" y="0"/>
                  </a:cubicBezTo>
                  <a:lnTo>
                    <a:pt x="21600" y="5939"/>
                  </a:lnTo>
                  <a:cubicBezTo>
                    <a:pt x="15933" y="6308"/>
                    <a:pt x="11520" y="8766"/>
                    <a:pt x="11520" y="11768"/>
                  </a:cubicBezTo>
                  <a:cubicBezTo>
                    <a:pt x="11520" y="13683"/>
                    <a:pt x="13336" y="15371"/>
                    <a:pt x="16102" y="16448"/>
                  </a:cubicBezTo>
                </a:path>
              </a:pathLst>
            </a:custGeom>
            <a:solidFill>
              <a:srgbClr val="00a8e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85" name="AutoShape 97"/>
            <p:cNvSpPr/>
            <p:nvPr/>
          </p:nvSpPr>
          <p:spPr>
            <a:xfrm>
              <a:off x="9961920" y="7227720"/>
              <a:ext cx="61920" cy="61920"/>
            </a:xfrm>
            <a:custGeom>
              <a:avLst/>
              <a:gdLst/>
              <a:ahLst/>
              <a:rect l="l" t="t" r="r" b="b"/>
              <a:pathLst>
                <a:path w="21600" h="21600">
                  <a:moveTo>
                    <a:pt x="9364" y="21600"/>
                  </a:moveTo>
                  <a:lnTo>
                    <a:pt x="21600" y="13778"/>
                  </a:lnTo>
                  <a:cubicBezTo>
                    <a:pt x="16881" y="5924"/>
                    <a:pt x="9017" y="619"/>
                    <a:pt x="0" y="0"/>
                  </a:cubicBezTo>
                  <a:lnTo>
                    <a:pt x="0" y="15623"/>
                  </a:lnTo>
                  <a:cubicBezTo>
                    <a:pt x="3821" y="16158"/>
                    <a:pt x="7140" y="18366"/>
                    <a:pt x="9364" y="21600"/>
                  </a:cubicBezTo>
                </a:path>
              </a:pathLst>
            </a:custGeom>
            <a:solidFill>
              <a:srgbClr val="d4727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86" name="AutoShape 98"/>
            <p:cNvSpPr/>
            <p:nvPr/>
          </p:nvSpPr>
          <p:spPr>
            <a:xfrm>
              <a:off x="9923760" y="7280280"/>
              <a:ext cx="117360" cy="129960"/>
            </a:xfrm>
            <a:custGeom>
              <a:avLst/>
              <a:gdLst/>
              <a:ahLst/>
              <a:rect l="l" t="t" r="r" b="b"/>
              <a:pathLst>
                <a:path w="21600" h="21600">
                  <a:moveTo>
                    <a:pt x="20026" y="0"/>
                  </a:moveTo>
                  <a:lnTo>
                    <a:pt x="13536" y="3747"/>
                  </a:lnTo>
                  <a:cubicBezTo>
                    <a:pt x="13913" y="4638"/>
                    <a:pt x="14122" y="5618"/>
                    <a:pt x="14122" y="6646"/>
                  </a:cubicBezTo>
                  <a:cubicBezTo>
                    <a:pt x="14122" y="10770"/>
                    <a:pt x="10770" y="14124"/>
                    <a:pt x="6646" y="14124"/>
                  </a:cubicBezTo>
                  <a:cubicBezTo>
                    <a:pt x="5620" y="14124"/>
                    <a:pt x="4638" y="13916"/>
                    <a:pt x="3749" y="13538"/>
                  </a:cubicBezTo>
                  <a:lnTo>
                    <a:pt x="0" y="20027"/>
                  </a:lnTo>
                  <a:cubicBezTo>
                    <a:pt x="2005" y="21026"/>
                    <a:pt x="4255" y="21600"/>
                    <a:pt x="6646" y="21600"/>
                  </a:cubicBezTo>
                  <a:cubicBezTo>
                    <a:pt x="14904" y="21600"/>
                    <a:pt x="21600" y="14906"/>
                    <a:pt x="21600" y="6646"/>
                  </a:cubicBezTo>
                  <a:cubicBezTo>
                    <a:pt x="21600" y="4255"/>
                    <a:pt x="21024" y="2005"/>
                    <a:pt x="20026" y="0"/>
                  </a:cubicBezTo>
                </a:path>
              </a:pathLst>
            </a:custGeom>
            <a:solidFill>
              <a:srgbClr val="a8e88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Oval 1"/>
          <p:cNvSpPr/>
          <p:nvPr/>
        </p:nvSpPr>
        <p:spPr>
          <a:xfrm>
            <a:off x="1360440" y="5315040"/>
            <a:ext cx="450720" cy="45396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88" name="Line 2"/>
          <p:cNvSpPr/>
          <p:nvPr/>
        </p:nvSpPr>
        <p:spPr>
          <a:xfrm>
            <a:off x="1591560" y="5545080"/>
            <a:ext cx="9890280" cy="0"/>
          </a:xfrm>
          <a:prstGeom prst="line">
            <a:avLst/>
          </a:prstGeom>
          <a:ln w="38160">
            <a:solidFill>
              <a:srgbClr val="5a697c"/>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89" name="Oval 3"/>
          <p:cNvSpPr/>
          <p:nvPr/>
        </p:nvSpPr>
        <p:spPr>
          <a:xfrm>
            <a:off x="7253280" y="5322960"/>
            <a:ext cx="450720" cy="45396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90" name="Oval 4"/>
          <p:cNvSpPr/>
          <p:nvPr/>
        </p:nvSpPr>
        <p:spPr>
          <a:xfrm>
            <a:off x="11201400" y="5322960"/>
            <a:ext cx="450720" cy="45396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91" name="Rectangle 5"/>
          <p:cNvSpPr/>
          <p:nvPr/>
        </p:nvSpPr>
        <p:spPr>
          <a:xfrm>
            <a:off x="8472600" y="2573280"/>
            <a:ext cx="3435120" cy="20131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Suspendisse hendrerit fermentum arcu, nec efficitur sem ultrices id. Praesent quis magna.</a:t>
            </a:r>
            <a:endParaRPr b="0" lang="en-US" sz="2200" spc="-1" strike="noStrike">
              <a:solidFill>
                <a:srgbClr val="595959"/>
              </a:solidFill>
              <a:latin typeface="Lora"/>
            </a:endParaRPr>
          </a:p>
        </p:txBody>
      </p:sp>
      <p:sp>
        <p:nvSpPr>
          <p:cNvPr id="492" name="Rectangle 6"/>
          <p:cNvSpPr/>
          <p:nvPr/>
        </p:nvSpPr>
        <p:spPr>
          <a:xfrm>
            <a:off x="6600960" y="5961240"/>
            <a:ext cx="3678120" cy="23572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Suspendisse hendrerit fermentum arcu, nec efficitur sem ultrices id. Praesent quis magna viverra turpis rutrum.</a:t>
            </a:r>
            <a:endParaRPr b="0" lang="en-US" sz="2200" spc="-1" strike="noStrike">
              <a:solidFill>
                <a:srgbClr val="595959"/>
              </a:solidFill>
              <a:latin typeface="Lora"/>
            </a:endParaRPr>
          </a:p>
        </p:txBody>
      </p:sp>
      <p:grpSp>
        <p:nvGrpSpPr>
          <p:cNvPr id="493" name="Group 12"/>
          <p:cNvGrpSpPr/>
          <p:nvPr/>
        </p:nvGrpSpPr>
        <p:grpSpPr>
          <a:xfrm>
            <a:off x="919080" y="3149640"/>
            <a:ext cx="5327280" cy="5025600"/>
            <a:chOff x="919080" y="3149640"/>
            <a:chExt cx="5327280" cy="5025600"/>
          </a:xfrm>
        </p:grpSpPr>
        <p:sp>
          <p:nvSpPr>
            <p:cNvPr id="494" name="AutoShape 7"/>
            <p:cNvSpPr/>
            <p:nvPr/>
          </p:nvSpPr>
          <p:spPr>
            <a:xfrm>
              <a:off x="1647720" y="7827480"/>
              <a:ext cx="3861720" cy="347760"/>
            </a:xfrm>
            <a:prstGeom prst="roundRect">
              <a:avLst>
                <a:gd name="adj" fmla="val 47523"/>
              </a:avLst>
            </a:prstGeom>
            <a:solidFill>
              <a:srgbClr val="71717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95" name="AutoShape 8"/>
            <p:cNvSpPr/>
            <p:nvPr/>
          </p:nvSpPr>
          <p:spPr>
            <a:xfrm>
              <a:off x="3191040" y="6634800"/>
              <a:ext cx="792360" cy="281160"/>
            </a:xfrm>
            <a:custGeom>
              <a:avLst/>
              <a:gdLst/>
              <a:ahLst/>
              <a:rect l="l" t="t" r="r" b="b"/>
              <a:pathLst>
                <a:path w="21600" h="21600">
                  <a:moveTo>
                    <a:pt x="0" y="0"/>
                  </a:moveTo>
                  <a:cubicBezTo>
                    <a:pt x="0" y="8100"/>
                    <a:pt x="2257" y="15300"/>
                    <a:pt x="5803" y="18900"/>
                  </a:cubicBezTo>
                  <a:cubicBezTo>
                    <a:pt x="7415" y="20700"/>
                    <a:pt x="9027" y="21600"/>
                    <a:pt x="10639" y="21600"/>
                  </a:cubicBezTo>
                  <a:cubicBezTo>
                    <a:pt x="12573" y="21600"/>
                    <a:pt x="14185" y="20700"/>
                    <a:pt x="15797" y="18900"/>
                  </a:cubicBezTo>
                  <a:cubicBezTo>
                    <a:pt x="19343" y="15300"/>
                    <a:pt x="21600" y="8100"/>
                    <a:pt x="21600" y="0"/>
                  </a:cubicBezTo>
                  <a:cubicBezTo>
                    <a:pt x="14507" y="0"/>
                    <a:pt x="14507" y="0"/>
                    <a:pt x="14507" y="0"/>
                  </a:cubicBezTo>
                  <a:cubicBezTo>
                    <a:pt x="10639" y="0"/>
                    <a:pt x="10639" y="0"/>
                    <a:pt x="10639" y="0"/>
                  </a:cubicBezTo>
                  <a:cubicBezTo>
                    <a:pt x="7093" y="0"/>
                    <a:pt x="7093" y="0"/>
                    <a:pt x="7093" y="0"/>
                  </a:cubicBezTo>
                  <a:lnTo>
                    <a:pt x="0" y="0"/>
                  </a:lnTo>
                  <a:close/>
                  <a:moveTo>
                    <a:pt x="0" y="0"/>
                  </a:moveTo>
                </a:path>
              </a:pathLst>
            </a:custGeom>
            <a:solidFill>
              <a:srgbClr val="a5a5a5"/>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96" name="AutoShape 9"/>
            <p:cNvSpPr/>
            <p:nvPr/>
          </p:nvSpPr>
          <p:spPr>
            <a:xfrm>
              <a:off x="2897640" y="6882480"/>
              <a:ext cx="1379880" cy="1060560"/>
            </a:xfrm>
            <a:custGeom>
              <a:avLst/>
              <a:gdLst/>
              <a:ahLst/>
              <a:rect l="l" t="t" r="r" b="b"/>
              <a:pathLst>
                <a:path w="21600" h="21600">
                  <a:moveTo>
                    <a:pt x="10708" y="720"/>
                  </a:moveTo>
                  <a:cubicBezTo>
                    <a:pt x="9785" y="720"/>
                    <a:pt x="8862" y="480"/>
                    <a:pt x="7938" y="0"/>
                  </a:cubicBezTo>
                  <a:cubicBezTo>
                    <a:pt x="6092" y="9120"/>
                    <a:pt x="1477" y="18480"/>
                    <a:pt x="0" y="21600"/>
                  </a:cubicBezTo>
                  <a:cubicBezTo>
                    <a:pt x="10708" y="21600"/>
                    <a:pt x="10708" y="21600"/>
                    <a:pt x="10708" y="21600"/>
                  </a:cubicBezTo>
                  <a:cubicBezTo>
                    <a:pt x="21600" y="21600"/>
                    <a:pt x="21600" y="21600"/>
                    <a:pt x="21600" y="21600"/>
                  </a:cubicBezTo>
                  <a:cubicBezTo>
                    <a:pt x="19938" y="18480"/>
                    <a:pt x="15692" y="9120"/>
                    <a:pt x="13662" y="0"/>
                  </a:cubicBezTo>
                  <a:cubicBezTo>
                    <a:pt x="12738" y="480"/>
                    <a:pt x="11815" y="720"/>
                    <a:pt x="10708" y="720"/>
                  </a:cubicBezTo>
                  <a:close/>
                  <a:moveTo>
                    <a:pt x="10708" y="720"/>
                  </a:moveTo>
                </a:path>
              </a:pathLst>
            </a:custGeom>
            <a:solidFill>
              <a:srgbClr val="7f7f7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97" name="AutoShape 10"/>
            <p:cNvSpPr/>
            <p:nvPr/>
          </p:nvSpPr>
          <p:spPr>
            <a:xfrm>
              <a:off x="919080" y="3149640"/>
              <a:ext cx="5327280" cy="3585240"/>
            </a:xfrm>
            <a:custGeom>
              <a:avLst/>
              <a:gdLst/>
              <a:ahLst/>
              <a:rect l="l" t="t" r="r" b="b"/>
              <a:pathLst>
                <a:path w="21600" h="21600">
                  <a:moveTo>
                    <a:pt x="21600" y="20636"/>
                  </a:moveTo>
                  <a:cubicBezTo>
                    <a:pt x="21600" y="21168"/>
                    <a:pt x="21376" y="21600"/>
                    <a:pt x="21108" y="21600"/>
                  </a:cubicBezTo>
                  <a:cubicBezTo>
                    <a:pt x="514" y="21600"/>
                    <a:pt x="514" y="21600"/>
                    <a:pt x="514" y="21600"/>
                  </a:cubicBezTo>
                  <a:cubicBezTo>
                    <a:pt x="224" y="21600"/>
                    <a:pt x="0" y="21168"/>
                    <a:pt x="0" y="20636"/>
                  </a:cubicBezTo>
                  <a:cubicBezTo>
                    <a:pt x="0" y="964"/>
                    <a:pt x="0" y="964"/>
                    <a:pt x="0" y="964"/>
                  </a:cubicBezTo>
                  <a:cubicBezTo>
                    <a:pt x="0" y="432"/>
                    <a:pt x="224" y="0"/>
                    <a:pt x="514" y="0"/>
                  </a:cubicBezTo>
                  <a:cubicBezTo>
                    <a:pt x="21108" y="0"/>
                    <a:pt x="21108" y="0"/>
                    <a:pt x="21108" y="0"/>
                  </a:cubicBezTo>
                  <a:cubicBezTo>
                    <a:pt x="21376" y="0"/>
                    <a:pt x="21600" y="432"/>
                    <a:pt x="21600" y="964"/>
                  </a:cubicBezTo>
                  <a:lnTo>
                    <a:pt x="21600" y="20636"/>
                  </a:lnTo>
                  <a:close/>
                  <a:moveTo>
                    <a:pt x="21600" y="20636"/>
                  </a:moveTo>
                </a:path>
              </a:pathLst>
            </a:custGeom>
            <a:solidFill>
              <a:srgbClr val="67666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98" name="Rectangle 11"/>
            <p:cNvSpPr/>
            <p:nvPr/>
          </p:nvSpPr>
          <p:spPr>
            <a:xfrm>
              <a:off x="1165320" y="3397320"/>
              <a:ext cx="4852440" cy="2985120"/>
            </a:xfrm>
            <a:prstGeom prst="rect">
              <a:avLst/>
            </a:prstGeom>
            <a:solidFill>
              <a:srgbClr val="34333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grpSp>
        <p:nvGrpSpPr>
          <p:cNvPr id="499" name="Group 17"/>
          <p:cNvGrpSpPr/>
          <p:nvPr/>
        </p:nvGrpSpPr>
        <p:grpSpPr>
          <a:xfrm>
            <a:off x="10871280" y="5527800"/>
            <a:ext cx="1119240" cy="2353320"/>
            <a:chOff x="10871280" y="5527800"/>
            <a:chExt cx="1119240" cy="2353320"/>
          </a:xfrm>
        </p:grpSpPr>
        <p:sp>
          <p:nvSpPr>
            <p:cNvPr id="500" name="Line 13"/>
            <p:cNvSpPr/>
            <p:nvPr/>
          </p:nvSpPr>
          <p:spPr>
            <a:xfrm>
              <a:off x="11426760" y="5527800"/>
              <a:ext cx="0" cy="1349280"/>
            </a:xfrm>
            <a:prstGeom prst="line">
              <a:avLst/>
            </a:prstGeom>
            <a:ln w="28440">
              <a:solidFill>
                <a:srgbClr val="b7cc7c"/>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501" name="Group 16"/>
            <p:cNvGrpSpPr/>
            <p:nvPr/>
          </p:nvGrpSpPr>
          <p:grpSpPr>
            <a:xfrm>
              <a:off x="10871280" y="6749640"/>
              <a:ext cx="1119240" cy="1131480"/>
              <a:chOff x="10871280" y="6749640"/>
              <a:chExt cx="1119240" cy="1131480"/>
            </a:xfrm>
          </p:grpSpPr>
          <p:sp>
            <p:nvSpPr>
              <p:cNvPr id="502" name="AutoShape 14"/>
              <p:cNvSpPr/>
              <p:nvPr/>
            </p:nvSpPr>
            <p:spPr>
              <a:xfrm>
                <a:off x="10871280" y="6749640"/>
                <a:ext cx="1119240" cy="1131480"/>
              </a:xfrm>
              <a:prstGeom prst="diamond">
                <a:avLst/>
              </a:prstGeom>
              <a:solidFill>
                <a:srgbClr val="b7cc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03" name="Rectangle 15"/>
              <p:cNvSpPr/>
              <p:nvPr/>
            </p:nvSpPr>
            <p:spPr>
              <a:xfrm>
                <a:off x="11174760" y="711108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2011</a:t>
                </a:r>
                <a:endParaRPr b="0" lang="en-US" sz="1800" spc="-1" strike="noStrike">
                  <a:solidFill>
                    <a:srgbClr val="595959"/>
                  </a:solidFill>
                  <a:latin typeface="Lora"/>
                </a:endParaRPr>
              </a:p>
            </p:txBody>
          </p:sp>
        </p:grpSp>
      </p:grpSp>
      <p:grpSp>
        <p:nvGrpSpPr>
          <p:cNvPr id="504" name="Group 22"/>
          <p:cNvGrpSpPr/>
          <p:nvPr/>
        </p:nvGrpSpPr>
        <p:grpSpPr>
          <a:xfrm>
            <a:off x="6908760" y="3068640"/>
            <a:ext cx="1119240" cy="2515320"/>
            <a:chOff x="6908760" y="3068640"/>
            <a:chExt cx="1119240" cy="2515320"/>
          </a:xfrm>
        </p:grpSpPr>
        <p:sp>
          <p:nvSpPr>
            <p:cNvPr id="505" name="Line 18"/>
            <p:cNvSpPr/>
            <p:nvPr/>
          </p:nvSpPr>
          <p:spPr>
            <a:xfrm flipV="1">
              <a:off x="7483320" y="4173840"/>
              <a:ext cx="0" cy="1410120"/>
            </a:xfrm>
            <a:prstGeom prst="line">
              <a:avLst/>
            </a:prstGeom>
            <a:ln w="28440">
              <a:solidFill>
                <a:srgbClr val="b7cc7c"/>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506" name="Group 21"/>
            <p:cNvGrpSpPr/>
            <p:nvPr/>
          </p:nvGrpSpPr>
          <p:grpSpPr>
            <a:xfrm>
              <a:off x="6908760" y="3068640"/>
              <a:ext cx="1119240" cy="1129320"/>
              <a:chOff x="6908760" y="3068640"/>
              <a:chExt cx="1119240" cy="1129320"/>
            </a:xfrm>
          </p:grpSpPr>
          <p:sp>
            <p:nvSpPr>
              <p:cNvPr id="507" name="AutoShape 19"/>
              <p:cNvSpPr/>
              <p:nvPr/>
            </p:nvSpPr>
            <p:spPr>
              <a:xfrm>
                <a:off x="6908760" y="3068640"/>
                <a:ext cx="1119240" cy="1129320"/>
              </a:xfrm>
              <a:prstGeom prst="diamond">
                <a:avLst/>
              </a:prstGeom>
              <a:solidFill>
                <a:srgbClr val="b7cc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508" name="Rectangle 20"/>
              <p:cNvSpPr/>
              <p:nvPr/>
            </p:nvSpPr>
            <p:spPr>
              <a:xfrm>
                <a:off x="7238520" y="342972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2001</a:t>
                </a:r>
                <a:endParaRPr b="0" lang="en-US" sz="1800" spc="-1" strike="noStrike">
                  <a:solidFill>
                    <a:srgbClr val="595959"/>
                  </a:solidFill>
                  <a:latin typeface="Lora"/>
                </a:endParaRPr>
              </a:p>
            </p:txBody>
          </p:sp>
        </p:grpSp>
      </p:grpSp>
      <p:sp>
        <p:nvSpPr>
          <p:cNvPr id="509" name="Rectangle 23"/>
          <p:cNvSpPr/>
          <p:nvPr/>
        </p:nvSpPr>
        <p:spPr>
          <a:xfrm>
            <a:off x="2308320" y="4546440"/>
            <a:ext cx="27615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0f0f3"/>
                </a:solidFill>
                <a:latin typeface="Lora Bold"/>
                <a:ea typeface="ＭＳ Ｐゴシック"/>
              </a:rPr>
              <a:t>Your Text</a:t>
            </a:r>
            <a:endParaRPr b="0" lang="en-US" sz="4800" spc="-1" strike="noStrike">
              <a:solidFill>
                <a:srgbClr val="595959"/>
              </a:solidFill>
              <a:latin typeface="Lora"/>
            </a:endParaRPr>
          </a:p>
        </p:txBody>
      </p:sp>
      <p:sp>
        <p:nvSpPr>
          <p:cNvPr id="510" name="Rectangle 24"/>
          <p:cNvSpPr/>
          <p:nvPr/>
        </p:nvSpPr>
        <p:spPr>
          <a:xfrm>
            <a:off x="828360" y="628560"/>
            <a:ext cx="36806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Timeline (·8·)</a:t>
            </a:r>
            <a:endParaRPr b="0" lang="en-US" sz="4800" spc="-1" strike="noStrike">
              <a:solidFill>
                <a:srgbClr val="595959"/>
              </a:solidFill>
              <a:latin typeface="Lora"/>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9-09-30T01:56:28Z</dcterms:modified>
  <cp:revision>1</cp:revision>
  <dc:subject/>
  <dc:title>PowerPoint Presentation</dc:title>
</cp:coreProperties>
</file>